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DB46-6C25-4F6D-834D-655DA5BF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B747-BB9C-4393-A49A-42286322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EAD8-33F4-41A8-A676-674A483B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85DE-5A44-41AB-8918-649A4562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7436-805F-4BD2-8BDD-38F1CA66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22A5-D1CA-45C2-B868-AF9DF61D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D629-DC9D-4D5E-AA93-17F0E54F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7F67-9DCC-4B30-99E6-99382ED3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A83C-2008-4CD2-A8E4-5F6053C5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B566-AEA5-4C0C-8BAF-2FBA667B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F9D6-BAE9-40BA-B23A-622DB584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C7F-11B0-44D1-B8EB-C8EFC188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503E-0ADD-4D93-A2AE-51909ADC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0085-C2A5-458B-AC34-C3A4407C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500D-B553-427B-A5A8-3FD67908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FBCE-5DA2-4EA6-975D-08BE8D7C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B895-56B8-4E99-8391-53A63B4C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363F-A203-4F1C-AD0F-83D9CB88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AFCF-42A0-469A-800F-79075B49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BAC6-76B2-46AD-91DA-98AAE53A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403-D062-4231-BBEE-97118704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560F-E957-4291-AB0B-51E3D4BA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6BD-3E77-44B1-AEBE-20FF400B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8378-4760-47A9-8E5E-41B06E4C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A67D-3742-4358-8DA4-D34F792A3A1D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3F01-F16E-4CFF-B3E6-619CDBA06F2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188A-2CCD-47CB-AF97-EFCC0172535D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6AF3-2FBB-495C-9998-C4B37987225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3FE6-AE7E-47DD-9F6E-3954E912824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280" y="2781000"/>
            <a:ext cx="73803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个性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自我概念与消费者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生活方式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79280" y="765000"/>
            <a:ext cx="8964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个性、自我概念与生活方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0C11-A8EA-4242-A4D8-9EBB3E73AAB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539640" y="105264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组合 351"/>
          <p:cNvGrpSpPr/>
          <p:nvPr/>
        </p:nvGrpSpPr>
        <p:grpSpPr>
          <a:xfrm>
            <a:off x="611280" y="2276640"/>
            <a:ext cx="7345440" cy="3097080"/>
            <a:chOff x="611280" y="2276640"/>
            <a:chExt cx="7345440" cy="3097080"/>
          </a:xfrm>
        </p:grpSpPr>
        <p:sp>
          <p:nvSpPr>
            <p:cNvPr id="213" name="矩形 27"/>
            <p:cNvSpPr/>
            <p:nvPr/>
          </p:nvSpPr>
          <p:spPr>
            <a:xfrm>
              <a:off x="611280" y="2276640"/>
              <a:ext cx="73454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" name="Group 313"/>
            <p:cNvGrpSpPr/>
            <p:nvPr/>
          </p:nvGrpSpPr>
          <p:grpSpPr>
            <a:xfrm>
              <a:off x="1830600" y="2276640"/>
              <a:ext cx="5003640" cy="2909160"/>
              <a:chOff x="1830600" y="2276640"/>
              <a:chExt cx="5003640" cy="2909160"/>
            </a:xfrm>
          </p:grpSpPr>
          <p:sp>
            <p:nvSpPr>
              <p:cNvPr id="215" name="Rectangle 314"/>
              <p:cNvSpPr/>
              <p:nvPr/>
            </p:nvSpPr>
            <p:spPr>
              <a:xfrm>
                <a:off x="3567960" y="4437000"/>
                <a:ext cx="14130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征产品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315"/>
              <p:cNvSpPr/>
              <p:nvPr/>
            </p:nvSpPr>
            <p:spPr>
              <a:xfrm>
                <a:off x="3868920" y="2276640"/>
                <a:ext cx="81072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316"/>
              <p:cNvSpPr/>
              <p:nvPr/>
            </p:nvSpPr>
            <p:spPr>
              <a:xfrm>
                <a:off x="1830600" y="2535840"/>
                <a:ext cx="111168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我概念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317"/>
              <p:cNvSpPr/>
              <p:nvPr/>
            </p:nvSpPr>
            <p:spPr>
              <a:xfrm>
                <a:off x="5606640" y="2535840"/>
                <a:ext cx="12276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参照群体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340000" y="3284280"/>
                <a:ext cx="1227960" cy="1527120"/>
                <a:chOff x="2340000" y="3284280"/>
                <a:chExt cx="1227960" cy="1527120"/>
              </a:xfrm>
            </p:grpSpPr>
            <p:cxnSp>
              <p:nvCxnSpPr>
                <p:cNvPr id="220" name="AutoShape 318"/>
                <p:cNvCxnSpPr/>
                <p:nvPr/>
              </p:nvCxnSpPr>
              <p:spPr>
                <a:xfrm>
                  <a:off x="23400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6200000">
                  <a:off x="2190240" y="343404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41920" y="2909880"/>
                <a:ext cx="2664360" cy="720"/>
                <a:chOff x="2941920" y="2909880"/>
                <a:chExt cx="2664360" cy="720"/>
              </a:xfrm>
            </p:grpSpPr>
            <p:cxnSp>
              <p:nvCxnSpPr>
                <p:cNvPr id="223" name="AutoShape 319"/>
                <p:cNvCxnSpPr/>
                <p:nvPr/>
              </p:nvCxnSpPr>
              <p:spPr>
                <a:xfrm flipH="1">
                  <a:off x="2941920" y="2909880"/>
                  <a:ext cx="266472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4" name=""/>
                <p:cNvSpPr txBox="1"/>
                <p:nvPr/>
              </p:nvSpPr>
              <p:spPr>
                <a:xfrm>
                  <a:off x="2942280" y="2909880"/>
                  <a:ext cx="266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80600" y="3284280"/>
                <a:ext cx="1227960" cy="1527120"/>
                <a:chOff x="4980600" y="3284280"/>
                <a:chExt cx="1227960" cy="1527120"/>
              </a:xfrm>
            </p:grpSpPr>
            <p:cxnSp>
              <p:nvCxnSpPr>
                <p:cNvPr id="226" name="AutoShape 320"/>
                <p:cNvCxnSpPr/>
                <p:nvPr/>
              </p:nvCxnSpPr>
              <p:spPr>
                <a:xfrm flipH="1">
                  <a:off x="49806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7" name=""/>
                <p:cNvSpPr txBox="1"/>
                <p:nvPr/>
              </p:nvSpPr>
              <p:spPr>
                <a:xfrm rot="5400000">
                  <a:off x="4831200" y="343368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Rectangle 321"/>
              <p:cNvSpPr/>
              <p:nvPr/>
            </p:nvSpPr>
            <p:spPr>
              <a:xfrm>
                <a:off x="2525400" y="4177800"/>
                <a:ext cx="83376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322"/>
              <p:cNvSpPr/>
              <p:nvPr/>
            </p:nvSpPr>
            <p:spPr>
              <a:xfrm>
                <a:off x="5189400" y="4177800"/>
                <a:ext cx="92664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0" name="Rectangle 39"/>
          <p:cNvSpPr/>
          <p:nvPr/>
        </p:nvSpPr>
        <p:spPr>
          <a:xfrm>
            <a:off x="1403280" y="551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象征产品在自我与他人之间的沟通作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7938-0109-4429-8329-08D336F77B5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560" y="142920"/>
            <a:ext cx="7216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自我概念的营销启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8000" y="1915920"/>
            <a:ext cx="6778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新产品开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B37F-7BC4-466E-9032-53FAF37D745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四、自我概念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2828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自我概念的常用工具是语义差别量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国学者马赫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. K. Malhotr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设计了一种既可以测量自我概念，又可以衡量产品形象的语义差别量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量表是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双极形容词组成的一个语义区分量表。该量表可以获得消费者所期望的产品形象方面的信息，也可以了解消费者对现在产品的评价，从而找出产品形象改进的方向，更好地满足消费者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0509-B72C-4816-A09F-CFB8C976E0F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755640" y="38160"/>
            <a:ext cx="705636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8AF7-D9DA-42B9-982A-5E70851D58D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生活方式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19280" y="1719360"/>
            <a:ext cx="706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生活方式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生活方式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生活方式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9235-9E55-444C-862F-91140C909AD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生活方式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以活动、兴趣和观点的形式表现出来的在世界上的生活模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菲利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特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的特点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eldma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amp; Thielbar, 197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是一种群体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覆盖了生活的各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反映了一个人的核心生活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在不同人口统计变量上表现出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D920-FBFD-456E-9541-B0A07ECA9F9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生活方式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47280" y="1719360"/>
            <a:ext cx="713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2DAD-2D32-48F8-9398-C62F08768BC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169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0622-2F3B-4E7A-B55B-0BF32CE65EF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539640" y="1628640"/>
            <a:ext cx="8342280" cy="4248360"/>
            <a:chOff x="539640" y="1628640"/>
            <a:chExt cx="8342280" cy="4248360"/>
          </a:xfrm>
        </p:grpSpPr>
        <p:sp>
          <p:nvSpPr>
            <p:cNvPr id="262" name="AutoShape 5"/>
            <p:cNvSpPr/>
            <p:nvPr/>
          </p:nvSpPr>
          <p:spPr>
            <a:xfrm>
              <a:off x="539640" y="1628640"/>
              <a:ext cx="834228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732600" y="2020680"/>
              <a:ext cx="7699680" cy="3587400"/>
              <a:chOff x="732600" y="2020680"/>
              <a:chExt cx="7699680" cy="3587400"/>
            </a:xfrm>
          </p:grpSpPr>
          <p:sp>
            <p:nvSpPr>
              <p:cNvPr id="264" name="Line 7"/>
              <p:cNvSpPr/>
              <p:nvPr/>
            </p:nvSpPr>
            <p:spPr>
              <a:xfrm>
                <a:off x="1392840" y="2020680"/>
                <a:ext cx="1080" cy="31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8"/>
              <p:cNvSpPr/>
              <p:nvPr/>
            </p:nvSpPr>
            <p:spPr>
              <a:xfrm>
                <a:off x="2491200" y="2286000"/>
                <a:ext cx="131976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9"/>
              <p:cNvSpPr/>
              <p:nvPr/>
            </p:nvSpPr>
            <p:spPr>
              <a:xfrm>
                <a:off x="469152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689364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AutoShape 11"/>
              <p:cNvSpPr/>
              <p:nvPr/>
            </p:nvSpPr>
            <p:spPr>
              <a:xfrm>
                <a:off x="2272320" y="2152080"/>
                <a:ext cx="176004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AutoShape 12"/>
              <p:cNvSpPr/>
              <p:nvPr/>
            </p:nvSpPr>
            <p:spPr>
              <a:xfrm>
                <a:off x="2272320" y="3083760"/>
                <a:ext cx="1760040" cy="119556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信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AutoShape 13"/>
              <p:cNvSpPr/>
              <p:nvPr/>
            </p:nvSpPr>
            <p:spPr>
              <a:xfrm>
                <a:off x="4376880" y="2500200"/>
                <a:ext cx="175860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成就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AutoShape 14"/>
              <p:cNvSpPr/>
              <p:nvPr/>
            </p:nvSpPr>
            <p:spPr>
              <a:xfrm>
                <a:off x="4472640" y="3215520"/>
                <a:ext cx="175896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奋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AutoShape 15"/>
              <p:cNvSpPr/>
              <p:nvPr/>
            </p:nvSpPr>
            <p:spPr>
              <a:xfrm>
                <a:off x="4472640" y="4014360"/>
                <a:ext cx="1758960" cy="11948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存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AutoShape 16"/>
              <p:cNvSpPr/>
              <p:nvPr/>
            </p:nvSpPr>
            <p:spPr>
              <a:xfrm>
                <a:off x="6673320" y="215208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验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>
                <a:off x="6673320" y="295020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造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1171440" y="5209200"/>
                <a:ext cx="6613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低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732600" y="2286000"/>
                <a:ext cx="660240" cy="278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资源丰富程度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20"/>
            <p:cNvSpPr/>
            <p:nvPr/>
          </p:nvSpPr>
          <p:spPr>
            <a:xfrm>
              <a:off x="2712960" y="5475960"/>
              <a:ext cx="109836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理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491256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711288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我表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AutoShape 23"/>
            <p:cNvSpPr/>
            <p:nvPr/>
          </p:nvSpPr>
          <p:spPr>
            <a:xfrm>
              <a:off x="4377600" y="1628640"/>
              <a:ext cx="1758600" cy="119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创新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A460-09B0-4D04-9AE8-3A18CDD8C9D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9640" y="1267920"/>
            <a:ext cx="8158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人因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决策影响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产品变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6836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748800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7F3D-2B1C-4072-AEA8-5FFF937D92C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个性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1988640"/>
            <a:ext cx="70675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个性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个性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0362-EE10-49F2-BEAF-8E3B7DB70B6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189000"/>
            <a:ext cx="75438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E9C0-B82C-47EA-9EC0-2B635A31255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生活方式研究在消费者行为中的作用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2000" y="2708280"/>
            <a:ext cx="67784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市场细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品牌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05B5-7493-4062-B98D-53F8713B13D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个性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83920"/>
            <a:ext cx="7871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定和反映个人如何适应环境的内在心理特征，包括使某一个体与其他个体相区别的具体特质、属性、特征、因素和态度等多个方面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chiffman &amp; Kanu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差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1025-4255-47B8-A637-C7DBDDACC29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47640" y="1844640"/>
            <a:ext cx="7324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购买前的信息收集阶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商店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喜爱售货员的类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个性与品牌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1D62-B6BF-4718-90F7-8FADC0CB543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Group 325"/>
          <p:cNvGrpSpPr/>
          <p:nvPr/>
        </p:nvGrpSpPr>
        <p:grpSpPr>
          <a:xfrm>
            <a:off x="539640" y="1844640"/>
            <a:ext cx="8135640" cy="3673080"/>
            <a:chOff x="539640" y="1844640"/>
            <a:chExt cx="8135640" cy="3673080"/>
          </a:xfrm>
        </p:grpSpPr>
        <p:sp>
          <p:nvSpPr>
            <p:cNvPr id="169" name="Rectangle 326"/>
            <p:cNvSpPr/>
            <p:nvPr/>
          </p:nvSpPr>
          <p:spPr>
            <a:xfrm>
              <a:off x="3714840" y="1844640"/>
              <a:ext cx="21837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牌个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327"/>
            <p:cNvSpPr/>
            <p:nvPr/>
          </p:nvSpPr>
          <p:spPr>
            <a:xfrm>
              <a:off x="539640" y="2890080"/>
              <a:ext cx="11905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328"/>
            <p:cNvSpPr/>
            <p:nvPr/>
          </p:nvSpPr>
          <p:spPr>
            <a:xfrm>
              <a:off x="2324880" y="2890080"/>
              <a:ext cx="118908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Rectangle 329"/>
            <p:cNvSpPr/>
            <p:nvPr/>
          </p:nvSpPr>
          <p:spPr>
            <a:xfrm>
              <a:off x="4111560" y="2890080"/>
              <a:ext cx="118800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能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Rectangle 330"/>
            <p:cNvSpPr/>
            <p:nvPr/>
          </p:nvSpPr>
          <p:spPr>
            <a:xfrm>
              <a:off x="58986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331"/>
            <p:cNvSpPr/>
            <p:nvPr/>
          </p:nvSpPr>
          <p:spPr>
            <a:xfrm>
              <a:off x="74862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强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332"/>
            <p:cNvSpPr/>
            <p:nvPr/>
          </p:nvSpPr>
          <p:spPr>
            <a:xfrm>
              <a:off x="2123280" y="3935880"/>
              <a:ext cx="158364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勇敢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想象力丰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333"/>
            <p:cNvSpPr/>
            <p:nvPr/>
          </p:nvSpPr>
          <p:spPr>
            <a:xfrm>
              <a:off x="539640" y="3935880"/>
              <a:ext cx="1188000" cy="14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务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334"/>
            <p:cNvSpPr/>
            <p:nvPr/>
          </p:nvSpPr>
          <p:spPr>
            <a:xfrm>
              <a:off x="4111560" y="3935880"/>
              <a:ext cx="1188000" cy="13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智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信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335"/>
            <p:cNvSpPr/>
            <p:nvPr/>
          </p:nvSpPr>
          <p:spPr>
            <a:xfrm>
              <a:off x="5897160" y="3935880"/>
              <a:ext cx="1190520" cy="122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迷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336"/>
            <p:cNvSpPr/>
            <p:nvPr/>
          </p:nvSpPr>
          <p:spPr>
            <a:xfrm>
              <a:off x="7486200" y="3935880"/>
              <a:ext cx="1189080" cy="11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坚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户外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0" name="AutoShape 337"/>
            <p:cNvCxnSpPr/>
            <p:nvPr/>
          </p:nvCxnSpPr>
          <p:spPr>
            <a:xfrm rot="5400000">
              <a:off x="4604760" y="-581760"/>
              <a:ext cx="1440" cy="69447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AutoShape 338"/>
            <p:cNvCxnSpPr/>
            <p:nvPr/>
          </p:nvCxnSpPr>
          <p:spPr>
            <a:xfrm flipH="1">
              <a:off x="1133280" y="3337560"/>
              <a:ext cx="180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AutoShape 339"/>
            <p:cNvCxnSpPr/>
            <p:nvPr/>
          </p:nvCxnSpPr>
          <p:spPr>
            <a:xfrm flipH="1">
              <a:off x="2918880" y="3338280"/>
              <a:ext cx="324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AutoShape 340"/>
            <p:cNvCxnSpPr/>
            <p:nvPr/>
          </p:nvCxnSpPr>
          <p:spPr>
            <a:xfrm flipH="1">
              <a:off x="4705560" y="3338280"/>
              <a:ext cx="46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AutoShape 341"/>
            <p:cNvCxnSpPr/>
            <p:nvPr/>
          </p:nvCxnSpPr>
          <p:spPr>
            <a:xfrm flipH="1">
              <a:off x="64933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AutoShape 342"/>
            <p:cNvCxnSpPr/>
            <p:nvPr/>
          </p:nvCxnSpPr>
          <p:spPr>
            <a:xfrm flipH="1">
              <a:off x="80809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AutoShape 343"/>
            <p:cNvCxnSpPr/>
            <p:nvPr/>
          </p:nvCxnSpPr>
          <p:spPr>
            <a:xfrm>
              <a:off x="2919240" y="2591280"/>
              <a:ext cx="180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AutoShape 344"/>
            <p:cNvCxnSpPr/>
            <p:nvPr/>
          </p:nvCxnSpPr>
          <p:spPr>
            <a:xfrm>
              <a:off x="6492960" y="2591280"/>
              <a:ext cx="324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8" name="Line 345"/>
            <p:cNvSpPr/>
            <p:nvPr/>
          </p:nvSpPr>
          <p:spPr>
            <a:xfrm>
              <a:off x="4706280" y="229212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9A0C-B328-4721-A3BF-1CA773C972F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自我概念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0560" y="1928880"/>
            <a:ext cx="68216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自我概念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自我概念的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自我概念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四、自我概念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1654-3C86-41E9-899B-C4651686B63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3640" y="141300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称为自我形象，是指个人对自己的能力、气质、性格等个性特征的感知、态度和自我评价，即个体如何看待自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自我概念的形成过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自己的观察推断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他人对自己的评价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社会比较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698B-9D40-4E7F-8A88-DE21107A7EA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61508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052640"/>
            <a:ext cx="856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308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5C12-4183-44E7-B893-A2B4B5290CD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539640" y="1052640"/>
            <a:ext cx="7848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强化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概念对个体有价值，个体行为趋向于维护和强化自我概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自我概念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在特定的环境下，希望他人如何看待自己。包括与自己相联系的态度、知觉和情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包含形象意义的产品通常会激发包含同样形象的自我概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34:19Z</dcterms:created>
  <dc:creator>zhangbo</dc:creator>
  <dc:description/>
  <dc:language>en-US</dc:language>
  <cp:lastModifiedBy>Administrator</cp:lastModifiedBy>
  <dcterms:modified xsi:type="dcterms:W3CDTF">2015-09-02T09:41:47Z</dcterms:modified>
  <cp:revision>37</cp:revision>
  <dc:subject/>
  <dc:title>第三章 消费者的个性、自我概念与生活方式</dc:title>
</cp:coreProperties>
</file>