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C552A-3357-49F5-A898-F5C6AE1CF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8C10-1979-4701-AF31-66D4A82F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9606F-9CE5-4783-8B0A-0EFB1DC2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F7903-CBFF-4E98-82F4-51482A094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B2E9-EDC2-4246-9C30-6EB7BF5C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8FD6-F7AF-4314-9BE2-7D237901E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E30B-76E5-409C-8B81-7CDB693D9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A7C1-37A9-4EDC-B6F3-3283D3E8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2FBF-583F-4E6D-A245-4EF8094D2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7522-2180-4109-9A25-3AEAB12E0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8549-99EE-46C2-83C9-59C9987D2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919E-58D0-409B-8ED8-E3CC4203A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F43F-E4C9-4877-BCED-423247771819}" type="datetime">
              <a:rPr b="0" lang="zh-CN" sz="1000" spc="-1" strike="noStrike">
                <a:solidFill>
                  <a:srgbClr val="000000"/>
                </a:solidFill>
                <a:latin typeface="Arial"/>
              </a:rPr>
              <a:t>26/7/30</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0CCF-0497-4603-B35A-CE1FA3D8DF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66D2-954A-48A9-AB41-BD4AA7DBA2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BDC5-15AF-4044-BCCD-58A3051347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F847-622D-4B48-B765-D2A0649FA7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EDB3-C194-43A0-922F-F2C639BEB6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A4C7-DD1E-494A-9D0A-06211105E0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B1BE-C1EB-40F5-A7CE-5CFFF5CBEF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2AD2-A5A7-4908-B2DE-E8F5095E42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E958-846D-4287-AB19-D874F5C4FC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C749-B76B-4C41-A56D-842A094961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31B6-3809-4DF8-B619-4981B539E2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683F-E72E-478D-A90D-7569768855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CD5B-4123-43DF-A30A-87A8F7A5D2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03AF-F395-4647-A7D7-2503236AB8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5E27-76B6-453E-B5BF-33418364BA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7108-83AA-4A49-B75E-05F553E95A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6E3F-8363-4EB2-9394-B41B32FFC0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4E21-244E-4E0E-ABE5-1E0D2E1377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0208-5303-47B7-B793-CA851CFAE9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A874-B83F-46AA-86C9-09D7DA2B67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20BD-BCA6-4AE6-858C-0DD69A3AE9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E5F1-350C-45B7-94BA-4D3038C2E1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EE02-8767-4B11-BF8E-9054787493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447F-D4BC-424E-A0BD-A90B5D02AE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4423-A404-4F2F-9ABC-CD664D167F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1394-3186-44CE-9C94-5970D0380B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2796-5B47-42E3-A0F4-E5187B0ADC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62A5-9C49-4487-AD88-8C9C1CB38E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4B3B-C851-4FA1-98EB-69A1D537D6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