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744C-781D-415F-9E92-A103A5BB1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254A-571E-430B-A2A3-485E3A13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82EC6-1194-495E-ABC9-CFD283A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0640A-38EC-484F-8907-0AC0457B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D7852-05AE-431E-8B68-39CEE09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1F440-C5FD-4BC9-8ED2-500B295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6E3BF-8341-474D-8ED8-92372FC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0A295-9CC4-4021-8461-9068108F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80AC1-84AA-496D-AA2A-BE927B64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FEE59-21EB-48B4-978D-AC20189D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EDA7C-C1BB-432E-826D-85210459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75A57-E668-4486-BACE-4CCB0CB1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07A5-A79A-41F3-8EFD-AAFAEDC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21E0C-4575-4DFE-9EB2-3381F5A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0014E-4C9D-4D32-9256-B76CDCD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25C3C-81CD-440A-A053-9F331F75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DA164-CE15-4351-9964-401C0A66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C2E2E-B031-4E3D-A9DC-CAF882E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31972-9265-40E0-9035-B124006D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45D8A-32C0-49D2-B6FB-1BA8505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F18B9-5645-4A40-ADE9-C021002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C6460-8B0E-40C5-88AD-BD0E0F2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5D7E3-AF74-4794-8D09-6488FD32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77DE-84F0-4DC6-9D13-8B8C27A7D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A72DA-8D53-412A-AABD-7800B3F3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AE8B19-C052-4E10-BEB9-B96323FC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3CAAE8-21B3-4543-B016-ABDDE93C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CEEFEB-58A9-47E0-A9B2-216DC5E7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066B93-049F-413F-8044-06C89F97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CAC0C9-DCEA-4C92-9B56-C648BA63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80C804-46DC-4B84-87BE-E152EEC8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A2CD6F-EA26-48D4-A706-8AE6194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49C685-DF5E-4056-879D-F7AF8BA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E1D16A-9FD0-41AE-9B0B-BAA15B5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E2695-16DB-4CD9-ABB4-FFAB02DFD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C331A8-03A2-4565-A99D-79680EB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F826F6-8804-4EA7-A086-F023980F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C0B47F-3E7D-4CB2-A77D-C74AD7D9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C04F8-D950-490E-9E92-136F3C4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D3C1-A401-418C-A867-4F0BE707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2A9CD-11E1-493E-A0BA-914B1FA1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E44B0-A942-4877-AA6F-F7B841B3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224B6-6DB1-4C8A-856C-5F5C2BE5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2C813-B569-44E3-9C76-7322B28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79E7-4E44-4191-98F4-D9999C7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E6235-B4DE-4C15-9558-B948204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B3DD7-4556-49B6-88F0-2CB2DA1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D38EE-6EA7-4A02-A6CF-07090DE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77121-4D24-499C-8F15-3426222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E8F0A-3802-4239-90B4-C263823DA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DE347-4FE6-46F4-8B38-83785C6D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BD5EA-3C8B-4169-BA2D-5D291A2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1A743-32C7-4776-B281-4049E20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2B1FB-0C8B-4B2E-A413-282B9307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6CBE8-62D4-4DCD-91BA-60FB2BD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D82A-AEF5-42D4-91CA-6375882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BD8A5-BDE4-4938-ADDD-71213FA4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70637-E7DD-4BB4-841F-3394601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1B7A4-3D5A-4EFB-92D3-CF38D5E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3699E-C232-4F4E-BEFB-2A082F6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C4B78-4611-4FC4-A4A6-235BB444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73799-F046-4E13-8510-42EBDCC7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B813F-6945-4420-AEF7-59F3A051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C775B-53D9-489F-92F6-B125C2F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7FDBB-6E12-45FF-9A2D-D9AA78E2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FBAB1-4C64-46FC-A12A-2DAAB601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05C0-99CD-408C-92B3-211AB55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ED7D5-575F-4BCD-B558-594ADC89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24DF8-ED26-43F2-A153-5B9D4B50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6FFD2-B64B-41A7-8EBF-0441533C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8F336-D5C6-49F8-BFBC-D7DC609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7B1CD-1B2E-4D73-8576-C2A4F6D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CCCB6-A5F0-4AB6-8DBD-57C0B41A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FA8D0-DDF4-456E-86B2-C848222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A8D2E-F954-4689-8EF4-6C9968D2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225C5-1DE6-449D-A3EB-FE20969E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B7EAC-DF16-4440-B88C-3971C183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3F78-57F1-4926-9725-77798439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0DA16-87A2-4E74-B672-D484AE9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95AEF-5A74-4F10-9674-68531551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566863-915C-4B70-9833-1AE62E48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70CDF-2735-4D34-BDEF-B0B5040E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90C48-2861-45F5-AE21-DACE85E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98AE6-F998-42F9-BD98-B459E54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E1E85-DAB1-4749-86DB-15B368E6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42147-65B2-4540-999F-CFAFBE8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F0161-1BB0-4E31-9172-62FD81A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407F3-BD4C-47E7-AFAF-55789D5A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2B00-A286-455D-B15D-9265D9DD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D7B86-9E7D-4359-AF2B-05B67555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5A5F2-4F66-4C47-AD4B-0142ECD7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8F987B-5724-4C71-A94D-67EDF1FE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1F5983-42BC-4271-99DD-DCF13B1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5306D-5712-48E9-9A31-48CE5BF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D0CBFC-0AF7-41B9-8A12-C23D63F6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50B056-C780-4253-955F-4130D9A9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B3145-CE53-4DA1-9ED4-7BAC0B4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19259-EDA7-4206-896E-F39E7F5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E84E1-2D81-4953-8394-3031EF5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400E-EAF4-45B1-8341-B87E086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0B04FB-54B2-41C8-96B8-26257D15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E657E-93F5-4F9A-B93A-F97D595E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709D6D-737A-430B-83BC-FD331C91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71ACE8-035A-40D7-A158-FCDF1774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85250-8C7C-4E6E-AE55-A5065AA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B7B8CF-B6A0-4183-B70F-F1B1D5BA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16E92-03AA-4750-A7CD-62F7785E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9769C2-D443-4EF9-B707-2D63799E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E6C7AA-9AFE-4C52-9766-EE50A586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233CB2-0A04-4B5E-8566-D86B3A1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B0E1-5D85-4282-9CF7-2DEE7BF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0D584B-0BE9-48E2-BFFA-6D8745D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896BC-E7C7-47F1-876D-880AC62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0242F-3962-476E-A374-79384864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A72DF7-F6D4-4E47-9177-D1D4AE39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8A248-BAA7-4A06-9FD7-AB11FBB8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A0DEC8-7F56-4F55-8021-0BB4AA0B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7B822-8C04-4DD5-AF0F-D2C8C3C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6602E-4DE9-4597-8DAF-0ADB38C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BFA47C-8C8C-4427-B591-3A90476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6DA49A-179B-490A-89FF-D167B877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445B-9057-4844-8E69-94C19EA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8404A-6C8B-4E34-BC11-48312937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0236C1-4ABC-42EF-819D-1B424C5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25049D-A633-497B-B134-B213F40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10FE1E-5298-4E58-80DA-CBB32C38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F1CD7-DA91-4E28-9BCA-A306711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DC5EE1-5026-4849-8201-34295DD6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1E01B0-4BD4-49F1-AF1E-A541198D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E0D5F-745F-4582-98B5-D94F34E9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94499-EA93-4C9B-A505-C791FBCA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C96BD-31D9-412B-A1BB-295292C8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9AA5-0ADC-42D8-848B-259BA7E515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pic>
        <p:nvPicPr>
          <p:cNvPr id="4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6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7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8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3252-5B61-46E5-A9FB-6102C6F88C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9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0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1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9D8-9419-4BA8-9006-47B1DD0334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B41-79D2-4AF0-959E-37B4B24D4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9DE1-E1EC-4C06-8E1C-853711B759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E0ED-E68F-4352-AFFB-96A8EEFE28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21CE-E1E9-470C-AD1F-D442F4E1F41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4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5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6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270D-9BAE-4B56-A396-669E15C2FF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7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9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DC4-3258-4EE9-A1E1-BCA9D84822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1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1EF-B83B-478C-88FC-58DF409878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3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4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5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EF07-57E0-4217-9FB5-CF6FA6722F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3458;&#25143;&#20449;&#24687;&#25910;&#38598;&#34920;.doc" TargetMode="External"/><Relationship Id="rId2" Type="http://schemas.openxmlformats.org/officeDocument/2006/relationships/hyperlink" Target="file:///&#23458;&#25143;&#20449;&#24687;&#25910;&#38598;&#34920;.doc" TargetMode="External"/><Relationship Id="rId3" Type="http://schemas.openxmlformats.org/officeDocument/2006/relationships/hyperlink" Target="file:///&#28508;&#22312;&#23458;&#25143;&#36164;&#26009;&#20449;&#24687;&#25910;&#38598;&#34920;.doc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23458;&#25143;&#30331;&#35760;&#34920;.doc" TargetMode="External"/><Relationship Id="rId2" Type="http://schemas.openxmlformats.org/officeDocument/2006/relationships/hyperlink" Target="file:///&#23458;&#25143;&#32479;&#35745;&#34920;.doc" TargetMode="External"/><Relationship Id="rId3" Type="http://schemas.openxmlformats.org/officeDocument/2006/relationships/hyperlink" Target="file:///&#19968;&#32423;&#23458;&#25143;&#30331;&#35760;&#34920;.doc" TargetMode="External"/><Relationship Id="rId4" Type="http://schemas.openxmlformats.org/officeDocument/2006/relationships/hyperlink" Target="file:///&#19982;&#26412;&#20844;&#21496;&#20132;&#26131;&#23458;&#25143;&#19968;&#35272;&#34920;.doc" TargetMode="External"/><Relationship Id="rId5" Type="http://schemas.openxmlformats.org/officeDocument/2006/relationships/hyperlink" Target="file:///&#19982;&#26412;&#20844;&#21496;&#20132;&#26131;&#23458;&#25143;&#19968;&#35272;&#34920;.doc" TargetMode="External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3458;&#25143;&#20449;&#24687;&#25910;&#38598;&#34920;_2.doc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项目九  跟进客户管理与服务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@"/>
          <p:cNvPicPr/>
          <p:nvPr/>
        </p:nvPicPr>
        <p:blipFill>
          <a:blip r:embed="rId1"/>
          <a:stretch/>
        </p:blipFill>
        <p:spPr>
          <a:xfrm>
            <a:off x="468360" y="4797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信息收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信息收集的主要内容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1"/>
              </a:rPr>
              <a:t>链接：</a:t>
            </a:r>
            <a:r>
              <a:rPr b="0" lang="zh-CN" sz="24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2"/>
              </a:rPr>
              <a:t>客户信息收集表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3"/>
              </a:rPr>
              <a:t>链接：潜在客户信息收集表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434160" y="-1287360"/>
            <a:ext cx="1671840" cy="2575080"/>
          </a:xfrm>
          <a:prstGeom prst="rect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图片编号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2-0652(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版权管理类图片 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Right-Manage)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品牌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全景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标题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广州百届广交会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版权属性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肖像权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(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不需要肖像权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)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即时获取规格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M(RGB),3872x2592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像素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可获得尺寸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M(RGB)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可获得性：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1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即时获取规格为</a:t>
            </a: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2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小时内可提供的最大尺寸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2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若想获得更大图片尺寸时，请提前联系我们并确认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3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在您购买前，我们无法对本图片做出可获得的保证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如果您对图片有进一步需求，请不要犹豫，联系我们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客户信息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1"/>
              </a:rPr>
              <a:t>链接：客户登记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2"/>
              </a:rPr>
              <a:t>链接：客户统计表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3"/>
              </a:rPr>
              <a:t>链接：一级客户登记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4"/>
              </a:rPr>
              <a:t>链接：与本公司交易客户一览表</a:t>
            </a:r>
            <a:r>
              <a:rPr b="0" lang="en-US" sz="28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5"/>
              </a:rPr>
              <a:t>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客户管理实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填写客户信息收集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1"/>
              </a:rPr>
              <a:t>链接：客户信息收集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填写潜在客户资料信息收集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链接：潜在客户资料信息收集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填写客户登记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链接：客户登记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填写客户统计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链接：客户统计表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任务二  跟进客户服务工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Group 118"/>
          <p:cNvGrpSpPr/>
          <p:nvPr/>
        </p:nvGrpSpPr>
        <p:grpSpPr>
          <a:xfrm>
            <a:off x="2346480" y="2819520"/>
            <a:ext cx="609480" cy="609480"/>
            <a:chOff x="2346480" y="2819520"/>
            <a:chExt cx="609480" cy="609480"/>
          </a:xfrm>
        </p:grpSpPr>
        <p:sp>
          <p:nvSpPr>
            <p:cNvPr id="696" name="Oval 119"/>
            <p:cNvSpPr/>
            <p:nvPr/>
          </p:nvSpPr>
          <p:spPr>
            <a:xfrm>
              <a:off x="2346480" y="28195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4acc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120"/>
            <p:cNvSpPr/>
            <p:nvPr/>
          </p:nvSpPr>
          <p:spPr>
            <a:xfrm>
              <a:off x="2346480" y="28195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84acc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21"/>
            <p:cNvSpPr/>
            <p:nvPr/>
          </p:nvSpPr>
          <p:spPr>
            <a:xfrm>
              <a:off x="2386080" y="285912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475d6d"/>
                </a:gs>
                <a:gs pos="50000">
                  <a:srgbClr val="84acca"/>
                </a:gs>
                <a:gs pos="100000">
                  <a:srgbClr val="475d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122"/>
            <p:cNvSpPr/>
            <p:nvPr/>
          </p:nvSpPr>
          <p:spPr>
            <a:xfrm>
              <a:off x="2425680" y="289872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546d80"/>
                </a:gs>
                <a:gs pos="100000">
                  <a:srgbClr val="84acc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123"/>
            <p:cNvSpPr/>
            <p:nvPr/>
          </p:nvSpPr>
          <p:spPr>
            <a:xfrm>
              <a:off x="2414520" y="288612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24"/>
            <p:cNvSpPr/>
            <p:nvPr/>
          </p:nvSpPr>
          <p:spPr>
            <a:xfrm>
              <a:off x="2422440" y="289404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125"/>
            <p:cNvSpPr/>
            <p:nvPr/>
          </p:nvSpPr>
          <p:spPr>
            <a:xfrm>
              <a:off x="2428920" y="289728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126"/>
            <p:cNvSpPr/>
            <p:nvPr/>
          </p:nvSpPr>
          <p:spPr>
            <a:xfrm>
              <a:off x="2433600" y="290052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127"/>
            <p:cNvSpPr/>
            <p:nvPr/>
          </p:nvSpPr>
          <p:spPr>
            <a:xfrm>
              <a:off x="2457360" y="291312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Line 128"/>
          <p:cNvSpPr/>
          <p:nvPr/>
        </p:nvSpPr>
        <p:spPr>
          <a:xfrm>
            <a:off x="2771640" y="3381480"/>
            <a:ext cx="4032360" cy="14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29"/>
          <p:cNvSpPr/>
          <p:nvPr/>
        </p:nvSpPr>
        <p:spPr>
          <a:xfrm>
            <a:off x="3287880" y="288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投诉的接受与处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46"/>
          <p:cNvSpPr/>
          <p:nvPr/>
        </p:nvSpPr>
        <p:spPr>
          <a:xfrm>
            <a:off x="2795760" y="2495520"/>
            <a:ext cx="4032000" cy="14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47"/>
          <p:cNvSpPr/>
          <p:nvPr/>
        </p:nvSpPr>
        <p:spPr>
          <a:xfrm>
            <a:off x="3311640" y="1996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的联络跟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162"/>
          <p:cNvSpPr/>
          <p:nvPr/>
        </p:nvSpPr>
        <p:spPr>
          <a:xfrm>
            <a:off x="2795760" y="4302000"/>
            <a:ext cx="403200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63"/>
          <p:cNvSpPr/>
          <p:nvPr/>
        </p:nvSpPr>
        <p:spPr>
          <a:xfrm>
            <a:off x="3311640" y="38037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服务实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165"/>
          <p:cNvGrpSpPr/>
          <p:nvPr/>
        </p:nvGrpSpPr>
        <p:grpSpPr>
          <a:xfrm>
            <a:off x="2346480" y="3790800"/>
            <a:ext cx="609480" cy="609480"/>
            <a:chOff x="2346480" y="3790800"/>
            <a:chExt cx="609480" cy="609480"/>
          </a:xfrm>
        </p:grpSpPr>
        <p:sp>
          <p:nvSpPr>
            <p:cNvPr id="712" name="Text Box 166"/>
            <p:cNvSpPr/>
            <p:nvPr/>
          </p:nvSpPr>
          <p:spPr>
            <a:xfrm>
              <a:off x="2472120" y="386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167"/>
            <p:cNvSpPr/>
            <p:nvPr/>
          </p:nvSpPr>
          <p:spPr>
            <a:xfrm>
              <a:off x="2346480" y="3790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/>
                </a:gs>
                <a:gs pos="100000">
                  <a:srgbClr val="442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68"/>
            <p:cNvSpPr/>
            <p:nvPr/>
          </p:nvSpPr>
          <p:spPr>
            <a:xfrm>
              <a:off x="2346480" y="3790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169"/>
            <p:cNvSpPr/>
            <p:nvPr/>
          </p:nvSpPr>
          <p:spPr>
            <a:xfrm>
              <a:off x="2374920" y="380016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170"/>
            <p:cNvSpPr/>
            <p:nvPr/>
          </p:nvSpPr>
          <p:spPr>
            <a:xfrm>
              <a:off x="2384640" y="3828960"/>
              <a:ext cx="530280" cy="529920"/>
            </a:xfrm>
            <a:prstGeom prst="ellipse">
              <a:avLst/>
            </a:prstGeom>
            <a:gradFill rotWithShape="0">
              <a:gsLst>
                <a:gs pos="0">
                  <a:srgbClr val="5d3380"/>
                </a:gs>
                <a:gs pos="100000">
                  <a:srgbClr val="9351c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71"/>
            <p:cNvSpPr/>
            <p:nvPr/>
          </p:nvSpPr>
          <p:spPr>
            <a:xfrm>
              <a:off x="2403720" y="384768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172"/>
            <p:cNvSpPr/>
            <p:nvPr/>
          </p:nvSpPr>
          <p:spPr>
            <a:xfrm>
              <a:off x="2422800" y="38653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73"/>
            <p:cNvSpPr/>
            <p:nvPr/>
          </p:nvSpPr>
          <p:spPr>
            <a:xfrm>
              <a:off x="2428920" y="38685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74"/>
            <p:cNvSpPr/>
            <p:nvPr/>
          </p:nvSpPr>
          <p:spPr>
            <a:xfrm>
              <a:off x="2433960" y="38718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75"/>
            <p:cNvSpPr/>
            <p:nvPr/>
          </p:nvSpPr>
          <p:spPr>
            <a:xfrm>
              <a:off x="2457720" y="38844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Group 165"/>
          <p:cNvGrpSpPr/>
          <p:nvPr/>
        </p:nvGrpSpPr>
        <p:grpSpPr>
          <a:xfrm>
            <a:off x="2346480" y="1965240"/>
            <a:ext cx="609480" cy="609480"/>
            <a:chOff x="2346480" y="1965240"/>
            <a:chExt cx="609480" cy="609480"/>
          </a:xfrm>
        </p:grpSpPr>
        <p:sp>
          <p:nvSpPr>
            <p:cNvPr id="723" name="Text Box 166"/>
            <p:cNvSpPr/>
            <p:nvPr/>
          </p:nvSpPr>
          <p:spPr>
            <a:xfrm>
              <a:off x="2472120" y="204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67"/>
            <p:cNvSpPr/>
            <p:nvPr/>
          </p:nvSpPr>
          <p:spPr>
            <a:xfrm>
              <a:off x="2346480" y="19652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/>
                </a:gs>
                <a:gs pos="100000">
                  <a:srgbClr val="442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68"/>
            <p:cNvSpPr/>
            <p:nvPr/>
          </p:nvSpPr>
          <p:spPr>
            <a:xfrm>
              <a:off x="2346480" y="19652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69"/>
            <p:cNvSpPr/>
            <p:nvPr/>
          </p:nvSpPr>
          <p:spPr>
            <a:xfrm>
              <a:off x="2374920" y="19746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170"/>
            <p:cNvSpPr/>
            <p:nvPr/>
          </p:nvSpPr>
          <p:spPr>
            <a:xfrm>
              <a:off x="2384640" y="2003400"/>
              <a:ext cx="530280" cy="529920"/>
            </a:xfrm>
            <a:prstGeom prst="ellipse">
              <a:avLst/>
            </a:prstGeom>
            <a:gradFill rotWithShape="0">
              <a:gsLst>
                <a:gs pos="0">
                  <a:srgbClr val="5d3380"/>
                </a:gs>
                <a:gs pos="100000">
                  <a:srgbClr val="9351c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171"/>
            <p:cNvSpPr/>
            <p:nvPr/>
          </p:nvSpPr>
          <p:spPr>
            <a:xfrm>
              <a:off x="2403720" y="202212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172"/>
            <p:cNvSpPr/>
            <p:nvPr/>
          </p:nvSpPr>
          <p:spPr>
            <a:xfrm>
              <a:off x="2422800" y="203976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173"/>
            <p:cNvSpPr/>
            <p:nvPr/>
          </p:nvSpPr>
          <p:spPr>
            <a:xfrm>
              <a:off x="2428920" y="204300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174"/>
            <p:cNvSpPr/>
            <p:nvPr/>
          </p:nvSpPr>
          <p:spPr>
            <a:xfrm>
              <a:off x="2433960" y="204624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175"/>
            <p:cNvSpPr/>
            <p:nvPr/>
          </p:nvSpPr>
          <p:spPr>
            <a:xfrm>
              <a:off x="2457720" y="205884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Text Box 176"/>
          <p:cNvSpPr/>
          <p:nvPr/>
        </p:nvSpPr>
        <p:spPr>
          <a:xfrm>
            <a:off x="2452680" y="204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76"/>
          <p:cNvSpPr/>
          <p:nvPr/>
        </p:nvSpPr>
        <p:spPr>
          <a:xfrm>
            <a:off x="2469960" y="288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176"/>
          <p:cNvSpPr/>
          <p:nvPr/>
        </p:nvSpPr>
        <p:spPr>
          <a:xfrm>
            <a:off x="2493720" y="385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客户的联络跟踪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访问目的与内容</a:t>
            </a:r>
            <a:r>
              <a:rPr b="0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557fe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7fe7"/>
                </a:solidFill>
                <a:latin typeface="Arial"/>
                <a:ea typeface="宋体"/>
              </a:rPr>
              <a:t>目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创造一个与客户交流的机会，联络感情，并向客户传达资料、样品等无法表达的信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对客户的经营风格和个人人格进行考察，了解客户信用状况，作为是否下订单等的依据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听取对方的要求和建议，诱导客户决策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557fe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7fe7"/>
                </a:solidFill>
                <a:latin typeface="Arial"/>
                <a:ea typeface="宋体"/>
              </a:rPr>
              <a:t>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联络重点、预计订货品种、数量、金额、定期访问次数和联络时间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联络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客户的联络跟踪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跟踪</a:t>
            </a:r>
            <a:r>
              <a:rPr b="0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订单跟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出货跟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产品跟踪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4e59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e59c"/>
                </a:solidFill>
                <a:latin typeface="Arial"/>
                <a:ea typeface="宋体"/>
              </a:rPr>
              <a:t>跟单员要定期联络跟踪，并将有关资料填入客户订单跟踪表、客户出货跟踪表、客户产品跟踪表和客户满意度调查表。</a:t>
            </a: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订单跟踪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出货跟踪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产品跟踪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满意度调查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投诉的接受与处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3cc9d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处理客户投诉的流程</a:t>
            </a:r>
            <a:r>
              <a:rPr b="0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42" name="AutoShape 4"/>
          <p:cNvSpPr/>
          <p:nvPr/>
        </p:nvSpPr>
        <p:spPr>
          <a:xfrm>
            <a:off x="484200" y="1832040"/>
            <a:ext cx="2454120" cy="6062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倾听问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AutoShape 5"/>
          <p:cNvSpPr/>
          <p:nvPr/>
        </p:nvSpPr>
        <p:spPr>
          <a:xfrm>
            <a:off x="498600" y="2685960"/>
            <a:ext cx="2454120" cy="6066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确认问题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484200" y="3589200"/>
            <a:ext cx="2454120" cy="6066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评估问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484200" y="4481640"/>
            <a:ext cx="2454120" cy="6062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协商问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2944800" y="211932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9"/>
          <p:cNvSpPr/>
          <p:nvPr/>
        </p:nvSpPr>
        <p:spPr>
          <a:xfrm>
            <a:off x="3463920" y="17305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>
            <a:off x="2946240" y="29574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3465360" y="2610000"/>
            <a:ext cx="0" cy="73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2932200" y="387972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3451320" y="3560760"/>
            <a:ext cx="0" cy="66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Line 14"/>
          <p:cNvSpPr/>
          <p:nvPr/>
        </p:nvSpPr>
        <p:spPr>
          <a:xfrm>
            <a:off x="2946240" y="47862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3449520" y="4349880"/>
            <a:ext cx="0" cy="86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Line 18"/>
          <p:cNvSpPr/>
          <p:nvPr/>
        </p:nvSpPr>
        <p:spPr>
          <a:xfrm>
            <a:off x="1763640" y="2449440"/>
            <a:ext cx="0" cy="23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AutoShape 24"/>
          <p:cNvSpPr/>
          <p:nvPr/>
        </p:nvSpPr>
        <p:spPr>
          <a:xfrm>
            <a:off x="484200" y="5359320"/>
            <a:ext cx="2454120" cy="6066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处理问题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AutoShape 25"/>
          <p:cNvSpPr/>
          <p:nvPr/>
        </p:nvSpPr>
        <p:spPr>
          <a:xfrm>
            <a:off x="484200" y="6164280"/>
            <a:ext cx="2454120" cy="6062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追踪问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3405240" y="193752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重视问题的态度，在倾听客户对企业的抱怨或投诉时，要运用平视客户、诚恳点头等肢体语言和记录表示出对客户提出的问题关注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3406680" y="2778840"/>
            <a:ext cx="55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确认问题的所在，要询问问题细节或不清楚的地方，按客户和产品的分类分别进行登记，如果客户提出的问题没有事实根据，要对客户说明并予以确认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3392640" y="367020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评估问题的性质，要确定问题的责任与程度，如果责任为本方，应了解客户对经济的补偿和其他要求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36"/>
          <p:cNvSpPr/>
          <p:nvPr/>
        </p:nvSpPr>
        <p:spPr>
          <a:xfrm>
            <a:off x="2944800" y="5661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Line 37"/>
          <p:cNvSpPr/>
          <p:nvPr/>
        </p:nvSpPr>
        <p:spPr>
          <a:xfrm>
            <a:off x="3448080" y="5338800"/>
            <a:ext cx="0" cy="68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38"/>
          <p:cNvSpPr/>
          <p:nvPr/>
        </p:nvSpPr>
        <p:spPr>
          <a:xfrm>
            <a:off x="3406680" y="456804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注意协商的方式，要考虑责任的归属，是否为长期客户，问题解决后有无再度成交的机率，尽可能地提出双方能接受的方案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39"/>
          <p:cNvSpPr/>
          <p:nvPr/>
        </p:nvSpPr>
        <p:spPr>
          <a:xfrm>
            <a:off x="3419640" y="5473440"/>
            <a:ext cx="55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施约定的处理方案，跟单员应对处理方案的执行进行监督，认真付诸实施，圆满处理好客户的投诉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930400" y="6451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41"/>
          <p:cNvSpPr/>
          <p:nvPr/>
        </p:nvSpPr>
        <p:spPr>
          <a:xfrm>
            <a:off x="3433680" y="6093000"/>
            <a:ext cx="0" cy="72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44"/>
          <p:cNvSpPr/>
          <p:nvPr/>
        </p:nvSpPr>
        <p:spPr>
          <a:xfrm>
            <a:off x="3405240" y="6127920"/>
            <a:ext cx="55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追踪客户的反馈，跟单员在处理好客户的投诉后，应了解对问题的处理效果，并将其信息认真填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客户投诉登记追踪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45"/>
          <p:cNvSpPr/>
          <p:nvPr/>
        </p:nvSpPr>
        <p:spPr>
          <a:xfrm>
            <a:off x="1749600" y="3327480"/>
            <a:ext cx="0" cy="23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46"/>
          <p:cNvSpPr/>
          <p:nvPr/>
        </p:nvSpPr>
        <p:spPr>
          <a:xfrm>
            <a:off x="1735200" y="4235400"/>
            <a:ext cx="0" cy="23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Line 47"/>
          <p:cNvSpPr/>
          <p:nvPr/>
        </p:nvSpPr>
        <p:spPr>
          <a:xfrm>
            <a:off x="1706400" y="5113440"/>
            <a:ext cx="0" cy="23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Line 48"/>
          <p:cNvSpPr/>
          <p:nvPr/>
        </p:nvSpPr>
        <p:spPr>
          <a:xfrm>
            <a:off x="1692360" y="5978520"/>
            <a:ext cx="0" cy="23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投诉的接受与处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3cc9d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cc9d"/>
                </a:solidFill>
                <a:latin typeface="Arial"/>
                <a:ea typeface="宋体"/>
              </a:rPr>
              <a:t>处理客户投诉的方法和原则</a:t>
            </a:r>
            <a:r>
              <a:rPr b="0" lang="zh-CN" sz="2400" spc="-1" strike="noStrike">
                <a:solidFill>
                  <a:srgbClr val="f3cc9d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557fe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7fe7"/>
                </a:solidFill>
                <a:latin typeface="Arial"/>
                <a:ea typeface="宋体"/>
              </a:rPr>
              <a:t>电话处理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以恭敬有礼的态度接受客户的投诉，从客户的视角分析问题，防止主观武断，并注意说话的方法和语调，使对方产生信赖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如果收到长途电话的投诉，可请对方先留下电话号码，再立即给对方打过去。这样做可节省对方的电话费用，以“为对方着想”的姿态使对方产生好感，并可借此确认对方的电话号码，避免不负责任的投诉。遇到“激愤的客户”，也能缓和对方的情绪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将对方的姓名、地址、电话号码、商品名称和投诉的主要内容等重要事项，以简洁的词句填写好客户投诉处理卡或录入电脑，并把处理人员的姓名、机构告诉对方，以便与对方联络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电话处理是与客户的直接沟通，不仅能获取宝贵信息，有利于营销业务的展开，而且可借此传递企业形象，与客户建立起更深的感情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投诉的接受与处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557fe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7fe7"/>
                </a:solidFill>
                <a:latin typeface="Arial"/>
                <a:ea typeface="宋体"/>
              </a:rPr>
              <a:t>信函处理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不厌其烦地处理。当收到客户利用信函所提出的投诉时，要立即用明信片通知收到。为了给予客户方便，把印好企业地址、邮编、收信人的不粘胶贴纸附于信函内，便于客户的回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清晰准确地表达。信函一般采用打印的形式，要有针对性地提出解决问题的方案，征求客户的意见。表述要亲切易懂，让对方一目了然和有一种亲近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妥善处理。对投诉的处理要慎重，应征得主管同意，并以企业负责人的名义寄出，须加盖企业公章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存档归类。处理投诉过程中的来往函件，应编号进行保留，并将有关内容填入追踪表，再进行相关文件资料的存档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投诉的接受与处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557fe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7fe7"/>
                </a:solidFill>
                <a:latin typeface="Arial"/>
                <a:ea typeface="宋体"/>
              </a:rPr>
              <a:t>现场处理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创造亲切轻松的气氛，倾听客户怨言，态度诚恳，不要中途随意中止谈话，并认真作好详细记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当不能马上解决问题时，要让客户了解自己处理的权限，向客户说明原因。在提出解决问题方案时，应让客户有所选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面谈结束时，要向客户表明歉意，确认与客户的联络方法，并对处理的效果进行追踪，提高客户的满意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投诉记录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投诉处理通知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投诉登记追踪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与考证要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分类管理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信息收集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信息管理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的联络与跟踪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投诉的接受与处理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客户服务实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圆圆小姐在完成该笔跟单业务后，及时收集客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KAMRA CORPORATIO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对产品的品质、价格和服务等方面的信息，并将收集的有关信息填入客户订单跟踪表、客户出货跟踪表、客户产品跟踪表和满意度调查表。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订单追踪表</a:t>
            </a:r>
            <a:r>
              <a:rPr b="1" lang="zh-CN" sz="2000" spc="-1" strike="noStrike">
                <a:solidFill>
                  <a:srgbClr val="f3cc9d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3cc9d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f3cc9d"/>
                </a:solidFill>
                <a:latin typeface="Arial"/>
                <a:ea typeface="宋体"/>
              </a:rPr>
              <a:t>链接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客户出货跟踪表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链接：客户产品跟踪表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链接：满意度调查表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WordArt 7"/>
          <p:cNvSpPr txBox="1"/>
          <p:nvPr/>
        </p:nvSpPr>
        <p:spPr>
          <a:xfrm>
            <a:off x="2195640" y="2349360"/>
            <a:ext cx="4876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1f53"/>
                    </a:gs>
                    <a:gs pos="100000">
                      <a:srgbClr val="84acc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1f53"/>
                  </a:gs>
                  <a:gs pos="100000">
                    <a:srgbClr val="84acc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业务背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cc9d"/>
                </a:solidFill>
                <a:latin typeface="Arial"/>
                <a:ea typeface="宋体"/>
              </a:rPr>
              <a:t>客户是下订单或有可能下订单给企业的组织或个人，是企业利润之源，是企业发展的动力。企业与客户之间不仅仅是单纯的签订合同、处理订单、发货和收款等销售过程中所发生的业务关系，还包括企业在营销与售后服务过程中发生的各种关系，对其进行全面管理将会显著提升企业的竞争力，降低营销成本，减少客户的投诉。一个优秀跟单员不仅要做好跟单的具体业务工作，也不能忽视对客户的管理与服务。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项目九  跟进客户管理与服务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118"/>
          <p:cNvGrpSpPr/>
          <p:nvPr/>
        </p:nvGrpSpPr>
        <p:grpSpPr>
          <a:xfrm>
            <a:off x="2089080" y="3429000"/>
            <a:ext cx="1442520" cy="609480"/>
            <a:chOff x="2089080" y="3429000"/>
            <a:chExt cx="1442520" cy="609480"/>
          </a:xfrm>
        </p:grpSpPr>
        <p:sp>
          <p:nvSpPr>
            <p:cNvPr id="467" name="Oval 119"/>
            <p:cNvSpPr/>
            <p:nvPr/>
          </p:nvSpPr>
          <p:spPr>
            <a:xfrm>
              <a:off x="2089080" y="3429000"/>
              <a:ext cx="14425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4acc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20"/>
            <p:cNvSpPr/>
            <p:nvPr/>
          </p:nvSpPr>
          <p:spPr>
            <a:xfrm>
              <a:off x="2089080" y="3429000"/>
              <a:ext cx="1442520" cy="609480"/>
            </a:xfrm>
            <a:prstGeom prst="ellipse">
              <a:avLst/>
            </a:prstGeom>
            <a:gradFill rotWithShape="0">
              <a:gsLst>
                <a:gs pos="0">
                  <a:srgbClr val="84acc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21"/>
            <p:cNvSpPr/>
            <p:nvPr/>
          </p:nvSpPr>
          <p:spPr>
            <a:xfrm>
              <a:off x="2183400" y="3468600"/>
              <a:ext cx="1253520" cy="530280"/>
            </a:xfrm>
            <a:prstGeom prst="ellipse">
              <a:avLst/>
            </a:prstGeom>
            <a:gradFill rotWithShape="0">
              <a:gsLst>
                <a:gs pos="0">
                  <a:srgbClr val="475d6d"/>
                </a:gs>
                <a:gs pos="50000">
                  <a:srgbClr val="84acca"/>
                </a:gs>
                <a:gs pos="100000">
                  <a:srgbClr val="475d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22"/>
            <p:cNvSpPr/>
            <p:nvPr/>
          </p:nvSpPr>
          <p:spPr>
            <a:xfrm>
              <a:off x="2277000" y="3508200"/>
              <a:ext cx="1254240" cy="530280"/>
            </a:xfrm>
            <a:prstGeom prst="ellipse">
              <a:avLst/>
            </a:prstGeom>
            <a:gradFill rotWithShape="0">
              <a:gsLst>
                <a:gs pos="0">
                  <a:srgbClr val="546d80"/>
                </a:gs>
                <a:gs pos="100000">
                  <a:srgbClr val="84acc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23"/>
            <p:cNvSpPr/>
            <p:nvPr/>
          </p:nvSpPr>
          <p:spPr>
            <a:xfrm>
              <a:off x="2250720" y="3495600"/>
              <a:ext cx="112644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24"/>
            <p:cNvSpPr/>
            <p:nvPr/>
          </p:nvSpPr>
          <p:spPr>
            <a:xfrm>
              <a:off x="2269440" y="3503520"/>
              <a:ext cx="109260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25"/>
            <p:cNvSpPr/>
            <p:nvPr/>
          </p:nvSpPr>
          <p:spPr>
            <a:xfrm>
              <a:off x="2284920" y="3506760"/>
              <a:ext cx="10627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26"/>
            <p:cNvSpPr/>
            <p:nvPr/>
          </p:nvSpPr>
          <p:spPr>
            <a:xfrm>
              <a:off x="2295720" y="3510000"/>
              <a:ext cx="1013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27"/>
            <p:cNvSpPr/>
            <p:nvPr/>
          </p:nvSpPr>
          <p:spPr>
            <a:xfrm>
              <a:off x="2352240" y="3522600"/>
              <a:ext cx="90072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Line 128"/>
          <p:cNvSpPr/>
          <p:nvPr/>
        </p:nvSpPr>
        <p:spPr>
          <a:xfrm>
            <a:off x="3017880" y="3990960"/>
            <a:ext cx="3816360" cy="14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29"/>
          <p:cNvSpPr/>
          <p:nvPr/>
        </p:nvSpPr>
        <p:spPr>
          <a:xfrm>
            <a:off x="2460600" y="34574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跟进客户服务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46"/>
          <p:cNvSpPr/>
          <p:nvPr/>
        </p:nvSpPr>
        <p:spPr>
          <a:xfrm>
            <a:off x="3041640" y="3105000"/>
            <a:ext cx="381636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47"/>
          <p:cNvSpPr/>
          <p:nvPr/>
        </p:nvSpPr>
        <p:spPr>
          <a:xfrm>
            <a:off x="2484360" y="2571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跟进客户管理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49"/>
          <p:cNvGrpSpPr/>
          <p:nvPr/>
        </p:nvGrpSpPr>
        <p:grpSpPr>
          <a:xfrm>
            <a:off x="2089080" y="2590920"/>
            <a:ext cx="1442520" cy="609480"/>
            <a:chOff x="2089080" y="2590920"/>
            <a:chExt cx="1442520" cy="609480"/>
          </a:xfrm>
        </p:grpSpPr>
        <p:sp>
          <p:nvSpPr>
            <p:cNvPr id="481" name="Text Box 150"/>
            <p:cNvSpPr/>
            <p:nvPr/>
          </p:nvSpPr>
          <p:spPr>
            <a:xfrm>
              <a:off x="2625840" y="266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51"/>
            <p:cNvSpPr/>
            <p:nvPr/>
          </p:nvSpPr>
          <p:spPr>
            <a:xfrm>
              <a:off x="2089080" y="2590920"/>
              <a:ext cx="1442520" cy="609480"/>
            </a:xfrm>
            <a:prstGeom prst="ellipse">
              <a:avLst/>
            </a:prstGeom>
            <a:gradFill rotWithShape="0">
              <a:gsLst>
                <a:gs pos="0">
                  <a:srgbClr val="9351c9"/>
                </a:gs>
                <a:gs pos="100000">
                  <a:srgbClr val="442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52"/>
            <p:cNvSpPr/>
            <p:nvPr/>
          </p:nvSpPr>
          <p:spPr>
            <a:xfrm>
              <a:off x="2089080" y="2590920"/>
              <a:ext cx="1442520" cy="609480"/>
            </a:xfrm>
            <a:prstGeom prst="ellipse">
              <a:avLst/>
            </a:prstGeom>
            <a:gradFill rotWithShape="0">
              <a:gsLst>
                <a:gs pos="0">
                  <a:srgbClr val="9351c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53"/>
            <p:cNvSpPr/>
            <p:nvPr/>
          </p:nvSpPr>
          <p:spPr>
            <a:xfrm>
              <a:off x="2156400" y="2600280"/>
              <a:ext cx="1254960" cy="53028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54"/>
            <p:cNvSpPr/>
            <p:nvPr/>
          </p:nvSpPr>
          <p:spPr>
            <a:xfrm>
              <a:off x="2179080" y="2629080"/>
              <a:ext cx="1254960" cy="529920"/>
            </a:xfrm>
            <a:prstGeom prst="ellipse">
              <a:avLst/>
            </a:prstGeom>
            <a:gradFill rotWithShape="0">
              <a:gsLst>
                <a:gs pos="0">
                  <a:srgbClr val="5d3380"/>
                </a:gs>
                <a:gs pos="100000">
                  <a:srgbClr val="9351c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55"/>
            <p:cNvSpPr/>
            <p:nvPr/>
          </p:nvSpPr>
          <p:spPr>
            <a:xfrm>
              <a:off x="2224440" y="2647800"/>
              <a:ext cx="112716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56"/>
            <p:cNvSpPr/>
            <p:nvPr/>
          </p:nvSpPr>
          <p:spPr>
            <a:xfrm>
              <a:off x="2269440" y="2665440"/>
              <a:ext cx="109332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57"/>
            <p:cNvSpPr/>
            <p:nvPr/>
          </p:nvSpPr>
          <p:spPr>
            <a:xfrm>
              <a:off x="2284200" y="2668680"/>
              <a:ext cx="106344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58"/>
            <p:cNvSpPr/>
            <p:nvPr/>
          </p:nvSpPr>
          <p:spPr>
            <a:xfrm>
              <a:off x="2296080" y="2671920"/>
              <a:ext cx="101376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59"/>
            <p:cNvSpPr/>
            <p:nvPr/>
          </p:nvSpPr>
          <p:spPr>
            <a:xfrm>
              <a:off x="2352240" y="2684520"/>
              <a:ext cx="90144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Text Box 160"/>
          <p:cNvSpPr/>
          <p:nvPr/>
        </p:nvSpPr>
        <p:spPr>
          <a:xfrm>
            <a:off x="2152800" y="2666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务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60"/>
          <p:cNvSpPr/>
          <p:nvPr/>
        </p:nvSpPr>
        <p:spPr>
          <a:xfrm>
            <a:off x="2141640" y="350208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务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任务一  跟进客户管理工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118"/>
          <p:cNvGrpSpPr/>
          <p:nvPr/>
        </p:nvGrpSpPr>
        <p:grpSpPr>
          <a:xfrm>
            <a:off x="2346480" y="2819520"/>
            <a:ext cx="609480" cy="609480"/>
            <a:chOff x="2346480" y="2819520"/>
            <a:chExt cx="609480" cy="609480"/>
          </a:xfrm>
        </p:grpSpPr>
        <p:sp>
          <p:nvSpPr>
            <p:cNvPr id="495" name="Oval 119"/>
            <p:cNvSpPr/>
            <p:nvPr/>
          </p:nvSpPr>
          <p:spPr>
            <a:xfrm>
              <a:off x="2346480" y="28195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4acc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20"/>
            <p:cNvSpPr/>
            <p:nvPr/>
          </p:nvSpPr>
          <p:spPr>
            <a:xfrm>
              <a:off x="2346480" y="28195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84acc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21"/>
            <p:cNvSpPr/>
            <p:nvPr/>
          </p:nvSpPr>
          <p:spPr>
            <a:xfrm>
              <a:off x="2386080" y="285912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475d6d"/>
                </a:gs>
                <a:gs pos="50000">
                  <a:srgbClr val="84acca"/>
                </a:gs>
                <a:gs pos="100000">
                  <a:srgbClr val="475d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22"/>
            <p:cNvSpPr/>
            <p:nvPr/>
          </p:nvSpPr>
          <p:spPr>
            <a:xfrm>
              <a:off x="2425680" y="289872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546d80"/>
                </a:gs>
                <a:gs pos="100000">
                  <a:srgbClr val="84acc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23"/>
            <p:cNvSpPr/>
            <p:nvPr/>
          </p:nvSpPr>
          <p:spPr>
            <a:xfrm>
              <a:off x="2414520" y="288612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24"/>
            <p:cNvSpPr/>
            <p:nvPr/>
          </p:nvSpPr>
          <p:spPr>
            <a:xfrm>
              <a:off x="2422440" y="289404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25"/>
            <p:cNvSpPr/>
            <p:nvPr/>
          </p:nvSpPr>
          <p:spPr>
            <a:xfrm>
              <a:off x="2428920" y="289728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26"/>
            <p:cNvSpPr/>
            <p:nvPr/>
          </p:nvSpPr>
          <p:spPr>
            <a:xfrm>
              <a:off x="2433600" y="290052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27"/>
            <p:cNvSpPr/>
            <p:nvPr/>
          </p:nvSpPr>
          <p:spPr>
            <a:xfrm>
              <a:off x="2457360" y="291312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Line 128"/>
          <p:cNvSpPr/>
          <p:nvPr/>
        </p:nvSpPr>
        <p:spPr>
          <a:xfrm>
            <a:off x="2773440" y="3381480"/>
            <a:ext cx="4032000" cy="14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29"/>
          <p:cNvSpPr/>
          <p:nvPr/>
        </p:nvSpPr>
        <p:spPr>
          <a:xfrm>
            <a:off x="2562120" y="288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信息收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32"/>
          <p:cNvGrpSpPr/>
          <p:nvPr/>
        </p:nvGrpSpPr>
        <p:grpSpPr>
          <a:xfrm>
            <a:off x="2389320" y="4648320"/>
            <a:ext cx="609480" cy="609480"/>
            <a:chOff x="2389320" y="4648320"/>
            <a:chExt cx="609480" cy="609480"/>
          </a:xfrm>
        </p:grpSpPr>
        <p:sp>
          <p:nvSpPr>
            <p:cNvPr id="507" name="Oval 133"/>
            <p:cNvSpPr/>
            <p:nvPr/>
          </p:nvSpPr>
          <p:spPr>
            <a:xfrm>
              <a:off x="2389320" y="46483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4acc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34"/>
            <p:cNvSpPr/>
            <p:nvPr/>
          </p:nvSpPr>
          <p:spPr>
            <a:xfrm>
              <a:off x="2389320" y="46483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84acc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35"/>
            <p:cNvSpPr/>
            <p:nvPr/>
          </p:nvSpPr>
          <p:spPr>
            <a:xfrm>
              <a:off x="2428920" y="468792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475d6d"/>
                </a:gs>
                <a:gs pos="50000">
                  <a:srgbClr val="84acca"/>
                </a:gs>
                <a:gs pos="100000">
                  <a:srgbClr val="475d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36"/>
            <p:cNvSpPr/>
            <p:nvPr/>
          </p:nvSpPr>
          <p:spPr>
            <a:xfrm>
              <a:off x="2468520" y="472752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546d80"/>
                </a:gs>
                <a:gs pos="100000">
                  <a:srgbClr val="84acc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37"/>
            <p:cNvSpPr/>
            <p:nvPr/>
          </p:nvSpPr>
          <p:spPr>
            <a:xfrm>
              <a:off x="2457360" y="471492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38"/>
            <p:cNvSpPr/>
            <p:nvPr/>
          </p:nvSpPr>
          <p:spPr>
            <a:xfrm>
              <a:off x="2465280" y="472284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39"/>
            <p:cNvSpPr/>
            <p:nvPr/>
          </p:nvSpPr>
          <p:spPr>
            <a:xfrm>
              <a:off x="2471760" y="472608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40"/>
            <p:cNvSpPr/>
            <p:nvPr/>
          </p:nvSpPr>
          <p:spPr>
            <a:xfrm>
              <a:off x="2476440" y="472932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41"/>
            <p:cNvSpPr/>
            <p:nvPr/>
          </p:nvSpPr>
          <p:spPr>
            <a:xfrm>
              <a:off x="2500200" y="474192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Line 142"/>
          <p:cNvSpPr/>
          <p:nvPr/>
        </p:nvSpPr>
        <p:spPr>
          <a:xfrm>
            <a:off x="2797200" y="5216400"/>
            <a:ext cx="403236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3"/>
          <p:cNvSpPr/>
          <p:nvPr/>
        </p:nvSpPr>
        <p:spPr>
          <a:xfrm>
            <a:off x="2585880" y="47181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管理实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46"/>
          <p:cNvSpPr/>
          <p:nvPr/>
        </p:nvSpPr>
        <p:spPr>
          <a:xfrm>
            <a:off x="2797200" y="2495520"/>
            <a:ext cx="4032360" cy="14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47"/>
          <p:cNvSpPr/>
          <p:nvPr/>
        </p:nvSpPr>
        <p:spPr>
          <a:xfrm>
            <a:off x="2585880" y="1996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分类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162"/>
          <p:cNvSpPr/>
          <p:nvPr/>
        </p:nvSpPr>
        <p:spPr>
          <a:xfrm>
            <a:off x="2797200" y="4302000"/>
            <a:ext cx="4032360" cy="18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63"/>
          <p:cNvSpPr/>
          <p:nvPr/>
        </p:nvSpPr>
        <p:spPr>
          <a:xfrm>
            <a:off x="2585880" y="38037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客户信息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Group 165"/>
          <p:cNvGrpSpPr/>
          <p:nvPr/>
        </p:nvGrpSpPr>
        <p:grpSpPr>
          <a:xfrm>
            <a:off x="2346480" y="3790800"/>
            <a:ext cx="609480" cy="609480"/>
            <a:chOff x="2346480" y="3790800"/>
            <a:chExt cx="609480" cy="609480"/>
          </a:xfrm>
        </p:grpSpPr>
        <p:sp>
          <p:nvSpPr>
            <p:cNvPr id="523" name="Text Box 166"/>
            <p:cNvSpPr/>
            <p:nvPr/>
          </p:nvSpPr>
          <p:spPr>
            <a:xfrm>
              <a:off x="2472120" y="386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67"/>
            <p:cNvSpPr/>
            <p:nvPr/>
          </p:nvSpPr>
          <p:spPr>
            <a:xfrm>
              <a:off x="2346480" y="3790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/>
                </a:gs>
                <a:gs pos="100000">
                  <a:srgbClr val="442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68"/>
            <p:cNvSpPr/>
            <p:nvPr/>
          </p:nvSpPr>
          <p:spPr>
            <a:xfrm>
              <a:off x="2346480" y="3790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69"/>
            <p:cNvSpPr/>
            <p:nvPr/>
          </p:nvSpPr>
          <p:spPr>
            <a:xfrm>
              <a:off x="2374920" y="380016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70"/>
            <p:cNvSpPr/>
            <p:nvPr/>
          </p:nvSpPr>
          <p:spPr>
            <a:xfrm>
              <a:off x="2384640" y="3828960"/>
              <a:ext cx="530280" cy="529920"/>
            </a:xfrm>
            <a:prstGeom prst="ellipse">
              <a:avLst/>
            </a:prstGeom>
            <a:gradFill rotWithShape="0">
              <a:gsLst>
                <a:gs pos="0">
                  <a:srgbClr val="5d3380"/>
                </a:gs>
                <a:gs pos="100000">
                  <a:srgbClr val="9351c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71"/>
            <p:cNvSpPr/>
            <p:nvPr/>
          </p:nvSpPr>
          <p:spPr>
            <a:xfrm>
              <a:off x="2403720" y="384768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72"/>
            <p:cNvSpPr/>
            <p:nvPr/>
          </p:nvSpPr>
          <p:spPr>
            <a:xfrm>
              <a:off x="2422800" y="38653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73"/>
            <p:cNvSpPr/>
            <p:nvPr/>
          </p:nvSpPr>
          <p:spPr>
            <a:xfrm>
              <a:off x="2428920" y="38685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74"/>
            <p:cNvSpPr/>
            <p:nvPr/>
          </p:nvSpPr>
          <p:spPr>
            <a:xfrm>
              <a:off x="2433960" y="38718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75"/>
            <p:cNvSpPr/>
            <p:nvPr/>
          </p:nvSpPr>
          <p:spPr>
            <a:xfrm>
              <a:off x="2457720" y="38844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Group 165"/>
          <p:cNvGrpSpPr/>
          <p:nvPr/>
        </p:nvGrpSpPr>
        <p:grpSpPr>
          <a:xfrm>
            <a:off x="2346480" y="1965240"/>
            <a:ext cx="609480" cy="609480"/>
            <a:chOff x="2346480" y="1965240"/>
            <a:chExt cx="609480" cy="609480"/>
          </a:xfrm>
        </p:grpSpPr>
        <p:sp>
          <p:nvSpPr>
            <p:cNvPr id="534" name="Text Box 166"/>
            <p:cNvSpPr/>
            <p:nvPr/>
          </p:nvSpPr>
          <p:spPr>
            <a:xfrm>
              <a:off x="2472120" y="204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67"/>
            <p:cNvSpPr/>
            <p:nvPr/>
          </p:nvSpPr>
          <p:spPr>
            <a:xfrm>
              <a:off x="2346480" y="19652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/>
                </a:gs>
                <a:gs pos="100000">
                  <a:srgbClr val="442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68"/>
            <p:cNvSpPr/>
            <p:nvPr/>
          </p:nvSpPr>
          <p:spPr>
            <a:xfrm>
              <a:off x="2346480" y="19652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9351c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69"/>
            <p:cNvSpPr/>
            <p:nvPr/>
          </p:nvSpPr>
          <p:spPr>
            <a:xfrm>
              <a:off x="2374920" y="19746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70"/>
            <p:cNvSpPr/>
            <p:nvPr/>
          </p:nvSpPr>
          <p:spPr>
            <a:xfrm>
              <a:off x="2384640" y="2003400"/>
              <a:ext cx="530280" cy="529920"/>
            </a:xfrm>
            <a:prstGeom prst="ellipse">
              <a:avLst/>
            </a:prstGeom>
            <a:gradFill rotWithShape="0">
              <a:gsLst>
                <a:gs pos="0">
                  <a:srgbClr val="5d3380"/>
                </a:gs>
                <a:gs pos="100000">
                  <a:srgbClr val="9351c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71"/>
            <p:cNvSpPr/>
            <p:nvPr/>
          </p:nvSpPr>
          <p:spPr>
            <a:xfrm>
              <a:off x="2403720" y="202212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72"/>
            <p:cNvSpPr/>
            <p:nvPr/>
          </p:nvSpPr>
          <p:spPr>
            <a:xfrm>
              <a:off x="2422800" y="203976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73"/>
            <p:cNvSpPr/>
            <p:nvPr/>
          </p:nvSpPr>
          <p:spPr>
            <a:xfrm>
              <a:off x="2428920" y="204300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174"/>
            <p:cNvSpPr/>
            <p:nvPr/>
          </p:nvSpPr>
          <p:spPr>
            <a:xfrm>
              <a:off x="2433960" y="204624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175"/>
            <p:cNvSpPr/>
            <p:nvPr/>
          </p:nvSpPr>
          <p:spPr>
            <a:xfrm>
              <a:off x="2457720" y="205884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Text Box 176"/>
          <p:cNvSpPr/>
          <p:nvPr/>
        </p:nvSpPr>
        <p:spPr>
          <a:xfrm>
            <a:off x="2452680" y="204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6"/>
          <p:cNvSpPr/>
          <p:nvPr/>
        </p:nvSpPr>
        <p:spPr>
          <a:xfrm>
            <a:off x="2469960" y="288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76"/>
          <p:cNvSpPr/>
          <p:nvPr/>
        </p:nvSpPr>
        <p:spPr>
          <a:xfrm>
            <a:off x="2493720" y="385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76"/>
          <p:cNvSpPr/>
          <p:nvPr/>
        </p:nvSpPr>
        <p:spPr>
          <a:xfrm>
            <a:off x="2493720" y="4714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客户分类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0"/>
          <p:cNvGrpSpPr/>
          <p:nvPr/>
        </p:nvGrpSpPr>
        <p:grpSpPr>
          <a:xfrm>
            <a:off x="1424160" y="2971800"/>
            <a:ext cx="6743520" cy="1163520"/>
            <a:chOff x="1424160" y="2971800"/>
            <a:chExt cx="6743520" cy="1163520"/>
          </a:xfrm>
        </p:grpSpPr>
        <p:sp>
          <p:nvSpPr>
            <p:cNvPr id="550" name="AutoShape 10"/>
            <p:cNvSpPr/>
            <p:nvPr/>
          </p:nvSpPr>
          <p:spPr>
            <a:xfrm>
              <a:off x="1424160" y="2971800"/>
              <a:ext cx="6743520" cy="1163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11"/>
            <p:cNvSpPr/>
            <p:nvPr/>
          </p:nvSpPr>
          <p:spPr>
            <a:xfrm>
              <a:off x="1603440" y="3033720"/>
              <a:ext cx="219528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650960" y="3078000"/>
              <a:ext cx="1095480" cy="5353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1852560" y="3100320"/>
              <a:ext cx="175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客户的需求足量性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3909960" y="3162240"/>
              <a:ext cx="41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类出来的客户总量，必须大到足以使企业实现它的利润目标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Group 31"/>
          <p:cNvGrpSpPr/>
          <p:nvPr/>
        </p:nvGrpSpPr>
        <p:grpSpPr>
          <a:xfrm>
            <a:off x="1424160" y="4230720"/>
            <a:ext cx="6743520" cy="1163520"/>
            <a:chOff x="1424160" y="4230720"/>
            <a:chExt cx="6743520" cy="1163520"/>
          </a:xfrm>
        </p:grpSpPr>
        <p:sp>
          <p:nvSpPr>
            <p:cNvPr id="556" name="AutoShape 16"/>
            <p:cNvSpPr/>
            <p:nvPr/>
          </p:nvSpPr>
          <p:spPr>
            <a:xfrm>
              <a:off x="1424160" y="4230720"/>
              <a:ext cx="6743520" cy="1163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AutoShape 17"/>
            <p:cNvSpPr/>
            <p:nvPr/>
          </p:nvSpPr>
          <p:spPr>
            <a:xfrm>
              <a:off x="1603440" y="4290840"/>
              <a:ext cx="219528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1650960" y="4335480"/>
              <a:ext cx="1095480" cy="53496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19"/>
            <p:cNvSpPr/>
            <p:nvPr/>
          </p:nvSpPr>
          <p:spPr>
            <a:xfrm>
              <a:off x="1924200" y="4386240"/>
              <a:ext cx="175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客户的可开发性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3924360" y="4460760"/>
              <a:ext cx="41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指分类的客户应是本公司在业务活动中能够开发的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Group 29"/>
          <p:cNvGrpSpPr/>
          <p:nvPr/>
        </p:nvGrpSpPr>
        <p:grpSpPr>
          <a:xfrm>
            <a:off x="1339920" y="1706400"/>
            <a:ext cx="6827760" cy="1163880"/>
            <a:chOff x="1339920" y="1706400"/>
            <a:chExt cx="6827760" cy="1163880"/>
          </a:xfrm>
        </p:grpSpPr>
        <p:sp>
          <p:nvSpPr>
            <p:cNvPr id="562" name="AutoShape 4"/>
            <p:cNvSpPr/>
            <p:nvPr/>
          </p:nvSpPr>
          <p:spPr>
            <a:xfrm>
              <a:off x="1424160" y="1706400"/>
              <a:ext cx="6743520" cy="1163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>
              <a:off x="1603440" y="1768320"/>
              <a:ext cx="219528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4" name="Freeform 6"/>
            <p:cNvGrpSpPr/>
            <p:nvPr/>
          </p:nvGrpSpPr>
          <p:grpSpPr>
            <a:xfrm>
              <a:off x="1639800" y="1785960"/>
              <a:ext cx="1079640" cy="530280"/>
              <a:chOff x="1639800" y="1785960"/>
              <a:chExt cx="1079640" cy="530280"/>
            </a:xfrm>
          </p:grpSpPr>
          <p:pic>
            <p:nvPicPr>
              <p:cNvPr id="565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641240" y="1785960"/>
                <a:ext cx="1063800" cy="52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1639800" y="1788840"/>
                <a:ext cx="107964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7" name="Text Box 8"/>
            <p:cNvSpPr/>
            <p:nvPr/>
          </p:nvSpPr>
          <p:spPr>
            <a:xfrm>
              <a:off x="3924360" y="1930320"/>
              <a:ext cx="41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指客户分类必须是可以识别的或可以衡量的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1339920" y="1838160"/>
              <a:ext cx="258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客户可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衡量性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Group 32"/>
          <p:cNvGrpSpPr/>
          <p:nvPr/>
        </p:nvGrpSpPr>
        <p:grpSpPr>
          <a:xfrm>
            <a:off x="1339920" y="5506920"/>
            <a:ext cx="6946920" cy="1163880"/>
            <a:chOff x="1339920" y="5506920"/>
            <a:chExt cx="6946920" cy="1163880"/>
          </a:xfrm>
        </p:grpSpPr>
        <p:sp>
          <p:nvSpPr>
            <p:cNvPr id="570" name="AutoShape 4"/>
            <p:cNvSpPr/>
            <p:nvPr/>
          </p:nvSpPr>
          <p:spPr>
            <a:xfrm>
              <a:off x="1424160" y="5506920"/>
              <a:ext cx="6743520" cy="1163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5"/>
            <p:cNvSpPr/>
            <p:nvPr/>
          </p:nvSpPr>
          <p:spPr>
            <a:xfrm>
              <a:off x="1603440" y="5567400"/>
              <a:ext cx="219528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Freeform 6"/>
            <p:cNvGrpSpPr/>
            <p:nvPr/>
          </p:nvGrpSpPr>
          <p:grpSpPr>
            <a:xfrm>
              <a:off x="1639800" y="5589720"/>
              <a:ext cx="1079640" cy="523800"/>
              <a:chOff x="1639800" y="5589720"/>
              <a:chExt cx="1079640" cy="523800"/>
            </a:xfrm>
          </p:grpSpPr>
          <p:pic>
            <p:nvPicPr>
              <p:cNvPr id="573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1240" y="5591520"/>
                <a:ext cx="1063800" cy="51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1639800" y="5589720"/>
                <a:ext cx="10796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" name="Text Box 8"/>
            <p:cNvSpPr/>
            <p:nvPr/>
          </p:nvSpPr>
          <p:spPr>
            <a:xfrm>
              <a:off x="3714840" y="555300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指分类出来的各类客户，对企业营销组合中任何要素的变动都能灵敏地做出差异性的反应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7"/>
            <p:cNvSpPr/>
            <p:nvPr/>
          </p:nvSpPr>
          <p:spPr>
            <a:xfrm>
              <a:off x="1339920" y="5637240"/>
              <a:ext cx="258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客户的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反应差异性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TextBox 28"/>
          <p:cNvSpPr/>
          <p:nvPr/>
        </p:nvSpPr>
        <p:spPr>
          <a:xfrm>
            <a:off x="428760" y="12142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cc9d"/>
                </a:solidFill>
                <a:latin typeface="Arial"/>
                <a:ea typeface="宋体"/>
              </a:rPr>
              <a:t>客户分类整理的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客户分类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28"/>
          <p:cNvSpPr/>
          <p:nvPr/>
        </p:nvSpPr>
        <p:spPr>
          <a:xfrm>
            <a:off x="428760" y="12142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cc9d"/>
                </a:solidFill>
                <a:latin typeface="Arial"/>
                <a:ea typeface="宋体"/>
              </a:rPr>
              <a:t>客户分类的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Group 109"/>
          <p:cNvGrpSpPr/>
          <p:nvPr/>
        </p:nvGrpSpPr>
        <p:grpSpPr>
          <a:xfrm>
            <a:off x="1116000" y="1844640"/>
            <a:ext cx="6827760" cy="898560"/>
            <a:chOff x="1116000" y="1844640"/>
            <a:chExt cx="6827760" cy="898560"/>
          </a:xfrm>
        </p:grpSpPr>
        <p:sp>
          <p:nvSpPr>
            <p:cNvPr id="581" name="AutoShape 4"/>
            <p:cNvSpPr/>
            <p:nvPr/>
          </p:nvSpPr>
          <p:spPr>
            <a:xfrm>
              <a:off x="1200240" y="1844640"/>
              <a:ext cx="6743520" cy="898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AutoShape 5"/>
            <p:cNvSpPr/>
            <p:nvPr/>
          </p:nvSpPr>
          <p:spPr>
            <a:xfrm>
              <a:off x="1379520" y="1892160"/>
              <a:ext cx="4040280" cy="824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Freeform 6"/>
            <p:cNvGrpSpPr/>
            <p:nvPr/>
          </p:nvGrpSpPr>
          <p:grpSpPr>
            <a:xfrm>
              <a:off x="1414440" y="1908000"/>
              <a:ext cx="1085760" cy="408240"/>
              <a:chOff x="1414440" y="1908000"/>
              <a:chExt cx="1085760" cy="408240"/>
            </a:xfrm>
          </p:grpSpPr>
          <p:pic>
            <p:nvPicPr>
              <p:cNvPr id="584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14440" y="1908000"/>
                <a:ext cx="1075680" cy="4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414440" y="1908000"/>
                <a:ext cx="108576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Text Box 8"/>
            <p:cNvSpPr/>
            <p:nvPr/>
          </p:nvSpPr>
          <p:spPr>
            <a:xfrm>
              <a:off x="5910120" y="1943280"/>
              <a:ext cx="200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内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外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7"/>
            <p:cNvSpPr/>
            <p:nvPr/>
          </p:nvSpPr>
          <p:spPr>
            <a:xfrm>
              <a:off x="1116000" y="2028960"/>
              <a:ext cx="423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按客户地理位置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Group 118"/>
          <p:cNvGrpSpPr/>
          <p:nvPr/>
        </p:nvGrpSpPr>
        <p:grpSpPr>
          <a:xfrm>
            <a:off x="1190520" y="2820960"/>
            <a:ext cx="7510680" cy="898560"/>
            <a:chOff x="1190520" y="2820960"/>
            <a:chExt cx="7510680" cy="898560"/>
          </a:xfrm>
        </p:grpSpPr>
        <p:sp>
          <p:nvSpPr>
            <p:cNvPr id="589" name="AutoShape 10"/>
            <p:cNvSpPr/>
            <p:nvPr/>
          </p:nvSpPr>
          <p:spPr>
            <a:xfrm>
              <a:off x="1190520" y="2820960"/>
              <a:ext cx="6743880" cy="898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AutoShape 11"/>
            <p:cNvSpPr/>
            <p:nvPr/>
          </p:nvSpPr>
          <p:spPr>
            <a:xfrm>
              <a:off x="1370160" y="2868480"/>
              <a:ext cx="4039920" cy="824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417680" y="2901960"/>
              <a:ext cx="1095480" cy="41436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13"/>
            <p:cNvSpPr/>
            <p:nvPr/>
          </p:nvSpPr>
          <p:spPr>
            <a:xfrm>
              <a:off x="1857240" y="3011400"/>
              <a:ext cx="28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按客户行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Text Box 14"/>
            <p:cNvSpPr/>
            <p:nvPr/>
          </p:nvSpPr>
          <p:spPr>
            <a:xfrm>
              <a:off x="5910120" y="2913120"/>
              <a:ext cx="279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贸易性企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非贸易性企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25"/>
          <p:cNvGrpSpPr/>
          <p:nvPr/>
        </p:nvGrpSpPr>
        <p:grpSpPr>
          <a:xfrm>
            <a:off x="1200240" y="3745080"/>
            <a:ext cx="7715160" cy="1008720"/>
            <a:chOff x="1200240" y="3745080"/>
            <a:chExt cx="7715160" cy="1008720"/>
          </a:xfrm>
        </p:grpSpPr>
        <p:grpSp>
          <p:nvGrpSpPr>
            <p:cNvPr id="595" name="Group 126"/>
            <p:cNvGrpSpPr/>
            <p:nvPr/>
          </p:nvGrpSpPr>
          <p:grpSpPr>
            <a:xfrm>
              <a:off x="1200240" y="3792600"/>
              <a:ext cx="6743520" cy="898560"/>
              <a:chOff x="1200240" y="3792600"/>
              <a:chExt cx="6743520" cy="898560"/>
            </a:xfrm>
          </p:grpSpPr>
          <p:sp>
            <p:nvSpPr>
              <p:cNvPr id="596" name="AutoShape 16"/>
              <p:cNvSpPr/>
              <p:nvPr/>
            </p:nvSpPr>
            <p:spPr>
              <a:xfrm>
                <a:off x="1200240" y="3792600"/>
                <a:ext cx="6743520" cy="8985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AutoShape 17"/>
              <p:cNvSpPr/>
              <p:nvPr/>
            </p:nvSpPr>
            <p:spPr>
              <a:xfrm>
                <a:off x="1379520" y="3840120"/>
                <a:ext cx="4040280" cy="8240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19"/>
              <p:cNvSpPr/>
              <p:nvPr/>
            </p:nvSpPr>
            <p:spPr>
              <a:xfrm>
                <a:off x="1700280" y="4003920"/>
                <a:ext cx="350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按客户成交金额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Text Box 20"/>
            <p:cNvSpPr/>
            <p:nvPr/>
          </p:nvSpPr>
          <p:spPr>
            <a:xfrm>
              <a:off x="5911920" y="3745080"/>
              <a:ext cx="300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类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类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类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8"/>
            <p:cNvSpPr/>
            <p:nvPr/>
          </p:nvSpPr>
          <p:spPr>
            <a:xfrm>
              <a:off x="1417680" y="3873600"/>
              <a:ext cx="1095480" cy="41256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Group 133"/>
          <p:cNvGrpSpPr/>
          <p:nvPr/>
        </p:nvGrpSpPr>
        <p:grpSpPr>
          <a:xfrm>
            <a:off x="1200240" y="4724280"/>
            <a:ext cx="7059600" cy="1008720"/>
            <a:chOff x="1200240" y="4724280"/>
            <a:chExt cx="7059600" cy="1008720"/>
          </a:xfrm>
        </p:grpSpPr>
        <p:sp>
          <p:nvSpPr>
            <p:cNvPr id="602" name="AutoShape 4"/>
            <p:cNvSpPr/>
            <p:nvPr/>
          </p:nvSpPr>
          <p:spPr>
            <a:xfrm>
              <a:off x="1200240" y="4776840"/>
              <a:ext cx="6743520" cy="898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AutoShape 5"/>
            <p:cNvSpPr/>
            <p:nvPr/>
          </p:nvSpPr>
          <p:spPr>
            <a:xfrm>
              <a:off x="1379520" y="4824360"/>
              <a:ext cx="4040280" cy="824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4" name="Freeform 6"/>
            <p:cNvGrpSpPr/>
            <p:nvPr/>
          </p:nvGrpSpPr>
          <p:grpSpPr>
            <a:xfrm>
              <a:off x="1414440" y="4840200"/>
              <a:ext cx="1085760" cy="408240"/>
              <a:chOff x="1414440" y="4840200"/>
              <a:chExt cx="1085760" cy="408240"/>
            </a:xfrm>
          </p:grpSpPr>
          <p:pic>
            <p:nvPicPr>
              <p:cNvPr id="60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414440" y="4840200"/>
                <a:ext cx="1075680" cy="40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1414440" y="4840200"/>
                <a:ext cx="108576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Text Box 8"/>
            <p:cNvSpPr/>
            <p:nvPr/>
          </p:nvSpPr>
          <p:spPr>
            <a:xfrm>
              <a:off x="5902200" y="4724280"/>
              <a:ext cx="2357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常规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潜力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头顶客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7"/>
            <p:cNvSpPr/>
            <p:nvPr/>
          </p:nvSpPr>
          <p:spPr>
            <a:xfrm>
              <a:off x="1365120" y="4952880"/>
              <a:ext cx="40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按公司经营发展规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Group 142"/>
          <p:cNvGrpSpPr/>
          <p:nvPr/>
        </p:nvGrpSpPr>
        <p:grpSpPr>
          <a:xfrm>
            <a:off x="1209600" y="5761080"/>
            <a:ext cx="6743880" cy="898560"/>
            <a:chOff x="1209600" y="5761080"/>
            <a:chExt cx="6743880" cy="898560"/>
          </a:xfrm>
        </p:grpSpPr>
        <p:sp>
          <p:nvSpPr>
            <p:cNvPr id="610" name="AutoShape 10"/>
            <p:cNvSpPr/>
            <p:nvPr/>
          </p:nvSpPr>
          <p:spPr>
            <a:xfrm>
              <a:off x="1209600" y="5761080"/>
              <a:ext cx="6743880" cy="8985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AutoShape 11"/>
            <p:cNvSpPr/>
            <p:nvPr/>
          </p:nvSpPr>
          <p:spPr>
            <a:xfrm>
              <a:off x="1390680" y="5808600"/>
              <a:ext cx="4038480" cy="824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436760" y="5842080"/>
              <a:ext cx="1095480" cy="41256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3"/>
            <p:cNvSpPr/>
            <p:nvPr/>
          </p:nvSpPr>
          <p:spPr>
            <a:xfrm>
              <a:off x="1419120" y="593712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按与客户关系生命周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5562720" y="5870520"/>
              <a:ext cx="121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导入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成长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4"/>
            <p:cNvSpPr/>
            <p:nvPr/>
          </p:nvSpPr>
          <p:spPr>
            <a:xfrm>
              <a:off x="6647040" y="5875200"/>
              <a:ext cx="121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成熟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11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衰退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信息收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428760" y="12142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cc9d"/>
                </a:solidFill>
                <a:latin typeface="Arial"/>
                <a:ea typeface="宋体"/>
              </a:rPr>
              <a:t>客户信息收集的主要途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434160" y="-1287360"/>
            <a:ext cx="1671840" cy="2575080"/>
          </a:xfrm>
          <a:prstGeom prst="rect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图片编号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2-0652(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版权管理类图片 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Right-Manage)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品牌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全景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标题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广州百届广交会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版权属性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肖像权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(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不需要肖像权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)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即时获取规格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M(RGB),3872x2592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像素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可获得尺寸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M(RGB)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可获得性：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1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即时获取规格为</a:t>
            </a: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2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小时内可提供的最大尺寸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2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若想获得更大图片尺寸时，请提前联系我们并确认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3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在您购买前，我们无法对本图片做出可获得的保证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如果您对图片有进一步需求，请不要犹豫，联系我们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uzzle3"/>
          <p:cNvSpPr/>
          <p:nvPr/>
        </p:nvSpPr>
        <p:spPr>
          <a:xfrm>
            <a:off x="4673520" y="2214720"/>
            <a:ext cx="1446120" cy="1884240"/>
          </a:xfrm>
          <a:custGeom>
            <a:avLst/>
            <a:gdLst>
              <a:gd name="textAreaLeft" fmla="*/ 151920 w 1446120"/>
              <a:gd name="textAreaRight" fmla="*/ 1282320 w 1446120"/>
              <a:gd name="textAreaTop" fmla="*/ 673200 h 1884240"/>
              <a:gd name="textAreaBottom" fmla="*/ 1765440 h 188424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365193"/>
              </a:gs>
              <a:gs pos="100000">
                <a:srgbClr val="557fe7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uzzle2"/>
          <p:cNvSpPr/>
          <p:nvPr/>
        </p:nvSpPr>
        <p:spPr>
          <a:xfrm>
            <a:off x="4253040" y="3587760"/>
            <a:ext cx="2307960" cy="1716120"/>
          </a:xfrm>
          <a:custGeom>
            <a:avLst/>
            <a:gdLst>
              <a:gd name="textAreaLeft" fmla="*/ 575640 w 2307960"/>
              <a:gd name="textAreaRight" fmla="*/ 1728720 w 2307960"/>
              <a:gd name="textAreaTop" fmla="*/ 535680 h 1716120"/>
              <a:gd name="textAreaBottom" fmla="*/ 1624320 h 17161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c7d9e7"/>
              </a:gs>
              <a:gs pos="100000">
                <a:srgbClr val="84acca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uzzle4"/>
          <p:cNvSpPr/>
          <p:nvPr/>
        </p:nvSpPr>
        <p:spPr>
          <a:xfrm>
            <a:off x="3359160" y="3567240"/>
            <a:ext cx="1392120" cy="2193840"/>
          </a:xfrm>
          <a:custGeom>
            <a:avLst/>
            <a:gdLst>
              <a:gd name="textAreaLeft" fmla="*/ 133560 w 1392120"/>
              <a:gd name="textAreaRight" fmla="*/ 1302120 w 1392120"/>
              <a:gd name="textAreaTop" fmla="*/ 575280 h 2193840"/>
              <a:gd name="textAreaBottom" fmla="*/ 1623240 h 219384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9351c9"/>
              </a:gs>
              <a:gs pos="100000">
                <a:srgbClr val="c8a6e3"/>
              </a:gs>
            </a:gsLst>
            <a:lin ang="189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uzzle1"/>
          <p:cNvSpPr/>
          <p:nvPr/>
        </p:nvSpPr>
        <p:spPr>
          <a:xfrm>
            <a:off x="2881440" y="2784600"/>
            <a:ext cx="2336760" cy="1307880"/>
          </a:xfrm>
          <a:custGeom>
            <a:avLst/>
            <a:gdLst>
              <a:gd name="textAreaLeft" fmla="*/ 658440 w 2336760"/>
              <a:gd name="textAreaRight" fmla="*/ 1745280 w 2336760"/>
              <a:gd name="textAreaTop" fmla="*/ 155520 h 1307880"/>
              <a:gd name="textAreaBottom" fmla="*/ 1184040 h 130788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3eb2ac"/>
              </a:gs>
              <a:gs pos="100000">
                <a:srgbClr val="1d5250"/>
              </a:gs>
            </a:gsLst>
            <a:lin ang="27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uzzle2"/>
          <p:cNvSpPr/>
          <p:nvPr/>
        </p:nvSpPr>
        <p:spPr>
          <a:xfrm>
            <a:off x="1565280" y="3568680"/>
            <a:ext cx="2308320" cy="1716120"/>
          </a:xfrm>
          <a:custGeom>
            <a:avLst/>
            <a:gdLst>
              <a:gd name="textAreaLeft" fmla="*/ 575640 w 2308320"/>
              <a:gd name="textAreaRight" fmla="*/ 1728720 w 2308320"/>
              <a:gd name="textAreaTop" fmla="*/ 535680 h 1716120"/>
              <a:gd name="textAreaBottom" fmla="*/ 1624320 h 17161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c7d9e7"/>
              </a:gs>
              <a:gs pos="100000">
                <a:srgbClr val="84acca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6308640" y="414036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媒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1755720" y="55008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相关研究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5613480" y="235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展销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4468680" y="549900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客户介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3398760" y="235728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行业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客户信息收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428760" y="12142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cc9d"/>
                </a:solidFill>
                <a:latin typeface="Arial"/>
                <a:ea typeface="宋体"/>
              </a:rPr>
              <a:t>客户信息收集的主要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434160" y="-1287360"/>
            <a:ext cx="1671840" cy="2575080"/>
          </a:xfrm>
          <a:prstGeom prst="rect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图片编号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2-0652(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版权管理类图片 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Right-Manage)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品牌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全景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标题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广州百届广交会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版权属性：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肖像权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(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不需要肖像权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)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即时获取规格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M(RGB),3872x2592</a:t>
            </a:r>
            <a:r>
              <a:rPr b="0" lang="zh-CN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像素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可获得尺寸：</a:t>
            </a:r>
            <a:r>
              <a:rPr b="0" lang="en-US" sz="600" spc="-1" strike="noStrike" u="sng">
                <a:solidFill>
                  <a:srgbClr val="666666"/>
                </a:solidFill>
                <a:uFillTx/>
                <a:latin typeface="Verdana"/>
                <a:ea typeface="宋体"/>
              </a:rPr>
              <a:t>28M(RGB)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9d64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39d64"/>
                </a:solidFill>
                <a:latin typeface="Arial"/>
                <a:ea typeface="宋体"/>
              </a:rPr>
              <a:t>可获得性：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1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即时获取规格为</a:t>
            </a: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2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小时内可提供的最大尺寸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2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若想获得更大图片尺寸时，请提前联系我们并确认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宋体"/>
                <a:ea typeface="宋体"/>
              </a:rPr>
              <a:t>3</a:t>
            </a: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、在您购买前，我们无法对本图片做出可获得的保证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6666"/>
                </a:solidFill>
                <a:latin typeface="宋体"/>
                <a:ea typeface="宋体"/>
              </a:rPr>
              <a:t>如果您对图片有进一步需求，请不要犹豫，联系我们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Group 52"/>
          <p:cNvGrpSpPr/>
          <p:nvPr/>
        </p:nvGrpSpPr>
        <p:grpSpPr>
          <a:xfrm>
            <a:off x="1614600" y="2709720"/>
            <a:ext cx="1747800" cy="1341720"/>
            <a:chOff x="1614600" y="2709720"/>
            <a:chExt cx="1747800" cy="1341720"/>
          </a:xfrm>
        </p:grpSpPr>
        <p:sp>
          <p:nvSpPr>
            <p:cNvPr id="633" name="AutoShape 9"/>
            <p:cNvSpPr/>
            <p:nvPr/>
          </p:nvSpPr>
          <p:spPr>
            <a:xfrm>
              <a:off x="1628640" y="2733840"/>
              <a:ext cx="1733760" cy="1317600"/>
            </a:xfrm>
            <a:prstGeom prst="hexagon">
              <a:avLst>
                <a:gd name="adj" fmla="val 2892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1614600" y="270972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1716120" y="278928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24b443"/>
                </a:gs>
                <a:gs pos="100000">
                  <a:srgbClr val="115d1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2018520" y="3124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统计资料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Group 51"/>
          <p:cNvGrpSpPr/>
          <p:nvPr/>
        </p:nvGrpSpPr>
        <p:grpSpPr>
          <a:xfrm>
            <a:off x="2924280" y="2043000"/>
            <a:ext cx="1746000" cy="1339920"/>
            <a:chOff x="2924280" y="2043000"/>
            <a:chExt cx="1746000" cy="1339920"/>
          </a:xfrm>
        </p:grpSpPr>
        <p:sp>
          <p:nvSpPr>
            <p:cNvPr id="638" name="AutoShape 5"/>
            <p:cNvSpPr/>
            <p:nvPr/>
          </p:nvSpPr>
          <p:spPr>
            <a:xfrm>
              <a:off x="2938320" y="2065320"/>
              <a:ext cx="1731960" cy="1317600"/>
            </a:xfrm>
            <a:prstGeom prst="hexagon">
              <a:avLst>
                <a:gd name="adj" fmla="val 28919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AutoShape 6"/>
            <p:cNvSpPr/>
            <p:nvPr/>
          </p:nvSpPr>
          <p:spPr>
            <a:xfrm>
              <a:off x="2924280" y="2043000"/>
              <a:ext cx="1731960" cy="1317600"/>
            </a:xfrm>
            <a:prstGeom prst="hexagon">
              <a:avLst>
                <a:gd name="adj" fmla="val 28919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7"/>
            <p:cNvSpPr/>
            <p:nvPr/>
          </p:nvSpPr>
          <p:spPr>
            <a:xfrm>
              <a:off x="3025800" y="2122560"/>
              <a:ext cx="1520640" cy="1158840"/>
            </a:xfrm>
            <a:prstGeom prst="hexagon">
              <a:avLst>
                <a:gd name="adj" fmla="val 28868"/>
                <a:gd name="vf" fmla="val 115470"/>
              </a:avLst>
            </a:prstGeom>
            <a:gradFill rotWithShape="0">
              <a:gsLst>
                <a:gs pos="0">
                  <a:srgbClr val="7262ec"/>
                </a:gs>
                <a:gs pos="100000">
                  <a:srgbClr val="2614aa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Text Box 13"/>
            <p:cNvSpPr/>
            <p:nvPr/>
          </p:nvSpPr>
          <p:spPr>
            <a:xfrm>
              <a:off x="3501360" y="2500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观察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Group 55"/>
          <p:cNvGrpSpPr/>
          <p:nvPr/>
        </p:nvGrpSpPr>
        <p:grpSpPr>
          <a:xfrm>
            <a:off x="4327560" y="3992400"/>
            <a:ext cx="1747800" cy="1339920"/>
            <a:chOff x="4327560" y="3992400"/>
            <a:chExt cx="1747800" cy="1339920"/>
          </a:xfrm>
        </p:grpSpPr>
        <p:sp>
          <p:nvSpPr>
            <p:cNvPr id="643" name="AutoShape 9"/>
            <p:cNvSpPr/>
            <p:nvPr/>
          </p:nvSpPr>
          <p:spPr>
            <a:xfrm>
              <a:off x="4341960" y="401472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10"/>
            <p:cNvSpPr/>
            <p:nvPr/>
          </p:nvSpPr>
          <p:spPr>
            <a:xfrm>
              <a:off x="4327560" y="3992400"/>
              <a:ext cx="1733400" cy="13179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11"/>
            <p:cNvSpPr/>
            <p:nvPr/>
          </p:nvSpPr>
          <p:spPr>
            <a:xfrm>
              <a:off x="4429080" y="407196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24b443"/>
                </a:gs>
                <a:gs pos="100000">
                  <a:srgbClr val="115d1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Text Box 13"/>
            <p:cNvSpPr/>
            <p:nvPr/>
          </p:nvSpPr>
          <p:spPr>
            <a:xfrm>
              <a:off x="4858560" y="4406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视听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59"/>
          <p:cNvGrpSpPr/>
          <p:nvPr/>
        </p:nvGrpSpPr>
        <p:grpSpPr>
          <a:xfrm>
            <a:off x="5613480" y="2063880"/>
            <a:ext cx="1747800" cy="1339560"/>
            <a:chOff x="5613480" y="2063880"/>
            <a:chExt cx="1747800" cy="1339560"/>
          </a:xfrm>
        </p:grpSpPr>
        <p:sp>
          <p:nvSpPr>
            <p:cNvPr id="648" name="AutoShape 9"/>
            <p:cNvSpPr/>
            <p:nvPr/>
          </p:nvSpPr>
          <p:spPr>
            <a:xfrm>
              <a:off x="5627520" y="2085840"/>
              <a:ext cx="1733760" cy="1317600"/>
            </a:xfrm>
            <a:prstGeom prst="hexagon">
              <a:avLst>
                <a:gd name="adj" fmla="val 2892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AutoShape 10"/>
            <p:cNvSpPr/>
            <p:nvPr/>
          </p:nvSpPr>
          <p:spPr>
            <a:xfrm>
              <a:off x="5613480" y="206388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>
              <a:off x="5715000" y="214308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24b443"/>
                </a:gs>
                <a:gs pos="100000">
                  <a:srgbClr val="115d1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3"/>
            <p:cNvSpPr/>
            <p:nvPr/>
          </p:nvSpPr>
          <p:spPr>
            <a:xfrm>
              <a:off x="6144480" y="24782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加工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2" name="Group 62"/>
          <p:cNvGrpSpPr/>
          <p:nvPr/>
        </p:nvGrpSpPr>
        <p:grpSpPr>
          <a:xfrm>
            <a:off x="4253040" y="2712960"/>
            <a:ext cx="1747800" cy="1341360"/>
            <a:chOff x="4253040" y="2712960"/>
            <a:chExt cx="1747800" cy="1341360"/>
          </a:xfrm>
        </p:grpSpPr>
        <p:sp>
          <p:nvSpPr>
            <p:cNvPr id="653" name="AutoShape 15"/>
            <p:cNvSpPr/>
            <p:nvPr/>
          </p:nvSpPr>
          <p:spPr>
            <a:xfrm>
              <a:off x="4267080" y="2736720"/>
              <a:ext cx="1733760" cy="1317600"/>
            </a:xfrm>
            <a:prstGeom prst="hexagon">
              <a:avLst>
                <a:gd name="adj" fmla="val 2892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AutoShape 16"/>
            <p:cNvSpPr/>
            <p:nvPr/>
          </p:nvSpPr>
          <p:spPr>
            <a:xfrm>
              <a:off x="4253040" y="271296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AutoShape 17"/>
            <p:cNvSpPr/>
            <p:nvPr/>
          </p:nvSpPr>
          <p:spPr>
            <a:xfrm>
              <a:off x="4354560" y="2792520"/>
              <a:ext cx="1523880" cy="1158840"/>
            </a:xfrm>
            <a:prstGeom prst="hexagon">
              <a:avLst>
                <a:gd name="adj" fmla="val 28906"/>
                <a:gd name="vf" fmla="val 115470"/>
              </a:avLst>
            </a:prstGeom>
            <a:gradFill rotWithShape="0">
              <a:gsLst>
                <a:gs pos="0">
                  <a:srgbClr val="6d440e"/>
                </a:gs>
                <a:gs pos="100000">
                  <a:srgbClr val="ec94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4710240" y="30002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会议现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收集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7" name="Group 67"/>
          <p:cNvGrpSpPr/>
          <p:nvPr/>
        </p:nvGrpSpPr>
        <p:grpSpPr>
          <a:xfrm>
            <a:off x="2935440" y="3375000"/>
            <a:ext cx="1747800" cy="1339920"/>
            <a:chOff x="2935440" y="3375000"/>
            <a:chExt cx="1747800" cy="1339920"/>
          </a:xfrm>
        </p:grpSpPr>
        <p:sp>
          <p:nvSpPr>
            <p:cNvPr id="658" name="AutoShape 20"/>
            <p:cNvSpPr/>
            <p:nvPr/>
          </p:nvSpPr>
          <p:spPr>
            <a:xfrm>
              <a:off x="2949480" y="3397320"/>
              <a:ext cx="1733760" cy="1317600"/>
            </a:xfrm>
            <a:prstGeom prst="hexagon">
              <a:avLst>
                <a:gd name="adj" fmla="val 2892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AutoShape 21"/>
            <p:cNvSpPr/>
            <p:nvPr/>
          </p:nvSpPr>
          <p:spPr>
            <a:xfrm>
              <a:off x="2935440" y="337500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22"/>
            <p:cNvSpPr/>
            <p:nvPr/>
          </p:nvSpPr>
          <p:spPr>
            <a:xfrm>
              <a:off x="3036960" y="3454560"/>
              <a:ext cx="1523880" cy="1158840"/>
            </a:xfrm>
            <a:prstGeom prst="hexagon">
              <a:avLst>
                <a:gd name="adj" fmla="val 28906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Text Box 13"/>
            <p:cNvSpPr/>
            <p:nvPr/>
          </p:nvSpPr>
          <p:spPr>
            <a:xfrm>
              <a:off x="3458520" y="3786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阅读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Group 72"/>
          <p:cNvGrpSpPr/>
          <p:nvPr/>
        </p:nvGrpSpPr>
        <p:grpSpPr>
          <a:xfrm>
            <a:off x="3000240" y="4643280"/>
            <a:ext cx="1747800" cy="1339920"/>
            <a:chOff x="3000240" y="4643280"/>
            <a:chExt cx="1747800" cy="1339920"/>
          </a:xfrm>
        </p:grpSpPr>
        <p:sp>
          <p:nvSpPr>
            <p:cNvPr id="663" name="AutoShape 15"/>
            <p:cNvSpPr/>
            <p:nvPr/>
          </p:nvSpPr>
          <p:spPr>
            <a:xfrm>
              <a:off x="3014640" y="466560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AutoShape 16"/>
            <p:cNvSpPr/>
            <p:nvPr/>
          </p:nvSpPr>
          <p:spPr>
            <a:xfrm>
              <a:off x="3000240" y="4643280"/>
              <a:ext cx="1733760" cy="131796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AutoShape 17"/>
            <p:cNvSpPr/>
            <p:nvPr/>
          </p:nvSpPr>
          <p:spPr>
            <a:xfrm>
              <a:off x="3102120" y="472284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6d440e"/>
                </a:gs>
                <a:gs pos="100000">
                  <a:srgbClr val="ec94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Text Box 13"/>
            <p:cNvSpPr/>
            <p:nvPr/>
          </p:nvSpPr>
          <p:spPr>
            <a:xfrm>
              <a:off x="3572640" y="51004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购买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Group 77"/>
          <p:cNvGrpSpPr/>
          <p:nvPr/>
        </p:nvGrpSpPr>
        <p:grpSpPr>
          <a:xfrm>
            <a:off x="5684760" y="4635360"/>
            <a:ext cx="1747800" cy="1339920"/>
            <a:chOff x="5684760" y="4635360"/>
            <a:chExt cx="1747800" cy="1339920"/>
          </a:xfrm>
        </p:grpSpPr>
        <p:sp>
          <p:nvSpPr>
            <p:cNvPr id="668" name="AutoShape 20"/>
            <p:cNvSpPr/>
            <p:nvPr/>
          </p:nvSpPr>
          <p:spPr>
            <a:xfrm>
              <a:off x="5699160" y="465768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AutoShape 21"/>
            <p:cNvSpPr/>
            <p:nvPr/>
          </p:nvSpPr>
          <p:spPr>
            <a:xfrm>
              <a:off x="5684760" y="4635360"/>
              <a:ext cx="1733760" cy="13176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AutoShape 22"/>
            <p:cNvSpPr/>
            <p:nvPr/>
          </p:nvSpPr>
          <p:spPr>
            <a:xfrm>
              <a:off x="5786280" y="471492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3"/>
            <p:cNvSpPr/>
            <p:nvPr/>
          </p:nvSpPr>
          <p:spPr>
            <a:xfrm>
              <a:off x="6209640" y="5046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聘请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2" name="Group 82"/>
          <p:cNvGrpSpPr/>
          <p:nvPr/>
        </p:nvGrpSpPr>
        <p:grpSpPr>
          <a:xfrm>
            <a:off x="5613480" y="3349800"/>
            <a:ext cx="1746000" cy="1339560"/>
            <a:chOff x="5613480" y="3349800"/>
            <a:chExt cx="1746000" cy="1339560"/>
          </a:xfrm>
        </p:grpSpPr>
        <p:sp>
          <p:nvSpPr>
            <p:cNvPr id="673" name="AutoShape 5"/>
            <p:cNvSpPr/>
            <p:nvPr/>
          </p:nvSpPr>
          <p:spPr>
            <a:xfrm>
              <a:off x="5627520" y="3371760"/>
              <a:ext cx="1731960" cy="1317600"/>
            </a:xfrm>
            <a:prstGeom prst="hexagon">
              <a:avLst>
                <a:gd name="adj" fmla="val 28919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AutoShape 6"/>
            <p:cNvSpPr/>
            <p:nvPr/>
          </p:nvSpPr>
          <p:spPr>
            <a:xfrm>
              <a:off x="5613480" y="3349800"/>
              <a:ext cx="1731960" cy="1317600"/>
            </a:xfrm>
            <a:prstGeom prst="hexagon">
              <a:avLst>
                <a:gd name="adj" fmla="val 28919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AutoShape 7"/>
            <p:cNvSpPr/>
            <p:nvPr/>
          </p:nvSpPr>
          <p:spPr>
            <a:xfrm>
              <a:off x="5715000" y="3429000"/>
              <a:ext cx="1522440" cy="1158840"/>
            </a:xfrm>
            <a:prstGeom prst="hexagon">
              <a:avLst>
                <a:gd name="adj" fmla="val 28903"/>
                <a:gd name="vf" fmla="val 115470"/>
              </a:avLst>
            </a:prstGeom>
            <a:gradFill rotWithShape="0">
              <a:gsLst>
                <a:gs pos="0">
                  <a:srgbClr val="7262ec"/>
                </a:gs>
                <a:gs pos="100000">
                  <a:srgbClr val="2614aa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 Box 13"/>
            <p:cNvSpPr/>
            <p:nvPr/>
          </p:nvSpPr>
          <p:spPr>
            <a:xfrm>
              <a:off x="6174720" y="364320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多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沟通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7" name="Group 87"/>
          <p:cNvGrpSpPr/>
          <p:nvPr/>
        </p:nvGrpSpPr>
        <p:grpSpPr>
          <a:xfrm>
            <a:off x="6970680" y="2706840"/>
            <a:ext cx="1747800" cy="1339560"/>
            <a:chOff x="6970680" y="2706840"/>
            <a:chExt cx="1747800" cy="1339560"/>
          </a:xfrm>
        </p:grpSpPr>
        <p:sp>
          <p:nvSpPr>
            <p:cNvPr id="678" name="AutoShape 20"/>
            <p:cNvSpPr/>
            <p:nvPr/>
          </p:nvSpPr>
          <p:spPr>
            <a:xfrm>
              <a:off x="6985080" y="272880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AutoShape 21"/>
            <p:cNvSpPr/>
            <p:nvPr/>
          </p:nvSpPr>
          <p:spPr>
            <a:xfrm>
              <a:off x="6970680" y="2706840"/>
              <a:ext cx="1733760" cy="13176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AutoShape 22"/>
            <p:cNvSpPr/>
            <p:nvPr/>
          </p:nvSpPr>
          <p:spPr>
            <a:xfrm>
              <a:off x="7072200" y="278604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3"/>
            <p:cNvSpPr/>
            <p:nvPr/>
          </p:nvSpPr>
          <p:spPr>
            <a:xfrm>
              <a:off x="7376400" y="31417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网络收集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2" name="Group 92"/>
          <p:cNvGrpSpPr/>
          <p:nvPr/>
        </p:nvGrpSpPr>
        <p:grpSpPr>
          <a:xfrm>
            <a:off x="6970680" y="3992400"/>
            <a:ext cx="1747800" cy="1339920"/>
            <a:chOff x="6970680" y="3992400"/>
            <a:chExt cx="1747800" cy="1339920"/>
          </a:xfrm>
        </p:grpSpPr>
        <p:sp>
          <p:nvSpPr>
            <p:cNvPr id="683" name="AutoShape 15"/>
            <p:cNvSpPr/>
            <p:nvPr/>
          </p:nvSpPr>
          <p:spPr>
            <a:xfrm>
              <a:off x="6985080" y="4014720"/>
              <a:ext cx="1733400" cy="1317600"/>
            </a:xfrm>
            <a:prstGeom prst="hexagon">
              <a:avLst>
                <a:gd name="adj" fmla="val 2891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AutoShape 16"/>
            <p:cNvSpPr/>
            <p:nvPr/>
          </p:nvSpPr>
          <p:spPr>
            <a:xfrm>
              <a:off x="6970680" y="3992400"/>
              <a:ext cx="1733760" cy="131796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utoShape 17"/>
            <p:cNvSpPr/>
            <p:nvPr/>
          </p:nvSpPr>
          <p:spPr>
            <a:xfrm>
              <a:off x="7072200" y="4071960"/>
              <a:ext cx="1522440" cy="1158840"/>
            </a:xfrm>
            <a:prstGeom prst="hexagon">
              <a:avLst>
                <a:gd name="adj" fmla="val 28878"/>
                <a:gd name="vf" fmla="val 115470"/>
              </a:avLst>
            </a:prstGeom>
            <a:gradFill rotWithShape="0">
              <a:gsLst>
                <a:gs pos="0">
                  <a:srgbClr val="6d440e"/>
                </a:gs>
                <a:gs pos="100000">
                  <a:srgbClr val="ec94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Text Box 13"/>
            <p:cNvSpPr/>
            <p:nvPr/>
          </p:nvSpPr>
          <p:spPr>
            <a:xfrm>
              <a:off x="7543080" y="432288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数据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收集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2:01:46Z</dcterms:created>
  <dc:creator>海尔</dc:creator>
  <dc:description/>
  <dc:language>en-US</dc:language>
  <cp:lastModifiedBy>刘</cp:lastModifiedBy>
  <dcterms:modified xsi:type="dcterms:W3CDTF">2023-06-20T04:43:28Z</dcterms:modified>
  <cp:revision>36</cp:revision>
  <dc:subject/>
  <dc:title>PowerPoint Template</dc:title>
</cp:coreProperties>
</file>