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269-1715-461E-8F70-C6717DDA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738-2517-4BCB-9FD6-81952C97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D97-FAC5-4260-B123-D5926FFD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16F-7A6E-4493-8141-C0C2A5FE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A62F1-C7AD-46C9-8EB6-A10FA379A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94EAE-39E0-4DC7-AE3C-1C74B5C7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DFEBB-A87C-48EF-81B7-6301A455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E16CD-CA78-4135-B627-2F7907B5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E3B9C-2862-4D02-9FBC-ED9F9D4F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38BB9-D505-4FAC-BAF4-9E11BFDA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A4417-B094-45A7-899A-8CDB57DA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68F-2341-4A87-9E8E-F3070BB4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42CEF-1E8D-485B-B608-354DBF12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A363A-3B19-4338-BB84-ED853131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1E54A-5EDE-4410-967F-B05EB691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A5E10-D66D-4422-938B-D765458A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0DEA2-D425-4251-85F6-5C5CADBC2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216-03B4-4CFC-A90F-445B9D3F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242-3776-4A76-9E6B-6FBCDA5C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2F2-F15A-4275-99A6-BD073F3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F1D-BA32-4ADB-A3FA-5F14E820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99D-E2E6-4391-AAB9-A59A124A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612-B918-4B7E-995C-14BB1552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CD9-634B-4995-97B4-ACB33DDB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7"/>
          <p:cNvGraphicFramePr/>
          <p:nvPr/>
        </p:nvGraphicFramePr>
        <p:xfrm>
          <a:off x="0" y="0"/>
          <a:ext cx="91440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28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29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30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31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a2068"/>
              </a:gs>
              <a:gs pos="50000">
                <a:srgbClr val="2f7adf"/>
              </a:gs>
              <a:gs pos="100000">
                <a:srgbClr val="0a20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32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96A7-2524-4A27-8B1F-EE76460D269A}" type="slidenum">
              <a:rPr b="0" lang="zh-CN" sz="12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4"/>
          <p:cNvGraphicFramePr/>
          <p:nvPr/>
        </p:nvGraphicFramePr>
        <p:xfrm>
          <a:off x="0" y="0"/>
          <a:ext cx="502920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029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Freeform 25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221431"/>
              </a:gs>
              <a:gs pos="100000">
                <a:srgbClr val="8a52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26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27"/>
          <p:cNvSpPr/>
          <p:nvPr/>
        </p:nvSpPr>
        <p:spPr>
          <a:xfrm>
            <a:off x="2230560" y="-22320"/>
            <a:ext cx="6946920" cy="688824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gradFill rotWithShape="0">
            <a:gsLst>
              <a:gs pos="0">
                <a:srgbClr val="0a2068"/>
              </a:gs>
              <a:gs pos="100000">
                <a:srgbClr val="2f7a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33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fddd0"/>
              </a:gs>
              <a:gs pos="100000">
                <a:srgbClr val="c483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9615-FFEA-49BD-AE28-84327CDFD987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29983;&#20135;&#20225;&#19994;&#37096;&#38376;&#30340;&#32844;&#33021;.doc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21152;&#24037;&#21512;&#21516;.doc" TargetMode="External"/><Relationship Id="rId2" Type="http://schemas.openxmlformats.org/officeDocument/2006/relationships/hyperlink" Target="file:///&#21152;&#24037;&#21512;&#21516;.doc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20986;&#21475;&#21830;&#23457;&#26680;&#20449;&#29992;&#35777;&#23454;&#20363;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1640" y="2491920"/>
            <a:ext cx="4321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5d9f7"/>
                </a:solidFill>
                <a:latin typeface="Arial"/>
                <a:ea typeface="宋体"/>
              </a:rPr>
              <a:t>项目三</a:t>
            </a:r>
            <a:br>
              <a:rPr sz="48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选择企业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签订加工生产合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任务二  选择生产企业与签订加工合同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2514600" y="414036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2f7adf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a2068"/>
                </a:solidFill>
                <a:latin typeface="Arial"/>
                <a:ea typeface="宋体"/>
              </a:rPr>
              <a:t>四、签订加工合同实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2482920" y="337824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ab14b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a2068"/>
                </a:solidFill>
                <a:latin typeface="Arial"/>
                <a:ea typeface="宋体"/>
              </a:rPr>
              <a:t>三、签订加工合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482920" y="261612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2f7adf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a2068"/>
                </a:solidFill>
                <a:latin typeface="Arial"/>
                <a:ea typeface="宋体"/>
              </a:rPr>
              <a:t>二、选择生产企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2495520" y="184644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ab14b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a2068"/>
                </a:solidFill>
                <a:latin typeface="Arial"/>
                <a:ea typeface="宋体"/>
              </a:rPr>
              <a:t>一、认识生产企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2178000" y="1935000"/>
            <a:ext cx="380880" cy="381240"/>
            <a:chOff x="2178000" y="1935000"/>
            <a:chExt cx="380880" cy="381240"/>
          </a:xfrm>
        </p:grpSpPr>
        <p:sp>
          <p:nvSpPr>
            <p:cNvPr id="204" name="Oval 9"/>
            <p:cNvSpPr/>
            <p:nvPr/>
          </p:nvSpPr>
          <p:spPr>
            <a:xfrm>
              <a:off x="2178000" y="19350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10"/>
            <p:cNvSpPr/>
            <p:nvPr/>
          </p:nvSpPr>
          <p:spPr>
            <a:xfrm>
              <a:off x="2199600" y="19562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1"/>
            <p:cNvSpPr/>
            <p:nvPr/>
          </p:nvSpPr>
          <p:spPr>
            <a:xfrm>
              <a:off x="2219400" y="1976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2"/>
            <p:cNvSpPr/>
            <p:nvPr/>
          </p:nvSpPr>
          <p:spPr>
            <a:xfrm>
              <a:off x="2219400" y="1976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13"/>
            <p:cNvSpPr/>
            <p:nvPr/>
          </p:nvSpPr>
          <p:spPr>
            <a:xfrm>
              <a:off x="2238840" y="1995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4"/>
            <p:cNvSpPr/>
            <p:nvPr/>
          </p:nvSpPr>
          <p:spPr>
            <a:xfrm>
              <a:off x="2238840" y="1995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2178000" y="2722680"/>
            <a:ext cx="380880" cy="380880"/>
            <a:chOff x="2178000" y="2722680"/>
            <a:chExt cx="380880" cy="380880"/>
          </a:xfrm>
        </p:grpSpPr>
        <p:sp>
          <p:nvSpPr>
            <p:cNvPr id="211" name="Oval 16"/>
            <p:cNvSpPr/>
            <p:nvPr/>
          </p:nvSpPr>
          <p:spPr>
            <a:xfrm>
              <a:off x="2178000" y="27226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7"/>
            <p:cNvSpPr/>
            <p:nvPr/>
          </p:nvSpPr>
          <p:spPr>
            <a:xfrm>
              <a:off x="2199600" y="27439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18"/>
            <p:cNvSpPr/>
            <p:nvPr/>
          </p:nvSpPr>
          <p:spPr>
            <a:xfrm>
              <a:off x="2219400" y="27640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9"/>
            <p:cNvSpPr/>
            <p:nvPr/>
          </p:nvSpPr>
          <p:spPr>
            <a:xfrm>
              <a:off x="2219400" y="27640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0"/>
            <p:cNvSpPr/>
            <p:nvPr/>
          </p:nvSpPr>
          <p:spPr>
            <a:xfrm>
              <a:off x="2238840" y="27835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21"/>
            <p:cNvSpPr/>
            <p:nvPr/>
          </p:nvSpPr>
          <p:spPr>
            <a:xfrm>
              <a:off x="2238840" y="27835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22"/>
          <p:cNvGrpSpPr/>
          <p:nvPr/>
        </p:nvGrpSpPr>
        <p:grpSpPr>
          <a:xfrm>
            <a:off x="2178000" y="3454560"/>
            <a:ext cx="380880" cy="380880"/>
            <a:chOff x="2178000" y="3454560"/>
            <a:chExt cx="380880" cy="380880"/>
          </a:xfrm>
        </p:grpSpPr>
        <p:sp>
          <p:nvSpPr>
            <p:cNvPr id="218" name="Oval 23"/>
            <p:cNvSpPr/>
            <p:nvPr/>
          </p:nvSpPr>
          <p:spPr>
            <a:xfrm>
              <a:off x="2178000" y="34545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24"/>
            <p:cNvSpPr/>
            <p:nvPr/>
          </p:nvSpPr>
          <p:spPr>
            <a:xfrm>
              <a:off x="2199600" y="34758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25"/>
            <p:cNvSpPr/>
            <p:nvPr/>
          </p:nvSpPr>
          <p:spPr>
            <a:xfrm>
              <a:off x="2219400" y="34959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2219400" y="34959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27"/>
            <p:cNvSpPr/>
            <p:nvPr/>
          </p:nvSpPr>
          <p:spPr>
            <a:xfrm>
              <a:off x="2238840" y="35154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2238840" y="35154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29"/>
          <p:cNvGrpSpPr/>
          <p:nvPr/>
        </p:nvGrpSpPr>
        <p:grpSpPr>
          <a:xfrm>
            <a:off x="2178000" y="4241880"/>
            <a:ext cx="380880" cy="380880"/>
            <a:chOff x="2178000" y="4241880"/>
            <a:chExt cx="380880" cy="380880"/>
          </a:xfrm>
        </p:grpSpPr>
        <p:sp>
          <p:nvSpPr>
            <p:cNvPr id="225" name="Oval 30"/>
            <p:cNvSpPr/>
            <p:nvPr/>
          </p:nvSpPr>
          <p:spPr>
            <a:xfrm>
              <a:off x="2178000" y="4241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31"/>
            <p:cNvSpPr/>
            <p:nvPr/>
          </p:nvSpPr>
          <p:spPr>
            <a:xfrm>
              <a:off x="2199600" y="4263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32"/>
            <p:cNvSpPr/>
            <p:nvPr/>
          </p:nvSpPr>
          <p:spPr>
            <a:xfrm>
              <a:off x="2219400" y="4283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2219400" y="4283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34"/>
            <p:cNvSpPr/>
            <p:nvPr/>
          </p:nvSpPr>
          <p:spPr>
            <a:xfrm>
              <a:off x="2238840" y="4302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35"/>
            <p:cNvSpPr/>
            <p:nvPr/>
          </p:nvSpPr>
          <p:spPr>
            <a:xfrm>
              <a:off x="2238840" y="4302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认识生产企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企业的含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企业通常是指从事生产、流通或服务等活动，为满足社会需要进行自主经营、自负盈亏、承担风险、实行独立核算，具有法人资格的基本经济单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认识生产企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生产企业的含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生产企业是应用科学技术并借助于一定的生产设备，对原料或原材料进行培植加工，使其改变形状或性能为社会提供产品，从而追求利润的生产经济组织，其包含工业企业和农业企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具备的要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5d9f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5d9f7"/>
                </a:solidFill>
                <a:latin typeface="Arial"/>
                <a:ea typeface="宋体"/>
              </a:rPr>
              <a:t>拥有一定数量、一定技术水平的生产设备和资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5d9f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5d9f7"/>
                </a:solidFill>
                <a:latin typeface="Arial"/>
                <a:ea typeface="宋体"/>
              </a:rPr>
              <a:t>具有开展一定生产规模和经营活动的场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5d9f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5d9f7"/>
                </a:solidFill>
                <a:latin typeface="Arial"/>
                <a:ea typeface="宋体"/>
              </a:rPr>
              <a:t>具有一定技能、一定数量的生产者和经营管理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5d9f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5d9f7"/>
                </a:solidFill>
                <a:latin typeface="Arial"/>
                <a:ea typeface="宋体"/>
              </a:rPr>
              <a:t>从事社会商品的生产、流通等经济活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5d9f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5d9f7"/>
                </a:solidFill>
                <a:latin typeface="Arial"/>
                <a:ea typeface="宋体"/>
              </a:rPr>
              <a:t>进行自主经营，独立核算，并具有法人地位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349"/>
              </a:spcBef>
              <a:buClr>
                <a:srgbClr val="85d9f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5d9f7"/>
                </a:solidFill>
                <a:latin typeface="Arial"/>
                <a:ea typeface="宋体"/>
              </a:rPr>
              <a:t>生产经营活动的目的是获取利润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f4e59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4e59c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f4e59c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认识生产企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生产企业的分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5d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5d9f7"/>
                </a:solidFill>
                <a:latin typeface="Arial"/>
                <a:ea typeface="宋体"/>
              </a:rPr>
              <a:t>按生产依据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f4e5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需求计划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f4e5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订单生产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f4e5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计划订单混合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5d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5d9f7"/>
                </a:solidFill>
                <a:latin typeface="Arial"/>
                <a:ea typeface="宋体"/>
              </a:rPr>
              <a:t>按生产企业性质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f4e5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内资企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f4e5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外商投资企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f4e5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港、澳、台商投资企业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85d9f7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认识生产企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11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生产企业的部门结构及其职能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5d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5d9f7"/>
                </a:solidFill>
                <a:latin typeface="Arial"/>
                <a:ea typeface="宋体"/>
              </a:rPr>
              <a:t>生产企业的部门结构</a:t>
            </a:r>
            <a:r>
              <a:rPr b="0" lang="zh-CN" sz="2400" spc="-1" strike="noStrike">
                <a:solidFill>
                  <a:srgbClr val="85d9f7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2073240" y="22719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3924360" y="2421000"/>
            <a:ext cx="1655640" cy="503280"/>
          </a:xfrm>
          <a:prstGeom prst="rect">
            <a:avLst/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董事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4183200" y="3213000"/>
            <a:ext cx="1224000" cy="503280"/>
          </a:xfrm>
          <a:prstGeom prst="rect">
            <a:avLst/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总经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4773600" y="292428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41"/>
          <p:cNvSpPr/>
          <p:nvPr/>
        </p:nvSpPr>
        <p:spPr>
          <a:xfrm>
            <a:off x="4773600" y="371628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42"/>
          <p:cNvSpPr/>
          <p:nvPr/>
        </p:nvSpPr>
        <p:spPr>
          <a:xfrm>
            <a:off x="1776240" y="3990960"/>
            <a:ext cx="619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50"/>
          <p:cNvSpPr/>
          <p:nvPr/>
        </p:nvSpPr>
        <p:spPr>
          <a:xfrm>
            <a:off x="7954920" y="4005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7753320" y="4365720"/>
            <a:ext cx="43200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财务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52"/>
          <p:cNvSpPr/>
          <p:nvPr/>
        </p:nvSpPr>
        <p:spPr>
          <a:xfrm>
            <a:off x="7048440" y="4365720"/>
            <a:ext cx="43200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行政人事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3"/>
          <p:cNvSpPr/>
          <p:nvPr/>
        </p:nvSpPr>
        <p:spPr>
          <a:xfrm>
            <a:off x="6257880" y="4365720"/>
            <a:ext cx="43200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技术研发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4"/>
          <p:cNvSpPr/>
          <p:nvPr/>
        </p:nvSpPr>
        <p:spPr>
          <a:xfrm>
            <a:off x="5597640" y="4365720"/>
            <a:ext cx="43164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设备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5"/>
          <p:cNvSpPr/>
          <p:nvPr/>
        </p:nvSpPr>
        <p:spPr>
          <a:xfrm>
            <a:off x="4890960" y="4365720"/>
            <a:ext cx="43200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仓储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6"/>
          <p:cNvSpPr/>
          <p:nvPr/>
        </p:nvSpPr>
        <p:spPr>
          <a:xfrm>
            <a:off x="4213080" y="4365720"/>
            <a:ext cx="43200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品管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7"/>
          <p:cNvSpPr/>
          <p:nvPr/>
        </p:nvSpPr>
        <p:spPr>
          <a:xfrm>
            <a:off x="3535200" y="4365720"/>
            <a:ext cx="43200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制造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8"/>
          <p:cNvSpPr/>
          <p:nvPr/>
        </p:nvSpPr>
        <p:spPr>
          <a:xfrm>
            <a:off x="2886120" y="4365720"/>
            <a:ext cx="43164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生管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9"/>
          <p:cNvSpPr/>
          <p:nvPr/>
        </p:nvSpPr>
        <p:spPr>
          <a:xfrm>
            <a:off x="2238480" y="4365720"/>
            <a:ext cx="43164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采购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0"/>
          <p:cNvSpPr/>
          <p:nvPr/>
        </p:nvSpPr>
        <p:spPr>
          <a:xfrm>
            <a:off x="1589040" y="4365720"/>
            <a:ext cx="432000" cy="17272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业务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61"/>
          <p:cNvSpPr/>
          <p:nvPr/>
        </p:nvSpPr>
        <p:spPr>
          <a:xfrm>
            <a:off x="7278840" y="4005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62"/>
          <p:cNvSpPr/>
          <p:nvPr/>
        </p:nvSpPr>
        <p:spPr>
          <a:xfrm>
            <a:off x="6470640" y="4005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63"/>
          <p:cNvSpPr/>
          <p:nvPr/>
        </p:nvSpPr>
        <p:spPr>
          <a:xfrm>
            <a:off x="5808600" y="4005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64"/>
          <p:cNvSpPr/>
          <p:nvPr/>
        </p:nvSpPr>
        <p:spPr>
          <a:xfrm>
            <a:off x="5103720" y="4005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5"/>
          <p:cNvSpPr/>
          <p:nvPr/>
        </p:nvSpPr>
        <p:spPr>
          <a:xfrm>
            <a:off x="3749760" y="4005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66"/>
          <p:cNvSpPr/>
          <p:nvPr/>
        </p:nvSpPr>
        <p:spPr>
          <a:xfrm>
            <a:off x="2454120" y="4005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67"/>
          <p:cNvSpPr/>
          <p:nvPr/>
        </p:nvSpPr>
        <p:spPr>
          <a:xfrm>
            <a:off x="1792440" y="4005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8"/>
          <p:cNvSpPr/>
          <p:nvPr/>
        </p:nvSpPr>
        <p:spPr>
          <a:xfrm>
            <a:off x="3102120" y="4005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69"/>
          <p:cNvSpPr/>
          <p:nvPr/>
        </p:nvSpPr>
        <p:spPr>
          <a:xfrm>
            <a:off x="4440240" y="39909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认识生产企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5d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5d9f7"/>
                </a:solidFill>
                <a:latin typeface="Arial"/>
                <a:ea typeface="宋体"/>
              </a:rPr>
              <a:t>生产企业部门的职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链接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选择生产企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5d9f7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获取生产企业信息的基本途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利用商务网站对有关商品生产企业进行搜索，获取相关产品和企业的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参加国内外产品展销会或政府组织的各类商品订货会，直接了解产品和企业的有关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查阅国内外采购指南、各类出版物品的厂商名录和电信黄页等，寻找相关产品和企业的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通过国内外各种商联会或同业协会，掌握相关产品和企业的信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选择生产企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5d9f7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选择生产企业的基本方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1n-18849"/>
          <p:cNvPicPr/>
          <p:nvPr/>
        </p:nvPicPr>
        <p:blipFill>
          <a:blip r:embed="rId1"/>
          <a:stretch/>
        </p:blipFill>
        <p:spPr>
          <a:xfrm>
            <a:off x="7920" y="1989000"/>
            <a:ext cx="1820880" cy="2729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s669-040"/>
          <p:cNvPicPr/>
          <p:nvPr/>
        </p:nvPicPr>
        <p:blipFill>
          <a:blip r:embed="rId2"/>
          <a:stretch/>
        </p:blipFill>
        <p:spPr>
          <a:xfrm>
            <a:off x="1909800" y="3130560"/>
            <a:ext cx="2012760" cy="2663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mf700-01119807"/>
          <p:cNvPicPr/>
          <p:nvPr/>
        </p:nvPicPr>
        <p:blipFill>
          <a:blip r:embed="rId3"/>
          <a:srcRect l="0" t="0" r="39507" b="0"/>
          <a:stretch/>
        </p:blipFill>
        <p:spPr>
          <a:xfrm>
            <a:off x="4013280" y="2060640"/>
            <a:ext cx="2305080" cy="2543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j64-210098"/>
          <p:cNvPicPr/>
          <p:nvPr/>
        </p:nvPicPr>
        <p:blipFill>
          <a:blip r:embed="rId4"/>
          <a:stretch/>
        </p:blipFill>
        <p:spPr>
          <a:xfrm>
            <a:off x="6372360" y="2392200"/>
            <a:ext cx="2736720" cy="17798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3"/>
          <p:cNvSpPr/>
          <p:nvPr/>
        </p:nvSpPr>
        <p:spPr>
          <a:xfrm>
            <a:off x="446040" y="480060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望”，即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4652640" y="468648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问”为询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7284960" y="424980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切”是判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2390400" y="58910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闻”，即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选择生产企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5d9f7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选择生产企业应注意的问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关注生产企业的信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采取试样的方法了解生产企业的实际工艺水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不宜将大的外贸单子或工序复杂的订单放在一家生产企业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维护好与生产企业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4e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核实生产企业的法人公章与合同专用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签订加工合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口商选择好加工生产企业后，向该厂家订货，签订加工合同，委托其按合同或信用证的要求进行生产和包装，并将运输标志清晰地刷在外包装的两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与考证要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口商审核信用证的依据与主要内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熟悉生产企业分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选择生产企业的基本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获取生产企业信息的基本途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选择生产企业应注意的问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签订加工合同实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圆圆贸易公司根据收集到的信息，对各家生产企业的规模、设备和技术等条件进行分析，最后选定苏州服装有限公司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恤衫加工单位。为此，双方经过洽谈，达成一致后签订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恤衫加工合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5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链接：加工合同</a:t>
            </a:r>
            <a:r>
              <a:rPr b="0" lang="en-US" sz="24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3"/>
          <p:cNvSpPr txBox="1"/>
          <p:nvPr/>
        </p:nvSpPr>
        <p:spPr>
          <a:xfrm>
            <a:off x="4800600" y="3124080"/>
            <a:ext cx="3809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业务背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贸易合同签订后，进口商按照合同规定的时间向出口商开立不可撤销跟单信用证。对此，出口商要认真做好审证工作，对不能接受的信用证条款，提出改正。如无异议，开始选择合适的生产企业，了解生产企业的规模和生产能力，并签订加工合同。通常，这一重担主要是由跟单员担挑。信用证条款内容繁多，企业的生产规模有大有小，产品的种类五花八门。为此，圆圆小姐先要审核信用证，再从了解生产企业入手，掌握选择优秀生产企业和订立加工合同的方法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482920" y="292104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2f7adf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a2068"/>
                </a:solidFill>
                <a:latin typeface="Arial"/>
                <a:ea typeface="宋体"/>
              </a:rPr>
              <a:t>任务二   选择生产企业与签订加工合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495520" y="215100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ab14b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a2068"/>
                </a:solidFill>
                <a:latin typeface="Arial"/>
                <a:ea typeface="宋体"/>
              </a:rPr>
              <a:t>任务一   审核信用证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2178000" y="2239920"/>
            <a:ext cx="380880" cy="380880"/>
            <a:chOff x="2178000" y="2239920"/>
            <a:chExt cx="380880" cy="380880"/>
          </a:xfrm>
        </p:grpSpPr>
        <p:sp>
          <p:nvSpPr>
            <p:cNvPr id="103" name="Oval 9"/>
            <p:cNvSpPr/>
            <p:nvPr/>
          </p:nvSpPr>
          <p:spPr>
            <a:xfrm>
              <a:off x="2178000" y="2239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2199600" y="2261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1"/>
            <p:cNvSpPr/>
            <p:nvPr/>
          </p:nvSpPr>
          <p:spPr>
            <a:xfrm>
              <a:off x="2219400" y="2281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2"/>
            <p:cNvSpPr/>
            <p:nvPr/>
          </p:nvSpPr>
          <p:spPr>
            <a:xfrm>
              <a:off x="2219400" y="2281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3"/>
            <p:cNvSpPr/>
            <p:nvPr/>
          </p:nvSpPr>
          <p:spPr>
            <a:xfrm>
              <a:off x="2238840" y="2300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4"/>
            <p:cNvSpPr/>
            <p:nvPr/>
          </p:nvSpPr>
          <p:spPr>
            <a:xfrm>
              <a:off x="2238840" y="2300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2178000" y="3027240"/>
            <a:ext cx="380880" cy="381240"/>
            <a:chOff x="2178000" y="3027240"/>
            <a:chExt cx="380880" cy="381240"/>
          </a:xfrm>
        </p:grpSpPr>
        <p:sp>
          <p:nvSpPr>
            <p:cNvPr id="110" name="Oval 16"/>
            <p:cNvSpPr/>
            <p:nvPr/>
          </p:nvSpPr>
          <p:spPr>
            <a:xfrm>
              <a:off x="2178000" y="30272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7"/>
            <p:cNvSpPr/>
            <p:nvPr/>
          </p:nvSpPr>
          <p:spPr>
            <a:xfrm>
              <a:off x="2199600" y="304848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8"/>
            <p:cNvSpPr/>
            <p:nvPr/>
          </p:nvSpPr>
          <p:spPr>
            <a:xfrm>
              <a:off x="2219400" y="30686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9"/>
            <p:cNvSpPr/>
            <p:nvPr/>
          </p:nvSpPr>
          <p:spPr>
            <a:xfrm>
              <a:off x="2219400" y="30686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20"/>
            <p:cNvSpPr/>
            <p:nvPr/>
          </p:nvSpPr>
          <p:spPr>
            <a:xfrm>
              <a:off x="2238840" y="30880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1"/>
            <p:cNvSpPr/>
            <p:nvPr/>
          </p:nvSpPr>
          <p:spPr>
            <a:xfrm>
              <a:off x="2238840" y="30880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任务一   审核信用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24"/>
          <p:cNvSpPr/>
          <p:nvPr/>
        </p:nvSpPr>
        <p:spPr>
          <a:xfrm>
            <a:off x="2482920" y="299232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2f7adf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a2068"/>
                </a:solidFill>
                <a:latin typeface="Arial"/>
                <a:ea typeface="宋体"/>
              </a:rPr>
              <a:t>二、出口商审核信用证实例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25"/>
          <p:cNvSpPr/>
          <p:nvPr/>
        </p:nvSpPr>
        <p:spPr>
          <a:xfrm>
            <a:off x="2495520" y="222264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ab14b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a2068"/>
                </a:solidFill>
                <a:latin typeface="Arial"/>
                <a:ea typeface="宋体"/>
              </a:rPr>
              <a:t>一、出口商审核信用证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126"/>
          <p:cNvGrpSpPr/>
          <p:nvPr/>
        </p:nvGrpSpPr>
        <p:grpSpPr>
          <a:xfrm>
            <a:off x="2178000" y="2311560"/>
            <a:ext cx="380880" cy="380880"/>
            <a:chOff x="2178000" y="2311560"/>
            <a:chExt cx="380880" cy="380880"/>
          </a:xfrm>
        </p:grpSpPr>
        <p:sp>
          <p:nvSpPr>
            <p:cNvPr id="120" name="Oval 127"/>
            <p:cNvSpPr/>
            <p:nvPr/>
          </p:nvSpPr>
          <p:spPr>
            <a:xfrm>
              <a:off x="2178000" y="23115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2199600" y="23328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219400" y="23529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2219400" y="23529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2238840" y="23724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2238840" y="23724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133"/>
          <p:cNvGrpSpPr/>
          <p:nvPr/>
        </p:nvGrpSpPr>
        <p:grpSpPr>
          <a:xfrm>
            <a:off x="2178000" y="3098880"/>
            <a:ext cx="380880" cy="380880"/>
            <a:chOff x="2178000" y="3098880"/>
            <a:chExt cx="380880" cy="380880"/>
          </a:xfrm>
        </p:grpSpPr>
        <p:sp>
          <p:nvSpPr>
            <p:cNvPr id="127" name="Oval 134"/>
            <p:cNvSpPr/>
            <p:nvPr/>
          </p:nvSpPr>
          <p:spPr>
            <a:xfrm>
              <a:off x="2178000" y="3098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2199600" y="3120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2219400" y="3140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2219400" y="3140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2238840" y="3159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2238840" y="3159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出口商审核信用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960200" y="976680"/>
            <a:ext cx="11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732720" y="1989000"/>
            <a:ext cx="1726920" cy="71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进口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1989000"/>
            <a:ext cx="1727280" cy="720720"/>
          </a:xfrm>
          <a:prstGeom prst="rect">
            <a:avLst/>
          </a:prstGeom>
          <a:solidFill>
            <a:srgbClr val="5ab1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出口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desk1"/>
          <p:cNvSpPr/>
          <p:nvPr/>
        </p:nvSpPr>
        <p:spPr>
          <a:xfrm>
            <a:off x="3780000" y="1989000"/>
            <a:ext cx="1701720" cy="576360"/>
          </a:xfrm>
          <a:prstGeom prst="pi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a2068"/>
                </a:solidFill>
                <a:latin typeface="Times New Roman"/>
                <a:ea typeface="宋体"/>
              </a:rPr>
              <a:t>销售确认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2506680" y="2276640"/>
            <a:ext cx="129708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H="1">
            <a:off x="5524560" y="2276640"/>
            <a:ext cx="10634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804000" y="5410080"/>
            <a:ext cx="1728720" cy="693720"/>
          </a:xfrm>
          <a:prstGeom prst="rect">
            <a:avLst/>
          </a:prstGeom>
          <a:solidFill>
            <a:srgbClr val="8a5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开证行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付款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900000" y="5373720"/>
            <a:ext cx="1871640" cy="719280"/>
          </a:xfrm>
          <a:prstGeom prst="rect">
            <a:avLst/>
          </a:prstGeom>
          <a:solidFill>
            <a:srgbClr val="85d9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通知行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议付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12"/>
          <p:cNvGrpSpPr/>
          <p:nvPr/>
        </p:nvGrpSpPr>
        <p:grpSpPr>
          <a:xfrm>
            <a:off x="7885080" y="3116160"/>
            <a:ext cx="647640" cy="1708200"/>
            <a:chOff x="7885080" y="3116160"/>
            <a:chExt cx="647640" cy="1708200"/>
          </a:xfrm>
        </p:grpSpPr>
        <p:sp>
          <p:nvSpPr>
            <p:cNvPr id="143" name="Document"/>
            <p:cNvSpPr/>
            <p:nvPr/>
          </p:nvSpPr>
          <p:spPr>
            <a:xfrm>
              <a:off x="7885080" y="3213000"/>
              <a:ext cx="647640" cy="1511280"/>
            </a:xfrm>
            <a:custGeom>
              <a:avLst/>
              <a:gdLst>
                <a:gd name="textAreaLeft" fmla="*/ 29880 w 647640"/>
                <a:gd name="textAreaRight" fmla="*/ 617760 w 647640"/>
                <a:gd name="textAreaTop" fmla="*/ 56880 h 1511280"/>
                <a:gd name="textAreaBottom" fmla="*/ 114948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7956360" y="3116160"/>
              <a:ext cx="45468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a2068"/>
                  </a:solidFill>
                  <a:latin typeface="Arial"/>
                  <a:ea typeface="宋体"/>
                </a:rPr>
                <a:t>开证申请 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Line 15"/>
          <p:cNvSpPr/>
          <p:nvPr/>
        </p:nvSpPr>
        <p:spPr>
          <a:xfrm>
            <a:off x="8194680" y="2708280"/>
            <a:ext cx="0" cy="504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8194680" y="4797360"/>
            <a:ext cx="0" cy="5032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7148520" y="3132000"/>
            <a:ext cx="647640" cy="1708200"/>
            <a:chOff x="7148520" y="3132000"/>
            <a:chExt cx="647640" cy="1708200"/>
          </a:xfrm>
        </p:grpSpPr>
        <p:sp>
          <p:nvSpPr>
            <p:cNvPr id="148" name="Document"/>
            <p:cNvSpPr/>
            <p:nvPr/>
          </p:nvSpPr>
          <p:spPr>
            <a:xfrm>
              <a:off x="7148520" y="3228840"/>
              <a:ext cx="647640" cy="1511280"/>
            </a:xfrm>
            <a:custGeom>
              <a:avLst/>
              <a:gdLst>
                <a:gd name="textAreaLeft" fmla="*/ 29880 w 647640"/>
                <a:gd name="textAreaRight" fmla="*/ 617760 w 647640"/>
                <a:gd name="textAreaTop" fmla="*/ 56880 h 1511280"/>
                <a:gd name="textAreaBottom" fmla="*/ 114948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220160" y="3132000"/>
              <a:ext cx="45468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a2068"/>
                  </a:solidFill>
                  <a:latin typeface="Arial"/>
                  <a:ea typeface="宋体"/>
                </a:rPr>
                <a:t>信用证副本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Line 20"/>
          <p:cNvSpPr/>
          <p:nvPr/>
        </p:nvSpPr>
        <p:spPr>
          <a:xfrm>
            <a:off x="7591320" y="4797360"/>
            <a:ext cx="0" cy="504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 flipH="1" flipV="1">
            <a:off x="7591320" y="2708280"/>
            <a:ext cx="5040" cy="5047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23"/>
          <p:cNvGrpSpPr/>
          <p:nvPr/>
        </p:nvGrpSpPr>
        <p:grpSpPr>
          <a:xfrm>
            <a:off x="3714480" y="4913280"/>
            <a:ext cx="1871640" cy="531720"/>
            <a:chOff x="3714480" y="4913280"/>
            <a:chExt cx="1871640" cy="531720"/>
          </a:xfrm>
        </p:grpSpPr>
        <p:sp>
          <p:nvSpPr>
            <p:cNvPr id="153" name="Document"/>
            <p:cNvSpPr/>
            <p:nvPr/>
          </p:nvSpPr>
          <p:spPr>
            <a:xfrm rot="5400000">
              <a:off x="4384440" y="4243320"/>
              <a:ext cx="531720" cy="1871640"/>
            </a:xfrm>
            <a:custGeom>
              <a:avLst/>
              <a:gdLst>
                <a:gd name="textAreaLeft" fmla="*/ 24480 w 531720"/>
                <a:gd name="textAreaRight" fmla="*/ 507240 w 531720"/>
                <a:gd name="textAreaTop" fmla="*/ 71280 h 1871640"/>
                <a:gd name="textAreaBottom" fmla="*/ 142416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25"/>
            <p:cNvSpPr/>
            <p:nvPr/>
          </p:nvSpPr>
          <p:spPr>
            <a:xfrm>
              <a:off x="4035240" y="5041800"/>
              <a:ext cx="14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a2068"/>
                  </a:solidFill>
                  <a:latin typeface="Arial"/>
                  <a:ea typeface="宋体"/>
                </a:rPr>
                <a:t>信用证正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Line 26"/>
          <p:cNvSpPr/>
          <p:nvPr/>
        </p:nvSpPr>
        <p:spPr>
          <a:xfrm flipH="1">
            <a:off x="2760840" y="5283360"/>
            <a:ext cx="94752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5651640" y="528336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28"/>
          <p:cNvGrpSpPr/>
          <p:nvPr/>
        </p:nvGrpSpPr>
        <p:grpSpPr>
          <a:xfrm>
            <a:off x="1908000" y="3058920"/>
            <a:ext cx="621000" cy="1736640"/>
            <a:chOff x="1908000" y="3058920"/>
            <a:chExt cx="621000" cy="1736640"/>
          </a:xfrm>
        </p:grpSpPr>
        <p:sp>
          <p:nvSpPr>
            <p:cNvPr id="158" name="Document"/>
            <p:cNvSpPr/>
            <p:nvPr/>
          </p:nvSpPr>
          <p:spPr>
            <a:xfrm>
              <a:off x="1908000" y="3139920"/>
              <a:ext cx="621000" cy="1655640"/>
            </a:xfrm>
            <a:custGeom>
              <a:avLst/>
              <a:gdLst>
                <a:gd name="textAreaLeft" fmla="*/ 28440 w 621000"/>
                <a:gd name="textAreaRight" fmla="*/ 592560 w 621000"/>
                <a:gd name="textAreaTop" fmla="*/ 61920 h 1655640"/>
                <a:gd name="textAreaBottom" fmla="*/ 125892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30"/>
            <p:cNvSpPr/>
            <p:nvPr/>
          </p:nvSpPr>
          <p:spPr>
            <a:xfrm>
              <a:off x="1975680" y="3058920"/>
              <a:ext cx="45468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a2068"/>
                  </a:solidFill>
                  <a:latin typeface="Arial"/>
                  <a:ea typeface="宋体"/>
                </a:rPr>
                <a:t>信用证审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Line 31"/>
          <p:cNvSpPr/>
          <p:nvPr/>
        </p:nvSpPr>
        <p:spPr>
          <a:xfrm>
            <a:off x="2241720" y="4869000"/>
            <a:ext cx="0" cy="36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2"/>
          <p:cNvSpPr/>
          <p:nvPr/>
        </p:nvSpPr>
        <p:spPr>
          <a:xfrm flipV="1">
            <a:off x="2241720" y="2707920"/>
            <a:ext cx="0" cy="4316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1017720" y="3139920"/>
            <a:ext cx="828720" cy="1655640"/>
            <a:chOff x="1017720" y="3139920"/>
            <a:chExt cx="828720" cy="1655640"/>
          </a:xfrm>
        </p:grpSpPr>
        <p:sp>
          <p:nvSpPr>
            <p:cNvPr id="163" name="Document"/>
            <p:cNvSpPr/>
            <p:nvPr/>
          </p:nvSpPr>
          <p:spPr>
            <a:xfrm>
              <a:off x="1203480" y="3139920"/>
              <a:ext cx="642960" cy="1655640"/>
            </a:xfrm>
            <a:custGeom>
              <a:avLst/>
              <a:gdLst>
                <a:gd name="textAreaLeft" fmla="*/ 29520 w 642960"/>
                <a:gd name="textAreaRight" fmla="*/ 613440 w 642960"/>
                <a:gd name="textAreaTop" fmla="*/ 61920 h 1655640"/>
                <a:gd name="textAreaBottom" fmla="*/ 125892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5"/>
            <p:cNvSpPr/>
            <p:nvPr/>
          </p:nvSpPr>
          <p:spPr>
            <a:xfrm>
              <a:off x="1017720" y="3439800"/>
              <a:ext cx="7290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a2068"/>
                  </a:solidFill>
                  <a:latin typeface="Arial"/>
                  <a:ea typeface="宋体"/>
                </a:rPr>
                <a:t>交单议付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Line 36"/>
          <p:cNvSpPr/>
          <p:nvPr/>
        </p:nvSpPr>
        <p:spPr>
          <a:xfrm>
            <a:off x="1563840" y="2708280"/>
            <a:ext cx="0" cy="431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>
            <a:off x="1563840" y="4797360"/>
            <a:ext cx="0" cy="432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38"/>
          <p:cNvGrpSpPr/>
          <p:nvPr/>
        </p:nvGrpSpPr>
        <p:grpSpPr>
          <a:xfrm>
            <a:off x="3733920" y="5516280"/>
            <a:ext cx="1917720" cy="593640"/>
            <a:chOff x="3733920" y="5516280"/>
            <a:chExt cx="1917720" cy="593640"/>
          </a:xfrm>
        </p:grpSpPr>
        <p:sp>
          <p:nvSpPr>
            <p:cNvPr id="168" name="Documents"/>
            <p:cNvSpPr/>
            <p:nvPr/>
          </p:nvSpPr>
          <p:spPr>
            <a:xfrm rot="16200000">
              <a:off x="4395960" y="4854240"/>
              <a:ext cx="593640" cy="1917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信用证正本审核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40"/>
            <p:cNvSpPr/>
            <p:nvPr/>
          </p:nvSpPr>
          <p:spPr>
            <a:xfrm>
              <a:off x="4164120" y="5634000"/>
              <a:ext cx="14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a2068"/>
                  </a:solidFill>
                  <a:latin typeface="Arial"/>
                  <a:ea typeface="宋体"/>
                </a:rPr>
                <a:t>寄单索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desk1"/>
          <p:cNvSpPr/>
          <p:nvPr/>
        </p:nvSpPr>
        <p:spPr>
          <a:xfrm>
            <a:off x="3780000" y="6165720"/>
            <a:ext cx="1871640" cy="432000"/>
          </a:xfrm>
          <a:prstGeom prst="pi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a2068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0a2068"/>
                </a:solidFill>
                <a:latin typeface="Times New Roman"/>
                <a:ea typeface="宋体"/>
              </a:rPr>
              <a:t>审核转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2"/>
          <p:cNvSpPr/>
          <p:nvPr/>
        </p:nvSpPr>
        <p:spPr>
          <a:xfrm>
            <a:off x="5651640" y="580536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43"/>
          <p:cNvSpPr/>
          <p:nvPr/>
        </p:nvSpPr>
        <p:spPr>
          <a:xfrm>
            <a:off x="2771640" y="580536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44"/>
          <p:cNvGrpSpPr/>
          <p:nvPr/>
        </p:nvGrpSpPr>
        <p:grpSpPr>
          <a:xfrm>
            <a:off x="1763640" y="6092640"/>
            <a:ext cx="2016360" cy="360720"/>
            <a:chOff x="1763640" y="6092640"/>
            <a:chExt cx="2016360" cy="360720"/>
          </a:xfrm>
        </p:grpSpPr>
        <p:sp>
          <p:nvSpPr>
            <p:cNvPr id="174" name="Line 45"/>
            <p:cNvSpPr/>
            <p:nvPr/>
          </p:nvSpPr>
          <p:spPr>
            <a:xfrm>
              <a:off x="1763640" y="6453360"/>
              <a:ext cx="201636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46"/>
            <p:cNvSpPr/>
            <p:nvPr/>
          </p:nvSpPr>
          <p:spPr>
            <a:xfrm flipV="1">
              <a:off x="1763640" y="6092640"/>
              <a:ext cx="0" cy="3603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47"/>
          <p:cNvGrpSpPr/>
          <p:nvPr/>
        </p:nvGrpSpPr>
        <p:grpSpPr>
          <a:xfrm>
            <a:off x="5651640" y="6093000"/>
            <a:ext cx="2016000" cy="360360"/>
            <a:chOff x="5651640" y="6093000"/>
            <a:chExt cx="2016000" cy="360360"/>
          </a:xfrm>
        </p:grpSpPr>
        <p:sp>
          <p:nvSpPr>
            <p:cNvPr id="177" name="Line 48"/>
            <p:cNvSpPr/>
            <p:nvPr/>
          </p:nvSpPr>
          <p:spPr>
            <a:xfrm>
              <a:off x="5651640" y="6453360"/>
              <a:ext cx="20160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49"/>
            <p:cNvSpPr/>
            <p:nvPr/>
          </p:nvSpPr>
          <p:spPr>
            <a:xfrm>
              <a:off x="7667640" y="6093000"/>
              <a:ext cx="0" cy="3603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50"/>
          <p:cNvGrpSpPr/>
          <p:nvPr/>
        </p:nvGrpSpPr>
        <p:grpSpPr>
          <a:xfrm>
            <a:off x="6443640" y="3158640"/>
            <a:ext cx="647640" cy="1565640"/>
            <a:chOff x="6443640" y="3158640"/>
            <a:chExt cx="647640" cy="1565640"/>
          </a:xfrm>
        </p:grpSpPr>
        <p:sp>
          <p:nvSpPr>
            <p:cNvPr id="180" name="Document"/>
            <p:cNvSpPr/>
            <p:nvPr/>
          </p:nvSpPr>
          <p:spPr>
            <a:xfrm>
              <a:off x="6443640" y="3213000"/>
              <a:ext cx="647640" cy="1511280"/>
            </a:xfrm>
            <a:custGeom>
              <a:avLst/>
              <a:gdLst>
                <a:gd name="textAreaLeft" fmla="*/ 29880 w 647640"/>
                <a:gd name="textAreaRight" fmla="*/ 617760 w 647640"/>
                <a:gd name="textAreaTop" fmla="*/ 56880 h 1511280"/>
                <a:gd name="textAreaBottom" fmla="*/ 114948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52"/>
            <p:cNvSpPr/>
            <p:nvPr/>
          </p:nvSpPr>
          <p:spPr>
            <a:xfrm>
              <a:off x="6515280" y="3158640"/>
              <a:ext cx="454680" cy="13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a2068"/>
                  </a:solidFill>
                  <a:latin typeface="Arial"/>
                  <a:ea typeface="宋体"/>
                </a:rPr>
                <a:t>付款赎单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53"/>
          <p:cNvGrpSpPr/>
          <p:nvPr/>
        </p:nvGrpSpPr>
        <p:grpSpPr>
          <a:xfrm>
            <a:off x="292680" y="3141720"/>
            <a:ext cx="818640" cy="1655640"/>
            <a:chOff x="292680" y="3141720"/>
            <a:chExt cx="818640" cy="1655640"/>
          </a:xfrm>
        </p:grpSpPr>
        <p:sp>
          <p:nvSpPr>
            <p:cNvPr id="183" name="Document"/>
            <p:cNvSpPr/>
            <p:nvPr/>
          </p:nvSpPr>
          <p:spPr>
            <a:xfrm>
              <a:off x="539640" y="3141720"/>
              <a:ext cx="571680" cy="1655640"/>
            </a:xfrm>
            <a:custGeom>
              <a:avLst/>
              <a:gdLst>
                <a:gd name="textAreaLeft" fmla="*/ 26280 w 571680"/>
                <a:gd name="textAreaRight" fmla="*/ 545400 w 571680"/>
                <a:gd name="textAreaTop" fmla="*/ 61920 h 1655640"/>
                <a:gd name="textAreaBottom" fmla="*/ 125892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5"/>
            <p:cNvSpPr/>
            <p:nvPr/>
          </p:nvSpPr>
          <p:spPr>
            <a:xfrm>
              <a:off x="292680" y="3441600"/>
              <a:ext cx="7290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a2068"/>
                  </a:solidFill>
                  <a:latin typeface="Arial"/>
                  <a:ea typeface="宋体"/>
                </a:rPr>
                <a:t>余款转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Line 56"/>
          <p:cNvSpPr/>
          <p:nvPr/>
        </p:nvSpPr>
        <p:spPr>
          <a:xfrm>
            <a:off x="971640" y="4870440"/>
            <a:ext cx="0" cy="36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57"/>
          <p:cNvSpPr/>
          <p:nvPr/>
        </p:nvSpPr>
        <p:spPr>
          <a:xfrm flipV="1">
            <a:off x="971640" y="2709720"/>
            <a:ext cx="0" cy="432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8"/>
          <p:cNvSpPr/>
          <p:nvPr/>
        </p:nvSpPr>
        <p:spPr>
          <a:xfrm>
            <a:off x="6948360" y="4797360"/>
            <a:ext cx="0" cy="504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 flipV="1">
            <a:off x="6948360" y="2708280"/>
            <a:ext cx="5040" cy="5047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5d9f7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信用证审核业务流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出口商审核信用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960200" y="976680"/>
            <a:ext cx="11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口商审证的依据与内容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5d9f7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85d9f7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85d9f7"/>
                </a:solidFill>
                <a:latin typeface="Arial"/>
                <a:ea typeface="宋体"/>
              </a:rPr>
              <a:t>）审证的主要依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买卖双方签订的贸易合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国际贸易惯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进口国有关法规的规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出口商审核信用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960200" y="976680"/>
            <a:ext cx="11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5d9f7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85d9f7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85d9f7"/>
                </a:solidFill>
                <a:latin typeface="Arial"/>
                <a:ea typeface="宋体"/>
              </a:rPr>
              <a:t>）审证的重点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信用证的类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开证申请人与受益人的名称与地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信用证有效期、装运期、交单期的相关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信用证的到期地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货物与金额的描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对信用证规定单据的审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保险条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运输条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软条款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4e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e59c"/>
                </a:solidFill>
                <a:latin typeface="Arial"/>
                <a:ea typeface="宋体"/>
              </a:rPr>
              <a:t>开证行的保证条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出口商审核信用证实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链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3:22:41Z</dcterms:created>
  <dc:creator>leeh</dc:creator>
  <dc:description/>
  <dc:language>en-US</dc:language>
  <cp:lastModifiedBy>刘</cp:lastModifiedBy>
  <dcterms:modified xsi:type="dcterms:W3CDTF">2023-06-15T08:29:54Z</dcterms:modified>
  <cp:revision>28</cp:revision>
  <dc:subject/>
  <dc:title>PowerPoint Template</dc:title>
</cp:coreProperties>
</file>