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1.jpeg" ContentType="image/jpeg"/>
  <Override PartName="/ppt/media/image9.jpeg" ContentType="image/jpeg"/>
  <Override PartName="/ppt/media/image7.wmf" ContentType="image/x-wmf"/>
  <Override PartName="/ppt/media/image20.jpeg" ContentType="image/jpeg"/>
  <Override PartName="/ppt/media/image6.jpeg" ContentType="image/jpeg"/>
  <Override PartName="/ppt/media/image5.jpeg" ContentType="image/jpeg"/>
  <Override PartName="/ppt/media/image26.jpeg" ContentType="image/jpeg"/>
  <Override PartName="/ppt/media/image22.jpeg" ContentType="image/jpeg"/>
  <Override PartName="/ppt/media/image17.jpeg" ContentType="image/jpeg"/>
  <Override PartName="/ppt/media/image21.jpeg" ContentType="image/jpeg"/>
  <Override PartName="/ppt/media/image19.jpeg" ContentType="image/jpeg"/>
  <Override PartName="/ppt/media/image18.jpeg" ContentType="image/jpeg"/>
  <Override PartName="/ppt/media/image16.gif" ContentType="image/gif"/>
  <Override PartName="/ppt/media/image14.jpeg" ContentType="image/jpeg"/>
  <Override PartName="/ppt/media/image15.jpeg" ContentType="image/jpeg"/>
  <Override PartName="/ppt/media/image1.wmf" ContentType="image/x-wmf"/>
  <Override PartName="/ppt/media/image24.wmf" ContentType="image/x-wmf"/>
  <Override PartName="/ppt/media/image2.wmf" ContentType="image/x-wmf"/>
  <Override PartName="/ppt/media/image4.jpeg" ContentType="image/jpeg"/>
  <Override PartName="/ppt/media/image25.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8EA1A-1BD7-4B81-8DB0-16D03C4AD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133C8-1475-40CF-8BD8-CBE7E17B5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706C1-C931-4703-A829-B504DC674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686AF-72F6-4946-9603-313D0CDDB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41C06-9430-4EF1-AE00-84367C960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531F6-1919-4163-B386-3722F06A3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534EF-3BE6-4D27-B64C-59680980E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86DCC-29C2-42DD-A09A-CBC79C1B9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7430D-2AFD-4F2C-818D-F9E94E8A1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226AB-F8D7-452F-A239-7DBD8A84B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FC345-82C5-4ECC-AD2C-BD9E59AB6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032EF-D237-43B5-8E0F-92035A539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D0%C2%CE%C5%CA&#188;%FE&amp;in=18599&amp;cl=2&amp;lm=-1&amp;pn=7&amp;rn=1&amp;di=29910954720&amp;ln=1&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D0%C2%CE%C5%CA&#188;%FE&amp;in=21549&amp;cl=2&amp;lm=-1&amp;pn=22&amp;rn=1&amp;di=1212558381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F%A8&#872;&amp;in=9955&amp;cl=2&amp;lm=-1&amp;pn=10&amp;rn=1&amp;di=26735936040&amp;ln=1&amp;fr=&amp;ic=0&amp;s=0&amp;se=1&amp;sme=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BF%A8&#872;&amp;in=3317&amp;cl=2&amp;lm=-1&amp;pn=18&amp;rn=1&amp;di=1672003470&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F%A8&#872;&amp;in=3317&amp;cl=2&amp;lm=-1&amp;pn=18&amp;rn=1&amp;di=1672003470&amp;ln=1&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F%A8&#872;&amp;in=3317&amp;cl=2&amp;lm=-1&amp;pn=18&amp;rn=1&amp;di=1672003470&amp;ln=1&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F%A8&#872;&amp;in=3317&amp;cl=2&amp;lm=-1&amp;pn=18&amp;rn=1&amp;di=1672003470&amp;ln=1&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F%A8&#872;&amp;in=32263&amp;cl=2&amp;lm=-1&amp;pn=21&amp;rn=1&amp;di=1719454485&amp;ln=1&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baidu.com/i?ct=503316480&amp;z=0&amp;tn=baiduimagedetail&amp;word=%BF%A8&#872;&amp;in=1410&amp;cl=2&amp;lm=-1&amp;pn=45&amp;rn=1&amp;di=1747095615&amp;ln=1&amp;fr=&amp;ic=0&amp;s=0&amp;se=1&amp;sme=0"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BF&#639;&#1727;%C9%C0%D6&amp;in=20687&amp;cl=2&amp;lm=-1&amp;pn=3&amp;rn=1&amp;di=15139917825&amp;ln=1&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F%A8&#872;&amp;in=22024&amp;cl=2&amp;lm=-1&amp;pn=51&amp;rn=1&amp;di=10252958430&amp;ln=1&amp;fr=&amp;ic=0&amp;s=0&amp;se=1&amp;sme=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baidu.com/i?ct=503316480&amp;z=0&amp;tn=baiduimagedetail&amp;word=%BF%A8&#872;&amp;in=26135&amp;cl=2&amp;lm=-1&amp;pn=58&amp;rn=1&amp;di=17961026430&amp;ln=1&amp;fr=&amp;ic=0&amp;s=0&amp;se=1&amp;sme=0" TargetMode="External"/><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amp;tn=baiduimagedetail&amp;word=%B2&#953;&#1787;&#60847;&amp;in=31246&amp;cl=2&amp;lm=-1&amp;pn=14&amp;rn=1&amp;di=28922723775&amp;ln=1&amp;fr=&amp;ic=&amp;s=&amp;se=&amp;sme=0"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amp;tn=baiduimagedetail&amp;word=%B2&#953;&#1787;&#60847;&amp;in=31648&amp;cl=2&amp;lm=-1&amp;pn=56&amp;rn=1&amp;di=24413591730&amp;ln=1&amp;fr=&amp;ic=&amp;s=&amp;se=&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baidu.com/i?ct=503316480&amp;z=0&amp;tn=baiduimagedetail&amp;word=%D4%DE%D6%FA%BB&#60847;&amp;in=23490&amp;cl=2&amp;lm=-1&amp;pn=2&amp;rn=1&amp;di=6390793770&amp;ln=1&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BF%A8&#872;&amp;in=5662&amp;cl=2&amp;lm=-1&amp;pn=63&amp;rn=1&amp;di=1696969110&amp;ln=1&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B%A8&amp;in=15358&amp;cl=2&amp;lm=-1&amp;pn=107&amp;rn=1&amp;di=1093277745&amp;ln=1&amp;fr=&amp;ic=0&amp;s=0&amp;se=1&amp;sme=0"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image.baidu.com/i?ct=503316480&amp;z=0&amp;tn=baiduimagedetail&amp;word=%C7%EC%B5%E4%BB&#60847;&amp;in=1576&amp;cl=2&amp;lm=-1&amp;pn=2&amp;rn=1&amp;di=10340204715&amp;ln=1&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C7%EC%B5%E4%BB&#60847;&amp;in=12187&amp;cl=2&amp;lm=-1&amp;pn=8&amp;rn=1&amp;di=3199269360&amp;ln=1&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六章 公共关系的专题活动</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失败的美国总统大选预测活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a:t>
            </a:r>
            <a:r>
              <a:rPr b="0" lang="zh-CN" sz="2800" spc="-1" strike="noStrike">
                <a:solidFill>
                  <a:srgbClr val="000000"/>
                </a:solidFill>
                <a:latin typeface="Arial"/>
                <a:ea typeface="隶书"/>
              </a:rPr>
              <a:t>1936</a:t>
            </a:r>
            <a:r>
              <a:rPr b="0" lang="zh-CN" sz="2800" spc="-1" strike="noStrike">
                <a:solidFill>
                  <a:srgbClr val="000000"/>
                </a:solidFill>
                <a:latin typeface="Arial"/>
                <a:ea typeface="隶书"/>
              </a:rPr>
              <a:t>年</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美国总统大选前</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文摘》杂志依据当时订阅《文摘》杂志的客户名单</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寄出</a:t>
            </a:r>
            <a:r>
              <a:rPr b="0" lang="zh-CN" sz="2800" spc="-1" strike="noStrike">
                <a:solidFill>
                  <a:srgbClr val="000000"/>
                </a:solidFill>
                <a:latin typeface="Arial"/>
                <a:ea typeface="隶书"/>
              </a:rPr>
              <a:t>1 000</a:t>
            </a:r>
            <a:r>
              <a:rPr b="0" lang="zh-CN" sz="2800" spc="-1" strike="noStrike">
                <a:solidFill>
                  <a:srgbClr val="000000"/>
                </a:solidFill>
                <a:latin typeface="Arial"/>
                <a:ea typeface="隶书"/>
              </a:rPr>
              <a:t>万张询问投票倾向的明信片</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然后依据收回的</a:t>
            </a:r>
            <a:r>
              <a:rPr b="0" lang="zh-CN" sz="2800" spc="-1" strike="noStrike">
                <a:solidFill>
                  <a:srgbClr val="000000"/>
                </a:solidFill>
                <a:latin typeface="Arial"/>
                <a:ea typeface="隶书"/>
              </a:rPr>
              <a:t>237.6</a:t>
            </a:r>
            <a:r>
              <a:rPr b="0" lang="zh-CN" sz="2800" spc="-1" strike="noStrike">
                <a:solidFill>
                  <a:srgbClr val="000000"/>
                </a:solidFill>
                <a:latin typeface="Arial"/>
                <a:ea typeface="隶书"/>
              </a:rPr>
              <a:t>万份调查结果极其自信地预测共和党候选人兰登将以领先</a:t>
            </a:r>
            <a:r>
              <a:rPr b="0" lang="zh-CN" sz="2800" spc="-1" strike="noStrike">
                <a:solidFill>
                  <a:srgbClr val="000000"/>
                </a:solidFill>
                <a:latin typeface="Arial"/>
                <a:ea typeface="隶书"/>
              </a:rPr>
              <a:t>14%</a:t>
            </a:r>
            <a:r>
              <a:rPr b="0" lang="zh-CN" sz="2800" spc="-1" strike="noStrike">
                <a:solidFill>
                  <a:srgbClr val="000000"/>
                </a:solidFill>
                <a:latin typeface="Arial"/>
                <a:ea typeface="隶书"/>
              </a:rPr>
              <a:t>的得票率战胜民主党候选人罗斯福而当选总统。然而</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选举结果使预测者们大失所望</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获胜者不是兰登</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而是罗斯福</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并且其得票率反超过兰登</a:t>
            </a:r>
            <a:r>
              <a:rPr b="0" lang="zh-CN" sz="2800" spc="-1" strike="noStrike">
                <a:solidFill>
                  <a:srgbClr val="000000"/>
                </a:solidFill>
                <a:latin typeface="Arial"/>
                <a:ea typeface="隶书"/>
              </a:rPr>
              <a:t>24%</a:t>
            </a:r>
            <a:r>
              <a:rPr b="0" lang="zh-CN" sz="2800" spc="-1" strike="noStrike">
                <a:solidFill>
                  <a:srgbClr val="000000"/>
                </a:solidFill>
                <a:latin typeface="Arial"/>
                <a:ea typeface="隶书"/>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节 新闻传播型系专题活动</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新闻传播型公共关系专题活动是以传播新闻信息为目的的公共关系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此种类型的公共关系专题活动包括以下基本内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是主动向新闻媒介提供本组织的信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二是通过各种媒介如报纸、杂志、广播、电视为本组织发布广告、介绍新产品、传播新技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三是举办记者招待会，以便及时而广泛地发布重大新闻、扩大社会影响、增强本组织的知名度；</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四是巧妙地制造新闻事件，吸引新闻媒介及时报道，以便引起社会公众的普遍关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五是与新闻媒介的人士建立联系并经常沟通，以便通过他们了解社会动态和经营环境，掌握消费者需求变化，预测市场的发展趋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一、新闻传播型活动的谋划</a:t>
            </a:r>
            <a:br>
              <a:rPr sz="4000"/>
            </a:br>
            <a:br>
              <a:rPr sz="4000"/>
            </a:br>
            <a:endParaRPr b="0" lang="en-US" sz="40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隶书"/>
              </a:rPr>
              <a:t> </a:t>
            </a:r>
            <a:r>
              <a:rPr b="0" lang="zh-CN" sz="3200" spc="-1" strike="noStrike">
                <a:solidFill>
                  <a:srgbClr val="000000"/>
                </a:solidFill>
                <a:latin typeface="Arial"/>
                <a:ea typeface="隶书"/>
              </a:rPr>
              <a:t>谋划新闻事件也叫制造新闻，指的是专门为了新闻媒介进行报道而策划的有意义的事件。这里应注意的是：制造新闻并非弄虚作假，而是以组织发生的真实事件为基础，经过公共关系人员的精心谋划，使其具有新闻价值。</a:t>
            </a:r>
            <a:endParaRPr b="0" lang="en-US" sz="3200" spc="-1" strike="noStrike">
              <a:solidFill>
                <a:srgbClr val="000000"/>
              </a:solidFill>
              <a:latin typeface="Arial"/>
            </a:endParaRPr>
          </a:p>
        </p:txBody>
      </p:sp>
      <p:pic>
        <p:nvPicPr>
          <p:cNvPr id="69" name="图片 15364" descr="u=469326981,1577985842&amp;fm=0&amp;gp=0">
            <a:hlinkClick r:id="rId1"/>
          </p:cNvPr>
          <p:cNvPicPr/>
          <p:nvPr/>
        </p:nvPicPr>
        <p:blipFill>
          <a:blip r:embed="rId2"/>
          <a:stretch/>
        </p:blipFill>
        <p:spPr>
          <a:xfrm>
            <a:off x="4419720" y="457200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根据热门话题谋划新闻事件</a:t>
            </a:r>
            <a:br>
              <a:rPr sz="2800"/>
            </a:br>
            <a:r>
              <a:rPr b="0" lang="zh-CN" sz="2800" spc="-1" strike="noStrike">
                <a:solidFill>
                  <a:srgbClr val="000000"/>
                </a:solidFill>
                <a:latin typeface="隶书"/>
                <a:ea typeface="隶书"/>
              </a:rPr>
              <a:t>不同的公众群体，关注的话题不同；不同的时期，同样的公众群体关注的话题也不同。</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人员为了提升企业形象谋划的新闻事件，不是无源之水，无本之木，而是巧妙地利用外界信息，再结合本社会组织的实际情况进行创造的产物。</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所以，公共关系人员应深入了解公众心理，了解传播对象在当时最关注的话题。</a:t>
            </a:r>
            <a:endParaRPr b="0" lang="en-US" sz="2800" spc="-1" strike="noStrike">
              <a:solidFill>
                <a:srgbClr val="000000"/>
              </a:solidFill>
              <a:latin typeface="Arial"/>
            </a:endParaRPr>
          </a:p>
        </p:txBody>
      </p:sp>
      <p:pic>
        <p:nvPicPr>
          <p:cNvPr id="72" name="图片 16388" descr="u=2765915143,3368046607&amp;fm=0&amp;gp=0">
            <a:hlinkClick r:id="rId1"/>
          </p:cNvPr>
          <p:cNvPicPr/>
          <p:nvPr/>
        </p:nvPicPr>
        <p:blipFill>
          <a:blip r:embed="rId2"/>
          <a:stretch/>
        </p:blipFill>
        <p:spPr>
          <a:xfrm>
            <a:off x="304920" y="228600"/>
            <a:ext cx="220968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74" name="图片 17411" descr="j0292020"/>
          <p:cNvPicPr/>
          <p:nvPr/>
        </p:nvPicPr>
        <p:blipFill>
          <a:blip r:embed="rId1"/>
          <a:stretch/>
        </p:blipFill>
        <p:spPr>
          <a:xfrm>
            <a:off x="609480" y="0"/>
            <a:ext cx="1868760" cy="1773360"/>
          </a:xfrm>
          <a:prstGeom prst="rect">
            <a:avLst/>
          </a:prstGeom>
          <a:ln w="0">
            <a:noFill/>
          </a:ln>
        </p:spPr>
      </p:pic>
      <p:pic>
        <p:nvPicPr>
          <p:cNvPr id="75" name="图片 2" descr=""/>
          <p:cNvPicPr/>
          <p:nvPr/>
        </p:nvPicPr>
        <p:blipFill>
          <a:blip r:embed="rId2"/>
          <a:stretch/>
        </p:blipFill>
        <p:spPr>
          <a:xfrm>
            <a:off x="457200" y="1676520"/>
            <a:ext cx="8229600" cy="508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 </a:t>
            </a:r>
            <a:r>
              <a:rPr b="0" lang="zh-CN" sz="3200" spc="-1" strike="noStrike">
                <a:solidFill>
                  <a:srgbClr val="ff0000"/>
                </a:solidFill>
                <a:latin typeface="隶书"/>
                <a:ea typeface="隶书"/>
              </a:rPr>
              <a:t>抓住“新、奇、特”谋划新闻事件</a:t>
            </a:r>
            <a:br>
              <a:rPr sz="3200"/>
            </a:br>
            <a:r>
              <a:rPr b="0" lang="zh-CN" sz="3200" spc="-1" strike="noStrike">
                <a:solidFill>
                  <a:srgbClr val="000000"/>
                </a:solidFill>
                <a:latin typeface="隶书"/>
                <a:ea typeface="隶书"/>
              </a:rPr>
              <a:t>在激烈的企业形象竞争中，要想成功地为企业谋划新闻事件，引起大众传播媒介的关注和报道，公共关系人员必须独出心裁，使公共关系活动具备“新、奇、特”的条件，成为记者们争先报道的新闻事件。</a:t>
            </a:r>
            <a:endParaRPr b="0" lang="en-US" sz="3200" spc="-1" strike="noStrike">
              <a:solidFill>
                <a:srgbClr val="000000"/>
              </a:solidFill>
              <a:latin typeface="Arial"/>
            </a:endParaRPr>
          </a:p>
        </p:txBody>
      </p:sp>
      <p:pic>
        <p:nvPicPr>
          <p:cNvPr id="78" name="图片 18436" descr="u=705860316,271459793&amp;fm=0&amp;gp=0">
            <a:hlinkClick r:id="rId1"/>
          </p:cNvPr>
          <p:cNvPicPr/>
          <p:nvPr/>
        </p:nvPicPr>
        <p:blipFill>
          <a:blip r:embed="rId2"/>
          <a:stretch/>
        </p:blipFill>
        <p:spPr>
          <a:xfrm>
            <a:off x="3429000" y="4724280"/>
            <a:ext cx="127620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图片 3" descr=""/>
          <p:cNvPicPr/>
          <p:nvPr/>
        </p:nvPicPr>
        <p:blipFill>
          <a:blip r:embed="rId1"/>
          <a:stretch/>
        </p:blipFill>
        <p:spPr>
          <a:xfrm>
            <a:off x="333360" y="282600"/>
            <a:ext cx="8499600" cy="604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巧妙地利用各种信息和时机谋划新闻事件</a:t>
            </a:r>
            <a:br>
              <a:rPr sz="3200"/>
            </a:br>
            <a:r>
              <a:rPr b="0" lang="zh-CN" sz="3200" spc="-1" strike="noStrike">
                <a:solidFill>
                  <a:srgbClr val="000000"/>
                </a:solidFill>
                <a:latin typeface="隶书"/>
                <a:ea typeface="隶书"/>
              </a:rPr>
              <a:t>精明的公共关系人员应该善于搜集信息，使用信息，把信息转变成价值。还要善于寻找有利时机，利用“天时”来开展公共关系活动。</a:t>
            </a:r>
            <a:endParaRPr b="0" lang="en-US" sz="3200" spc="-1" strike="noStrike">
              <a:solidFill>
                <a:srgbClr val="000000"/>
              </a:solidFill>
              <a:latin typeface="Arial"/>
            </a:endParaRPr>
          </a:p>
        </p:txBody>
      </p:sp>
      <p:pic>
        <p:nvPicPr>
          <p:cNvPr id="82" name="图片 20486" descr="u=795003947,1955093030&amp;fm=0&amp;gp=0">
            <a:hlinkClick r:id="rId1"/>
          </p:cNvPr>
          <p:cNvPicPr/>
          <p:nvPr/>
        </p:nvPicPr>
        <p:blipFill>
          <a:blip r:embed="rId2"/>
          <a:stretch/>
        </p:blipFill>
        <p:spPr>
          <a:xfrm>
            <a:off x="0" y="5524560"/>
            <a:ext cx="905040" cy="1333440"/>
          </a:xfrm>
          <a:prstGeom prst="rect">
            <a:avLst/>
          </a:prstGeom>
          <a:ln w="0">
            <a:noFill/>
          </a:ln>
        </p:spPr>
      </p:pic>
      <p:pic>
        <p:nvPicPr>
          <p:cNvPr id="83" name="图片 20488" descr="u=795003947,1955093030&amp;fm=0&amp;gp=0">
            <a:hlinkClick r:id="rId3"/>
          </p:cNvPr>
          <p:cNvPicPr/>
          <p:nvPr/>
        </p:nvPicPr>
        <p:blipFill>
          <a:blip r:embed="rId4"/>
          <a:stretch/>
        </p:blipFill>
        <p:spPr>
          <a:xfrm>
            <a:off x="8001000" y="5524560"/>
            <a:ext cx="905040" cy="1333440"/>
          </a:xfrm>
          <a:prstGeom prst="rect">
            <a:avLst/>
          </a:prstGeom>
          <a:ln w="0">
            <a:noFill/>
          </a:ln>
        </p:spPr>
      </p:pic>
      <p:pic>
        <p:nvPicPr>
          <p:cNvPr id="84" name="图片 20490" descr="u=795003947,1955093030&amp;fm=0&amp;gp=0">
            <a:hlinkClick r:id="rId5"/>
          </p:cNvPr>
          <p:cNvPicPr/>
          <p:nvPr/>
        </p:nvPicPr>
        <p:blipFill>
          <a:blip r:embed="rId6"/>
          <a:stretch/>
        </p:blipFill>
        <p:spPr>
          <a:xfrm>
            <a:off x="0" y="0"/>
            <a:ext cx="905040" cy="1333440"/>
          </a:xfrm>
          <a:prstGeom prst="rect">
            <a:avLst/>
          </a:prstGeom>
          <a:ln w="0">
            <a:noFill/>
          </a:ln>
        </p:spPr>
      </p:pic>
      <p:pic>
        <p:nvPicPr>
          <p:cNvPr id="85" name="图片 20492" descr="u=795003947,1955093030&amp;fm=0&amp;gp=0">
            <a:hlinkClick r:id="rId7"/>
          </p:cNvPr>
          <p:cNvPicPr/>
          <p:nvPr/>
        </p:nvPicPr>
        <p:blipFill>
          <a:blip r:embed="rId8"/>
          <a:stretch/>
        </p:blipFill>
        <p:spPr>
          <a:xfrm>
            <a:off x="8238960" y="0"/>
            <a:ext cx="905040" cy="133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3" descr=""/>
          <p:cNvPicPr/>
          <p:nvPr/>
        </p:nvPicPr>
        <p:blipFill>
          <a:blip r:embed="rId1"/>
          <a:stretch/>
        </p:blipFill>
        <p:spPr>
          <a:xfrm>
            <a:off x="223920" y="371520"/>
            <a:ext cx="8650080" cy="627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利用名人效应谋划新闻事件</a:t>
            </a:r>
            <a:br>
              <a:rPr sz="3200"/>
            </a:br>
            <a:r>
              <a:rPr b="0" lang="zh-CN" sz="3200" spc="-1" strike="noStrike">
                <a:solidFill>
                  <a:srgbClr val="000000"/>
                </a:solidFill>
                <a:latin typeface="隶书"/>
                <a:ea typeface="隶书"/>
              </a:rPr>
              <a:t>有意识地把新闻事件与某些权威人士、社会名流联系起来，或者在新闻事件中请名人唱主角。</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例如，在美国总统艾森豪威尔</a:t>
            </a:r>
            <a:r>
              <a:rPr b="0" lang="en-US" sz="3200" spc="-1" strike="noStrike">
                <a:solidFill>
                  <a:srgbClr val="000000"/>
                </a:solidFill>
                <a:latin typeface="隶书"/>
                <a:ea typeface="隶书"/>
              </a:rPr>
              <a:t>67</a:t>
            </a:r>
            <a:r>
              <a:rPr b="0" lang="zh-CN" sz="3200" spc="-1" strike="noStrike">
                <a:solidFill>
                  <a:srgbClr val="000000"/>
                </a:solidFill>
                <a:latin typeface="隶书"/>
                <a:ea typeface="隶书"/>
              </a:rPr>
              <a:t>岁生日时，法国人民向美国总统赠送的两桶陈酿了</a:t>
            </a:r>
            <a:r>
              <a:rPr b="0" lang="en-US" sz="3200" spc="-1" strike="noStrike">
                <a:solidFill>
                  <a:srgbClr val="000000"/>
                </a:solidFill>
                <a:latin typeface="隶书"/>
                <a:ea typeface="隶书"/>
              </a:rPr>
              <a:t>67</a:t>
            </a:r>
            <a:r>
              <a:rPr b="0" lang="zh-CN" sz="3200" spc="-1" strike="noStrike">
                <a:solidFill>
                  <a:srgbClr val="000000"/>
                </a:solidFill>
                <a:latin typeface="隶书"/>
                <a:ea typeface="隶书"/>
              </a:rPr>
              <a:t>年的白兰地酒，由于赠送礼品与名人联系在了一起，这次赠送被世界各地记者写成各种形式的文章广泛传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六章 公共关系的专题活动</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专题活动的含义、作用与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新闻传播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展示公共关系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赞助公共关系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庆典联谊型专题活动。</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借总统之名售书的小故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话说有一个美国人写了一本书，把书送给当时的美国总统，一定要他阅读，“写几句话”，总统架不住他的盛情，于是随便叫人写了几句。谁知他在所接受新闻记者采访中和广告中大吹特吹，“一本引起总统评价的书问世”。于是，此书大大畅销。总统得知后，气得七窍冒烟。后来，此人又写了一本书，央求总统写几句话，一国之总统怎么能再次中他诡计哉？总统看都不看，置之不理。后来的情况是，那本书冠之以“总统未置一词的书问世”，仍然引起畅销。再后来，该作者写了第三本书，再次交给总统，要他拔冗援笔，赐予墨宝，总统气不打一处来，愤怒地写了几句批评的话，看你还拿不拿去吹！谁知此人如获至宝，拜谢而去。不几天，一本“引起总统批评的书”问世，一时洛阳纸贵，抢购如潮！</a:t>
            </a:r>
            <a:endParaRPr b="0" lang="en-US" sz="2400" spc="-1" strike="noStrike">
              <a:solidFill>
                <a:srgbClr val="000000"/>
              </a:solidFill>
              <a:latin typeface="Arial"/>
            </a:endParaRPr>
          </a:p>
        </p:txBody>
      </p:sp>
      <p:pic>
        <p:nvPicPr>
          <p:cNvPr id="91" name="图片 2253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与新闻媒介联袂谋划新闻事件</a:t>
            </a:r>
            <a:br>
              <a:rPr sz="3200"/>
            </a:br>
            <a:r>
              <a:rPr b="0" lang="zh-CN" sz="3200" spc="-1" strike="noStrike">
                <a:solidFill>
                  <a:srgbClr val="000000"/>
                </a:solidFill>
                <a:latin typeface="隶书"/>
                <a:ea typeface="隶书"/>
              </a:rPr>
              <a:t>公共关系人员在谋划新闻事件时，应努力与报社、电台、电视台联合行动。由于有新闻媒介的参与和支持，一方面能使活动进展顺利，达到事半功倍的效果，另一方面能结交新闻媒介的朋友，加深新闻媒介对本企业的深刻印象。</a:t>
            </a:r>
            <a:endParaRPr b="0" lang="en-US" sz="3200" spc="-1" strike="noStrike">
              <a:solidFill>
                <a:srgbClr val="000000"/>
              </a:solidFill>
              <a:latin typeface="Arial"/>
            </a:endParaRPr>
          </a:p>
        </p:txBody>
      </p:sp>
      <p:pic>
        <p:nvPicPr>
          <p:cNvPr id="94" name="图片 23556" descr="u=1072198192,1525415291&amp;fm=0&amp;gp=0">
            <a:hlinkClick r:id="rId1"/>
          </p:cNvPr>
          <p:cNvPicPr/>
          <p:nvPr/>
        </p:nvPicPr>
        <p:blipFill>
          <a:blip r:embed="rId2"/>
          <a:stretch/>
        </p:blipFill>
        <p:spPr>
          <a:xfrm>
            <a:off x="0" y="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泸州老窖：白酒品牌的新跨越</a:t>
            </a:r>
            <a:br>
              <a:rPr sz="3200"/>
            </a:br>
            <a:endParaRPr b="0" lang="en-US" sz="3200" spc="-1" strike="noStrike">
              <a:solidFill>
                <a:srgbClr val="000000"/>
              </a:solidFill>
              <a:latin typeface="Arial"/>
            </a:endParaRPr>
          </a:p>
        </p:txBody>
      </p:sp>
      <p:sp>
        <p:nvSpPr>
          <p:cNvPr id="96" name=""/>
          <p:cNvSpPr txBox="1"/>
          <p:nvPr/>
        </p:nvSpPr>
        <p:spPr>
          <a:xfrm>
            <a:off x="146160" y="1019160"/>
            <a:ext cx="8875440" cy="5084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在直播中直面消费者，通过真诚的内容，达到品效销合一数字化浪潮下，白酒行业正在加速布局数字化营销转型，探索与创新用户沟通模式，泸州老窖更是其中的先行者。</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在泸州老窖电商公司董事长易彬看来，抖音蕴含巨大的内容营销商机，而泸州老窖能够成为最早一批发现并收获抖音电商直播热度的白酒品牌，源于专业机制与团队储备。在电商营销布局上，泸州老窖</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就成立了专门的电商公司，也在短视频内容时代就开始布局抖音，专业的团队配合平台的沉淀，使泸州老窖能够更加敏锐地洞察到抖音电商直播的机会，并快速作出决策，全力投入，高效落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新闻发布会</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一</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新闻发布会前的准备工作</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首先要确定它的必要性和主题</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要确定新闻发布会举行的时间和地点</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要确定邀请的对象</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选定主持人和发言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要准备好发言和报道提纲，以及宣传辅助材料</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要预算会议所需费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0" name=""/>
          <p:cNvSpPr txBox="1"/>
          <p:nvPr/>
        </p:nvSpPr>
        <p:spPr>
          <a:xfrm>
            <a:off x="457200" y="1447560"/>
            <a:ext cx="8229600" cy="52578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某公司新闻发布会策划方案 </a:t>
            </a:r>
            <a:br>
              <a:rPr sz="2000"/>
            </a:br>
            <a:br>
              <a:rPr sz="2000"/>
            </a:br>
            <a:r>
              <a:rPr b="1" lang="zh-CN" sz="2000" spc="-1" strike="noStrike">
                <a:solidFill>
                  <a:srgbClr val="000000"/>
                </a:solidFill>
                <a:latin typeface="隶书"/>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一、会议目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二、会议时间</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三、会议地点</a:t>
            </a:r>
            <a:br>
              <a:rPr sz="2000"/>
            </a:br>
            <a:r>
              <a:rPr b="1" lang="zh-CN" sz="2000" spc="-1" strike="noStrike">
                <a:solidFill>
                  <a:srgbClr val="000000"/>
                </a:solidFill>
                <a:latin typeface="隶书"/>
                <a:ea typeface="隶书"/>
              </a:rPr>
              <a:t>四、主办与协办单位</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主办单位：南航南天实业有限公司</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协办单位：中国质量认证中心湖南评审中心</a:t>
            </a:r>
            <a:br>
              <a:rPr sz="2000"/>
            </a:br>
            <a:r>
              <a:rPr b="1" lang="zh-CN" sz="2000" spc="-1" strike="noStrike">
                <a:solidFill>
                  <a:srgbClr val="000000"/>
                </a:solidFill>
                <a:latin typeface="隶书"/>
                <a:ea typeface="隶书"/>
              </a:rPr>
              <a:t>五、拟请参会领导</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六、拟邀请媒体及记者</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新华社、湖南日报、三相都市报、潇湘晨报、长沙晚报、家庭导报各两人</a:t>
            </a:r>
            <a:br>
              <a:rPr sz="2000"/>
            </a:br>
            <a:r>
              <a:rPr b="0" lang="zh-CN" sz="2000" spc="-1" strike="noStrike">
                <a:solidFill>
                  <a:srgbClr val="000000"/>
                </a:solidFill>
                <a:latin typeface="隶书"/>
                <a:ea typeface="隶书"/>
              </a:rPr>
              <a:t>湖南卫视、湖南经视、都市频道、长沙政法频道、新闻频道各三人</a:t>
            </a:r>
            <a:br>
              <a:rPr sz="2000"/>
            </a:br>
            <a:r>
              <a:rPr b="0" lang="zh-CN" sz="2000" spc="-1" strike="noStrike">
                <a:solidFill>
                  <a:srgbClr val="000000"/>
                </a:solidFill>
                <a:latin typeface="隶书"/>
                <a:ea typeface="隶书"/>
              </a:rPr>
              <a:t>当代商报、东方新报、今日女报、红网各一人</a:t>
            </a:r>
            <a:br>
              <a:rPr sz="2000"/>
            </a:br>
            <a:r>
              <a:rPr b="0" lang="zh-CN" sz="2000" spc="-1" strike="noStrike">
                <a:solidFill>
                  <a:srgbClr val="000000"/>
                </a:solidFill>
                <a:latin typeface="隶书"/>
                <a:ea typeface="隶书"/>
              </a:rPr>
              <a:t>共计约</a:t>
            </a:r>
            <a:r>
              <a:rPr b="0" lang="en-US" sz="2000" spc="-1" strike="noStrike">
                <a:solidFill>
                  <a:srgbClr val="000000"/>
                </a:solidFill>
                <a:latin typeface="隶书"/>
                <a:ea typeface="隶书"/>
              </a:rPr>
              <a:t>33</a:t>
            </a:r>
            <a:r>
              <a:rPr b="0" lang="zh-CN" sz="2000" spc="-1" strike="noStrike">
                <a:solidFill>
                  <a:srgbClr val="000000"/>
                </a:solidFill>
                <a:latin typeface="隶书"/>
                <a:ea typeface="隶书"/>
              </a:rPr>
              <a:t>人</a:t>
            </a:r>
            <a:br>
              <a:rPr sz="2000"/>
            </a:br>
            <a:r>
              <a:rPr b="1" lang="zh-CN" sz="2000" spc="-1" strike="noStrike">
                <a:solidFill>
                  <a:srgbClr val="000000"/>
                </a:solidFill>
                <a:latin typeface="隶书"/>
                <a:ea typeface="隶书"/>
              </a:rPr>
              <a:t>七、会议流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八、经费预算</a:t>
            </a:r>
            <a:br>
              <a:rPr sz="2000"/>
            </a:br>
            <a:r>
              <a:rPr b="1" lang="zh-CN" sz="2000" spc="-1" strike="noStrike">
                <a:solidFill>
                  <a:srgbClr val="000000"/>
                </a:solidFill>
                <a:latin typeface="隶书"/>
              </a:rPr>
              <a:t> </a:t>
            </a:r>
            <a:endParaRPr b="0" lang="en-US" sz="2000" spc="-1" strike="noStrike">
              <a:solidFill>
                <a:srgbClr val="000000"/>
              </a:solidFill>
              <a:latin typeface="Arial"/>
            </a:endParaRPr>
          </a:p>
        </p:txBody>
      </p:sp>
      <p:pic>
        <p:nvPicPr>
          <p:cNvPr id="101" name="图片 256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二</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新闻发布会中的注意事项</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主持人要充分发挥主持和组织作用，以庄重的言谈和感染力活跃会议气氛，引导记者踊跃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对所发布的信息必须做到准备无误，若发现错误应及时予以纠正。</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不能随便打断记者的提问或用各种语言、表情、动作表对记者不满，即使记者的提问带有很强的偏见或带有挑衅性，不能激动发怒，要表现出很有涵养，用冷静的态度和缓和的话陈述事实，予以纠正和反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隶书"/>
                <a:ea typeface="隶书"/>
              </a:rPr>
              <a:t>(</a:t>
            </a:r>
            <a:r>
              <a:rPr b="0" lang="zh-CN" sz="4000" spc="-1" strike="noStrike">
                <a:solidFill>
                  <a:srgbClr val="000000"/>
                </a:solidFill>
                <a:latin typeface="隶书"/>
                <a:ea typeface="隶书"/>
              </a:rPr>
              <a:t>三</a:t>
            </a:r>
            <a:r>
              <a:rPr b="0" lang="en-US" sz="4000" spc="-1" strike="noStrike">
                <a:solidFill>
                  <a:srgbClr val="000000"/>
                </a:solidFill>
                <a:latin typeface="隶书"/>
                <a:ea typeface="隶书"/>
              </a:rPr>
              <a:t>)</a:t>
            </a:r>
            <a:r>
              <a:rPr b="0" lang="zh-CN" sz="4000" spc="-1" strike="noStrike">
                <a:solidFill>
                  <a:srgbClr val="000000"/>
                </a:solidFill>
                <a:latin typeface="隶书"/>
                <a:ea typeface="隶书"/>
              </a:rPr>
              <a:t>新闻发布会后的工作</a:t>
            </a:r>
            <a:br>
              <a:rPr sz="4000"/>
            </a:br>
            <a:endParaRPr b="0" lang="en-US" sz="40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会后应尽快整理出新闻发布会上的记录材料，对会议作出评价和总结，归档备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收集到会记者在报刊、电台、电视台上发表的新闻报道，对这些报道的内容及倾向做定性定量的分析</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检查是否达到了新闻发布会的预定目标；</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还要收集记者及其他与会代表对新闻发布会的反应，了解接待、安排、提供方便等方面的工作是否欠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r>
              <a:rPr b="1" lang="zh-CN" sz="4000" spc="-1" strike="noStrike">
                <a:solidFill>
                  <a:srgbClr val="000000"/>
                </a:solidFill>
                <a:latin typeface="Arial"/>
                <a:ea typeface="隶书"/>
              </a:rPr>
              <a:t>三、记者招待会</a:t>
            </a:r>
            <a:br>
              <a:rPr sz="4000"/>
            </a:br>
            <a:br>
              <a:rPr sz="4000"/>
            </a:br>
            <a:endParaRPr b="0" lang="en-US" sz="40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记者招待会是为了集中发布信息而举行的以记者为主要参加者的传播活动。对于一个社会组织而言，利用记者招待会向广大公众传播信息具有传播面广、传播速度快、传播效果好等特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隶书"/>
                <a:ea typeface="隶书"/>
              </a:rPr>
              <a:t>组织召开记者招待会需要做的准备工作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确定举行记者招待会的必要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应邀者的范围</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准备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选择记者招待会的地点和时间</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布置会场，准备视听辅助工具</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确定主持人和发言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准备记者参观</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安排小型宴请</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策划纪念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其他事项</a:t>
            </a:r>
            <a:endParaRPr b="0" lang="en-US" sz="2400" spc="-1" strike="noStrike">
              <a:solidFill>
                <a:srgbClr val="000000"/>
              </a:solidFill>
              <a:latin typeface="Arial"/>
            </a:endParaRPr>
          </a:p>
        </p:txBody>
      </p:sp>
      <p:pic>
        <p:nvPicPr>
          <p:cNvPr id="110" name="图片 29700" descr="u=402990743,1897081703&amp;fm=0&amp;gp=0">
            <a:hlinkClick r:id="rId1"/>
          </p:cNvPr>
          <p:cNvPicPr/>
          <p:nvPr/>
        </p:nvPicPr>
        <p:blipFill>
          <a:blip r:embed="rId2"/>
          <a:stretch/>
        </p:blipFill>
        <p:spPr>
          <a:xfrm>
            <a:off x="6705720" y="26668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为了使记者招待会达到最佳效果，应注意下述几个方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一，会议发言人和主持人应相互配合。记者招待会应该始终围绕会议主题进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二，对于不愿发表和透露的内容，应委婉地向记者做出解释，不能以“我不清楚”或“这是保密的问题”简单处理。</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三，遇到回答不了的问题时，应告诉记者如何去获得圆满答案的途径，不能不计后果随意说“无可奉告”或“没什么好解释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四，不要随便打断或阻止记者的发言和提问。即使记者带有很强的偏见或进行挑衅性发言，会议主持人和发言人也不要激动和失态，说话应有涵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赞助活动提升可口可乐品牌的运动精神</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赞助是公共关系的一种形式，可口可乐通过赞助体育、教育以及文化等各类活动来强化品牌形象，提升品牌的美誉度，营造饮用氛围，从而促进其产品的销售。纵观可口可乐的赞助活动，主要表现在以下几个方面：</a:t>
            </a:r>
            <a:br>
              <a:rPr sz="2400"/>
            </a:b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赞助奥运会。</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赞助世界及中国足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总之，可口可乐公司通过对一系列体育运动的赞助，传递了其运动、向上的企业精神与理念，提升了品牌的美誉度。另外，可口可乐请姚明、刘翔、郭晶晶等优秀运动员担任产品代言人，也向公众传递了其积极向上的理念。</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884363244,3468341677&amp;fm=0&amp;gp=0">
            <a:hlinkClick r:id="rId2"/>
          </p:cNvPr>
          <p:cNvPicPr/>
          <p:nvPr/>
        </p:nvPicPr>
        <p:blipFill>
          <a:blip r:embed="rId3"/>
          <a:stretch/>
        </p:blipFill>
        <p:spPr>
          <a:xfrm>
            <a:off x="0" y="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4"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某工厂曾经把本厂生产的手提包赠送给记者</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结果</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由于产品质量差</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记者们在返回报社的路上</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就惊奇地发现手提包的拉锁坏了</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随后就打电话批评该厂</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该工厂在记者的脑海中留下了不良印象。即使是购买其他厂家的产品赠送给记者</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也应注意产品质量</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千万不要买处理品</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最好买质量靠得住的优质产品或名牌产品。</a:t>
            </a:r>
            <a:endParaRPr b="0" lang="en-US" sz="3200" spc="-1" strike="noStrike">
              <a:solidFill>
                <a:srgbClr val="000000"/>
              </a:solidFill>
              <a:latin typeface="Arial"/>
            </a:endParaRPr>
          </a:p>
        </p:txBody>
      </p:sp>
      <p:pic>
        <p:nvPicPr>
          <p:cNvPr id="115" name="图片 3277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三节 展示型专题活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展示型公共关系专题活动就是通过实物展示、环境展示、图片与模型展示，广泛吸引公众的注意和参观，并吸引新闻媒介的关注和报道，以提高组织的整体形象或产品的知名度、美誉度。</a:t>
            </a:r>
            <a:r>
              <a:rPr b="0" lang="en-US" sz="3200" spc="-1" strike="noStrike">
                <a:solidFill>
                  <a:srgbClr val="000000"/>
                </a:solidFill>
                <a:latin typeface="Arial"/>
                <a:ea typeface="隶书"/>
              </a:rPr>
              <a:t> </a:t>
            </a:r>
            <a:r>
              <a:rPr b="0" lang="zh-CN" sz="3200" spc="-1" strike="noStrike">
                <a:solidFill>
                  <a:srgbClr val="000000"/>
                </a:solidFill>
                <a:latin typeface="Arial"/>
                <a:ea typeface="隶书"/>
              </a:rPr>
              <a:t>展示型公共关系专题活动主要包括各种类型的展览会、展销会和开放参观。</a:t>
            </a:r>
            <a:endParaRPr b="0" lang="en-US" sz="3200" spc="-1" strike="noStrike">
              <a:solidFill>
                <a:srgbClr val="000000"/>
              </a:solidFill>
              <a:latin typeface="Arial"/>
            </a:endParaRPr>
          </a:p>
        </p:txBody>
      </p:sp>
      <p:pic>
        <p:nvPicPr>
          <p:cNvPr id="118" name="图片 33797" descr="u=2061471511,137076577&amp;fm=0&amp;gp=0">
            <a:hlinkClick r:id="rId1"/>
          </p:cNvPr>
          <p:cNvPicPr/>
          <p:nvPr/>
        </p:nvPicPr>
        <p:blipFill>
          <a:blip r:embed="rId2"/>
          <a:stretch/>
        </p:blipFill>
        <p:spPr>
          <a:xfrm>
            <a:off x="3733920" y="4800600"/>
            <a:ext cx="2514600" cy="182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参展活动</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参展活动就是企业参加展览会或展销会的活动。展览会与展销会是指组织通过集中的实物展示和示范表演，配之以多种传播媒介的复合传播形式，来树立组织形象、宣传或销售产品的专门性公共关系活动。 </a:t>
            </a:r>
            <a:endParaRPr b="0" lang="en-US" sz="3200" spc="-1" strike="noStrike">
              <a:solidFill>
                <a:srgbClr val="000000"/>
              </a:solidFill>
              <a:latin typeface="Arial"/>
            </a:endParaRPr>
          </a:p>
        </p:txBody>
      </p:sp>
      <p:pic>
        <p:nvPicPr>
          <p:cNvPr id="121" name="图片 34820" descr="u=1953532882,442417459&amp;fm=0&amp;gp=0">
            <a:hlinkClick r:id="rId1"/>
          </p:cNvPr>
          <p:cNvPicPr/>
          <p:nvPr/>
        </p:nvPicPr>
        <p:blipFill>
          <a:blip r:embed="rId2"/>
          <a:stretch/>
        </p:blipFill>
        <p:spPr>
          <a:xfrm>
            <a:off x="380880" y="4114800"/>
            <a:ext cx="190512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展览会很多，从不同的角度，可以划分不同的类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①</a:t>
            </a:r>
            <a:r>
              <a:rPr b="0" lang="zh-CN" sz="2800" spc="-1" strike="noStrike">
                <a:solidFill>
                  <a:srgbClr val="000000"/>
                </a:solidFill>
                <a:latin typeface="Arial"/>
                <a:ea typeface="隶书"/>
              </a:rPr>
              <a:t>从展览会的性质分，有贸易展览会和宣传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②</a:t>
            </a:r>
            <a:r>
              <a:rPr b="0" lang="zh-CN" sz="2800" spc="-1" strike="noStrike">
                <a:solidFill>
                  <a:srgbClr val="000000"/>
                </a:solidFill>
                <a:latin typeface="Arial"/>
                <a:ea typeface="隶书"/>
              </a:rPr>
              <a:t>从举办的地点来分，有室内展览会和露天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③</a:t>
            </a:r>
            <a:r>
              <a:rPr b="0" lang="zh-CN" sz="2800" spc="-1" strike="noStrike">
                <a:solidFill>
                  <a:srgbClr val="000000"/>
                </a:solidFill>
                <a:latin typeface="Arial"/>
                <a:ea typeface="隶书"/>
              </a:rPr>
              <a:t>从展览的项目来分，有综合性展览会和专项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④</a:t>
            </a:r>
            <a:r>
              <a:rPr b="0" lang="zh-CN" sz="2800" spc="-1" strike="noStrike">
                <a:solidFill>
                  <a:srgbClr val="000000"/>
                </a:solidFill>
                <a:latin typeface="Arial"/>
                <a:ea typeface="隶书"/>
              </a:rPr>
              <a:t>从展览的规模来分，有大型展览会和小型展览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一）展览会的作用</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宣传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中国有句古话“酒香不怕巷子深”。的确，高质量的产品会得到社会的认可，广大消费者会对其产生偏好。另外，大凡好东西都会驱使消费者自愿为其进行宣传，这就必然会出现“有酒不怕巷子深”的现象。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增进效益的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的基本原则是：真诚合作、互利互惠。作为一个组织，找到自我、宣传自我是十分必要的。但是要想最终得利，就必须以真诚的态度，为社会、为公众服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参加展览会的准备工作</a:t>
            </a:r>
            <a:endParaRPr b="0" lang="en-US"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分析参展的必要性和可行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明确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构思参展结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选择地点和时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精心布置展台</a:t>
            </a:r>
            <a:br>
              <a:rPr sz="3200"/>
            </a:b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准备资料、制定预算</a:t>
            </a:r>
            <a:br>
              <a:rPr sz="3200"/>
            </a:br>
            <a:r>
              <a:rPr b="0" lang="en-US" sz="3200" spc="-1" strike="noStrike">
                <a:solidFill>
                  <a:srgbClr val="000000"/>
                </a:solidFill>
                <a:latin typeface="隶书"/>
                <a:ea typeface="隶书"/>
              </a:rPr>
              <a:t>7</a:t>
            </a:r>
            <a:r>
              <a:rPr b="0" lang="zh-CN" sz="3200" spc="-1" strike="noStrike">
                <a:solidFill>
                  <a:srgbClr val="000000"/>
                </a:solidFill>
                <a:latin typeface="隶书"/>
                <a:ea typeface="隶书"/>
              </a:rPr>
              <a:t>．培训工作人员</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展览会的经费预算和使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1" name=""/>
          <p:cNvSpPr txBox="1"/>
          <p:nvPr/>
        </p:nvSpPr>
        <p:spPr>
          <a:xfrm>
            <a:off x="104400" y="1600200"/>
            <a:ext cx="9015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大连国际服装节</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大连国际服装节是由大连市人民政府发起并会同中国国际贸易促进委员会、中国人民对外友好协会、国家旅游局、人民日报社、香港贸易发展局、中国公共关系协会等多家单位共同举办的集经贸、文化、旅游为一体的颇具规模的盛大城市节目。</a:t>
            </a:r>
            <a:r>
              <a:rPr b="0" lang="zh-CN" sz="2400" spc="-1" strike="noStrike">
                <a:solidFill>
                  <a:srgbClr val="000000"/>
                </a:solidFill>
                <a:latin typeface="隶书"/>
                <a:ea typeface="隶书"/>
              </a:rPr>
              <a:t>1988</a:t>
            </a:r>
            <a:r>
              <a:rPr b="0" lang="zh-CN" sz="2400" spc="-1" strike="noStrike">
                <a:solidFill>
                  <a:srgbClr val="000000"/>
                </a:solidFill>
                <a:latin typeface="隶书"/>
                <a:ea typeface="隶书"/>
              </a:rPr>
              <a:t>年举办首届大连服装节，从</a:t>
            </a:r>
            <a:r>
              <a:rPr b="0" lang="zh-CN" sz="2400" spc="-1" strike="noStrike">
                <a:solidFill>
                  <a:srgbClr val="000000"/>
                </a:solidFill>
                <a:latin typeface="隶书"/>
                <a:ea typeface="隶书"/>
              </a:rPr>
              <a:t>1991</a:t>
            </a:r>
            <a:r>
              <a:rPr b="0" lang="zh-CN" sz="2400" spc="-1" strike="noStrike">
                <a:solidFill>
                  <a:srgbClr val="000000"/>
                </a:solidFill>
                <a:latin typeface="隶书"/>
                <a:ea typeface="隶书"/>
              </a:rPr>
              <a:t>年第三届服装节开始冠以“国际”两字，每年一届。每届服装节历时</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至</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天，多在</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下旬至</a:t>
            </a:r>
            <a:r>
              <a:rPr b="0" lang="zh-CN" sz="2400" spc="-1" strike="noStrike">
                <a:solidFill>
                  <a:srgbClr val="000000"/>
                </a:solidFill>
                <a:latin typeface="隶书"/>
                <a:ea typeface="隶书"/>
              </a:rPr>
              <a:t>9</a:t>
            </a:r>
            <a:r>
              <a:rPr b="0" lang="zh-CN" sz="2400" spc="-1" strike="noStrike">
                <a:solidFill>
                  <a:srgbClr val="000000"/>
                </a:solidFill>
                <a:latin typeface="隶书"/>
                <a:ea typeface="隶书"/>
              </a:rPr>
              <a:t>月中上旬举行，以弘扬服饰文化、丰富人民生活、促进国际交流、推动经济发展为宗旨。她与香港时装节结为姊妹节。服装节的主要活动有：气势恢弘的开幕式——广场艺术晚会、欢快热烈的巡游表演、精品竞秀的服装博览会、商贸云集的服装出口洽谈会、争奇斗艳的服装设计大赛、光彩照人的世界名师时装展演会、热闹非凡的游园会以及新颖别致的闭幕式晚会等，每届都吸引着五大洲众多国家和地区的客商和海内外政界要人、外交使节、新闻记者、旅游者前来参加。</a:t>
            </a:r>
            <a:endParaRPr b="0" lang="en-US" sz="2400" spc="-1" strike="noStrike">
              <a:solidFill>
                <a:srgbClr val="000000"/>
              </a:solidFill>
              <a:latin typeface="Arial"/>
            </a:endParaRPr>
          </a:p>
        </p:txBody>
      </p:sp>
      <p:pic>
        <p:nvPicPr>
          <p:cNvPr id="132" name="图片 399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参观活动</a:t>
            </a:r>
            <a:endParaRPr b="0" lang="en-US"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参观活动是社会组织为了让公众更好的了解自己、向公众宣传自己、表明自身的存在，或为了消除某种误解而进行的开放活动。 </a:t>
            </a:r>
            <a:endParaRPr b="0" lang="en-US" sz="3200" spc="-1" strike="noStrike">
              <a:solidFill>
                <a:srgbClr val="000000"/>
              </a:solidFill>
              <a:latin typeface="Arial"/>
            </a:endParaRPr>
          </a:p>
        </p:txBody>
      </p:sp>
      <p:pic>
        <p:nvPicPr>
          <p:cNvPr id="135" name="图片 40964" descr="u=2698131970,1833909388&amp;fm=0&amp;gp=0">
            <a:hlinkClick r:id="rId1"/>
          </p:cNvPr>
          <p:cNvPicPr/>
          <p:nvPr/>
        </p:nvPicPr>
        <p:blipFill>
          <a:blip r:embed="rId2"/>
          <a:stretch/>
        </p:blipFill>
        <p:spPr>
          <a:xfrm>
            <a:off x="3809880" y="4419720"/>
            <a:ext cx="2819520" cy="1828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明确目的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明确参观规模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安排时间和路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安排并培训接待人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准备宣传材料</a:t>
            </a:r>
            <a:endParaRPr b="0" lang="en-US" sz="3200" spc="-1" strike="noStrike">
              <a:solidFill>
                <a:srgbClr val="000000"/>
              </a:solidFill>
              <a:latin typeface="Arial"/>
            </a:endParaRPr>
          </a:p>
        </p:txBody>
      </p:sp>
      <p:pic>
        <p:nvPicPr>
          <p:cNvPr id="138" name="图片 41988" descr="u=2523928551,2576236318&amp;fm=0&amp;gp=0">
            <a:hlinkClick r:id="rId1"/>
          </p:cNvPr>
          <p:cNvPicPr/>
          <p:nvPr/>
        </p:nvPicPr>
        <p:blipFill>
          <a:blip r:embed="rId2"/>
          <a:stretch/>
        </p:blipFill>
        <p:spPr>
          <a:xfrm>
            <a:off x="6172200" y="1905120"/>
            <a:ext cx="243828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一节 专题活动概述</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专题活动的含义与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专题活动的含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公共关系专题活动，是指社会组织为了某一明确目的，围绕某一特定主题而精心策划的公共关系活动。它是企业或组织就某一方面的问题与公众进行重点沟通。公共关系的目标正是通过一系列的专题活动而实现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放日  放得开（会内会外）</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大已开放</a:t>
            </a:r>
            <a:r>
              <a:rPr b="1" lang="zh-CN" sz="2400" spc="-1" strike="noStrike">
                <a:solidFill>
                  <a:srgbClr val="000000"/>
                </a:solidFill>
                <a:latin typeface="隶书"/>
                <a:ea typeface="隶书"/>
              </a:rPr>
              <a:t>36</a:t>
            </a:r>
            <a:r>
              <a:rPr b="1" lang="zh-CN" sz="2400" spc="-1" strike="noStrike">
                <a:solidFill>
                  <a:srgbClr val="000000"/>
                </a:solidFill>
                <a:latin typeface="隶书"/>
                <a:ea typeface="隶书"/>
              </a:rPr>
              <a:t>团次   记者太多临时加椅</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5</a:t>
            </a:r>
            <a:r>
              <a:rPr b="1" lang="zh-CN" sz="2400" spc="-1" strike="noStrike">
                <a:solidFill>
                  <a:srgbClr val="000000"/>
                </a:solidFill>
                <a:latin typeface="隶书"/>
                <a:ea typeface="隶书"/>
              </a:rPr>
              <a:t>日下午</a:t>
            </a:r>
            <a:r>
              <a:rPr b="1" lang="zh-CN" sz="2400" spc="-1" strike="noStrike">
                <a:solidFill>
                  <a:srgbClr val="000000"/>
                </a:solidFill>
                <a:latin typeface="隶书"/>
                <a:ea typeface="隶书"/>
              </a:rPr>
              <a:t>15</a:t>
            </a:r>
            <a:r>
              <a:rPr b="1" lang="zh-CN" sz="2400" spc="-1" strike="noStrike">
                <a:solidFill>
                  <a:srgbClr val="000000"/>
                </a:solidFill>
                <a:latin typeface="隶书"/>
                <a:ea typeface="隶书"/>
              </a:rPr>
              <a:t>点，江西、辽宁、澳门代表团安排开放。”</a:t>
            </a:r>
            <a:r>
              <a:rPr b="1" lang="zh-CN" sz="2400" spc="-1" strike="noStrike">
                <a:solidFill>
                  <a:srgbClr val="000000"/>
                </a:solidFill>
                <a:latin typeface="隶书"/>
                <a:ea typeface="隶书"/>
              </a:rPr>
              <a:t>2016</a:t>
            </a:r>
            <a:r>
              <a:rPr b="1" lang="zh-CN" sz="2400" spc="-1" strike="noStrike">
                <a:solidFill>
                  <a:srgbClr val="000000"/>
                </a:solidFill>
                <a:latin typeface="隶书"/>
                <a:ea typeface="隶书"/>
              </a:rPr>
              <a:t>年全国人大会议一开幕，十二届全国人大四次会议新闻中心的这则公告就立即在记者的朋友圈迅速刷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截至</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12</a:t>
            </a:r>
            <a:r>
              <a:rPr b="1" lang="zh-CN" sz="2400" spc="-1" strike="noStrike">
                <a:solidFill>
                  <a:srgbClr val="000000"/>
                </a:solidFill>
                <a:latin typeface="隶书"/>
                <a:ea typeface="隶书"/>
              </a:rPr>
              <a:t>日，全国人大会议已经举行了</a:t>
            </a:r>
            <a:r>
              <a:rPr b="1" lang="zh-CN" sz="2400" spc="-1" strike="noStrike">
                <a:solidFill>
                  <a:srgbClr val="000000"/>
                </a:solidFill>
                <a:latin typeface="隶书"/>
                <a:ea typeface="隶书"/>
              </a:rPr>
              <a:t>36</a:t>
            </a:r>
            <a:r>
              <a:rPr b="1" lang="zh-CN" sz="2400" spc="-1" strike="noStrike">
                <a:solidFill>
                  <a:srgbClr val="000000"/>
                </a:solidFill>
                <a:latin typeface="隶书"/>
                <a:ea typeface="隶书"/>
              </a:rPr>
              <a:t>团次的开放日活动，其中仅澳门代表团就已安排了</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次。各代表团的履职场景，原汁原味呈现在世界的聚光灯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近几年来，代表团向中外记者开放，受到各方的关注越来越高。在这个履职参政的大平台、共商国事的大舞台上，各代表团与中外记者面对面，回应热点、直面焦点、不避难点，让世界倾听到中国更加开放的脚步、感受到中国更高质量的民主。</a:t>
            </a:r>
            <a:endParaRPr b="0" lang="en-US" sz="2400" spc="-1" strike="noStrike">
              <a:solidFill>
                <a:srgbClr val="000000"/>
              </a:solidFill>
              <a:latin typeface="Arial"/>
            </a:endParaRPr>
          </a:p>
        </p:txBody>
      </p:sp>
      <p:pic>
        <p:nvPicPr>
          <p:cNvPr id="141" name="图片 430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赞助型公共关系专题活动</a:t>
            </a:r>
            <a:endParaRPr b="0" lang="en-US" sz="40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赞助活动是社会组无偿地提供资金或物质支持某一项社会事业或社会活动，以获得一定形象传播效益的公共关系专题活动。它可以使提供赞助的组织与赞助的项目同步成名，是一种信誉投资和感情投资行为，也是一种有效的公共关系手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26208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华为借道赞助强攻美国市场</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据国外媒体报道</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男子音乐组合乔纳斯兄弟乐队</a:t>
            </a:r>
            <a:r>
              <a:rPr b="0" lang="zh-CN" sz="2800" spc="-1" strike="noStrike">
                <a:solidFill>
                  <a:srgbClr val="000000"/>
                </a:solidFill>
                <a:latin typeface="隶书"/>
                <a:ea typeface="隶书"/>
              </a:rPr>
              <a:t>(Jonas Brothers)</a:t>
            </a:r>
            <a:r>
              <a:rPr b="0" lang="zh-CN" sz="2800" spc="-1" strike="noStrike">
                <a:solidFill>
                  <a:srgbClr val="000000"/>
                </a:solidFill>
                <a:latin typeface="隶书"/>
                <a:ea typeface="隶书"/>
              </a:rPr>
              <a:t>上周登上舞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在芝加哥为上万名疯狂的粉丝献唱。尽管观众们可能没有发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但事实上</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乔纳斯兄弟乐队的开唱还是为美国最受诽谤的科技品牌——华为——提供了自我展示的机会。</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华为是一家拥有</a:t>
            </a:r>
            <a:r>
              <a:rPr b="0" lang="zh-CN" sz="2800" spc="-1" strike="noStrike">
                <a:solidFill>
                  <a:srgbClr val="000000"/>
                </a:solidFill>
                <a:latin typeface="隶书"/>
                <a:ea typeface="隶书"/>
              </a:rPr>
              <a:t>350</a:t>
            </a:r>
            <a:r>
              <a:rPr b="0" lang="zh-CN" sz="2800" spc="-1" strike="noStrike">
                <a:solidFill>
                  <a:srgbClr val="000000"/>
                </a:solidFill>
                <a:latin typeface="隶书"/>
                <a:ea typeface="隶书"/>
              </a:rPr>
              <a:t>亿美元身价的公司</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影响力遍布全球</a:t>
            </a:r>
            <a:r>
              <a:rPr b="0" lang="zh-CN" sz="2800" spc="-1" strike="noStrike">
                <a:solidFill>
                  <a:srgbClr val="000000"/>
                </a:solidFill>
                <a:latin typeface="隶书"/>
                <a:ea typeface="隶书"/>
              </a:rPr>
              <a:t>150</a:t>
            </a:r>
            <a:r>
              <a:rPr b="0" lang="zh-CN" sz="2800" spc="-1" strike="noStrike">
                <a:solidFill>
                  <a:srgbClr val="000000"/>
                </a:solidFill>
                <a:latin typeface="隶书"/>
                <a:ea typeface="隶书"/>
              </a:rPr>
              <a:t>多个市场。但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在美国市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华为却一直遭受冷遇。去年</a:t>
            </a:r>
            <a:r>
              <a:rPr b="0" lang="zh-CN" sz="2800" spc="-1" strike="noStrike">
                <a:solidFill>
                  <a:srgbClr val="000000"/>
                </a:solidFill>
                <a:latin typeface="隶书"/>
                <a:ea typeface="隶书"/>
              </a:rPr>
              <a:t>10</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部分国会议员捕风捉影</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毫无证据地谴责华为可能是中国政府“破坏美国现代生活”的工具之一。华为并非中国的国有企业</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但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国会议员却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中国政府可能利用华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以此作为一种渠道来进一步对美国发动网络大战。</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74320" y="358920"/>
            <a:ext cx="88218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这样的情况之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创始人兼首席执行官任正非也打破</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年沉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开否认美国的指责。当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在美国的业务仍然没有起色。华为公司甚至一度声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将放弃美国市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在被美方认为华为是该国的竞争敌手的</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个月之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如今的华为却成为乔纳斯兄弟</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巡回演唱会的主要赞助商。一个有趣的问题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为什么是现在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打造电子网络是华为的重要发展渠道</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除此之外</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也有了其他的重要发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即开发手机和平板电脑等设备。手机和平板电脑如今也成为华为公司增长速度最快的部分业务。华为公司推出了全球最大的</a:t>
            </a:r>
            <a:r>
              <a:rPr b="0" lang="zh-CN" sz="2400" spc="-1" strike="noStrike">
                <a:solidFill>
                  <a:srgbClr val="000000"/>
                </a:solidFill>
                <a:latin typeface="隶书"/>
                <a:ea typeface="隶书"/>
              </a:rPr>
              <a:t>6.1</a:t>
            </a:r>
            <a:r>
              <a:rPr b="0" lang="zh-CN" sz="2400" spc="-1" strike="noStrike">
                <a:solidFill>
                  <a:srgbClr val="000000"/>
                </a:solidFill>
                <a:latin typeface="隶书"/>
                <a:ea typeface="隶书"/>
              </a:rPr>
              <a:t>英寸显示屏的智能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手机也是全球最薄的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只有</a:t>
            </a:r>
            <a:r>
              <a:rPr b="0" lang="zh-CN" sz="2400" spc="-1" strike="noStrike">
                <a:solidFill>
                  <a:srgbClr val="000000"/>
                </a:solidFill>
                <a:latin typeface="隶书"/>
                <a:ea typeface="隶书"/>
              </a:rPr>
              <a:t>6.18</a:t>
            </a:r>
            <a:r>
              <a:rPr b="0" lang="zh-CN" sz="2400" spc="-1" strike="noStrike">
                <a:solidFill>
                  <a:srgbClr val="000000"/>
                </a:solidFill>
                <a:latin typeface="隶书"/>
                <a:ea typeface="隶书"/>
              </a:rPr>
              <a:t>毫米。之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又推出了全球最大的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次是一款</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英寸平板电脑</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可以用作手机拨打或接听电话。</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华为公司美国设备部门执行副总裁迈克尔</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常</a:t>
            </a:r>
            <a:r>
              <a:rPr b="0" lang="zh-CN" sz="2400" spc="-1" strike="noStrike">
                <a:solidFill>
                  <a:srgbClr val="000000"/>
                </a:solidFill>
                <a:latin typeface="隶书"/>
                <a:ea typeface="隶书"/>
              </a:rPr>
              <a:t>(Michael Chuang)</a:t>
            </a:r>
            <a:r>
              <a:rPr b="0" lang="zh-CN" sz="2400" spc="-1" strike="noStrike">
                <a:solidFill>
                  <a:srgbClr val="000000"/>
                </a:solidFill>
                <a:latin typeface="隶书"/>
                <a:ea typeface="隶书"/>
              </a:rPr>
              <a:t>在声明中声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我们计划在未来几年能够成为业界领先的智能手机品牌。这样的赞助活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只是我们未来几个月中更多的赞助之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我们想要展现我们的潜力。”也就是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今后美国人可能会听到大量有关华为的消息。</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一、赞助活动的类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赞助体育运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赞助文化活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赞助教育事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赞助社会慈善和福利事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48" name="图片 45060" descr="u=979307333,699828744&amp;fm=0&amp;gp=0">
            <a:hlinkClick r:id="rId1"/>
          </p:cNvPr>
          <p:cNvPicPr/>
          <p:nvPr/>
        </p:nvPicPr>
        <p:blipFill>
          <a:blip r:embed="rId2"/>
          <a:stretch/>
        </p:blipFill>
        <p:spPr>
          <a:xfrm>
            <a:off x="6477120" y="2133720"/>
            <a:ext cx="2286000" cy="2133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620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访玛莎拉蒂高管：运动是我们的基因 赞助名人赛双赢</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8</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日，由腾讯体育举办的首届超级企鹅足球名人赛在上海虹口体育场打响。现场，由皮尔洛、吉格斯、巴拉克等十余位国际巨星领衔的超级企鹅国际传奇队，对阵米卢挂帅，范志毅、杨晨领衔，以及全能艺人鹿晗加盟的超级企鹅中国明星队。</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这一体育与娱乐跨界的盛世，吸引了诸多高端品牌的关注。作为有百年底蕴的意大利超豪华汽车品牌，玛莎拉蒂成为了超级企鹅足球名人赛的指定用车。所有巨星，都乘坐着玛莎拉蒂来往于上海。腾讯体育也获得了宝贵的机会，可以与玛莎拉蒂中国销售总监沈钢先生交流，谈一谈玛莎拉蒂的品牌内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赞助活动的步骤</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明确赞助活动的目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而言，组织赞助活动的目的主要有：（</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追求新闻效应，扩大社会影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增强广告效果，提高经济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联络公众感情，改善社会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提高社会效益，树立良好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进行调查研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要获取良好的赞助效果，就必须事前对赞助活动进行调查研究，考察本次的赞助对组织、对公众对是否有益，能否起到宣传的作用，并制定可行性报告。</a:t>
            </a:r>
            <a:endParaRPr b="0" lang="en-US" sz="3200" spc="-1" strike="noStrike">
              <a:solidFill>
                <a:srgbClr val="000000"/>
              </a:solidFill>
              <a:latin typeface="Arial"/>
            </a:endParaRPr>
          </a:p>
        </p:txBody>
      </p:sp>
      <p:pic>
        <p:nvPicPr>
          <p:cNvPr id="154" name="图片 47108" descr="u=1270659850,1791593565&amp;fm=0&amp;gp=0">
            <a:hlinkClick r:id="rId1"/>
          </p:cNvPr>
          <p:cNvPicPr/>
          <p:nvPr/>
        </p:nvPicPr>
        <p:blipFill>
          <a:blip r:embed="rId2"/>
          <a:stretch/>
        </p:blipFill>
        <p:spPr>
          <a:xfrm>
            <a:off x="457200" y="4343400"/>
            <a:ext cx="2057400" cy="2286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制定赞助活动的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在进行赞助前，要根据组织的经济实力、经营目标与策略等情况，制定赞助计划，写明赞助对象的范围、经费用预算、赞助形式、组织管理办法等，以做到有计划、有控制地进行活动。计划制定好以后，要派专门的公共关系人员负责各项赞助方案的具体实施，运用公共关系技巧去扩大组织的社会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赞助活动的实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应派专人负责赞助方案的落实，同时在赞助活动中要充分运用各种公共关系技巧，塑造组织形象，并为组织进行恰到好处的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题活动的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提高企业的知名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为促进产品的销售服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提高组织的美誉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联络与公众的感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挽回不良影响。</a:t>
            </a:r>
            <a:endParaRPr b="0" lang="en-US" sz="3200" spc="-1" strike="noStrike">
              <a:solidFill>
                <a:srgbClr val="000000"/>
              </a:solidFill>
              <a:latin typeface="Arial"/>
            </a:endParaRPr>
          </a:p>
        </p:txBody>
      </p:sp>
      <p:pic>
        <p:nvPicPr>
          <p:cNvPr id="54" name="图片 9220" descr="u=1776264308,908613155&amp;fm=0&amp;gp=0">
            <a:hlinkClick r:id="rId1"/>
          </p:cNvPr>
          <p:cNvPicPr/>
          <p:nvPr/>
        </p:nvPicPr>
        <p:blipFill>
          <a:blip r:embed="rId2"/>
          <a:stretch/>
        </p:blipFill>
        <p:spPr>
          <a:xfrm>
            <a:off x="6858000" y="2209680"/>
            <a:ext cx="1523880" cy="2514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赞助效果的评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赞助是一项重大的专题活动，每次赞助活动结束后，都应对其效果进行调查评定，从而检验赞助是否达到了预期的效果，实现了哪些预定的目标等，为以后的赞助决策提供参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提供赞助的决策依据</a:t>
            </a:r>
            <a:endParaRPr b="0" lang="en-US" sz="4400" spc="-1" strike="noStrike">
              <a:solidFill>
                <a:srgbClr val="000000"/>
              </a:solidFill>
              <a:latin typeface="Arial"/>
            </a:endParaRPr>
          </a:p>
        </p:txBody>
      </p:sp>
      <p:sp>
        <p:nvSpPr>
          <p:cNvPr id="1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赞助的社会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在考虑社会效益的前提下，考虑组织的经济效益，并使二者有机地结合在一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优先考虑的赞助项目是与本组织有联系或有关系的项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本组织的财政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对于既无社会效益，又与本组织经济效益毫无关系的赞助请求，要敢于回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企业的赞助活动还应该注意以下事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①</a:t>
            </a:r>
            <a:r>
              <a:rPr b="0" lang="zh-CN" sz="2800" spc="-1" strike="noStrike">
                <a:solidFill>
                  <a:srgbClr val="000000"/>
                </a:solidFill>
                <a:latin typeface="Arial"/>
                <a:ea typeface="隶书"/>
              </a:rPr>
              <a:t>以企业和企业所面对的社会环境为出发点，制定出切实可行的公共关系政策、方针和策略，切忌盲目。</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②</a:t>
            </a:r>
            <a:r>
              <a:rPr b="0" lang="zh-CN" sz="2800" spc="-1" strike="noStrike">
                <a:solidFill>
                  <a:srgbClr val="000000"/>
                </a:solidFill>
                <a:latin typeface="Arial"/>
                <a:ea typeface="隶书"/>
              </a:rPr>
              <a:t>企业应将公共关系政策公之于众，应保持与被赞助者和需要赞助的活动组织者之间的联系，用财政预算的应捐款项，及时帮助求助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③</a:t>
            </a:r>
            <a:r>
              <a:rPr b="0" lang="zh-CN" sz="2800" spc="-1" strike="noStrike">
                <a:solidFill>
                  <a:srgbClr val="000000"/>
                </a:solidFill>
                <a:latin typeface="Arial"/>
                <a:ea typeface="隶书"/>
              </a:rPr>
              <a:t>企业的公共关系部，应随时把握社会赞助的供求状况，做到灵活掌握赞助款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④</a:t>
            </a:r>
            <a:r>
              <a:rPr b="0" lang="zh-CN" sz="2800" spc="-1" strike="noStrike">
                <a:solidFill>
                  <a:srgbClr val="000000"/>
                </a:solidFill>
                <a:latin typeface="Arial"/>
                <a:ea typeface="隶书"/>
              </a:rPr>
              <a:t>企业对赞助活动的科学管理，必使其善举“广”行，由此创造出的良好的社会效益，必然会得到社会的广泛支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节 庆典联谊型专题活动</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庆典活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庆典活动，是社会组织为庆祝某一重大事件而举行的一种公共关系专题活动，它表现为组织在其内部发生值得庆祝的重要事件时，或围绕重要节日而举行的庆祝活动，组织一般将其视为一种制度和礼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拟定宾客名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确定典礼程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安排致辞、剪彩人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安排庆典后活动</a:t>
            </a:r>
            <a:endParaRPr b="0" lang="en-US" sz="3200" spc="-1" strike="noStrike">
              <a:solidFill>
                <a:srgbClr val="000000"/>
              </a:solidFill>
              <a:latin typeface="Arial"/>
            </a:endParaRPr>
          </a:p>
        </p:txBody>
      </p:sp>
      <p:pic>
        <p:nvPicPr>
          <p:cNvPr id="169" name="图片 54276" descr="u=605400842,291993146&amp;fm=0&amp;gp=0">
            <a:hlinkClick r:id="rId1"/>
          </p:cNvPr>
          <p:cNvPicPr/>
          <p:nvPr/>
        </p:nvPicPr>
        <p:blipFill>
          <a:blip r:embed="rId2"/>
          <a:stretch/>
        </p:blipFill>
        <p:spPr>
          <a:xfrm>
            <a:off x="1676520" y="4495680"/>
            <a:ext cx="2819160" cy="1905120"/>
          </a:xfrm>
          <a:prstGeom prst="rect">
            <a:avLst/>
          </a:prstGeom>
          <a:ln w="0">
            <a:noFill/>
          </a:ln>
        </p:spPr>
      </p:pic>
      <p:pic>
        <p:nvPicPr>
          <p:cNvPr id="170" name="图片 54278" descr="u=804077115,1564508977&amp;fm=0&amp;gp=0">
            <a:hlinkClick r:id="rId3"/>
          </p:cNvPr>
          <p:cNvPicPr/>
          <p:nvPr/>
        </p:nvPicPr>
        <p:blipFill>
          <a:blip r:embed="rId4"/>
          <a:stretch/>
        </p:blipFill>
        <p:spPr>
          <a:xfrm>
            <a:off x="6400800" y="1676520"/>
            <a:ext cx="2438280" cy="2133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2" name=""/>
          <p:cNvSpPr txBox="1"/>
          <p:nvPr/>
        </p:nvSpPr>
        <p:spPr>
          <a:xfrm>
            <a:off x="252000" y="1600200"/>
            <a:ext cx="8434440" cy="50292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别开生面的庆典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一天</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美国某连锁店的公司总部办公楼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鲜艳的彩旗在微风中轻柔地飘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争奇斗艳的鲜花传递着温馨的情意。络绎不绝的人群纷纷涌向这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里里外外挤得水泄不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记者的闪光灯不停地闪烁</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场别开生面的庆典活动在一种情趣盎然的氛围中拉开了序幕。华丽的大厅响起了一阵阵美妙的鼓乐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总裁庄重地端起酒杯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女士们、先生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承蒙诸位莅临本公司开业</a:t>
            </a:r>
            <a:r>
              <a:rPr b="0" lang="zh-CN" sz="2400" spc="-1" strike="noStrike">
                <a:solidFill>
                  <a:srgbClr val="000000"/>
                </a:solidFill>
                <a:latin typeface="隶书"/>
                <a:ea typeface="隶书"/>
              </a:rPr>
              <a:t>30</a:t>
            </a:r>
            <a:r>
              <a:rPr b="0" lang="zh-CN" sz="2400" spc="-1" strike="noStrike">
                <a:solidFill>
                  <a:srgbClr val="000000"/>
                </a:solidFill>
                <a:latin typeface="隶书"/>
                <a:ea typeface="隶书"/>
              </a:rPr>
              <a:t>周年庆典活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敝公司不胜荣幸。请允许我代表本公司的全体员工及我们的‘上帝’向这位在商店门口擦了</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年皮鞋的老人表达我们最诚挚的敬意和衷心的感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愿老人家健康长寿。然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今天仅仅为老人举杯祝福仍难以表达我们的心愿。”说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总裁在众目睽睽之下蹲下身子</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请老年人坐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亲自为他擦亮脚上的皮鞋。这突如其来的举动顿时令这位含辛茹苦、饱经风霜的老人老泪纵横</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来宾们群情沸腾</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欢声四起。翌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美国的各种大众传播媒介多角度、多层次地将这一庆典活动辐射到全国各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轰动了整个美国。此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公司的营业额扶摇直上</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利润成倍增加。</a:t>
            </a:r>
            <a:endParaRPr b="0" lang="en-US" sz="2400" spc="-1" strike="noStrike">
              <a:solidFill>
                <a:srgbClr val="000000"/>
              </a:solidFill>
              <a:latin typeface="Arial"/>
            </a:endParaRPr>
          </a:p>
        </p:txBody>
      </p:sp>
      <p:pic>
        <p:nvPicPr>
          <p:cNvPr id="173" name="图片 552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联谊活动</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联谊活动的类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联谊活动是有层次的，由低到高、由浅人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般可以分为三个层次：</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一是感情型的，以联络感情为主，如节假日、周年庆等机会，互致信函，互赠纪念品、出席庆祝活动，相互留下良好印象，为以后的联系奠定盛情基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二是信息型的，以互相沟通信息为主要内容，就各自掌握的与双方有关的信息进行交流。</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三是合作型的，这是高层次的联谊，是联谊活动成果的最终体现。通过一些生产项目、经营项目、研究项目的合作，促进双方经济效益和社会效益的提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二）联谊活动的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首先要遵循真诚的原则，绝不损人利己、损公肥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其次要遵循互惠互利的原则应在不损害社会利益的前提下使联谊双方共同受益。</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最后还要遵循效益的原则，争取在有限的时间和空间范围内取得最大的效益，少花钱多办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r>
              <a:rPr b="0" lang="zh-CN" sz="2800" spc="-1" strike="noStrike">
                <a:solidFill>
                  <a:srgbClr val="000000"/>
                </a:solidFill>
                <a:latin typeface="Arial"/>
                <a:ea typeface="隶书"/>
              </a:rPr>
              <a:t>各种类型的联谊会可以是参加者自娱自乐，也可以邀请文艺界专业人士参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筹备联谊会的工作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明确联谊会的主题，并确定联谊会名称。如某酒店以“饮食与健康”为主题，举办了“美食家联谊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安排活动程序，并印刷联谊会节目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确定时间、地点、活动场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确定应邀对象，发出请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1" name=""/>
          <p:cNvSpPr txBox="1"/>
          <p:nvPr/>
        </p:nvSpPr>
        <p:spPr>
          <a:xfrm>
            <a:off x="456840" y="16002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购买活动所需要的物资。如礼品、奖品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布置活动场地，并安排专人负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7</a:t>
            </a:r>
            <a:r>
              <a:rPr b="0" lang="zh-CN" sz="3200" spc="-1" strike="noStrike">
                <a:solidFill>
                  <a:srgbClr val="000000"/>
                </a:solidFill>
                <a:latin typeface="隶书"/>
                <a:ea typeface="隶书"/>
              </a:rPr>
              <a:t>）安排礼仪人员负责导游、接待、解释有关询问等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派专人摄影、录相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9</a:t>
            </a:r>
            <a:r>
              <a:rPr b="0" lang="zh-CN" sz="3200" spc="-1" strike="noStrike">
                <a:solidFill>
                  <a:srgbClr val="000000"/>
                </a:solidFill>
                <a:latin typeface="隶书"/>
                <a:ea typeface="隶书"/>
              </a:rPr>
              <a:t>）准备好讲话稿、座谈会的讲话提纲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0</a:t>
            </a:r>
            <a:r>
              <a:rPr b="0" lang="zh-CN" sz="3200" spc="-1" strike="noStrike">
                <a:solidFill>
                  <a:srgbClr val="000000"/>
                </a:solidFill>
                <a:latin typeface="隶书"/>
                <a:ea typeface="隶书"/>
              </a:rPr>
              <a:t>）准备好需要穿插的文艺、体育节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000" spc="-1" strike="noStrike">
                <a:solidFill>
                  <a:srgbClr val="000000"/>
                </a:solidFill>
                <a:latin typeface="Arial"/>
                <a:ea typeface="隶书"/>
              </a:rPr>
              <a:t>二、专题活动的种类</a:t>
            </a:r>
            <a:br>
              <a:rPr sz="4000"/>
            </a:br>
            <a:br>
              <a:rPr sz="4000"/>
            </a:br>
            <a:endParaRPr b="0" lang="en-US" sz="40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按专题活动的规模划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按公共关系专题活动的规模为依据，专题活动可分为小型公共关系专题活动、大型公共关系专题活动和系列公共关系专题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某公司客户联谊活动程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 </a:t>
            </a:r>
            <a:r>
              <a:rPr b="1" lang="zh-CN" sz="2400" spc="-1" strike="noStrike">
                <a:solidFill>
                  <a:srgbClr val="000000"/>
                </a:solidFill>
                <a:latin typeface="隶书"/>
                <a:ea typeface="隶书"/>
              </a:rPr>
              <a:t>开场阶段：（</a:t>
            </a:r>
            <a:r>
              <a:rPr b="1" lang="en-US" sz="2400" spc="-1" strike="noStrike">
                <a:solidFill>
                  <a:srgbClr val="000000"/>
                </a:solidFill>
                <a:latin typeface="隶书"/>
                <a:ea typeface="隶书"/>
              </a:rPr>
              <a:t>3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董事长（总经理）致辞并介绍公司业务及业务开展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业务负责人介绍双方合作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主要客户介绍合作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 </a:t>
            </a:r>
            <a:r>
              <a:rPr b="1" lang="zh-CN" sz="2400" spc="-1" strike="noStrike">
                <a:solidFill>
                  <a:srgbClr val="000000"/>
                </a:solidFill>
                <a:latin typeface="隶书"/>
                <a:ea typeface="隶书"/>
              </a:rPr>
              <a:t>表演阶段：（</a:t>
            </a:r>
            <a:r>
              <a:rPr b="1" lang="en-US" sz="2400" spc="-1" strike="noStrike">
                <a:solidFill>
                  <a:srgbClr val="000000"/>
                </a:solidFill>
                <a:latin typeface="隶书"/>
                <a:ea typeface="隶书"/>
              </a:rPr>
              <a:t>12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主持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当地电视台（电台）首席主持人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节目表演：外聘杂技、魔术、小品、相声</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个，歌舞</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个（公司内部组织</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个）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以来宾圆桌小组为评选单位，对每个节目进行评分。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奖品设置：最佳表演节目</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个，最佳评委团队</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个。</a:t>
            </a:r>
            <a:endParaRPr b="0" lang="en-US" sz="2400" spc="-1" strike="noStrike">
              <a:solidFill>
                <a:srgbClr val="000000"/>
              </a:solidFill>
              <a:latin typeface="Arial"/>
            </a:endParaRPr>
          </a:p>
        </p:txBody>
      </p:sp>
      <p:pic>
        <p:nvPicPr>
          <p:cNvPr id="184" name="图片 6041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拍卖阶段：（</a:t>
            </a:r>
            <a:r>
              <a:rPr b="1" lang="en-US" sz="2400" spc="-1" strike="noStrike">
                <a:solidFill>
                  <a:srgbClr val="000000"/>
                </a:solidFill>
                <a:latin typeface="隶书"/>
                <a:ea typeface="隶书"/>
              </a:rPr>
              <a:t>3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前场铺垫：</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爱的奉献</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主题音乐、道具物品整理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拍卖介绍：目的是捐赠希望工程的慈善义举；标的由公司免费提供，竞拍者出钱得物；竞胜者现场获得“荣誉捐赠证书”；新闻媒体相关报道。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拍卖活动：介绍拍卖规则、展开拍卖活动、预期成交额</a:t>
            </a:r>
            <a:r>
              <a:rPr b="0" lang="en-US" sz="2400" spc="-1" strike="noStrike">
                <a:solidFill>
                  <a:srgbClr val="000000"/>
                </a:solidFill>
                <a:latin typeface="隶书"/>
                <a:ea typeface="隶书"/>
              </a:rPr>
              <a:t>15000-20000</a:t>
            </a:r>
            <a:r>
              <a:rPr b="0" lang="zh-CN" sz="2400" spc="-1" strike="noStrike">
                <a:solidFill>
                  <a:srgbClr val="000000"/>
                </a:solidFill>
                <a:latin typeface="隶书"/>
                <a:ea typeface="隶书"/>
              </a:rPr>
              <a:t>元。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民政部门代表致答谢词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晚宴阶段</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公司领导致辞祝福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宴会开席、发放纪念品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活动结束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图片 614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89" name="文本占位符 62467" descr=""/>
          <p:cNvPicPr/>
          <p:nvPr/>
        </p:nvPicPr>
        <p:blipFill>
          <a:blip r:embed="rId1"/>
          <a:stretch/>
        </p:blipFill>
        <p:spPr>
          <a:xfrm>
            <a:off x="852480" y="1647720"/>
            <a:ext cx="7439040" cy="4429080"/>
          </a:xfrm>
          <a:prstGeom prst="rect">
            <a:avLst/>
          </a:prstGeom>
          <a:ln w="0">
            <a:noFill/>
          </a:ln>
        </p:spPr>
      </p:pic>
      <p:pic>
        <p:nvPicPr>
          <p:cNvPr id="190" name="图片 6246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为一知名的服装生产企业设计一开放参观活动，围绕开放参观活动的主题展开设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模拟记者招待会的程序，为某企业策划一次新产品开发的记者招待会。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图片 64515"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新闻发布的作用是什么？如何开好新闻发布会？</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展览会有什么特点？企业策划参加展览会应该考虑哪些因素？</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赞助活动的基本类型有哪些？基本原则是什么？</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组织庆典活动、参观活动、联谊活动分别需要做好哪些方面的工作</a:t>
            </a:r>
            <a:r>
              <a:rPr b="0" lang="en-US" sz="3200" spc="-1" strike="noStrike">
                <a:solidFill>
                  <a:srgbClr val="000000"/>
                </a:solidFill>
                <a:latin typeface="隶书"/>
                <a:ea typeface="隶书"/>
              </a:rPr>
              <a:t>?</a:t>
            </a:r>
            <a:endParaRPr b="0" lang="en-US" sz="3200" spc="-1" strike="noStrike">
              <a:solidFill>
                <a:srgbClr val="000000"/>
              </a:solidFill>
              <a:latin typeface="Arial"/>
            </a:endParaRPr>
          </a:p>
        </p:txBody>
      </p:sp>
      <p:pic>
        <p:nvPicPr>
          <p:cNvPr id="196" name="图片 63491" descr="u=3195011,1001521202&amp;fm=0&amp;gp=0">
            <a:hlinkClick r:id="rId1"/>
          </p:cNvPr>
          <p:cNvPicPr/>
          <p:nvPr/>
        </p:nvPicPr>
        <p:blipFill>
          <a:blip r:embed="rId2"/>
          <a:stretch/>
        </p:blipFill>
        <p:spPr>
          <a:xfrm>
            <a:off x="44956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按专题活动的性质划分</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公益性活动</a:t>
            </a:r>
            <a:r>
              <a:rPr b="0" lang="zh-CN" sz="2800" spc="-1" strike="noStrike">
                <a:solidFill>
                  <a:srgbClr val="000000"/>
                </a:solidFill>
                <a:latin typeface="隶书"/>
                <a:ea typeface="隶书"/>
              </a:rPr>
              <a:t>主要有环保活动、慈善活动、敬老活动、救灾活动等。</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社会工作活动</a:t>
            </a:r>
            <a:r>
              <a:rPr b="0" lang="zh-CN" sz="2800" spc="-1" strike="noStrike">
                <a:solidFill>
                  <a:srgbClr val="000000"/>
                </a:solidFill>
                <a:latin typeface="隶书"/>
                <a:ea typeface="隶书"/>
              </a:rPr>
              <a:t>主要有文明礼貌、道德教育、公民教育等属于社会工作范畴类的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专业性活动</a:t>
            </a:r>
            <a:r>
              <a:rPr b="0" lang="zh-CN" sz="2800" spc="-1" strike="noStrike">
                <a:solidFill>
                  <a:srgbClr val="000000"/>
                </a:solidFill>
                <a:latin typeface="隶书"/>
                <a:ea typeface="隶书"/>
              </a:rPr>
              <a:t>主要有科技、文学、艺术、体育等专业内容十分突出的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商业性活动</a:t>
            </a:r>
            <a:r>
              <a:rPr b="0" lang="zh-CN" sz="2800" spc="-1" strike="noStrike">
                <a:solidFill>
                  <a:srgbClr val="000000"/>
                </a:solidFill>
                <a:latin typeface="隶书"/>
                <a:ea typeface="隶书"/>
              </a:rPr>
              <a:t>主要有与消费者沟通的活动、商业促销活动、商业推广宣传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综合性活动</a:t>
            </a:r>
            <a:r>
              <a:rPr b="0" lang="zh-CN" sz="2800" spc="-1" strike="noStrike">
                <a:solidFill>
                  <a:srgbClr val="000000"/>
                </a:solidFill>
                <a:latin typeface="隶书"/>
                <a:ea typeface="隶书"/>
              </a:rPr>
              <a:t>主要是集各种性质的活动为一体，例如旅游节、服装节、文化节、美食周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按专题活动的内容划分</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典礼型活动</a:t>
            </a:r>
            <a:r>
              <a:rPr b="0" lang="zh-CN" sz="2400" spc="-1" strike="noStrike">
                <a:solidFill>
                  <a:srgbClr val="000000"/>
                </a:solidFill>
                <a:latin typeface="隶书"/>
                <a:ea typeface="隶书"/>
              </a:rPr>
              <a:t>包括有奠基典礼、落成典礼、开业典礼、签字仪式、剪彩仪式、就职仪式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喜庆型活动</a:t>
            </a:r>
            <a:r>
              <a:rPr b="0" lang="zh-CN" sz="2400" spc="-1" strike="noStrike">
                <a:solidFill>
                  <a:srgbClr val="000000"/>
                </a:solidFill>
                <a:latin typeface="隶书"/>
                <a:ea typeface="隶书"/>
              </a:rPr>
              <a:t>包括周年贺庆、庆功会、颁奖会、节日联欢会、庆祝宴会、节日舞会、大型文艺演出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会议型活动</a:t>
            </a:r>
            <a:r>
              <a:rPr b="0" lang="zh-CN" sz="2400" spc="-1" strike="noStrike">
                <a:solidFill>
                  <a:srgbClr val="000000"/>
                </a:solidFill>
                <a:latin typeface="隶书"/>
                <a:ea typeface="隶书"/>
              </a:rPr>
              <a:t>包括有研讨会、洽谈会、鉴定会、交流会、座谈会、演讲会。</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展示型活动</a:t>
            </a:r>
            <a:r>
              <a:rPr b="0" lang="zh-CN" sz="2400" spc="-1" strike="noStrike">
                <a:solidFill>
                  <a:srgbClr val="000000"/>
                </a:solidFill>
                <a:latin typeface="隶书"/>
                <a:ea typeface="隶书"/>
              </a:rPr>
              <a:t>包括有展览、展销、促销、开放参观等。新闻传播型活动包括有公共关系新闻传播、谋划新闻事件、新闻采访接待、记者招待会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竞赛型活动</a:t>
            </a:r>
            <a:r>
              <a:rPr b="0" lang="zh-CN" sz="2400" spc="-1" strike="noStrike">
                <a:solidFill>
                  <a:srgbClr val="000000"/>
                </a:solidFill>
                <a:latin typeface="隶书"/>
                <a:ea typeface="隶书"/>
              </a:rPr>
              <a:t>包括有以企业名称命名的体育比赛、歌咏比赛、摄影比赛、征文比赛、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专题活动的策划原则</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zh-CN" sz="2400" spc="-1" strike="noStrike">
                <a:solidFill>
                  <a:srgbClr val="ff0000"/>
                </a:solidFill>
                <a:latin typeface="隶书"/>
                <a:ea typeface="隶书"/>
              </a:rPr>
              <a:t>一）社会性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政策的要求。</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社会热点要求。</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传统习惯的要求。</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伦理道德的要求。</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二）科学性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题活动的科学性原则包括两层含义：一是策划要符合科学的原则；二是策划时要充分应用现代科学技术的原则。</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三）实效性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对于大型的专题活动而言，讲求实效具有更重要的意义。企业投入的前提是希望能达到预期的产出，这是所有大型活动决策者都必然关注的问题。</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四）创新性与可操作性相结合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创新性就是提出创造性的主意，使组织主办的专题活动产生与众不同特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18Z</dcterms:created>
  <dc:creator/>
  <dc:description/>
  <dc:language>en-US</dc:language>
  <cp:lastModifiedBy>lilanying</cp:lastModifiedBy>
  <dcterms:modified xsi:type="dcterms:W3CDTF">2021-08-30T19:41:40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