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31537-045F-4301-95D7-144C60C3F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B21D9-142F-4D70-83B8-419C49CE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E8F9B-B68F-41E5-84A1-C76B2090B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DDFD0-3451-4D4B-9419-988973ED0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B923-0E9E-4C3A-AB68-042423882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6994-05BF-4C04-AE84-A2C4DA1A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010F-740B-438E-AA98-80F265FC8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E5BAA-EBC5-4783-9B5C-50F6AC09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F25E-AC3B-4B1D-968D-1A1996609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34AD-16EA-44E7-A6A8-4040CDEC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6D27-96A9-427F-BEF1-DC9AC68D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7FED9-38B9-4AE9-96B0-95303E708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51&amp;rn=1&amp;di=8809259493&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51&amp;rn=1&amp;di=8809259493&amp;ln=1&amp;fr=&amp;ic=0&amp;s=0&amp;se=1&amp;sme=0"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image.baidu.com/i?ct=503316480&amp;z=0&amp;tn=baiduimagedetail&amp;word=%D3%F1%C0%BC%D3%CD&amp;in=21115&amp;cl=2&amp;lm=-1&amp;pn=13&amp;rn=1&amp;di=55701198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八章 公共关系在其他领域的应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63" name="图片 29699" descr="j0292020"/>
          <p:cNvPicPr/>
          <p:nvPr/>
        </p:nvPicPr>
        <p:blipFill>
          <a:blip r:embed="rId1"/>
          <a:stretch/>
        </p:blipFill>
        <p:spPr>
          <a:xfrm>
            <a:off x="609480" y="0"/>
            <a:ext cx="1868760" cy="1773360"/>
          </a:xfrm>
          <a:prstGeom prst="rect">
            <a:avLst/>
          </a:prstGeom>
          <a:ln w="0">
            <a:noFill/>
          </a:ln>
        </p:spPr>
      </p:pic>
      <p:pic>
        <p:nvPicPr>
          <p:cNvPr id="64" name="图片 2" descr=""/>
          <p:cNvPicPr/>
          <p:nvPr/>
        </p:nvPicPr>
        <p:blipFill>
          <a:blip r:embed="rId2"/>
          <a:stretch/>
        </p:blipFill>
        <p:spPr>
          <a:xfrm>
            <a:off x="1049400" y="1417680"/>
            <a:ext cx="7400880" cy="53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实事求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商品广告为了达到目的可以夸大产品的功效，但是公共关系广告必须遵循实事求是的原则，这样才能更好地塑造社会组织的形象，提升组织的美誉度，起到宣传组织形象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广告的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 社会公益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公益型广告是指社会组织或个人比较关心的社会公益事业，为公益事业所作出的贡献，并以此来提升组织的社会声誉。</a:t>
            </a:r>
            <a:endParaRPr b="0" lang="en-US" sz="3200" spc="-1" strike="noStrike">
              <a:solidFill>
                <a:srgbClr val="000000"/>
              </a:solidFill>
              <a:latin typeface="Arial"/>
            </a:endParaRPr>
          </a:p>
        </p:txBody>
      </p:sp>
      <p:pic>
        <p:nvPicPr>
          <p:cNvPr id="69" name="图片 32778" descr="u=2995920091,915112459&amp;fm=3&amp;gp=0">
            <a:hlinkClick r:id="rId1"/>
          </p:cNvPr>
          <p:cNvPicPr/>
          <p:nvPr/>
        </p:nvPicPr>
        <p:blipFill>
          <a:blip r:embed="rId2"/>
          <a:stretch/>
        </p:blipFill>
        <p:spPr>
          <a:xfrm>
            <a:off x="0" y="5867280"/>
            <a:ext cx="1324080" cy="990720"/>
          </a:xfrm>
          <a:prstGeom prst="rect">
            <a:avLst/>
          </a:prstGeom>
          <a:ln w="0">
            <a:noFill/>
          </a:ln>
        </p:spPr>
      </p:pic>
      <p:pic>
        <p:nvPicPr>
          <p:cNvPr id="70" name="图片 32780" descr="u=2995920091,915112459&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冰桶挑战：微公益有大力量</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4</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8</a:t>
            </a:r>
            <a:r>
              <a:rPr b="0" lang="zh-CN" sz="2000" spc="-1" strike="noStrike">
                <a:solidFill>
                  <a:srgbClr val="000000"/>
                </a:solidFill>
                <a:latin typeface="隶书"/>
                <a:ea typeface="隶书"/>
              </a:rPr>
              <a:t>月，微博上发起了一场旨在关注渐冻人的“冰桶挑战”公益活动，凭借其正能量的主题、简明易懂的参与机制和名人聚集的传播路径，迅速由国外席卷到中国。该活动要求参与者在网络上发布自己被冰水浇遍全身的视频，完成后即可点名邀请其他三位好友接受挑战，被点名者可以选择“接受挑战”并把它传递下去，或者直接向渐冻症患者捐款。</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此，新浪微博发起了“跟明星大咖一起‘冻’起来的口号，并在软件首页置顶推荐</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冰桶挑战</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话题，参与者包括小米董事长雷军、时尚集团总裁苏芒和刘烨、李冰冰等众多明星。随着冰水一桶桶浇下，社会公众的关注度亦持续升温。在传入中国不到一周的时间内，新浪微博上相关话题的讨论量已达到</a:t>
            </a:r>
            <a:r>
              <a:rPr b="0" lang="zh-CN" sz="2000" spc="-1" strike="noStrike">
                <a:solidFill>
                  <a:srgbClr val="000000"/>
                </a:solidFill>
                <a:latin typeface="隶书"/>
                <a:ea typeface="隶书"/>
              </a:rPr>
              <a:t>143.9</a:t>
            </a:r>
            <a:r>
              <a:rPr b="0" lang="zh-CN" sz="2000" spc="-1" strike="noStrike">
                <a:solidFill>
                  <a:srgbClr val="000000"/>
                </a:solidFill>
                <a:latin typeface="隶书"/>
                <a:ea typeface="隶书"/>
              </a:rPr>
              <a:t>万，阅读量高达</a:t>
            </a:r>
            <a:r>
              <a:rPr b="0" lang="zh-CN" sz="2000" spc="-1" strike="noStrike">
                <a:solidFill>
                  <a:srgbClr val="000000"/>
                </a:solidFill>
                <a:latin typeface="隶书"/>
                <a:ea typeface="隶书"/>
              </a:rPr>
              <a:t>12.9</a:t>
            </a:r>
            <a:r>
              <a:rPr b="0" lang="zh-CN" sz="2000" spc="-1" strike="noStrike">
                <a:solidFill>
                  <a:srgbClr val="000000"/>
                </a:solidFill>
                <a:latin typeface="隶书"/>
                <a:ea typeface="隶书"/>
              </a:rPr>
              <a:t>亿，通过新浪微公益捐款的网友超过</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万，捐款总额将近</a:t>
            </a:r>
            <a:r>
              <a:rPr b="0" lang="zh-CN" sz="2000" spc="-1" strike="noStrike">
                <a:solidFill>
                  <a:srgbClr val="000000"/>
                </a:solidFill>
                <a:latin typeface="隶书"/>
                <a:ea typeface="隶书"/>
              </a:rPr>
              <a:t>200</a:t>
            </a:r>
            <a:r>
              <a:rPr b="0" lang="zh-CN" sz="2000" spc="-1" strike="noStrike">
                <a:solidFill>
                  <a:srgbClr val="000000"/>
                </a:solidFill>
                <a:latin typeface="隶书"/>
                <a:ea typeface="隶书"/>
              </a:rPr>
              <a:t>万，在实现捐款目标的同时，更切实达到了全民讨论公益、众人参与公益的效果。”</a:t>
            </a:r>
            <a:endParaRPr b="0" lang="en-US" sz="2000" spc="-1" strike="noStrike">
              <a:solidFill>
                <a:srgbClr val="000000"/>
              </a:solidFill>
              <a:latin typeface="Arial"/>
            </a:endParaRPr>
          </a:p>
        </p:txBody>
      </p:sp>
      <p:pic>
        <p:nvPicPr>
          <p:cNvPr id="73" name="图片 337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形象宣传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宣传型广告是指社会组织或个人以提升组织的知名度，在公众心目中树立良好形象为目的的公共关系活动。形象宣传型广告要着重表现社会组织品牌的风格、特质，传达社会组织的的理念、精神、历史、文化，着力塑造整体形象，强调社会组织的的思想、理念、目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麦德龙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 【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记者</a:t>
            </a: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14</a:t>
            </a:r>
            <a:r>
              <a:rPr b="0" lang="zh-CN" sz="2800" spc="-1" strike="noStrike">
                <a:solidFill>
                  <a:srgbClr val="000000"/>
                </a:solidFill>
                <a:latin typeface="隶书"/>
                <a:ea typeface="隶书"/>
              </a:rPr>
              <a:t>日了解到，广州公布</a:t>
            </a:r>
            <a:r>
              <a:rPr b="0" lang="zh-CN" sz="2800" spc="-1" strike="noStrike">
                <a:solidFill>
                  <a:srgbClr val="000000"/>
                </a:solidFill>
                <a:latin typeface="隶书"/>
                <a:ea typeface="隶书"/>
              </a:rPr>
              <a:t>2021</a:t>
            </a:r>
            <a:r>
              <a:rPr b="0" lang="zh-CN" sz="2800" spc="-1" strike="noStrike">
                <a:solidFill>
                  <a:srgbClr val="000000"/>
                </a:solidFill>
                <a:latin typeface="隶书"/>
                <a:ea typeface="隶书"/>
              </a:rPr>
              <a:t>年第一批虚假违法广告典型案例。其中，麦德龙商业集团有限公司广州天河商场在无法证明钟南山院士曾发表相关言论的情况下，在牛奶销售区摆放的标示中设有“听钟南山院士的话，喝奶！增强免疫力！”等内容，并制作钟南山院士卡通肖像的广告立牌和宣传单张</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该企业最终被罚款</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元。</a:t>
            </a:r>
            <a:endParaRPr b="0" lang="en-US" sz="2800" spc="-1" strike="noStrike">
              <a:solidFill>
                <a:srgbClr val="000000"/>
              </a:solidFill>
              <a:latin typeface="Arial"/>
            </a:endParaRPr>
          </a:p>
        </p:txBody>
      </p:sp>
      <p:pic>
        <p:nvPicPr>
          <p:cNvPr id="78" name="图片 358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响应号召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响应号召型广告是指社会组织或个人通过宣传自身积极参与各类社会活动的行为来引起社会公众对社会组织关注的公共关系活动，并以此来扩大社会组织或个人的影响力，有效地塑造社会组织的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广告人》杂志响应中广协号召，共同推出百人公益宣言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20</a:t>
            </a:r>
            <a:r>
              <a:rPr b="0" lang="zh-CN" sz="2000" spc="-1" strike="noStrike">
                <a:solidFill>
                  <a:srgbClr val="000000"/>
                </a:solidFill>
                <a:latin typeface="隶书"/>
                <a:ea typeface="隶书"/>
              </a:rPr>
              <a:t>年这个春天，来得有些非比寻常，新冠的突袭，让世界为之揪心，举国上下打响了一场“抗疫”之战。从中央到地方，各级政府紧急部署疫情防控措施，医疗、军警各个领域的“先锋战士”纷纷驰援武汉；与此同时，从企业、团体到百姓，公益善举层出不穷。广告行业在这个时候也责无旁贷，义不容辞，彰显出强大的正能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作为中国广告行业的领导机构，中国广告协会率先发起公益号召，并组织实施了多项公益举措：从与卫健委共同组织演员制作“抗疫”公益广告《向医护人员致敬》，到发布《非常时期，过不一样的春节》、《上班族战疫指南》等系列公益海报；从组织资源平台多方发布公益广告、宣传“抗疫”信息，到号召全民参与“承诺不吃野味”公益行动……都体现了中国广告协会行业领导者的号召力、影响力和行业担当。</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在广告行业诸多的公益行动中，一场由广告人文化集团联合中国广告协会共同推出的“相信未来百人公益宣言行动”一面世，便激起千层浪花。《广告人》杂志作为广告人文化集团旗下具有行业影响力的媒体，是这一公益活动的联合发起者和组织者。</a:t>
            </a:r>
            <a:endParaRPr b="0" lang="en-US" sz="2000" spc="-1" strike="noStrike">
              <a:solidFill>
                <a:srgbClr val="000000"/>
              </a:solidFill>
              <a:latin typeface="Arial"/>
            </a:endParaRPr>
          </a:p>
        </p:txBody>
      </p:sp>
      <p:pic>
        <p:nvPicPr>
          <p:cNvPr id="83" name="图片 3789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 观念引导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观念引导型广告是指社会组织或个人通过广告的形式来向社会公众传递有利于社会组织发展的信息，由此来引导社会公众对社会组织的看法。这种类型的广告主要是运用暗示的手法来引导或唤起公众的联想，在潜移默化中影响公众的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现在人们的日常饮食越来越精细，但是仍旧经常出现维生素矿物质的摄入不足。这主要是由于维生素矿物质在食物加工、烹饪过程中容易被破坏，再加上个人的饮食偏好、生活方式等因素的影响，很难确保每天获得全面、均衡的维生素、矿物质摄入。建议补充全面配方的维生素矿物质补充剂，以保证每天摄入充足的维生素、矿物质。同时补充均衡的维生素、矿物质还能帮助提高免疫力、帮助充沛精力、有助皮肤健康，帮助预防慢性疾病等健康益处。</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善存在其的宣传广告</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今天你</a:t>
            </a:r>
            <a:r>
              <a:rPr b="0" lang="en-US" sz="2400" spc="-1" strike="noStrike">
                <a:solidFill>
                  <a:srgbClr val="000000"/>
                </a:solidFill>
                <a:latin typeface="隶书"/>
                <a:ea typeface="隶书"/>
              </a:rPr>
              <a:t>100</a:t>
            </a:r>
            <a:r>
              <a:rPr b="0" lang="zh-CN" sz="2400" spc="-1" strike="noStrike">
                <a:solidFill>
                  <a:srgbClr val="000000"/>
                </a:solidFill>
                <a:latin typeface="隶书"/>
                <a:ea typeface="隶书"/>
              </a:rPr>
              <a:t>分了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加入了其宣传理念：每餐过后吃一粒善存，有助抵抗力加分，全面配方，为健康加分。</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88" name="图片 39939"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八章 公共关系在其他领域的应用</a:t>
            </a: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谈判的原则及谈判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制作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营销的策略。</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在营销中的应用</a:t>
            </a:r>
            <a:endParaRPr b="0" lang="en-US" sz="4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公共关系业界，关于公共关系的基本分类有了较为一致的看法，就是按照公共关系的目的把公共关系分为组织形象公共关系（</a:t>
            </a:r>
            <a:r>
              <a:rPr b="0" lang="en-US" sz="3200" spc="-1" strike="noStrike">
                <a:solidFill>
                  <a:srgbClr val="000000"/>
                </a:solidFill>
                <a:latin typeface="隶书"/>
                <a:ea typeface="隶书"/>
              </a:rPr>
              <a:t>Corporate PR/Communication</a:t>
            </a:r>
            <a:r>
              <a:rPr b="0" lang="zh-CN" sz="3200" spc="-1" strike="noStrike">
                <a:solidFill>
                  <a:srgbClr val="000000"/>
                </a:solidFill>
                <a:latin typeface="隶书"/>
                <a:ea typeface="隶书"/>
              </a:rPr>
              <a:t>）和市场营销公共关系（</a:t>
            </a:r>
            <a:r>
              <a:rPr b="0" lang="en-US" sz="3200" spc="-1" strike="noStrike">
                <a:solidFill>
                  <a:srgbClr val="000000"/>
                </a:solidFill>
                <a:latin typeface="隶书"/>
                <a:ea typeface="隶书"/>
              </a:rPr>
              <a:t>Marketing PR/Communication</a:t>
            </a:r>
            <a:r>
              <a:rPr b="0" lang="zh-CN" sz="3200" spc="-1" strike="noStrike">
                <a:solidFill>
                  <a:srgbClr val="000000"/>
                </a:solidFill>
                <a:latin typeface="隶书"/>
                <a:ea typeface="隶书"/>
              </a:rPr>
              <a:t>）。公关与营销的结合，是公共关系学与市场营销学之间的融合与交叉，也是公共关系人员和营销人员在实践的基础上总结出的智慧成果，被称为“公共关系营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销售型公关的知识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实际操作角度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销售型公关”是对于企业而言“性价比最高”的公关方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因为销售型公关以解决品牌的“信任问题”为原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促进“产品的销售”为终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真真切切地通过性价比极高的公关传播方式来达成广告销售的目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就是销售型公关备受青睐的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公关公司运营的角度来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采用公关方式能更好地帮助产品销售的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所占的企业市场营销传播份额也会比较大</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比如汽车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通过深度说服的公关活动和传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非常有效地影响消费者的购买决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拉动销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相对于有规模的公关公司而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基本上汽车行业的营业额都占据了绝大部分——</a:t>
            </a:r>
            <a:r>
              <a:rPr b="0" lang="zh-CN" sz="2400" spc="-1" strike="noStrike">
                <a:solidFill>
                  <a:srgbClr val="000000"/>
                </a:solidFill>
                <a:latin typeface="隶书"/>
                <a:ea typeface="隶书"/>
              </a:rPr>
              <a:t>60%</a:t>
            </a:r>
            <a:r>
              <a:rPr b="0" lang="zh-CN" sz="2400" spc="-1" strike="noStrike">
                <a:solidFill>
                  <a:srgbClr val="000000"/>
                </a:solidFill>
                <a:latin typeface="隶书"/>
                <a:ea typeface="隶书"/>
              </a:rPr>
              <a:t>以上甚至</a:t>
            </a:r>
            <a:r>
              <a:rPr b="0" lang="zh-CN" sz="2400" spc="-1" strike="noStrike">
                <a:solidFill>
                  <a:srgbClr val="000000"/>
                </a:solidFill>
                <a:latin typeface="隶书"/>
                <a:ea typeface="隶书"/>
              </a:rPr>
              <a:t>80%</a:t>
            </a:r>
            <a:r>
              <a:rPr b="0" lang="zh-CN" sz="2400" spc="-1" strike="noStrike">
                <a:solidFill>
                  <a:srgbClr val="000000"/>
                </a:solidFill>
                <a:latin typeface="隶书"/>
                <a:ea typeface="隶书"/>
              </a:rPr>
              <a:t>以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而从企业实际需要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可能不太能厘清什么是广告、什么是公关、什么是咨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只知道需要为产品和品牌进行传播推广</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最终目的是促进产品销售和市场开拓。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竞标的过程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往往都是那些蕴含着销售能量和潜力的创意方案夺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就是销售型公关往往很占竞标优势。</a:t>
            </a:r>
            <a:endParaRPr b="0" lang="en-US" sz="2400" spc="-1" strike="noStrike">
              <a:solidFill>
                <a:srgbClr val="000000"/>
              </a:solidFill>
              <a:latin typeface="Arial"/>
            </a:endParaRPr>
          </a:p>
        </p:txBody>
      </p:sp>
      <p:pic>
        <p:nvPicPr>
          <p:cNvPr id="93" name="图片 4198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什么是公共关系营销</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营销，即“公关营销”。美国学者菲利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科特勒曾给营销定义，“营销是个人或集体通过创造，提供出售，并同别人交换产品和价值，以获得其所需所欲之物的一种社会管理过程”。营销的目的是为了指导大众消费，建立组织的商业信誉，直接给社会组织带来眼前的社会效益和经济效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营销的常用方法</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开出版物：</a:t>
            </a:r>
            <a:r>
              <a:rPr b="0" lang="zh-CN" sz="2800" spc="-1" strike="noStrike">
                <a:solidFill>
                  <a:srgbClr val="000000"/>
                </a:solidFill>
                <a:latin typeface="隶书"/>
                <a:ea typeface="隶书"/>
              </a:rPr>
              <a:t>公司大量依靠各种传播材料去接近和影响其目标市场，包括年度报告、小册子、文章、视听材料、商业信件和杂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事 件：</a:t>
            </a:r>
            <a:r>
              <a:rPr b="0" lang="zh-CN" sz="2800" spc="-1" strike="noStrike">
                <a:solidFill>
                  <a:srgbClr val="000000"/>
                </a:solidFill>
                <a:latin typeface="隶书"/>
                <a:ea typeface="隶书"/>
              </a:rPr>
              <a:t>公司可通过安排一些特殊的事件来吸引对其新产品和公司其他事件的注意。这些事件包括记者招待会、讨论会、郊游、展览会、竞赛和周年庆祝活动，以及运动会和文化赞助等，以接近目标公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a:t>
            </a:r>
            <a:r>
              <a:rPr b="0" lang="zh-CN" sz="2800" spc="-1" strike="noStrike">
                <a:solidFill>
                  <a:srgbClr val="ff0000"/>
                </a:solidFill>
                <a:latin typeface="隶书"/>
                <a:ea typeface="隶书"/>
              </a:rPr>
              <a:t>、赞 助：</a:t>
            </a:r>
            <a:r>
              <a:rPr b="0" lang="zh-CN" sz="2800" spc="-1" strike="noStrike">
                <a:solidFill>
                  <a:srgbClr val="000000"/>
                </a:solidFill>
                <a:latin typeface="隶书"/>
                <a:ea typeface="隶书"/>
              </a:rPr>
              <a:t>公司通过赞助运动、文化活动和高度相关的事业，推广它们的品牌和公司名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新 闻：</a:t>
            </a:r>
            <a:r>
              <a:rPr b="0" lang="zh-CN" sz="2400" spc="-1" strike="noStrike">
                <a:solidFill>
                  <a:srgbClr val="000000"/>
                </a:solidFill>
                <a:latin typeface="隶书"/>
                <a:ea typeface="隶书"/>
              </a:rPr>
              <a:t>公共关系专业人员的一个主要任务是：发展或创造对公司及其产品或人员有利的新闻，争取宣传媒体录用新闻稿和参加记者招待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5</a:t>
            </a:r>
            <a:r>
              <a:rPr b="0" lang="zh-CN" sz="2400" spc="-1" strike="noStrike">
                <a:solidFill>
                  <a:srgbClr val="ff0000"/>
                </a:solidFill>
                <a:latin typeface="隶书"/>
                <a:ea typeface="隶书"/>
              </a:rPr>
              <a:t>、演 讲：</a:t>
            </a:r>
            <a:r>
              <a:rPr b="0" lang="zh-CN" sz="2400" spc="-1" strike="noStrike">
                <a:solidFill>
                  <a:srgbClr val="000000"/>
                </a:solidFill>
                <a:latin typeface="隶书"/>
                <a:ea typeface="隶书"/>
              </a:rPr>
              <a:t>公司负责人应该通过宣传工具圆满地回答各种问题，并在贸易协会和销售会议上演说，这些做法树立了公司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6</a:t>
            </a:r>
            <a:r>
              <a:rPr b="0" lang="zh-CN" sz="2400" spc="-1" strike="noStrike">
                <a:solidFill>
                  <a:srgbClr val="ff0000"/>
                </a:solidFill>
                <a:latin typeface="隶书"/>
                <a:ea typeface="隶书"/>
              </a:rPr>
              <a:t>、公益服务活动：</a:t>
            </a:r>
            <a:r>
              <a:rPr b="0" lang="zh-CN" sz="2400" spc="-1" strike="noStrike">
                <a:solidFill>
                  <a:srgbClr val="000000"/>
                </a:solidFill>
                <a:latin typeface="隶书"/>
                <a:ea typeface="隶书"/>
              </a:rPr>
              <a:t>公司可以通过向某些公益事业捐赠一定的金钱和时间，以提高其公众信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7</a:t>
            </a:r>
            <a:r>
              <a:rPr b="0" lang="zh-CN" sz="2400" spc="-1" strike="noStrike">
                <a:solidFill>
                  <a:srgbClr val="ff0000"/>
                </a:solidFill>
                <a:latin typeface="隶书"/>
                <a:ea typeface="隶书"/>
              </a:rPr>
              <a:t>、形象识别媒体：</a:t>
            </a:r>
            <a:r>
              <a:rPr b="0" lang="zh-CN" sz="2400" spc="-1" strike="noStrike">
                <a:solidFill>
                  <a:srgbClr val="000000"/>
                </a:solidFill>
                <a:latin typeface="隶书"/>
                <a:ea typeface="隶书"/>
              </a:rPr>
              <a:t>公司至少应努力创造一个公众能迅速辨认的视觉形象。视觉形象可以通过公司的标志、小册子、招牌、组织模型、业务名片、建筑物、制服标记等来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1" name=""/>
          <p:cNvSpPr txBox="1"/>
          <p:nvPr/>
        </p:nvSpPr>
        <p:spPr>
          <a:xfrm>
            <a:off x="176040" y="14176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顾客建立亲密关系是更有效的营销</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近十年，西贝不仅有更改定位的动作，在品牌营销方面也有不少心得。</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在烹饪协会的带领下，西贝参加“中华美食走进联合国”的活动，得到了前联合国秘书长潘基文的认可，并与厨师拍照合影留念。而后，西贝将这段故事成功推广做口碑营销，取得了不小的正面效益。</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外，很多人是通过“舌尖营销”认识西贝的。</a:t>
            </a:r>
            <a:r>
              <a:rPr b="0" lang="zh-CN" sz="2400" spc="-1" strike="noStrike">
                <a:solidFill>
                  <a:srgbClr val="000000"/>
                </a:solidFill>
                <a:latin typeface="隶书"/>
                <a:ea typeface="隶书"/>
              </a:rPr>
              <a:t>2012</a:t>
            </a:r>
            <a:r>
              <a:rPr b="0" lang="zh-CN" sz="2400" spc="-1" strike="noStrike">
                <a:solidFill>
                  <a:srgbClr val="000000"/>
                </a:solidFill>
                <a:latin typeface="隶书"/>
                <a:ea typeface="隶书"/>
              </a:rPr>
              <a:t>年，由央视推出的《舌尖上的中国》捧红了多地的美食，很多品牌开始借势营销。西贝结合自身特色，签约了《舌尖</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的黄老汉，聘请他当西贝黄馍馍形象代言人，使得西贝迅速被更多的人所知晓。两年后，西贝再次花费</a:t>
            </a:r>
            <a:r>
              <a:rPr b="0" lang="zh-CN" sz="2400" spc="-1" strike="noStrike">
                <a:solidFill>
                  <a:srgbClr val="000000"/>
                </a:solidFill>
                <a:latin typeface="隶书"/>
                <a:ea typeface="隶书"/>
              </a:rPr>
              <a:t>600</a:t>
            </a:r>
            <a:r>
              <a:rPr b="0" lang="zh-CN" sz="2400" spc="-1" strike="noStrike">
                <a:solidFill>
                  <a:srgbClr val="000000"/>
                </a:solidFill>
                <a:latin typeface="隶书"/>
                <a:ea typeface="隶书"/>
              </a:rPr>
              <a:t>万买断《舌尖</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张爷爷的手工空心挂面，并宣布了一年至少</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亿的销售计划。这两次营销均落到了实地，都取得了品牌和销量的双重成功，西贝得以在全国迅速扩张。</a:t>
            </a:r>
            <a:endParaRPr b="0" lang="en-US" sz="2400" spc="-1" strike="noStrike">
              <a:solidFill>
                <a:srgbClr val="000000"/>
              </a:solidFill>
              <a:latin typeface="Arial"/>
            </a:endParaRPr>
          </a:p>
        </p:txBody>
      </p:sp>
      <p:pic>
        <p:nvPicPr>
          <p:cNvPr id="102" name="图片 46083" descr="j0292020"/>
          <p:cNvPicPr/>
          <p:nvPr/>
        </p:nvPicPr>
        <p:blipFill>
          <a:blip r:embed="rId1"/>
          <a:stretch/>
        </p:blipFill>
        <p:spPr>
          <a:xfrm>
            <a:off x="644400" y="-11448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公共关系营销的策略</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策略是以建立组织形象为核心，为组织发展制定长期性、整体性的策略，保证组织长期稳定的发展。而公共关系营销的策略也是围绕为树立组织的良好形象，打造组织的品牌价值所采取的公共关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塑造品牌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品牌的价值是不可估量的。组织通常在营销事件中策划公共关系活动来塑造组织的品牌，促进产品销售的同时，提升组织的声誉和社会地位，扩大品牌的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8" name=""/>
          <p:cNvSpPr txBox="1"/>
          <p:nvPr/>
        </p:nvSpPr>
        <p:spPr>
          <a:xfrm>
            <a:off x="-23760" y="1600200"/>
            <a:ext cx="915192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的公共关系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是一家大型专业饮料生产及销售企业，于</a:t>
            </a:r>
            <a:r>
              <a:rPr b="1" lang="zh-CN" sz="2800" spc="-1" strike="noStrike">
                <a:solidFill>
                  <a:srgbClr val="000000"/>
                </a:solidFill>
                <a:latin typeface="隶书"/>
                <a:ea typeface="隶书"/>
              </a:rPr>
              <a:t>1995</a:t>
            </a:r>
            <a:r>
              <a:rPr b="1" lang="zh-CN" sz="2800" spc="-1" strike="noStrike">
                <a:solidFill>
                  <a:srgbClr val="000000"/>
                </a:solidFill>
                <a:latin typeface="隶书"/>
                <a:ea typeface="隶书"/>
              </a:rPr>
              <a:t>年创立，同年推出首批红色罐装“王老吉”。</a:t>
            </a:r>
            <a:r>
              <a:rPr b="1" lang="zh-CN" sz="2800" spc="-1" strike="noStrike">
                <a:solidFill>
                  <a:srgbClr val="000000"/>
                </a:solidFill>
                <a:latin typeface="隶书"/>
                <a:ea typeface="隶书"/>
              </a:rPr>
              <a:t>1998</a:t>
            </a:r>
            <a:r>
              <a:rPr b="1" lang="zh-CN" sz="2800" spc="-1" strike="noStrike">
                <a:solidFill>
                  <a:srgbClr val="000000"/>
                </a:solidFill>
                <a:latin typeface="隶书"/>
                <a:ea typeface="隶书"/>
              </a:rPr>
              <a:t>年，集团以外资形式在中国广东省东莞市长安镇设立首个生产基地。销售网络遍及中国大陆</a:t>
            </a:r>
            <a:r>
              <a:rPr b="1" lang="zh-CN" sz="2800" spc="-1" strike="noStrike">
                <a:solidFill>
                  <a:srgbClr val="000000"/>
                </a:solidFill>
                <a:latin typeface="隶书"/>
                <a:ea typeface="隶书"/>
              </a:rPr>
              <a:t>30</a:t>
            </a:r>
            <a:r>
              <a:rPr b="1" lang="zh-CN" sz="2800" spc="-1" strike="noStrike">
                <a:solidFill>
                  <a:srgbClr val="000000"/>
                </a:solidFill>
                <a:latin typeface="隶书"/>
                <a:ea typeface="隶书"/>
              </a:rPr>
              <a:t>多个省、市、自治区，并销往东南亚、欧美等地。</a:t>
            </a:r>
            <a:r>
              <a:rPr b="1" lang="zh-CN" sz="2800" spc="-1" strike="noStrike">
                <a:solidFill>
                  <a:srgbClr val="000000"/>
                </a:solidFill>
                <a:latin typeface="隶书"/>
                <a:ea typeface="隶书"/>
              </a:rPr>
              <a:t>201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加多宝与广药集团因商标权而起争执。</a:t>
            </a:r>
            <a:r>
              <a:rPr b="1" lang="zh-CN" sz="2800" spc="-1" strike="noStrike">
                <a:solidFill>
                  <a:srgbClr val="000000"/>
                </a:solidFill>
                <a:latin typeface="隶书"/>
                <a:ea typeface="隶书"/>
              </a:rPr>
              <a:t>2012</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日，根据中国国际经济贸易仲裁委员会的裁决书，加多宝停止使用“王老吉”商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痛失“王老吉”商标之后，加多宝以</a:t>
            </a:r>
            <a:r>
              <a:rPr b="1" lang="zh-CN" sz="2800" spc="-1" strike="noStrike">
                <a:solidFill>
                  <a:srgbClr val="000000"/>
                </a:solidFill>
                <a:latin typeface="隶书"/>
                <a:ea typeface="隶书"/>
              </a:rPr>
              <a:t>6000</a:t>
            </a:r>
            <a:r>
              <a:rPr b="1" lang="zh-CN" sz="2800" spc="-1" strike="noStrike">
                <a:solidFill>
                  <a:srgbClr val="000000"/>
                </a:solidFill>
                <a:latin typeface="隶书"/>
                <a:ea typeface="隶书"/>
              </a:rPr>
              <a:t>万打包冠名《中国好声音》，迅速以一种“地毯式轰炸”的营销方式变颓废为优势，建立起“红罐凉茶”的品牌连锁加盟形象。</a:t>
            </a:r>
            <a:endParaRPr b="0" lang="en-US" sz="2800" spc="-1" strike="noStrike">
              <a:solidFill>
                <a:srgbClr val="000000"/>
              </a:solidFill>
              <a:latin typeface="Arial"/>
            </a:endParaRPr>
          </a:p>
        </p:txBody>
      </p:sp>
      <p:pic>
        <p:nvPicPr>
          <p:cNvPr id="109" name="图片 49155" descr="j0292020"/>
          <p:cNvPicPr/>
          <p:nvPr/>
        </p:nvPicPr>
        <p:blipFill>
          <a:blip r:embed="rId1"/>
          <a:stretch/>
        </p:blipFill>
        <p:spPr>
          <a:xfrm>
            <a:off x="609480" y="0"/>
            <a:ext cx="1868760" cy="1773360"/>
          </a:xfrm>
          <a:prstGeom prst="rect">
            <a:avLst/>
          </a:prstGeom>
          <a:ln w="0">
            <a:noFill/>
          </a:ln>
        </p:spPr>
      </p:pic>
      <p:pic>
        <p:nvPicPr>
          <p:cNvPr id="110" name="图片 49157" descr="u=2973780862,4048154286&amp;fm=0&amp;gp=0">
            <a:hlinkClick r:id="rId2"/>
          </p:cNvPr>
          <p:cNvPicPr/>
          <p:nvPr/>
        </p:nvPicPr>
        <p:blipFill>
          <a:blip r:embed="rId3"/>
          <a:stretch/>
        </p:blipFill>
        <p:spPr>
          <a:xfrm>
            <a:off x="7315200" y="228600"/>
            <a:ext cx="1104840" cy="133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塑造企业文化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通过将组织的文化作为公共关系营销策略，可以在公众心目中树立良好的整体形象，促进组织无形资产的增值，提供组织的社会认知度。社会组织在进行任何活动的策划与宣传时，都需要将组织文化融入其中，更进一步地塑造组织的品牌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54000" y="1600200"/>
            <a:ext cx="91188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肯德基：国际大牌的新突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全方位深度布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构建多链路营销增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作为全球知名餐饮品牌，肯德基在中国市场表现非常活跃，与中国数字生态同频共振，通过不断的数字化营销创新，为消费者提供更优质的体验与服务，让品牌持续焕发活力。直播热潮下，肯德基</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底在抖音开启了带货直播，还打造了直播专属账号</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肯德基食货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进行规律自播，短短两周内便创造单场</a:t>
            </a:r>
            <a:r>
              <a:rPr b="1" lang="zh-CN" sz="2400" spc="-1" strike="noStrike">
                <a:solidFill>
                  <a:srgbClr val="000000"/>
                </a:solidFill>
                <a:latin typeface="隶书"/>
                <a:ea typeface="隶书"/>
              </a:rPr>
              <a:t>GMV</a:t>
            </a:r>
            <a:r>
              <a:rPr b="1" lang="zh-CN" sz="2400" spc="-1" strike="noStrike">
                <a:solidFill>
                  <a:srgbClr val="000000"/>
                </a:solidFill>
                <a:latin typeface="隶书"/>
                <a:ea typeface="隶书"/>
              </a:rPr>
              <a:t>突破百万的佳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能够在短时间内取得如此好的带货成绩，离不开肯德基对直播</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的全方位布局。用户经营上，肯德基前期通过短视频内容沟通、挑战赛互动等多种方式，形成广泛传播，快速拓展与沉淀用户，为开播做良好的粉丝积累；同时通过广告流量，实现精准引流，为直播间灌入更多人气。</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美国雪茄制造商曾经面临着一场巨大的行业危机。由于政府立法明确禁止香烟制造商在许多公众媒体上刊登有明显广告性质的广告，同时民间的反对吸烟的呼声也日益高涨，一场又一场规模浩大的反对吸烟的示威活动，将雪茄制造商推到进退维谷、四面楚歌的境地；雪茄在公众心目中的负面形象不断加强，而新产品的良性信息却无法向公众传达。在短短三个月时间中，整个美国雪茄的销售量下降了三成，全行业面临着全面萎缩的危险。</a:t>
            </a:r>
            <a:endParaRPr b="0" lang="en-US" sz="2800" spc="-1" strike="noStrike">
              <a:solidFill>
                <a:srgbClr val="000000"/>
              </a:solidFill>
              <a:latin typeface="Arial"/>
            </a:endParaRPr>
          </a:p>
        </p:txBody>
      </p:sp>
      <p:pic>
        <p:nvPicPr>
          <p:cNvPr id="115" name="图片 5120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升组织服务意识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在开展公共关系活动的时候，要符合公众的利益，不能做损害公众利益的活动，这样组织才能在纷杂的竞争中立于不败之地，赢得公众的认可，提升组织的知名度与美誉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9" name=""/>
          <p:cNvSpPr txBox="1"/>
          <p:nvPr/>
        </p:nvSpPr>
        <p:spPr>
          <a:xfrm>
            <a:off x="152280" y="1599840"/>
            <a:ext cx="868680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良好的服务意识助力公关营销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某服装品牌公司正在商场里搞品牌公关营销活动时</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有一名女士来到了公关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她手里拿着一件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怒气冲冲地质问公关部经理</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你们的衣服袖口有破洞，你们居然把这种劣质的衣服卖给我客户，欺骗客户……”公关经理面对这位情绪激动的女士</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耐心地倾听她的抱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关切地察看着这位女士手里的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并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没关系，我们来检查一下这衣服破洞的地方……能给我们看一下你买衣服的发票吗？”说完就立刻查看衣服，并安抚顾客。工作人员在检查后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这位女士的衣服的破洞确实不是新产生的，请公关经理妥善处理。公关经理听完工作人员的话就赶紧与顾客沟通商谈具体处理细节</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顾客脸上的怒容消失了，露出了满意的笑容。旁边的客人看到这一幕后，纷纷赞叹这一家服装品牌公司的处理方式。</a:t>
            </a:r>
            <a:endParaRPr b="0" lang="en-US" sz="2400" spc="-1" strike="noStrike">
              <a:solidFill>
                <a:srgbClr val="000000"/>
              </a:solidFill>
              <a:latin typeface="Arial"/>
            </a:endParaRPr>
          </a:p>
        </p:txBody>
      </p:sp>
      <p:pic>
        <p:nvPicPr>
          <p:cNvPr id="120" name="图片 532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22" name="文本占位符 54275" descr=""/>
          <p:cNvPicPr/>
          <p:nvPr/>
        </p:nvPicPr>
        <p:blipFill>
          <a:blip r:embed="rId1"/>
          <a:stretch/>
        </p:blipFill>
        <p:spPr>
          <a:xfrm>
            <a:off x="762120" y="1676520"/>
            <a:ext cx="7772400" cy="4438440"/>
          </a:xfrm>
          <a:prstGeom prst="rect">
            <a:avLst/>
          </a:prstGeom>
          <a:ln w="0">
            <a:noFill/>
          </a:ln>
        </p:spPr>
      </p:pic>
      <p:pic>
        <p:nvPicPr>
          <p:cNvPr id="123" name="图片 5427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学生根据公共关系谈判的原则与策略，组织一次公共关系谈判的实训演练，可以自己选择活动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请学生根据公共关系广告的相关要求，组织一次公共关系广告的实训演练，可以自己选择活动的主题。</a:t>
            </a:r>
            <a:endParaRPr b="0" lang="en-US" sz="3200" spc="-1" strike="noStrike">
              <a:solidFill>
                <a:srgbClr val="000000"/>
              </a:solidFill>
              <a:latin typeface="Arial"/>
            </a:endParaRPr>
          </a:p>
        </p:txBody>
      </p:sp>
      <p:pic>
        <p:nvPicPr>
          <p:cNvPr id="126" name="图片 5632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谈判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广告，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广告制作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营销？</a:t>
            </a:r>
            <a:endParaRPr b="0" lang="en-US" sz="3200" spc="-1" strike="noStrike">
              <a:solidFill>
                <a:srgbClr val="000000"/>
              </a:solidFill>
              <a:latin typeface="Arial"/>
            </a:endParaRPr>
          </a:p>
        </p:txBody>
      </p:sp>
      <p:pic>
        <p:nvPicPr>
          <p:cNvPr id="129" name="图片 55299" descr="u=3195011,1001521202&amp;fm=0&amp;gp=0">
            <a:hlinkClick r:id="rId1"/>
          </p:cNvPr>
          <p:cNvPicPr/>
          <p:nvPr/>
        </p:nvPicPr>
        <p:blipFill>
          <a:blip r:embed="rId2"/>
          <a:stretch/>
        </p:blipFill>
        <p:spPr>
          <a:xfrm>
            <a:off x="35053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在广告中的应用</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广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广告的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广告（</a:t>
            </a:r>
            <a:r>
              <a:rPr b="0" lang="en-US" sz="3200" spc="-1" strike="noStrike">
                <a:solidFill>
                  <a:srgbClr val="000000"/>
                </a:solidFill>
                <a:latin typeface="隶书"/>
                <a:ea typeface="隶书"/>
              </a:rPr>
              <a:t>Advertise Public Relation</a:t>
            </a:r>
            <a:r>
              <a:rPr b="0" lang="zh-CN" sz="3200" spc="-1" strike="noStrike">
                <a:solidFill>
                  <a:srgbClr val="000000"/>
                </a:solidFill>
                <a:latin typeface="隶书"/>
                <a:ea typeface="隶书"/>
              </a:rPr>
              <a:t>），是社会组织为了塑造良好的社会形象而开展的广告宣传。公共关系广告的主要目的是为了引起社会公众对社会组织的关注，增进社会公众对社会组织的了解与认识，从而提升知名度，赢得社会公众对社会组织的支持与赞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公共关系广告与商品广告的区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主要是通过广告的形式，来塑造组织良好的社会形象，提升社会组织的知名度、认可度和美誉度，而商品广告是以促销为目的，为了让更多的人购买产品和服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更注重的是长效机制，通过广告来宣传组织的发展目标、经营理念、企业文化、品牌价值、企业管理等方面的内容，是为了让更多的公众认识并了解社会组织，而商品广告是以宣传商品的名称、质量、功能效用及产品价值等功能，注重的是短期效益，以商品销售额为衡量广告优劣的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国际广告协会对如何衡量“优秀广告”作品提出了“</a:t>
            </a:r>
            <a:r>
              <a:rPr b="0" lang="en-US" sz="3200" spc="-1" strike="noStrike">
                <a:solidFill>
                  <a:srgbClr val="000000"/>
                </a:solidFill>
                <a:latin typeface="隶书"/>
                <a:ea typeface="隶书"/>
              </a:rPr>
              <a:t>5P”</a:t>
            </a:r>
            <a:r>
              <a:rPr b="0" lang="zh-CN" sz="3200" spc="-1" strike="noStrike">
                <a:solidFill>
                  <a:srgbClr val="000000"/>
                </a:solidFill>
                <a:latin typeface="隶书"/>
                <a:ea typeface="隶书"/>
              </a:rPr>
              <a:t>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leasur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给消费者愉快的感觉</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gress</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首创、革新、改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blem</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突出商品或服务真实的优点，能为消费者解决问题</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mis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内容要重信誉和承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otential</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潜在的推销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遵守广告法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广告必须严格遵守广告法规，维护良好的社会环境，否则对社会组织的形象宣传带来负面影响。</a:t>
            </a:r>
            <a:r>
              <a:rPr b="0" lang="en-US" sz="2800" spc="-1" strike="noStrike">
                <a:solidFill>
                  <a:srgbClr val="000000"/>
                </a:solidFill>
                <a:latin typeface="隶书"/>
                <a:ea typeface="隶书"/>
              </a:rPr>
              <a:t>1995</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日起施行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中华人民共和国广告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第三条规定：“广告应当真实、合法、符合社会主义精神文明建设的要求。”广告的内容不得妨碍社会公共秩序和违背社会良好风尚，更不能格调低下，用语粗俗，引发公众的不满与反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1</a:t>
            </a:r>
            <a:r>
              <a:rPr b="0" lang="zh-CN" sz="2400" spc="-1" strike="noStrike">
                <a:solidFill>
                  <a:srgbClr val="000000"/>
                </a:solidFill>
                <a:latin typeface="隶书"/>
                <a:ea typeface="隶书"/>
              </a:rPr>
              <a:t>年，一则“玩美女人”灯箱广告引起广泛关注：在沪台资企业“思微尔”委托上海华智地铁广告公司在该市地铁的</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站点发布品牌内衣广告时，打出了“玩美女人”的广告语。</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9</a:t>
            </a:r>
            <a:r>
              <a:rPr b="0" lang="zh-CN" sz="2400" spc="-1" strike="noStrike">
                <a:solidFill>
                  <a:srgbClr val="000000"/>
                </a:solidFill>
                <a:latin typeface="隶书"/>
                <a:ea typeface="隶书"/>
              </a:rPr>
              <a:t>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解放日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提出异议。</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月，上海市工商黄浦分局以广告内容违反</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广告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妨碍社会公共秩序和违背社会良好风尚”为由，责令“思微尔”停止发布广告，公开更正，并罚款</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多万元。“思微尔”不服，诉至法院。法庭上，“思微尔”认为，广告词“玩美”是“完美”的谐音，即“完美的女人”。而且，“玩”有“做、追求、崇尚”的意思，“完美女人”也可理解为“追求崇尚美好的女人”，绝非有人想想的那么庸俗。工商部门指出，“玩”有“戏弄、玩弄”的意思，广告主不能将对广告的解释强加于受众。</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月，上海市黄浦区人民法院作出维持上海市工商局黄浦分局对思微尔（南海）服装有限公司行政处罚的判决。</a:t>
            </a:r>
            <a:endParaRPr b="0" lang="en-US" sz="2400" spc="-1" strike="noStrike">
              <a:solidFill>
                <a:srgbClr val="000000"/>
              </a:solidFill>
              <a:latin typeface="Arial"/>
            </a:endParaRPr>
          </a:p>
        </p:txBody>
      </p:sp>
      <p:pic>
        <p:nvPicPr>
          <p:cNvPr id="59"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富有创意色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的公共关系广告切忌千篇一律、千人一面，而需要有组织自己的独特风格，富有创意，广告中应融入社会组织的独特经营理念及企业文化等，只有富有创意的广告才能更吸引公众的目光，对于塑造组织形象无疑具有更为突出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3Z</dcterms:created>
  <dc:creator/>
  <dc:description/>
  <dc:language>en-US</dc:language>
  <cp:lastModifiedBy>lilanying</cp:lastModifiedBy>
  <dcterms:modified xsi:type="dcterms:W3CDTF">2021-08-30T19:33:3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