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9.wmf" ContentType="image/x-wmf"/>
  <Override PartName="/ppt/media/image28.wmf" ContentType="image/x-wmf"/>
  <Override PartName="/ppt/media/image6.jpeg" ContentType="image/jpeg"/>
  <Override PartName="/ppt/media/image18.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wmf" ContentType="image/x-wmf"/>
  <Override PartName="/ppt/media/image2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D4C1-C305-4B77-A160-653BCF693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58D4-93C3-4C17-9150-4E9C99AA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F9A59-0756-4B9E-A1F8-D0D813926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BBBC2-63DB-4A41-AC63-4D67A4E86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67203-A415-481A-A7F1-156F2AD8F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AC81-4FFA-4896-87CD-85DE0B09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AD59-07A5-44D5-BD29-2601D325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784CB-33A6-43B2-B56F-D5CF9EB1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3D48A-9916-4CCF-AD6B-77F9E4B1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E7C9-E4CD-4BD0-9687-ABD2FB11D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F74A-2027-4092-B3A5-FBB8D5FF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AE2F-FFEF-4E41-94C0-F66A3200E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B1%DF&amp;in=10227&amp;cl=2&amp;cm=1&amp;sc=0&amp;lm=-1&amp;pn=76&amp;rn=1&amp;di=18598486050&amp;ln=2000&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C8%F0%C0%F6&amp;in=29036&amp;cl=2&amp;cm=1&amp;sc=0&amp;lm=-1&amp;pn=7&amp;rn=1&amp;di=2403326190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8%F0%C0%F6%D4%D3&#1470;&amp;in=10361&amp;cl=2&amp;cm=1&amp;sc=0&amp;lm=-1&amp;pn=16&amp;rn=1&amp;di=9327019815&amp;ln=2000&amp;fr=&amp;ic=0&amp;s=0&amp;se=1&amp;sme=0"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7%CD&#11563;%B2%A5&amp;in=32250&amp;cl=2&amp;cm=1&amp;sc=0&amp;lm=-1&amp;pn=132&amp;rn=1&amp;di=19818991515&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1%A6&#703;&#1012;%B7%A2&#750;+%B9%E3%B8%E6&amp;in=5329&amp;cl=2&amp;lm=-1&amp;pn=2&amp;rn=1&amp;di=27977096010&amp;ln=1&amp;fr=&amp;ic=0&amp;s=0&amp;se=1&amp;sme=0" TargetMode="External"/><Relationship Id="rId3" Type="http://schemas.openxmlformats.org/officeDocument/2006/relationships/image" Target="../media/image23.jpeg"/><Relationship Id="rId4" Type="http://schemas.openxmlformats.org/officeDocument/2006/relationships/hyperlink" Target="http://image.baidu.com/i?ct=503316480&amp;z=0&amp;tn=baiduimagedetail&amp;word=%C1%A6&#703;&#1012;%B7%A2&#750;+%B9%E3%B8%E6&amp;in=20695&amp;cl=2&amp;lm=-1&amp;pn=0&amp;rn=1&amp;di=13398780&amp;ln=1&amp;fr=&amp;ic=0&amp;s=0&amp;se=1&amp;sme=0"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4%AB%B2%A5&amp;in=6593&amp;cl=2&amp;cm=1&amp;sc=0&amp;lm=-1&amp;pn=20&amp;rn=1&amp;di=739772935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BF&#639;&#1727;%C9%C0%D6&amp;in=15293&amp;cl=2&amp;lm=-1&amp;pn=4&amp;rn=1&amp;di=9093449610&amp;ln=1&amp;fr=&amp;ic=0&amp;s=0&amp;se=1&amp;sme=0"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B1%DF&amp;in=31065&amp;cl=2&amp;cm=1&amp;sc=0&amp;lm=-1&amp;pn=8&amp;rn=1&amp;di=1814585100&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四章 公共关系传播媒介</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1270" descr="u=2447205168,64859447&amp;fm=0&amp;gp=0">
            <a:hlinkClick r:id="rId1"/>
          </p:cNvPr>
          <p:cNvPicPr/>
          <p:nvPr/>
        </p:nvPicPr>
        <p:blipFill>
          <a:blip r:embed="rId2"/>
          <a:stretch/>
        </p:blipFill>
        <p:spPr>
          <a:xfrm>
            <a:off x="8220240" y="5524560"/>
            <a:ext cx="923760" cy="1333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隶书"/>
                <a:ea typeface="隶书"/>
              </a:rPr>
              <a:t>5. </a:t>
            </a:r>
            <a:r>
              <a:rPr b="1" lang="zh-CN" sz="2800" spc="-1" strike="noStrike">
                <a:solidFill>
                  <a:srgbClr val="ff0000"/>
                </a:solidFill>
                <a:latin typeface="隶书"/>
                <a:ea typeface="隶书"/>
              </a:rPr>
              <a:t>受众，即受传者，又称为信宿。</a:t>
            </a:r>
            <a:r>
              <a:rPr b="0" lang="zh-CN" sz="2800" spc="-1" strike="noStrike">
                <a:solidFill>
                  <a:srgbClr val="000000"/>
                </a:solidFill>
                <a:latin typeface="隶书"/>
                <a:ea typeface="隶书"/>
              </a:rPr>
              <a:t>受传者既可以是某个个体，也可以是某个群体或某个社会组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6. </a:t>
            </a:r>
            <a:r>
              <a:rPr b="1" lang="zh-CN" sz="2800" spc="-1" strike="noStrike">
                <a:solidFill>
                  <a:srgbClr val="ff0000"/>
                </a:solidFill>
                <a:latin typeface="隶书"/>
                <a:ea typeface="隶书"/>
              </a:rPr>
              <a:t>译码，即受传者对信息的理解过程。</a:t>
            </a:r>
            <a:r>
              <a:rPr b="0" lang="zh-CN" sz="2800" spc="-1" strike="noStrike">
                <a:solidFill>
                  <a:srgbClr val="000000"/>
                </a:solidFill>
                <a:latin typeface="隶书"/>
                <a:ea typeface="隶书"/>
              </a:rPr>
              <a:t>受传者收到信息后，将信息译成自己理解的内容，受传者的译码能力取决于自身的受教育程度，以及是否具有相应的文化和生活背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7. </a:t>
            </a:r>
            <a:r>
              <a:rPr b="1" lang="zh-CN" sz="2800" spc="-1" strike="noStrike">
                <a:solidFill>
                  <a:srgbClr val="ff0000"/>
                </a:solidFill>
                <a:latin typeface="隶书"/>
                <a:ea typeface="隶书"/>
              </a:rPr>
              <a:t>噪声，即附加在所传递的信息上对所传递信息的真实性产生破坏的一种信号。</a:t>
            </a:r>
            <a:r>
              <a:rPr b="0" lang="zh-CN" sz="2800" spc="-1" strike="noStrike">
                <a:solidFill>
                  <a:srgbClr val="000000"/>
                </a:solidFill>
                <a:latin typeface="隶书"/>
                <a:ea typeface="隶书"/>
              </a:rPr>
              <a:t>噪声会使信息在传递过程中失真，受众会因噪声对信息产生错误的解释而影响信息的传播效果。</a:t>
            </a:r>
            <a:endParaRPr b="0" lang="en-US" sz="2800" spc="-1" strike="noStrike">
              <a:solidFill>
                <a:srgbClr val="000000"/>
              </a:solidFill>
              <a:latin typeface="Arial"/>
            </a:endParaRPr>
          </a:p>
        </p:txBody>
      </p:sp>
      <p:pic>
        <p:nvPicPr>
          <p:cNvPr id="68" name="图片 11268" descr="u=2447205168,64859447&amp;fm=0&amp;gp=0">
            <a:hlinkClick r:id="rId3"/>
          </p:cNvPr>
          <p:cNvPicPr/>
          <p:nvPr/>
        </p:nvPicPr>
        <p:blipFill>
          <a:blip r:embed="rId4"/>
          <a:stretch/>
        </p:blipFill>
        <p:spPr>
          <a:xfrm>
            <a:off x="0" y="0"/>
            <a:ext cx="92376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8. </a:t>
            </a:r>
            <a:r>
              <a:rPr b="1" lang="zh-CN" sz="2400" spc="-1" strike="noStrike">
                <a:solidFill>
                  <a:srgbClr val="ff0000"/>
                </a:solidFill>
                <a:latin typeface="隶书"/>
                <a:ea typeface="隶书"/>
              </a:rPr>
              <a:t>共同经验范围，即传播者与受传者之间的共同经验。</a:t>
            </a:r>
            <a:r>
              <a:rPr b="0" lang="zh-CN" sz="2400" spc="-1" strike="noStrike">
                <a:solidFill>
                  <a:srgbClr val="000000"/>
                </a:solidFill>
                <a:latin typeface="隶书"/>
                <a:ea typeface="隶书"/>
              </a:rPr>
              <a:t>在传播过程中，传播者总是根据自己的经验进行编码，而受传者总是根据自己的经验来译码，若两者的共同经验范围越大，传播效果越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9. </a:t>
            </a:r>
            <a:r>
              <a:rPr b="1" lang="zh-CN" sz="2400" spc="-1" strike="noStrike">
                <a:solidFill>
                  <a:srgbClr val="ff0000"/>
                </a:solidFill>
                <a:latin typeface="隶书"/>
                <a:ea typeface="隶书"/>
              </a:rPr>
              <a:t>反馈，即受传者的反应。</a:t>
            </a:r>
            <a:r>
              <a:rPr b="0" lang="zh-CN" sz="2400" spc="-1" strike="noStrike">
                <a:solidFill>
                  <a:srgbClr val="000000"/>
                </a:solidFill>
                <a:latin typeface="隶书"/>
                <a:ea typeface="隶书"/>
              </a:rPr>
              <a:t>受传者根据自己的经验和理解译码后，会产生相应的反应，发出反馈是受传者能动性的反应。反馈既能反映传播者的信息传播效果，又能影响传播者的态度和继续传播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10. </a:t>
            </a:r>
            <a:r>
              <a:rPr b="1" lang="zh-CN" sz="2400" spc="-1" strike="noStrike">
                <a:solidFill>
                  <a:srgbClr val="ff0000"/>
                </a:solidFill>
                <a:latin typeface="隶书"/>
                <a:ea typeface="隶书"/>
              </a:rPr>
              <a:t>环境，即影响传播的外在构成要素，包括政治环境、经济环境、文化环境、地理环境、人口环境、区域环境等。</a:t>
            </a:r>
            <a:r>
              <a:rPr b="0" lang="zh-CN" sz="2400" spc="-1" strike="noStrike">
                <a:solidFill>
                  <a:srgbClr val="000000"/>
                </a:solidFill>
                <a:latin typeface="隶书"/>
                <a:ea typeface="隶书"/>
              </a:rPr>
              <a:t>一切传播活动都是在一定的环境下进行的，其传播效果直接受环境影响。</a:t>
            </a:r>
            <a:endParaRPr b="0" lang="en-US" sz="2400" spc="-1" strike="noStrike">
              <a:solidFill>
                <a:srgbClr val="000000"/>
              </a:solidFill>
              <a:latin typeface="Arial"/>
            </a:endParaRPr>
          </a:p>
        </p:txBody>
      </p:sp>
      <p:pic>
        <p:nvPicPr>
          <p:cNvPr id="71" name="图片 12292" descr="u=228665711,3516685872&amp;fm=0&amp;gp=0">
            <a:hlinkClick r:id="rId1"/>
          </p:cNvPr>
          <p:cNvPicPr/>
          <p:nvPr/>
        </p:nvPicPr>
        <p:blipFill>
          <a:blip r:embed="rId2"/>
          <a:stretch/>
        </p:blipFill>
        <p:spPr>
          <a:xfrm>
            <a:off x="0" y="6238800"/>
            <a:ext cx="1333440" cy="619200"/>
          </a:xfrm>
          <a:prstGeom prst="rect">
            <a:avLst/>
          </a:prstGeom>
          <a:ln w="0">
            <a:noFill/>
          </a:ln>
        </p:spPr>
      </p:pic>
      <p:pic>
        <p:nvPicPr>
          <p:cNvPr id="72" name="图片 12294" descr="u=228665711,3516685872&amp;fm=0&amp;gp=0">
            <a:hlinkClick r:id="rId3"/>
          </p:cNvPr>
          <p:cNvPicPr/>
          <p:nvPr/>
        </p:nvPicPr>
        <p:blipFill>
          <a:blip r:embed="rId4"/>
          <a:stretch/>
        </p:blipFill>
        <p:spPr>
          <a:xfrm>
            <a:off x="1295280" y="6238800"/>
            <a:ext cx="1333800" cy="619200"/>
          </a:xfrm>
          <a:prstGeom prst="rect">
            <a:avLst/>
          </a:prstGeom>
          <a:ln w="0">
            <a:noFill/>
          </a:ln>
        </p:spPr>
      </p:pic>
      <p:pic>
        <p:nvPicPr>
          <p:cNvPr id="73" name="图片 12296" descr="u=228665711,3516685872&amp;fm=0&amp;gp=0">
            <a:hlinkClick r:id="rId5"/>
          </p:cNvPr>
          <p:cNvPicPr/>
          <p:nvPr/>
        </p:nvPicPr>
        <p:blipFill>
          <a:blip r:embed="rId6"/>
          <a:stretch/>
        </p:blipFill>
        <p:spPr>
          <a:xfrm>
            <a:off x="2590920" y="6238800"/>
            <a:ext cx="1333440" cy="619200"/>
          </a:xfrm>
          <a:prstGeom prst="rect">
            <a:avLst/>
          </a:prstGeom>
          <a:ln w="0">
            <a:noFill/>
          </a:ln>
        </p:spPr>
      </p:pic>
      <p:pic>
        <p:nvPicPr>
          <p:cNvPr id="74" name="图片 12298" descr="u=228665711,3516685872&amp;fm=0&amp;gp=0">
            <a:hlinkClick r:id="rId7"/>
          </p:cNvPr>
          <p:cNvPicPr/>
          <p:nvPr/>
        </p:nvPicPr>
        <p:blipFill>
          <a:blip r:embed="rId8"/>
          <a:stretch/>
        </p:blipFill>
        <p:spPr>
          <a:xfrm>
            <a:off x="3886200" y="6238800"/>
            <a:ext cx="1333440" cy="619200"/>
          </a:xfrm>
          <a:prstGeom prst="rect">
            <a:avLst/>
          </a:prstGeom>
          <a:ln w="0">
            <a:noFill/>
          </a:ln>
        </p:spPr>
      </p:pic>
      <p:pic>
        <p:nvPicPr>
          <p:cNvPr id="75" name="图片 12300" descr="u=228665711,3516685872&amp;fm=0&amp;gp=0">
            <a:hlinkClick r:id="rId9"/>
          </p:cNvPr>
          <p:cNvPicPr/>
          <p:nvPr/>
        </p:nvPicPr>
        <p:blipFill>
          <a:blip r:embed="rId10"/>
          <a:stretch/>
        </p:blipFill>
        <p:spPr>
          <a:xfrm>
            <a:off x="5181480" y="6238800"/>
            <a:ext cx="1333800" cy="619200"/>
          </a:xfrm>
          <a:prstGeom prst="rect">
            <a:avLst/>
          </a:prstGeom>
          <a:ln w="0">
            <a:noFill/>
          </a:ln>
        </p:spPr>
      </p:pic>
      <p:pic>
        <p:nvPicPr>
          <p:cNvPr id="76" name="图片 12302" descr="u=228665711,3516685872&amp;fm=0&amp;gp=0">
            <a:hlinkClick r:id="rId11"/>
          </p:cNvPr>
          <p:cNvPicPr/>
          <p:nvPr/>
        </p:nvPicPr>
        <p:blipFill>
          <a:blip r:embed="rId12"/>
          <a:stretch/>
        </p:blipFill>
        <p:spPr>
          <a:xfrm>
            <a:off x="6477120" y="6238800"/>
            <a:ext cx="1333440" cy="619200"/>
          </a:xfrm>
          <a:prstGeom prst="rect">
            <a:avLst/>
          </a:prstGeom>
          <a:ln w="0">
            <a:noFill/>
          </a:ln>
        </p:spPr>
      </p:pic>
      <p:pic>
        <p:nvPicPr>
          <p:cNvPr id="77" name="图片 12304" descr="u=228665711,3516685872&amp;fm=0&amp;gp=0">
            <a:hlinkClick r:id="rId13"/>
          </p:cNvPr>
          <p:cNvPicPr/>
          <p:nvPr/>
        </p:nvPicPr>
        <p:blipFill>
          <a:blip r:embed="rId14"/>
          <a:stretch/>
        </p:blipFill>
        <p:spPr>
          <a:xfrm>
            <a:off x="7810560" y="6238800"/>
            <a:ext cx="1333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13315" descr="j0292020"/>
          <p:cNvPicPr/>
          <p:nvPr/>
        </p:nvPicPr>
        <p:blipFill>
          <a:blip r:embed="rId1"/>
          <a:stretch/>
        </p:blipFill>
        <p:spPr>
          <a:xfrm>
            <a:off x="0" y="304920"/>
            <a:ext cx="1868400" cy="1773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传播的内容</a:t>
            </a:r>
            <a:endParaRPr b="0" lang="en-US" sz="4400" spc="-1" strike="noStrike">
              <a:solidFill>
                <a:srgbClr val="000000"/>
              </a:solidFill>
              <a:latin typeface="Arial"/>
            </a:endParaRPr>
          </a:p>
        </p:txBody>
      </p:sp>
      <p:sp>
        <p:nvSpPr>
          <p:cNvPr id="80" name=""/>
          <p:cNvSpPr txBox="1"/>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支付宝的《校园日记》和《白领日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日，支付宝发布了新版本，并悄悄上线了一个叫“圈子”的新功能，有不少用户上传了大尺度照片，照片出现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领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校园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两个圈子中，一时之间火爆全国。这两个圈子，仅限女大学生和女白领用户发布状态，男性用户只能点赞或打赏，如果想评论，那么芝麻信用分必须达到</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以上。芝麻信用大于或等于</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意味着“有钱”、“多金”。 事情到这里，似乎都有点变质了。央视评论称，隐隐之中，一股暧昧低俗之气在流淌。支付宝“生活圈”功能的上线，迅速在社交网络上蔓延，更多的却是质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8</a:t>
            </a:r>
            <a:r>
              <a:rPr b="0" lang="zh-CN" sz="2400" spc="-1" strike="noStrike">
                <a:solidFill>
                  <a:srgbClr val="000000"/>
                </a:solidFill>
                <a:latin typeface="隶书"/>
                <a:ea typeface="隶书"/>
              </a:rPr>
              <a:t>日，支付宝“校园日记”事件继续发酵，而媒体报道数量呈爆炸性增长。远在美国出差的支付宝母公司蚂蚁金服的董事长彭蕾于</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发布了内部信予以回应，并在内网发帖：自己做错的事，永远不要怪别人！随后，支付宝微博微信也同步发出了道歉信《错了就是错了》，态度诚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传播的内容大体包括如下几个方面：</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传播本组织解决问题和困难的情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传播本组织取得的新成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本组织的独特风格和特有形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传播本组织形象受到损害的真相及所采取的措施</a:t>
            </a:r>
            <a:endParaRPr b="0" lang="en-US" sz="3200" spc="-1" strike="noStrike">
              <a:solidFill>
                <a:srgbClr val="000000"/>
              </a:solidFill>
              <a:latin typeface="Arial"/>
            </a:endParaRPr>
          </a:p>
        </p:txBody>
      </p:sp>
      <p:pic>
        <p:nvPicPr>
          <p:cNvPr id="83" name="图片 16388" descr="u=1539862099,3074219835&amp;fm=0&amp;gp=0">
            <a:hlinkClick r:id="rId1"/>
          </p:cNvPr>
          <p:cNvPicPr/>
          <p:nvPr/>
        </p:nvPicPr>
        <p:blipFill>
          <a:blip r:embed="rId2"/>
          <a:stretch/>
        </p:blipFill>
        <p:spPr>
          <a:xfrm>
            <a:off x="8201160" y="5524560"/>
            <a:ext cx="942840" cy="1333440"/>
          </a:xfrm>
          <a:prstGeom prst="rect">
            <a:avLst/>
          </a:prstGeom>
          <a:ln w="0">
            <a:noFill/>
          </a:ln>
        </p:spPr>
      </p:pic>
      <p:pic>
        <p:nvPicPr>
          <p:cNvPr id="84" name="图片 16390" descr="u=1539862099,3074219835&amp;fm=0&amp;gp=0">
            <a:hlinkClick r:id="rId3"/>
          </p:cNvPr>
          <p:cNvPicPr/>
          <p:nvPr/>
        </p:nvPicPr>
        <p:blipFill>
          <a:blip r:embed="rId4"/>
          <a:stretch/>
        </p:blipFill>
        <p:spPr>
          <a:xfrm>
            <a:off x="0" y="0"/>
            <a:ext cx="94284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公共关系传播的形式</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自我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自我传播又称个体自身传播，指的是个人接受外部信息进行自我信息处理的活动。传递信息的主体和接受信息的客体是同一个体，交流沟通的“双方”是同一个人，是自己与自己的沟通，其表现形式是人的自言自语、自我反省、自我发泄、自我陶醉、自我斗争和沉思默想等。</a:t>
            </a:r>
            <a:endParaRPr b="0" lang="en-US" sz="3200" spc="-1" strike="noStrike">
              <a:solidFill>
                <a:srgbClr val="000000"/>
              </a:solidFill>
              <a:latin typeface="Arial"/>
            </a:endParaRPr>
          </a:p>
        </p:txBody>
      </p:sp>
      <p:pic>
        <p:nvPicPr>
          <p:cNvPr id="87" name="图片 19460" descr="u=2244966031,3652339899&amp;fm=0&amp;gp=0">
            <a:hlinkClick r:id="rId1"/>
          </p:cNvPr>
          <p:cNvPicPr/>
          <p:nvPr/>
        </p:nvPicPr>
        <p:blipFill>
          <a:blip r:embed="rId2"/>
          <a:stretch/>
        </p:blipFill>
        <p:spPr>
          <a:xfrm>
            <a:off x="0" y="5524560"/>
            <a:ext cx="96192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人际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是个体与个体之间直接的信息传播与交流。它是一种最常见、最广泛的传播方式。人际传播内容丰富，既包括信息的交流，也包括情感的沟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特别是面对面的人际传播具有以下重要特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方式随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信息反馈灵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符号多样。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沟通情感。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面窄、容易失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三）公众传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公众传播是指传播主体面向相对集中、人数较多的公众群体进行的传播。如大型集会上向公众演讲、大型的演出和竞赛活动、展览会、庆典活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面对相对集中、规模较大的公众群体。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者与公众大规模的现场参与。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多媒体的综合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组织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是指组织所从事的信息活动，包括组织内部个人与个人、团体与团体、部门与部门、组织与其成员的传播活动以及组织与相关的外部环境之间的交流沟通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章 公共关系传播媒介</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传播的概念、特征及构成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传播效果评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传播的内容与主要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传播的主要媒体及其选择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图片 86019"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的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的主体是组织而不是个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内部正式传播的层次性和有序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内部非正式传播的自由性和平等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外部传播的公众性和大众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手段的综合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五）大众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是指专业化的媒介组织运用报纸、杂志、广播、电视、网络等大众传播媒介，以非特定的多数人为传播对象而进行的大规模的信息生成和传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的特点如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内容的大众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主体的职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手段的技术化和产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反馈的间接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传播媒介选择与效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人际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个体对个体信息交流为主要特征的人际传播是公共关系传播中最常见、最广泛的一种传播方式，而且其他的传播活动中也渗透着人际传播的内容，离不开人的接触。通过人际传播与交流创造的良好人际关系环境，是顺利开展其他传播活动的必要前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口头语言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语言是面对面人际传播的主要信息载体，是人类信息、情感交流、实现交际目标的最基本工具。公共关系活动中公共关系人员的大量日常和专业的工作都离不开语言的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3" descr=""/>
          <p:cNvPicPr/>
          <p:nvPr/>
        </p:nvPicPr>
        <p:blipFill>
          <a:blip r:embed="rId1"/>
          <a:stretch/>
        </p:blipFill>
        <p:spPr>
          <a:xfrm>
            <a:off x="403200" y="555480"/>
            <a:ext cx="835344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非语言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一些特殊的场合，非语言媒介在信息传播中更真实、更可靠、更具表现力和感染力、吸引力。在具体的公关活动中，一切非语言媒介都可作为沟通的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体态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辅助语言和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空间距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群体传播媒介</a:t>
            </a:r>
            <a:endParaRPr b="0" lang="en-US" sz="4400" spc="-1" strike="noStrike">
              <a:solidFill>
                <a:srgbClr val="000000"/>
              </a:solidFill>
              <a:latin typeface="Arial"/>
            </a:endParaRPr>
          </a:p>
        </p:txBody>
      </p:sp>
      <p:sp>
        <p:nvSpPr>
          <p:cNvPr id="1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语言媒介</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演讲、报告。这是通过演讲或报告者资料翔实、逻辑严密、情绪激昂的表现，感染、说服和影响听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会见、谈判。会见属礼节性沟通，一般是互致问候和祝愿，遇分歧时双方各自表达自己原则立场，不争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座谈。这是由主持人代表组织听取与会者意见、发表组织观点，参与者有较多的、平等的发表观点的机会，特别适合于双方的信息沟通、情感交流和达成谅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文字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文字媒介主要指群体传播中运用的各类印刷品，如用于新闻发布会上散发的新闻稿和新闻背景材料；用于展览会、展销会上的产品介绍、文字说明及其他宣传材料；还有在其他场合，用于向广大公众赠送和分发的文字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 </a:t>
            </a:r>
            <a:r>
              <a:rPr b="0" lang="zh-CN" sz="2800" spc="-1" strike="noStrike">
                <a:solidFill>
                  <a:srgbClr val="ff0000"/>
                </a:solidFill>
                <a:latin typeface="隶书"/>
                <a:ea typeface="隶书"/>
              </a:rPr>
              <a:t>公共关系报刊。</a:t>
            </a:r>
            <a:r>
              <a:rPr b="0" lang="zh-CN" sz="2800" spc="-1" strike="noStrike">
                <a:solidFill>
                  <a:srgbClr val="000000"/>
                </a:solidFill>
                <a:latin typeface="隶书"/>
                <a:ea typeface="隶书"/>
              </a:rPr>
              <a:t>这是有条件的组织自主出版，定期不公开发行、免费赠送的内部报纸和刊物。</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 </a:t>
            </a:r>
            <a:r>
              <a:rPr b="0" lang="zh-CN" sz="2800" spc="-1" strike="noStrike">
                <a:solidFill>
                  <a:srgbClr val="ff0000"/>
                </a:solidFill>
                <a:latin typeface="隶书"/>
                <a:ea typeface="隶书"/>
              </a:rPr>
              <a:t>宣传手册。</a:t>
            </a:r>
            <a:r>
              <a:rPr b="0" lang="zh-CN" sz="2800" spc="-1" strike="noStrike">
                <a:solidFill>
                  <a:srgbClr val="000000"/>
                </a:solidFill>
                <a:latin typeface="隶书"/>
                <a:ea typeface="隶书"/>
              </a:rPr>
              <a:t>组织为配合特定主题编制的宣传资料，与内部报刊的区别在于不定期印刷、宣传主旨单一明确，通常用于组织的对外宣传。</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 </a:t>
            </a:r>
            <a:r>
              <a:rPr b="0" lang="zh-CN" sz="2800" spc="-1" strike="noStrike">
                <a:solidFill>
                  <a:srgbClr val="ff0000"/>
                </a:solidFill>
                <a:latin typeface="隶书"/>
                <a:ea typeface="隶书"/>
              </a:rPr>
              <a:t>宣传材料。</a:t>
            </a:r>
            <a:r>
              <a:rPr b="0" lang="zh-CN" sz="2800" spc="-1" strike="noStrike">
                <a:solidFill>
                  <a:srgbClr val="000000"/>
                </a:solidFill>
                <a:latin typeface="隶书"/>
                <a:ea typeface="隶书"/>
              </a:rPr>
              <a:t>组织为宣传企业形象、产品或服务特色而印制的宣传品，如产品简介、产品报价单、促销宣传品、邮寄广告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4. </a:t>
            </a:r>
            <a:r>
              <a:rPr b="0" lang="zh-CN" sz="2800" spc="-1" strike="noStrike">
                <a:solidFill>
                  <a:srgbClr val="ff0000"/>
                </a:solidFill>
                <a:latin typeface="隶书"/>
                <a:ea typeface="隶书"/>
              </a:rPr>
              <a:t>海报、购买现场宣传品。</a:t>
            </a:r>
            <a:r>
              <a:rPr b="0" lang="zh-CN" sz="2800" spc="-1" strike="noStrike">
                <a:solidFill>
                  <a:srgbClr val="000000"/>
                </a:solidFill>
                <a:latin typeface="隶书"/>
                <a:ea typeface="隶书"/>
              </a:rPr>
              <a:t>配合某一活动主题制作的宣传海报、横幅、彩旗、悬置品或不干胶宣传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360" y="1600200"/>
            <a:ext cx="899172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国货成潮的背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中国国货迎来高光时刻，在消费市场刮起国潮旋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上个世纪</a:t>
            </a:r>
            <a:r>
              <a:rPr b="1" lang="zh-CN" sz="2400" spc="-1" strike="noStrike">
                <a:solidFill>
                  <a:srgbClr val="000000"/>
                </a:solidFill>
                <a:latin typeface="隶书"/>
                <a:ea typeface="隶书"/>
              </a:rPr>
              <a:t>70</a:t>
            </a:r>
            <a:r>
              <a:rPr b="1" lang="zh-CN" sz="2400" spc="-1" strike="noStrike">
                <a:solidFill>
                  <a:srgbClr val="000000"/>
                </a:solidFill>
                <a:latin typeface="隶书"/>
                <a:ea typeface="隶书"/>
              </a:rPr>
              <a:t>至</a:t>
            </a:r>
            <a:r>
              <a:rPr b="1" lang="zh-CN" sz="2400" spc="-1" strike="noStrike">
                <a:solidFill>
                  <a:srgbClr val="000000"/>
                </a:solidFill>
                <a:latin typeface="隶书"/>
                <a:ea typeface="隶书"/>
              </a:rPr>
              <a:t>90</a:t>
            </a:r>
            <a:r>
              <a:rPr b="1" lang="zh-CN" sz="2400" spc="-1" strike="noStrike">
                <a:solidFill>
                  <a:srgbClr val="000000"/>
                </a:solidFill>
                <a:latin typeface="隶书"/>
                <a:ea typeface="隶书"/>
              </a:rPr>
              <a:t>年代，回力鞋、百雀羚等一系列国货就凭借自身过硬的质量和实惠的价格，备受国人的喜爱。但随着国际品牌的大量涌入，一些曾经作为国民首选的品牌有些失色。如今，这些品牌重塑自身，焕发新生，回归消费舞台中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朋友们，定好闹钟，拼人品的时刻到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8</a:t>
            </a:r>
            <a:r>
              <a:rPr b="1" lang="zh-CN" sz="2400" spc="-1" strike="noStrike">
                <a:solidFill>
                  <a:srgbClr val="000000"/>
                </a:solidFill>
                <a:latin typeface="隶书"/>
                <a:ea typeface="隶书"/>
              </a:rPr>
              <a:t>日，球鞋收藏爱好者小白在朋友圈写下这样的话，附上的图片是最近热度最高的国产篮球鞋之一——李宁韦德之道</a:t>
            </a:r>
            <a:r>
              <a:rPr b="1" lang="zh-CN" sz="2400" spc="-1" strike="noStrike">
                <a:solidFill>
                  <a:srgbClr val="000000"/>
                </a:solidFill>
                <a:latin typeface="隶书"/>
                <a:ea typeface="隶书"/>
              </a:rPr>
              <a:t>9</a:t>
            </a:r>
            <a:r>
              <a:rPr b="1"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虽然这款篮球鞋目前还没有正式发售，但是从上次</a:t>
            </a:r>
            <a:r>
              <a:rPr b="1" lang="zh-CN" sz="2400" spc="-1" strike="noStrike">
                <a:solidFill>
                  <a:srgbClr val="000000"/>
                </a:solidFill>
                <a:latin typeface="隶书"/>
                <a:ea typeface="隶书"/>
              </a:rPr>
              <a:t>NBA</a:t>
            </a:r>
            <a:r>
              <a:rPr b="1" lang="zh-CN" sz="2400" spc="-1" strike="noStrike">
                <a:solidFill>
                  <a:srgbClr val="000000"/>
                </a:solidFill>
                <a:latin typeface="隶书"/>
                <a:ea typeface="隶书"/>
              </a:rPr>
              <a:t>球星亲自上脚，这款球鞋的热度便一直居高不下。据悉，这款全新的“李宁韦德之道</a:t>
            </a:r>
            <a:r>
              <a:rPr b="1" lang="zh-CN" sz="2400" spc="-1" strike="noStrike">
                <a:solidFill>
                  <a:srgbClr val="000000"/>
                </a:solidFill>
                <a:latin typeface="隶书"/>
                <a:ea typeface="隶书"/>
              </a:rPr>
              <a:t>9 Infinity </a:t>
            </a:r>
            <a:r>
              <a:rPr b="1" lang="zh-CN" sz="2400" spc="-1" strike="noStrike">
                <a:solidFill>
                  <a:srgbClr val="000000"/>
                </a:solidFill>
                <a:latin typeface="隶书"/>
                <a:ea typeface="隶书"/>
              </a:rPr>
              <a:t>宣告配色”，将采用抽签形式发售。谁能想到，能发售这样火爆单品的李宁公司曾面临着超过</a:t>
            </a:r>
            <a:r>
              <a:rPr b="1" lang="zh-CN" sz="2400" spc="-1" strike="noStrike">
                <a:solidFill>
                  <a:srgbClr val="000000"/>
                </a:solidFill>
                <a:latin typeface="隶书"/>
                <a:ea typeface="隶书"/>
              </a:rPr>
              <a:t>30</a:t>
            </a:r>
            <a:r>
              <a:rPr b="1" lang="zh-CN" sz="2400" spc="-1" strike="noStrike">
                <a:solidFill>
                  <a:srgbClr val="000000"/>
                </a:solidFill>
                <a:latin typeface="隶书"/>
                <a:ea typeface="隶书"/>
              </a:rPr>
              <a:t>亿元人民币的巨额亏损。</a:t>
            </a:r>
            <a:endParaRPr b="0" lang="en-US" sz="2400" spc="-1" strike="noStrike">
              <a:solidFill>
                <a:srgbClr val="000000"/>
              </a:solidFill>
              <a:latin typeface="Arial"/>
            </a:endParaRPr>
          </a:p>
        </p:txBody>
      </p:sp>
      <p:pic>
        <p:nvPicPr>
          <p:cNvPr id="48" name="图片 87043" descr="j0301252"/>
          <p:cNvPicPr/>
          <p:nvPr/>
        </p:nvPicPr>
        <p:blipFill>
          <a:blip r:embed="rId1"/>
          <a:stretch/>
        </p:blipFill>
        <p:spPr>
          <a:xfrm>
            <a:off x="6629400" y="228600"/>
            <a:ext cx="1793880" cy="152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视听类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是指用于展览、展销、会议等传播活动中的视听类媒介。主要包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图片资料。</a:t>
            </a:r>
            <a:r>
              <a:rPr b="0" lang="zh-CN" sz="2400" spc="-1" strike="noStrike">
                <a:solidFill>
                  <a:srgbClr val="000000"/>
                </a:solidFill>
                <a:latin typeface="隶书"/>
                <a:ea typeface="隶书"/>
              </a:rPr>
              <a:t>多用于展览中的宣传图片和附图的宣传材料上。可以向公众提供真实的形象资料，加深公众的印象。</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幻灯片。</a:t>
            </a:r>
            <a:r>
              <a:rPr b="0" lang="zh-CN" sz="2400" spc="-1" strike="noStrike">
                <a:solidFill>
                  <a:srgbClr val="000000"/>
                </a:solidFill>
                <a:latin typeface="隶书"/>
                <a:ea typeface="隶书"/>
              </a:rPr>
              <a:t>通过幻灯机放映出的幻灯画面，比单纯静止的图片展示效果更好。它主要用于会议或演讲中的文字、图表显示、展览会上有关内容的重点介绍和连续展示、产品功能介绍及所提供服务的详尽说明等。</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 </a:t>
            </a:r>
            <a:r>
              <a:rPr b="0" lang="zh-CN" sz="2400" spc="-1" strike="noStrike">
                <a:solidFill>
                  <a:srgbClr val="ff0000"/>
                </a:solidFill>
                <a:latin typeface="隶书"/>
                <a:ea typeface="隶书"/>
              </a:rPr>
              <a:t>录像片。</a:t>
            </a:r>
            <a:r>
              <a:rPr b="0" lang="zh-CN" sz="2400" spc="-1" strike="noStrike">
                <a:solidFill>
                  <a:srgbClr val="000000"/>
                </a:solidFill>
                <a:latin typeface="隶书"/>
                <a:ea typeface="隶书"/>
              </a:rPr>
              <a:t>录像兼有录音、幻灯、图片的许多优点，是传播信息中较理想的一种方式，它多用于展览、参观、会议、产品介绍和服务说明中，能使这些宣传活动更富有生机，更具有吸引力和感染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四）实物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物媒介主要是指用于展览、赠送的产品样品、产品或企业建筑微缩模型等。这些用于特殊场合的样品、模型、象征物上凝聚着组织的各类信息，展现着产品和组织的形象，它们实际上充当了组织对外传递信息、沟通与公众联系的特殊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产品和模型。</a:t>
            </a:r>
            <a:r>
              <a:rPr b="0" lang="zh-CN" sz="2400" spc="-1" strike="noStrike">
                <a:solidFill>
                  <a:srgbClr val="000000"/>
                </a:solidFill>
                <a:latin typeface="隶书"/>
                <a:ea typeface="隶书"/>
              </a:rPr>
              <a:t>在企业公共关系或营销活动中，产品本身就构成一种可信度较高的信息载体，通过质量、性能、外观、商标、包装等能全面地、直观地传递出产品最实在可靠的信息。因此，产品作为传播媒介被广泛用于展览会、订货会和赞助活动中。</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公关礼品。</a:t>
            </a:r>
            <a:r>
              <a:rPr b="0" lang="zh-CN" sz="2400" spc="-1" strike="noStrike">
                <a:solidFill>
                  <a:srgbClr val="000000"/>
                </a:solidFill>
                <a:latin typeface="隶书"/>
                <a:ea typeface="隶书"/>
              </a:rPr>
              <a:t>这是指用于加强组织与公众情感交流的实物宣传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组织形象标识系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组织形象标识由标准字、标准色及特殊图形或吉祥物构成，如可口可乐飘逸洒脱的红底白字、海尔公司的大眼睛儿童等，主要用于增强对公众的视觉冲击，便于形成统一的、特色鲜明的视觉形象，以区别于其他组织和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大众传播媒介</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印刷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电子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户外传播媒体</a:t>
            </a:r>
            <a:endParaRPr b="0" lang="en-US" sz="3200" spc="-1" strike="noStrike">
              <a:solidFill>
                <a:srgbClr val="000000"/>
              </a:solidFill>
              <a:latin typeface="Arial"/>
            </a:endParaRPr>
          </a:p>
        </p:txBody>
      </p:sp>
      <p:pic>
        <p:nvPicPr>
          <p:cNvPr id="125" name="图片 44036" descr="u=3516796007,2073927925&amp;fm=3&amp;gp=0">
            <a:hlinkClick r:id="rId1"/>
          </p:cNvPr>
          <p:cNvPicPr/>
          <p:nvPr/>
        </p:nvPicPr>
        <p:blipFill>
          <a:blip r:embed="rId2"/>
          <a:stretch/>
        </p:blipFill>
        <p:spPr>
          <a:xfrm>
            <a:off x="228600" y="3505320"/>
            <a:ext cx="2971800" cy="3352680"/>
          </a:xfrm>
          <a:prstGeom prst="rect">
            <a:avLst/>
          </a:prstGeom>
          <a:ln w="0">
            <a:noFill/>
          </a:ln>
        </p:spPr>
      </p:pic>
      <p:pic>
        <p:nvPicPr>
          <p:cNvPr id="126" name="图片 44038" descr="u=681841233,4289816219&amp;fm=0&amp;gp=0">
            <a:hlinkClick r:id="rId3"/>
          </p:cNvPr>
          <p:cNvPicPr/>
          <p:nvPr/>
        </p:nvPicPr>
        <p:blipFill>
          <a:blip r:embed="rId4"/>
          <a:stretch/>
        </p:blipFill>
        <p:spPr>
          <a:xfrm>
            <a:off x="5029200" y="35053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印刷类大众传播媒介</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印刷媒介的优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印刷媒介的信息容量大，可不受时间、版面的限制，充分容纳和处理信息内容，增强报道的广度和深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印刷媒介能使公众有充分的选择自由。由于印刷媒介属平面媒介，不受时间和接收的顺序的限制，因此，读者可根据需要和兴趣自己掌握阅读的顺序和速度，有主动的选择权和取舍权，而且便于读者保存、检索和重复使用。</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印刷媒介相对成本较低，无需专门的接收设备，普及性强，影响力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印刷媒介的缺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传播速度相对慢，时效性低。尽管印刷类媒介不断运用最新传播技术试图弥补这一缺陷，但因文字出版有个写作、编辑、印刷、传输的过程，加上受出版周期的限制，与电子类媒介的“现场直播”速度相比较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缺乏形象性。印刷类媒介采用的信息符号主要是文字、图画和色彩，缺乏直观性、形象性和生动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对读者要求高。印刷媒介对受众有一定文化水平的要求，因文字是一种需经过长期教育后才能破译的信息符号，没有文化或文化水平低的人无法从此类媒介中获得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ea typeface="隶书"/>
              </a:rPr>
              <a:t>（二）电子类大众传播媒介</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广播：广播是指通过无线电波或导线传送声音符号，供公众收听的传播媒介。在我国，无线收音机和有线广播喇叭的普及率都很高。广播传媒的优势表现在：</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迅速、传播面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适应面广，老少皆宜，受众不受文化水平限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接收方便灵活、无独占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成本低廉、与受众的交流性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广播也有局限性，表现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听众接收的信息受广播电台编排的节目次序限制，听众只能按顺序接收，不能自由选择接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广播所呈现的只是语言和音响，没有文字和图画，这就限制了广播信息的表现力，使其不适宜表现复杂的、难以理解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稍纵即逝，不能重复，不便于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电视：电视是用电子技术传递活动图像的传播媒介。电视是我国发展最快、影响最大的大众传播媒介，也是公共关系传播的最重要的手段之一。电视的最大特点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电视综合了语言、文字、音响、图像、色彩符号等，是视听结合的新媒介，形象生动、丰富多彩，信息的表现力和现场感极强，信息接收不受文化程度的影响，具有很强的普及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信息传播迅速，尤其是“现场直播”形式，做到了与事件的发生同步传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电视的娱乐性最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电视的局限性也是十分明显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和广播一样，观众只能按照电视台编排好的节目顺序依次接收，缺乏主动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电视节目制作耗资巨大，制作、播放和接收成本较高。电视观众构成复杂，不宜作受众针对性强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6880" y="252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1990</a:t>
            </a:r>
            <a:r>
              <a:rPr b="0" lang="zh-CN" sz="2400" spc="-1" strike="noStrike">
                <a:solidFill>
                  <a:srgbClr val="000000"/>
                </a:solidFill>
                <a:latin typeface="Arial"/>
              </a:rPr>
              <a:t>年，“体操王子”李宁创立了自己同名的专业体育品牌公司。李宁曾经是</a:t>
            </a:r>
            <a:r>
              <a:rPr b="0" lang="zh-CN" sz="2400" spc="-1" strike="noStrike">
                <a:solidFill>
                  <a:srgbClr val="000000"/>
                </a:solidFill>
                <a:latin typeface="Arial"/>
              </a:rPr>
              <a:t>70</a:t>
            </a:r>
            <a:r>
              <a:rPr b="0" lang="zh-CN" sz="2400" spc="-1" strike="noStrike">
                <a:solidFill>
                  <a:srgbClr val="000000"/>
                </a:solidFill>
                <a:latin typeface="Arial"/>
              </a:rPr>
              <a:t>后和</a:t>
            </a:r>
            <a:r>
              <a:rPr b="0" lang="zh-CN" sz="2400" spc="-1" strike="noStrike">
                <a:solidFill>
                  <a:srgbClr val="000000"/>
                </a:solidFill>
                <a:latin typeface="Arial"/>
              </a:rPr>
              <a:t>80</a:t>
            </a:r>
            <a:r>
              <a:rPr b="0" lang="zh-CN" sz="2400" spc="-1" strike="noStrike">
                <a:solidFill>
                  <a:srgbClr val="000000"/>
                </a:solidFill>
                <a:latin typeface="Arial"/>
              </a:rPr>
              <a:t>后心中的“潮品”，但随着</a:t>
            </a:r>
            <a:r>
              <a:rPr b="0" lang="zh-CN" sz="2400" spc="-1" strike="noStrike">
                <a:solidFill>
                  <a:srgbClr val="000000"/>
                </a:solidFill>
                <a:latin typeface="Arial"/>
              </a:rPr>
              <a:t>90</a:t>
            </a:r>
            <a:r>
              <a:rPr b="0" lang="zh-CN" sz="2400" spc="-1" strike="noStrike">
                <a:solidFill>
                  <a:srgbClr val="000000"/>
                </a:solidFill>
                <a:latin typeface="Arial"/>
              </a:rPr>
              <a:t>后成为运动品牌消费的主流人群，李宁遭遇品牌老化质疑，销售和口碑一路下挫。在经过重塑品牌，拥抱年轻人，改革供应链，发力电商，在融入中国文化的同时加入潮流元素。终于，</a:t>
            </a:r>
            <a:r>
              <a:rPr b="0" lang="zh-CN" sz="2400" spc="-1" strike="noStrike">
                <a:solidFill>
                  <a:srgbClr val="000000"/>
                </a:solidFill>
                <a:latin typeface="Arial"/>
              </a:rPr>
              <a:t>30</a:t>
            </a:r>
            <a:r>
              <a:rPr b="0" lang="zh-CN" sz="2400" spc="-1" strike="noStrike">
                <a:solidFill>
                  <a:srgbClr val="000000"/>
                </a:solidFill>
                <a:latin typeface="Arial"/>
              </a:rPr>
              <a:t>岁的李宁品牌再次翻红，重新成为“国货之光”，获得了大量年轻消费者的追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李宁旗下主打运动潮流的副牌“中国李宁”在巴黎时装周上一炮而红。全新的设计风格和营销方式，让中国李宁圈粉无数。</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3881520" y="3906720"/>
            <a:ext cx="4152960" cy="27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舌尖上的中国》带火的美食</a:t>
            </a:r>
            <a:br>
              <a:rPr sz="4400"/>
            </a:br>
            <a:endParaRPr b="0" lang="en-US" sz="4400" spc="-1" strike="noStrike">
              <a:solidFill>
                <a:srgbClr val="000000"/>
              </a:solidFill>
              <a:latin typeface="Arial"/>
            </a:endParaRPr>
          </a:p>
        </p:txBody>
      </p:sp>
      <p:sp>
        <p:nvSpPr>
          <p:cNvPr id="140" name=""/>
          <p:cNvSpPr txBox="1"/>
          <p:nvPr/>
        </p:nvSpPr>
        <p:spPr>
          <a:xfrm>
            <a:off x="457200" y="93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为了国民得知粮食的来之不易，央视特意制作了一档美食节目《舌尖上的中国》，节目中讲述了食物的来之不易，没想到却带火了全国各地的美食。有着《吃货宝典》之称的《舌尖上的中国》，用高清镜头记录下从食材到美食的制作过程。银幕前的我们，隔着银幕都能感受到现场那浓郁的香味以及浓浓的乡愁。一时间，很多从前不过人知的地方小吃，一下子就成为了新晋网红。如：油焖冬笋、莲藕炖排骨、花馍、羊肉泡馍、竹升面、臊子面、奶豆腐、毛豆腐……在网络上更是引发热议，中华美食再一次用自己独特的魅力征服了世界。</a:t>
            </a:r>
            <a:endParaRPr b="0" lang="en-US" sz="2000" spc="-1" strike="noStrike">
              <a:solidFill>
                <a:srgbClr val="000000"/>
              </a:solidFill>
              <a:latin typeface="Arial"/>
            </a:endParaRPr>
          </a:p>
        </p:txBody>
      </p:sp>
      <p:pic>
        <p:nvPicPr>
          <p:cNvPr id="141" name="图片 1" descr=""/>
          <p:cNvPicPr/>
          <p:nvPr/>
        </p:nvPicPr>
        <p:blipFill>
          <a:blip r:embed="rId1"/>
          <a:stretch/>
        </p:blipFill>
        <p:spPr>
          <a:xfrm>
            <a:off x="4419720" y="4148280"/>
            <a:ext cx="4647960" cy="272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
          <p:cNvPicPr/>
          <p:nvPr/>
        </p:nvPicPr>
        <p:blipFill>
          <a:blip r:embed="rId1"/>
          <a:stretch/>
        </p:blipFill>
        <p:spPr>
          <a:xfrm>
            <a:off x="19080" y="50760"/>
            <a:ext cx="4527360" cy="2857680"/>
          </a:xfrm>
          <a:prstGeom prst="rect">
            <a:avLst/>
          </a:prstGeom>
          <a:ln w="0">
            <a:noFill/>
          </a:ln>
        </p:spPr>
      </p:pic>
      <p:pic>
        <p:nvPicPr>
          <p:cNvPr id="143" name="图片 4" descr=""/>
          <p:cNvPicPr/>
          <p:nvPr/>
        </p:nvPicPr>
        <p:blipFill>
          <a:blip r:embed="rId2"/>
          <a:stretch/>
        </p:blipFill>
        <p:spPr>
          <a:xfrm>
            <a:off x="19080" y="3068640"/>
            <a:ext cx="4732200" cy="2657520"/>
          </a:xfrm>
          <a:prstGeom prst="rect">
            <a:avLst/>
          </a:prstGeom>
          <a:ln w="0">
            <a:noFill/>
          </a:ln>
        </p:spPr>
      </p:pic>
      <p:pic>
        <p:nvPicPr>
          <p:cNvPr id="144" name="图片 5" descr=""/>
          <p:cNvPicPr/>
          <p:nvPr/>
        </p:nvPicPr>
        <p:blipFill>
          <a:blip r:embed="rId3"/>
          <a:stretch/>
        </p:blipFill>
        <p:spPr>
          <a:xfrm>
            <a:off x="4546440" y="1558800"/>
            <a:ext cx="4578480" cy="30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新媒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新媒体</a:t>
            </a:r>
            <a:r>
              <a:rPr b="0" lang="zh-CN" sz="2400" spc="-1" strike="noStrike">
                <a:solidFill>
                  <a:srgbClr val="000000"/>
                </a:solidFill>
                <a:latin typeface="隶书"/>
                <a:ea typeface="隶书"/>
              </a:rPr>
              <a:t>(New Media)</a:t>
            </a:r>
            <a:r>
              <a:rPr b="0" lang="zh-CN" sz="2400" spc="-1" strike="noStrike">
                <a:solidFill>
                  <a:srgbClr val="000000"/>
                </a:solidFill>
                <a:latin typeface="隶书"/>
                <a:ea typeface="隶书"/>
              </a:rPr>
              <a:t>是一个相对的概念，是报刊、广播、电视等传统媒体以后发展起来的新的媒体形态，包括网络媒体、手机媒体、数字电视等。新媒体亦是一个宽泛的概念，利用数字技术、网络技术，通过互联网、宽带局域网、无线通信网、卫星等渠道，以及电脑、手机、数字电视机等终端，向用户提供信息和娱乐服务的传播形态。严格地说，新媒体应该称为数字化新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微博，大危机</a:t>
            </a: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随着微博的诞生与流行，越来越多的社会性组织纷纷开设微博进行公关。所以别看微博虽小，但其杀伤力却不可小觑。最近一则《安利产品大揭秘》的微博特火，直指安利</a:t>
            </a:r>
            <a:r>
              <a:rPr b="0" lang="zh-CN" sz="2400" spc="-1" strike="noStrike">
                <a:solidFill>
                  <a:srgbClr val="000000"/>
                </a:solidFill>
                <a:latin typeface="Arial"/>
              </a:rPr>
              <a:t>VC</a:t>
            </a:r>
            <a:r>
              <a:rPr b="0" lang="zh-CN" sz="2400" spc="-1" strike="noStrike">
                <a:solidFill>
                  <a:srgbClr val="000000"/>
                </a:solidFill>
                <a:latin typeface="Arial"/>
              </a:rPr>
              <a:t>片来自石药集团，“原料是石药集团的，生产是石药集团，只有包装是安利的。这款产品与石药集团自己品牌的</a:t>
            </a:r>
            <a:r>
              <a:rPr b="0" lang="zh-CN" sz="2400" spc="-1" strike="noStrike">
                <a:solidFill>
                  <a:srgbClr val="000000"/>
                </a:solidFill>
                <a:latin typeface="Arial"/>
              </a:rPr>
              <a:t>VC</a:t>
            </a:r>
            <a:r>
              <a:rPr b="0" lang="zh-CN" sz="2400" spc="-1" strike="noStrike">
                <a:solidFill>
                  <a:srgbClr val="000000"/>
                </a:solidFill>
                <a:latin typeface="Arial"/>
              </a:rPr>
              <a:t>片是一样的，但价格悬殊太大，安利纽崔莱复合</a:t>
            </a:r>
            <a:r>
              <a:rPr b="0" lang="zh-CN" sz="2400" spc="-1" strike="noStrike">
                <a:solidFill>
                  <a:srgbClr val="000000"/>
                </a:solidFill>
                <a:latin typeface="Arial"/>
              </a:rPr>
              <a:t>VC</a:t>
            </a:r>
            <a:r>
              <a:rPr b="0" lang="zh-CN" sz="2400" spc="-1" strike="noStrike">
                <a:solidFill>
                  <a:srgbClr val="000000"/>
                </a:solidFill>
                <a:latin typeface="Arial"/>
              </a:rPr>
              <a:t>片销售价格是</a:t>
            </a:r>
            <a:r>
              <a:rPr b="0" lang="zh-CN" sz="2400" spc="-1" strike="noStrike">
                <a:solidFill>
                  <a:srgbClr val="000000"/>
                </a:solidFill>
                <a:latin typeface="Arial"/>
              </a:rPr>
              <a:t>313</a:t>
            </a:r>
            <a:r>
              <a:rPr b="0" lang="zh-CN" sz="2400" spc="-1" strike="noStrike">
                <a:solidFill>
                  <a:srgbClr val="000000"/>
                </a:solidFill>
                <a:latin typeface="Arial"/>
              </a:rPr>
              <a:t>元一瓶，石药的价格是</a:t>
            </a:r>
            <a:r>
              <a:rPr b="0" lang="zh-CN" sz="2400" spc="-1" strike="noStrike">
                <a:solidFill>
                  <a:srgbClr val="000000"/>
                </a:solidFill>
                <a:latin typeface="Arial"/>
              </a:rPr>
              <a:t>10</a:t>
            </a:r>
            <a:r>
              <a:rPr b="0" lang="zh-CN" sz="2400" spc="-1" strike="noStrike">
                <a:solidFill>
                  <a:srgbClr val="000000"/>
                </a:solidFill>
                <a:latin typeface="Arial"/>
              </a:rPr>
              <a:t>元左右”。“这还了得，太暴利了。”受此心理影响，这条微博被大量转发，并引来众多微博评论，继而引起各种质疑。据统计，这条微博被转发</a:t>
            </a:r>
            <a:r>
              <a:rPr b="0" lang="zh-CN" sz="2400" spc="-1" strike="noStrike">
                <a:solidFill>
                  <a:srgbClr val="000000"/>
                </a:solidFill>
                <a:latin typeface="Arial"/>
              </a:rPr>
              <a:t>1</a:t>
            </a:r>
            <a:r>
              <a:rPr b="0" lang="zh-CN" sz="2400" spc="-1" strike="noStrike">
                <a:solidFill>
                  <a:srgbClr val="000000"/>
                </a:solidFill>
                <a:latin typeface="Arial"/>
              </a:rPr>
              <a:t>万多次，引发评论</a:t>
            </a:r>
            <a:r>
              <a:rPr b="0" lang="zh-CN" sz="2400" spc="-1" strike="noStrike">
                <a:solidFill>
                  <a:srgbClr val="000000"/>
                </a:solidFill>
                <a:latin typeface="Arial"/>
              </a:rPr>
              <a:t>400</a:t>
            </a:r>
            <a:r>
              <a:rPr b="0" lang="zh-CN" sz="2400" spc="-1" strike="noStrike">
                <a:solidFill>
                  <a:srgbClr val="000000"/>
                </a:solidFill>
                <a:latin typeface="Arial"/>
              </a:rPr>
              <a:t>多条。《</a:t>
            </a:r>
            <a:r>
              <a:rPr b="0" lang="zh-CN" sz="2400" spc="-1" strike="noStrike">
                <a:solidFill>
                  <a:srgbClr val="000000"/>
                </a:solidFill>
                <a:latin typeface="Arial"/>
              </a:rPr>
              <a:t>21</a:t>
            </a:r>
            <a:r>
              <a:rPr b="0" lang="zh-CN" sz="2400" spc="-1" strike="noStrike">
                <a:solidFill>
                  <a:srgbClr val="000000"/>
                </a:solidFill>
                <a:latin typeface="Arial"/>
              </a:rPr>
              <a:t>世纪经济报道》马上跟进报道，继而被各大网站转载，将安利</a:t>
            </a:r>
            <a:r>
              <a:rPr b="0" lang="zh-CN" sz="2400" spc="-1" strike="noStrike">
                <a:solidFill>
                  <a:srgbClr val="000000"/>
                </a:solidFill>
                <a:latin typeface="Arial"/>
              </a:rPr>
              <a:t>VC</a:t>
            </a:r>
            <a:r>
              <a:rPr b="0" lang="zh-CN" sz="2400" spc="-1" strike="noStrike">
                <a:solidFill>
                  <a:srgbClr val="000000"/>
                </a:solidFill>
                <a:latin typeface="Arial"/>
              </a:rPr>
              <a:t>片微博事件进一步放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0400" y="53604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相对于报纸、电视、广播，新媒体在传播信息方面具有以下特点</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交互性。</a:t>
            </a:r>
            <a:r>
              <a:rPr b="0" lang="zh-CN" sz="2400" spc="-1" strike="noStrike">
                <a:solidFill>
                  <a:srgbClr val="000000"/>
                </a:solidFill>
                <a:latin typeface="Arial"/>
              </a:rPr>
              <a:t>这是新媒体最独特、最别具一格的特点之一。新媒体上的信息传播，用户完全可以根据自己的兴趣和要求来决定浏览的页面，并且能及时将意见反馈给信息提供方。</a:t>
            </a:r>
            <a:r>
              <a:rPr b="0" lang="zh-CN" sz="2400" spc="-1" strike="noStrike">
                <a:solidFill>
                  <a:srgbClr val="000000"/>
                </a:solidFill>
                <a:latin typeface="Arial"/>
              </a:rPr>
              <a:t>BBS</a:t>
            </a:r>
            <a:r>
              <a:rPr b="0" lang="zh-CN" sz="2400" spc="-1" strike="noStrike">
                <a:solidFill>
                  <a:srgbClr val="000000"/>
                </a:solidFill>
                <a:latin typeface="Arial"/>
              </a:rPr>
              <a:t>论坛、网上调查、聊天、微信、微博等都是交互性的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巨量性。</a:t>
            </a:r>
            <a:r>
              <a:rPr b="0" lang="zh-CN" sz="2400" spc="-1" strike="noStrike">
                <a:solidFill>
                  <a:srgbClr val="000000"/>
                </a:solidFill>
                <a:latin typeface="Arial"/>
              </a:rPr>
              <a:t>用“信息海洋”来形容新媒体是最贴切不过了，由于新媒体设计的“无中心化”，借助其无限链接功能，新媒体上的信息是巨量的，且很容易扩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高速性。</a:t>
            </a:r>
            <a:r>
              <a:rPr b="0" lang="zh-CN" sz="2400" spc="-1" strike="noStrike">
                <a:solidFill>
                  <a:srgbClr val="000000"/>
                </a:solidFill>
                <a:latin typeface="Arial"/>
              </a:rPr>
              <a:t>由于新媒体上的信息经过了数字化的处理变得极易传输，高速性已成为新媒体的一个重要特征，利用这一特征，新媒体也可以进行实时、实况报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当然，新媒体传播也存在缺点</a:t>
            </a:r>
            <a:r>
              <a:rPr b="0" lang="zh-CN" sz="3200" spc="-1" strike="noStrike">
                <a:solidFill>
                  <a:srgbClr val="000000"/>
                </a:solidFill>
                <a:latin typeface="Arial"/>
              </a:rPr>
              <a:t>:</a:t>
            </a:r>
            <a:r>
              <a:rPr b="0" lang="zh-CN" sz="3200" spc="-1" strike="noStrike">
                <a:solidFill>
                  <a:srgbClr val="000000"/>
                </a:solidFill>
                <a:latin typeface="Arial"/>
              </a:rPr>
              <a:t>网上虚假信息过多，不能进行有效的监督，导致人们不完全相信新媒体的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大众传播除新闻传媒外，还包括电影和书籍，在特定的公共关系传播中也可以选择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盒马鲜生</a:t>
            </a:r>
            <a:r>
              <a:rPr b="0" lang="zh-CN" sz="4400" spc="-1" strike="noStrike">
                <a:solidFill>
                  <a:srgbClr val="ff0000"/>
                </a:solidFill>
                <a:latin typeface="Arial"/>
              </a:rPr>
              <a:t>1948</a:t>
            </a:r>
            <a:r>
              <a:rPr b="0" lang="zh-CN" sz="4400" spc="-1" strike="noStrike">
                <a:solidFill>
                  <a:srgbClr val="ff0000"/>
                </a:solidFill>
                <a:latin typeface="Arial"/>
              </a:rPr>
              <a:t>事件</a:t>
            </a:r>
            <a:br>
              <a:rPr sz="4400"/>
            </a:b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盒马鲜生在</a:t>
            </a: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份策划了一场“民国集市”活动，活动本身没有问题，但海报上出现的“让物价回归</a:t>
            </a:r>
            <a:r>
              <a:rPr b="0" lang="zh-CN" sz="2400" spc="-1" strike="noStrike">
                <a:solidFill>
                  <a:srgbClr val="000000"/>
                </a:solidFill>
                <a:latin typeface="Arial"/>
              </a:rPr>
              <a:t>1948”</a:t>
            </a:r>
            <a:r>
              <a:rPr b="0" lang="zh-CN" sz="2400" spc="-1" strike="noStrike">
                <a:solidFill>
                  <a:srgbClr val="000000"/>
                </a:solidFill>
                <a:latin typeface="Arial"/>
              </a:rPr>
              <a:t>却出现了大问题，因为</a:t>
            </a:r>
            <a:r>
              <a:rPr b="0" lang="zh-CN" sz="2400" spc="-1" strike="noStrike">
                <a:solidFill>
                  <a:srgbClr val="000000"/>
                </a:solidFill>
                <a:latin typeface="Arial"/>
              </a:rPr>
              <a:t>1948</a:t>
            </a:r>
            <a:r>
              <a:rPr b="0" lang="zh-CN" sz="2400" spc="-1" strike="noStrike">
                <a:solidFill>
                  <a:srgbClr val="000000"/>
                </a:solidFill>
                <a:latin typeface="Arial"/>
              </a:rPr>
              <a:t>年通货膨胀极为严重，物价飞涨民不聊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随后共青团中央发表了一篇“物价重回</a:t>
            </a:r>
            <a:r>
              <a:rPr b="0" lang="zh-CN" sz="2400" spc="-1" strike="noStrike">
                <a:solidFill>
                  <a:srgbClr val="000000"/>
                </a:solidFill>
                <a:latin typeface="Arial"/>
              </a:rPr>
              <a:t>1948</a:t>
            </a:r>
            <a:r>
              <a:rPr b="0" lang="zh-CN" sz="2400" spc="-1" strike="noStrike">
                <a:solidFill>
                  <a:srgbClr val="000000"/>
                </a:solidFill>
                <a:latin typeface="Arial"/>
              </a:rPr>
              <a:t>？那可惨了”的文章。共青团中央在微博里发“那里，没有人像此时此刻的你一样，背后有一个血气方刚、挺直腰杆、誓死护你周全的祖国。”盒马随后在微博回应到：“高中历史《中国近代现代史》下册（必修）第三章第二节，罚抄</a:t>
            </a:r>
            <a:r>
              <a:rPr b="0" lang="zh-CN" sz="2400" spc="-1" strike="noStrike">
                <a:solidFill>
                  <a:srgbClr val="000000"/>
                </a:solidFill>
                <a:latin typeface="Arial"/>
              </a:rPr>
              <a:t>100</a:t>
            </a:r>
            <a:r>
              <a:rPr b="0" lang="zh-CN" sz="2400" spc="-1" strike="noStrike">
                <a:solidFill>
                  <a:srgbClr val="000000"/>
                </a:solidFill>
                <a:latin typeface="Arial"/>
              </a:rPr>
              <a:t>遍并背诵全文……在抄书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好在盒马鲜生的公关部门实在高超，成功化解了品牌危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
          <p:cNvPicPr/>
          <p:nvPr/>
        </p:nvPicPr>
        <p:blipFill>
          <a:blip r:embed="rId1"/>
          <a:stretch/>
        </p:blipFill>
        <p:spPr>
          <a:xfrm>
            <a:off x="1484280" y="681120"/>
            <a:ext cx="6934320" cy="56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户外传播媒体</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户外传播媒体是指利用霓虹灯、广告牌、路牌、旗帜、灯箱、车船、气球、市政公众建筑等传播宣传信息的渠道。户外传播媒体的宣传内容一般比较简单，侧重于企业名称、品牌名称的宣传，能够提高社会组织的知名度。</a:t>
            </a:r>
            <a:endParaRPr b="0" lang="en-US" sz="3200" spc="-1" strike="noStrike">
              <a:solidFill>
                <a:srgbClr val="000000"/>
              </a:solidFill>
              <a:latin typeface="Arial"/>
            </a:endParaRPr>
          </a:p>
        </p:txBody>
      </p:sp>
      <p:pic>
        <p:nvPicPr>
          <p:cNvPr id="157" name="图片 55300" descr="u=1071641522,3801599429&amp;fm=0&amp;gp=0">
            <a:hlinkClick r:id="rId1"/>
          </p:cNvPr>
          <p:cNvPicPr/>
          <p:nvPr/>
        </p:nvPicPr>
        <p:blipFill>
          <a:blip r:embed="rId2"/>
          <a:stretch/>
        </p:blipFill>
        <p:spPr>
          <a:xfrm>
            <a:off x="3809880" y="4952880"/>
            <a:ext cx="221004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现在越来越多的社会组织特别是企业利用各种交通工具如火车、汽车、地铁、轮船、出租车等媒体或形式进行宣传。车船作为传播媒体，具有以下优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它是一种流动性媒体，辐射范围相对较大。加上乘坐车船的人多，阅读对象遍及各地、各阶层、各职业和各年龄段，有利于提高知名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制作简单，费用低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精简，内容集中，突出了特色形象，有利于强化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7360" y="291600"/>
            <a:ext cx="536724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在场内，乒乓球元素，复古运动风格、中国风的秀场布置，向世人传递出“本土的即是世界的”声音。在场外，借助微博等社交媒体对整个过程进行全方位报道，引爆了当时的社交媒体，以短短</a:t>
            </a:r>
            <a:r>
              <a:rPr b="0" lang="zh-CN" sz="2400" spc="-1" strike="noStrike">
                <a:solidFill>
                  <a:srgbClr val="000000"/>
                </a:solidFill>
                <a:latin typeface="Arial"/>
              </a:rPr>
              <a:t>4</a:t>
            </a:r>
            <a:r>
              <a:rPr b="0" lang="zh-CN" sz="2400" spc="-1" strike="noStrike">
                <a:solidFill>
                  <a:srgbClr val="000000"/>
                </a:solidFill>
                <a:latin typeface="Arial"/>
              </a:rPr>
              <a:t>天就破千万的文章曝光总量，引发出现象级讨论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a:t>
            </a:r>
            <a:r>
              <a:rPr b="0" lang="zh-CN" sz="2400" spc="-1" strike="noStrike">
                <a:solidFill>
                  <a:srgbClr val="000000"/>
                </a:solidFill>
                <a:latin typeface="Arial"/>
              </a:rPr>
              <a:t>Z</a:t>
            </a:r>
            <a:r>
              <a:rPr b="0" lang="zh-CN" sz="2400" spc="-1" strike="noStrike">
                <a:solidFill>
                  <a:srgbClr val="000000"/>
                </a:solidFill>
                <a:latin typeface="Arial"/>
              </a:rPr>
              <a:t>世代”（即</a:t>
            </a:r>
            <a:r>
              <a:rPr b="0" lang="zh-CN" sz="2400" spc="-1" strike="noStrike">
                <a:solidFill>
                  <a:srgbClr val="000000"/>
                </a:solidFill>
                <a:latin typeface="Arial"/>
              </a:rPr>
              <a:t>1995</a:t>
            </a:r>
            <a:r>
              <a:rPr b="0" lang="zh-CN" sz="2400" spc="-1" strike="noStrike">
                <a:solidFill>
                  <a:srgbClr val="000000"/>
                </a:solidFill>
                <a:latin typeface="Arial"/>
              </a:rPr>
              <a:t>年至</a:t>
            </a:r>
            <a:r>
              <a:rPr b="0" lang="zh-CN" sz="2400" spc="-1" strike="noStrike">
                <a:solidFill>
                  <a:srgbClr val="000000"/>
                </a:solidFill>
                <a:latin typeface="Arial"/>
              </a:rPr>
              <a:t>2010</a:t>
            </a:r>
            <a:r>
              <a:rPr b="0" lang="zh-CN" sz="2400" spc="-1" strike="noStrike">
                <a:solidFill>
                  <a:srgbClr val="000000"/>
                </a:solidFill>
                <a:latin typeface="Arial"/>
              </a:rPr>
              <a:t>年出生、深受互联网影响的一代人）成为消费主力军，他们不再盲目追求大品牌，买国货、用国货、晒国货，已经成为“国潮青年”们新的日常生活方式。“守得住经典、当得了网红”的国货新潮流产品，让他们直呼“真香”“想买”。</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5159520" y="291960"/>
            <a:ext cx="3873240" cy="617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341280" y="1666440"/>
            <a:ext cx="8229600" cy="49532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世界移动通信大会强势来袭，属于户外媒体的机会来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作为全球最具影响力的移动通信领域的展览会，</a:t>
            </a:r>
            <a:r>
              <a:rPr b="0" lang="zh-CN" sz="2400" spc="-1" strike="noStrike">
                <a:solidFill>
                  <a:srgbClr val="000000"/>
                </a:solidFill>
                <a:latin typeface="隶书"/>
                <a:ea typeface="隶书"/>
              </a:rPr>
              <a:t>MWC</a:t>
            </a:r>
            <a:r>
              <a:rPr b="0" lang="zh-CN" sz="2400" spc="-1" strike="noStrike">
                <a:solidFill>
                  <a:srgbClr val="000000"/>
                </a:solidFill>
                <a:latin typeface="隶书"/>
                <a:ea typeface="隶书"/>
              </a:rPr>
              <a:t>（世界移动通信大会）是今年难得的“户外大事件”之一，各国通信品牌齐聚，相关品牌如何在户外传播方面抓住这一盛会脱颖而出，一举吸引全球合作伙伴与消费者的目光？</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传播从机场和火车站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品牌如果想要全方位、深度触达参会人群，就需要围绕这些人群的出行路线与场景来选择合适的媒体与之互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首先，从国际旅客抵达巴塞罗那到离开，巴塞罗那国际机场就是其必经之地，其次就是当地的火车站，如马德里到巴塞罗那的高铁只要</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个小时，每天</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趟，是当地人常用的交通工具。因此，机场和火车站及高铁内媒体可以作为品牌接触目标用户的主要交通媒体。</a:t>
            </a:r>
            <a:endParaRPr b="0" lang="en-US" sz="2400" spc="-1" strike="noStrike">
              <a:solidFill>
                <a:srgbClr val="000000"/>
              </a:solidFill>
              <a:latin typeface="Arial"/>
            </a:endParaRPr>
          </a:p>
        </p:txBody>
      </p:sp>
      <p:pic>
        <p:nvPicPr>
          <p:cNvPr id="162" name="图片 5734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从机场</a:t>
            </a:r>
            <a:r>
              <a:rPr b="0" lang="zh-CN" sz="2400" spc="-1" strike="noStrike">
                <a:solidFill>
                  <a:srgbClr val="ff0000"/>
                </a:solidFill>
                <a:latin typeface="Arial"/>
              </a:rPr>
              <a:t>/</a:t>
            </a:r>
            <a:r>
              <a:rPr b="0" lang="zh-CN" sz="2400" spc="-1" strike="noStrike">
                <a:solidFill>
                  <a:srgbClr val="ff0000"/>
                </a:solidFill>
                <a:latin typeface="Arial"/>
              </a:rPr>
              <a:t>火车站到场馆的移动覆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机场或火车站出来前往展会（</a:t>
            </a:r>
            <a:r>
              <a:rPr b="0" lang="zh-CN" sz="2400" spc="-1" strike="noStrike">
                <a:solidFill>
                  <a:srgbClr val="000000"/>
                </a:solidFill>
                <a:latin typeface="Arial"/>
              </a:rPr>
              <a:t>Gran Via</a:t>
            </a:r>
            <a:r>
              <a:rPr b="0" lang="zh-CN" sz="2400" spc="-1" strike="noStrike">
                <a:solidFill>
                  <a:srgbClr val="000000"/>
                </a:solidFill>
                <a:latin typeface="Arial"/>
              </a:rPr>
              <a:t>），可以乘坐大巴或打车，还有地铁，如果品牌想在途中触及参展人群，可以选择站点外大牌或公交类广告。比较理想的户外传播策略，是关键站点的大幅覆盖，或是站点之间网络化媒体的多次曝光，以及流动于各站点的移动媒体如公交、出租车等广告载体的有效串联。</a:t>
            </a:r>
            <a:endParaRPr b="0" lang="en-US" sz="2400" spc="-1" strike="noStrike">
              <a:solidFill>
                <a:srgbClr val="000000"/>
              </a:solidFill>
              <a:latin typeface="Arial"/>
            </a:endParaRPr>
          </a:p>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场馆内外的沉浸式体验</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到了展会中心，附近有地铁和停车场，品牌可以在场馆内外发布广告引导大家前往自己展台，或者是营造品牌沉浸式的体验，从众多参展品牌中脱颖而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传播媒介选择的依据</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传播对象的特点</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公众受教育程度。</a:t>
            </a:r>
            <a:r>
              <a:rPr b="0" lang="zh-CN" sz="2400" spc="-1" strike="noStrike">
                <a:solidFill>
                  <a:srgbClr val="000000"/>
                </a:solidFill>
                <a:latin typeface="隶书"/>
                <a:ea typeface="隶书"/>
              </a:rPr>
              <a:t>公众的受教育程度高低与媒介选择存在密切关系。一般说，受教育程度高者多选用印刷媒介进行阅读分析，获取信息；相反，受教育程度较低者多选用电子媒介来获取信息。</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公众年龄结构。</a:t>
            </a:r>
            <a:r>
              <a:rPr b="0" lang="zh-CN" sz="2400" spc="-1" strike="noStrike">
                <a:solidFill>
                  <a:srgbClr val="000000"/>
                </a:solidFill>
                <a:latin typeface="隶书"/>
                <a:ea typeface="隶书"/>
              </a:rPr>
              <a:t>年龄结构水平与媒介选择存在的关系是：中老年多选用印刷媒介，青少年更适合电子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公众生活、工作习惯。</a:t>
            </a:r>
            <a:r>
              <a:rPr b="0" lang="zh-CN" sz="2400" spc="-1" strike="noStrike">
                <a:solidFill>
                  <a:srgbClr val="000000"/>
                </a:solidFill>
                <a:latin typeface="隶书"/>
                <a:ea typeface="隶书"/>
              </a:rPr>
              <a:t>不同的公众，生活、工作习惯不同，接受信息的时间和采用的方式都不同。生活习惯不正常的公众无法在规定时间内收听或收看，印刷媒介更适合他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公众经济状况。</a:t>
            </a:r>
            <a:r>
              <a:rPr b="0" lang="zh-CN" sz="2400" spc="-1" strike="noStrike">
                <a:solidFill>
                  <a:srgbClr val="000000"/>
                </a:solidFill>
                <a:latin typeface="隶书"/>
                <a:ea typeface="隶书"/>
              </a:rPr>
              <a:t>公众经济生活水平高，有可能接近费用较高的媒介；相反，只能接触费用较低的媒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3" descr=""/>
          <p:cNvPicPr/>
          <p:nvPr/>
        </p:nvPicPr>
        <p:blipFill>
          <a:blip r:embed="rId1"/>
          <a:stretch/>
        </p:blipFill>
        <p:spPr>
          <a:xfrm>
            <a:off x="804960" y="311040"/>
            <a:ext cx="7534080" cy="640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信息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信息内容的复杂程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传播信息内容的保存价值的大小。（</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传播信息内容的详细程度和趣味性。（</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传播信息内容的性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经济合理的原则</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人员在选择传播媒介时，还应考虑组织自身的经济负担能力和传播价值问题，精打细算，充分利用现有条件，以最少的费用来争取最好的传播效果。</a:t>
            </a:r>
            <a:endParaRPr b="0" lang="en-US" sz="3200" spc="-1" strike="noStrike">
              <a:solidFill>
                <a:srgbClr val="000000"/>
              </a:solidFill>
              <a:latin typeface="Arial"/>
            </a:endParaRPr>
          </a:p>
        </p:txBody>
      </p:sp>
      <p:pic>
        <p:nvPicPr>
          <p:cNvPr id="172" name="图片 60419" descr="j0292020"/>
          <p:cNvPicPr/>
          <p:nvPr/>
        </p:nvPicPr>
        <p:blipFill>
          <a:blip r:embed="rId1"/>
          <a:stretch/>
        </p:blipFill>
        <p:spPr>
          <a:xfrm>
            <a:off x="4952880" y="22860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80920" y="338040"/>
            <a:ext cx="7382160" cy="6313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公共关系传播效果</a:t>
            </a:r>
            <a:endParaRPr b="0" lang="en-US" sz="4400" spc="-1" strike="noStrike">
              <a:solidFill>
                <a:srgbClr val="000000"/>
              </a:solidFill>
              <a:latin typeface="Arial"/>
            </a:endParaRPr>
          </a:p>
        </p:txBody>
      </p:sp>
      <p:sp>
        <p:nvSpPr>
          <p:cNvPr id="17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一）获得良好传播效果的条件</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 </a:t>
            </a:r>
            <a:r>
              <a:rPr b="0" lang="zh-CN" sz="1800" spc="-1" strike="noStrike">
                <a:solidFill>
                  <a:srgbClr val="000000"/>
                </a:solidFill>
                <a:latin typeface="隶书"/>
                <a:ea typeface="隶书"/>
              </a:rPr>
              <a:t>传播者</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在整个传播活动中，传播者是信息传递关系中的主体，是信息的发出者。传播者发出的信息能否被公众接受，在很大程度上取决于其自身条件状况，包括如下几个方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从传播者的知名度看，组织信息发出者如果是在社会生活中有名望的人，他所传播的信息也易引起公众的注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从传播者的信誉度看，信息传播者如果是被公众认为可靠的、可以信赖的人，具有公正无私的品德，公众态度较容易向有利于组织的方向转化。</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从传播者的权威性看，信息传播者如果是所传播信息内容方面的专家、学者，他的观点看法具有权威性，信息内容易被接受。因为在相同条件下，公众宁愿相信专家意见而不相信一般人的意见。</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从传播者掌握的语言艺术水平看，在传播过程中，如果传播者能够准确地选择和恰当地运用词汇，充分、贴切地表达思想感情，巧妙熟练地运用各种语言形式把信息传递给各类公众，那么信息的可接受性会因语言的艺术性强而增大。</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从传播者与传播对象的一致性看，在传播活动中，传播者如果能表明在利益上与传播对象一致，或者表明不会从其传播中得到个人好处，找出与传播对象共有的东西，便会得到公众的认同，传播效果会好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传播的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能否取得预期的效果，与被传递的信息内容也有很大关系。传播的信息应具有以下几方面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真实可靠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显著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新鲜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相关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明确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复性与连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传播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对象是能动的因素，必须对它有全面的了解，才能有针对性地传播信息，取得预期效果。</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传播对象的团体背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对象所需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传播对象如何取得信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传播对象接受能力。</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传播对象的结构与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媒介传播的内容与形式</a:t>
            </a:r>
            <a:br>
              <a:rPr sz="4000"/>
            </a:b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传播的概念与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 “传播”的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传播” 一词来自英语（</a:t>
            </a:r>
            <a:r>
              <a:rPr b="0" lang="en-US" sz="2800" spc="-1" strike="noStrike">
                <a:solidFill>
                  <a:srgbClr val="000000"/>
                </a:solidFill>
                <a:latin typeface="隶书"/>
                <a:ea typeface="隶书"/>
              </a:rPr>
              <a:t>Communication</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牛津字典</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的解释是：“借着语言、文字或形象，获得观念、知识等的分享、传送或交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大英百科全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释为：“若干人或者一群人相互交换信息的行为”。传播学中所说的“传播”主要指人类社会中，在个人或群体中发生的流通、共享或扩散信息的行为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怎样改善传播效果</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美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化就是给人物或事物加上一些美好的评价或修饰，从而使人产生一个美好的印象，因而不经验证就予以接受或赞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政治宣传、文艺广告和商业广告中，我们常常可体会到这种手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用美化的基本条件有：美化对象要可信，即具有被美化的条件；美化要适度，用词要慎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典型示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典型示范是请具有一定名望、声誉或经验丰富的人对受传者现身说法，来证明和评价人物、事物和观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各种广告中，我们常可以看到一些名人、歌星、影星、运动员在使用某种食品、药品及其他生活用品后，用自己的感受来证明它们是如何的“味道</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效果</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好极了”，目的在于利用“名人效应”来吸引和说服受传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力士洗浴用品自进入中国大陆以来，就曾先后邀请国际影星娜塔莎</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金斯基、张曼玉、刘嘉玲、舒淇等人在电视屏幕上反复亮相，名人身上的光环效应以及她们所具有的美的特质，激起公众对美的向往和追求，使力士成为最受消费者欢迎的洗浴品牌之一。</a:t>
            </a:r>
            <a:endParaRPr b="0" lang="en-US" sz="3200" spc="-1" strike="noStrike">
              <a:solidFill>
                <a:srgbClr val="000000"/>
              </a:solidFill>
              <a:latin typeface="Arial"/>
            </a:endParaRPr>
          </a:p>
        </p:txBody>
      </p:sp>
      <p:pic>
        <p:nvPicPr>
          <p:cNvPr id="186" name="图片 67587" descr="j0292020"/>
          <p:cNvPicPr/>
          <p:nvPr/>
        </p:nvPicPr>
        <p:blipFill>
          <a:blip r:embed="rId1"/>
          <a:stretch/>
        </p:blipFill>
        <p:spPr>
          <a:xfrm>
            <a:off x="609480" y="0"/>
            <a:ext cx="1868760" cy="1676520"/>
          </a:xfrm>
          <a:prstGeom prst="rect">
            <a:avLst/>
          </a:prstGeom>
          <a:ln w="0">
            <a:noFill/>
          </a:ln>
        </p:spPr>
      </p:pic>
      <p:pic>
        <p:nvPicPr>
          <p:cNvPr id="187" name="图片 67589" descr="u=2115826048,224013040&amp;fm=0&amp;gp=0">
            <a:hlinkClick r:id="rId2"/>
          </p:cNvPr>
          <p:cNvPicPr/>
          <p:nvPr/>
        </p:nvPicPr>
        <p:blipFill>
          <a:blip r:embed="rId3"/>
          <a:stretch/>
        </p:blipFill>
        <p:spPr>
          <a:xfrm>
            <a:off x="228600" y="5105520"/>
            <a:ext cx="2133720" cy="1752480"/>
          </a:xfrm>
          <a:prstGeom prst="rect">
            <a:avLst/>
          </a:prstGeom>
          <a:ln w="0">
            <a:noFill/>
          </a:ln>
        </p:spPr>
      </p:pic>
      <p:pic>
        <p:nvPicPr>
          <p:cNvPr id="188" name="图片 67591" descr="u=1359889737,3985250134&amp;fm=15&amp;gp=0">
            <a:hlinkClick r:id="rId4"/>
          </p:cNvPr>
          <p:cNvPicPr/>
          <p:nvPr/>
        </p:nvPicPr>
        <p:blipFill>
          <a:blip r:embed="rId5"/>
          <a:stretch/>
        </p:blipFill>
        <p:spPr>
          <a:xfrm>
            <a:off x="388620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引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引证就是直接让真正的宣传者公开出面，有目的、有倾向性地引用一些对自己有利的事实、论点来证明自己的观点、方案、产品的方法。我们可常见到，有些广告大量引用权威部门、权威人士的鉴定意见，或者引用那些于己有利的信息数据来宣传自己的产品或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把洗发水当药来卖的“采乐”，以“药”为切入口，在上市之初，成功在当时以营养、柔顺、去屑为代表的宝洁三剑客潘婷、飘柔、海飞丝几乎垄断了中国洗发水市场中开辟出一片属于自己的蓝海。“头屑是由头皮上的真菌过度繁殖引起的，清除头屑应杀灭真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普通洗发只能洗掉头发上头屑，我们的方法，杀灭头发上的真菌，使用</a:t>
            </a:r>
            <a:r>
              <a:rPr b="0" lang="zh-CN" sz="2800" spc="-1" strike="noStrike">
                <a:solidFill>
                  <a:srgbClr val="000000"/>
                </a:solidFill>
                <a:latin typeface="Arial"/>
                <a:ea typeface="隶书"/>
              </a:rPr>
              <a:t>8</a:t>
            </a:r>
            <a:r>
              <a:rPr b="0" lang="zh-CN" sz="2800" spc="-1" strike="noStrike">
                <a:solidFill>
                  <a:srgbClr val="000000"/>
                </a:solidFill>
                <a:latin typeface="Arial"/>
                <a:ea typeface="隶书"/>
              </a:rPr>
              <a:t>次，针对根本。”以上独特的产品功能性诉求；“各大药店有售”，这样别出心裁的营销渠道，均有力地抓住了目标消费者的心。</a:t>
            </a:r>
            <a:endParaRPr b="0" lang="en-US" sz="2800" spc="-1" strike="noStrike">
              <a:solidFill>
                <a:srgbClr val="000000"/>
              </a:solidFill>
              <a:latin typeface="Arial"/>
            </a:endParaRPr>
          </a:p>
        </p:txBody>
      </p:sp>
      <p:pic>
        <p:nvPicPr>
          <p:cNvPr id="193" name="图片 696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重复与新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引起公众对信息的注意，需从加强信息的强度、对比度、重复率和新鲜度入手。报纸上粗大的套红标题、高层建筑物上树起的巨幅广告，都能增加信息刺激的强度，容易吸引人们的选择性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通过反差对比吸引公众注意，强化记忆效果是改善传播效果的常用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71683" descr="j0292020"/>
          <p:cNvPicPr/>
          <p:nvPr/>
        </p:nvPicPr>
        <p:blipFill>
          <a:blip r:embed="rId1"/>
          <a:stretch/>
        </p:blipFill>
        <p:spPr>
          <a:xfrm>
            <a:off x="609480" y="0"/>
            <a:ext cx="1868760" cy="16765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恒源祥恶俗广告重复播放</a:t>
            </a:r>
            <a:endParaRPr b="0" lang="en-US" sz="4400" spc="-1" strike="noStrike">
              <a:solidFill>
                <a:srgbClr val="000000"/>
              </a:solidFill>
              <a:latin typeface="Arial"/>
            </a:endParaRPr>
          </a:p>
        </p:txBody>
      </p:sp>
      <p:sp>
        <p:nvSpPr>
          <p:cNvPr id="198" name=""/>
          <p:cNvSpPr txBox="1"/>
          <p:nvPr/>
        </p:nvSpPr>
        <p:spPr>
          <a:xfrm>
            <a:off x="285480" y="1165320"/>
            <a:ext cx="8753400" cy="45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2400" spc="-1" strike="noStrike">
                <a:solidFill>
                  <a:srgbClr val="000000"/>
                </a:solidFill>
                <a:latin typeface="Arial"/>
                <a:ea typeface="隶书"/>
              </a:rPr>
              <a:t>某年除夕夜开始，一则著名毛纺品牌“恒源祥”的电视广告在全国多加电视台的黄金时段播出：恒源祥，北京奥运会赞助商，鼠鼠鼠。恒源祥，北京奥运会赞助商，牛牛牛。恒源祥，北京奥运会赞助商，虎虎虎。恒源祥，北京奥运会赞助商，兔兔兔。恒源祥，北京奥运会赞助商，龙龙龙。恒源祥，北京奥运会赞助商，蛇蛇蛇。恒源祥，北京奥运会赞助商，马马马。恒源祥，北京奥运会赞助商，羊羊羊。恒源祥，北京奥运会赞助商，猴猴猴。恒源祥，北京奥运会赞助商，鸡鸡鸡。恒源祥，北京奥运会赞助商，狗狗狗。恒源祥，北京奥运会赞助商，猪猪猪。</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根据</a:t>
            </a:r>
            <a:r>
              <a:rPr b="0" lang="zh-CN" sz="2400" spc="-1" strike="noStrike">
                <a:solidFill>
                  <a:srgbClr val="000000"/>
                </a:solidFill>
                <a:latin typeface="Arial"/>
                <a:ea typeface="隶书"/>
              </a:rPr>
              <a:t>MSN</a:t>
            </a:r>
            <a:r>
              <a:rPr b="0" lang="zh-CN" sz="2400" spc="-1" strike="noStrike">
                <a:solidFill>
                  <a:srgbClr val="000000"/>
                </a:solidFill>
                <a:latin typeface="Arial"/>
                <a:ea typeface="隶书"/>
              </a:rPr>
              <a:t>在当年进行的</a:t>
            </a:r>
            <a:r>
              <a:rPr b="0" lang="zh-CN" sz="2400" spc="-1" strike="noStrike">
                <a:solidFill>
                  <a:srgbClr val="000000"/>
                </a:solidFill>
                <a:latin typeface="Arial"/>
                <a:ea typeface="隶书"/>
              </a:rPr>
              <a:t>1117</a:t>
            </a:r>
            <a:r>
              <a:rPr b="0" lang="zh-CN" sz="2400" spc="-1" strike="noStrike">
                <a:solidFill>
                  <a:srgbClr val="000000"/>
                </a:solidFill>
                <a:latin typeface="Arial"/>
                <a:ea typeface="隶书"/>
              </a:rPr>
              <a:t>位网友参与的网上调查，其中只有占</a:t>
            </a:r>
            <a:r>
              <a:rPr b="0" lang="zh-CN" sz="2400" spc="-1" strike="noStrike">
                <a:solidFill>
                  <a:srgbClr val="000000"/>
                </a:solidFill>
                <a:latin typeface="Arial"/>
                <a:ea typeface="隶书"/>
              </a:rPr>
              <a:t>4.92%</a:t>
            </a:r>
            <a:r>
              <a:rPr b="0" lang="zh-CN" sz="2400" spc="-1" strike="noStrike">
                <a:solidFill>
                  <a:srgbClr val="000000"/>
                </a:solidFill>
                <a:latin typeface="Arial"/>
                <a:ea typeface="隶书"/>
              </a:rPr>
              <a:t>的网友认为恒源祥“贺岁广告”“挺有意思”，几乎一半人表示“非常不舒服，赶快换台”，近三成网友断定“恒源祥的形象就这么毁了。”与此同时，上海新民网部分网友甚至发出“抵制购买恒源祥商品”的帖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角色扮演</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角色扮演是指传播者为了使特定的受传者相信并接受自己的观点，而以与受传者相同或相近的身份、地位出现。这种方法往往可以使受传者对传播者产生“自己人”的感觉，缩小双方的心理距离和社会距离，从而接受传播者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2019</a:t>
            </a:r>
            <a:r>
              <a:rPr b="0" lang="zh-CN" sz="3200" spc="-1" strike="noStrike">
                <a:solidFill>
                  <a:srgbClr val="000000"/>
                </a:solidFill>
                <a:latin typeface="Arial"/>
                <a:ea typeface="隶书"/>
              </a:rPr>
              <a:t>年，以广告文案闻名的江小白推出一支很江小白的新年广告，以“你我不是过客，谢谢你一直都在”为主题，用一群普通人为主角，为我们讲述了生活在都市里打工人的故事。没有遥不可及的豪华场景，没有光鲜靓丽的明星，用和你我一样的普通人，用日常的生活场景，让我们很自然地代入其中，随着剧中人一起由“丧”变“喜”。</a:t>
            </a:r>
            <a:endParaRPr b="0" lang="en-US" sz="3200" spc="-1" strike="noStrike">
              <a:solidFill>
                <a:srgbClr val="000000"/>
              </a:solidFill>
              <a:latin typeface="Arial"/>
            </a:endParaRPr>
          </a:p>
        </p:txBody>
      </p:sp>
      <p:pic>
        <p:nvPicPr>
          <p:cNvPr id="203" name="图片 737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号召随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号召随从要求传播者了解团体背景对个人的影响。具体来讲，是让某一团体提出或支持某观点，并说明它已广为接受，唤起诸多受传者的从众心理。团体对个人的影响，可以从一些实验中得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我们可以将“传播”概括如下：就是促进传者与受者之间信息的双向交流与共享的过程。即是个人与个人之间、集体与集体之间、或个人与集体之间交换、传递、共享信息的过程。</a:t>
            </a:r>
            <a:endParaRPr b="0" lang="en-US" sz="3200" spc="-1" strike="noStrike">
              <a:solidFill>
                <a:srgbClr val="000000"/>
              </a:solidFill>
              <a:latin typeface="Arial"/>
            </a:endParaRPr>
          </a:p>
        </p:txBody>
      </p:sp>
      <p:pic>
        <p:nvPicPr>
          <p:cNvPr id="57" name="图片 8196" descr="u=4011508471,2559985840&amp;fm=0&amp;gp=0">
            <a:hlinkClick r:id="rId1"/>
          </p:cNvPr>
          <p:cNvPicPr/>
          <p:nvPr/>
        </p:nvPicPr>
        <p:blipFill>
          <a:blip r:embed="rId2"/>
          <a:stretch/>
        </p:blipFill>
        <p:spPr>
          <a:xfrm>
            <a:off x="0" y="525780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即溶咖啡等于懒惰、邋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某即溶咖啡曾经做过一个即溶包咖啡测试。这是一种采取定性访谈进行的方式。访问者邀请多名妇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请她们针对即溶咖啡讲出内心想法</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出乎访查小组的意料</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这些妇女之所以对这款即溶咖啡不青睐</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原因与口味、包装、品牌甚至便利性等产品本身因素无关。访查小组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不少妇女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即溶咖啡对她们而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似乎是一种“懒惰、邋遢”的象征。她们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只有不爱做家务事的妇女才会去冲泡这种即溶咖啡</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而不是采用传统的咖啡烹煮法为家人烹调一杯香喷喷的咖啡。而这样出乎意料的结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了日后这款即溶咖啡的广告策划。</a:t>
            </a:r>
            <a:endParaRPr b="0" lang="en-US" sz="2800" spc="-1" strike="noStrike">
              <a:solidFill>
                <a:srgbClr val="000000"/>
              </a:solidFill>
              <a:latin typeface="Arial"/>
            </a:endParaRPr>
          </a:p>
        </p:txBody>
      </p:sp>
      <p:pic>
        <p:nvPicPr>
          <p:cNvPr id="208" name="图片 7577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7</a:t>
            </a:r>
            <a:r>
              <a:rPr b="0" lang="zh-CN" sz="3200" spc="-1" strike="noStrike">
                <a:solidFill>
                  <a:srgbClr val="ff0000"/>
                </a:solidFill>
                <a:latin typeface="隶书"/>
                <a:ea typeface="隶书"/>
              </a:rPr>
              <a:t>．唤起情感</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心理学实验证明，情感具有推动和促成人行为的力量。在公共关系传播中，情感的煽动往往能产生其他手段无法企及的效果。一般说来，对于女性、生性羞怯自卑的人或文化程度较低的人，采用情感渲染的方法可以更有效地打动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守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016</a:t>
            </a:r>
            <a:r>
              <a:rPr b="0" lang="zh-CN" sz="2800" spc="-1" strike="noStrike">
                <a:solidFill>
                  <a:srgbClr val="000000"/>
                </a:solidFill>
                <a:latin typeface="Arial"/>
                <a:ea typeface="隶书"/>
              </a:rPr>
              <a:t>年，舒肤佳品牌在进入中国</a:t>
            </a:r>
            <a:r>
              <a:rPr b="0" lang="zh-CN" sz="2800" spc="-1" strike="noStrike">
                <a:solidFill>
                  <a:srgbClr val="000000"/>
                </a:solidFill>
                <a:latin typeface="Arial"/>
                <a:ea typeface="隶书"/>
              </a:rPr>
              <a:t>25 </a:t>
            </a:r>
            <a:r>
              <a:rPr b="0" lang="zh-CN" sz="2800" spc="-1" strike="noStrike">
                <a:solidFill>
                  <a:srgbClr val="000000"/>
                </a:solidFill>
                <a:latin typeface="Arial"/>
                <a:ea typeface="隶书"/>
              </a:rPr>
              <a:t>周年之际，以“不变的守护”为主题拍摄了一部广告片。片中用以“洗手”为主线，讲述了舒肤佳陪伴之下的两代人的成长故事，即当你还是孩子，舒肤佳为妈妈守护你，当孩子成为妈妈，舒肤佳继续为你守护孩子。用母亲对孩子的爱与守护，用母爱跨越时间的传承，唤起观众在情感上的共鸣。</a:t>
            </a:r>
            <a:endParaRPr b="0" lang="en-US" sz="2800" spc="-1" strike="noStrike">
              <a:solidFill>
                <a:srgbClr val="000000"/>
              </a:solidFill>
              <a:latin typeface="Arial"/>
            </a:endParaRPr>
          </a:p>
        </p:txBody>
      </p:sp>
      <p:pic>
        <p:nvPicPr>
          <p:cNvPr id="213" name="图片 77827" descr="j0292020"/>
          <p:cNvPicPr/>
          <p:nvPr/>
        </p:nvPicPr>
        <p:blipFill>
          <a:blip r:embed="rId1"/>
          <a:stretch/>
        </p:blipFill>
        <p:spPr>
          <a:xfrm>
            <a:off x="609480" y="0"/>
            <a:ext cx="1868760" cy="1676520"/>
          </a:xfrm>
          <a:prstGeom prst="rect">
            <a:avLst/>
          </a:prstGeom>
          <a:ln w="0">
            <a:noFill/>
          </a:ln>
        </p:spPr>
      </p:pic>
      <p:pic>
        <p:nvPicPr>
          <p:cNvPr id="214" name="图片 77829" descr="u=3889851282,3333865861&amp;fm=0&amp;gp=0">
            <a:hlinkClick r:id="rId2"/>
          </p:cNvPr>
          <p:cNvPicPr/>
          <p:nvPr/>
        </p:nvPicPr>
        <p:blipFill>
          <a:blip r:embed="rId3"/>
          <a:stretch/>
        </p:blipFill>
        <p:spPr>
          <a:xfrm>
            <a:off x="6553080" y="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正面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正面分析是指传播者只对受传者介绍那些有利于自身发展的论据和事实的方法。</a:t>
            </a:r>
            <a:endParaRPr b="0" lang="en-US" sz="3200" spc="-1" strike="noStrike">
              <a:solidFill>
                <a:srgbClr val="000000"/>
              </a:solidFill>
              <a:latin typeface="Arial"/>
            </a:endParaRPr>
          </a:p>
        </p:txBody>
      </p:sp>
      <p:pic>
        <p:nvPicPr>
          <p:cNvPr id="217" name="图片 78852" descr="u=2441277150,1245539635&amp;fm=3&amp;gp=0">
            <a:hlinkClick r:id="rId1"/>
          </p:cNvPr>
          <p:cNvPicPr/>
          <p:nvPr/>
        </p:nvPicPr>
        <p:blipFill>
          <a:blip r:embed="rId2"/>
          <a:stretch/>
        </p:blipFill>
        <p:spPr>
          <a:xfrm>
            <a:off x="0" y="5867280"/>
            <a:ext cx="1324080" cy="990720"/>
          </a:xfrm>
          <a:prstGeom prst="rect">
            <a:avLst/>
          </a:prstGeom>
          <a:ln w="0">
            <a:noFill/>
          </a:ln>
        </p:spPr>
      </p:pic>
      <p:pic>
        <p:nvPicPr>
          <p:cNvPr id="218" name="图片 78854" descr="u=2441277150,1245539635&amp;fm=3&amp;gp=0">
            <a:hlinkClick r:id="rId3"/>
          </p:cNvPr>
          <p:cNvPicPr/>
          <p:nvPr/>
        </p:nvPicPr>
        <p:blipFill>
          <a:blip r:embed="rId4"/>
          <a:stretch/>
        </p:blipFill>
        <p:spPr>
          <a:xfrm>
            <a:off x="0" y="0"/>
            <a:ext cx="1324080" cy="990720"/>
          </a:xfrm>
          <a:prstGeom prst="rect">
            <a:avLst/>
          </a:prstGeom>
          <a:ln w="0">
            <a:noFill/>
          </a:ln>
        </p:spPr>
      </p:pic>
      <p:pic>
        <p:nvPicPr>
          <p:cNvPr id="219" name="图片 78856" descr="u=2441277150,1245539635&amp;fm=3&amp;gp=0">
            <a:hlinkClick r:id="rId5"/>
          </p:cNvPr>
          <p:cNvPicPr/>
          <p:nvPr/>
        </p:nvPicPr>
        <p:blipFill>
          <a:blip r:embed="rId6"/>
          <a:stretch/>
        </p:blipFill>
        <p:spPr>
          <a:xfrm>
            <a:off x="7819920" y="0"/>
            <a:ext cx="1324080" cy="990720"/>
          </a:xfrm>
          <a:prstGeom prst="rect">
            <a:avLst/>
          </a:prstGeom>
          <a:ln w="0">
            <a:noFill/>
          </a:ln>
        </p:spPr>
      </p:pic>
      <p:pic>
        <p:nvPicPr>
          <p:cNvPr id="220" name="图片 78858" descr="u=2441277150,1245539635&amp;fm=3&amp;gp=0">
            <a:hlinkClick r:id="rId7"/>
          </p:cNvPr>
          <p:cNvPicPr/>
          <p:nvPr/>
        </p:nvPicPr>
        <p:blipFill>
          <a:blip r:embed="rId8"/>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某公司宣传其新型保险柜的卓越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登出一则这样的广告</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本公司展厅保险柜里存放有</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不弄响警报器的前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各路豪杰可用任何手段拿出享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广告一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全城。前往一试身手的人形形色色</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有工人、学生、工程师、警察和侦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还有不露声色的小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都没有人能够得手。各大报纸连续几天都为此事做免费报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影响极大。这家公司的保险柜的声誉随之大增。</a:t>
            </a:r>
            <a:endParaRPr b="0" lang="en-US" sz="2400" spc="-1" strike="noStrike">
              <a:solidFill>
                <a:srgbClr val="000000"/>
              </a:solidFill>
              <a:latin typeface="Arial"/>
            </a:endParaRPr>
          </a:p>
        </p:txBody>
      </p:sp>
      <p:pic>
        <p:nvPicPr>
          <p:cNvPr id="223" name="图片 7987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9</a:t>
            </a:r>
            <a:r>
              <a:rPr b="0" lang="zh-CN" sz="3200" spc="-1" strike="noStrike">
                <a:solidFill>
                  <a:srgbClr val="ff0000"/>
                </a:solidFill>
                <a:latin typeface="隶书"/>
                <a:ea typeface="隶书"/>
              </a:rPr>
              <a:t>．正反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传播的效果首先体现为是否改变了公众的不良态度，实现公众由负态度向正态度的转变。正反分析是传播者同时向受传者展示有利和不利于自己观点的论据和事实，然后驳斥后者的弱点，指出其漏洞，从而证明自己观点的正确性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t>
            </a:r>
            <a:r>
              <a:rPr b="1" lang="zh-CN" sz="2400" spc="-1" strike="noStrike">
                <a:solidFill>
                  <a:srgbClr val="ff0000"/>
                </a:solidFill>
                <a:latin typeface="隶书"/>
                <a:ea typeface="隶书"/>
              </a:rPr>
              <a:t>请留心你家的后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世纪</a:t>
            </a:r>
            <a:r>
              <a:rPr b="0" lang="en-US" sz="2400" spc="-1" strike="noStrike">
                <a:solidFill>
                  <a:srgbClr val="000000"/>
                </a:solidFill>
                <a:latin typeface="隶书"/>
                <a:ea typeface="隶书"/>
              </a:rPr>
              <a:t>50</a:t>
            </a:r>
            <a:r>
              <a:rPr b="0" lang="zh-CN" sz="2400" spc="-1" strike="noStrike">
                <a:solidFill>
                  <a:srgbClr val="000000"/>
                </a:solidFill>
                <a:latin typeface="隶书"/>
                <a:ea typeface="隶书"/>
              </a:rPr>
              <a:t>年代，好莱坞影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后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曾风靡香港，该片描写了一个脑部受伤的新闻记者，在家养伤时闲极无聊，便买来一架望远镜，每日坐在屋子里从对面楼层的后窗窥视住户的家庭隐私，从而卷 入了一场谋杀案。影片上映后，香港人竞相观看，形成了“后窗热”。这时，香港的一家生产百叶窗的 企业成功地抓住了这一事件。他们在报上连续刊登题目为“请留心你家的后窗”的销售广告，其生意一 下子兴隆起来。 在这次公关活动中，企业通过大众传播媒介在社会中形成一个热门话题，让这个话题直接间接地与组织及其产品挂钩，从而达到良好的传播效果。他们借助“后窗热”这个与自己产品关联度极高的“议题”通过报纸宣传，轻而易举地掀起了一个“百叶窗热”，从中获得了良好的市场效益。</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8" name="图片 8192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0" name="文本占位符 82947" descr=""/>
          <p:cNvPicPr/>
          <p:nvPr/>
        </p:nvPicPr>
        <p:blipFill>
          <a:blip r:embed="rId1"/>
          <a:stretch/>
        </p:blipFill>
        <p:spPr>
          <a:xfrm>
            <a:off x="938160" y="1643040"/>
            <a:ext cx="7267680" cy="4438800"/>
          </a:xfrm>
          <a:prstGeom prst="rect">
            <a:avLst/>
          </a:prstGeom>
          <a:ln w="0">
            <a:noFill/>
          </a:ln>
        </p:spPr>
      </p:pic>
      <p:pic>
        <p:nvPicPr>
          <p:cNvPr id="231" name="图片 829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为所在学校的公共关系传播制订媒介决策方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知名公司的公共关系传播案例以小组形式进行讨论。</a:t>
            </a:r>
            <a:endParaRPr b="0" lang="en-US" sz="3200" spc="-1" strike="noStrike">
              <a:solidFill>
                <a:srgbClr val="000000"/>
              </a:solidFill>
              <a:latin typeface="Arial"/>
            </a:endParaRPr>
          </a:p>
        </p:txBody>
      </p:sp>
      <p:pic>
        <p:nvPicPr>
          <p:cNvPr id="234" name="图片 88067"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什么是传播，其基本特征和构成要素分别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谈谈你对公共关系传播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举例分析公共关系有哪些传播形式，并对各形式进行比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常见的公共关系传播媒介有哪些，选择时要考虑哪些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合实例分析，为了提高公共关系的传播效果有哪些策略可供选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试比较分析各种公共关系传播媒介的优势与局限。 </a:t>
            </a:r>
            <a:endParaRPr b="0" lang="en-US" sz="2400" spc="-1" strike="noStrike">
              <a:solidFill>
                <a:srgbClr val="000000"/>
              </a:solidFill>
              <a:latin typeface="Arial"/>
            </a:endParaRPr>
          </a:p>
        </p:txBody>
      </p:sp>
      <p:pic>
        <p:nvPicPr>
          <p:cNvPr id="237" name="图片 83972"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二） 传播的特征</a:t>
            </a:r>
            <a:endParaRPr b="0" lang="en-US" sz="4400" spc="-1" strike="noStrike">
              <a:solidFill>
                <a:srgbClr val="000000"/>
              </a:solidFill>
              <a:latin typeface="Arial"/>
            </a:endParaRPr>
          </a:p>
        </p:txBody>
      </p:sp>
      <p:sp>
        <p:nvSpPr>
          <p:cNvPr id="59" name=""/>
          <p:cNvSpPr txBox="1"/>
          <p:nvPr/>
        </p:nvSpPr>
        <p:spPr>
          <a:xfrm>
            <a:off x="231840" y="1208160"/>
            <a:ext cx="89913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社会性</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是人类社会维持社会生活的一种最常见、最基本的社会行为，没有传播就形不成社会；同时传播又是一定社会关系的体现，传受双方表述动机、内容和采用的姿态、措辞等，无不反映各自得社会角色和地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共享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的意义在于与传播对象共享信息，通过传播将个人或少数人掌握的信息化为更多人共有的信息，使传受双方达成某种程度的一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 </a:t>
            </a:r>
            <a:r>
              <a:rPr b="1" lang="zh-CN" sz="2400" spc="-1" strike="noStrike">
                <a:solidFill>
                  <a:srgbClr val="000000"/>
                </a:solidFill>
                <a:latin typeface="隶书"/>
                <a:ea typeface="隶书"/>
              </a:rPr>
              <a:t>符号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者将要表达的意思转换成语言、文字、音响、图画、表情、动作等符号；信息的接受者对传来的符号进行还原，了解信息内容。但要求传播的符号要双方都能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 </a:t>
            </a:r>
            <a:r>
              <a:rPr b="1" lang="zh-CN" sz="2400" spc="-1" strike="noStrike">
                <a:solidFill>
                  <a:srgbClr val="000000"/>
                </a:solidFill>
                <a:latin typeface="隶书"/>
                <a:ea typeface="隶书"/>
              </a:rPr>
              <a:t>互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信息的传播通常是在传者与受者之间进行，传者处于主动地位，但受者可以通过信息反馈来影响传者。任何一种传播都是双向交流，纯单项的传播没有任何意义。</a:t>
            </a:r>
            <a:endParaRPr b="0" lang="en-US" sz="2400" spc="-1" strike="noStrike">
              <a:solidFill>
                <a:srgbClr val="000000"/>
              </a:solidFill>
              <a:latin typeface="Arial"/>
            </a:endParaRPr>
          </a:p>
        </p:txBody>
      </p:sp>
      <p:pic>
        <p:nvPicPr>
          <p:cNvPr id="60" name="图片 9220" descr="u=1049924187,1035465633&amp;fm=0&amp;gp=0">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传播的构成要素</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1. </a:t>
            </a:r>
            <a:r>
              <a:rPr b="1" lang="zh-CN" sz="2400" spc="-1" strike="noStrike">
                <a:solidFill>
                  <a:srgbClr val="ff0000"/>
                </a:solidFill>
                <a:latin typeface="隶书"/>
                <a:ea typeface="隶书"/>
              </a:rPr>
              <a:t>信源，即传播者。</a:t>
            </a:r>
            <a:r>
              <a:rPr b="0" lang="zh-CN" sz="2400" spc="-1" strike="noStrike">
                <a:solidFill>
                  <a:srgbClr val="000000"/>
                </a:solidFill>
                <a:latin typeface="隶书"/>
                <a:ea typeface="隶书"/>
              </a:rPr>
              <a:t>传播者既可以是某个个体，也可以是某个群体或某个社会组织。传播者是信息发出的源头，称之为信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2. </a:t>
            </a:r>
            <a:r>
              <a:rPr b="1" lang="zh-CN" sz="2400" spc="-1" strike="noStrike">
                <a:solidFill>
                  <a:srgbClr val="ff0000"/>
                </a:solidFill>
                <a:latin typeface="隶书"/>
                <a:ea typeface="隶书"/>
              </a:rPr>
              <a:t>信息，即传播的内容。</a:t>
            </a:r>
            <a:r>
              <a:rPr b="0" lang="zh-CN" sz="2400" spc="-1" strike="noStrike">
                <a:solidFill>
                  <a:srgbClr val="000000"/>
                </a:solidFill>
                <a:latin typeface="隶书"/>
                <a:ea typeface="隶书"/>
              </a:rPr>
              <a:t>信息是指凡人们需要表达、传递的意识和行动，它可以是语言文字信息，如情报、消息、数据等，也可以是非语言文字信息，如观念、态度、动作、表情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3. </a:t>
            </a:r>
            <a:r>
              <a:rPr b="1" lang="zh-CN" sz="2400" spc="-1" strike="noStrike">
                <a:solidFill>
                  <a:srgbClr val="ff0000"/>
                </a:solidFill>
                <a:latin typeface="隶书"/>
                <a:ea typeface="隶书"/>
              </a:rPr>
              <a:t>编码，即传播信息的设计过程。</a:t>
            </a:r>
            <a:r>
              <a:rPr b="0" lang="zh-CN" sz="2400" spc="-1" strike="noStrike">
                <a:solidFill>
                  <a:srgbClr val="000000"/>
                </a:solidFill>
                <a:latin typeface="隶书"/>
                <a:ea typeface="隶书"/>
              </a:rPr>
              <a:t>传播者根据传播对象的特点，在不违背法律和道德准则的前提下，科学合理地编排信息，便于传播对象的接受与正确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4. </a:t>
            </a:r>
            <a:r>
              <a:rPr b="1" lang="zh-CN" sz="2400" spc="-1" strike="noStrike">
                <a:solidFill>
                  <a:srgbClr val="ff0000"/>
                </a:solidFill>
                <a:latin typeface="隶书"/>
                <a:ea typeface="隶书"/>
              </a:rPr>
              <a:t>媒介，即传播的渠道，又称信道。</a:t>
            </a:r>
            <a:r>
              <a:rPr b="0" lang="zh-CN" sz="2400" spc="-1" strike="noStrike">
                <a:solidFill>
                  <a:srgbClr val="000000"/>
                </a:solidFill>
                <a:latin typeface="隶书"/>
                <a:ea typeface="隶书"/>
              </a:rPr>
              <a:t>即在传播过程中用以记录、保存和传递信息的载体和渠道，是信息传播的中介和途径，媒介和信息密不可分。</a:t>
            </a:r>
            <a:endParaRPr b="0" lang="en-US" sz="2400" spc="-1" strike="noStrike">
              <a:solidFill>
                <a:srgbClr val="000000"/>
              </a:solidFill>
              <a:latin typeface="Arial"/>
            </a:endParaRPr>
          </a:p>
        </p:txBody>
      </p:sp>
      <p:pic>
        <p:nvPicPr>
          <p:cNvPr id="63" name="图片 10244" descr="u=2447205168,64859447&amp;fm=0&amp;gp=0">
            <a:hlinkClick r:id="rId1"/>
          </p:cNvPr>
          <p:cNvPicPr/>
          <p:nvPr/>
        </p:nvPicPr>
        <p:blipFill>
          <a:blip r:embed="rId2"/>
          <a:stretch/>
        </p:blipFill>
        <p:spPr>
          <a:xfrm>
            <a:off x="0" y="0"/>
            <a:ext cx="923760" cy="1333440"/>
          </a:xfrm>
          <a:prstGeom prst="rect">
            <a:avLst/>
          </a:prstGeom>
          <a:ln w="0">
            <a:noFill/>
          </a:ln>
        </p:spPr>
      </p:pic>
      <p:pic>
        <p:nvPicPr>
          <p:cNvPr id="64" name="图片 10246" descr="u=2447205168,64859447&amp;fm=0&amp;gp=0">
            <a:hlinkClick r:id="rId3"/>
          </p:cNvPr>
          <p:cNvPicPr/>
          <p:nvPr/>
        </p:nvPicPr>
        <p:blipFill>
          <a:blip r:embed="rId4"/>
          <a:stretch/>
        </p:blipFill>
        <p:spPr>
          <a:xfrm>
            <a:off x="8220240" y="5524560"/>
            <a:ext cx="9237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32:09Z</dcterms:created>
  <dc:creator/>
  <dc:description/>
  <dc:language>en-US</dc:language>
  <cp:lastModifiedBy>lilanying</cp:lastModifiedBy>
  <dcterms:modified xsi:type="dcterms:W3CDTF">2021-08-30T14:11:5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