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80.wmf" ContentType="image/x-wmf"/>
  <Override PartName="/ppt/media/image45.jpeg" ContentType="image/jpeg"/>
  <Override PartName="/ppt/media/image44.jpeg" ContentType="image/jpeg"/>
  <Override PartName="/ppt/media/image43.jpeg" ContentType="image/jpeg"/>
  <Override PartName="/ppt/media/image36.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0.jpeg" ContentType="image/jpeg"/>
  <Override PartName="/ppt/media/image2.wmf" ContentType="image/x-wmf"/>
  <Override PartName="/ppt/media/image21.jpeg" ContentType="image/jpeg"/>
  <Override PartName="/ppt/media/image25.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62.jpeg" ContentType="image/jpeg"/>
  <Override PartName="/ppt/media/image5.jpeg" ContentType="image/jpeg"/>
  <Override PartName="/ppt/media/image22.jpeg" ContentType="image/jpeg"/>
  <Override PartName="/ppt/media/image81.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79.png" ContentType="image/png"/>
  <Override PartName="/ppt/media/image26.jpeg" ContentType="image/jpeg"/>
  <Override PartName="/ppt/media/image19.jpeg" ContentType="image/jpeg"/>
  <Override PartName="/ppt/media/image63.jpeg" ContentType="image/jpeg"/>
  <Override PartName="/ppt/media/image6.jpeg" ContentType="image/jpeg"/>
  <Override PartName="/ppt/media/image64.jpeg" ContentType="image/jpeg"/>
  <Override PartName="/ppt/media/image7.jpeg" ContentType="image/jpeg"/>
  <Override PartName="/ppt/media/image38.jpeg" ContentType="image/jpeg"/>
  <Override PartName="/ppt/media/image14.jpeg" ContentType="image/jpeg"/>
  <Override PartName="/ppt/media/image41.jpeg" ContentType="image/jpeg"/>
  <Override PartName="/ppt/media/image82.jpeg" ContentType="image/jpeg"/>
  <Override PartName="/ppt/media/image23.jpeg" ContentType="image/jpeg"/>
  <Override PartName="/ppt/media/image24.jpeg" ContentType="image/jpeg"/>
  <Override PartName="/ppt/media/image9.jpeg" ContentType="image/jpeg"/>
  <Override PartName="/ppt/media/image66.jpeg" ContentType="image/jpeg"/>
  <Override PartName="/ppt/media/image4.wmf" ContentType="image/x-wmf"/>
  <Override PartName="/ppt/media/image50.jpeg" ContentType="image/jpeg"/>
  <Override PartName="/ppt/media/image11.jpeg" ContentType="image/jpeg"/>
  <Override PartName="/ppt/media/image2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1.wmf" ContentType="image/x-wmf"/>
  <Override PartName="/ppt/media/image40.jpeg" ContentType="image/jpeg"/>
  <Override PartName="/ppt/media/image51.gif" ContentType="image/gif"/>
  <Override PartName="/ppt/media/image7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0A66B-3F0B-4095-A7A6-7B6C75420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1B09C-2267-4634-96C4-57C065510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70BF0-1F2C-43F4-8DF4-39607287A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89653-7C17-4131-B264-9483F7791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EC2B4-BD78-4CF3-88AF-49815B329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75A39-5942-45D8-A772-95C604830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5E7AD-2012-49C8-9FFF-94861A774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C5E6E-4C3E-4F41-AF69-3D09089DD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AD490-D878-4FC3-8BDD-088563E45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0C53A-2B6A-4359-8620-67648CF2F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03010-0DB3-4D03-ACC9-17357CC61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5A5A-0BBA-410A-869F-3119AADCA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D0%CB&#548;+%B0%AE%BA%C3&amp;in=12311&amp;cl=2&amp;lm=-1&amp;pn=15&amp;rn=1&amp;di=2533134615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9366&amp;cl=2&amp;lm=-1&amp;pn=7&amp;rn=1&amp;di=5796402570&amp;ln=1&amp;fr=&amp;ic=0&amp;s=0&amp;se=1&amp;sme=0" TargetMode="External"/><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8879&amp;cl=2&amp;lm=-1&amp;pn=18&amp;rn=1&amp;di=18453069480&amp;ln=1&amp;fr=&amp;ic=0&amp;s=0&amp;se=1&amp;sme=0" TargetMode="External"/><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5353&amp;cl=2&amp;lm=-1&amp;pn=9&amp;rn=1&amp;di=5264081085&amp;ln=1&amp;fr=&amp;ic=0&amp;s=0&amp;se=1&amp;sme=0"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2110&amp;cl=2&amp;lm=-1&amp;pn=17&amp;rn=1&amp;di=23025914820&amp;ln=1&amp;fr=&amp;ic=0&amp;s=0&amp;se=1&amp;sme=0"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C6%F8%D6%CA&amp;in=30062&amp;cl=2&amp;lm=-1&amp;pn=4&amp;rn=1&amp;di=21489740550&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1%EE%C0%BD&amp;in=11996&amp;cl=2&amp;lm=-1&amp;pn=1&amp;rn=1&amp;di=10730536275&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D5%D4%D1%C5&#1445;&amp;in=2291&amp;cl=2&amp;lm=-1&amp;pn=3&amp;rn=1&amp;di=39411900228&amp;ln=1&amp;fr=&amp;ic=0&amp;s=0&amp;se=1&amp;sme=0"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7%E7%B6%C8&amp;in=23639&amp;cl=2&amp;lm=-1&amp;pn=1&amp;rn=1&amp;di=260459297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D0%ED%CE%C4&#511;&amp;in=28104&amp;cl=2&amp;lm=-1&amp;pn=16&amp;rn=1&amp;di=1149905208&amp;ln=1&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BB%AF&#1521;&amp;in=6207&amp;cl=2&amp;lm=-1&amp;pn=2&amp;rn=1&amp;di=26151889515&amp;ln=1&amp;fr=&amp;ic=0&amp;s=0&amp;se=1&amp;sme=2"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F&#1521;&amp;in=12333&amp;cl=2&amp;lm=-1&amp;pn=6&amp;rn=1&amp;di=4711418430&amp;ln=1&amp;fr=&amp;ic=0&amp;s=0&amp;se=1&amp;sme=2"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C4%D0&#703;+%C3%E6%C8%DD&amp;in=26157&amp;cl=2&amp;lm=-1&amp;pn=0&amp;rn=1&amp;di=1634194312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E%B1%B2%BF%C3%C0%BB%AF&amp;in=6139&amp;cl=2&amp;lm=-1&amp;pn=7&amp;rn=1&amp;di=25381244715&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CA&#1458;%BF%B5%C4%C3%C0%BB%AF&amp;in=23698&amp;cl=2&amp;lm=-1&amp;pn=17&amp;rn=1&amp;di=5010095475&amp;ln=1&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A&#1458;%BF%B5%C4%C3%C0%BB%AF&amp;in=14213&amp;cl=2&amp;lm=-1&amp;pn=25&amp;rn=1&amp;di=4100753940&amp;ln=1&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4%D0&#703;+%CE%F7&#1520;&amp;in=8&amp;cl=2&amp;cm=1&amp;sc=0&amp;lm=-1&amp;pn=7&amp;rn=1" TargetMode="External"/><Relationship Id="rId2" Type="http://schemas.openxmlformats.org/officeDocument/2006/relationships/image" Target="../media/image18.jpeg"/><Relationship Id="rId3" Type="http://schemas.openxmlformats.org/officeDocument/2006/relationships/hyperlink" Target="http://www.xenw.com/ent/starhk_tw/2006-10/28/2006_10_28_09_43_49_313.html" TargetMode="External"/><Relationship Id="rId4" Type="http://schemas.openxmlformats.org/officeDocument/2006/relationships/image" Target="../media/image19.jpeg"/><Relationship Id="rId5" Type="http://schemas.openxmlformats.org/officeDocument/2006/relationships/hyperlink" Target="http://ent.linktone.com/entpic/1400183815-3.shtml"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n.alibaba.com/athena/sampledetail/gzylnfs-10073662.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vogue.com.cn/detail.asp?id=4834" TargetMode="External"/><Relationship Id="rId2" Type="http://schemas.openxmlformats.org/officeDocument/2006/relationships/image" Target="../media/image22.jpeg"/><Relationship Id="rId3" Type="http://schemas.openxmlformats.org/officeDocument/2006/relationships/hyperlink" Target="http://www.crbt.com.cn/crbt.asp?page=3"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japan.busytrade.com/productdetail.asp?mt=1&amp;pid=14721"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366;&#703;+%CE%F7&#1520;&amp;in=36&amp;cl=2&amp;cm=1&amp;sc=0&amp;lm=-1&amp;pn=35&amp;rn=1" TargetMode="External"/><Relationship Id="rId2" Type="http://schemas.openxmlformats.org/officeDocument/2006/relationships/image" Target="../media/image25.jpeg"/><Relationship Id="rId3" Type="http://schemas.openxmlformats.org/officeDocument/2006/relationships/hyperlink" Target="http://www.bookschina.com/publish/book/518859.htm"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bber.com.cn/product_show_22043.htm" TargetMode="External"/><Relationship Id="rId2" Type="http://schemas.openxmlformats.org/officeDocument/2006/relationships/image" Target="../media/image27.jpeg"/><Relationship Id="rId3" Type="http://schemas.openxmlformats.org/officeDocument/2006/relationships/hyperlink" Target="http://www.swcz.com.cn/&#22899;&#22763;&#32844;&#19994;&#35013;10.htm" TargetMode="External"/><Relationship Id="rId4" Type="http://schemas.openxmlformats.org/officeDocument/2006/relationships/image" Target="../media/image28.jpeg"/><Relationship Id="rId5" Type="http://schemas.openxmlformats.org/officeDocument/2006/relationships/hyperlink" Target="http://hdwxydfs.cn.china.cn/" TargetMode="External"/><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366;&#1520;+%CD%E0%D7%D3&amp;in=6&amp;cl=2&amp;cm=1&amp;sc=0&amp;lm=-1&amp;pn=5&amp;rn=1"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366;&#1520;+%CD%E0%D7%D3&amp;in=9&amp;cl=2&amp;cm=1&amp;sc=0&amp;lm=-1&amp;pn=8&amp;rn=1"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C1%B9&#1068;&amp;in=361&amp;cl=2&amp;cm=1&amp;sc=0&amp;lm=-1&amp;pn=360&amp;rn=1"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1068;&amp;in=10885&amp;cl=2&amp;lm=-1&amp;pn=12&amp;rn=1&amp;di=27878017788&amp;ln=1&amp;fr=&amp;ic=0&amp;s=0&amp;se=1&amp;sme=2" TargetMode="External"/><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CA%CE&#439;&amp;in=10936&amp;cl=2&amp;lm=-1&amp;pn=2&amp;rn=1&amp;di=31590208500&amp;ln=1&amp;fr=&amp;ic=0&amp;s=0&amp;se=1&amp;sme=1" TargetMode="External"/><Relationship Id="rId2" Type="http://schemas.openxmlformats.org/officeDocument/2006/relationships/image" Target="../media/image34.jpeg"/><Relationship Id="rId3" Type="http://schemas.openxmlformats.org/officeDocument/2006/relationships/hyperlink" Target="http://image.baidu.com/i?ct=503316480&amp;z=0&amp;tn=baiduimagedetail&amp;word=%CA%CE&#439;&amp;in=8923&amp;cl=2&amp;lm=-1&amp;pn=10&amp;rn=1&amp;di=15127914675&amp;ln=1&amp;fr=&amp;ic=0&amp;s=0&amp;se=1&amp;sme=1"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CA%CE&#439;&amp;in=1154&amp;cl=2&amp;lm=-1&amp;pn=23&amp;rn=1&amp;di=20604218010&amp;ln=1&amp;fr=&amp;ic=0&amp;s=0&amp;se=1&amp;sme=1" TargetMode="External"/><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C5%E4%CA%CE&amp;in=6816&amp;cl=2&amp;lm=-1&amp;pn=21&amp;rn=1&amp;di=24534576915&amp;ln=1&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C5%E4%CA%CE&amp;in=26083&amp;cl=2&amp;lm=-1&amp;pn=67&amp;rn=1&amp;di=15608527695&amp;ln=1&amp;fr=&amp;ic=0&amp;s=0&amp;se=1&amp;sme=0"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E%D9&#1465;&amp;in=24752&amp;cl=2&amp;lm=-1&amp;pn=11&amp;rn=1&amp;di=1944106908&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7111&amp;cl=2&amp;lm=-1&amp;pn=31&amp;rn=1&amp;di=23549095410&amp;ln=1&amp;fr=&amp;ic=0&amp;s=0&amp;se=1&amp;sme=0" TargetMode="External"/><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2" Type="http://schemas.openxmlformats.org/officeDocument/2006/relationships/image" Target="../media/image41.jpeg"/><Relationship Id="rId3"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F1%F6%CC%FD&amp;in=32521&amp;cl=2&amp;lm=-1&amp;pn=1&amp;rn=1&amp;di=1060335325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image.baidu.com/i?ct=503316480&amp;z=0&amp;tn=baiduimagedetail&amp;word=&#1406;%D7%CB&amp;in=14349&amp;cl=2&amp;lm=-1&amp;pn=3&amp;rn=1&amp;di=33322219455&amp;ln=1&amp;fr=&amp;ic=0&amp;s=0&amp;se=1&amp;sme=0" TargetMode="External"/><Relationship Id="rId2" Type="http://schemas.openxmlformats.org/officeDocument/2006/relationships/image" Target="../media/image43.jpeg"/><Relationship Id="rId3" Type="http://schemas.openxmlformats.org/officeDocument/2006/relationships/hyperlink" Target="http://image.baidu.com/i?ct=503316480&amp;z=0&amp;tn=baiduimagedetail&amp;word=&#1406;%D7%CB&amp;in=13195&amp;cl=2&amp;lm=-1&amp;pn=105&amp;rn=1&amp;di=14834377335&amp;ln=1&amp;fr=&amp;ic=0&amp;s=0&amp;se=1&amp;sme=0"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D7%F8%D7%CB%C0%F1%D2%C7&amp;in=13889&amp;cl=2&amp;lm=-1&amp;pn=0&amp;rn=1&amp;di=19422437835&amp;ln=1&amp;fr=&amp;ic=0&amp;s=0&amp;se=1&amp;sme=0" TargetMode="External"/><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hyperlink" Target="http://image.baidu.com/i?ct=503316480&amp;z=0&amp;tn=baiduimagedetail&amp;word=%D0%D0%D7%CB%C0%F1%D2%C7&amp;in=25844&amp;cl=2&amp;lm=-1&amp;pn=35&amp;rn=1&amp;di=557675370&amp;ln=1&amp;fr=&amp;ic=0&amp;s=0&amp;se=1&amp;sme=0" TargetMode="External"/><Relationship Id="rId3" Type="http://schemas.openxmlformats.org/officeDocument/2006/relationships/image" Target="../media/image49.jpeg"/><Relationship Id="rId4" Type="http://schemas.openxmlformats.org/officeDocument/2006/relationships/hyperlink" Target="http://image.baidu.com/i?ct=503316480&amp;z=0&amp;tn=baiduimagedetail&amp;word=%D0%D0%D7%CB%C0%F1%D2%C7&amp;in=17364&amp;cl=2&amp;lm=-1&amp;pn=63&amp;rn=1&amp;di=1414998096&amp;ln=1&amp;fr=&amp;ic=0&amp;s=0&amp;se=1&amp;sme=0" TargetMode="External"/><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B1%ED%C7%E9&amp;in=17172&amp;cl=2&amp;lm=-1&amp;pn=40&amp;rn=1&amp;di=17424777945&amp;ln=1&amp;fr=&amp;ic=0&amp;s=0&amp;se=1&amp;sme=0" TargetMode="External"/><Relationship Id="rId2" Type="http://schemas.openxmlformats.org/officeDocument/2006/relationships/image" Target="../media/image51.gif"/><Relationship Id="rId3" Type="http://schemas.openxmlformats.org/officeDocument/2006/relationships/hyperlink" Target="http://image.baidu.com/i?ct=503316480&amp;z=0&amp;tn=baiduimagedetail&amp;word=&#930;&#1062;&amp;in=24883&amp;cl=2&amp;lm=-1&amp;pn=5&amp;rn=1&amp;di=25435313805&amp;ln=1&amp;fr=&amp;ic=0&amp;s=0&amp;se=1&amp;sme=0" TargetMode="External"/><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CA%D6%CA%C6&amp;in=30276&amp;cl=2&amp;lm=-1&amp;pn=15&amp;rn=1&amp;di=26769618945&amp;ln=1&amp;fr=&amp;ic=0&amp;s=0&amp;se=1&amp;sme=0" TargetMode="External"/><Relationship Id="rId2" Type="http://schemas.openxmlformats.org/officeDocument/2006/relationships/image" Target="../media/image53.jpeg"/><Relationship Id="rId3" Type="http://schemas.openxmlformats.org/officeDocument/2006/relationships/hyperlink" Target="http://image.baidu.com/i?ct=503316480&amp;z=0&amp;tn=baiduimagedetail&amp;word=%CA%D6%CA%C6&amp;in=10470&amp;cl=2&amp;lm=-1&amp;pn=37&amp;rn=1&amp;di=28302576960&amp;ln=1&amp;fr=&amp;ic=0&amp;s=0&amp;se=1&amp;sme=0" TargetMode="External"/><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baidu.com/i?ct=503316480&amp;z=0&amp;tn=baiduimagedetail&amp;word=%BB%A8&amp;in=13715&amp;cl=2&amp;lm=-1&amp;pn=237&amp;rn=1&amp;di=5922663243&amp;ln=1&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baidu.com/i?ct=503316480&amp;z=0&amp;tn=baiduimagedetail&amp;word=%CE%D5%CA%D6&amp;in=25430&amp;cl=2&amp;lm=-1&amp;pn=4&amp;rn=1&amp;di=8303960055&amp;ln=1&amp;fr=&amp;ic=0&amp;s=0&amp;se=1&amp;sme=0" TargetMode="External"/><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0&#1911;%C3&amp;in=32556&amp;cl=2&amp;lm=-1&amp;pn=39&amp;rn=1&amp;di=18669762480&amp;ln=1&amp;fr=&amp;ic=0&amp;s=0&amp;se=1&amp;sme=0"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1583&amp;cl=2&amp;lm=-1&amp;pn=0&amp;rn=1&amp;di=4207226745&amp;ln=1&amp;fr=&amp;ic=0&amp;s=0&amp;se=1&amp;sme=0" TargetMode="External"/><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96&amp;rn=1&amp;di=16116659028&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96&amp;rn=1&amp;di=16116659028&amp;ln=1&amp;fr=&amp;ic=0&amp;s=0&amp;se=1&amp;sme=0" TargetMode="External"/><Relationship Id="rId4" Type="http://schemas.openxmlformats.org/officeDocument/2006/relationships/image" Target="../media/image5.jpeg"/><Relationship Id="rId5" Type="http://schemas.openxmlformats.org/officeDocument/2006/relationships/hyperlink" Target="http://image.baidu.com/i?ct=503316480&amp;z=0&amp;tn=baiduimagedetail&amp;word=%BB%A8&amp;in=24752&amp;cl=2&amp;lm=-1&amp;pn=296&amp;rn=1&amp;di=16116659028&amp;ln=1&amp;fr=&amp;ic=0&amp;s=0&amp;se=1&amp;sme=0" TargetMode="External"/><Relationship Id="rId6" Type="http://schemas.openxmlformats.org/officeDocument/2006/relationships/image" Target="../media/image5.jpeg"/><Relationship Id="rId7" Type="http://schemas.openxmlformats.org/officeDocument/2006/relationships/hyperlink" Target="http://image.baidu.com/i?ct=503316480&amp;z=0&amp;tn=baiduimagedetail&amp;word=%BB%A8&amp;in=24752&amp;cl=2&amp;lm=-1&amp;pn=296&amp;rn=1&amp;di=16116659028&amp;ln=1&amp;fr=&amp;ic=0&amp;s=0&amp;se=1&amp;sme=0" TargetMode="Externa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3021&amp;cl=2&amp;lm=-1&amp;pn=15&amp;rn=1&amp;di=15143922765&amp;ln=1&amp;fr=&amp;ic=0&amp;s=0&amp;se=1&amp;sme=0" TargetMode="External"/><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28021&amp;cl=2&amp;lm=-1&amp;pn=2&amp;rn=1&amp;di=26148987120&amp;ln=1&amp;fr=&amp;ic=0&amp;s=0&amp;se=1&amp;sme=0" TargetMode="External"/><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119&amp;cl=2&amp;lm=-1&amp;pn=14&amp;rn=1&amp;di=33234514965&amp;ln=1&amp;fr=&amp;ic=0&amp;s=0&amp;se=1&amp;sme=0" TargetMode="External"/><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image.baidu.com/i?ct=503316480&amp;z=0&amp;tn=baiduimagedetail&amp;word=%BF%AA&#315;&#701;&amp;in=6094&amp;cl=2&amp;lm=-1&amp;pn=4&amp;rn=1&amp;di=4206263385&amp;ln=1&amp;fr=&amp;ic=0&amp;s=0&amp;se=1&amp;sme=0" TargetMode="External"/><Relationship Id="rId2" Type="http://schemas.openxmlformats.org/officeDocument/2006/relationships/image" Target="../media/image62.jpeg"/><Relationship Id="rId3" Type="http://schemas.openxmlformats.org/officeDocument/2006/relationships/hyperlink" Target="http://image.baidu.com/i?ct=503316480&amp;z=0&amp;tn=baiduimagedetail&amp;word=%BF%AA&#315;&#701;&amp;in=6293&amp;cl=2&amp;lm=-1&amp;pn=2&amp;rn=1&amp;di=2978734260&amp;ln=1&amp;fr=&amp;ic=0&amp;s=0&amp;se=1&amp;sme=0"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image.baidu.com/i?ct=503316480&amp;z=0&amp;tn=baiduimagedetail&amp;word=%B5%EC%BB%F9%D2%C7&#701;&amp;in=30192&amp;cl=2&amp;lm=-1&amp;pn=3&amp;rn=1&amp;di=6164375370&amp;ln=1&amp;fr=&amp;ic=0&amp;s=0&amp;se=1&amp;sme=0" TargetMode="External"/><Relationship Id="rId2" Type="http://schemas.openxmlformats.org/officeDocument/2006/relationships/image" Target="../media/image64.jpeg"/><Relationship Id="rId3" Type="http://schemas.openxmlformats.org/officeDocument/2006/relationships/hyperlink" Target="http://image.baidu.com/i?ct=503316480&amp;z=0&amp;tn=baiduimagedetail&amp;word=%B5%EC%BB%F9%D2%C7&#701;&amp;in=6348&amp;cl=2&amp;lm=-1&amp;pn=15&amp;rn=1&amp;di=1796778465&amp;ln=1&amp;fr=&amp;ic=0&amp;s=0&amp;se=1&amp;sme=0" TargetMode="External"/><Relationship Id="rId4" Type="http://schemas.openxmlformats.org/officeDocument/2006/relationships/image" Target="../media/image65.jpeg"/><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image.baidu.com/i?ct=503316480&amp;z=0&amp;tn=baiduimagedetail&amp;word=%BD%D2&#315;%D2%C7&#701;&amp;in=16598&amp;cl=2&amp;lm=-1&amp;pn=0&amp;rn=1&amp;di=15342574635&amp;ln=1&amp;fr=&amp;ic=0&amp;s=0&amp;se=1&amp;sme=0" TargetMode="External"/><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image.baidu.com/i?ct=503316480&amp;z=0&amp;tn=baiduimagedetail&amp;word=%B9%FA%D1%E7&amp;in=31620&amp;cl=2&amp;lm=-1&amp;pn=3&amp;rn=1&amp;di=20615171700&amp;ln=1&amp;fr=&amp;ic=0&amp;s=0&amp;se=1&amp;sme=0" TargetMode="External"/><Relationship Id="rId2" Type="http://schemas.openxmlformats.org/officeDocument/2006/relationships/image" Target="../media/image6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性格的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活泼开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举止文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谈吐动听：</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感染力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兴趣广泛：</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知识丰富：</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善于交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具有幽默感：</a:t>
            </a:r>
            <a:endParaRPr b="0" lang="en-US" sz="2800" spc="-1" strike="noStrike">
              <a:solidFill>
                <a:srgbClr val="000000"/>
              </a:solidFill>
              <a:latin typeface="Arial"/>
            </a:endParaRPr>
          </a:p>
        </p:txBody>
      </p:sp>
      <p:pic>
        <p:nvPicPr>
          <p:cNvPr id="69" name="图片 13316" descr="u=765862850,2607806388&amp;fm=0&amp;gp=0">
            <a:hlinkClick r:id="rId1"/>
          </p:cNvPr>
          <p:cNvPicPr/>
          <p:nvPr/>
        </p:nvPicPr>
        <p:blipFill>
          <a:blip r:embed="rId2"/>
          <a:stretch/>
        </p:blipFill>
        <p:spPr>
          <a:xfrm>
            <a:off x="4724280" y="2743200"/>
            <a:ext cx="2133720" cy="22096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正式宴会：</a:t>
            </a:r>
            <a:r>
              <a:rPr b="0" lang="zh-CN" sz="3200" spc="-1" strike="noStrike">
                <a:solidFill>
                  <a:srgbClr val="000000"/>
                </a:solidFill>
                <a:latin typeface="隶书"/>
                <a:ea typeface="隶书"/>
              </a:rPr>
              <a:t>适用于宴请规格较高，活动内容较正式、严肃的场合，重点在于突出给予对方较高的礼遇。它除了不挂国旗、不奏国歌、出席者级别不同外，其余都与国宴相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图片 124932" descr="u=438361887,1694134579&amp;fm=0&amp;gp=0">
            <a:hlinkClick r:id="rId1"/>
          </p:cNvPr>
          <p:cNvPicPr/>
          <p:nvPr/>
        </p:nvPicPr>
        <p:blipFill>
          <a:blip r:embed="rId2"/>
          <a:stretch/>
        </p:blipFill>
        <p:spPr>
          <a:xfrm>
            <a:off x="3124080" y="43434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便宴：</a:t>
            </a:r>
            <a:r>
              <a:rPr b="0" lang="zh-CN" sz="3200" spc="-1" strike="noStrike">
                <a:solidFill>
                  <a:srgbClr val="000000"/>
                </a:solidFill>
                <a:latin typeface="隶书"/>
                <a:ea typeface="隶书"/>
              </a:rPr>
              <a:t>属于非正式的宴会，形式简便，不排桌次座位，不做正式讲话，菜肴道数不必过多，气氛随便、亲切，有利于各方自由交往。官方和非官方的宴会都可以采用这种形式。它有午宴和晚宴之分，也有早餐会。此种便宴都是坐着进食，由服务员顺次上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图片 125956" descr="u=196385115,1484812994&amp;fm=0&amp;gp=0">
            <a:hlinkClick r:id="rId1"/>
          </p:cNvPr>
          <p:cNvPicPr/>
          <p:nvPr/>
        </p:nvPicPr>
        <p:blipFill>
          <a:blip r:embed="rId2"/>
          <a:stretch/>
        </p:blipFill>
        <p:spPr>
          <a:xfrm>
            <a:off x="304920" y="5029200"/>
            <a:ext cx="2743200" cy="16002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家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是指在自己家中设便宴招待宾客的方式，可以由主妇亲自掌勺，也可请厨师上门做菜。可以广泛用于亲朋好友聚会，也可以用于官方宴请或业务洽谈宴请。席间全家人共同招待客人，气氛亲切、随和、友好，容易创造融洽的人际关系。家宴上下午都可举行，但请柬上一定要注明时间。</a:t>
            </a:r>
            <a:endParaRPr b="0" lang="en-US" sz="3200" spc="-1" strike="noStrike">
              <a:solidFill>
                <a:srgbClr val="000000"/>
              </a:solidFill>
              <a:latin typeface="Arial"/>
            </a:endParaRPr>
          </a:p>
        </p:txBody>
      </p:sp>
      <p:pic>
        <p:nvPicPr>
          <p:cNvPr id="319" name="图片 109572" descr="u=1470234060,2016138259&amp;fm=0&amp;gp=0">
            <a:hlinkClick r:id="rId1"/>
          </p:cNvPr>
          <p:cNvPicPr/>
          <p:nvPr/>
        </p:nvPicPr>
        <p:blipFill>
          <a:blip r:embed="rId2"/>
          <a:stretch/>
        </p:blipFill>
        <p:spPr>
          <a:xfrm>
            <a:off x="3124080" y="50292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自助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一种相当自由的餐饮形式，除了不必排桌次座次外，来宾人数也不受拘束，也不用服务员上菜，宾客自己动手选择食品；可以先后参差进食，不必等客人到齐才能进食。这样的宴会形式便于宾客之间有较多的彼此认识的机会。</a:t>
            </a:r>
            <a:endParaRPr b="0" lang="en-US" sz="3200" spc="-1" strike="noStrike">
              <a:solidFill>
                <a:srgbClr val="000000"/>
              </a:solidFill>
              <a:latin typeface="Arial"/>
            </a:endParaRPr>
          </a:p>
        </p:txBody>
      </p:sp>
      <p:pic>
        <p:nvPicPr>
          <p:cNvPr id="322" name="图片 126980" descr="u=351371546,4100855391&amp;fm=0&amp;gp=0">
            <a:hlinkClick r:id="rId1"/>
          </p:cNvPr>
          <p:cNvPicPr/>
          <p:nvPr/>
        </p:nvPicPr>
        <p:blipFill>
          <a:blip r:embed="rId2"/>
          <a:stretch/>
        </p:blipFill>
        <p:spPr>
          <a:xfrm>
            <a:off x="3581280" y="4572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工作餐</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人们在特别繁忙、日程安排不开时采用的一种既节省时间，又达到招待目的的宴请形式。它可分为工作早餐、工作午餐和工作晚餐，适用于以谈论或从事某项具体工作为目的的招待场合，其特点是宾主共同进餐，边谈工作边进餐。工作餐一般只请当事人，不请客人的配偶，也不请其他与工作无关的人员。在国外，有的工作餐采取“</a:t>
            </a:r>
            <a:r>
              <a:rPr b="0" lang="en-US" sz="3200" spc="-1" strike="noStrike">
                <a:solidFill>
                  <a:srgbClr val="000000"/>
                </a:solidFill>
                <a:latin typeface="隶书"/>
                <a:ea typeface="隶书"/>
              </a:rPr>
              <a:t>AA</a:t>
            </a:r>
            <a:r>
              <a:rPr b="0" lang="zh-CN" sz="3200" spc="-1" strike="noStrike">
                <a:solidFill>
                  <a:srgbClr val="000000"/>
                </a:solidFill>
                <a:latin typeface="隶书"/>
                <a:ea typeface="隶书"/>
              </a:rPr>
              <a:t>制”，即参加者各自付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宴请的准备工作</a:t>
            </a:r>
            <a:endParaRPr b="0" lang="en-US"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列出宾客名单，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根据宴请的目的，与上司确认被邀请的宾客名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根据宴请的目的和宾客的社会地位、职务身份，确定宴会的规格；</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正式宴会或正式宴请大都需要向宾客发出正式请柬，事先口头约定的或电话通知的也要补发，这是礼节上的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宴请时间，选好宴请场所</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宴请时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根据上司的提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根据其他因素而确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③</a:t>
            </a:r>
            <a:r>
              <a:rPr b="0" lang="zh-CN" sz="2400" spc="-1" strike="noStrike">
                <a:solidFill>
                  <a:srgbClr val="000000"/>
                </a:solidFill>
                <a:latin typeface="隶书"/>
                <a:ea typeface="隶书"/>
              </a:rPr>
              <a:t>一般不选择在重大节日、假日，涉外宴请还要注意避开对方的禁忌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地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要考虑规格，规格高的安排在高级饭店或酒店；一般规格的，则根据情况安排在适当的饭店进行。另外还要考虑选择交通方便的地方，便于客人到达。</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要考虑宴请对象，对文化素质高、有一定身份的宾客，宴请的卫生和环境尤其要讲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菜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菜肴的精致可口、赏心悦目、特色突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客人的饮食习惯、禁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冷热、甜成、色香味搭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排定座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宴会</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般都要事先安排好桌次和座位，使参加宴会的人都能各就其位。席位的安排也能体现出对客人的尊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排定桌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桌次地位的高低．以距主桌位置的远近而定。以主人的桌为基准。右高左低，近高远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桌　　　 六桌       七桌     八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35" name="图片 114696" descr="HWOCRTEMP_ROC00"/>
          <p:cNvPicPr/>
          <p:nvPr/>
        </p:nvPicPr>
        <p:blipFill>
          <a:blip r:embed="rId1"/>
          <a:stretch/>
        </p:blipFill>
        <p:spPr>
          <a:xfrm>
            <a:off x="685800" y="3124080"/>
            <a:ext cx="1152360" cy="890640"/>
          </a:xfrm>
          <a:prstGeom prst="rect">
            <a:avLst/>
          </a:prstGeom>
          <a:ln w="0">
            <a:noFill/>
          </a:ln>
        </p:spPr>
      </p:pic>
      <p:pic>
        <p:nvPicPr>
          <p:cNvPr id="336" name="图片 114697" descr="HWOCRTEMP_ROC10"/>
          <p:cNvPicPr/>
          <p:nvPr/>
        </p:nvPicPr>
        <p:blipFill>
          <a:blip r:embed="rId2"/>
          <a:stretch/>
        </p:blipFill>
        <p:spPr>
          <a:xfrm>
            <a:off x="2743200" y="3124080"/>
            <a:ext cx="1152360" cy="1143000"/>
          </a:xfrm>
          <a:prstGeom prst="rect">
            <a:avLst/>
          </a:prstGeom>
          <a:ln w="0">
            <a:noFill/>
          </a:ln>
        </p:spPr>
      </p:pic>
      <p:pic>
        <p:nvPicPr>
          <p:cNvPr id="337" name="图片 114698" descr="HWOCRTEMP_ROC20"/>
          <p:cNvPicPr/>
          <p:nvPr/>
        </p:nvPicPr>
        <p:blipFill>
          <a:blip r:embed="rId3"/>
          <a:stretch/>
        </p:blipFill>
        <p:spPr>
          <a:xfrm>
            <a:off x="4724280" y="3048120"/>
            <a:ext cx="1571760" cy="1104840"/>
          </a:xfrm>
          <a:prstGeom prst="rect">
            <a:avLst/>
          </a:prstGeom>
          <a:ln w="0">
            <a:noFill/>
          </a:ln>
        </p:spPr>
      </p:pic>
      <p:pic>
        <p:nvPicPr>
          <p:cNvPr id="338" name="图片 114699" descr="HWOCRTEMP_ROC30"/>
          <p:cNvPicPr/>
          <p:nvPr/>
        </p:nvPicPr>
        <p:blipFill>
          <a:blip r:embed="rId4"/>
          <a:stretch/>
        </p:blipFill>
        <p:spPr>
          <a:xfrm>
            <a:off x="6705720" y="3048120"/>
            <a:ext cx="2095560" cy="89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气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气质，是指人的相对稳定的个性特点，是表现在人的情感、认识、语言和行为中比较典型、稳定的动态方面的心理特征。</a:t>
            </a:r>
            <a:endParaRPr b="0" lang="en-US" sz="3200" spc="-1" strike="noStrike">
              <a:solidFill>
                <a:srgbClr val="000000"/>
              </a:solidFill>
              <a:latin typeface="Arial"/>
            </a:endParaRPr>
          </a:p>
        </p:txBody>
      </p:sp>
      <p:pic>
        <p:nvPicPr>
          <p:cNvPr id="72" name="图片 14340" descr="u=622973846,321110827&amp;fm=0&amp;gp=0">
            <a:hlinkClick r:id="rId1"/>
          </p:cNvPr>
          <p:cNvPicPr/>
          <p:nvPr/>
        </p:nvPicPr>
        <p:blipFill>
          <a:blip r:embed="rId2"/>
          <a:stretch/>
        </p:blipFill>
        <p:spPr>
          <a:xfrm>
            <a:off x="4038480" y="37339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排定座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①</a:t>
            </a:r>
            <a:r>
              <a:rPr b="0" lang="zh-CN" sz="2800" spc="-1" strike="noStrike">
                <a:solidFill>
                  <a:srgbClr val="000000"/>
                </a:solidFill>
                <a:latin typeface="隶书"/>
                <a:ea typeface="隶书"/>
              </a:rPr>
              <a:t>以主人的座位为中心，如果女主人参加时，则以主人和女主人为基准，近高远低，右上左下，依次排列。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②</a:t>
            </a:r>
            <a:r>
              <a:rPr b="0" lang="zh-CN" sz="2800" spc="-1" strike="noStrike">
                <a:solidFill>
                  <a:srgbClr val="000000"/>
                </a:solidFill>
                <a:latin typeface="隶书"/>
                <a:ea typeface="隶书"/>
              </a:rPr>
              <a:t>把主宾安排在最尊贵的位置，即主人的右手位置；主宾夫人安排在女主人右手位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③</a:t>
            </a:r>
            <a:r>
              <a:rPr b="0" lang="zh-CN" sz="2800" spc="-1" strike="noStrike">
                <a:solidFill>
                  <a:srgbClr val="000000"/>
                </a:solidFill>
                <a:latin typeface="隶书"/>
                <a:ea typeface="隶书"/>
              </a:rPr>
              <a:t>主人方面的陪同人员，尽可能与客人相互交插，便于交谈，尽可能避免自己人坐在一起，冷落客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④</a:t>
            </a:r>
            <a:r>
              <a:rPr b="0" lang="zh-CN" sz="2800" spc="-1" strike="noStrike">
                <a:solidFill>
                  <a:srgbClr val="000000"/>
                </a:solidFill>
                <a:latin typeface="隶书"/>
                <a:ea typeface="隶书"/>
              </a:rPr>
              <a:t>译员安排在主宾右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⑤</a:t>
            </a:r>
            <a:r>
              <a:rPr b="0" lang="zh-CN" sz="2800" spc="-1" strike="noStrike">
                <a:solidFill>
                  <a:srgbClr val="000000"/>
                </a:solidFill>
                <a:latin typeface="隶书"/>
                <a:ea typeface="隶书"/>
              </a:rPr>
              <a:t>席次确定后，座位卡和桌次卡放在桌前方、桌中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342" name="文本占位符 118787" descr="HWOCRTEMP_ROC40"/>
          <p:cNvPicPr/>
          <p:nvPr/>
        </p:nvPicPr>
        <p:blipFill>
          <a:blip r:embed="rId1">
            <a:lum bright="12000"/>
          </a:blip>
          <a:srcRect l="0" t="0" r="-4307" b="17784"/>
          <a:stretch/>
        </p:blipFill>
        <p:spPr>
          <a:xfrm>
            <a:off x="838080" y="2286000"/>
            <a:ext cx="1312920" cy="2048040"/>
          </a:xfrm>
          <a:prstGeom prst="rect">
            <a:avLst/>
          </a:prstGeom>
          <a:ln w="0">
            <a:noFill/>
          </a:ln>
        </p:spPr>
      </p:pic>
      <p:sp>
        <p:nvSpPr>
          <p:cNvPr id="343" name="矩形 118788"/>
          <p:cNvSpPr/>
          <p:nvPr/>
        </p:nvSpPr>
        <p:spPr>
          <a:xfrm>
            <a:off x="1167480" y="4495320"/>
            <a:ext cx="5922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副主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图片 118789" descr="HWOCRTEMP_ROC50"/>
          <p:cNvPicPr/>
          <p:nvPr/>
        </p:nvPicPr>
        <p:blipFill>
          <a:blip r:embed="rId2">
            <a:lum bright="12000"/>
          </a:blip>
          <a:stretch/>
        </p:blipFill>
        <p:spPr>
          <a:xfrm>
            <a:off x="3657600" y="2514600"/>
            <a:ext cx="1285920" cy="2590920"/>
          </a:xfrm>
          <a:prstGeom prst="rect">
            <a:avLst/>
          </a:prstGeom>
          <a:ln w="0">
            <a:noFill/>
          </a:ln>
        </p:spPr>
      </p:pic>
      <p:pic>
        <p:nvPicPr>
          <p:cNvPr id="345" name="图片 118790" descr="HWOCRTEMP_ROC60"/>
          <p:cNvPicPr/>
          <p:nvPr/>
        </p:nvPicPr>
        <p:blipFill>
          <a:blip r:embed="rId3">
            <a:lum bright="12000"/>
          </a:blip>
          <a:stretch/>
        </p:blipFill>
        <p:spPr>
          <a:xfrm>
            <a:off x="6019920" y="2438280"/>
            <a:ext cx="1285920" cy="2743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宴请程序</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迎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入席</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大型宴请，普通客人应提前进入宴会厅，而主要客人到齐后，由主人陪同按礼宾次序排列先后进入宴会厅，这时全场起立，鼓掌表示欢迎，等主人与主宾落座后，其他人方能坐下，宴会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宣布宴会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大型宴请，一般都先由主持人宣布：“</a:t>
            </a:r>
            <a:r>
              <a:rPr b="0" lang="en-US" sz="1800" spc="-1" strike="noStrike">
                <a:solidFill>
                  <a:srgbClr val="000000"/>
                </a:solidFill>
                <a:latin typeface="隶书"/>
                <a:ea typeface="隶书"/>
              </a:rPr>
              <a:t>XX</a:t>
            </a:r>
            <a:r>
              <a:rPr b="0" lang="zh-CN" sz="1800" spc="-1" strike="noStrike">
                <a:solidFill>
                  <a:srgbClr val="000000"/>
                </a:solidFill>
                <a:latin typeface="隶书"/>
                <a:ea typeface="隶书"/>
              </a:rPr>
              <a:t>宴会（酒会等）现在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致辞一般放于用餐前。主人应先介绍致辞人的身份，主宾都应派代表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祝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入席后，主人应招呼客人进餐，并率先给客人敬酒。敬酒时可依序逐一敬遍全席，可以不分地位身份高底，一起敬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交谈</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席间主人要引导客人愉快地参与交谈，巧妙地选择话题，使席间充满和谐愉快的气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7.</a:t>
            </a:r>
            <a:r>
              <a:rPr b="0" lang="zh-CN" sz="1800" spc="-1" strike="noStrike">
                <a:solidFill>
                  <a:srgbClr val="000000"/>
                </a:solidFill>
                <a:latin typeface="隶书"/>
                <a:ea typeface="隶书"/>
              </a:rPr>
              <a:t>散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基辛格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71</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日，基辛格带着尼克松总统的使命秘密访华。周总理批示要好好招待，便宴规格要和国宴一样隆重。这位哈佛大学的犹太博士，在食物风格上很为考究。他又云游过全球，席上佳肴美酒早已尝遍，可谓政坛风云人物中的美食家。当他吃到南京丁山宾馆的国厨徐筱波给他精心制作的“黄油蒸鸡”时，竟然连声叫好，绅士风度荡然无存。见此状，周总理吩咐：“以后国宴上的这道菜就叫基辛格鸡吧！”从此，以他名字命名的“基辛格鸡”便登上了中国国宴大菜的系列中。</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分析提示：周总理的即席之作，令人称绝，他让基辛格兴奋不已，使宾主间气氛融洽到了极致。一方面显出周总理卓越的才智，另一方面也给我们启示：如何才能让客人真正满意并对你产生感激之情。</a:t>
            </a:r>
            <a:endParaRPr b="0" lang="en-US" sz="2400" spc="-1" strike="noStrike">
              <a:solidFill>
                <a:srgbClr val="000000"/>
              </a:solidFill>
              <a:latin typeface="Arial"/>
            </a:endParaRPr>
          </a:p>
        </p:txBody>
      </p:sp>
      <p:pic>
        <p:nvPicPr>
          <p:cNvPr id="350" name="图片 1208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352" name="文本占位符 121859" descr=""/>
          <p:cNvPicPr/>
          <p:nvPr/>
        </p:nvPicPr>
        <p:blipFill>
          <a:blip r:embed="rId1"/>
          <a:stretch/>
        </p:blipFill>
        <p:spPr>
          <a:xfrm>
            <a:off x="1006560" y="1600200"/>
            <a:ext cx="7130880" cy="4525920"/>
          </a:xfrm>
          <a:prstGeom prst="rect">
            <a:avLst/>
          </a:prstGeom>
          <a:ln w="0">
            <a:noFill/>
          </a:ln>
        </p:spPr>
      </p:pic>
      <p:pic>
        <p:nvPicPr>
          <p:cNvPr id="353" name="图片 121860"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观察某次大会，记录它的礼仪情况，比较本章所教授的知识点，看看有何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大华公司与天地公司举行签字仪式，请同学们按照签字仪式的礼仪要求，设计两个公司的签字情景。</a:t>
            </a:r>
            <a:endParaRPr b="0" lang="en-US" sz="3200" spc="-1" strike="noStrike">
              <a:solidFill>
                <a:srgbClr val="000000"/>
              </a:solidFill>
              <a:latin typeface="Arial"/>
            </a:endParaRPr>
          </a:p>
        </p:txBody>
      </p:sp>
      <p:pic>
        <p:nvPicPr>
          <p:cNvPr id="356" name="图片 12288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礼仪的作用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签字仪式礼仪的程序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开幕仪式需要注意哪些方面的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如何做好宴请活动礼仪的准备工作？</a:t>
            </a:r>
            <a:endParaRPr b="0" lang="en-US" sz="3200" spc="-1" strike="noStrike">
              <a:solidFill>
                <a:srgbClr val="000000"/>
              </a:solidFill>
              <a:latin typeface="Arial"/>
            </a:endParaRPr>
          </a:p>
        </p:txBody>
      </p:sp>
      <p:pic>
        <p:nvPicPr>
          <p:cNvPr id="359" name="图片 123907"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公共关系人员应具有优美的气质：</a:t>
            </a:r>
            <a:endParaRPr b="0" lang="en-US" sz="4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优美的举止仪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良好的性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丰富的内心世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较高的文化素养和语言修辞能力</a:t>
            </a:r>
            <a:endParaRPr b="0" lang="en-US" sz="3200" spc="-1" strike="noStrike">
              <a:solidFill>
                <a:srgbClr val="000000"/>
              </a:solidFill>
              <a:latin typeface="Arial"/>
            </a:endParaRPr>
          </a:p>
        </p:txBody>
      </p:sp>
      <p:pic>
        <p:nvPicPr>
          <p:cNvPr id="75" name="图片 15364" descr="u=4066943869,2492893079&amp;fm=0&amp;gp=0">
            <a:hlinkClick r:id="rId1"/>
          </p:cNvPr>
          <p:cNvPicPr/>
          <p:nvPr/>
        </p:nvPicPr>
        <p:blipFill>
          <a:blip r:embed="rId2"/>
          <a:stretch/>
        </p:blipFill>
        <p:spPr>
          <a:xfrm>
            <a:off x="533520" y="4114800"/>
            <a:ext cx="2590560" cy="2438280"/>
          </a:xfrm>
          <a:prstGeom prst="rect">
            <a:avLst/>
          </a:prstGeom>
          <a:ln w="0">
            <a:noFill/>
          </a:ln>
        </p:spPr>
      </p:pic>
      <p:pic>
        <p:nvPicPr>
          <p:cNvPr id="76" name="图片 15366" descr="u=4192304969,4044528145&amp;fm=3&amp;gp=0">
            <a:hlinkClick r:id="rId3"/>
          </p:cNvPr>
          <p:cNvPicPr/>
          <p:nvPr/>
        </p:nvPicPr>
        <p:blipFill>
          <a:blip r:embed="rId4"/>
          <a:stretch/>
        </p:blipFill>
        <p:spPr>
          <a:xfrm>
            <a:off x="4419720" y="4267080"/>
            <a:ext cx="266688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风度</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风度是指人的言谈、举止、神情、姿态、仪表等方面总的表现和风貌，即人的思想、文化、修养、性格、气质等的外在表现。</a:t>
            </a:r>
            <a:endParaRPr b="0" lang="en-US" sz="3200" spc="-1" strike="noStrike">
              <a:solidFill>
                <a:srgbClr val="000000"/>
              </a:solidFill>
              <a:latin typeface="Arial"/>
            </a:endParaRPr>
          </a:p>
        </p:txBody>
      </p:sp>
      <p:pic>
        <p:nvPicPr>
          <p:cNvPr id="79" name="图片 16388" descr="u=1895653206,3984639258&amp;fm=3&amp;gp=0">
            <a:hlinkClick r:id="rId1"/>
          </p:cNvPr>
          <p:cNvPicPr/>
          <p:nvPr/>
        </p:nvPicPr>
        <p:blipFill>
          <a:blip r:embed="rId2"/>
          <a:stretch/>
        </p:blipFill>
        <p:spPr>
          <a:xfrm>
            <a:off x="2438280" y="38862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华盛顿的风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754</a:t>
            </a:r>
            <a:r>
              <a:rPr b="0" lang="zh-CN" sz="2400" spc="-1" strike="noStrike">
                <a:solidFill>
                  <a:srgbClr val="000000"/>
                </a:solidFill>
                <a:latin typeface="隶书"/>
                <a:ea typeface="隶书"/>
              </a:rPr>
              <a:t>年，美国之父华盛顿还是一名血气方刚的上校军官。那时，他正率部于亚历山大市驻防，是当地的军事首脑。那年，弗吉尼亚州的议员选举战争打得硝烟弥漫，华盛顿也很狂热地投入了选战，为他所支持的候选人助威。有个名叫威廉</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佩恩的人，是华盛顿的坚决反对者，到处发表演讲，批评华盛顿支持的候选人。为此，华盛顿很生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某一日，华盛顿与佩恩两个冤家聚头了，并且发生了激烈的唇枪舌战，情急之中，华盛顿说了一些过头话冒犯了佩恩。佩恩觉得自己受了侮辱，不由火冒三丈冲过去一拳将华盛顿击倒在地。这一拳将华盛顿击倒在地。这一拳却把华盛顿打醒了，他忍痛站起来，命令摩拳擦掌的部下跟他返回营地。一场流血冲突就这样烟消云散了。</a:t>
            </a:r>
            <a:endParaRPr b="0" lang="en-US" sz="2400" spc="-1" strike="noStrike">
              <a:solidFill>
                <a:srgbClr val="000000"/>
              </a:solidFill>
              <a:latin typeface="Arial"/>
            </a:endParaRPr>
          </a:p>
        </p:txBody>
      </p:sp>
      <p:pic>
        <p:nvPicPr>
          <p:cNvPr id="82"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风度美包括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幽默文雅的谈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诚恳的待人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饱满的精神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洒脱的仪表礼节</a:t>
            </a:r>
            <a:endParaRPr b="0" lang="en-US" sz="3200" spc="-1" strike="noStrike">
              <a:solidFill>
                <a:srgbClr val="000000"/>
              </a:solidFill>
              <a:latin typeface="Arial"/>
            </a:endParaRPr>
          </a:p>
        </p:txBody>
      </p:sp>
      <p:pic>
        <p:nvPicPr>
          <p:cNvPr id="85" name="图片 18436" descr="u=3005354714,1275651116&amp;fm=3&amp;gp=0">
            <a:hlinkClick r:id="rId1"/>
          </p:cNvPr>
          <p:cNvPicPr/>
          <p:nvPr/>
        </p:nvPicPr>
        <p:blipFill>
          <a:blip r:embed="rId2"/>
          <a:stretch/>
        </p:blipFill>
        <p:spPr>
          <a:xfrm>
            <a:off x="5562720" y="2514600"/>
            <a:ext cx="274320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274320"/>
            <a:ext cx="8915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人员的个人礼仪</a:t>
            </a:r>
            <a:br>
              <a:rPr sz="4000"/>
            </a:br>
            <a:endParaRPr b="0" lang="en-US" sz="40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个人礼仪是一个人的生活行为规范与待人处世的准则，是个人仪容、服饰、言谈、举止，待人、接物等方面的具体规定，是个人道德品质、文化素养、教养良知等精神内涵的外在表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个人礼仪的核心是尊重他人，与人友善，表里如一，内外一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仪容服饰礼仪</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整洁的仪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得体的发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头发整洁、发型大方是个人礼仪对发式美的最基本要求。整洁大方的发式易给人留下神清气爽的印象，而披头散发则会给人以萎靡不振的感觉。</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个人所选的发式应与自己的脸型、肤色、体形相匹配，与自己的气质、职业、身份相吻合时方能显现出真正的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2</a:t>
            </a:r>
            <a:r>
              <a:rPr b="0" lang="zh-CN" sz="4000" spc="-1" strike="noStrike">
                <a:solidFill>
                  <a:srgbClr val="000000"/>
                </a:solidFill>
                <a:latin typeface="隶书"/>
                <a:ea typeface="隶书"/>
              </a:rPr>
              <a:t>．整洁的面容</a:t>
            </a:r>
            <a:br>
              <a:rPr sz="4000"/>
            </a:b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女士面容的美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女士面容的美化主要采取整容与化妆两种方法。整容是通过外科手术来改变人的容貌。化妆则以其便利、易改等优势，受到广大女士的青睐，成为当今面容美化的首选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工作妆应该是淡妆。我们可以在</a:t>
            </a:r>
            <a:r>
              <a:rPr b="0" lang="en-US" sz="2800" spc="-1" strike="noStrike">
                <a:solidFill>
                  <a:srgbClr val="000000"/>
                </a:solidFill>
                <a:latin typeface="隶书"/>
                <a:ea typeface="隶书"/>
              </a:rPr>
              <a:t>15</a:t>
            </a:r>
            <a:r>
              <a:rPr b="0" lang="zh-CN" sz="2800" spc="-1" strike="noStrike">
                <a:solidFill>
                  <a:srgbClr val="000000"/>
                </a:solidFill>
                <a:latin typeface="隶书"/>
                <a:ea typeface="隶书"/>
              </a:rPr>
              <a:t>分钟之内完成。熟练以后，所用时间还会减少。</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职业女性上班时化妆，不仅是为了漂亮有精神，还体现了敬业精神。</a:t>
            </a:r>
            <a:endParaRPr b="0" lang="en-US" sz="2800" spc="-1" strike="noStrike">
              <a:solidFill>
                <a:srgbClr val="000000"/>
              </a:solidFill>
              <a:latin typeface="Arial"/>
            </a:endParaRPr>
          </a:p>
        </p:txBody>
      </p:sp>
      <p:pic>
        <p:nvPicPr>
          <p:cNvPr id="92" name="图片 21509" descr="u=429424620,415101935&amp;fm=0&amp;gp=0">
            <a:hlinkClick r:id="rId1"/>
          </p:cNvPr>
          <p:cNvPicPr/>
          <p:nvPr/>
        </p:nvPicPr>
        <p:blipFill>
          <a:blip r:embed="rId2"/>
          <a:stretch/>
        </p:blipFill>
        <p:spPr>
          <a:xfrm>
            <a:off x="0" y="0"/>
            <a:ext cx="17524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化妆的礼节及应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一，化妆的浓淡要考虑时间、场合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二，在公共场所不能当众化妆或补妆。在公共场所，众目睽睽之下修饰面容是没有教养的行为。</a:t>
            </a:r>
            <a:endParaRPr b="0" lang="en-US" sz="3200" spc="-1" strike="noStrike">
              <a:solidFill>
                <a:srgbClr val="000000"/>
              </a:solidFill>
              <a:latin typeface="Arial"/>
            </a:endParaRPr>
          </a:p>
        </p:txBody>
      </p:sp>
      <p:pic>
        <p:nvPicPr>
          <p:cNvPr id="95" name="图片 22532" descr="u=82453279,1210916775&amp;fm=0&amp;gp=0">
            <a:hlinkClick r:id="rId1"/>
          </p:cNvPr>
          <p:cNvPicPr/>
          <p:nvPr/>
        </p:nvPicPr>
        <p:blipFill>
          <a:blip r:embed="rId2"/>
          <a:stretch/>
        </p:blipFill>
        <p:spPr>
          <a:xfrm>
            <a:off x="5029200" y="4267080"/>
            <a:ext cx="243828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礼仪的原则与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人员的个人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人员的社交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常用的商务仪式与活动仪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男士面容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男士应养成每天修面剃须的良好习惯。实在要蓄须的话，也要考虑工作是否允许，并且要经常修剪，保持卫生。</a:t>
            </a:r>
            <a:endParaRPr b="0" lang="en-US" sz="3200" spc="-1" strike="noStrike">
              <a:solidFill>
                <a:srgbClr val="000000"/>
              </a:solidFill>
              <a:latin typeface="Arial"/>
            </a:endParaRPr>
          </a:p>
        </p:txBody>
      </p:sp>
      <p:pic>
        <p:nvPicPr>
          <p:cNvPr id="98" name="图片 23556" descr="u=2765078684,1637184404&amp;fm=0&amp;gp=0">
            <a:hlinkClick r:id="rId1"/>
          </p:cNvPr>
          <p:cNvPicPr/>
          <p:nvPr/>
        </p:nvPicPr>
        <p:blipFill>
          <a:blip r:embed="rId2"/>
          <a:stretch/>
        </p:blipFill>
        <p:spPr>
          <a:xfrm>
            <a:off x="762120" y="4038480"/>
            <a:ext cx="28191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颈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颈部是人体最容易显现一个人年龄的部位，平时要和脸部一样注意保养。保持颈部皮肤的清洁．并加强颈部的运动与营养按摩．就会使颈部皮肤绷紧，光洁动人。</a:t>
            </a:r>
            <a:endParaRPr b="0" lang="en-US" sz="3200" spc="-1" strike="noStrike">
              <a:solidFill>
                <a:srgbClr val="000000"/>
              </a:solidFill>
              <a:latin typeface="Arial"/>
            </a:endParaRPr>
          </a:p>
        </p:txBody>
      </p:sp>
      <p:pic>
        <p:nvPicPr>
          <p:cNvPr id="101" name="图片 24580" descr="u=284977019,517059987&amp;fm=0&amp;gp=0">
            <a:hlinkClick r:id="rId1"/>
          </p:cNvPr>
          <p:cNvPicPr/>
          <p:nvPr/>
        </p:nvPicPr>
        <p:blipFill>
          <a:blip r:embed="rId2"/>
          <a:stretch/>
        </p:blipFill>
        <p:spPr>
          <a:xfrm>
            <a:off x="2666880" y="4191120"/>
            <a:ext cx="213372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手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手指和指甲的美，与人体其他部位的美一样重要，尤其可提高女性的整体风采。因此，适时适度地保护与美化手都是十分必要的，不容忽视。</a:t>
            </a:r>
            <a:endParaRPr b="0" lang="en-US" sz="3200" spc="-1" strike="noStrike">
              <a:solidFill>
                <a:srgbClr val="000000"/>
              </a:solidFill>
              <a:latin typeface="Arial"/>
            </a:endParaRPr>
          </a:p>
        </p:txBody>
      </p:sp>
      <p:pic>
        <p:nvPicPr>
          <p:cNvPr id="104" name="图片 25604" descr="u=898022796,1582553120&amp;fm=0&amp;gp=0">
            <a:hlinkClick r:id="rId1"/>
          </p:cNvPr>
          <p:cNvPicPr/>
          <p:nvPr/>
        </p:nvPicPr>
        <p:blipFill>
          <a:blip r:embed="rId2"/>
          <a:stretch/>
        </p:blipFill>
        <p:spPr>
          <a:xfrm>
            <a:off x="762120" y="4419720"/>
            <a:ext cx="2286000" cy="2438280"/>
          </a:xfrm>
          <a:prstGeom prst="rect">
            <a:avLst/>
          </a:prstGeom>
          <a:ln w="0">
            <a:noFill/>
          </a:ln>
        </p:spPr>
      </p:pic>
      <p:pic>
        <p:nvPicPr>
          <p:cNvPr id="105" name="图片 25606" descr="u=2922060728,2887104647&amp;fm=0&amp;gp=0">
            <a:hlinkClick r:id="rId3"/>
          </p:cNvPr>
          <p:cNvPicPr/>
          <p:nvPr/>
        </p:nvPicPr>
        <p:blipFill>
          <a:blip r:embed="rId4"/>
          <a:stretch/>
        </p:blipFill>
        <p:spPr>
          <a:xfrm>
            <a:off x="4495680" y="449568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得体的服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服饰是个人形体的外延，包括衣、裤、裙、帽、袜、手套及各类服饰。它们一同起着遮体御寒、美化人体的作用。服饰又是一种无声的语言，它显示着一个人的个性、身份、涵养及其心理状态等多种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着装的原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T――Time,</a:t>
            </a:r>
            <a:r>
              <a:rPr b="0" lang="zh-CN" sz="2800" spc="-1" strike="noStrike">
                <a:solidFill>
                  <a:srgbClr val="ff0000"/>
                </a:solidFill>
                <a:latin typeface="隶书"/>
                <a:ea typeface="隶书"/>
              </a:rPr>
              <a:t>即时间：</a:t>
            </a:r>
            <a:r>
              <a:rPr b="0" lang="zh-CN" sz="2800" spc="-1" strike="noStrike">
                <a:solidFill>
                  <a:srgbClr val="000000"/>
                </a:solidFill>
                <a:latin typeface="隶书"/>
                <a:ea typeface="隶书"/>
              </a:rPr>
              <a:t>一年之中有四季，一天之中有早晚，穿衣各不相同。白天上班时要穿得严肃一点，晚上的宴请要穿得华丽一些。</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P</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Place</a:t>
            </a:r>
            <a:r>
              <a:rPr b="0" lang="zh-CN" sz="2800" spc="-1" strike="noStrike">
                <a:solidFill>
                  <a:srgbClr val="ff0000"/>
                </a:solidFill>
                <a:latin typeface="隶书"/>
                <a:ea typeface="隶书"/>
              </a:rPr>
              <a:t>即地点：</a:t>
            </a:r>
            <a:r>
              <a:rPr b="0" lang="zh-CN" sz="2800" spc="-1" strike="noStrike">
                <a:solidFill>
                  <a:srgbClr val="000000"/>
                </a:solidFill>
                <a:latin typeface="隶书"/>
                <a:ea typeface="隶书"/>
              </a:rPr>
              <a:t>在不同的地点进行的活动内容不一，着装也要有所变化。</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O</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Object</a:t>
            </a:r>
            <a:r>
              <a:rPr b="0" lang="zh-CN" sz="2800" spc="-1" strike="noStrike">
                <a:solidFill>
                  <a:srgbClr val="ff0000"/>
                </a:solidFill>
                <a:latin typeface="隶书"/>
                <a:ea typeface="隶书"/>
              </a:rPr>
              <a:t>即目的：</a:t>
            </a:r>
            <a:r>
              <a:rPr b="0" lang="zh-CN" sz="2800" spc="-1" strike="noStrike">
                <a:solidFill>
                  <a:srgbClr val="000000"/>
                </a:solidFill>
                <a:latin typeface="隶书"/>
                <a:ea typeface="隶书"/>
              </a:rPr>
              <a:t>目的可以从两方面考虑。一是做事的目的，比如要去打网球，就要穿运动装、网球鞋。二是想要留给别人什么印象，严肃稳重、还是大方活泼，根据不同的目的选择服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正规职业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男性的职业装</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深色西服套装，两件套或三件套。</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上衣有双排扣和单排扣之分。</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双排扣上衣显得更严肃，扣子必须都系上，不能敞开来穿。</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单排扣西装有一粒扣、两粒扣、三粒扣以致更多粒扣的。</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一般场合可以不系扣，严肃的场合，如会见客人、谈判等等，两粒扣西服只系上面一粒，三粒扣的只系中间或中间和上面两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图片 30723" descr="u=902093702,329081747&amp;gp=0">
            <a:hlinkClick r:id="rId1"/>
          </p:cNvPr>
          <p:cNvPicPr/>
          <p:nvPr/>
        </p:nvPicPr>
        <p:blipFill>
          <a:blip r:embed="rId2"/>
          <a:stretch/>
        </p:blipFill>
        <p:spPr>
          <a:xfrm>
            <a:off x="0" y="0"/>
            <a:ext cx="2268360" cy="4941720"/>
          </a:xfrm>
          <a:prstGeom prst="rect">
            <a:avLst/>
          </a:prstGeom>
          <a:ln w="0">
            <a:noFill/>
          </a:ln>
        </p:spPr>
      </p:pic>
      <p:pic>
        <p:nvPicPr>
          <p:cNvPr id="115" name="图片 30724" descr="06102809421026736">
            <a:hlinkClick r:id="rId3"/>
          </p:cNvPr>
          <p:cNvPicPr/>
          <p:nvPr/>
        </p:nvPicPr>
        <p:blipFill>
          <a:blip r:embed="rId4"/>
          <a:stretch/>
        </p:blipFill>
        <p:spPr>
          <a:xfrm>
            <a:off x="1763640" y="0"/>
            <a:ext cx="3960720" cy="6121440"/>
          </a:xfrm>
          <a:prstGeom prst="rect">
            <a:avLst/>
          </a:prstGeom>
          <a:ln w="0">
            <a:noFill/>
          </a:ln>
        </p:spPr>
      </p:pic>
      <p:pic>
        <p:nvPicPr>
          <p:cNvPr id="116" name="图片 30725" descr="picb7q77k35">
            <a:hlinkClick r:id="rId5"/>
          </p:cNvPr>
          <p:cNvPicPr/>
          <p:nvPr/>
        </p:nvPicPr>
        <p:blipFill>
          <a:blip r:embed="rId6"/>
          <a:stretch/>
        </p:blipFill>
        <p:spPr>
          <a:xfrm>
            <a:off x="4705200" y="0"/>
            <a:ext cx="4438800" cy="666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 </a:t>
            </a:r>
            <a:endParaRPr b="0" lang="en-US" sz="4400" spc="-1" strike="noStrike">
              <a:solidFill>
                <a:srgbClr val="000000"/>
              </a:solidFill>
              <a:latin typeface="Arial"/>
            </a:endParaRPr>
          </a:p>
        </p:txBody>
      </p:sp>
      <p:sp>
        <p:nvSpPr>
          <p:cNvPr id="118" name=""/>
          <p:cNvSpPr txBox="1"/>
          <p:nvPr/>
        </p:nvSpPr>
        <p:spPr>
          <a:xfrm>
            <a:off x="3347640" y="260280"/>
            <a:ext cx="5110200" cy="5835600"/>
          </a:xfrm>
          <a:prstGeom prst="rect">
            <a:avLst/>
          </a:prstGeom>
          <a:noFill/>
          <a:ln w="0">
            <a:noFill/>
          </a:ln>
        </p:spPr>
        <p:txBody>
          <a:bodyPr lIns="90000" rIns="90000" tIns="46800" bIns="46800" anchor="t">
            <a:norm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3300"/>
                </a:solidFill>
                <a:latin typeface="隶书"/>
                <a:ea typeface="隶书"/>
              </a:rPr>
              <a:t>衬衫：</a:t>
            </a:r>
            <a:r>
              <a:rPr b="1" lang="zh-CN" sz="3200" spc="-1" strike="noStrike">
                <a:solidFill>
                  <a:srgbClr val="000000"/>
                </a:solidFill>
                <a:latin typeface="隶书"/>
                <a:ea typeface="隶书"/>
              </a:rPr>
              <a:t>浅色衬衫最好，白色的最不会出错，浅色有细隐条的也行。衬衫的领子一定要合适，太松了打领带不好办。衬衫的领子应该比西服外套领子高几分，袖口比西服外套长出</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5</a:t>
            </a:r>
            <a:r>
              <a:rPr b="1" lang="zh-CN" sz="3200" spc="-1" strike="noStrike">
                <a:solidFill>
                  <a:srgbClr val="000000"/>
                </a:solidFill>
                <a:latin typeface="隶书"/>
                <a:ea typeface="隶书"/>
              </a:rPr>
              <a:t>厘米，既利于保护外套，也显出品味。 </a:t>
            </a:r>
            <a:endParaRPr b="0" lang="en-US" sz="3200" spc="-1" strike="noStrike">
              <a:solidFill>
                <a:srgbClr val="000000"/>
              </a:solidFill>
              <a:latin typeface="Arial"/>
            </a:endParaRPr>
          </a:p>
        </p:txBody>
      </p:sp>
      <p:pic>
        <p:nvPicPr>
          <p:cNvPr id="119" name="图片 31747" descr="10073662">
            <a:hlinkClick r:id="rId1"/>
          </p:cNvPr>
          <p:cNvPicPr/>
          <p:nvPr/>
        </p:nvPicPr>
        <p:blipFill>
          <a:blip r:embed="rId2"/>
          <a:stretch/>
        </p:blipFill>
        <p:spPr>
          <a:xfrm>
            <a:off x="250920" y="836640"/>
            <a:ext cx="3313080" cy="55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3276360" y="765000"/>
            <a:ext cx="5181480" cy="533088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皮鞋和袜子：</a:t>
            </a:r>
            <a:r>
              <a:rPr b="1" lang="zh-CN" sz="2800" spc="-1" strike="noStrike">
                <a:solidFill>
                  <a:srgbClr val="000000"/>
                </a:solidFill>
                <a:latin typeface="Arial"/>
                <a:ea typeface="隶书"/>
              </a:rPr>
              <a:t>只能选黑色或深棕色皮鞋，传统的系带鞋最为正规，漆皮鞋、鞋面带亮片、镂空花纹的都不适合公务场合穿。一定要穿深色袜子，最好与裤子的颜色一致，决不能穿白色的袜子，白色袜子属于休闲袜。袜子要长及小腿肚，袜口松紧度要适中，衬衫、袜子应该天天换。</a:t>
            </a:r>
            <a:endParaRPr b="0" lang="en-US" sz="2800" spc="-1" strike="noStrike">
              <a:solidFill>
                <a:srgbClr val="000000"/>
              </a:solidFill>
              <a:latin typeface="Arial"/>
            </a:endParaRPr>
          </a:p>
        </p:txBody>
      </p:sp>
      <p:pic>
        <p:nvPicPr>
          <p:cNvPr id="122" name="图片 32771" descr="20273">
            <a:hlinkClick r:id="rId1"/>
          </p:cNvPr>
          <p:cNvPicPr/>
          <p:nvPr/>
        </p:nvPicPr>
        <p:blipFill>
          <a:blip r:embed="rId2"/>
          <a:stretch/>
        </p:blipFill>
        <p:spPr>
          <a:xfrm>
            <a:off x="0" y="620640"/>
            <a:ext cx="3132000" cy="5472360"/>
          </a:xfrm>
          <a:prstGeom prst="rect">
            <a:avLst/>
          </a:prstGeom>
          <a:ln w="0">
            <a:noFill/>
          </a:ln>
        </p:spPr>
      </p:pic>
      <p:pic>
        <p:nvPicPr>
          <p:cNvPr id="123" name="图片 32772" descr="200628160723">
            <a:hlinkClick r:id="rId3"/>
          </p:cNvPr>
          <p:cNvPicPr/>
          <p:nvPr/>
        </p:nvPicPr>
        <p:blipFill>
          <a:blip r:embed="rId4"/>
          <a:stretch/>
        </p:blipFill>
        <p:spPr>
          <a:xfrm>
            <a:off x="6659640" y="4869000"/>
            <a:ext cx="184788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3047760" y="1600200"/>
            <a:ext cx="563868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腰带：</a:t>
            </a:r>
            <a:r>
              <a:rPr b="1" lang="zh-CN" sz="3200" spc="-1" strike="noStrike">
                <a:solidFill>
                  <a:srgbClr val="000000"/>
                </a:solidFill>
                <a:latin typeface="Arial"/>
                <a:ea typeface="隶书"/>
              </a:rPr>
              <a:t>应该是真皮的，颜色与皮鞋、公文包的颜色一致，皮带扣的式样应该简洁。</a:t>
            </a:r>
            <a:endParaRPr b="0" lang="en-US" sz="3200" spc="-1" strike="noStrike">
              <a:solidFill>
                <a:srgbClr val="000000"/>
              </a:solidFill>
              <a:latin typeface="Arial"/>
            </a:endParaRPr>
          </a:p>
        </p:txBody>
      </p:sp>
      <p:pic>
        <p:nvPicPr>
          <p:cNvPr id="126" name="图片 33795" descr="10001960_0101">
            <a:hlinkClick r:id="rId1"/>
          </p:cNvPr>
          <p:cNvPicPr/>
          <p:nvPr/>
        </p:nvPicPr>
        <p:blipFill>
          <a:blip r:embed="rId2"/>
          <a:stretch/>
        </p:blipFill>
        <p:spPr>
          <a:xfrm>
            <a:off x="684360" y="404640"/>
            <a:ext cx="2303280" cy="59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微笑是最具魅力的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被誉为“全球旅馆业之冠”的美国希尔顿饭店，其创始人唐纳</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希尔顿绝对称得上是一个传奇人物。</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19</a:t>
            </a:r>
            <a:r>
              <a:rPr b="0" lang="zh-CN" sz="2800" spc="-1" strike="noStrike">
                <a:solidFill>
                  <a:srgbClr val="000000"/>
                </a:solidFill>
                <a:latin typeface="隶书"/>
                <a:ea typeface="隶书"/>
              </a:rPr>
              <a:t>年希尔顿离开家乡新墨西哥来到得克萨斯州，以仅有的</a:t>
            </a:r>
            <a:r>
              <a:rPr b="0" lang="en-US" sz="2800" spc="-1" strike="noStrike">
                <a:solidFill>
                  <a:srgbClr val="000000"/>
                </a:solidFill>
                <a:latin typeface="隶书"/>
                <a:ea typeface="隶书"/>
              </a:rPr>
              <a:t>500</a:t>
            </a:r>
            <a:r>
              <a:rPr b="0" lang="zh-CN" sz="2800" spc="-1" strike="noStrike">
                <a:solidFill>
                  <a:srgbClr val="000000"/>
                </a:solidFill>
                <a:latin typeface="隶书"/>
                <a:ea typeface="隶书"/>
              </a:rPr>
              <a:t>美元作资本，买下了蒙布勒饭店，开起了第一家希尔顿旅馆，开始创立希尔顿旅业王国，在不到</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年的时间里，从一家发展至</a:t>
            </a:r>
            <a:r>
              <a:rPr b="0" lang="en-US" sz="2800" spc="-1" strike="noStrike">
                <a:solidFill>
                  <a:srgbClr val="000000"/>
                </a:solidFill>
                <a:latin typeface="隶书"/>
                <a:ea typeface="隶书"/>
              </a:rPr>
              <a:t>100</a:t>
            </a:r>
            <a:r>
              <a:rPr b="0" lang="zh-CN" sz="2800" spc="-1" strike="noStrike">
                <a:solidFill>
                  <a:srgbClr val="000000"/>
                </a:solidFill>
                <a:latin typeface="隶书"/>
                <a:ea typeface="隶书"/>
              </a:rPr>
              <a:t>多家，遍布世界五大洲的各个城市，资产达数百亿美元，并成功吞并了号称“旅馆之王”的纽约华尔道夫奥斯托利亚旅馆，还买下了号称“旅馆皇后”的纽约普拉萨旅馆，成为名副其实的全球旅馆业</a:t>
            </a:r>
            <a:r>
              <a:rPr b="0" lang="en-US" sz="2800" spc="-1" strike="noStrike">
                <a:solidFill>
                  <a:srgbClr val="000000"/>
                </a:solidFill>
                <a:latin typeface="隶书"/>
                <a:ea typeface="隶书"/>
              </a:rPr>
              <a:t>NO.1</a:t>
            </a:r>
            <a:r>
              <a:rPr b="0" lang="zh-CN" sz="2800" spc="-1" strike="noStrike">
                <a:solidFill>
                  <a:srgbClr val="000000"/>
                </a:solidFill>
                <a:latin typeface="隶书"/>
                <a:ea typeface="隶书"/>
              </a:rPr>
              <a:t>。</a:t>
            </a:r>
            <a:endParaRPr b="0" lang="en-US" sz="2800" spc="-1" strike="noStrike">
              <a:solidFill>
                <a:srgbClr val="000000"/>
              </a:solidFill>
              <a:latin typeface="Arial"/>
            </a:endParaRPr>
          </a:p>
        </p:txBody>
      </p:sp>
      <p:pic>
        <p:nvPicPr>
          <p:cNvPr id="48" name="图片 6148"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领带：</a:t>
            </a:r>
            <a:r>
              <a:rPr b="1" lang="zh-CN" sz="3200" spc="-1" strike="noStrike">
                <a:solidFill>
                  <a:srgbClr val="000000"/>
                </a:solidFill>
                <a:latin typeface="Arial"/>
                <a:ea typeface="隶书"/>
              </a:rPr>
              <a:t>领带的面料以真丝面料为好。颜色可以和西服同一色系，但不完全相同，也可选择暗红等较深沉的颜色做底色，图案为几何形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的扎法也很有讲究，一般是扣好衬衣衣领后，将领带套在衣领外，然后将宽的一片稍稍压在领角下，抽拉另一端，领带就自然夹在衣领中间，而不必把领子翻立起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系好后，下端不能长于皮带扣的上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a:t>
            </a:r>
            <a:r>
              <a:rPr b="0" lang="en-US" sz="4400" spc="-1" strike="noStrike">
                <a:solidFill>
                  <a:srgbClr val="000000"/>
                </a:solidFill>
                <a:latin typeface="隶书"/>
                <a:ea typeface="隶书"/>
              </a:rPr>
              <a:t>2</a:t>
            </a:r>
            <a:r>
              <a:rPr b="0" lang="zh-CN" sz="4400" spc="-1" strike="noStrike">
                <a:solidFill>
                  <a:srgbClr val="000000"/>
                </a:solidFill>
                <a:latin typeface="隶书"/>
                <a:ea typeface="隶书"/>
              </a:rPr>
              <a:t>）女性的职业装</a:t>
            </a:r>
            <a:endParaRPr b="0" lang="en-US" sz="4400" spc="-1" strike="noStrike">
              <a:solidFill>
                <a:srgbClr val="000000"/>
              </a:solidFill>
              <a:latin typeface="Arial"/>
            </a:endParaRPr>
          </a:p>
        </p:txBody>
      </p:sp>
      <p:sp>
        <p:nvSpPr>
          <p:cNvPr id="130" name=""/>
          <p:cNvSpPr txBox="1"/>
          <p:nvPr/>
        </p:nvSpPr>
        <p:spPr>
          <a:xfrm>
            <a:off x="3657600" y="1600200"/>
            <a:ext cx="5029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西服套装是女性的标准职业装，它使人显得精干。上衣和裙子同色使人显得修长；上下两件不同色的套装颜色应该是谐调的。西服套装的颜色多为黑色、藏青色、灰色、灰褐色、暗红色。</a:t>
            </a:r>
            <a:endParaRPr b="0" lang="en-US" sz="3200" spc="-1" strike="noStrike">
              <a:solidFill>
                <a:srgbClr val="000000"/>
              </a:solidFill>
              <a:latin typeface="Arial"/>
            </a:endParaRPr>
          </a:p>
        </p:txBody>
      </p:sp>
      <p:pic>
        <p:nvPicPr>
          <p:cNvPr id="131" name="图片 35843" descr="u=1251021881,2010823798&amp;gp=14">
            <a:hlinkClick r:id="rId1"/>
          </p:cNvPr>
          <p:cNvPicPr/>
          <p:nvPr/>
        </p:nvPicPr>
        <p:blipFill>
          <a:blip r:embed="rId2"/>
          <a:stretch/>
        </p:blipFill>
        <p:spPr>
          <a:xfrm>
            <a:off x="179280" y="0"/>
            <a:ext cx="1584360" cy="3816360"/>
          </a:xfrm>
          <a:prstGeom prst="rect">
            <a:avLst/>
          </a:prstGeom>
          <a:ln w="0">
            <a:noFill/>
          </a:ln>
        </p:spPr>
      </p:pic>
      <p:pic>
        <p:nvPicPr>
          <p:cNvPr id="132" name="图片 35844" descr="518859">
            <a:hlinkClick r:id="rId3"/>
          </p:cNvPr>
          <p:cNvPicPr/>
          <p:nvPr/>
        </p:nvPicPr>
        <p:blipFill>
          <a:blip r:embed="rId4"/>
          <a:stretch/>
        </p:blipFill>
        <p:spPr>
          <a:xfrm>
            <a:off x="755640" y="3357720"/>
            <a:ext cx="244800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68360" y="260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衬衣：</a:t>
            </a:r>
            <a:r>
              <a:rPr b="1" lang="zh-CN" sz="3200" spc="-1" strike="noStrike">
                <a:solidFill>
                  <a:srgbClr val="000000"/>
                </a:solidFill>
                <a:latin typeface="隶书"/>
                <a:ea typeface="隶书"/>
              </a:rPr>
              <a:t>衬衣的颜色、图案、式样是丰富多彩的。只要不过分耀眼，颜色与外套谐调就可以了。 </a:t>
            </a:r>
            <a:endParaRPr b="0" lang="en-US" sz="3200" spc="-1" strike="noStrike">
              <a:solidFill>
                <a:srgbClr val="000000"/>
              </a:solidFill>
              <a:latin typeface="Arial"/>
            </a:endParaRPr>
          </a:p>
        </p:txBody>
      </p:sp>
      <p:pic>
        <p:nvPicPr>
          <p:cNvPr id="135" name="图片 36867" descr="2006313133734996087">
            <a:hlinkClick r:id="rId1"/>
          </p:cNvPr>
          <p:cNvPicPr/>
          <p:nvPr/>
        </p:nvPicPr>
        <p:blipFill>
          <a:blip r:embed="rId2"/>
          <a:stretch/>
        </p:blipFill>
        <p:spPr>
          <a:xfrm>
            <a:off x="324000" y="2276640"/>
            <a:ext cx="2172960" cy="3960720"/>
          </a:xfrm>
          <a:prstGeom prst="rect">
            <a:avLst/>
          </a:prstGeom>
          <a:ln w="0">
            <a:noFill/>
          </a:ln>
        </p:spPr>
      </p:pic>
      <p:pic>
        <p:nvPicPr>
          <p:cNvPr id="136" name="图片 36868" descr="nvz09">
            <a:hlinkClick r:id="rId3"/>
          </p:cNvPr>
          <p:cNvPicPr/>
          <p:nvPr/>
        </p:nvPicPr>
        <p:blipFill>
          <a:blip r:embed="rId4"/>
          <a:stretch/>
        </p:blipFill>
        <p:spPr>
          <a:xfrm>
            <a:off x="2411280" y="2205000"/>
            <a:ext cx="3305160" cy="3943440"/>
          </a:xfrm>
          <a:prstGeom prst="rect">
            <a:avLst/>
          </a:prstGeom>
          <a:ln w="0">
            <a:noFill/>
          </a:ln>
        </p:spPr>
      </p:pic>
      <p:pic>
        <p:nvPicPr>
          <p:cNvPr id="137" name="图片 36869" descr="1091112752_1_big">
            <a:hlinkClick r:id="rId5"/>
          </p:cNvPr>
          <p:cNvPicPr/>
          <p:nvPr/>
        </p:nvPicPr>
        <p:blipFill>
          <a:blip r:embed="rId6"/>
          <a:stretch/>
        </p:blipFill>
        <p:spPr>
          <a:xfrm>
            <a:off x="5580000" y="1844640"/>
            <a:ext cx="3168720" cy="4680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0" y="189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袜子：</a:t>
            </a:r>
            <a:r>
              <a:rPr b="1" lang="zh-CN" sz="3200" spc="-1" strike="noStrike">
                <a:solidFill>
                  <a:srgbClr val="000000"/>
                </a:solidFill>
                <a:latin typeface="隶书"/>
                <a:ea typeface="隶书"/>
              </a:rPr>
              <a:t>在礼仪场合，决不能赤足穿鞋。穿裙装要配丝袜，接近肤色的肉色最适中。黑色袜子只能配黑色的裙子。不能穿带图案或网眼的袜子。也不能用白色袜子配职业装。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由于丝袜很容易跳丝，所以应随身携带一双备用袜。</a:t>
            </a:r>
            <a:endParaRPr b="0" lang="en-US" sz="3200" spc="-1" strike="noStrike">
              <a:solidFill>
                <a:srgbClr val="000000"/>
              </a:solidFill>
              <a:latin typeface="Arial"/>
            </a:endParaRPr>
          </a:p>
        </p:txBody>
      </p:sp>
      <p:pic>
        <p:nvPicPr>
          <p:cNvPr id="140" name="图片 37891" descr="u=1702313598,3801588176&amp;gp=18">
            <a:hlinkClick r:id="rId1"/>
          </p:cNvPr>
          <p:cNvPicPr/>
          <p:nvPr/>
        </p:nvPicPr>
        <p:blipFill>
          <a:blip r:embed="rId2"/>
          <a:stretch/>
        </p:blipFill>
        <p:spPr>
          <a:xfrm>
            <a:off x="324000" y="3933720"/>
            <a:ext cx="2376360" cy="2664000"/>
          </a:xfrm>
          <a:prstGeom prst="rect">
            <a:avLst/>
          </a:prstGeom>
          <a:ln w="0">
            <a:noFill/>
          </a:ln>
        </p:spPr>
      </p:pic>
      <p:pic>
        <p:nvPicPr>
          <p:cNvPr id="141" name="图片 37892" descr="u=1194212679,759961350&amp;gp=34">
            <a:hlinkClick r:id="rId3"/>
          </p:cNvPr>
          <p:cNvPicPr/>
          <p:nvPr/>
        </p:nvPicPr>
        <p:blipFill>
          <a:blip r:embed="rId4"/>
          <a:stretch/>
        </p:blipFill>
        <p:spPr>
          <a:xfrm>
            <a:off x="2590920" y="3733920"/>
            <a:ext cx="2663640" cy="286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3" name=""/>
          <p:cNvSpPr txBox="1"/>
          <p:nvPr/>
        </p:nvSpPr>
        <p:spPr>
          <a:xfrm>
            <a:off x="468360" y="476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皮鞋：</a:t>
            </a:r>
            <a:r>
              <a:rPr b="1" lang="zh-CN" sz="3200" spc="-1" strike="noStrike">
                <a:solidFill>
                  <a:srgbClr val="000000"/>
                </a:solidFill>
                <a:latin typeface="隶书"/>
                <a:ea typeface="隶书"/>
              </a:rPr>
              <a:t>作为与职业装配套的皮鞋，鞋跟高度最好不超过</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厘米。鞋的颜色要深于套服，黑色、深棕色、深灰色的皮鞋比较容易与衣服搭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漆皮鞋、前露脚趾后露脚后跟的凉鞋、以及式样过分时髦的鞋，都不适合工作场合。</a:t>
            </a:r>
            <a:endParaRPr b="0" lang="en-US" sz="3200" spc="-1" strike="noStrike">
              <a:solidFill>
                <a:srgbClr val="000000"/>
              </a:solidFill>
              <a:latin typeface="Arial"/>
            </a:endParaRPr>
          </a:p>
        </p:txBody>
      </p:sp>
      <p:pic>
        <p:nvPicPr>
          <p:cNvPr id="144" name="图片 38915" descr="u=1303323796,783776496&amp;gp=32">
            <a:hlinkClick r:id="rId1"/>
          </p:cNvPr>
          <p:cNvPicPr/>
          <p:nvPr/>
        </p:nvPicPr>
        <p:blipFill>
          <a:blip r:embed="rId2"/>
          <a:stretch/>
        </p:blipFill>
        <p:spPr>
          <a:xfrm>
            <a:off x="250920" y="4076640"/>
            <a:ext cx="2881080" cy="2781360"/>
          </a:xfrm>
          <a:prstGeom prst="rect">
            <a:avLst/>
          </a:prstGeom>
          <a:ln w="0">
            <a:noFill/>
          </a:ln>
        </p:spPr>
      </p:pic>
      <p:pic>
        <p:nvPicPr>
          <p:cNvPr id="145" name="图片 38918" descr="u=2266710245,3567834200&amp;fm=3&amp;gp=0">
            <a:hlinkClick r:id="rId3"/>
          </p:cNvPr>
          <p:cNvPicPr/>
          <p:nvPr/>
        </p:nvPicPr>
        <p:blipFill>
          <a:blip r:embed="rId4"/>
          <a:stretch/>
        </p:blipFill>
        <p:spPr>
          <a:xfrm>
            <a:off x="4800600" y="3809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下午举行的庆典活动，女性的礼服可以是颜色漂亮的套服或各色裙装，但是如果穿长及脚面的旗袍或裙子，即属于过分，因为那是晚装。男性应该穿深色西服、深色皮鞋，系领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配饰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佩戴首饰与着装一样，要遵守</a:t>
            </a:r>
            <a:r>
              <a:rPr b="0" lang="en-US" sz="3200" spc="-1" strike="noStrike">
                <a:solidFill>
                  <a:srgbClr val="000000"/>
                </a:solidFill>
                <a:latin typeface="隶书"/>
                <a:ea typeface="隶书"/>
              </a:rPr>
              <a:t>TP0</a:t>
            </a:r>
            <a:r>
              <a:rPr b="0" lang="zh-CN" sz="3200" spc="-1" strike="noStrike">
                <a:solidFill>
                  <a:srgbClr val="000000"/>
                </a:solidFill>
                <a:latin typeface="隶书"/>
                <a:ea typeface="隶书"/>
              </a:rPr>
              <a:t>原则，以场合、以服装定首饰。有时候，为了突出一件华美的首饰，还会因首饰来选服装。</a:t>
            </a:r>
            <a:endParaRPr b="0" lang="en-US" sz="3200" spc="-1" strike="noStrike">
              <a:solidFill>
                <a:srgbClr val="000000"/>
              </a:solidFill>
              <a:latin typeface="Arial"/>
            </a:endParaRPr>
          </a:p>
        </p:txBody>
      </p:sp>
      <p:pic>
        <p:nvPicPr>
          <p:cNvPr id="150" name="图片 40964" descr="u=1314465435,1000171088&amp;fm=0&amp;gp=0">
            <a:hlinkClick r:id="rId1"/>
          </p:cNvPr>
          <p:cNvPicPr/>
          <p:nvPr/>
        </p:nvPicPr>
        <p:blipFill>
          <a:blip r:embed="rId2"/>
          <a:stretch/>
        </p:blipFill>
        <p:spPr>
          <a:xfrm>
            <a:off x="685800" y="4038480"/>
            <a:ext cx="1981080" cy="2514600"/>
          </a:xfrm>
          <a:prstGeom prst="rect">
            <a:avLst/>
          </a:prstGeom>
          <a:ln w="0">
            <a:noFill/>
          </a:ln>
        </p:spPr>
      </p:pic>
      <p:pic>
        <p:nvPicPr>
          <p:cNvPr id="151" name="图片 40966" descr="u=2768821309,2585854509&amp;fm=0&amp;gp=0">
            <a:hlinkClick r:id="rId3"/>
          </p:cNvPr>
          <p:cNvPicPr/>
          <p:nvPr/>
        </p:nvPicPr>
        <p:blipFill>
          <a:blip r:embed="rId4"/>
          <a:stretch/>
        </p:blipFill>
        <p:spPr>
          <a:xfrm>
            <a:off x="2971800" y="4495680"/>
            <a:ext cx="2362320" cy="2362320"/>
          </a:xfrm>
          <a:prstGeom prst="rect">
            <a:avLst/>
          </a:prstGeom>
          <a:ln w="0">
            <a:noFill/>
          </a:ln>
        </p:spPr>
      </p:pic>
      <p:pic>
        <p:nvPicPr>
          <p:cNvPr id="152" name="图片 40968" descr="u=3166033505,232565113&amp;fm=0&amp;gp=0">
            <a:hlinkClick r:id="rId5"/>
          </p:cNvPr>
          <p:cNvPicPr/>
          <p:nvPr/>
        </p:nvPicPr>
        <p:blipFill>
          <a:blip r:embed="rId6"/>
          <a:stretch/>
        </p:blipFill>
        <p:spPr>
          <a:xfrm>
            <a:off x="6400800" y="4038480"/>
            <a:ext cx="2209680" cy="198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选择首饰，因人而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首饰的大小也因人而异。比如项链，个子高、脖子瘦长的，不要戴细长项链，那样会显得脖子更长；脖子短粗的人，项链适当长一些，可以使脖子看上去变长一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般的规矩是把戒指戴在左手上。已婚和订婚戒指戴在无名指上，恋爱中的人戴在中指上，没有恋人的戴在食指上，独身主义者戴在小拇指上，大拇指一般不戴戒指。妇女离婚以后，如果为了孩子而继续佩戴，可以换到右手戴以示不再有婚姻关系。</a:t>
            </a:r>
            <a:endParaRPr b="0" lang="en-US" sz="2800" spc="-1" strike="noStrike">
              <a:solidFill>
                <a:srgbClr val="000000"/>
              </a:solidFill>
              <a:latin typeface="Arial"/>
            </a:endParaRPr>
          </a:p>
        </p:txBody>
      </p:sp>
      <p:pic>
        <p:nvPicPr>
          <p:cNvPr id="155" name="图片 41988" descr="u=591609822,3074370092&amp;fm=0&amp;gp=0">
            <a:hlinkClick r:id="rId1"/>
          </p:cNvPr>
          <p:cNvPicPr/>
          <p:nvPr/>
        </p:nvPicPr>
        <p:blipFill>
          <a:blip r:embed="rId2"/>
          <a:stretch/>
        </p:blipFill>
        <p:spPr>
          <a:xfrm>
            <a:off x="5867280" y="2286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佩戴首饰，因场合而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白天举行的一些典礼、礼仪活动中，可以适当戴一两件稍大的首饰，替换下平时常戴的；参加晚上的社交活动，要配合晚礼服戴大形首饰。如果穿旗袍，珍珠、翡翠的项链、耳坠是很相配的。</a:t>
            </a:r>
            <a:endParaRPr b="0" lang="en-US" sz="3200" spc="-1" strike="noStrike">
              <a:solidFill>
                <a:srgbClr val="000000"/>
              </a:solidFill>
              <a:latin typeface="Arial"/>
            </a:endParaRPr>
          </a:p>
        </p:txBody>
      </p:sp>
      <p:pic>
        <p:nvPicPr>
          <p:cNvPr id="158" name="图片 43012" descr="u=1170215953,4186992415&amp;fm=0&amp;gp=0">
            <a:hlinkClick r:id="rId1"/>
          </p:cNvPr>
          <p:cNvPicPr/>
          <p:nvPr/>
        </p:nvPicPr>
        <p:blipFill>
          <a:blip r:embed="rId2"/>
          <a:stretch/>
        </p:blipFill>
        <p:spPr>
          <a:xfrm>
            <a:off x="228600" y="4876920"/>
            <a:ext cx="1600200" cy="175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言谈举止礼仪</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礼貌的言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日常生活中，人们运用语言进行交谈，表达思想，沟通信息，交流感情，从而达到建立、调整和发展人际关系的目的。通过礼貌的谈吐及举止，向日常交往对象或商业伙伴表达我们的诚意，交到更多的朋友，寻求更多的合作机会。</a:t>
            </a:r>
            <a:endParaRPr b="0" lang="en-US" sz="3200" spc="-1" strike="noStrike">
              <a:solidFill>
                <a:srgbClr val="000000"/>
              </a:solidFill>
              <a:latin typeface="Arial"/>
            </a:endParaRPr>
          </a:p>
        </p:txBody>
      </p:sp>
      <p:pic>
        <p:nvPicPr>
          <p:cNvPr id="161" name="图片 44036" descr="u=2379402413,1623116623&amp;fm=3&amp;gp=0">
            <a:hlinkClick r:id="rId1"/>
          </p:cNvPr>
          <p:cNvPicPr/>
          <p:nvPr/>
        </p:nvPicPr>
        <p:blipFill>
          <a:blip r:embed="rId2"/>
          <a:stretch/>
        </p:blipFill>
        <p:spPr>
          <a:xfrm>
            <a:off x="6324480" y="4648320"/>
            <a:ext cx="198144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礼仪概述</a:t>
            </a:r>
            <a:br>
              <a:rPr sz="4000"/>
            </a:b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礼仪的基本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礼仪是社会组织的公共关系工作人员在公共关系活动中，为了塑造个人和组织的良好形象而应当遵循尊重他人、讲究礼节、注意仪表、仪式等的规范和程序。</a:t>
            </a:r>
            <a:br>
              <a:rPr sz="3200"/>
            </a:br>
            <a:r>
              <a:rPr b="0" lang="zh-CN" sz="3200" spc="-1" strike="noStrike">
                <a:solidFill>
                  <a:srgbClr val="000000"/>
                </a:solidFill>
                <a:latin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谈话的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谈话的声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谈话的目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人谈话，眼睛要注视对方，与之交流。目光注视的范围因场合的不同而有所变化，可分为：公务注视、社交注视和亲密注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64" name="图片 45060" descr="u=1270111975,546806919&amp;fm=0&amp;gp=0">
            <a:hlinkClick r:id="rId1"/>
          </p:cNvPr>
          <p:cNvPicPr/>
          <p:nvPr/>
        </p:nvPicPr>
        <p:blipFill>
          <a:blip r:embed="rId2"/>
          <a:stretch/>
        </p:blipFill>
        <p:spPr>
          <a:xfrm>
            <a:off x="4114800" y="60948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恰当的称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称谓，在此仅指的是人们在日常交往中彼此之间的称呼。选择什么样的称呼，一要看对方的身份，二要看双方的关系。与人交往，不用称谓是极不礼貌的，用的不对，也同样让人不愉快。</a:t>
            </a:r>
            <a:endParaRPr b="0" lang="en-US" sz="3200" spc="-1" strike="noStrike">
              <a:solidFill>
                <a:srgbClr val="000000"/>
              </a:solidFill>
              <a:latin typeface="Arial"/>
            </a:endParaRPr>
          </a:p>
        </p:txBody>
      </p:sp>
      <p:pic>
        <p:nvPicPr>
          <p:cNvPr id="167" name="图片 46084" descr="u=880074947,827879359&amp;fm=0&amp;gp=0">
            <a:hlinkClick r:id="rId1"/>
          </p:cNvPr>
          <p:cNvPicPr/>
          <p:nvPr/>
        </p:nvPicPr>
        <p:blipFill>
          <a:blip r:embed="rId2"/>
          <a:stretch/>
        </p:blipFill>
        <p:spPr>
          <a:xfrm>
            <a:off x="7238880" y="5410080"/>
            <a:ext cx="1905120" cy="1447920"/>
          </a:xfrm>
          <a:prstGeom prst="rect">
            <a:avLst/>
          </a:prstGeom>
          <a:ln w="0">
            <a:noFill/>
          </a:ln>
        </p:spPr>
      </p:pic>
      <p:pic>
        <p:nvPicPr>
          <p:cNvPr id="168" name="图片 46086" descr="u=880074947,827879359&amp;fm=0&amp;gp=0">
            <a:hlinkClick r:id="rId3"/>
          </p:cNvPr>
          <p:cNvPicPr/>
          <p:nvPr/>
        </p:nvPicPr>
        <p:blipFill>
          <a:blip r:embed="rId4"/>
          <a:stretch/>
        </p:blipFill>
        <p:spPr>
          <a:xfrm>
            <a:off x="0" y="0"/>
            <a:ext cx="190512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0" name=""/>
          <p:cNvSpPr txBox="1"/>
          <p:nvPr/>
        </p:nvSpPr>
        <p:spPr>
          <a:xfrm>
            <a:off x="457200" y="1066320"/>
            <a:ext cx="86868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通用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同志、老师、师傅、先生、小姐、女士等等，主要在公共场合使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同志”</a:t>
            </a:r>
            <a:r>
              <a:rPr b="0" lang="zh-CN" sz="2400" spc="-1" strike="noStrike">
                <a:solidFill>
                  <a:srgbClr val="000000"/>
                </a:solidFill>
                <a:latin typeface="隶书"/>
                <a:ea typeface="隶书"/>
              </a:rPr>
              <a:t>的使用范围曾经很广，但现在它的使用范围已经缩小，尤其在公关场合，几乎不用。如果到政府部门办事，使用“同志”还是合适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老师”</a:t>
            </a:r>
            <a:r>
              <a:rPr b="0" lang="zh-CN" sz="2400" spc="-1" strike="noStrike">
                <a:solidFill>
                  <a:srgbClr val="000000"/>
                </a:solidFill>
                <a:latin typeface="隶书"/>
                <a:ea typeface="隶书"/>
              </a:rPr>
              <a:t>，在此不是指职业称呼，是指在公共场合对人的一种尊称。在演艺界尤其流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师傅”</a:t>
            </a:r>
            <a:r>
              <a:rPr b="0" lang="zh-CN" sz="2400" spc="-1" strike="noStrike">
                <a:solidFill>
                  <a:srgbClr val="000000"/>
                </a:solidFill>
                <a:latin typeface="隶书"/>
                <a:ea typeface="隶书"/>
              </a:rPr>
              <a:t>，这一称呼曾在“文化大革命”中十分流行，现在除了在工厂使用之外，在公共场合使用，适合称呼体力劳动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先生”</a:t>
            </a:r>
            <a:r>
              <a:rPr b="0" lang="zh-CN" sz="2400" spc="-1" strike="noStrike">
                <a:solidFill>
                  <a:srgbClr val="000000"/>
                </a:solidFill>
                <a:latin typeface="隶书"/>
                <a:ea typeface="隶书"/>
              </a:rPr>
              <a:t>，现在公共场合比较通行的对男性的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小姐”</a:t>
            </a:r>
            <a:r>
              <a:rPr b="0" lang="zh-CN" sz="2400" spc="-1" strike="noStrike">
                <a:solidFill>
                  <a:srgbClr val="000000"/>
                </a:solidFill>
                <a:latin typeface="隶书"/>
                <a:ea typeface="隶书"/>
              </a:rPr>
              <a:t>，在公共场合对年轻女性的称呼。但是现在某些地区，服务业的女性忌讳这种称呼，所以不妨对她们用“服务员小姐”、“售货员小姐”这样的职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通用称呼的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女士”</a:t>
            </a:r>
            <a:r>
              <a:rPr b="0" lang="zh-CN" sz="2400" spc="-1" strike="noStrike">
                <a:solidFill>
                  <a:srgbClr val="000000"/>
                </a:solidFill>
                <a:latin typeface="隶书"/>
                <a:ea typeface="隶书"/>
              </a:rPr>
              <a:t>，对各种年龄的已婚、未婚女性都适用，显得更文雅、正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2" name=""/>
          <p:cNvSpPr txBox="1"/>
          <p:nvPr/>
        </p:nvSpPr>
        <p:spPr>
          <a:xfrm>
            <a:off x="-360" y="1599840"/>
            <a:ext cx="88390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职业性称呼</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职业性称呼常用于公务场合，可分为三种。第一，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务。职务都可以用来做称呼，例如，张经理、王厂长、程副院长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称。并不是所有职称都可以用来作称呼，一般只适用于高校、工厂等的职称， 如“柳教授”、“武工程师”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业或学衔。有些职业是可以称呼的，例如律师、医生、老师、法官，可以在前面加姓，也可以在后面加通用称呼，如王律师或律师先生、赵法官或法官先生。只有博士学衔才作为称呼，如“孙博士”，在国外是很重视这一称呼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姓名式称呼</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一，称呼全名。这种称呼方法常用于严肃场合，上级称下级、年长者称年轻者、老师称学生，或关系较近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二，只称名，省略姓。这样称呼适合于关系较近者，或想把关系搞好者，应该属于亲朋好友。第三，老、小</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姓。这在公务场合常用。姓前被冠以“老”者，或者岁数较大，或者虽然年龄不算老，但显得比较成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交谈中的技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中的交谈，与一般社交场合的交谈不一样。社交场合的交谈，随意性较强，应酬内容多，而公共关系活动中的交谈，目的性强，讲究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目的明确</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谈话前必须明确“为什么”、“想说什么”。要把思路整理清楚，这样才能提高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表述准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使用礼貌用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习惯用礼貌用语：请、谢谢、劳驾、能不能帮我</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对不起、没关系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要小看这些礼貌用语，把尊重装在心里别人怎么能知道</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必须通过语言和举止把它表达出来才能达到目的。</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遣词造句要谦逊、委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交谈中应注意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不要随意打断对方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要照顾到在场的所有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地加入别人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注意谈话中的忌讳</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对方的婚姻状况、工资收入和支出、个人经历、年龄、家庭住址和电话、政治及宗教信仰、不要随意谈论不在场的人，包括双方的上司、共同的熟人。不要传播流言蜚语及公司里的小道消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聆听的艺术</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认真地听别人谈话，有莫大的好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可以从别人那里学到许多东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有利于对话，如果别人说的你没有在意，接下来的谈话怎么能有针对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有利于搞好人际关系，给人留下良好的印象，对方从你认真聆听的态度上感到你的诚恳、对他的重视，以后还会乐于同你打交道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聆听时应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鼓励的话语和眼神</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分析对方的话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注意身体语言</a:t>
            </a:r>
            <a:endParaRPr b="0" lang="en-US" sz="3200" spc="-1" strike="noStrike">
              <a:solidFill>
                <a:srgbClr val="000000"/>
              </a:solidFill>
              <a:latin typeface="Arial"/>
            </a:endParaRPr>
          </a:p>
        </p:txBody>
      </p:sp>
      <p:pic>
        <p:nvPicPr>
          <p:cNvPr id="185" name="图片 54276" descr="u=121399839,4164116656&amp;fm=0&amp;gp=0">
            <a:hlinkClick r:id="rId1"/>
          </p:cNvPr>
          <p:cNvPicPr/>
          <p:nvPr/>
        </p:nvPicPr>
        <p:blipFill>
          <a:blip r:embed="rId2"/>
          <a:stretch/>
        </p:blipFill>
        <p:spPr>
          <a:xfrm>
            <a:off x="4800600" y="4267080"/>
            <a:ext cx="37339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礼仪是人类文明的产物，是人们进行社会交往的行为规范与准则，具体表现为礼貌、礼节、仪表与仪式四个方面。</a:t>
            </a:r>
            <a:br>
              <a:rPr sz="2800"/>
            </a:br>
            <a:r>
              <a:rPr b="0" lang="zh-CN" sz="2800" spc="-1" strike="noStrike">
                <a:solidFill>
                  <a:srgbClr val="ff0000"/>
                </a:solidFill>
                <a:latin typeface="隶书"/>
                <a:ea typeface="隶书"/>
              </a:rPr>
              <a:t>礼貌：</a:t>
            </a:r>
            <a:r>
              <a:rPr b="0" lang="zh-CN" sz="2800" spc="-1" strike="noStrike">
                <a:solidFill>
                  <a:srgbClr val="000000"/>
                </a:solidFill>
                <a:latin typeface="隶书"/>
                <a:ea typeface="隶书"/>
              </a:rPr>
              <a:t>是指人们在交往过程中表示敬重、友好的行为规范，如尊老爱幼、热情待客等。</a:t>
            </a:r>
            <a:br>
              <a:rPr sz="2800"/>
            </a:br>
            <a:r>
              <a:rPr b="0" lang="zh-CN" sz="2800" spc="-1" strike="noStrike">
                <a:solidFill>
                  <a:srgbClr val="ff0000"/>
                </a:solidFill>
                <a:latin typeface="隶书"/>
                <a:ea typeface="隶书"/>
              </a:rPr>
              <a:t>礼节：</a:t>
            </a:r>
            <a:r>
              <a:rPr b="0" lang="zh-CN" sz="2800" spc="-1" strike="noStrike">
                <a:solidFill>
                  <a:srgbClr val="000000"/>
                </a:solidFill>
                <a:latin typeface="隶书"/>
                <a:ea typeface="隶书"/>
              </a:rPr>
              <a:t>是指人们在交际活动中待人接物的形式，如拜会、回访、挥手致意等。</a:t>
            </a:r>
            <a:br>
              <a:rPr sz="2800"/>
            </a:br>
            <a:r>
              <a:rPr b="0" lang="zh-CN" sz="2800" spc="-1" strike="noStrike">
                <a:solidFill>
                  <a:srgbClr val="ff0000"/>
                </a:solidFill>
                <a:latin typeface="隶书"/>
                <a:ea typeface="隶书"/>
              </a:rPr>
              <a:t>仪表：</a:t>
            </a:r>
            <a:r>
              <a:rPr b="0" lang="zh-CN" sz="2800" spc="-1" strike="noStrike">
                <a:solidFill>
                  <a:srgbClr val="000000"/>
                </a:solidFill>
                <a:latin typeface="隶书"/>
                <a:ea typeface="隶书"/>
              </a:rPr>
              <a:t>是指人的外表，如容貌、服饰、表情、姿态等。</a:t>
            </a:r>
            <a:br>
              <a:rPr sz="2800"/>
            </a:br>
            <a:r>
              <a:rPr b="0" lang="zh-CN" sz="2800" spc="-1" strike="noStrike">
                <a:solidFill>
                  <a:srgbClr val="ff0000"/>
                </a:solidFill>
                <a:latin typeface="隶书"/>
                <a:ea typeface="隶书"/>
              </a:rPr>
              <a:t>仪式：</a:t>
            </a:r>
            <a:r>
              <a:rPr b="0" lang="zh-CN" sz="2800" spc="-1" strike="noStrike">
                <a:solidFill>
                  <a:srgbClr val="000000"/>
                </a:solidFill>
                <a:latin typeface="隶书"/>
                <a:ea typeface="隶书"/>
              </a:rPr>
              <a:t>是指在一定场合举行的具有专门程序的活动，如开业典礼、迎送仪式等。</a:t>
            </a:r>
            <a:br>
              <a:rPr sz="2800"/>
            </a:br>
            <a:br>
              <a:rPr sz="2800"/>
            </a:br>
            <a:r>
              <a:rPr b="0" lang="zh-CN" sz="2800" spc="-1" strike="noStrike">
                <a:solidFill>
                  <a:srgbClr val="000000"/>
                </a:solidFill>
                <a:latin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优雅的举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举止即指人的姿态和风度。优雅的举止应当是大方的、从容的、自信的、幅度小的。举止优雅首先体现自尊。其次，举止优雅的人能够约束自己，不用粗俗的动作冒犯他人、向他人示威，表现了对于他人的尊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挺拔的站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站立时要有精神，要挺拔。正确的姿态是：头正、肩平、两肩放松，双臂自然下垂，双手放于大腿两或相握于身前，挺胸。男性双腿可分开，双脚间的距离最多与肩齐；女性双腿应并拢，脚尖微微外撇，也可以双脚前后相错半脚站好。长时间站立时，可暗暗调整身体重心，使双脚轮流承受身体重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经常出现的错误站姿有：倚着墙或其他物体站立；驼背、挺腹、塌腰或一腿不停地抖动；双手叉在腰间或插在兜里等等，都会给人留下不好的印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正确站姿的训练方法：背靠墙站，要求头部、双肩、臀部、小腿和脚后跟都紧贴墙壁，坚持</a:t>
            </a:r>
            <a:r>
              <a:rPr b="0" lang="en-US" sz="2400" spc="-1" strike="noStrike">
                <a:solidFill>
                  <a:srgbClr val="000000"/>
                </a:solidFill>
                <a:latin typeface="隶书"/>
                <a:ea typeface="隶书"/>
              </a:rPr>
              <a:t>15</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分钟。经常这样训练，相信你会挺拔而又轻松地站立</a:t>
            </a:r>
            <a:endParaRPr b="0" lang="en-US" sz="2400" spc="-1" strike="noStrike">
              <a:solidFill>
                <a:srgbClr val="000000"/>
              </a:solidFill>
              <a:latin typeface="Arial"/>
            </a:endParaRPr>
          </a:p>
        </p:txBody>
      </p:sp>
      <p:pic>
        <p:nvPicPr>
          <p:cNvPr id="190" name="图片 56324" descr="u=3792996358,681517959&amp;fm=0&amp;gp=0">
            <a:hlinkClick r:id="rId1"/>
          </p:cNvPr>
          <p:cNvPicPr/>
          <p:nvPr/>
        </p:nvPicPr>
        <p:blipFill>
          <a:blip r:embed="rId2"/>
          <a:stretch/>
        </p:blipFill>
        <p:spPr>
          <a:xfrm>
            <a:off x="0" y="0"/>
            <a:ext cx="1676520" cy="1752480"/>
          </a:xfrm>
          <a:prstGeom prst="rect">
            <a:avLst/>
          </a:prstGeom>
          <a:ln w="0">
            <a:noFill/>
          </a:ln>
        </p:spPr>
      </p:pic>
      <p:pic>
        <p:nvPicPr>
          <p:cNvPr id="191" name="图片 56326" descr="u=107918606,3189633608&amp;fm=0&amp;gp=0">
            <a:hlinkClick r:id="rId3"/>
          </p:cNvPr>
          <p:cNvPicPr/>
          <p:nvPr/>
        </p:nvPicPr>
        <p:blipFill>
          <a:blip r:embed="rId4"/>
          <a:stretch/>
        </p:blipFill>
        <p:spPr>
          <a:xfrm>
            <a:off x="4191120" y="0"/>
            <a:ext cx="3352680" cy="1905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端正的坐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坐，相对于站来讲是一种放松，但不是松懈。在公共场合，在办公室里，坐相一定要稳重、端正。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端正的坐姿是这样的：人坐要轻要稳。女性穿裙装时，坐下前用手理一下裙摆。上身同站立时相近，不要驼背，腰要立起来。双肩平正放松，两臂自然弯曲，双手相叠放于腿上。也可以一手放在椅子或沙发的扶手上，掌心向下。女性双膝并拢，双腿正放或收于一侧，双脚并拢或交叠。男性的双膝可以分开一拳左右距离。坐椅子一般坐椅面的三分之二，背部轻靠椅背。如果是与长者或上司谈话，为了表示尊重，上身必略倾向于对方，而不靠椅子背。</a:t>
            </a:r>
            <a:endParaRPr b="0" lang="en-US" sz="2400" spc="-1" strike="noStrike">
              <a:solidFill>
                <a:srgbClr val="000000"/>
              </a:solidFill>
              <a:latin typeface="Arial"/>
            </a:endParaRPr>
          </a:p>
        </p:txBody>
      </p:sp>
      <p:pic>
        <p:nvPicPr>
          <p:cNvPr id="194" name="图片 58372" descr="u=3213576123,281754640&amp;fm=0&amp;gp=0">
            <a:hlinkClick r:id="rId1"/>
          </p:cNvPr>
          <p:cNvPicPr/>
          <p:nvPr/>
        </p:nvPicPr>
        <p:blipFill>
          <a:blip r:embed="rId2"/>
          <a:stretch/>
        </p:blipFill>
        <p:spPr>
          <a:xfrm>
            <a:off x="0" y="0"/>
            <a:ext cx="1981080" cy="1627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图片 130052" descr="1241057853"/>
          <p:cNvPicPr/>
          <p:nvPr/>
        </p:nvPicPr>
        <p:blipFill>
          <a:blip r:embed="rId1"/>
          <a:stretch/>
        </p:blipFill>
        <p:spPr>
          <a:xfrm>
            <a:off x="152280" y="914400"/>
            <a:ext cx="2667240" cy="4572000"/>
          </a:xfrm>
          <a:prstGeom prst="rect">
            <a:avLst/>
          </a:prstGeom>
          <a:ln w="0">
            <a:noFill/>
          </a:ln>
        </p:spPr>
      </p:pic>
      <p:pic>
        <p:nvPicPr>
          <p:cNvPr id="198" name="图片 130054" descr="zhongnandaxue2"/>
          <p:cNvPicPr/>
          <p:nvPr/>
        </p:nvPicPr>
        <p:blipFill>
          <a:blip r:embed="rId2"/>
          <a:stretch/>
        </p:blipFill>
        <p:spPr>
          <a:xfrm>
            <a:off x="3886200" y="1523880"/>
            <a:ext cx="4390920" cy="329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轻快的行姿</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凡是健康的成年人，步伐都应该是轻松敏捷的，体现出朝气蓬勃、积极向上的精神状态。</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正确的行姿是：头正，双眼平视前方，下颌微收。挺胸收腹，双肩平稳，双臂自然摆动，身体的重心随着前行而略向前倾。注意步位，即双脚的内侧基本踩在一条直线上；注意步幅，男性、身材高的人或穿运动鞋、便鞋的人，步幅要大一些，穿高跟鞋及裙装的女性，步幅要相应小一些才好。走路时要全脚掌着地，膝部和脚腕要有弹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图片 131080" descr="4274197521352798493"/>
          <p:cNvPicPr/>
          <p:nvPr/>
        </p:nvPicPr>
        <p:blipFill>
          <a:blip r:embed="rId1"/>
          <a:stretch/>
        </p:blipFill>
        <p:spPr>
          <a:xfrm>
            <a:off x="304920" y="838080"/>
            <a:ext cx="3124080" cy="4724640"/>
          </a:xfrm>
          <a:prstGeom prst="rect">
            <a:avLst/>
          </a:prstGeom>
          <a:ln w="0">
            <a:noFill/>
          </a:ln>
        </p:spPr>
      </p:pic>
      <p:pic>
        <p:nvPicPr>
          <p:cNvPr id="204" name="图片 131082" descr="u=3056409313,2042837959&amp;fm=0&amp;gp=0">
            <a:hlinkClick r:id="rId2"/>
          </p:cNvPr>
          <p:cNvPicPr/>
          <p:nvPr/>
        </p:nvPicPr>
        <p:blipFill>
          <a:blip r:embed="rId3"/>
          <a:stretch/>
        </p:blipFill>
        <p:spPr>
          <a:xfrm>
            <a:off x="3581280" y="3962520"/>
            <a:ext cx="4800600" cy="2895480"/>
          </a:xfrm>
          <a:prstGeom prst="rect">
            <a:avLst/>
          </a:prstGeom>
          <a:ln w="0">
            <a:noFill/>
          </a:ln>
        </p:spPr>
      </p:pic>
      <p:pic>
        <p:nvPicPr>
          <p:cNvPr id="205" name="图片 131084" descr="u=989178115,1200715446&amp;fm=6&amp;gp=0">
            <a:hlinkClick r:id="rId4"/>
          </p:cNvPr>
          <p:cNvPicPr/>
          <p:nvPr/>
        </p:nvPicPr>
        <p:blipFill>
          <a:blip r:embed="rId5"/>
          <a:stretch/>
        </p:blipFill>
        <p:spPr>
          <a:xfrm>
            <a:off x="4648320" y="380880"/>
            <a:ext cx="2666880" cy="312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表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人类的表情是非常丰富的，不同的心境就会有不同的表情。在公共关系活动当中，在人际交往时，人们最需要的是“微笑”这种表情。微笑的人让人觉得和蔼可亲，值得信赖，受到欢迎，紧张的心理因之放松。所以，“微笑”就成了待人接物的最基本的表情。</a:t>
            </a:r>
            <a:endParaRPr b="0" lang="en-US" sz="3200" spc="-1" strike="noStrike">
              <a:solidFill>
                <a:srgbClr val="000000"/>
              </a:solidFill>
              <a:latin typeface="Arial"/>
            </a:endParaRPr>
          </a:p>
        </p:txBody>
      </p:sp>
      <p:pic>
        <p:nvPicPr>
          <p:cNvPr id="208" name="图片 60420" descr="u=290481948,280052825&amp;fm=0&amp;gp=0">
            <a:hlinkClick r:id="rId1"/>
          </p:cNvPr>
          <p:cNvPicPr/>
          <p:nvPr/>
        </p:nvPicPr>
        <p:blipFill>
          <a:blip r:embed="rId2"/>
          <a:stretch/>
        </p:blipFill>
        <p:spPr>
          <a:xfrm>
            <a:off x="7848720" y="5334120"/>
            <a:ext cx="1066680" cy="1333440"/>
          </a:xfrm>
          <a:prstGeom prst="rect">
            <a:avLst/>
          </a:prstGeom>
          <a:ln w="0">
            <a:noFill/>
          </a:ln>
        </p:spPr>
      </p:pic>
      <p:pic>
        <p:nvPicPr>
          <p:cNvPr id="209" name="图片 60422" descr="u=1586082761,1318010683&amp;fm=0&amp;gp=0">
            <a:hlinkClick r:id="rId3"/>
          </p:cNvPr>
          <p:cNvPicPr/>
          <p:nvPr/>
        </p:nvPicPr>
        <p:blipFill>
          <a:blip r:embed="rId4"/>
          <a:stretch/>
        </p:blipFill>
        <p:spPr>
          <a:xfrm>
            <a:off x="3276720" y="0"/>
            <a:ext cx="167616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手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势在人际交往中占有重要的位置。据心理学家的研究，在面对面的交往时，口语在沟通中所起的作用只占百分之三十几，而通过举止传达出的信息要占百分之六十多，可见举止的重要。各种各样的手势表达的意思丰富多彩，是举止中最富有表现力的。我们常常借助手势表达不同的意思。</a:t>
            </a:r>
            <a:endParaRPr b="0" lang="en-US" sz="3200" spc="-1" strike="noStrike">
              <a:solidFill>
                <a:srgbClr val="000000"/>
              </a:solidFill>
              <a:latin typeface="Arial"/>
            </a:endParaRPr>
          </a:p>
        </p:txBody>
      </p:sp>
      <p:pic>
        <p:nvPicPr>
          <p:cNvPr id="212" name="图片 61444" descr="u=2662947269,1418132466&amp;fm=0&amp;gp=0">
            <a:hlinkClick r:id="rId1"/>
          </p:cNvPr>
          <p:cNvPicPr/>
          <p:nvPr/>
        </p:nvPicPr>
        <p:blipFill>
          <a:blip r:embed="rId2"/>
          <a:stretch/>
        </p:blipFill>
        <p:spPr>
          <a:xfrm>
            <a:off x="0" y="5410080"/>
            <a:ext cx="2666880" cy="1447920"/>
          </a:xfrm>
          <a:prstGeom prst="rect">
            <a:avLst/>
          </a:prstGeom>
          <a:ln w="0">
            <a:noFill/>
          </a:ln>
        </p:spPr>
      </p:pic>
      <p:pic>
        <p:nvPicPr>
          <p:cNvPr id="213" name="图片 61448" descr="u=1133827785,2292400387&amp;fm=0&amp;gp=0">
            <a:hlinkClick r:id="rId3"/>
          </p:cNvPr>
          <p:cNvPicPr/>
          <p:nvPr/>
        </p:nvPicPr>
        <p:blipFill>
          <a:blip r:embed="rId4"/>
          <a:stretch/>
        </p:blipFill>
        <p:spPr>
          <a:xfrm>
            <a:off x="541008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指示的手势。给人指示方向、指点物体、介绍某人、请人做某事等等，都需要用手来指示。正确的指示手势应该是，四指并拢，拇指自然分开，手心向上，手臂适度伸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打招呼、致意、告别的手势。当双方距离很近的时候，手势要小，五指自然并拢，抬起小臂挥一挥即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在任何情况下，不要用手指指点别人，那是极不礼貌的，也不可以用大拇指指向自己或比比划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有些手势在使用时要注意，因各国习惯不同，同一手势表达的意思也不尽相同，与外国人交往时，手势不可乱用。例如：</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 </a:t>
            </a:r>
            <a:r>
              <a:rPr b="0" lang="zh-CN" sz="2400" spc="-1" strike="noStrike">
                <a:solidFill>
                  <a:srgbClr val="ff0000"/>
                </a:solidFill>
                <a:latin typeface="隶书"/>
                <a:ea typeface="隶书"/>
              </a:rPr>
              <a:t>竖起大拇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我国和一些国家这个手势表示称赞夸奖；在欧洲一些国家，伸出拇指上挑可视作招呼出租车；而澳大利亚人认为竖起大拇指，尤其是横着伸出，是一种侮辱。</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OK”</a:t>
            </a:r>
            <a:r>
              <a:rPr b="0" lang="zh-CN" sz="2400" spc="-1" strike="noStrike">
                <a:solidFill>
                  <a:srgbClr val="ff0000"/>
                </a:solidFill>
                <a:latin typeface="隶书"/>
                <a:ea typeface="隶书"/>
              </a:rPr>
              <a:t>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即用拇指和食指组成一个圆圈，其余三指竖起。这在美国人眼中是好、顺利、平安之意；在日本则代表钱，而在南美洲的一些国家，这是一种下流、侮辱性的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r>
              <a:rPr b="0" lang="en-US" sz="2400" spc="-1" strike="noStrike">
                <a:solidFill>
                  <a:srgbClr val="000000"/>
                </a:solidFill>
                <a:latin typeface="隶书"/>
                <a:ea typeface="隶书"/>
              </a:rPr>
              <a:t> </a:t>
            </a:r>
            <a:r>
              <a:rPr b="0" lang="zh-CN" sz="2400" spc="-1" strike="noStrike">
                <a:solidFill>
                  <a:srgbClr val="ff0000"/>
                </a:solidFill>
                <a:latin typeface="隶书"/>
                <a:ea typeface="隶书"/>
              </a:rPr>
              <a:t>伸出手，手掌向下挥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这在中国和日本，是招呼别人过来的意思，完全没有恶意；在美国，这是唤狗的手势，如果对人用了这个手势，就会引起误解，带来麻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公共关系礼仪的原则</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自觉自律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真诚尊重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灵活运用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适度、从俗”原则</a:t>
            </a:r>
            <a:endParaRPr b="0" lang="en-US" sz="3200" spc="-1" strike="noStrike">
              <a:solidFill>
                <a:srgbClr val="000000"/>
              </a:solidFill>
              <a:latin typeface="Arial"/>
            </a:endParaRPr>
          </a:p>
        </p:txBody>
      </p:sp>
      <p:pic>
        <p:nvPicPr>
          <p:cNvPr id="55" name="图片 9220" descr="u=3121351169,1718321255&amp;fm=3&amp;gp=0">
            <a:hlinkClick r:id="rId1"/>
          </p:cNvPr>
          <p:cNvPicPr/>
          <p:nvPr/>
        </p:nvPicPr>
        <p:blipFill>
          <a:blip r:embed="rId2"/>
          <a:stretch/>
        </p:blipFill>
        <p:spPr>
          <a:xfrm>
            <a:off x="6172200" y="220968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第三节公共关系人员的社交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人际关系通过人与人之间的交往和联系表现出来，这些交往和联系得以正常进行，就需要用一定的行为规范来调节和增进彼此间的关系。随着商品经济的大规模发展，社交礼仪更成为人们社会生话中不可缺少的内容。讲究礼仪，注重礼貌，遵守一定的礼仪规定，已成为文明社会生活的一项重要标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见面握手的礼仪</a:t>
            </a:r>
            <a:endParaRPr b="0" lang="en-US"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握手的方法。</a:t>
            </a:r>
            <a:r>
              <a:rPr b="0" lang="zh-CN" sz="2400" spc="-1" strike="noStrike">
                <a:solidFill>
                  <a:srgbClr val="000000"/>
                </a:solidFill>
                <a:latin typeface="隶书"/>
                <a:ea typeface="隶书"/>
              </a:rPr>
              <a:t>握手时，伸出手，双方的虎口</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大拇指与手掌的联结处</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应互相接触。不要仅握手指尖，对女性也一样。握手要果断有力，特别是女性．不要犹犹豫豫的。但是不能过于用力，晃动两三下即可松开。握手时要注视对方眼睛，表示你的诚恳和自信。没松手时，目光不宜转向别人。</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握手的注意事项。</a:t>
            </a:r>
            <a:r>
              <a:rPr b="0" lang="zh-CN" sz="2400" spc="-1" strike="noStrike">
                <a:solidFill>
                  <a:srgbClr val="000000"/>
                </a:solidFill>
                <a:latin typeface="隶书"/>
                <a:ea typeface="隶书"/>
              </a:rPr>
              <a:t>一般情况下，主人、女性、职位高者、年长者应该先伸出手，表示友好意愿，客人、男性、职位低者、年轻人则马上伸出手来呼应。在公共关系活动中，不讲究性别、年龄，更在意职务的高低，职务高者、主人先伸手。在年轻人之间的交际活动中，谁先伸手都没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特别情况的处理方法</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1</a:t>
            </a:r>
            <a:r>
              <a:rPr b="0" lang="zh-CN" sz="2000" spc="-1" strike="noStrike">
                <a:solidFill>
                  <a:srgbClr val="ff0000"/>
                </a:solidFill>
                <a:latin typeface="隶书"/>
                <a:ea typeface="隶书"/>
              </a:rPr>
              <a:t>）被拒绝</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有的时候，你很热情地伸出手去，而对方却没有呼应，让你很尴尬。此时，你只需把手收回来，接着谈话就是了，不必影响自己的情绪，这是对方的错，不是你的问题。</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2</a:t>
            </a:r>
            <a:r>
              <a:rPr b="0" lang="zh-CN" sz="2000" spc="-1" strike="noStrike">
                <a:solidFill>
                  <a:srgbClr val="ff0000"/>
                </a:solidFill>
                <a:latin typeface="隶书"/>
                <a:ea typeface="隶书"/>
              </a:rPr>
              <a:t>）死鱼式的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对方的手虽然伸了出来，但握上去是僵硬的、没有回应，像握着一条死鱼。这时你就更热情地握上一握，然后松开。</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3</a:t>
            </a:r>
            <a:r>
              <a:rPr b="0" lang="zh-CN" sz="2000" spc="-1" strike="noStrike">
                <a:solidFill>
                  <a:srgbClr val="ff0000"/>
                </a:solidFill>
                <a:latin typeface="隶书"/>
                <a:ea typeface="隶书"/>
              </a:rPr>
              <a:t>）拥抱式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指用自己的双手握住对方的手。这在表示感激、老友重逢等场合是很自然的情感流露。当老人或贵宾向你伸手时，可以双手握对方的手，同时致以问候。</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4</a:t>
            </a:r>
            <a:r>
              <a:rPr b="0" lang="zh-CN" sz="2000" spc="-1" strike="noStrike">
                <a:solidFill>
                  <a:srgbClr val="ff0000"/>
                </a:solidFill>
                <a:latin typeface="隶书"/>
                <a:ea typeface="隶书"/>
              </a:rPr>
              <a:t>）带着手套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女性装饰性手套不必摘，其他情况都应该摘下手套再握手。除非传染病流行或天气奇冷。如果对方戴着手套来握手，你也就照样办理。</a:t>
            </a:r>
            <a:endParaRPr b="0" lang="en-US" sz="2000" spc="-1" strike="noStrike">
              <a:solidFill>
                <a:srgbClr val="000000"/>
              </a:solidFill>
              <a:latin typeface="Arial"/>
            </a:endParaRPr>
          </a:p>
        </p:txBody>
      </p:sp>
      <p:pic>
        <p:nvPicPr>
          <p:cNvPr id="224" name="图片 67588" descr="u=1653779285,411515371&amp;fm=0&amp;gp=0">
            <a:hlinkClick r:id="rId1"/>
          </p:cNvPr>
          <p:cNvPicPr/>
          <p:nvPr/>
        </p:nvPicPr>
        <p:blipFill>
          <a:blip r:embed="rId2"/>
          <a:stretch/>
        </p:blipFill>
        <p:spPr>
          <a:xfrm>
            <a:off x="4800600" y="304920"/>
            <a:ext cx="2819520" cy="1676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介绍礼仪</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自我介绍</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自我介绍的内容因场合的不同而变化。一般的社交场合，只需说清自己的姓名及与主人或双方都认识的人的关系即可。在公共关系活动中，自我介绍的内容应该不少于这三项：姓名、供职单位及部门的全称、自己的职务或负责的业务。</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例如：“你好！我叫何夏，是智同广告公司公关部的经理。”</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自我介绍时要充满自信，眼睛注视对方，吐字清晰，面带微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为他人介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它是通过第三者为陌生的双方引见的一种方式，第三者即为介绍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他人介绍时，要讲究介绍顺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应该本着“让尊者优先了解对方情况”的原则来定。一般是：先把男性介绍给女性，把年轻人介绍给老年人，把社会地位低者介绍给地位高者，把客人介绍给主人，把未婚者介绍给已婚者，把和自己关系密切的一方介绍给另一方。在公共关系活动中，是以职位的高低来决定介绍顺序的，而不考虑性别和年龄。一人与多人见面，要先把一人介绍给大家，但是如果来者身份地位很高，即使一人，也应该先把其他人介绍给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互赠名片礼仪</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名片的内容：公务活动中使用的名片，其内容主要包括所在单位、部门、姓名、职务或职称、地址、电话等联络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随身携带的名片，应该放置于名片盒或名片夹中，不要直接放在衣袋里或钱包中，这样既不利于保存，也是对自己的不尊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名片应双手呈递，接受名片的态度一定要恭敬，使对方感到你对他的名片很感兴趣。接受对方的名片后，不可以立刻放到自己口袋里，而应首先表示谢意，然后再看清楚对方的姓名。如果对其中的某个字念不准，要请教对方，相信他会很乐于告诉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该是来访者先递上名片，然后，接待者回赠名片。要双手拿着名片齐胸递接。如遇自己名片正好用完，无法回赠对方时，可说明原因，表示歉意，并手写姓名、地址、联络方式送给对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拜访礼仪</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办公室拜访</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办公室是各种社会组织处理往来事务的重要部门。公共关系工作的拜访活动常常发生在办公室。做好办公室拜访，应注意以下几方面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事先约定时间。</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注意仪表仪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进入室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尽快进入正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适时予以告辞。</a:t>
            </a:r>
            <a:endParaRPr b="0" lang="en-US" sz="2800" spc="-1" strike="noStrike">
              <a:solidFill>
                <a:srgbClr val="000000"/>
              </a:solidFill>
              <a:latin typeface="Arial"/>
            </a:endParaRPr>
          </a:p>
        </p:txBody>
      </p:sp>
      <p:pic>
        <p:nvPicPr>
          <p:cNvPr id="233" name="图片 72708" descr="u=3852978678,2141022108&amp;fm=0&amp;gp=0">
            <a:hlinkClick r:id="rId1"/>
          </p:cNvPr>
          <p:cNvPicPr/>
          <p:nvPr/>
        </p:nvPicPr>
        <p:blipFill>
          <a:blip r:embed="rId2"/>
          <a:stretch/>
        </p:blipFill>
        <p:spPr>
          <a:xfrm>
            <a:off x="4876920" y="3733920"/>
            <a:ext cx="2133360" cy="1828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家庭拜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公共关系活动中，公共关系人员有时受人之邀前往某个家庭拜访，掌握家庭拜访礼仪也是非常重要的。</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拜访前的准备。</a:t>
            </a:r>
            <a:r>
              <a:rPr b="0" lang="zh-CN" sz="2400" spc="-1" strike="noStrike">
                <a:solidFill>
                  <a:srgbClr val="000000"/>
                </a:solidFill>
                <a:latin typeface="隶书"/>
                <a:ea typeface="隶书"/>
              </a:rPr>
              <a:t>事先预约，最好按对方的意思确定拜访的时间和地点。还要注意个人修饰，既要表现个人修养和风度，又表达了对主人的尊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入室前的礼节。</a:t>
            </a:r>
            <a:r>
              <a:rPr b="0" lang="zh-CN" sz="2400" spc="-1" strike="noStrike">
                <a:solidFill>
                  <a:srgbClr val="000000"/>
                </a:solidFill>
                <a:latin typeface="隶书"/>
                <a:ea typeface="隶书"/>
              </a:rPr>
              <a:t>登门拜访时，应按门铃或敲门，不能长时间按着门铃不放，敲门每次敲两三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作客时的礼节。</a:t>
            </a:r>
            <a:r>
              <a:rPr b="0" lang="zh-CN" sz="2400" spc="-1" strike="noStrike">
                <a:solidFill>
                  <a:srgbClr val="000000"/>
                </a:solidFill>
                <a:latin typeface="隶书"/>
                <a:ea typeface="隶书"/>
              </a:rPr>
              <a:t>待主人允许入室后，应随主人行至指定房间，并与室内所有人一一致意，待主人招呼就坐后坐下。举止要大方，讲话要诚恳自然。</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告辞时的礼节。</a:t>
            </a:r>
            <a:r>
              <a:rPr b="0" lang="zh-CN" sz="2400" spc="-1" strike="noStrike">
                <a:solidFill>
                  <a:srgbClr val="000000"/>
                </a:solidFill>
                <a:latin typeface="隶书"/>
                <a:ea typeface="隶书"/>
              </a:rPr>
              <a:t>告辞时应向主人及其家人表示谢意，尤其是向长辈打招呼，出门后要“请留步”礼貌谢绝主人远送，切忌出门后扬长而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方位礼仪</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左右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际通行的礼节是“以右为尊”。让长辈、职位高者、客人、女士等尊者行立坐在晚辈、职位低者、主人、男士等的右侧，以体现出尊重与重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前后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前后位置方面，一般以前面为尊。除非在一些拥挤的场合，需要工作人员在前面开路，或接待人员引导首次到访的客人时，或为客人按电梯按钮或开门等一些需要照顾客人的场合，尊者在后面。</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中间和两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无论行走或就坐，应让尊者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公共关系活动中，乘车座位的位次高低，是考虑了安全、方便、舒适等诸因素后而定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小轿车，如果是由专职司机驾车，座位的位次由高到低依次排列为：后右、后左、后中、副驾驶；如果小轿车由主人亲自驾驶的话，座位的位次由高到低依次排列为：副驾驶、后右、后左、后中。后排座位比前排好是因为后排比较安全，并且在汽车靠右行驶的国家，从右边上下车是最方便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多排客车：以司机为第一排，从第二排开始，越靠前靠右越好，依次为：第二排右座、中座、左座、第三排右座、中座、左座</a:t>
            </a:r>
            <a:r>
              <a:rPr b="0" lang="en-US"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契科夫笔下的小公务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俄罗斯著名作家契科夫在其小说</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小公务员之死</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中，为我们讲述了这样一个令人啼笑皆非的故事。小公务员切尔维亚科夫在看戏时，不小心打了个喷嚏，他觉得这个喷嚏给坐在自己前面的一位将军带来了不快，于是开始道歉。他在戏剧的演出过程中道了歉，在幕间隙时再次道歉，事后又专程赶到将军的办公室请求将军宽恕。可是，切尔维亚科夫仍然感到自己还是没能以适当的方式向将军致以歉意，还没有得到将军的真正宽恕，又多次前往将军的办公室道歉。终于，这个将军被切尔维亚科夫无休止的道歉惹得勃然大怒，他把这个小公务员从办公室轰了出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切尔维亚科夫吓得惶惶不可终日，回到家中，郁郁寡欢。不久，这个小公务员便在愧疚和抱憾中死去。</a:t>
            </a:r>
            <a:endParaRPr b="0" lang="en-US" sz="2400" spc="-1" strike="noStrike">
              <a:solidFill>
                <a:srgbClr val="000000"/>
              </a:solidFill>
              <a:latin typeface="Arial"/>
            </a:endParaRPr>
          </a:p>
        </p:txBody>
      </p:sp>
      <p:pic>
        <p:nvPicPr>
          <p:cNvPr id="58" name="图片 102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馈赠礼仪</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在人际交往中，馈赠是一项重要的行为。为表达感谢之意、表示祝福之情、庆贺乔迁之喜，我们经常会选择馈赠礼物。送得恰到好处的礼物，会让受礼者喜出望外，终生不忘。送得不合适的礼物，会让受礼者左右为难，甚至破坏人际关系，完全违背了送礼的初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馈赠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纪念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独特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适应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原则性</a:t>
            </a:r>
            <a:endParaRPr b="0" lang="en-US" sz="3200" spc="-1" strike="noStrike">
              <a:solidFill>
                <a:srgbClr val="000000"/>
              </a:solidFill>
              <a:latin typeface="Arial"/>
            </a:endParaRPr>
          </a:p>
        </p:txBody>
      </p:sp>
      <p:pic>
        <p:nvPicPr>
          <p:cNvPr id="244" name="图片 77828" descr="u=2693710279,3820608275&amp;fm=3&amp;gp=0">
            <a:hlinkClick r:id="rId1"/>
          </p:cNvPr>
          <p:cNvPicPr/>
          <p:nvPr/>
        </p:nvPicPr>
        <p:blipFill>
          <a:blip r:embed="rId2"/>
          <a:stretch/>
        </p:blipFill>
        <p:spPr>
          <a:xfrm>
            <a:off x="4876920" y="2514600"/>
            <a:ext cx="2238120" cy="2057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馈赠礼品的注意事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讲究包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选择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表现得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四节   常用的公共关系活动与仪式礼仪</a:t>
            </a:r>
            <a:br>
              <a:rPr sz="4000"/>
            </a:br>
            <a:endParaRPr b="0" lang="en-US" sz="4000" spc="-1" strike="noStrike">
              <a:solidFill>
                <a:srgbClr val="000000"/>
              </a:solidFill>
              <a:latin typeface="Arial"/>
            </a:endParaRPr>
          </a:p>
        </p:txBody>
      </p:sp>
      <p:sp>
        <p:nvSpPr>
          <p:cNvPr id="248"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签字仪式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部门或单位之间就某一重大事件达成协议，签订合同，或者国家之间通过谈判，就政治、经济、军事、科技、文化等某一领域的相互关系达成协议，缔结条约、协定或公约，往往都要举行签字仪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签字仪式的准备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布置好签字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布置签字厅的总体要求：庄重、整洁、清静。</a:t>
            </a:r>
            <a:endParaRPr b="0" lang="en-US" sz="3200" spc="-1" strike="noStrike">
              <a:solidFill>
                <a:srgbClr val="000000"/>
              </a:solidFill>
              <a:latin typeface="Arial"/>
            </a:endParaRPr>
          </a:p>
        </p:txBody>
      </p:sp>
      <p:pic>
        <p:nvPicPr>
          <p:cNvPr id="251" name="图片 81924" descr="u=942349743,273465320&amp;fm=0&amp;gp=0">
            <a:hlinkClick r:id="rId1"/>
          </p:cNvPr>
          <p:cNvPicPr/>
          <p:nvPr/>
        </p:nvPicPr>
        <p:blipFill>
          <a:blip r:embed="rId2"/>
          <a:stretch/>
        </p:blipFill>
        <p:spPr>
          <a:xfrm>
            <a:off x="2057400" y="42670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签字厅的布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室内应铺地毯，正规的签字桌应为长桌，其上最好铺设墨绿色的台布。</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签字桌应横放于室内，在其后可摆放适量的座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双边性合同时，可放置两张座椅，供签字人就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签署多边性合同时，可以仅放一张座椅，供各方签字人签字时轮流就座；也可以为每位签字人提供座椅。签字人就座时，一般应面对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准备好签字用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在签字桌上，应事先安放好待签的合同文本以及签字笔、吸墨器等签字时所用的文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涉外商务合同时，需在签字桌上摆放双方国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插放国旗时，在其位置与顺序上，必须按照礼宾序列。例如，签署双边性涉外商务合同时，有关各方的国旗需插放在该方签字人座椅的正前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签署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签署双边性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应请客方签字人在签字桌右侧就座，主方签字人则应同时就座于签字桌左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双方各自的助签人，应分别站立于己方签字人的外侧，以便随时对签字人提供帮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双方其他随员，可以按照一定的顺序在己方签字人的正对面就座；也可依照职位的高低，依次自左至右</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客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或是自右至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排成一行，站立于己方签字人的身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当一行站不完时，可按照以上顺序并遵照“前高后低”的惯例，排成两行、三行或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原则上，双方随员人数大体上相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签署多边性合同的座次安排：</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一般仅设一把签字椅，也可以每位一把椅子。</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各方签字人签字时，须依照有关各方事先同意的先后顺序依次上前签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助签人应随签字人一同行动。在助签时，应按照“右高左低”的规矩，助签人应站立于签字人的左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有关各方的随员，应按照一定的序列，面对签字桌就座或站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对待签合同文本的要求</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由主方负责待签文本的准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依照商界的习惯，在正式签署合同之前，应由举行签字仪式的主方负责准备待签合同的正式文本。</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① </a:t>
            </a:r>
            <a:r>
              <a:rPr b="0" lang="zh-CN" sz="2800" spc="-1" strike="noStrike">
                <a:solidFill>
                  <a:srgbClr val="000000"/>
                </a:solidFill>
                <a:latin typeface="隶书"/>
                <a:ea typeface="隶书"/>
              </a:rPr>
              <a:t>应会同有关各方一道指定专人，共同负责合同文本的翻译、校对、定稿、印刷、装订、盖火漆印。</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② </a:t>
            </a:r>
            <a:r>
              <a:rPr b="0" lang="zh-CN" sz="2800" spc="-1" strike="noStrike">
                <a:solidFill>
                  <a:srgbClr val="000000"/>
                </a:solidFill>
                <a:latin typeface="隶书"/>
                <a:ea typeface="隶书"/>
              </a:rPr>
              <a:t>按常规合同文本上正式签字的有关各方，均提供一份待签的合同文本；必要时，还可再向各方提供一份副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礼仪的作用</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帮助组织主体树立良好的公众形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提高公共关系工作者综合素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坚持诚信，提高全社会文明水平</a:t>
            </a:r>
            <a:endParaRPr b="0" lang="en-US" sz="3200" spc="-1" strike="noStrike">
              <a:solidFill>
                <a:srgbClr val="000000"/>
              </a:solidFill>
              <a:latin typeface="Arial"/>
            </a:endParaRPr>
          </a:p>
        </p:txBody>
      </p:sp>
      <p:pic>
        <p:nvPicPr>
          <p:cNvPr id="61" name="图片 11268" descr="u=1178034251,3609683321&amp;fm=3&amp;gp=0">
            <a:hlinkClick r:id="rId1"/>
          </p:cNvPr>
          <p:cNvPicPr/>
          <p:nvPr/>
        </p:nvPicPr>
        <p:blipFill>
          <a:blip r:embed="rId2"/>
          <a:stretch/>
        </p:blipFill>
        <p:spPr>
          <a:xfrm>
            <a:off x="0" y="5867280"/>
            <a:ext cx="1324080" cy="990720"/>
          </a:xfrm>
          <a:prstGeom prst="rect">
            <a:avLst/>
          </a:prstGeom>
          <a:ln w="0">
            <a:noFill/>
          </a:ln>
        </p:spPr>
      </p:pic>
      <p:pic>
        <p:nvPicPr>
          <p:cNvPr id="62" name="图片 11270" descr="u=1178034251,3609683321&amp;fm=3&amp;gp=0">
            <a:hlinkClick r:id="rId3"/>
          </p:cNvPr>
          <p:cNvPicPr/>
          <p:nvPr/>
        </p:nvPicPr>
        <p:blipFill>
          <a:blip r:embed="rId4"/>
          <a:stretch/>
        </p:blipFill>
        <p:spPr>
          <a:xfrm>
            <a:off x="7819920" y="5867280"/>
            <a:ext cx="1324080" cy="990720"/>
          </a:xfrm>
          <a:prstGeom prst="rect">
            <a:avLst/>
          </a:prstGeom>
          <a:ln w="0">
            <a:noFill/>
          </a:ln>
        </p:spPr>
      </p:pic>
      <p:pic>
        <p:nvPicPr>
          <p:cNvPr id="63" name="图片 11272" descr="u=1178034251,3609683321&amp;fm=3&amp;gp=0">
            <a:hlinkClick r:id="rId5"/>
          </p:cNvPr>
          <p:cNvPicPr/>
          <p:nvPr/>
        </p:nvPicPr>
        <p:blipFill>
          <a:blip r:embed="rId6"/>
          <a:stretch/>
        </p:blipFill>
        <p:spPr>
          <a:xfrm>
            <a:off x="0" y="0"/>
            <a:ext cx="1324080" cy="990720"/>
          </a:xfrm>
          <a:prstGeom prst="rect">
            <a:avLst/>
          </a:prstGeom>
          <a:ln w="0">
            <a:noFill/>
          </a:ln>
        </p:spPr>
      </p:pic>
      <p:pic>
        <p:nvPicPr>
          <p:cNvPr id="64" name="图片 11274" descr="u=1178034251,360968332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签署涉外商务合同</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① </a:t>
            </a:r>
            <a:r>
              <a:rPr b="0" lang="zh-CN" sz="3200" spc="-1" strike="noStrike">
                <a:solidFill>
                  <a:srgbClr val="000000"/>
                </a:solidFill>
                <a:latin typeface="隶书"/>
                <a:ea typeface="隶书"/>
              </a:rPr>
              <a:t>按照国际惯例，待签的合同文本，应同时使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② </a:t>
            </a:r>
            <a:r>
              <a:rPr b="0" lang="zh-CN" sz="3200" spc="-1" strike="noStrike">
                <a:solidFill>
                  <a:srgbClr val="000000"/>
                </a:solidFill>
                <a:latin typeface="隶书"/>
                <a:ea typeface="隶书"/>
              </a:rPr>
              <a:t>此外，亦可同时并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待签合同文本的印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应以精美的白纸印制而成，按大八开的规格装订成册，并以高档质料如真皮、金属、软木等作为封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二</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签字仪式的正式程序</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签字仪式正式开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关各方人员进入签字厅，在既定座位上各就各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签字人正式签署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首先签署己方保存的合同文本，接着再签署他方保存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活动规定：每个签字人在己方保留的合同文本上签字时，按惯例应当名列首位。因此，每个签字人均应首先签署己方保存的合同文本，然后再交由他方签字人签字。这一做法，在礼仪上称为“轮换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签字人正式交换已经有关各方正式签署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此时，各方签字人应热烈握手，互致祝贺，并相互交换各自一方刚才使用过的签字笔，以示纪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全场人员应鼓掌表示祝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共饮香槟酒互相道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交换已签的合同文本后，有关人员，尤其是签字人，当场干一杯香槟酒是国际上通行的用以增添喜庆色彩的做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一般情况下，商务合同在正式签署后，应提交有关方面进行公证，此后才正式生效。</a:t>
            </a:r>
            <a:endParaRPr b="0" lang="en-US" sz="2400" spc="-1" strike="noStrike">
              <a:solidFill>
                <a:srgbClr val="000000"/>
              </a:solidFill>
              <a:latin typeface="Arial"/>
            </a:endParaRPr>
          </a:p>
        </p:txBody>
      </p:sp>
      <p:pic>
        <p:nvPicPr>
          <p:cNvPr id="268" name="图片 90116" descr="u=647946022,2017268458&amp;fm=0&amp;gp=0">
            <a:hlinkClick r:id="rId1"/>
          </p:cNvPr>
          <p:cNvPicPr/>
          <p:nvPr/>
        </p:nvPicPr>
        <p:blipFill>
          <a:blip r:embed="rId2"/>
          <a:stretch/>
        </p:blipFill>
        <p:spPr>
          <a:xfrm>
            <a:off x="380880" y="5334120"/>
            <a:ext cx="2667240" cy="15238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接仪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交接仪式，在商界一般是指施工单位依照合同将已经建设、安装完成的工程项目或大型设备，经验收合格后正式移交给使用单位之时，所专门举行的庆祝典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交接的礼仪，一般是指在举行交接仪式时所须遵守的有关规范。通常它具体包括交接仪式的准备、交接仪式的程序、交接仪式的参加等三个方面的主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交接仪式的准备礼仪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来宾的邀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一般应由交接仪式的东道主</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施工、安装单位负责。在具体拟定来宾名单时，施工、安装单位亦应主动征求自己的合作伙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接收单位的意见。接收单位对于施工、安装单位所草拟的名单不宜过于挑剔，不过可以对此酌情提出自己的一些合理建议。</a:t>
            </a:r>
            <a:endParaRPr b="0" lang="en-US" sz="3200" spc="-1" strike="noStrike">
              <a:solidFill>
                <a:srgbClr val="000000"/>
              </a:solidFill>
              <a:latin typeface="Arial"/>
            </a:endParaRPr>
          </a:p>
        </p:txBody>
      </p:sp>
      <p:pic>
        <p:nvPicPr>
          <p:cNvPr id="273" name="图片 92164" descr="u=2794903085,4282854364&amp;fm=0&amp;gp=0">
            <a:hlinkClick r:id="rId1"/>
          </p:cNvPr>
          <p:cNvPicPr/>
          <p:nvPr/>
        </p:nvPicPr>
        <p:blipFill>
          <a:blip r:embed="rId2"/>
          <a:stretch/>
        </p:blipFill>
        <p:spPr>
          <a:xfrm>
            <a:off x="0" y="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现场的布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举行交接仪式的现场，亦称交接仪式的会场。在对其进行选择时，通常应视交接仪式的重要程度、全体出席者的具体人数、交接仪式的具体程序与内容，以及是否要求对其进行保密等几个方面的因素而定。</a:t>
            </a:r>
            <a:endParaRPr b="0" lang="en-US" sz="3200" spc="-1" strike="noStrike">
              <a:solidFill>
                <a:srgbClr val="000000"/>
              </a:solidFill>
              <a:latin typeface="Arial"/>
            </a:endParaRPr>
          </a:p>
        </p:txBody>
      </p:sp>
      <p:pic>
        <p:nvPicPr>
          <p:cNvPr id="276" name="图片 93188" descr="u=1260039794,1783843386&amp;fm=0&amp;gp=0">
            <a:hlinkClick r:id="rId1"/>
          </p:cNvPr>
          <p:cNvPicPr/>
          <p:nvPr/>
        </p:nvPicPr>
        <p:blipFill>
          <a:blip r:embed="rId2"/>
          <a:stretch/>
        </p:blipFill>
        <p:spPr>
          <a:xfrm>
            <a:off x="533520" y="4800600"/>
            <a:ext cx="3200400" cy="2057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物品的预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交接仪式上，有不少需要使用的物品，应由东道主一方提前进行准备。首先，必不可少的是作为交接象征之物的有关物品。它们主要有：验收文件、一览表、钥匙，等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验收文件，此处是指已经公证的由交接双方正式签署的接收证明性文件。一览表，是指交付给接收单位的全部物资、设备或其他物品的名称、数量明细表。钥匙，则是指用来开启被交接的建筑物或机械设备的钥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ea typeface="隶书"/>
              </a:rPr>
              <a:t>（二）交接仪式的程序</a:t>
            </a:r>
            <a:endParaRPr b="0" lang="en-US" sz="44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主持人宣布交接仪式正式开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奏国歌，并演奏东道主单位的标志性歌曲</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施工、安装单位与接收单位正式进行有关工程项目或大型设备的交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各方代表发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参加交接仪式的礼仪要求</a:t>
            </a:r>
            <a:endParaRPr b="0" lang="en-US" sz="4400" spc="-1" strike="noStrike">
              <a:solidFill>
                <a:srgbClr val="000000"/>
              </a:solidFill>
              <a:latin typeface="Arial"/>
            </a:endParaRPr>
          </a:p>
        </p:txBody>
      </p:sp>
      <p:sp>
        <p:nvSpPr>
          <p:cNvPr id="2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东道主礼仪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东道主一方而言，需要注意的主要问题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仪容服饰。东道主，要妆容规范、服饰得体、举止大方，保持风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要注意待人友好。不管自己是否专门负责接待、陪同或解说工作，东道主一方的全体人员都应当自觉地树立起主人翁意识。一旦来宾提出问题或需要帮助时，都要鼎力相助。不允许一问三不知、借故推脱、拒绝帮忙，甚至胡言乱语、说风凉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4" name=""/>
          <p:cNvSpPr txBox="1"/>
          <p:nvPr/>
        </p:nvSpPr>
        <p:spPr>
          <a:xfrm>
            <a:off x="457200" y="1600200"/>
            <a:ext cx="86868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来宾礼仪要求</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对于来宾一方而言，在应邀出席交接仪式时，主要应当重视如下四个方面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应当致以祝贺。</a:t>
            </a:r>
            <a:r>
              <a:rPr b="0" lang="zh-CN" sz="2400" spc="-1" strike="noStrike">
                <a:solidFill>
                  <a:srgbClr val="000000"/>
                </a:solidFill>
                <a:latin typeface="隶书"/>
                <a:ea typeface="隶书"/>
              </a:rPr>
              <a:t>接到正式邀请后，被邀请者即应尽早以单位或个人的名义发出贺电或贺信，向东道主表示热烈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应当略备贺礼。</a:t>
            </a:r>
            <a:r>
              <a:rPr b="0" lang="zh-CN" sz="2400" spc="-1" strike="noStrike">
                <a:solidFill>
                  <a:srgbClr val="000000"/>
                </a:solidFill>
                <a:latin typeface="隶书"/>
                <a:ea typeface="隶书"/>
              </a:rPr>
              <a:t>为表示祝贺之意，可向东道主一方赠送一些贺礼，如花篮、牌匾等等。时下，以赠送花篮最为流行。它一般需要在花店订制，用各色鲜花插装而成，并且应在其两侧悬挂特制的红色缎带，右书“恭贺某某变接仪式隆重举行”，左书本单位的正式全称。</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应当预备贺词。</a:t>
            </a:r>
            <a:r>
              <a:rPr b="0" lang="zh-CN" sz="2400" spc="-1" strike="noStrike">
                <a:solidFill>
                  <a:srgbClr val="000000"/>
                </a:solidFill>
                <a:latin typeface="隶书"/>
                <a:ea typeface="隶书"/>
              </a:rPr>
              <a:t>假若自己与东道主关系密切，则还须提前预备一份书面贺词，供被邀请代表来宾发言时之用。其内容应当简明扼要，主要是为了向东道主一方道喜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应当准点到场。</a:t>
            </a:r>
            <a:r>
              <a:rPr b="0" lang="zh-CN" sz="2400" spc="-1" strike="noStrike">
                <a:solidFill>
                  <a:srgbClr val="000000"/>
                </a:solidFill>
                <a:latin typeface="隶书"/>
                <a:ea typeface="隶书"/>
              </a:rPr>
              <a:t>若无特殊原因，接到邀请后，务必牢记在心，届时正点抵达，为主人捧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四、公共关系人员的性格、气质与风度</a:t>
            </a:r>
            <a:endParaRPr b="0" lang="en-US" sz="4000" spc="-1" strike="noStrike">
              <a:solidFill>
                <a:srgbClr val="000000"/>
              </a:solidFill>
              <a:latin typeface="Arial"/>
            </a:endParaRPr>
          </a:p>
        </p:txBody>
      </p:sp>
      <p:sp>
        <p:nvSpPr>
          <p:cNvPr id="66"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气质说</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公元前</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世纪，古希腊医生希波克拉斯提出“气质学”，他认为人体内有</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种不同的体液，即血液、黏液、黄胆汁、黑胆汁。根据各人体液的分配比例，人的性格可分为</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类：</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1</a:t>
            </a:r>
            <a:r>
              <a:rPr b="0" lang="zh-CN" sz="1800" spc="-1" strike="noStrike">
                <a:solidFill>
                  <a:srgbClr val="ff0000"/>
                </a:solidFill>
                <a:latin typeface="隶书"/>
                <a:ea typeface="隶书"/>
              </a:rPr>
              <a:t>）胆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充满热情，精力充沛，态度爽朗，豁达开朗，动作粗犷有力，说话直露干脆，办事果断，勇猛坚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性情急躁，易发脾气，爱冲动，缺乏耐性，不讲究方式方法，容易好心办坏事。</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2</a:t>
            </a:r>
            <a:r>
              <a:rPr b="0" lang="zh-CN" sz="1800" spc="-1" strike="noStrike">
                <a:solidFill>
                  <a:srgbClr val="ff0000"/>
                </a:solidFill>
                <a:latin typeface="隶书"/>
                <a:ea typeface="隶书"/>
              </a:rPr>
              <a:t>）多血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活泼开朗，热情奔放，感情比较丰富，待人亲切，富有同情心，思维敏捷，反应迅速，健谈，善交际，接受能力很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情绪缺乏稳定性，喜怒不定，兴趣广泛但难以持久，易动摇。</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3</a:t>
            </a:r>
            <a:r>
              <a:rPr b="0" lang="zh-CN" sz="1800" spc="-1" strike="noStrike">
                <a:solidFill>
                  <a:srgbClr val="ff0000"/>
                </a:solidFill>
                <a:latin typeface="隶书"/>
                <a:ea typeface="隶书"/>
              </a:rPr>
              <a:t>）黏液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沉着冷静，耐性较强，言行谨慎，情感不易外露，性情比较稳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固执死板，灵活性不够，一般只按指示或经验办事，不喜交际。</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4</a:t>
            </a:r>
            <a:r>
              <a:rPr b="0" lang="zh-CN" sz="1800" spc="-1" strike="noStrike">
                <a:solidFill>
                  <a:srgbClr val="ff0000"/>
                </a:solidFill>
                <a:latin typeface="隶书"/>
                <a:ea typeface="隶书"/>
              </a:rPr>
              <a:t>）抑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感情细腻，执著，善于观察，爱思索，喜静少动，敏感多虑，韧性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胆怯怕羞，性情内向，较孤僻，疑心较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开幕、闭幕仪式礼仪</a:t>
            </a:r>
            <a:endParaRPr b="0" lang="en-US" sz="44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一）开幕式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开幕式礼仪的准备工作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首先要选择一处宽敞的场所来作为举行开幕式的场地，室内室外均可。选择场地时要结合参加仪式的人数多少与场地大小是否相当来考虑，一般宜大不宜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场地选定之后，要在正面悬挂红色横幅，写明开幕式的名称，如“</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博览会开幕式”。字体应该清晰、醒目、美观。在两旁应布置一些红色的旗子。较隆重的开幕式还往往在场地四周悬挂五色彩旗，上面印有宣传图画或宣传口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开幕式的举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参加开幕式的人员进入场地，按照主左客右分排在两边。主客双方的人数应该大体相同。主持人、致词人和译员分别站在各自的位置，面向观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开幕式的一般程序如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由主持人宣布开幕式正式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奏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涉及两国之间的应奏两国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由主办一方的主要负责人致开幕词，其内容主要是简要说明活动大致情况和主要目的；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由合作者中另一方的主要负责人致贺词，主要是祝贺活动成功举办和祝愿举办成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邀请东道主或参加开幕式的来宾中身份最高的官员或知名人士进行剪彩。 </a:t>
            </a:r>
            <a:endParaRPr b="0" lang="en-US" sz="2400" spc="-1" strike="noStrike">
              <a:solidFill>
                <a:srgbClr val="000000"/>
              </a:solidFill>
              <a:latin typeface="Arial"/>
            </a:endParaRPr>
          </a:p>
        </p:txBody>
      </p:sp>
      <p:pic>
        <p:nvPicPr>
          <p:cNvPr id="289" name="图片 99332" descr="u=1319062918,635760775&amp;fm=0&amp;gp=0">
            <a:hlinkClick r:id="rId1"/>
          </p:cNvPr>
          <p:cNvPicPr/>
          <p:nvPr/>
        </p:nvPicPr>
        <p:blipFill>
          <a:blip r:embed="rId2"/>
          <a:stretch/>
        </p:blipFill>
        <p:spPr>
          <a:xfrm>
            <a:off x="0" y="0"/>
            <a:ext cx="2666880" cy="1523880"/>
          </a:xfrm>
          <a:prstGeom prst="rect">
            <a:avLst/>
          </a:prstGeom>
          <a:ln w="0">
            <a:noFill/>
          </a:ln>
        </p:spPr>
      </p:pic>
      <p:pic>
        <p:nvPicPr>
          <p:cNvPr id="290" name="图片 99334" descr="u=1765345677,516372502&amp;fm=0&amp;gp=0">
            <a:hlinkClick r:id="rId3"/>
          </p:cNvPr>
          <p:cNvPicPr/>
          <p:nvPr/>
        </p:nvPicPr>
        <p:blipFill>
          <a:blip r:embed="rId4"/>
          <a:stretch/>
        </p:blipFill>
        <p:spPr>
          <a:xfrm>
            <a:off x="3809880" y="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闭幕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闭幕式的一般程序如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由主持人宣布闭幕式开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由主办方的领导人作简要总结，并对有关方面尤其是协作者一方表示感谢。</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合作者一方的领导人致词，祝贺活动的圆满成功。其余人在双方领导人致词时都应鼓掌响应。</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双方也可互赠礼品或纪念品，宣布整个活动结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颁奖仪式礼仪</a:t>
            </a:r>
            <a:endParaRPr b="0" lang="en-US" sz="4400" spc="-1" strike="noStrike">
              <a:solidFill>
                <a:srgbClr val="000000"/>
              </a:solidFill>
              <a:latin typeface="Arial"/>
            </a:endParaRPr>
          </a:p>
        </p:txBody>
      </p:sp>
      <p:sp>
        <p:nvSpPr>
          <p:cNvPr id="2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颁奖仪式礼仪的准备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举行颁奖仪式应该选择较大的礼堂或宽敞的室外场所。会场布置要衬托出隆重和热烈的气氛。</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上，要在正上方悬挂横标，上面写清“</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颁奖大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两旁应悬挂一些相应的标语。为了更加突出气氛，还可在礼堂的休息大厅、走廊或场地四周布置一些彩旗，也可在休息大厅或场地旁的橱窗里布置图片和文字说明，对受奖的个人或集体的主要事迹做简要介绍。主席台上按上台人数放几排长桌，桌上覆盖白色或红色台布，按一定次序摆放好上台就座者的名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奖状、奖品等可摆放在桌上，但应注意摆放得美观、协调，不影响主持人及发言者讲话。主席台的前台可以放置一些盆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颁奖仪式的一般程序</a:t>
            </a:r>
            <a:endParaRPr b="0" lang="en-US" sz="4400" spc="-1" strike="noStrike">
              <a:solidFill>
                <a:srgbClr val="000000"/>
              </a:solidFill>
              <a:latin typeface="Arial"/>
            </a:endParaRPr>
          </a:p>
        </p:txBody>
      </p:sp>
      <p:sp>
        <p:nvSpPr>
          <p:cNvPr id="2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参加颁奖大会的人员应提前进入场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主持人宣布颁奖仪式开始，首先是由有关领导讲话，简要说明颁奖的原因并简介受奖者的事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开始颁奖，同时敲锣打鼓或者奏乐。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致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由受奖者或受奖者的代表致答谢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主持人宣布颁奖仪式结束，再次敲锣打鼓或奏乐，欢送受奖人员和来宾退场，然后其他与会者方可离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奠基、揭幕仪式礼仪</a:t>
            </a:r>
            <a:endParaRPr b="0" lang="en-US" sz="4400" spc="-1" strike="noStrike">
              <a:solidFill>
                <a:srgbClr val="000000"/>
              </a:solidFill>
              <a:latin typeface="Arial"/>
            </a:endParaRPr>
          </a:p>
        </p:txBody>
      </p:sp>
      <p:sp>
        <p:nvSpPr>
          <p:cNvPr id="2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奠基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大型场馆如体育馆、图书馆、商业大厦等一类的建筑以及其他纪念性建筑，在正式动工修建之际，一般要举行奠基仪式。</a:t>
            </a:r>
            <a:endParaRPr b="0" lang="en-US" sz="3200" spc="-1" strike="noStrike">
              <a:solidFill>
                <a:srgbClr val="000000"/>
              </a:solidFill>
              <a:latin typeface="Arial"/>
            </a:endParaRPr>
          </a:p>
        </p:txBody>
      </p:sp>
      <p:pic>
        <p:nvPicPr>
          <p:cNvPr id="299" name="图片 103428" descr="u=1091330375,1946701955&amp;fm=0&amp;gp=0">
            <a:hlinkClick r:id="rId1"/>
          </p:cNvPr>
          <p:cNvPicPr/>
          <p:nvPr/>
        </p:nvPicPr>
        <p:blipFill>
          <a:blip r:embed="rId2"/>
          <a:stretch/>
        </p:blipFill>
        <p:spPr>
          <a:xfrm>
            <a:off x="1371600" y="3962520"/>
            <a:ext cx="2666880" cy="2590560"/>
          </a:xfrm>
          <a:prstGeom prst="rect">
            <a:avLst/>
          </a:prstGeom>
          <a:ln w="0">
            <a:noFill/>
          </a:ln>
        </p:spPr>
      </p:pic>
      <p:pic>
        <p:nvPicPr>
          <p:cNvPr id="300" name="图片 103430" descr="u=1330597722,1243888721&amp;fm=0&amp;gp=0">
            <a:hlinkClick r:id="rId3"/>
          </p:cNvPr>
          <p:cNvPicPr/>
          <p:nvPr/>
        </p:nvPicPr>
        <p:blipFill>
          <a:blip r:embed="rId4"/>
          <a:stretch/>
        </p:blipFill>
        <p:spPr>
          <a:xfrm>
            <a:off x="5105520" y="4114800"/>
            <a:ext cx="2743200" cy="23623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奠基仪式在即将开工的工地上举行。现场布置与前几种仪式基本相同，也要悬挂横幅，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仪式”。为了渲染气氛，也可在四周布置一些彩旗，在正面布置一些花篮等，最主要的是奠基石。一般应选择汉白玉等上等石料，刨光磨平其正面，镌刻上名家书写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字样及“</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年</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日”。石刻字迹往往要用金粉勾勒，以更醒目。奠基石上二一般还要扎上布扎的大红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揭幕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名人雕像或塑像、大型的艺术品的落成，或者一个大型机构的建筑物正式落成等，往往要有揭幕仪式或揭碑仪式。 </a:t>
            </a:r>
            <a:endParaRPr b="0" lang="en-US" sz="3200" spc="-1" strike="noStrike">
              <a:solidFill>
                <a:srgbClr val="000000"/>
              </a:solidFill>
              <a:latin typeface="Arial"/>
            </a:endParaRPr>
          </a:p>
        </p:txBody>
      </p:sp>
      <p:pic>
        <p:nvPicPr>
          <p:cNvPr id="305" name="图片 105476" descr="u=2120425686,1063856194&amp;fm=0&amp;gp=0">
            <a:hlinkClick r:id="rId1"/>
          </p:cNvPr>
          <p:cNvPicPr/>
          <p:nvPr/>
        </p:nvPicPr>
        <p:blipFill>
          <a:blip r:embed="rId2"/>
          <a:stretch/>
        </p:blipFill>
        <p:spPr>
          <a:xfrm>
            <a:off x="2971800" y="3886200"/>
            <a:ext cx="3962520" cy="2514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仪式举行之前，首先要在雕像、塑像或艺术品，或者纪念碑、单位名牌上蒙上彩布，一般以红色为主。</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同时，在举行仪式的现场，还应以面向需要进行揭幕的对象为准，在正面悬挂红色会标，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揭幕仪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为了增加气氛，还可在四周布置彩旗和鲜花等等。同时，还要邀请有关的领导和社会知名人士，并注意要提前通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宴请活动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国宴：</a:t>
            </a:r>
            <a:r>
              <a:rPr b="0" lang="zh-CN" sz="3200" spc="-1" strike="noStrike">
                <a:solidFill>
                  <a:srgbClr val="000000"/>
                </a:solidFill>
                <a:latin typeface="隶书"/>
                <a:ea typeface="隶书"/>
              </a:rPr>
              <a:t>是规格最高的宴会，是国家级庆典宴会。举办方是本国政府首脑或国家元首，也可以是来访的外国元首或政府首脑。宴会厅必须悬挂主客两国国旗，宾主入席后乐队要奏两国国歌。举办者作为宴会的主持人。宴会上主人和主宾要发表讲话或致祝酒辞，席间要奏音乐。</a:t>
            </a:r>
            <a:endParaRPr b="0" lang="en-US" sz="3200" spc="-1" strike="noStrike">
              <a:solidFill>
                <a:srgbClr val="000000"/>
              </a:solidFill>
              <a:latin typeface="Arial"/>
            </a:endParaRPr>
          </a:p>
        </p:txBody>
      </p:sp>
      <p:pic>
        <p:nvPicPr>
          <p:cNvPr id="310" name="图片 108548" descr="u=1752576961,1041293843&amp;fm=0&amp;gp=0">
            <a:hlinkClick r:id="rId1"/>
          </p:cNvPr>
          <p:cNvPicPr/>
          <p:nvPr/>
        </p:nvPicPr>
        <p:blipFill>
          <a:blip r:embed="rId2"/>
          <a:stretch/>
        </p:blipFill>
        <p:spPr>
          <a:xfrm>
            <a:off x="228600" y="5181480"/>
            <a:ext cx="274320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6Z</dcterms:created>
  <dc:creator/>
  <dc:description/>
  <dc:language>en-US</dc:language>
  <cp:lastModifiedBy>lilanying</cp:lastModifiedBy>
  <dcterms:modified xsi:type="dcterms:W3CDTF">2021-08-30T19:32:13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