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25.wmf" ContentType="image/x-wmf"/>
  <Override PartName="/ppt/media/image46.jpeg" ContentType="image/jpeg"/>
  <Override PartName="/ppt/media/image3.wmf" ContentType="image/x-wmf"/>
  <Override PartName="/ppt/media/image45.jpeg" ContentType="image/jpeg"/>
  <Override PartName="/ppt/media/image44.jpeg" ContentType="image/jpeg"/>
  <Override PartName="/ppt/media/image42.jpeg" ContentType="image/jpeg"/>
  <Override PartName="/ppt/media/image59.jpeg" ContentType="image/jpeg"/>
  <Override PartName="/ppt/media/image39.jpeg" ContentType="image/jpeg"/>
  <Override PartName="/ppt/media/image5.png" ContentType="image/png"/>
  <Override PartName="/ppt/media/image37.jpeg" ContentType="image/jpeg"/>
  <Override PartName="/ppt/media/image36.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17.wmf" ContentType="image/x-wmf"/>
  <Override PartName="/ppt/media/image86.jpeg" ContentType="image/jpeg"/>
  <Override PartName="/ppt/media/image43.jpeg" ContentType="image/jpeg"/>
  <Override PartName="/ppt/media/image49.jpeg" ContentType="image/jpeg"/>
  <Override PartName="/ppt/media/image23.gif" ContentType="image/gif"/>
  <Override PartName="/ppt/media/image76.jpeg" ContentType="image/jpeg"/>
  <Override PartName="/ppt/media/image8.wmf" ContentType="image/x-wmf"/>
  <Override PartName="/ppt/media/image62.jpeg" ContentType="image/jpeg"/>
  <Override PartName="/ppt/media/image79.jpeg" ContentType="image/jpeg"/>
  <Override PartName="/ppt/media/image63.jpeg" ContentType="image/jpeg"/>
  <Override PartName="/ppt/media/image6.jpeg" ContentType="image/jpeg"/>
  <Override PartName="/ppt/media/image64.jpeg" ContentType="image/jpeg"/>
  <Override PartName="/ppt/media/image38.jpeg" ContentType="image/jpeg"/>
  <Override PartName="/ppt/media/image65.jpeg" ContentType="image/jpeg"/>
  <Override PartName="/ppt/media/image24.wmf" ContentType="image/x-wmf"/>
  <Override PartName="/ppt/media/image66.jpeg" ContentType="image/jpeg"/>
  <Override PartName="/ppt/media/image67.jpeg" ContentType="image/jpeg"/>
  <Override PartName="/ppt/media/image19.wmf" ContentType="image/x-wmf"/>
  <Override PartName="/ppt/media/image15.jpeg" ContentType="image/jpeg"/>
  <Override PartName="/ppt/media/image61.jpeg" ContentType="image/jpeg"/>
  <Override PartName="/ppt/media/image78.jpeg" ContentType="image/jpeg"/>
  <Override PartName="/ppt/media/image84.jpeg" ContentType="image/jpeg"/>
  <Override PartName="/ppt/media/image73.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71.jpeg" ContentType="image/jpeg"/>
  <Override PartName="/ppt/media/image70.jpeg" ContentType="image/jpeg"/>
  <Override PartName="/ppt/media/image82.jpeg" ContentType="image/jpeg"/>
  <Override PartName="/ppt/media/image85.png" ContentType="image/png"/>
  <Override PartName="/ppt/media/image75.jpeg" ContentType="image/jpeg"/>
  <Override PartName="/ppt/media/image81.jpeg" ContentType="image/jpeg"/>
  <Override PartName="/ppt/media/image74.jpeg" ContentType="image/jpeg"/>
  <Override PartName="/ppt/media/image69.jpeg" ContentType="image/jpeg"/>
  <Override PartName="/ppt/media/image9.wmf" ContentType="image/x-wmf"/>
  <Override PartName="/ppt/media/image80.jpeg" ContentType="image/jpeg"/>
  <Override PartName="/ppt/media/image22.wmf" ContentType="image/x-wmf"/>
  <Override PartName="/ppt/media/image21.jpeg" ContentType="image/jpeg"/>
  <Override PartName="/ppt/media/image26.jpeg" ContentType="image/jpeg"/>
  <Override PartName="/ppt/media/image32.jpeg" ContentType="image/jpeg"/>
  <Override PartName="/ppt/media/image18.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72.jpeg" ContentType="image/jpeg"/>
  <Override PartName="/ppt/media/image2.png" ContentType="image/png"/>
  <Override PartName="/ppt/media/image52.jpeg" ContentType="image/jpeg"/>
  <Override PartName="/ppt/media/image29.jpeg" ContentType="image/jpeg"/>
  <Override PartName="/ppt/media/image88.jpeg" ContentType="image/jpeg"/>
  <Override PartName="/ppt/media/image12.jpeg" ContentType="image/jpeg"/>
  <Override PartName="/ppt/media/image7.jpeg" ContentType="image/jpeg"/>
  <Override PartName="/ppt/media/image4.png" ContentType="image/pn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1FCA1-C952-49D4-957B-719C0083A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51A55-CF27-4B6D-B751-059815AD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E5F64-D81E-4561-9CA3-8349E4DCE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EB0CB-4A6B-4CEC-A7D0-5FFC622F0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CD7F-71A9-4727-9C11-F9D55C31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76A8D-8416-4121-9803-D22104071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B4CC-8306-439A-AD1D-A2660FD5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A9BBB-F1F3-413B-BC4D-D3BFAAE95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50AB7-EACF-423B-BF58-31C71451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C4E3-3840-4154-9AE9-4E2BB357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4E94-757B-4784-8276-F2FFE14D3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8154-7121-4C63-BA57-8AFA828DF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youa.baidu.com/resource/script/util/imageviewer/imageviewer.html?p=47713e49904931e842db68e0,0,0,0&amp;i=47713e49904931e842db68e0&amp;baseurl=http://img.mall.baidu.com/cccccc" TargetMode="External"/><Relationship Id="rId3" Type="http://schemas.openxmlformats.org/officeDocument/2006/relationships/image" Target="../media/image2.png"/><Relationship Id="rId4" Type="http://schemas.openxmlformats.org/officeDocument/2006/relationships/hyperlink" Target="http://st.youa.baidu.com/resource/script/util/imageviewer/imageviewer.html?p=47713e49904931e842db68e0,0,0,0&amp;i=47713e49904931e842db68e0&amp;baseurl=http://img.mall.baidu.com/cccccc"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8" Type="http://schemas.openxmlformats.org/officeDocument/2006/relationships/image" Target="../media/image11.jpeg"/><Relationship Id="rId9"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6091&amp;cl=2&amp;cm=1&amp;sc=0&amp;lm=-1&amp;pn=30&amp;rn=1&amp;di=11857804338&amp;ln=2000&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C%D5%CA&#1019;%AF&#1127;%C6%F3&#1205;&amp;in=30830&amp;cl=2&amp;cm=1&amp;sc=0&amp;lm=-1&amp;pn=1&amp;rn=1&amp;di=6642168225&amp;ln=1663&amp;fr=&amp;ic=0&amp;s=0&amp;se=1&amp;sme=0" TargetMode="External"/><Relationship Id="rId3" Type="http://schemas.openxmlformats.org/officeDocument/2006/relationships/image" Target="../media/image14.jpeg"/><Relationship Id="rId4" Type="http://schemas.openxmlformats.org/officeDocument/2006/relationships/hyperlink" Target="http://image.baidu.com/i?ct=503316480&amp;z=0&amp;tn=baiduimagedetail&amp;word=%CC%D5%CA&#1019;%AF&#1127;%C6%F3&#1205;&amp;in=14375&amp;cl=2&amp;cm=1&amp;sc=0&amp;lm=-1&amp;pn=37&amp;rn=1&amp;di=27144311325&amp;ln=1663&amp;fr=&amp;ic=0&amp;s=0&amp;se=1&amp;sme=0"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555;%BE&#1781;%C2&amp;in=3813&amp;cl=2&amp;cm=1&amp;sc=0&amp;lm=-1&amp;pn=28&amp;rn=1&amp;di=2455594905&amp;ln=2000&amp;fr=&amp;ic=0&amp;s=0&amp;se=1&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4" Type="http://schemas.openxmlformats.org/officeDocument/2006/relationships/image" Target="../media/image21.jpeg"/><Relationship Id="rId5"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6" Type="http://schemas.openxmlformats.org/officeDocument/2006/relationships/image" Target="../media/image21.jpeg"/><Relationship Id="rId7"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2" Type="http://schemas.openxmlformats.org/officeDocument/2006/relationships/image" Target="../media/image26.jpeg"/><Relationship Id="rId3"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hk/imgres?imgurl=http://www.fyfz.cn/blog/qzfywxt/20071017153833.jpg&amp;imgrefurl=http://qzfywxt.fyfz.cn/art/263041.htm&amp;usg=__NZEzmxl2Jpwy0IZ7K6Oq7L3pIs4=&amp;h=450&amp;w=318&amp;sz=32&amp;hl=zh-CN&amp;start=3&amp;itbs=1&amp;tbnid=1L2ALFeO_M_-0M:&amp;tbnh=127&amp;tbnw=90&amp;prev=/images%3Fq%3D%25E8%25AF%259A%25E4%25BF%25A1%26hl%3Dzh-CN%26newwindow%3D1%26safe%3Dstrict%26client%3Daff-360daohang%26hs%3DZ7U%26affdom%3D360.cn%26tbs%3Disch:1" TargetMode="External"/><Relationship Id="rId2" Type="http://schemas.openxmlformats.org/officeDocument/2006/relationships/image" Target="../media/image27.jpeg"/><Relationship Id="rId3" Type="http://schemas.openxmlformats.org/officeDocument/2006/relationships/hyperlink" Target="http://images.google.com.hk/imgres?imgurl=http://pica.nipic.com/2008-03-22/200832294525808_2.jpg&amp;imgrefurl=http://www.nipic.com/show/4/79/b29701ffb09eebd7.html&amp;usg=__e7w0kwbLgmFfDQtKkBxuwXZAT-s=&amp;h=1024&amp;w=771&amp;sz=206&amp;hl=zh-CN&amp;start=7&amp;itbs=1&amp;tbnid=_qbMrklzgWL7GM:&amp;tbnh=150&amp;tbnw=113&amp;prev=/images%3Fq%3D%25E8%25AF%259A%25E4%25BF%25A1%26hl%3Dzh-CN%26newwindow%3D1%26safe%3Dstrict%26client%3Daff-360daohang%26hs%3DZ7U%26affdom%3D360.cn%26tbs%3Disch:1"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hk/imgres?imgurl=http://images.blogcn.com/2008/9/13/7/hpblog0022560,20080913194521796.jpg&amp;imgrefurl=http://sonqian.blogcn.com/&amp;usg=__qcjwzeSTOl8JFSe02USHTm2VrRY=&amp;h=382&amp;w=442&amp;sz=31&amp;hl=zh-CN&amp;start=19&amp;itbs=1&amp;tbnid=0BhRWtC0Kwl7_M:&amp;tbnh=110&amp;tbnw=127&amp;prev=/images%3Fq%3D%25E8%25AF%259A%25E4%25BF%25A1%26start%3D18%26hl%3Dzh-CN%26newwindow%3D1%26safe%3Dstrict%26client%3Daff-360daohang%26hs%3DfAV%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2" Type="http://schemas.openxmlformats.org/officeDocument/2006/relationships/image" Target="../media/image30.jpeg"/><Relationship Id="rId3"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4" Type="http://schemas.openxmlformats.org/officeDocument/2006/relationships/image" Target="../media/image30.jpeg"/><Relationship Id="rId5"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6" Type="http://schemas.openxmlformats.org/officeDocument/2006/relationships/image" Target="../media/image30.jpeg"/><Relationship Id="rId7"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s.google.com.hk/imgres?imgurl=http://www.wallcoo.com/human/castle_wallpaper_01/images/%255Bwallcoo%255D_Germany_castles_picture_1HH136_2.jpg&amp;imgrefurl=http://www.wallcoo.com/human/castle_wallpaper_01/html/wallpaper2.html&amp;usg=__4prZQEqZN_Iz-nxA9SMI98B2dxE=&amp;h=525&amp;w=700&amp;sz=126&amp;hl=zh-CN&amp;start=7&amp;itbs=1&amp;tbnid=mMuwk9M9FJ7u-M:&amp;tbnh=105&amp;tbnw=140&amp;prev=/images%3Fq%3D%25E5%25BE%25B7%25E5%259B%25BD%26hl%3Dzh-CN%26newwindow%3D1%26safe%3Dstrict%26client%3Daff-360homepage%26hs%3DEY%26sa%3DG%26tbs%3Disch:1"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4" Type="http://schemas.openxmlformats.org/officeDocument/2006/relationships/image" Target="../media/image32.jpeg"/><Relationship Id="rId5"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6" Type="http://schemas.openxmlformats.org/officeDocument/2006/relationships/image" Target="../media/image32.jpeg"/><Relationship Id="rId7"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4" Type="http://schemas.openxmlformats.org/officeDocument/2006/relationships/image" Target="../media/image33.jpeg"/><Relationship Id="rId5"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6" Type="http://schemas.openxmlformats.org/officeDocument/2006/relationships/image" Target="../media/image34.jpeg"/><Relationship Id="rId7"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2" Type="http://schemas.openxmlformats.org/officeDocument/2006/relationships/image" Target="../media/image35.jpeg"/><Relationship Id="rId3"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6" Type="http://schemas.openxmlformats.org/officeDocument/2006/relationships/image" Target="../media/image35.jpeg"/><Relationship Id="rId7"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6540&amp;cl=2&amp;cm=1&amp;sc=0&amp;lm=-1&amp;pn=16&amp;rn=1&amp;di=7105544133&amp;ln=2000&amp;fr=&amp;ic=0&amp;s=0&amp;se=1&amp;sme=0"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mov101.com/inc/show.asp?id=200603/2006322191665.jpg" TargetMode="External"/><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s.google.com.hk/imgres?imgurl=http://news.xinhuanet.com/photo/2006-08/04/xinsrc_43208030417033122132573.jpg&amp;imgrefurl=http://news.xinhuanet.com/photo/2006-08/04/content_4920320.htm&amp;usg=__mxh_7N8-v3DfVQD3rHlSNd0nsQg=&amp;h=500&amp;w=375&amp;sz=24&amp;hl=zh-CN&amp;start=2&amp;itbs=1&amp;tbnid=SLBnvgN8Exg-aM:&amp;tbnh=130&amp;tbnw=98&amp;prev=/images%3Fq%3D%25E6%25B2%259F%25E9%2580%259A%26hl%3Dzh-CN%26newwindow%3D1%26safe%3Dstrict%26client%3Daff-360daohang%26hs%3DJIq%26affdom%3D360.cn%26tbs%3Disch:1" TargetMode="External"/><Relationship Id="rId2" Type="http://schemas.openxmlformats.org/officeDocument/2006/relationships/image" Target="../media/image39.jpeg"/><Relationship Id="rId3" Type="http://schemas.openxmlformats.org/officeDocument/2006/relationships/hyperlink" Target="http://images.google.com.hk/imgres?imgurl=http://pica.nipic.com/2008-06-10/2008610113237254_2.jpg&amp;imgrefurl=http://www.nipic.com/show/4/64/2dccc908b612f9af.html&amp;usg=__uhgOjoWAQPU3auchXKNb7HoO_6c=&amp;h=768&amp;w=1000&amp;sz=118&amp;hl=zh-CN&amp;start=8&amp;itbs=1&amp;tbnid=nmtZGuDtCWwv8M:&amp;tbnh=114&amp;tbnw=149&amp;prev=/images%3Fq%3D%25E6%25B2%259F%25E9%2580%259A%26hl%3Dzh-CN%26newwindow%3D1%26safe%3Dstrict%26client%3Daff-360daohang%26hs%3DJIq%26affdom%3D360.cn%26tbs%3Disch:1" TargetMode="External"/><Relationship Id="rId4" Type="http://schemas.openxmlformats.org/officeDocument/2006/relationships/image" Target="../media/image40.jpeg"/><Relationship Id="rId5" Type="http://schemas.openxmlformats.org/officeDocument/2006/relationships/hyperlink" Target="http://images.google.com.hk/imgres?imgurl=http://pica.nipic.com/2007-06-17/2007617162221773_2.jpg&amp;imgrefurl=http://www.nipic.com/show/2/34/a724c8f4766dae05.html&amp;usg=__7623bzJR4Ns9fryNsstsbWLK410=&amp;h=1000&amp;w=981&amp;sz=270&amp;hl=zh-CN&amp;start=18&amp;itbs=1&amp;tbnid=r3ZbNByllaN8RM:&amp;tbnh=149&amp;tbnw=146&amp;prev=/images%3Fq%3D%25E6%25B2%259F%25E9%2580%259A%26hl%3Dzh-CN%26newwindow%3D1%26safe%3Dstrict%26client%3Daff-360daohang%26hs%3DJIq%26affdom%3D360.cn%26tbs%3Disch:1" TargetMode="External"/><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s.google.com.hk/imgres?imgurl=http://news.xinhuanet.com/fortune/2006-12/14/xin_50212031422421092003927.jpg&amp;imgrefurl=http://news.xinhuanet.com/fortune/2006-12/14/content_5487940.htm&amp;usg=__zVFnZfkUrYpK6Uz30VGQE0uoDq4=&amp;h=500&amp;w=410&amp;sz=52&amp;hl=zh-CN&amp;start=85&amp;itbs=1&amp;tbnid=knxkABlz_XkTdM:&amp;tbnh=130&amp;tbnw=107&amp;prev=/images%3Fq%3D%25E5%258D%258F%25E8%25B0%2583%26start%3D72%26hl%3Dzh-CN%26newwindow%3D1%26safe%3Dstrict%26client%3Daff-360daohang%26hs%3DteV%26affdom%3D360.cn%26sa%3DN%26ndsp%3D18%26tbs%3Disch:1"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hk/imgres?imgurl=http://cimg21.163.com/lady/2008/1/17/20080117174236e26d7.jpg&amp;imgrefurl=http://blog.sina.com.cn/zhongyaosanyecao&amp;usg=__iqRndd2ZPT5EdHvatkkewdPwGUQ=&amp;h=500&amp;w=358&amp;sz=13&amp;hl=zh-CN&amp;start=36&amp;itbs=1&amp;tbnid=X8Lh9W3qcRqjxM:&amp;tbnh=130&amp;tbnw=93&amp;prev=/images%3Fq%3D%25E5%25BC%2580%25E6%2594%25BE%25E6%2584%258F%25E8%25AF%2586%26start%3D18%26hl%3Dzh-CN%26newwindow%3D1%26safe%3Dstrict%26client%3Daff-360daohang%26hs%3DwKq%26affdom%3D360.cn%26sa%3DN%26ndsp%3D18%26tbs%3Disch:1" TargetMode="External"/><Relationship Id="rId2" Type="http://schemas.openxmlformats.org/officeDocument/2006/relationships/image" Target="../media/image43.jpeg"/><Relationship Id="rId3" Type="http://schemas.openxmlformats.org/officeDocument/2006/relationships/hyperlink" Target="http://images.google.com.hk/imgres?imgurl=http://finance.eastday.com/m/20081218/images/01463524.jpg&amp;imgrefurl=http://finance.eastday.com/m/20081218/u1a4051993.html&amp;usg=__Yau5OGTxRto6jYh0iGnfvpKkTfs=&amp;h=317&amp;w=475&amp;sz=51&amp;hl=zh-CN&amp;start=10&amp;itbs=1&amp;tbnid=xhyptDp8E0pHnM:&amp;tbnh=86&amp;tbnw=129&amp;prev=/images%3Fq%3D%25E5%25BC%2580%25E6%2594%25BE%26hl%3Dzh-CN%26newwindow%3D1%26safe%3Dstrict%26client%3Daff-360daohang%26hs%3D8Lq%26affdom%3D360.cn%26sa%3DG%26tbs%3Disch:1" TargetMode="External"/><Relationship Id="rId4" Type="http://schemas.openxmlformats.org/officeDocument/2006/relationships/image" Target="../media/image44.jpeg"/><Relationship Id="rId5" Type="http://schemas.openxmlformats.org/officeDocument/2006/relationships/hyperlink" Target="http://images.google.com.hk/imgres?imgurl=http://i0.sinaimg.cn/dy/c/2008-11-14/U2181P1T1D16653646F21DT20081114095132.jpg&amp;imgrefurl=http://news.sina.com.cn/c/2008-11-14/094516653646.shtml&amp;usg=__9kaT8wx1V-21NCzsCg3jhNV9TkQ=&amp;h=500&amp;w=384&amp;sz=35&amp;hl=zh-CN&amp;start=33&amp;itbs=1&amp;tbnid=81DK9qF1gY4YXM:&amp;tbnh=130&amp;tbnw=100&amp;prev=/images%3Fq%3D%25E5%25BC%2580%25E6%2594%25BE%26start%3D18%26hl%3Dzh-CN%26newwindow%3D1%26safe%3Dstrict%26client%3Daff-360daohang%26hs%3Dt1%26affdom%3D360.cn%26sa%3DN%26ndsp%3D18%26tbs%3Disch:1" TargetMode="External"/><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s.google.com.hk/imgres?imgurl=http://static16.photo.sina.com.cn/bmiddle/5f25f944t65839ecbfe4f&amp;imgrefurl=http://blog.sina.com.cn/u/1596324164&amp;usg=__McDRVwqaXFKIN7Vtdd_Pfnj49XI=&amp;h=282&amp;w=425&amp;sz=231&amp;hl=zh-CN&amp;start=64&amp;itbs=1&amp;tbnid=zULfYkQnuRLuFM:&amp;tbnh=84&amp;tbnw=126&amp;prev=/images%3Fq%3D%25E4%25BA%2592%25E6%2583%25A0%26start%3D54%26hl%3Dzh-CN%26newwindow%3D1%26safe%3Dstrict%26client%3Daff-360daohang%26hs%3D32%26affdom%3D360.cn%26sa%3DN%26ndsp%3D18%26tbs%3Disch:1"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images.google.com.hk/imgres?imgurl=http://news.xinhuanet.com/politics/2006-02/03/xinsrc_0420203031705968558026.jpg&amp;imgrefurl=http://news.xinhuanet.com/politics/2006-02/03/content_4132223.htm&amp;usg=__kXeVmhQRMyYgR_1yDQBCIXx2ClE=&amp;h=298&amp;w=300&amp;sz=27&amp;hl=zh-CN&amp;start=51&amp;itbs=1&amp;tbnid=vYR0ElWPddvowM:&amp;tbnh=115&amp;tbnw=116&amp;prev=/images%3Fq%3D%25E5%2588%259B%25E6%2596%25B0%26start%3D36%26hl%3Dzh-CN%26newwindow%3D1%26safe%3Dstrict%26client%3Daff-360daohang%26hs%3DGjV%26affdom%3D360.cn%26sa%3DN%26ndsp%3D18%26tbs%3Disch:1" TargetMode="External"/><Relationship Id="rId2" Type="http://schemas.openxmlformats.org/officeDocument/2006/relationships/image" Target="../media/image47.jpeg"/><Relationship Id="rId3" Type="http://schemas.openxmlformats.org/officeDocument/2006/relationships/hyperlink" Target="http://images.google.com.hk/imgres?imgurl=http://www.hbedup.com/bookshop/bookpic/200812/&#23567;&#23398;&#25968;&#23398;&#24212;&#29992;&#39064;&#21019;&#26032;&#35757;&#32451;1&#24180;&#32423;.jpg&amp;imgrefurl=http://www.hbedup.com/bookshop/NewShop.asp%3FPage%3D4%26Action%3D&amp;usg=__DK8iUpPRjlzQ8zCZB3hooHrDeX8=&amp;h=807&amp;w=565&amp;sz=88&amp;hl=zh-CN&amp;start=60&amp;itbs=1&amp;tbnid=IU3LhoZ1jA_hsM:&amp;tbnh=143&amp;tbnw=100&amp;prev=/images%3Fq%3D%25E5%2588%259B%25E6%2596%25B0%26start%3D54%26hl%3Dzh-CN%26newwindow%3D1%26safe%3Dstrict%26client%3Daff-360daohang%26hs%3DO4%26affdom%3D360.cn%26sa%3DN%26ndsp%3D18%26tbs%3Disch:1"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hk/imgres?imgurl=http://www.sznews.com/travel/images/attachement/jpg/site3/20100525/001e4f9d7beb0d6580cd4b.jpg&amp;imgrefurl=http://www.sznews.com/travel/content/2010-05/25/content_4623324.htm&amp;usg=__KRqrqqYgb-s98ynkAp82DJTmHwE=&amp;h=500&amp;w=333&amp;sz=61&amp;hl=zh-CN&amp;start=115&amp;itbs=1&amp;tbnid=7dVvviAfBEOnNM:&amp;tbnh=130&amp;tbnw=87&amp;prev=/images%3Fq%3D%25E5%258E%2586%25E5%258F%25B2%26start%3D108%26hl%3Dzh-CN%26newwindow%3D1%26safe%3Dstrict%26client%3Daff-360daohang%26hs%3DnQq%26affdom%3D360.cn%26sa%3DN%26ndsp%3D18%26tbs%3Disch:1" TargetMode="External"/><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s.google.com.hk/imgres?imgurl=http://www.sznews.com/home/images/attachement/jpg/site3/20090317/001558d90b330b298a5a4d.jpg&amp;imgrefurl=http://www.sznews.com/home/content/2009-03/17/content_3639369.htm&amp;usg=__WjbpE3N6aVaCfaZe9laJUeedSI4=&amp;h=535&amp;w=402&amp;sz=38&amp;hl=zh-CN&amp;start=24&amp;itbs=1&amp;tbnid=Qx7bu1oU1WsW2M:&amp;tbnh=132&amp;tbnw=99&amp;prev=/images%3Fq%3D%25E8%258A%25B1%26start%3D18%26hl%3Dzh-CN%26newwindow%3D1%26safe%3Dstrict%26client%3Daff-360daohang%26hs%3DRmV%26affdom%3D360.cn%26sa%3DN%26ndsp%3D18%26tbs%3Disch:1"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2" Type="http://schemas.openxmlformats.org/officeDocument/2006/relationships/image" Target="../media/image51.jpeg"/><Relationship Id="rId3"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4" Type="http://schemas.openxmlformats.org/officeDocument/2006/relationships/image" Target="../media/image51.jpeg"/><Relationship Id="rId5"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6" Type="http://schemas.openxmlformats.org/officeDocument/2006/relationships/image" Target="../media/image51.jpeg"/><Relationship Id="rId7"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12&amp;rn=1&amp;di=12698990373&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google.com.hk/imgres?imgurl=http://www.guoxue.com/shibu/24shi/sangzz/gx.gif&amp;imgrefurl=http://www.guoxue.com/shibu/24shi/sangzz/sgzz_065.htm&amp;usg=__gPy3XgmVJ3hRnkZQKVX0pFmQOBw=&amp;h=50&amp;w=110&amp;sz=3&amp;hl=zh-CN&amp;start=12&amp;um=1&amp;itbs=1&amp;tbnid=PRxHGZc_h1trYM:&amp;tbnh=39&amp;tbnw=85&amp;prev=/images%3Fq%3D%25E9%2582%25B5%25E5%2585%25AC%25E8%25B0%258F%25E5%25BC%25A5%25E8%25B0%25A4%26um%3D1%26hl%3Dzh-CN%26newwindow%3D1%26safe%3Dstrict%26client%3Daff-360daohang%26hs%3D0WB%26affdom%3D360.cn%26sa%3DG%26source%3Dog%26tbs%3Disch:1" TargetMode="External"/><Relationship Id="rId2" Type="http://schemas.openxmlformats.org/officeDocument/2006/relationships/image" Target="../media/image52.jpeg"/><Relationship Id="rId3" Type="http://schemas.openxmlformats.org/officeDocument/2006/relationships/hyperlink" Target="http://www.google.com.hk/imgres?imgurl=http://pe.images22.51img1.com/6000/jianzhifeixue/e1ca9b53b715bffe654961c3b6691a4f.gif&amp;imgrefurl=http://qun.51.com/zhuyugong/topic.php%3Fpid%3D10632&amp;usg=__PCDRnugr08hEBfdd-wkWBLg16MU=&amp;h=340&amp;w=340&amp;sz=193&amp;hl=zh-CN&amp;start=64&amp;um=1&amp;itbs=1&amp;tbnid=BQC6_4-_AygyaM:&amp;tbnh=119&amp;tbnw=119&amp;prev=/images%3Fq%3D%25E9%2582%25B5%25E5%2585%25AC%25E8%25B0%258F%25E5%25BC%25A5%25E8%25B0%25A4%26start%3D54%26um%3D1%26hl%3Dzh-CN%26newwindow%3D1%26safe%3Dstrict%26client%3Daff-360daohang%26hs%3DCEW%26affdom%3D360.cn%26sa%3DN%26source%3Dog%26ndsp%3D18%26tbs%3Disch: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laotudou.com/t8/wp-content/uploads/2008/10/e9a9ace8bf9ce7bb98e5ad94e5ad90e5838f.jpg&amp;imgrefurl=http://www.laotudou.com/t8/724&amp;usg=__KjyODHopEChI8mwfvVzP-eVX_qE=&amp;h=514&amp;w=400&amp;sz=90&amp;hl=zh-CN&amp;start=1&amp;um=1&amp;itbs=1&amp;tbnid=kxnE1I2AniNFbM:&amp;tbnh=131&amp;tbnw=102&amp;prev=/images%3Fq%3D%25E5%25AD%2594%25E5%25AD%2590%26um%3D1%26hl%3Dzh-CN%26newwindow%3D1%26safe%3Dstrict%26client%3Daff-360daohang%26hs%3D99V%26affdom%3D360.cn%26sa%3DN%26source%3Dog%26tbs%3Disch:1" TargetMode="External"/><Relationship Id="rId2" Type="http://schemas.openxmlformats.org/officeDocument/2006/relationships/image" Target="../media/image54.jpeg"/><Relationship Id="rId3" Type="http://schemas.openxmlformats.org/officeDocument/2006/relationships/hyperlink" Target="http://www.google.com.hk/imgres?imgurl=http://www.8mhh.com/uploadfile/2009/0408/20090408091625708.jpg&amp;imgrefurl=http://www.8mhh.com/2009/0408/638.html&amp;usg=__Qa0li5kGoH_wv4LO9I5Svt5sf1I=&amp;h=293&amp;w=300&amp;sz=65&amp;hl=zh-CN&amp;start=30&amp;um=1&amp;itbs=1&amp;tbnid=9JgGu_-4kd6dRM:&amp;tbnh=113&amp;tbnw=116&amp;prev=/images%3Fq%3D%25E5%25AD%2594%25E5%25AD%2590%26start%3D18%26um%3D1%26hl%3Dzh-CN%26newwindow%3D1%26safe%3Dstrict%26client%3Daff-360daohang%26hs%3Dvpq%26affdom%3D360.cn%26sa%3DN%26source%3Dog%26ndsp%3D18%26tbs%3Disch:1" TargetMode="External"/><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oogle.com.hk/imgres?imgurl=http://big5.hwjyw.com/zhwh/ctwh/zgwx/gdwx/200712/W020071214339009743324.jpg&amp;imgrefurl=http://big5.hwjyw.com/zhwh/ctwh/zgwx/gdwx/200712/t20071214_10240.shtml&amp;usg=__W0lezo71mt-bGK3GFPxYTQYTsPk=&amp;h=354&amp;w=354&amp;sz=25&amp;hl=zh-CN&amp;start=2&amp;um=1&amp;itbs=1&amp;tbnid=v08n_2VCaT6VzM:&amp;tbnh=121&amp;tbnw=121&amp;prev=/images%3Fq%3D%25E5%25AD%259F%25E5%25AD%2590%26um%3D1%26hl%3Dzh-CN%26newwindow%3D1%26safe%3Dstrict%26client%3Daff-360daohang%26hs%3DVFW%26affdom%3D360.cn%26sa%3DG%26source%3Dog%26tbs%3Disch:1"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google.com.hk/imgres?imgurl=http://culture.china.com/zh_cn/history/diwang/11036694/20070822/images/14293436_399876.jpg&amp;imgrefurl=http://culture.china.com/zh_cn/history/diwang/11036694/20070822/14293436.html&amp;usg=__rd_yxGLzUS0U7q0tKzuEKQtaRc8=&amp;h=329&amp;w=300&amp;sz=27&amp;hl=zh-CN&amp;start=3&amp;um=1&amp;itbs=1&amp;tbnid=dQ1YPvz_G4bLSM:&amp;tbnh=119&amp;tbnw=109&amp;prev=/images%3Fq%3D%25E9%25AD%258F%25E5%25BE%2581%26um%3D1%26hl%3Dzh-CN%26newwindow%3D1%26safe%3Dstrict%26client%3Daff-360daohang%26hs%3DjIW%26affdom%3D360.cn%26sa%3DG%26source%3Dog%26tbs%3Disch:1"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2" Type="http://schemas.openxmlformats.org/officeDocument/2006/relationships/image" Target="../media/image58.jpeg"/><Relationship Id="rId3"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4" Type="http://schemas.openxmlformats.org/officeDocument/2006/relationships/image" Target="../media/image58.jpeg"/><Relationship Id="rId5"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6" Type="http://schemas.openxmlformats.org/officeDocument/2006/relationships/image" Target="../media/image58.jpeg"/><Relationship Id="rId7"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8" Type="http://schemas.openxmlformats.org/officeDocument/2006/relationships/image" Target="../media/image58.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google.com.hk/imgres?imgurl=http://www.wallcoo.com/nature/crossmap-01/images/Christian-wallpapers-Bible-verses-0406_04.jpg&amp;imgrefurl=http://www.wallcoo.com/nature/crossmap-01/html/wallpaper9.html&amp;usg=__9TYzw0tbFyXWQubOXlIZNJkz080=&amp;h=525&amp;w=700&amp;sz=34&amp;hl=zh-CN&amp;start=94&amp;um=1&amp;itbs=1&amp;tbnid=apDnHZZx5Kz-UM:&amp;tbnh=105&amp;tbnw=140&amp;prev=/images%3Fq%3D%25E5%259C%25A3%25E7%25BB%258F%26start%3D90%26um%3D1%26hl%3Dzh-CN%26newwindow%3D1%26safe%3Dstrict%26client%3Daff-360daohang%26hs%3Db0B%26affdom%3D360.cn%26sa%3DN%26ndsp%3D18%26tbs%3Disch:1" TargetMode="External"/><Relationship Id="rId2" Type="http://schemas.openxmlformats.org/officeDocument/2006/relationships/image" Target="../media/image59.jpeg"/><Relationship Id="rId3" Type="http://schemas.openxmlformats.org/officeDocument/2006/relationships/hyperlink" Target="http://www.google.com.hk/imgres?imgurl=http://www.julia4christ.org/images/bible.gif&amp;imgrefurl=http://www.julia4christ.org/Faith/JFlearn.htm&amp;usg=__i0gQiLjsLKnjX1wdQnI9btUyvi0=&amp;h=302&amp;w=319&amp;sz=4&amp;hl=zh-CN&amp;start=9&amp;um=1&amp;itbs=1&amp;tbnid=l9x9JbjgVqoFsM:&amp;tbnh=112&amp;tbnw=118&amp;prev=/images%3Fq%3D%25E5%259C%25A3%25E7%25BB%258F%26um%3D1%26hl%3Dzh-CN%26newwindow%3D1%26safe%3Dstrict%26client%3Daff-360daohang%26hs%3DDgW%26affdom%3D360.cn%26sa%3DN%26ndsp%3D18%26tbs%3Disch:1" TargetMode="External"/><Relationship Id="rId4" Type="http://schemas.openxmlformats.org/officeDocument/2006/relationships/image" Target="../media/image60.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2" Type="http://schemas.openxmlformats.org/officeDocument/2006/relationships/image" Target="../media/image61.jpeg"/><Relationship Id="rId3"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4" Type="http://schemas.openxmlformats.org/officeDocument/2006/relationships/image" Target="../media/image61.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8" Type="http://schemas.openxmlformats.org/officeDocument/2006/relationships/image" Target="../media/image61.jpe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2" Type="http://schemas.openxmlformats.org/officeDocument/2006/relationships/image" Target="../media/image62.jpeg"/><Relationship Id="rId3"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4" Type="http://schemas.openxmlformats.org/officeDocument/2006/relationships/image" Target="../media/image62.jpeg"/><Relationship Id="rId5"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6" Type="http://schemas.openxmlformats.org/officeDocument/2006/relationships/image" Target="../media/image62.jpeg"/><Relationship Id="rId7"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8" Type="http://schemas.openxmlformats.org/officeDocument/2006/relationships/image" Target="../media/image62.jpe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2" Type="http://schemas.openxmlformats.org/officeDocument/2006/relationships/image" Target="../media/image63.jpeg"/><Relationship Id="rId3"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4" Type="http://schemas.openxmlformats.org/officeDocument/2006/relationships/image" Target="../media/image63.jpeg"/><Relationship Id="rId5"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6" Type="http://schemas.openxmlformats.org/officeDocument/2006/relationships/image" Target="../media/image63.jpeg"/><Relationship Id="rId7"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images.google.com.hk/imgres?imgurl=http://www.yejs.cn/Article/UploadFiles/200709/200792682916653.jpg&amp;imgrefurl=http://www.yejs.cn/Article/HTML/33300.html&amp;usg=__LthcdAGPdBB2n-5vUQX_1BcTDRg=&amp;h=600&amp;w=433&amp;sz=28&amp;hl=zh-CN&amp;start=227&amp;itbs=1&amp;tbnid=2JZCsMZPK7d23M:&amp;tbnh=135&amp;tbnw=97&amp;prev=/images%3Fq%3D%25E8%258A%25B1%26start%3D216%26hl%3Dzh-CN%26newwindow%3D1%26safe%3Dstrict%26client%3Daff-360daohang%26hs%3DkPr%26affdom%3D360.cn%26sa%3DN%26ndsp%3D18%26tbs%3Disch:1" TargetMode="External"/><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google.com.hk/imgres?imgurl=http://www.chinapr.com.cn/public/UploadFiles/2008714182855869.jpg&amp;imgrefurl=http://www.chinapr.com.cn/business/yp/companylist.asp%3Ftype%3D1&amp;usg=__WvLanDGz6JcXyEdXnKnJsouKiMA=&amp;h=208&amp;w=421&amp;sz=97&amp;hl=zh-CN&amp;start=24&amp;um=1&amp;itbs=1&amp;tbnid=--fqduPp5-IUmM:&amp;tbnh=62&amp;tbnw=125&amp;prev=/images%3Fq%3D%25E5%258D%259A%25E9%259B%2585%25E5%2585%25AC%25E5%258F%25B8%26start%3D18%26um%3D1%26hl%3Dzh-CN%26newwindow%3D1%26safe%3Dstrict%26client%3Daff-360daohang%26hs%3DFnW%26affdom%3D360.cn%26sa%3DN%26ndsp%3D18%26tbs%3Disch:1" TargetMode="External"/><Relationship Id="rId2" Type="http://schemas.openxmlformats.org/officeDocument/2006/relationships/image" Target="../media/image65.jpeg"/><Relationship Id="rId3" Type="http://schemas.openxmlformats.org/officeDocument/2006/relationships/hyperlink" Target="http://www.google.com.hk/imgres?imgurl=http://i02.c.aliimg.com/blog/upload/2010/01/07/21/a16255f0bd054fa39af7d77cae4e06fe&amp;imgrefurl=http://www.bokee.net/bloggermodule/blog_viewblog.do%3Fid%3D4351090&amp;usg=__lcJms-mWqLQetcyqhPcHoa07zd8=&amp;h=431&amp;w=385&amp;sz=38&amp;hl=zh-CN&amp;start=52&amp;um=1&amp;itbs=1&amp;tbnid=QLhiXvl0h71dLM:&amp;tbnh=126&amp;tbnw=113&amp;prev=/images%3Fq%3D%25E5%258D%259A%25E9%259B%2585%25E5%2585%25AC%25E5%2585%25B3%25E5%2585%25AC%25E5%258F%25B8%26start%3D36%26um%3D1%26hl%3Dzh-CN%26newwindow%3D1%26safe%3Dstrict%26client%3Daff-360daohang%26hs%3D09B%26affdom%3D360.cn%26sa%3DN%26ndsp%3D18%26tbs%3Disch:1" TargetMode="External"/><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google.com.hk/imgres?imgurl=http://img.ev123.com/pic/edithtml/companyinfo_1247655102995.gif&amp;imgrefurl=http://vip.ev123.com/pinpai_16.html&amp;usg=__NJyHp5LL8dG14hzYVGmXtjuoae0=&amp;h=70&amp;w=230&amp;sz=10&amp;hl=zh-CN&amp;start=9&amp;um=1&amp;itbs=1&amp;tbnid=XSEKohquki_eAM:&amp;tbnh=33&amp;tbnw=108&amp;prev=/images%3Fq%3D%25E7%258E%25AF%25E7%2590%2583%25E5%2585%25AC%25E5%2585%25B1%25E5%2585%25B3%25E7%25B3%25BB%26um%3D1%26hl%3Dzh-CN%26newwindow%3D1%26safe%3Dstrict%26client%3Daff-360daohang%26hs%3DlVr%26affdom%3D360.cn%26sa%3DG%26tbs%3Disch:1" TargetMode="External"/><Relationship Id="rId2" Type="http://schemas.openxmlformats.org/officeDocument/2006/relationships/image" Target="../media/image67.jpeg"/><Relationship Id="rId3" Type="http://schemas.openxmlformats.org/officeDocument/2006/relationships/hyperlink" Target="http://www.google.com.hk/imgres?imgurl=http://img3.imcbrand.com/MemberUpPic/100129/28X86B_14312059375.jpg&amp;imgrefurl=http://b2b.imcbrand.com/chancesdetail.aspx%3Foid%3D1101&amp;usg=__ScSdqq2Tj9D6_sb8L9DcSfeYRoo=&amp;h=138&amp;w=204&amp;sz=7&amp;hl=zh-CN&amp;start=8&amp;um=1&amp;itbs=1&amp;tbnid=MytXjB2n5F2cXM:&amp;tbnh=71&amp;tbnw=105&amp;prev=/images%3Fq%3D%25E7%258E%25AF%25E7%2590%2583%25E5%2585%25AC%25E5%2585%25B1%25E5%2585%25B3%25E7%25B3%25BB%26um%3D1%26hl%3Dzh-CN%26newwindow%3D1%26safe%3Dstrict%26client%3Daff-360daohang%26hs%3DlVr%26affdom%3D360.cn%26sa%3DG%26tbs%3Disch:1" TargetMode="External"/><Relationship Id="rId4" Type="http://schemas.openxmlformats.org/officeDocument/2006/relationships/image" Target="../media/image68.jpeg"/><Relationship Id="rId5" Type="http://schemas.openxmlformats.org/officeDocument/2006/relationships/hyperlink" Target="http://www.google.com.hk/imgres?imgurl=http://www.czhq.cn/newEbiz1/519czhqres/images/common/FG/global_r2_c1.jpg&amp;imgrefurl=http://www.czhq.cn/&amp;usg=__b4cSyrh_ncGLXBQkOlOAAJeM4fk=&amp;h=93&amp;w=215&amp;sz=8&amp;hl=zh-CN&amp;start=39&amp;um=1&amp;itbs=1&amp;tbnid=4yZB7Bnl0dVr-M:&amp;tbnh=46&amp;tbnw=106&amp;prev=/images%3Fq%3D%25E7%258E%25AF%25E7%2590%2583%25E5%2585%25AC%25E5%2585%25B1%25E5%2585%25B3%25E7%25B3%25BB%26start%3D36%26um%3D1%26hl%3Dzh-CN%26newwindow%3D1%26safe%3Dstrict%26client%3Daff-360daohang%26hs%3DACC%26affdom%3D360.cn%26sa%3DN%26ndsp%3D18%26tbs%3Disch:1" TargetMode="External"/><Relationship Id="rId6" Type="http://schemas.openxmlformats.org/officeDocument/2006/relationships/image" Target="../media/image69.jpe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hk/imgres?imgurl=http://3cq.org/upload_files/51/BfkDf72007917102846557.jpg&amp;imgrefurl=http://3cq.org/bencandy.php%3Ffid-51-id-9565-page-1.htm&amp;usg=__UjZJ-51p075uzCv8031jZ2NAdtg=&amp;h=600&amp;w=438&amp;sz=53&amp;hl=zh-CN&amp;start=271&amp;itbs=1&amp;tbnid=U26mvFn8Ps2T4M:&amp;tbnh=135&amp;tbnw=99&amp;prev=/images%3Fq%3D%25E8%258A%25B1%26start%3D270%26hl%3Dzh-CN%26newwindow%3D1%26safe%3Dstrict%26client%3Daff-360daohang%26hs%3D3Yr%26affdom%3D360.cn%26sa%3DN%26ndsp%3D18%26tbs%3Disch:1"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google.com.hk/imgres?imgurl=http://images.beijing2008.cn/20080331/Img214287488.jpg&amp;imgrefurl=http://www.beijing2008.cn/spirit/beijing2008/graphic/n214287487.shtml&amp;usg=__KbafZRdDCjQ8srClnSIOykMQENE=&amp;h=390&amp;w=367&amp;sz=28&amp;hl=zh-CN&amp;start=4&amp;um=1&amp;itbs=1&amp;tbnid=FROHbCj5g-o4bM:&amp;tbnh=123&amp;tbnw=116&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1.jpeg"/><Relationship Id="rId3" Type="http://schemas.openxmlformats.org/officeDocument/2006/relationships/hyperlink" Target="http://www.google.com.hk/imgres?imgurl=http://www.vegoo.net/admin/editor/UploadFile/2008810124543654.jpg&amp;imgrefurl=http://www.vegoo.net/info/71620_466.html&amp;usg=__JTAl15-aO00ThOuB0G2bNOnSFDg=&amp;h=304&amp;w=550&amp;sz=64&amp;hl=zh-CN&amp;start=2&amp;um=1&amp;itbs=1&amp;tbnid=0kf_BYdy-D5TDM:&amp;tbnh=74&amp;tbnw=133&amp;prev=/images%3Fq%3D%25E5%25A5%25A5%25E8%25BF%2590%25E4%25BC%259A%26um%3D1%26hl%3Dzh-CN%26newwindow%3D1%26safe%3Dstrict%26client%3Daff-360daohang%26hs%3Dlbr%26affdom%3D360.cn%26sa%3DG%26tbs%3Disch:1" TargetMode="External"/><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google.com.hk/imgres?imgurl=http://bbs.cn.yimg.com/user_img/200805/30/ba07180532_1590000555743_713657356.jpg&amp;imgrefurl=http://ks.cn.yahoo.com/question/1590000555743.html&amp;usg=__uFCQYivMNjZx6OqCVqhjyUACFzI=&amp;h=303&amp;w=400&amp;sz=15&amp;hl=zh-CN&amp;start=16&amp;um=1&amp;itbs=1&amp;tbnid=xy1HwleHQhCUeM:&amp;tbnh=94&amp;tbnw=124&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3.jpeg"/><Relationship Id="rId3" Type="http://schemas.openxmlformats.org/officeDocument/2006/relationships/hyperlink" Target="http://www.google.com.hk/imgres?imgurl=http://static2.photo.sina.com.cn/bmiddle/53842a274401ba8e7f011&amp;imgrefurl=http://blog.sina.com.cn/s/blog_53842a2701000bgo.html&amp;usg=__-c0Zrv93XjcwNdIbmB4OVWu_9UE=&amp;h=300&amp;w=300&amp;sz=37&amp;hl=zh-CN&amp;start=50&amp;um=1&amp;itbs=1&amp;tbnid=BPk3c62UT7jQpM:&amp;tbnh=116&amp;tbnw=116&amp;prev=/images%3Fq%3D%25E5%25A5%25A5%25E8%25BF%2590%25E4%25BC%259A%26start%3D36%26um%3D1%26hl%3Dzh-CN%26newwindow%3D1%26safe%3Dstrict%26client%3Daff-360daohang%26hs%3DbJC%26affdom%3D360.cn%26sa%3DN%26ndsp%3D18%26tbs%3Disch:1" TargetMode="External"/><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google.com.hk/imgres?imgurl=http://blog.caixun.com/attachments/2009/10/803629_200910150931591c0Ht.jpg&amp;imgrefurl=http://blog.caixun.com/%3Fuid-803629-action-viewspace-itemid-31477&amp;usg=__MZBSMMWuzuSUQ9l814en-rJ_8aU=&amp;h=885&amp;w=600&amp;sz=102&amp;hl=zh-CN&amp;start=11&amp;um=1&amp;itbs=1&amp;tbnid=JudF7k-PM3Ee9M:&amp;tbnh=146&amp;tbnw=99&amp;prev=/images%3Fq%3D%25E6%25B2%2583%25E5%25B0%2594%25E7%258E%259B%26um%3D1%26hl%3Dzh-CN%26newwindow%3D1%26safe%3Dstrict%26client%3Daff-360daohang%26hs%3DhzW%26affdom%3D360.cn%26sa%3DG%26tbs%3Disch:1" TargetMode="External"/><Relationship Id="rId2" Type="http://schemas.openxmlformats.org/officeDocument/2006/relationships/image" Target="../media/image75.jpeg"/><Relationship Id="rId3" Type="http://schemas.openxmlformats.org/officeDocument/2006/relationships/hyperlink" Target="http://www.google.com.hk/imgres?imgurl=http://www.jing123.com/attachments/2009/04/7431_200904281026021Jj3U.jpg&amp;imgrefurl=http://www.jing123.com/%3Faction-model-name-zhuanti-itemid-415&amp;usg=__awABYkXPL0-Muzzc-ZB5xOyyAoo=&amp;h=353&amp;w=500&amp;sz=23&amp;hl=zh-CN&amp;start=7&amp;um=1&amp;itbs=1&amp;tbnid=twu6PcB5f46zwM:&amp;tbnh=92&amp;tbnw=130&amp;prev=/images%3Fq%3D%25E6%25B2%2583%25E5%25B0%2594%25E7%258E%259B%26um%3D1%26hl%3Dzh-CN%26newwindow%3D1%26safe%3Dstrict%26client%3Daff-360daohang%26hs%3DhzW%26affdom%3D360.cn%26sa%3DG%26tbs%3Disch:1" TargetMode="External"/><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2" Type="http://schemas.openxmlformats.org/officeDocument/2006/relationships/image" Target="../media/image77.jpeg"/><Relationship Id="rId3"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4" Type="http://schemas.openxmlformats.org/officeDocument/2006/relationships/image" Target="../media/image77.jpeg"/><Relationship Id="rId5"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6" Type="http://schemas.openxmlformats.org/officeDocument/2006/relationships/image" Target="../media/image77.jpeg"/><Relationship Id="rId7"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8" Type="http://schemas.openxmlformats.org/officeDocument/2006/relationships/image" Target="../media/image77.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B%A8&amp;in=26483&amp;cl=2&amp;cm=1&amp;sc=0&amp;lm=-1&amp;pn=6&amp;rn=1&amp;di=1236629823&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google.com.hk/imgres?imgurl=http://www.yahoosme.com/yys800/images/20060718164334.gif&amp;imgrefurl=http://lifazhi.blog.bokee.net/bloggermodule/blog_viewblog.do%3Fid%3D213191&amp;usg=__3G2ss-w167uFIF88ZV5mJ_zrEsk=&amp;h=176&amp;w=176&amp;sz=26&amp;hl=zh-CN&amp;start=33&amp;um=1&amp;itbs=1&amp;tbnid=CUvxW6eJ8RavjM:&amp;tbnh=100&amp;tbnw=100&amp;prev=/images%3Fq%3D%25E8%2581%258C%25E4%25B8%259A%25E5%2589%258D%25E6%2599%25AF%26start%3D18%26um%3D1%26hl%3Dzh-CN%26newwindow%3D1%26safe%3Dstrict%26client%3Daff-360daohang%26hs%3DDur%26affdom%3D360.cn%26sa%3DN%26ndsp%3D18%26tbs%3Disch:1" TargetMode="External"/><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om.hk/imgres?imgurl=http://www.xazwy.com/haode/image/1&#33457;&#21327;&#39318;&#39029;.jpg&amp;imgrefurl=http://www.xazwy.com/haode/shouye.html&amp;usg=__Tydkcmn_9qIky6U3HjUs77M4_xU=&amp;h=598&amp;w=362&amp;sz=94&amp;hl=zh-CN&amp;start=321&amp;itbs=1&amp;tbnid=EibfZpXEfXIk9M:&amp;tbnh=135&amp;tbnw=82&amp;prev=/images%3Fq%3D%25E8%258A%25B1%26start%3D306%26hl%3Dzh-CN%26newwindow%3D1%26safe%3Dstrict%26client%3Daff-360daohang%26hs%3Duwr%26affdom%3D360.cn%26sa%3DN%26ndsp%3D18%26tbs%3Disch:1" TargetMode="External"/><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google.com.hk/imgres?imgurl=http://www.spokesmen.org.cn/upload/200972167337897.jpg&amp;imgrefurl=http://www.spokesmen.org.cn/info/shownews.asp%3Fnewsid%3D10062&amp;usg=__0osgn0STw6E6Y4OX-LKY9HB5tGE=&amp;h=500&amp;w=500&amp;sz=44&amp;hl=zh-CN&amp;start=5&amp;um=1&amp;itbs=1&amp;tbnid=PIS2i-cmASZtDM:&amp;tbnh=130&amp;tbnw=130&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google.com.hk/imgres?imgurl=http://www.globalipo.cn/jpg/gethttppic/2009-7/20097161048338491.jpg&amp;imgrefurl=http://www.globalipo.cn/news/ReadNews.asp%3FNewsID%3D30255&amp;usg=__HFRrFNFQ3iawsh2TYFCs1QNJdAI=&amp;h=525&amp;w=350&amp;sz=39&amp;hl=zh-CN&amp;start=17&amp;um=1&amp;itbs=1&amp;tbnid=CbZPPBlk-yKlzM:&amp;tbnh=132&amp;tbnw=88&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google.com.hk/imgres?imgurl=http://www.safety.com.cn/yiyuan/manhua/20030803-1201.gif&amp;imgrefurl=http://www.hbsafety.cn/salon/295/301/200611/salon_11676.html&amp;usg=__mY066sOm84L2nzbvlwFGp0QK5hE=&amp;h=451&amp;w=393&amp;sz=30&amp;hl=zh-CN&amp;start=128&amp;um=1&amp;itbs=1&amp;tbnid=MLViLRL0OG95AM:&amp;tbnh=127&amp;tbnw=111&amp;prev=/images%3Fq%3D%25E8%2581%258C%25E4%25B8%259A%25E5%2587%2586%25E5%2588%2599%26start%3D126%26um%3D1%26hl%3Dzh-CN%26newwindow%3D1%26safe%3Dstrict%26client%3Daff-360daohang%26hs%3Ds2r%26affdom%3D360.cn%26sa%3DN%26ndsp%3D18%26tbs%3Disch:1"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images.google.com.hk/imgres?imgurl=http://www.qsg.cn/sdmh/image/md.gif&amp;imgrefurl=http://www.qsg.cn/sdmh/&amp;usg=__weKMu4sQ8KZoKIg-TrFPje_SWME=&amp;h=350&amp;w=280&amp;sz=30&amp;hl=zh-CN&amp;start=421&amp;itbs=1&amp;tbnid=k0eYrw2s6fzuuM:&amp;tbnh=120&amp;tbnw=96&amp;prev=/images%3Fq%3D%25E8%258A%25B1%26start%3D414%26hl%3Dzh-CN%26newwindow%3D1%26safe%3Dstrict%26client%3Daff-360daohang%26hs%3DFOX%26affdom%3D360.cn%26sa%3DN%26ndsp%3D18%26tbs%3Disch:1" TargetMode="External"/><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images.google.com.hk/imgres?imgurl=http://image.post.tom.com/ArticleImage/19/135/3E000F022009/0317/1237269182.jpg&amp;imgrefurl=http://post-social.news.tom.com/s/E8000AA32601.html&amp;usg=__CBoChS-lPaLpcSQa9cH47gXloxs=&amp;h=464&amp;w=700&amp;sz=49&amp;hl=zh-CN&amp;start=673&amp;itbs=1&amp;tbnid=Q8grG9Z3owscrM:&amp;tbnh=93&amp;tbnw=140&amp;prev=/images%3Fq%3D%25E8%258A%25B1%26start%3D666%26hl%3Dzh-CN%26newwindow%3D1%26safe%3Dstrict%26client%3Daff-360daohang%26hs%3DVkC%26affdom%3D360.cn%26sa%3DN%26ndsp%3D18%26tbs%3Disch:1" TargetMode="External"/><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6.jpeg"/><Relationship Id="rId3" Type="http://schemas.openxmlformats.org/officeDocument/2006/relationships/hyperlink" Target="http://www.google.com.hk/imgres?imgurl=http://www.bj119.org/&#21512;&#20316;&#20249;&#20276;01.JPG&amp;imgrefurl=http://www.bj119.org/page_04.htm&amp;usg=__OYSegy8yXjNoGHIIxcxRb0whkcs=&amp;h=768&amp;w=1024&amp;sz=71&amp;hl=zh-CN&amp;start=92&amp;um=1&amp;itbs=1&amp;tbnid=zUeGIILrZbGtPM:&amp;tbnh=113&amp;tbnw=150&amp;prev=/images%3Fq%3D%25E5%2590%2588%25E4%25BD%259C%26start%3D90%26um%3D1%26hl%3Dzh-CN%26newwindow%3D1%26safe%3Dstrict%26client%3Daff-360daohang%26hs%3DkBs%26affdom%3D360.cn%26sa%3DN%26ndsp%3D18%26tbs%3Disch:1" TargetMode="External"/><Relationship Id="rId4" Type="http://schemas.openxmlformats.org/officeDocument/2006/relationships/image" Target="../media/image87.jpe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3%C9&#355;&amp;in=24660&amp;cl=2&amp;cm=1&amp;sc=0&amp;lm=-1&amp;pn=4&amp;rn=1&amp;di=17093856285&amp;ln=2000&amp;fr=&amp;ic=0&amp;s=0&amp;se=1&amp;sme=0"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104" descr="公共关系理论与实务"/>
          <p:cNvPicPr/>
          <p:nvPr/>
        </p:nvPicPr>
        <p:blipFill>
          <a:blip r:embed="rId1"/>
          <a:srcRect l="0" t="0" r="27954" b="0"/>
          <a:stretch/>
        </p:blipFill>
        <p:spPr>
          <a:xfrm>
            <a:off x="304920" y="304920"/>
            <a:ext cx="4495680" cy="6019560"/>
          </a:xfrm>
          <a:prstGeom prst="rect">
            <a:avLst/>
          </a:prstGeom>
          <a:ln w="0">
            <a:noFill/>
          </a:ln>
        </p:spPr>
      </p:pic>
      <p:sp>
        <p:nvSpPr>
          <p:cNvPr id="42" name="PlaceHolder 1"/>
          <p:cNvSpPr>
            <a:spLocks noGrp="1"/>
          </p:cNvSpPr>
          <p:nvPr>
            <p:ph type="title"/>
          </p:nvPr>
        </p:nvSpPr>
        <p:spPr>
          <a:xfrm>
            <a:off x="4800240" y="2895120"/>
            <a:ext cx="4343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李兰英主编</a:t>
            </a:r>
            <a:br>
              <a:rPr sz="3600"/>
            </a:br>
            <a:r>
              <a:rPr b="1" lang="zh-CN" sz="3600" spc="-1" strike="noStrike">
                <a:solidFill>
                  <a:srgbClr val="000000"/>
                </a:solidFill>
                <a:latin typeface="Arial"/>
                <a:ea typeface="隶书"/>
              </a:rPr>
              <a:t>上海财经大学出版社</a:t>
            </a:r>
            <a:endParaRPr b="0" lang="en-US" sz="3600" spc="-1" strike="noStrike">
              <a:solidFill>
                <a:srgbClr val="000000"/>
              </a:solidFill>
              <a:latin typeface="Arial"/>
            </a:endParaRPr>
          </a:p>
        </p:txBody>
      </p:sp>
      <p:pic>
        <p:nvPicPr>
          <p:cNvPr id="43" name="图片 4100" descr="blank">
            <a:hlinkClick r:id="rId2"/>
          </p:cNvPr>
          <p:cNvPicPr/>
          <p:nvPr/>
        </p:nvPicPr>
        <p:blipFill>
          <a:blip r:embed="rId3"/>
          <a:stretch/>
        </p:blipFill>
        <p:spPr>
          <a:xfrm>
            <a:off x="4567320" y="3424320"/>
            <a:ext cx="9360" cy="9360"/>
          </a:xfrm>
          <a:prstGeom prst="rect">
            <a:avLst/>
          </a:prstGeom>
          <a:ln w="0">
            <a:noFill/>
          </a:ln>
        </p:spPr>
      </p:pic>
      <p:pic>
        <p:nvPicPr>
          <p:cNvPr id="44" name="图片 4102" descr="blank">
            <a:hlinkClick r:id="rId4"/>
          </p:cNvPr>
          <p:cNvPicPr/>
          <p:nvPr/>
        </p:nvPicPr>
        <p:blipFill>
          <a:blip r:embed="rId5"/>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不良的公共关系状态。公共关系处在消极的、不利的社会关系之中必然会给组织或企业带来负面的影响，使其声名狼藉，最终导致组织或企业失去长远的利益。</a:t>
            </a:r>
            <a:endParaRPr b="0" lang="en-US" sz="3200" spc="-1" strike="noStrike">
              <a:solidFill>
                <a:srgbClr val="000000"/>
              </a:solidFill>
              <a:latin typeface="Arial"/>
            </a:endParaRPr>
          </a:p>
        </p:txBody>
      </p:sp>
      <p:pic>
        <p:nvPicPr>
          <p:cNvPr id="68" name="图片 51204" descr="u=1360115550,1007581016&amp;fm=3&amp;gp=0">
            <a:hlinkClick r:id="rId1"/>
          </p:cNvPr>
          <p:cNvPicPr/>
          <p:nvPr/>
        </p:nvPicPr>
        <p:blipFill>
          <a:blip r:embed="rId2"/>
          <a:stretch/>
        </p:blipFill>
        <p:spPr>
          <a:xfrm>
            <a:off x="0" y="5375160"/>
            <a:ext cx="1981080" cy="1482840"/>
          </a:xfrm>
          <a:prstGeom prst="rect">
            <a:avLst/>
          </a:prstGeom>
          <a:ln w="0">
            <a:noFill/>
          </a:ln>
        </p:spPr>
      </p:pic>
      <p:pic>
        <p:nvPicPr>
          <p:cNvPr id="69" name="图片 51206" descr="u=1360115550,1007581016&amp;fm=3&amp;gp=0">
            <a:hlinkClick r:id="rId3"/>
          </p:cNvPr>
          <p:cNvPicPr/>
          <p:nvPr/>
        </p:nvPicPr>
        <p:blipFill>
          <a:blip r:embed="rId4"/>
          <a:stretch/>
        </p:blipFill>
        <p:spPr>
          <a:xfrm>
            <a:off x="0" y="0"/>
            <a:ext cx="1828800" cy="1368360"/>
          </a:xfrm>
          <a:prstGeom prst="rect">
            <a:avLst/>
          </a:prstGeom>
          <a:ln w="0">
            <a:noFill/>
          </a:ln>
        </p:spPr>
      </p:pic>
      <p:pic>
        <p:nvPicPr>
          <p:cNvPr id="70" name="图片 51208" descr="u=1360115550,1007581016&amp;fm=3&amp;gp=0">
            <a:hlinkClick r:id="rId5"/>
          </p:cNvPr>
          <p:cNvPicPr/>
          <p:nvPr/>
        </p:nvPicPr>
        <p:blipFill>
          <a:blip r:embed="rId6"/>
          <a:stretch/>
        </p:blipFill>
        <p:spPr>
          <a:xfrm>
            <a:off x="7315200" y="0"/>
            <a:ext cx="1828800" cy="1368360"/>
          </a:xfrm>
          <a:prstGeom prst="rect">
            <a:avLst/>
          </a:prstGeom>
          <a:ln w="0">
            <a:noFill/>
          </a:ln>
        </p:spPr>
      </p:pic>
      <p:pic>
        <p:nvPicPr>
          <p:cNvPr id="71" name="图片 51210" descr="u=1360115550,1007581016&amp;fm=3&amp;gp=0">
            <a:hlinkClick r:id="rId7"/>
          </p:cNvPr>
          <p:cNvPicPr/>
          <p:nvPr/>
        </p:nvPicPr>
        <p:blipFill>
          <a:blip r:embed="rId8"/>
          <a:stretch/>
        </p:blipFill>
        <p:spPr>
          <a:xfrm>
            <a:off x="7010280" y="5261040"/>
            <a:ext cx="2133720" cy="1596960"/>
          </a:xfrm>
          <a:prstGeom prst="rect">
            <a:avLst/>
          </a:prstGeom>
          <a:ln w="0">
            <a:noFill/>
          </a:ln>
        </p:spPr>
      </p:pic>
      <p:pic>
        <p:nvPicPr>
          <p:cNvPr id="72" name="图片 51212" descr="u=1310535608,62017554&amp;fm=0&amp;gp=0">
            <a:hlinkClick r:id="rId9"/>
          </p:cNvPr>
          <p:cNvPicPr/>
          <p:nvPr/>
        </p:nvPicPr>
        <p:blipFill>
          <a:blip r:embed="rId10"/>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52228" descr="j0292020"/>
          <p:cNvPicPr/>
          <p:nvPr/>
        </p:nvPicPr>
        <p:blipFill>
          <a:blip r:embed="rId1"/>
          <a:stretch/>
        </p:blipFill>
        <p:spPr>
          <a:xfrm>
            <a:off x="609480" y="0"/>
            <a:ext cx="1868760" cy="177336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5" name=""/>
          <p:cNvSpPr txBox="1"/>
          <p:nvPr/>
        </p:nvSpPr>
        <p:spPr>
          <a:xfrm>
            <a:off x="456840" y="1752480"/>
            <a:ext cx="8381880" cy="5105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聚美优品</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2014</a:t>
            </a:r>
            <a:r>
              <a:rPr b="0" lang="zh-CN" sz="2400" spc="-1" strike="noStrike">
                <a:solidFill>
                  <a:srgbClr val="000000"/>
                </a:solidFill>
                <a:latin typeface="Songti SC Regular"/>
                <a:ea typeface="Songti SC Regular"/>
              </a:rPr>
              <a:t>年</a:t>
            </a:r>
            <a:r>
              <a:rPr b="0" lang="zh-CN" sz="2400" spc="-1" strike="noStrike">
                <a:solidFill>
                  <a:srgbClr val="000000"/>
                </a:solidFill>
                <a:latin typeface="Songti SC Regular"/>
                <a:ea typeface="Songti SC Regular"/>
              </a:rPr>
              <a:t>7</a:t>
            </a:r>
            <a:r>
              <a:rPr b="0" lang="zh-CN" sz="2400" spc="-1" strike="noStrike">
                <a:solidFill>
                  <a:srgbClr val="000000"/>
                </a:solidFill>
                <a:latin typeface="Songti SC Regular"/>
                <a:ea typeface="Songti SC Regular"/>
              </a:rPr>
              <a:t>月底，聚美优品网站的第三方商户“祥鹏恒业”涉嫌造假，其整个运作产业链曝光。而后，聚美消息称陈欧暴怒宣布“砍掉整个奢侈品部门”，质问在场高管“只审资质文件管什么用？”</a:t>
            </a:r>
            <a:r>
              <a:rPr b="0" lang="zh-CN" sz="2400" spc="-1" strike="noStrike">
                <a:solidFill>
                  <a:srgbClr val="000000"/>
                </a:solidFill>
                <a:latin typeface="Songti SC Regular"/>
                <a:ea typeface="Songti SC Regular"/>
              </a:rPr>
              <a:t>12</a:t>
            </a:r>
            <a:r>
              <a:rPr b="0" lang="zh-CN" sz="2400" spc="-1" strike="noStrike">
                <a:solidFill>
                  <a:srgbClr val="000000"/>
                </a:solidFill>
                <a:latin typeface="Songti SC Regular"/>
                <a:ea typeface="Songti SC Regular"/>
              </a:rPr>
              <a:t>月</a:t>
            </a:r>
            <a:r>
              <a:rPr b="0" lang="zh-CN" sz="2400" spc="-1" strike="noStrike">
                <a:solidFill>
                  <a:srgbClr val="000000"/>
                </a:solidFill>
                <a:latin typeface="Songti SC Regular"/>
                <a:ea typeface="Songti SC Regular"/>
              </a:rPr>
              <a:t>16</a:t>
            </a:r>
            <a:r>
              <a:rPr b="0" lang="zh-CN" sz="2400" spc="-1" strike="noStrike">
                <a:solidFill>
                  <a:srgbClr val="000000"/>
                </a:solidFill>
                <a:latin typeface="Songti SC Regular"/>
                <a:ea typeface="Songti SC Regular"/>
              </a:rPr>
              <a:t>日，聚美优品被美国</a:t>
            </a:r>
            <a:r>
              <a:rPr b="0" lang="zh-CN" sz="2400" spc="-1" strike="noStrike">
                <a:solidFill>
                  <a:srgbClr val="000000"/>
                </a:solidFill>
                <a:latin typeface="Songti SC Regular"/>
                <a:ea typeface="Songti SC Regular"/>
              </a:rPr>
              <a:t>Milberg LLP</a:t>
            </a:r>
            <a:r>
              <a:rPr b="0" lang="zh-CN" sz="2400" spc="-1" strike="noStrike">
                <a:solidFill>
                  <a:srgbClr val="000000"/>
                </a:solidFill>
                <a:latin typeface="Songti SC Regular"/>
                <a:ea typeface="Songti SC Regular"/>
              </a:rPr>
              <a:t>法律事务所发起集体诉讼，导致股价缩水了近</a:t>
            </a:r>
            <a:r>
              <a:rPr b="0" lang="zh-CN" sz="2400" spc="-1" strike="noStrike">
                <a:solidFill>
                  <a:srgbClr val="000000"/>
                </a:solidFill>
                <a:latin typeface="Songti SC Regular"/>
                <a:ea typeface="Songti SC Regular"/>
              </a:rPr>
              <a:t>70%</a:t>
            </a:r>
            <a:r>
              <a:rPr b="0" lang="zh-CN" sz="2400" spc="-1" strike="noStrike">
                <a:solidFill>
                  <a:srgbClr val="000000"/>
                </a:solidFill>
                <a:latin typeface="Songti SC Regular"/>
                <a:ea typeface="Songti SC Regular"/>
              </a:rPr>
              <a:t>。随后，陈欧发表题为《你永远不知道，陈欧这半年在做什么》的长微博回应在美被诉讼事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陈欧掀起的“我为自己代言”的营销风暴让聚美快速俘获了一批用户。但是伴随着聚美成长，售假消息一直没有间断。陈欧曾公开表示，因为薄弱的媒体关系，售假被反复拿来说事；律所（律师事务所）起诉聚美则是因为背后有利益输送，律所和律师是为了利益来“搞”聚美和做空聚美。陈欧把接二连三的负面消息都推给了媒体和律所，显然会让公众认为其缺乏解决问题的诚意，影响个人和公司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公共关系是一种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组织的公共关系活动是一个组织长期进行社会交往、沟通信息、广结良缘、树立自身良好形象的过程，它表现为日常公共关系活动和专项公共关系活动两大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502920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　</a:t>
            </a:r>
            <a:r>
              <a:rPr b="0" lang="zh-CN" sz="2000" spc="-1" strike="noStrike">
                <a:solidFill>
                  <a:srgbClr val="000000"/>
                </a:solidFill>
                <a:latin typeface="Songti SC Regular"/>
                <a:ea typeface="Songti SC Regular"/>
              </a:rPr>
              <a:t>　提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人们脑海里会第一时间出现一个人</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似乎正在侃侃而谈、永不疲惫</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且不时冒出惊人之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那就是马云。</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美国《福布斯》杂志对马云的相貌做过精彩的描述</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颧骨深凹、头发弯曲、露齿欢笑、顽童模样、</a:t>
            </a:r>
            <a:r>
              <a:rPr b="0" lang="zh-CN" sz="2000" spc="-1" strike="noStrike">
                <a:solidFill>
                  <a:srgbClr val="000000"/>
                </a:solidFill>
                <a:latin typeface="Songti SC Regular"/>
                <a:ea typeface="Songti SC Regular"/>
              </a:rPr>
              <a:t>5</a:t>
            </a:r>
            <a:r>
              <a:rPr b="0" lang="zh-CN" sz="2000" spc="-1" strike="noStrike">
                <a:solidFill>
                  <a:srgbClr val="000000"/>
                </a:solidFill>
                <a:latin typeface="Songti SC Regular"/>
                <a:ea typeface="Songti SC Regular"/>
              </a:rPr>
              <a:t>英尺高、</a:t>
            </a:r>
            <a:r>
              <a:rPr b="0" lang="zh-CN" sz="2000" spc="-1" strike="noStrike">
                <a:solidFill>
                  <a:srgbClr val="000000"/>
                </a:solidFill>
                <a:latin typeface="Songti SC Regular"/>
                <a:ea typeface="Songti SC Regular"/>
              </a:rPr>
              <a:t>100</a:t>
            </a:r>
            <a:r>
              <a:rPr b="0" lang="zh-CN" sz="2000" spc="-1" strike="noStrike">
                <a:solidFill>
                  <a:srgbClr val="000000"/>
                </a:solidFill>
                <a:latin typeface="Songti SC Regular"/>
                <a:ea typeface="Songti SC Regular"/>
              </a:rPr>
              <a:t>磅重。”当然除了外在形象</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能让人记住马云的还要数那独一无二的人格魅力。作为阿里巴巴集团主席和首席执行官</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在公众视野内外</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不断地传播着企业、品牌给公众带来的独特信息。</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无论是创业初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还是后来坐上全球电子商务的头把交椅</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都以其人格魅力征服了人们</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带着阿里巴巴创下了商业的奇迹</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也谱写了自己的传奇。其个人品牌和企业品牌已经紧密联系在一起</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互推动</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得益彰。</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企业一步步发展壮大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的个人品牌在许多方面影响甚至推动着企业走向成功。很多时候</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的个人品牌形象可以使公众不由自主地关注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由对个人品牌形象的认同到对该企业的产品和服务产生较高的接受度。而在个人品牌传播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把媒体作为一个传播的渠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无疑是最佳选择。</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阿里巴巴初创时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先关注它的是国外的媒体。《亚洲华尔街日报》的总编写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没日没夜地工作</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房间地板上放着一个睡袋</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谁累了就钻进去睡一会儿。”数月后</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福布斯》杂志记者也参观了阿里巴巴创业时的房子</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做了详细的描述。</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endParaRPr b="0" lang="en-US" sz="1800" spc="-1" strike="noStrike">
              <a:solidFill>
                <a:srgbClr val="000000"/>
              </a:solidFill>
              <a:latin typeface="Arial"/>
            </a:endParaRPr>
          </a:p>
        </p:txBody>
      </p:sp>
      <p:pic>
        <p:nvPicPr>
          <p:cNvPr id="79" name="图片 54275" descr="j0292020"/>
          <p:cNvPicPr/>
          <p:nvPr/>
        </p:nvPicPr>
        <p:blipFill>
          <a:blip r:embed="rId1"/>
          <a:stretch/>
        </p:blipFill>
        <p:spPr>
          <a:xfrm>
            <a:off x="609480" y="0"/>
            <a:ext cx="1868760" cy="17733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隶书"/>
                <a:ea typeface="隶书"/>
              </a:rPr>
              <a:t>阿里巴巴借助“马云”进行公关形象塑造</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共关系作为组织的一项有意识的实践活动</a:t>
            </a:r>
            <a:r>
              <a:rPr b="0" lang="zh-CN" sz="3200" spc="-1" strike="noStrike">
                <a:solidFill>
                  <a:srgbClr val="000000"/>
                </a:solidFill>
                <a:latin typeface="Arial"/>
              </a:rPr>
              <a:t>,</a:t>
            </a:r>
            <a:r>
              <a:rPr b="0" lang="zh-CN" sz="3200" spc="-1" strike="noStrike">
                <a:solidFill>
                  <a:srgbClr val="000000"/>
                </a:solidFill>
                <a:latin typeface="Arial"/>
              </a:rPr>
              <a:t>是一项在利他行为基础上的利己行为。在改善公共关系状态的活动中</a:t>
            </a:r>
            <a:r>
              <a:rPr b="0" lang="zh-CN" sz="3200" spc="-1" strike="noStrike">
                <a:solidFill>
                  <a:srgbClr val="000000"/>
                </a:solidFill>
                <a:latin typeface="Arial"/>
              </a:rPr>
              <a:t>,</a:t>
            </a:r>
            <a:r>
              <a:rPr b="0" lang="zh-CN" sz="3200" spc="-1" strike="noStrike">
                <a:solidFill>
                  <a:srgbClr val="000000"/>
                </a:solidFill>
                <a:latin typeface="Arial"/>
              </a:rPr>
              <a:t>那些社会组织成员人人都能进行的公共关系活动称为日常性的公关活动</a:t>
            </a:r>
            <a:r>
              <a:rPr b="0" lang="zh-CN" sz="3200" spc="-1" strike="noStrike">
                <a:solidFill>
                  <a:srgbClr val="000000"/>
                </a:solidFill>
                <a:latin typeface="Arial"/>
              </a:rPr>
              <a:t>,</a:t>
            </a:r>
            <a:r>
              <a:rPr b="0" lang="zh-CN" sz="3200" spc="-1" strike="noStrike">
                <a:solidFill>
                  <a:srgbClr val="000000"/>
                </a:solidFill>
                <a:latin typeface="Arial"/>
              </a:rPr>
              <a:t>而那些需要完整的计划和专门性的技术才能进行的公共关系活动称为专门性的公共关系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是一种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公共关系观念影响和指导着个人或组织决策与行为的价值取向，从而反作用于人们的公共关系活动，并间接影响实际的公共关系状态。公共关系观念主要有：形象观念、公众观念、传播观念、协调观念、互惠观念。</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图片 55300" descr="u=3121351169,1718321255&amp;fm=3&amp;gp=0">
            <a:hlinkClick r:id="rId1"/>
          </p:cNvPr>
          <p:cNvPicPr/>
          <p:nvPr/>
        </p:nvPicPr>
        <p:blipFill>
          <a:blip r:embed="rId2"/>
          <a:stretch/>
        </p:blipFill>
        <p:spPr>
          <a:xfrm>
            <a:off x="6858000" y="525780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76320" y="1600200"/>
            <a:ext cx="861048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李娜成功背后的公关故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依靠出色的战绩和高效的商业运作，在</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的“福布斯全球名人榜”中，李娜以</a:t>
            </a:r>
            <a:r>
              <a:rPr b="0" lang="zh-CN" sz="2400" spc="-1" strike="noStrike">
                <a:solidFill>
                  <a:srgbClr val="000000"/>
                </a:solidFill>
                <a:latin typeface="隶书"/>
                <a:ea typeface="隶书"/>
              </a:rPr>
              <a:t>2360</a:t>
            </a:r>
            <a:r>
              <a:rPr b="0" lang="zh-CN" sz="2400" spc="-1" strike="noStrike">
                <a:solidFill>
                  <a:srgbClr val="000000"/>
                </a:solidFill>
                <a:latin typeface="隶书"/>
                <a:ea typeface="隶书"/>
              </a:rPr>
              <a:t>万美元排名第</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位，是全球仅有的</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名上榜的女性运动员之一。退役之后的，她又入选</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福布斯退役运动员收入榜”，以超过</a:t>
            </a:r>
            <a:r>
              <a:rPr b="0" lang="zh-CN" sz="2400" spc="-1" strike="noStrike">
                <a:solidFill>
                  <a:srgbClr val="000000"/>
                </a:solidFill>
                <a:latin typeface="隶书"/>
                <a:ea typeface="隶书"/>
              </a:rPr>
              <a:t>1300</a:t>
            </a:r>
            <a:r>
              <a:rPr b="0" lang="zh-CN" sz="2400" spc="-1" strike="noStrike">
                <a:solidFill>
                  <a:srgbClr val="000000"/>
                </a:solidFill>
                <a:latin typeface="隶书"/>
                <a:ea typeface="隶书"/>
              </a:rPr>
              <a:t>万美元的收入成为唯一上榜的女性运动员。她在榜单中的“竞争对手”变成了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乔丹、大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贝克汉姆这样赫赫有名的人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09</a:t>
            </a:r>
            <a:r>
              <a:rPr b="0" lang="zh-CN" sz="2400" spc="-1" strike="noStrike">
                <a:solidFill>
                  <a:srgbClr val="000000"/>
                </a:solidFill>
                <a:latin typeface="隶书"/>
                <a:ea typeface="隶书"/>
              </a:rPr>
              <a:t>年，李娜从国家网球管理中心单飞，并很快签约</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公司，与经纪人麦克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埃森巴德（</a:t>
            </a:r>
            <a:r>
              <a:rPr b="0" lang="zh-CN" sz="2400" spc="-1" strike="noStrike">
                <a:solidFill>
                  <a:srgbClr val="000000"/>
                </a:solidFill>
                <a:latin typeface="隶书"/>
                <a:ea typeface="隶书"/>
              </a:rPr>
              <a:t>Max Eisenbud)</a:t>
            </a:r>
            <a:r>
              <a:rPr b="0" lang="zh-CN" sz="2400" spc="-1" strike="noStrike">
                <a:solidFill>
                  <a:srgbClr val="000000"/>
                </a:solidFill>
                <a:latin typeface="隶书"/>
                <a:ea typeface="隶书"/>
              </a:rPr>
              <a:t>开始合作。彼时，她已经</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岁，世界排名第</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位。李娜与</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的经纪人在合约里规定，</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为李娜提供整体营销等国际化服务，以及一个保底收入的薪资合同。与此同时，</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拥有与李娜共享广告、代言等收入的权利。李娜希望 </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在</a:t>
            </a:r>
            <a:r>
              <a:rPr b="0" lang="zh-CN" sz="2400" spc="-1" strike="noStrike">
                <a:solidFill>
                  <a:srgbClr val="000000"/>
                </a:solidFill>
                <a:latin typeface="隶书"/>
                <a:ea typeface="隶书"/>
              </a:rPr>
              <a:t>2010</a:t>
            </a:r>
            <a:r>
              <a:rPr b="0" lang="zh-CN" sz="2400" spc="-1" strike="noStrike">
                <a:solidFill>
                  <a:srgbClr val="000000"/>
                </a:solidFill>
                <a:latin typeface="隶书"/>
                <a:ea typeface="隶书"/>
              </a:rPr>
              <a:t>年的</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前，帮助自己的排名达到世界前十。。</a:t>
            </a:r>
            <a:endParaRPr b="0" lang="en-US" sz="2400" spc="-1" strike="noStrike">
              <a:solidFill>
                <a:srgbClr val="000000"/>
              </a:solidFill>
              <a:latin typeface="Arial"/>
            </a:endParaRPr>
          </a:p>
        </p:txBody>
      </p:sp>
      <p:pic>
        <p:nvPicPr>
          <p:cNvPr id="88" name="图片 58371" descr="j0292020"/>
          <p:cNvPicPr/>
          <p:nvPr/>
        </p:nvPicPr>
        <p:blipFill>
          <a:blip r:embed="rId1"/>
          <a:stretch/>
        </p:blipFill>
        <p:spPr>
          <a:xfrm>
            <a:off x="762120" y="0"/>
            <a:ext cx="1868400" cy="1773360"/>
          </a:xfrm>
          <a:prstGeom prst="rect">
            <a:avLst/>
          </a:prstGeom>
          <a:ln w="0">
            <a:noFill/>
          </a:ln>
        </p:spPr>
      </p:pic>
      <p:pic>
        <p:nvPicPr>
          <p:cNvPr id="89" name="图片 58373" descr="u=997917456,2943898547&amp;fm=0&amp;gp=0">
            <a:hlinkClick r:id="rId2"/>
          </p:cNvPr>
          <p:cNvPicPr/>
          <p:nvPr/>
        </p:nvPicPr>
        <p:blipFill>
          <a:blip r:embed="rId3"/>
          <a:stretch/>
        </p:blipFill>
        <p:spPr>
          <a:xfrm>
            <a:off x="6553080" y="762120"/>
            <a:ext cx="2210040" cy="914400"/>
          </a:xfrm>
          <a:prstGeom prst="rect">
            <a:avLst/>
          </a:prstGeom>
          <a:ln w="0">
            <a:noFill/>
          </a:ln>
        </p:spPr>
      </p:pic>
      <p:pic>
        <p:nvPicPr>
          <p:cNvPr id="90" name="图片 58375" descr="u=1915081298,3797133696&amp;fm=0&amp;gp=0">
            <a:hlinkClick r:id="rId4"/>
          </p:cNvPr>
          <p:cNvPicPr/>
          <p:nvPr/>
        </p:nvPicPr>
        <p:blipFill>
          <a:blip r:embed="rId5"/>
          <a:stretch/>
        </p:blipFill>
        <p:spPr>
          <a:xfrm>
            <a:off x="6934320" y="5791320"/>
            <a:ext cx="220968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四）公共关系又是一种实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公共关系实务，是作为组织管理职能的公共关系业务工作的总和。它包括公关调查、公关咨询、公关宣传、公关交际、公关服务及各种公关专题活动。</a:t>
            </a:r>
            <a:endParaRPr b="0" lang="en-US" sz="3200" spc="-1" strike="noStrike">
              <a:solidFill>
                <a:srgbClr val="000000"/>
              </a:solidFill>
              <a:latin typeface="Arial"/>
            </a:endParaRPr>
          </a:p>
        </p:txBody>
      </p:sp>
      <p:pic>
        <p:nvPicPr>
          <p:cNvPr id="93" name="图片 59396" descr="u=150329605,1806387971&amp;fm=3&amp;gp=0">
            <a:hlinkClick r:id="rId1"/>
          </p:cNvPr>
          <p:cNvPicPr/>
          <p:nvPr/>
        </p:nvPicPr>
        <p:blipFill>
          <a:blip r:embed="rId2"/>
          <a:stretch/>
        </p:blipFill>
        <p:spPr>
          <a:xfrm>
            <a:off x="7819920" y="5867280"/>
            <a:ext cx="1324080" cy="990720"/>
          </a:xfrm>
          <a:prstGeom prst="rect">
            <a:avLst/>
          </a:prstGeom>
          <a:ln w="0">
            <a:noFill/>
          </a:ln>
        </p:spPr>
      </p:pic>
      <p:pic>
        <p:nvPicPr>
          <p:cNvPr id="94" name="图片 59398" descr="u=150329605,1806387971&amp;fm=3&amp;gp=0">
            <a:hlinkClick r:id="rId3"/>
          </p:cNvPr>
          <p:cNvPicPr/>
          <p:nvPr/>
        </p:nvPicPr>
        <p:blipFill>
          <a:blip r:embed="rId4"/>
          <a:stretch/>
        </p:blipFill>
        <p:spPr>
          <a:xfrm>
            <a:off x="0" y="5867280"/>
            <a:ext cx="1324080" cy="990720"/>
          </a:xfrm>
          <a:prstGeom prst="rect">
            <a:avLst/>
          </a:prstGeom>
          <a:ln w="0">
            <a:noFill/>
          </a:ln>
        </p:spPr>
      </p:pic>
      <p:pic>
        <p:nvPicPr>
          <p:cNvPr id="95" name="图片 59400" descr="u=150329605,1806387971&amp;fm=3&amp;gp=0">
            <a:hlinkClick r:id="rId5"/>
          </p:cNvPr>
          <p:cNvPicPr/>
          <p:nvPr/>
        </p:nvPicPr>
        <p:blipFill>
          <a:blip r:embed="rId6"/>
          <a:stretch/>
        </p:blipFill>
        <p:spPr>
          <a:xfrm>
            <a:off x="0" y="0"/>
            <a:ext cx="1324080" cy="990720"/>
          </a:xfrm>
          <a:prstGeom prst="rect">
            <a:avLst/>
          </a:prstGeom>
          <a:ln w="0">
            <a:noFill/>
          </a:ln>
        </p:spPr>
      </p:pic>
      <p:pic>
        <p:nvPicPr>
          <p:cNvPr id="96" name="图片 59402" descr="u=150329605,180638797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60420" descr="j0291984"/>
          <p:cNvPicPr/>
          <p:nvPr/>
        </p:nvPicPr>
        <p:blipFill>
          <a:blip r:embed="rId1"/>
          <a:stretch/>
        </p:blipFill>
        <p:spPr>
          <a:xfrm>
            <a:off x="228600" y="0"/>
            <a:ext cx="1808280" cy="25146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对公共关系定义的理解可以概括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共关系的主体是社会组织或代表社会组织的个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的客体是社会公众，而社会公众是由与社会组织有利益关系的个人、群体或组织所构成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公共关系的途径是利用传播手段进行社会组织与其社会公众之间的双向沟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公共关系的目标是使社会组织获得社会公众的理解、支持和合作，为组织树立良好的形象，为事业的发展创造良好的社会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公共关系既是一种状态，是一种活动，又是一种观念，同时又是一种实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构成要素</a:t>
            </a:r>
            <a:endParaRPr b="0" lang="en-US" sz="4400" spc="-1" strike="noStrike">
              <a:solidFill>
                <a:srgbClr val="000000"/>
              </a:solidFill>
              <a:latin typeface="Arial"/>
            </a:endParaRPr>
          </a:p>
        </p:txBody>
      </p:sp>
      <p:sp>
        <p:nvSpPr>
          <p:cNvPr id="101" name=""/>
          <p:cNvSpPr txBox="1"/>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en-US" sz="2400" spc="-1" strike="noStrike">
                <a:solidFill>
                  <a:srgbClr val="000000"/>
                </a:solidFill>
                <a:latin typeface="隶书"/>
                <a:ea typeface="隶书"/>
              </a:rPr>
              <a:t>1999</a:t>
            </a:r>
            <a:r>
              <a:rPr b="0" lang="zh-CN" sz="2400" spc="-1" strike="noStrike">
                <a:solidFill>
                  <a:srgbClr val="000000"/>
                </a:solidFill>
                <a:latin typeface="隶书"/>
                <a:ea typeface="隶书"/>
              </a:rPr>
              <a:t>年，名镇中外的老字号全聚德为了庆祝创店</a:t>
            </a:r>
            <a:r>
              <a:rPr b="0" lang="en-US" sz="2400" spc="-1" strike="noStrike">
                <a:solidFill>
                  <a:srgbClr val="000000"/>
                </a:solidFill>
                <a:latin typeface="隶书"/>
                <a:ea typeface="隶书"/>
              </a:rPr>
              <a:t>135</a:t>
            </a:r>
            <a:r>
              <a:rPr b="0" lang="zh-CN" sz="2400" spc="-1" strike="noStrike">
                <a:solidFill>
                  <a:srgbClr val="000000"/>
                </a:solidFill>
                <a:latin typeface="隶书"/>
                <a:ea typeface="隶书"/>
              </a:rPr>
              <a:t>周年，同时也为了抓住机遇，迎接挑战，积极参与市场竞争，创造具有中国文化底蕴、实力雄厚、品质超凡、市场表现卓越、享誉全球的餐饮业世界级名牌，集团搞了一次有利于企业形象塑造的大型公关活动。这次公关活动的主题是“老字号 新辉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这次公关活动的目标是发扬“全而无缺，聚而不散，仁德至上”的企业精神，（对外）弘扬全聚德民族品牌，树立全聚德老字号的崭新形象，以店庆造市场，以文化兴市场，（对内）强化全聚德烤鸭美食精品意识，丰富全聚德企业文化内涵，激励全聚德集团的全体员工以百倍的信心迎接新世纪的挑战。为了达到这一目标，准备举办“全聚德杯”有奖征集对联、全聚德烤鸭美食文化节、全聚德品牌战略研讨三项大的活动。这些公关活动的媒体选择上主要以报纸为主，兼有电视台、电台、并辅以本公司宣传刊物。</a:t>
            </a:r>
            <a:endParaRPr b="0" lang="en-US" sz="2400" spc="-1" strike="noStrike">
              <a:solidFill>
                <a:srgbClr val="000000"/>
              </a:solidFill>
              <a:latin typeface="Arial"/>
            </a:endParaRPr>
          </a:p>
        </p:txBody>
      </p:sp>
      <p:pic>
        <p:nvPicPr>
          <p:cNvPr id="102" name="图片 61446" descr="u=1491982277,1531960504&amp;fm=0&amp;gp=0">
            <a:hlinkClick r:id="rId1"/>
          </p:cNvPr>
          <p:cNvPicPr/>
          <p:nvPr/>
        </p:nvPicPr>
        <p:blipFill>
          <a:blip r:embed="rId2"/>
          <a:stretch/>
        </p:blipFill>
        <p:spPr>
          <a:xfrm>
            <a:off x="0" y="1066680"/>
            <a:ext cx="133344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第一章 公共关系概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的概念、原则及意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发展的历史脉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在中国的发展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的就业前景。</a:t>
            </a:r>
            <a:endParaRPr b="0" lang="en-US" sz="3200" spc="-1" strike="noStrike">
              <a:solidFill>
                <a:srgbClr val="000000"/>
              </a:solidFill>
              <a:latin typeface="Arial"/>
            </a:endParaRPr>
          </a:p>
        </p:txBody>
      </p:sp>
      <p:pic>
        <p:nvPicPr>
          <p:cNvPr id="47" name="图片 43011"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3504960" y="1828440"/>
            <a:ext cx="5181480" cy="42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运作的要素构成是：公共关系主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社会组织、公共关系客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公共关系手段</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信息传播。 </a:t>
            </a:r>
            <a:endParaRPr b="0" lang="en-US" sz="3200" spc="-1" strike="noStrike">
              <a:solidFill>
                <a:srgbClr val="000000"/>
              </a:solidFill>
              <a:latin typeface="Arial"/>
            </a:endParaRPr>
          </a:p>
        </p:txBody>
      </p:sp>
      <p:pic>
        <p:nvPicPr>
          <p:cNvPr id="105" name="图片 62467" descr="j0297707"/>
          <p:cNvPicPr/>
          <p:nvPr/>
        </p:nvPicPr>
        <p:blipFill>
          <a:blip r:embed="rId1"/>
          <a:stretch/>
        </p:blipFill>
        <p:spPr>
          <a:xfrm>
            <a:off x="914400" y="20574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是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在社会学中一般指具有特定目标和职能，并具有一定独立性的社会群体。作为公共关系运作主体，它是主动开展公共关系活动、向公共关系客体施加影响的社会群体。最早的公共关系主体是企业与公司。</a:t>
            </a:r>
            <a:endParaRPr b="0" lang="en-US" sz="3200" spc="-1" strike="noStrike">
              <a:solidFill>
                <a:srgbClr val="000000"/>
              </a:solidFill>
              <a:latin typeface="Arial"/>
            </a:endParaRPr>
          </a:p>
        </p:txBody>
      </p:sp>
      <p:pic>
        <p:nvPicPr>
          <p:cNvPr id="108" name="图片 63491" descr="j0298897"/>
          <p:cNvPicPr/>
          <p:nvPr/>
        </p:nvPicPr>
        <p:blipFill>
          <a:blip r:embed="rId1"/>
          <a:stretch/>
        </p:blipFill>
        <p:spPr>
          <a:xfrm>
            <a:off x="6781680" y="0"/>
            <a:ext cx="1806840" cy="157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客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对象一定是与该组织具有直接或间接关系的组织、群体或个人，统称为“公众”。</a:t>
            </a:r>
            <a:endParaRPr b="0" lang="en-US" sz="3200" spc="-1" strike="noStrike">
              <a:solidFill>
                <a:srgbClr val="000000"/>
              </a:solidFill>
              <a:latin typeface="Arial"/>
            </a:endParaRPr>
          </a:p>
        </p:txBody>
      </p:sp>
      <p:pic>
        <p:nvPicPr>
          <p:cNvPr id="111" name="图片 64516" descr="u=3838550438,2222023570&amp;fm=3&amp;gp=0">
            <a:hlinkClick r:id="rId1"/>
          </p:cNvPr>
          <p:cNvPicPr/>
          <p:nvPr/>
        </p:nvPicPr>
        <p:blipFill>
          <a:blip r:embed="rId2"/>
          <a:stretch/>
        </p:blipFill>
        <p:spPr>
          <a:xfrm>
            <a:off x="7819920" y="5867280"/>
            <a:ext cx="1324080" cy="990720"/>
          </a:xfrm>
          <a:prstGeom prst="rect">
            <a:avLst/>
          </a:prstGeom>
          <a:ln w="0">
            <a:noFill/>
          </a:ln>
        </p:spPr>
      </p:pic>
      <p:pic>
        <p:nvPicPr>
          <p:cNvPr id="112" name="图片 64518" descr="u=3838550438,2222023570&amp;fm=3&amp;gp=0">
            <a:hlinkClick r:id="rId3"/>
          </p:cNvPr>
          <p:cNvPicPr/>
          <p:nvPr/>
        </p:nvPicPr>
        <p:blipFill>
          <a:blip r:embed="rId4"/>
          <a:stretch/>
        </p:blipFill>
        <p:spPr>
          <a:xfrm>
            <a:off x="7819920" y="0"/>
            <a:ext cx="1324080" cy="990720"/>
          </a:xfrm>
          <a:prstGeom prst="rect">
            <a:avLst/>
          </a:prstGeom>
          <a:ln w="0">
            <a:noFill/>
          </a:ln>
        </p:spPr>
      </p:pic>
      <p:pic>
        <p:nvPicPr>
          <p:cNvPr id="113" name="图片 64520" descr="u=3838550438,2222023570&amp;fm=3&amp;gp=0">
            <a:hlinkClick r:id="rId5"/>
          </p:cNvPr>
          <p:cNvPicPr/>
          <p:nvPr/>
        </p:nvPicPr>
        <p:blipFill>
          <a:blip r:embed="rId6"/>
          <a:stretch/>
        </p:blipFill>
        <p:spPr>
          <a:xfrm>
            <a:off x="0" y="0"/>
            <a:ext cx="1324080" cy="990720"/>
          </a:xfrm>
          <a:prstGeom prst="rect">
            <a:avLst/>
          </a:prstGeom>
          <a:ln w="0">
            <a:noFill/>
          </a:ln>
        </p:spPr>
      </p:pic>
      <p:pic>
        <p:nvPicPr>
          <p:cNvPr id="114" name="图片 64522" descr="u=3838550438,2222023570&amp;fm=3&amp;gp=0">
            <a:hlinkClick r:id="rId7"/>
          </p:cNvPr>
          <p:cNvPicPr/>
          <p:nvPr/>
        </p:nvPicPr>
        <p:blipFill>
          <a:blip r:embed="rId8"/>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a:t>
            </a:r>
            <a:r>
              <a:rPr b="0" lang="zh-CN" sz="2800" spc="-1" strike="noStrike">
                <a:solidFill>
                  <a:srgbClr val="000000"/>
                </a:solidFill>
                <a:latin typeface="隶书"/>
                <a:ea typeface="隶书"/>
              </a:rPr>
              <a:t>公共关系</a:t>
            </a:r>
            <a:r>
              <a:rPr b="1" lang="zh-CN" sz="2800" spc="-1" strike="noStrike">
                <a:solidFill>
                  <a:srgbClr val="000000"/>
                </a:solidFill>
                <a:latin typeface="隶书"/>
                <a:ea typeface="隶书"/>
              </a:rPr>
              <a:t>活动的媒介</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活动的媒介是公关主体借以与公关对象联系、沟通、交往的信息传播工具。传播沟通是公共关系工作的基本手段，是公共关系的实现机制，也是组织与公众之间沟通的桥梁和纽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的媒介包括各种信息沟通工具、社会交际手段和大众传播渠道，如报刊、书籍、电视、电话、电影、图像传真、网络、大小会议等，都是公共关系媒介。</a:t>
            </a:r>
            <a:endParaRPr b="0" lang="en-US" sz="2800" spc="-1" strike="noStrike">
              <a:solidFill>
                <a:srgbClr val="000000"/>
              </a:solidFill>
              <a:latin typeface="Arial"/>
            </a:endParaRPr>
          </a:p>
        </p:txBody>
      </p:sp>
      <p:pic>
        <p:nvPicPr>
          <p:cNvPr id="117" name="图片 65539" descr="j0299125"/>
          <p:cNvPicPr/>
          <p:nvPr/>
        </p:nvPicPr>
        <p:blipFill>
          <a:blip r:embed="rId1"/>
          <a:stretch/>
        </p:blipFill>
        <p:spPr>
          <a:xfrm>
            <a:off x="7620120" y="228600"/>
            <a:ext cx="1100160" cy="1805040"/>
          </a:xfrm>
          <a:prstGeom prst="rect">
            <a:avLst/>
          </a:prstGeom>
          <a:ln w="0">
            <a:noFill/>
          </a:ln>
        </p:spPr>
      </p:pic>
      <p:pic>
        <p:nvPicPr>
          <p:cNvPr id="118" name="图片 65540" descr="j0300520"/>
          <p:cNvPicPr/>
          <p:nvPr/>
        </p:nvPicPr>
        <p:blipFill>
          <a:blip r:embed="rId2"/>
          <a:stretch/>
        </p:blipFill>
        <p:spPr>
          <a:xfrm>
            <a:off x="0" y="0"/>
            <a:ext cx="1371600" cy="1523880"/>
          </a:xfrm>
          <a:prstGeom prst="rect">
            <a:avLst/>
          </a:prstGeom>
          <a:ln w="0">
            <a:noFill/>
          </a:ln>
        </p:spPr>
      </p:pic>
      <p:pic>
        <p:nvPicPr>
          <p:cNvPr id="119" name="图片 65541" descr="j0332268"/>
          <p:cNvPicPr/>
          <p:nvPr/>
        </p:nvPicPr>
        <p:blipFill>
          <a:blip r:embed="rId3"/>
          <a:stretch/>
        </p:blipFill>
        <p:spPr>
          <a:xfrm>
            <a:off x="7543800" y="5334120"/>
            <a:ext cx="1600200" cy="1523880"/>
          </a:xfrm>
          <a:prstGeom prst="rect">
            <a:avLst/>
          </a:prstGeom>
          <a:ln w="0">
            <a:noFill/>
          </a:ln>
        </p:spPr>
      </p:pic>
      <p:pic>
        <p:nvPicPr>
          <p:cNvPr id="120" name="图片 65544" descr="MC900436161[1]"/>
          <p:cNvPicPr/>
          <p:nvPr/>
        </p:nvPicPr>
        <p:blipFill>
          <a:blip r:embed="rId4"/>
          <a:stretch/>
        </p:blipFill>
        <p:spPr>
          <a:xfrm>
            <a:off x="0" y="5638680"/>
            <a:ext cx="1841400" cy="121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中国好声音”的公关传播方式</a:t>
            </a:r>
            <a:br>
              <a:rPr sz="4400"/>
            </a:br>
            <a:endParaRPr b="0" lang="en-US" sz="4400" spc="-1" strike="noStrike">
              <a:solidFill>
                <a:srgbClr val="000000"/>
              </a:solidFill>
              <a:latin typeface="Arial"/>
            </a:endParaRPr>
          </a:p>
        </p:txBody>
      </p:sp>
      <p:sp>
        <p:nvSpPr>
          <p:cNvPr id="122" name=""/>
          <p:cNvSpPr txBox="1"/>
          <p:nvPr/>
        </p:nvSpPr>
        <p:spPr>
          <a:xfrm>
            <a:off x="281160" y="719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浙江卫视推出的“中国好声音”节目再次掀起了电视选秀的收视热潮，首期收视率破</a:t>
            </a:r>
            <a:r>
              <a:rPr b="0" lang="zh-CN" sz="2000" spc="-1" strike="noStrike">
                <a:solidFill>
                  <a:srgbClr val="000000"/>
                </a:solidFill>
                <a:latin typeface="Arial"/>
              </a:rPr>
              <a:t>1.5%,</a:t>
            </a:r>
            <a:r>
              <a:rPr b="0" lang="zh-CN" sz="2000" spc="-1" strike="noStrike">
                <a:solidFill>
                  <a:srgbClr val="000000"/>
                </a:solidFill>
                <a:latin typeface="Arial"/>
              </a:rPr>
              <a:t>第二期达</a:t>
            </a:r>
            <a:r>
              <a:rPr b="0" lang="zh-CN" sz="2000" spc="-1" strike="noStrike">
                <a:solidFill>
                  <a:srgbClr val="000000"/>
                </a:solidFill>
                <a:latin typeface="Arial"/>
              </a:rPr>
              <a:t>2.8%,</a:t>
            </a:r>
            <a:r>
              <a:rPr b="0" lang="zh-CN" sz="2000" spc="-1" strike="noStrike">
                <a:solidFill>
                  <a:srgbClr val="000000"/>
                </a:solidFill>
                <a:latin typeface="Arial"/>
              </a:rPr>
              <a:t>节目冠名费</a:t>
            </a:r>
            <a:r>
              <a:rPr b="0" lang="zh-CN" sz="2000" spc="-1" strike="noStrike">
                <a:solidFill>
                  <a:srgbClr val="000000"/>
                </a:solidFill>
                <a:latin typeface="Arial"/>
              </a:rPr>
              <a:t>6000</a:t>
            </a:r>
            <a:r>
              <a:rPr b="0" lang="zh-CN" sz="2000" spc="-1" strike="noStrike">
                <a:solidFill>
                  <a:srgbClr val="000000"/>
                </a:solidFill>
                <a:latin typeface="Arial"/>
              </a:rPr>
              <a:t>万元，话题不断，影响力延伸到了互联网，不到一个月，“中国好声音”网络覆盖量超过了</a:t>
            </a:r>
            <a:r>
              <a:rPr b="0" lang="zh-CN" sz="2000" spc="-1" strike="noStrike">
                <a:solidFill>
                  <a:srgbClr val="000000"/>
                </a:solidFill>
                <a:latin typeface="Arial"/>
              </a:rPr>
              <a:t>2</a:t>
            </a:r>
            <a:r>
              <a:rPr b="0" lang="zh-CN" sz="2000" spc="-1" strike="noStrike">
                <a:solidFill>
                  <a:srgbClr val="000000"/>
                </a:solidFill>
                <a:latin typeface="Arial"/>
              </a:rPr>
              <a:t>亿条，新浪微博有了</a:t>
            </a:r>
            <a:r>
              <a:rPr b="0" lang="zh-CN" sz="2000" spc="-1" strike="noStrike">
                <a:solidFill>
                  <a:srgbClr val="000000"/>
                </a:solidFill>
                <a:latin typeface="Arial"/>
              </a:rPr>
              <a:t>76</a:t>
            </a:r>
            <a:r>
              <a:rPr b="0" lang="zh-CN" sz="2000" spc="-1" strike="noStrike">
                <a:solidFill>
                  <a:srgbClr val="000000"/>
                </a:solidFill>
                <a:latin typeface="Arial"/>
              </a:rPr>
              <a:t>万粉丝，视频观看次数超过了</a:t>
            </a:r>
            <a:r>
              <a:rPr b="0" lang="zh-CN" sz="2000" spc="-1" strike="noStrike">
                <a:solidFill>
                  <a:srgbClr val="000000"/>
                </a:solidFill>
                <a:latin typeface="Arial"/>
              </a:rPr>
              <a:t>3700</a:t>
            </a:r>
            <a:r>
              <a:rPr b="0" lang="zh-CN" sz="2000" spc="-1" strike="noStrike">
                <a:solidFill>
                  <a:srgbClr val="000000"/>
                </a:solidFill>
                <a:latin typeface="Arial"/>
              </a:rPr>
              <a:t>万，还被列为广电总局表彰的</a:t>
            </a:r>
            <a:r>
              <a:rPr b="0" lang="zh-CN" sz="2000" spc="-1" strike="noStrike">
                <a:solidFill>
                  <a:srgbClr val="000000"/>
                </a:solidFill>
                <a:latin typeface="Arial"/>
              </a:rPr>
              <a:t>2012</a:t>
            </a:r>
            <a:r>
              <a:rPr b="0" lang="zh-CN" sz="2000" spc="-1" strike="noStrike">
                <a:solidFill>
                  <a:srgbClr val="000000"/>
                </a:solidFill>
                <a:latin typeface="Arial"/>
              </a:rPr>
              <a:t>年广播电视创新创优栏目之一。“中国好声音”作为一个大众传播现象，它的传播方式是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好声音顺应潮流，把握时机，选择微博作为主要的网络口碑传播渠道，在节目首期播出后迅速打响知名度，并始终吸引着公众的关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好声音网站建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社交媒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线下推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原则和意识</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原则，就是社会组织及其工作人员为实现公共关系目标和保证公共关系工作的效果，在开展公共关系活动中必须遵循的基本工作原则。</a:t>
            </a:r>
            <a:endParaRPr b="0" lang="en-US" sz="3200" spc="-1" strike="noStrike">
              <a:solidFill>
                <a:srgbClr val="000000"/>
              </a:solidFill>
              <a:latin typeface="Arial"/>
            </a:endParaRPr>
          </a:p>
        </p:txBody>
      </p:sp>
      <p:pic>
        <p:nvPicPr>
          <p:cNvPr id="125" name="图片 66564" descr="">
            <a:hlinkClick r:id="rId1"/>
          </p:cNvPr>
          <p:cNvPicPr/>
          <p:nvPr/>
        </p:nvPicPr>
        <p:blipFill>
          <a:blip r:embed="rId2"/>
          <a:stretch/>
        </p:blipFill>
        <p:spPr>
          <a:xfrm>
            <a:off x="0" y="5781600"/>
            <a:ext cx="1428840" cy="1076400"/>
          </a:xfrm>
          <a:prstGeom prst="rect">
            <a:avLst/>
          </a:prstGeom>
          <a:ln w="0">
            <a:noFill/>
          </a:ln>
        </p:spPr>
      </p:pic>
      <p:pic>
        <p:nvPicPr>
          <p:cNvPr id="126" name="图片 66566" descr="">
            <a:hlinkClick r:id="rId3"/>
          </p:cNvPr>
          <p:cNvPicPr/>
          <p:nvPr/>
        </p:nvPicPr>
        <p:blipFill>
          <a:blip r:embed="rId4"/>
          <a:stretch/>
        </p:blipFill>
        <p:spPr>
          <a:xfrm>
            <a:off x="7715160" y="578160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诚信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诚信原则，就是在公共关系活动中必须坚持以客观事物为基础的工作准则，公共关系主体必须如实地向组织和公众反映实际情况。 </a:t>
            </a:r>
            <a:endParaRPr b="0" lang="en-US" sz="3200" spc="-1" strike="noStrike">
              <a:solidFill>
                <a:srgbClr val="000000"/>
              </a:solidFill>
              <a:latin typeface="Arial"/>
            </a:endParaRPr>
          </a:p>
        </p:txBody>
      </p:sp>
      <p:pic>
        <p:nvPicPr>
          <p:cNvPr id="129" name="图片 67588" descr="">
            <a:hlinkClick r:id="rId1"/>
          </p:cNvPr>
          <p:cNvPicPr/>
          <p:nvPr/>
        </p:nvPicPr>
        <p:blipFill>
          <a:blip r:embed="rId2"/>
          <a:stretch/>
        </p:blipFill>
        <p:spPr>
          <a:xfrm>
            <a:off x="7772400" y="4800600"/>
            <a:ext cx="1371600" cy="2057400"/>
          </a:xfrm>
          <a:prstGeom prst="rect">
            <a:avLst/>
          </a:prstGeom>
          <a:ln w="0">
            <a:noFill/>
          </a:ln>
        </p:spPr>
      </p:pic>
      <p:pic>
        <p:nvPicPr>
          <p:cNvPr id="130" name="图片 67590" descr="">
            <a:hlinkClick r:id="rId3"/>
          </p:cNvPr>
          <p:cNvPicPr/>
          <p:nvPr/>
        </p:nvPicPr>
        <p:blipFill>
          <a:blip r:embed="rId4"/>
          <a:stretch/>
        </p:blipFill>
        <p:spPr>
          <a:xfrm>
            <a:off x="0" y="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诚信原则的具体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一，向组织或公众提供信息必须是准确真实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二，要全面、公正地向组织或公众提供信息，即要向人们提供事实的全部，而不只是某一个侧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三，在处理组织与公众的双方关系时，应不偏不倚，给予同等的机会和条件。</a:t>
            </a:r>
            <a:endParaRPr b="0" lang="en-US" sz="3200" spc="-1" strike="noStrike">
              <a:solidFill>
                <a:srgbClr val="000000"/>
              </a:solidFill>
              <a:latin typeface="Arial"/>
            </a:endParaRPr>
          </a:p>
        </p:txBody>
      </p:sp>
      <p:pic>
        <p:nvPicPr>
          <p:cNvPr id="133" name="图片 68612" descr="">
            <a:hlinkClick r:id="rId1"/>
          </p:cNvPr>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真实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真实性原则反映了公共关系工作人员的业务素质和道德准则。公共关系的真实性，是指传播信息应该守信用、重承诺。 </a:t>
            </a:r>
            <a:endParaRPr b="0" lang="en-US" sz="3200" spc="-1" strike="noStrike">
              <a:solidFill>
                <a:srgbClr val="000000"/>
              </a:solidFill>
              <a:latin typeface="Arial"/>
            </a:endParaRPr>
          </a:p>
        </p:txBody>
      </p:sp>
      <p:pic>
        <p:nvPicPr>
          <p:cNvPr id="136" name="图片 69636" descr="">
            <a:hlinkClick r:id="rId1"/>
          </p:cNvPr>
          <p:cNvPicPr/>
          <p:nvPr/>
        </p:nvPicPr>
        <p:blipFill>
          <a:blip r:embed="rId2"/>
          <a:stretch/>
        </p:blipFill>
        <p:spPr>
          <a:xfrm>
            <a:off x="7858080" y="5962680"/>
            <a:ext cx="1285920" cy="895320"/>
          </a:xfrm>
          <a:prstGeom prst="rect">
            <a:avLst/>
          </a:prstGeom>
          <a:ln w="0">
            <a:noFill/>
          </a:ln>
        </p:spPr>
      </p:pic>
      <p:pic>
        <p:nvPicPr>
          <p:cNvPr id="137" name="图片 69638" descr="">
            <a:hlinkClick r:id="rId3"/>
          </p:cNvPr>
          <p:cNvPicPr/>
          <p:nvPr/>
        </p:nvPicPr>
        <p:blipFill>
          <a:blip r:embed="rId4"/>
          <a:stretch/>
        </p:blipFill>
        <p:spPr>
          <a:xfrm>
            <a:off x="0" y="5962680"/>
            <a:ext cx="1285920" cy="895320"/>
          </a:xfrm>
          <a:prstGeom prst="rect">
            <a:avLst/>
          </a:prstGeom>
          <a:ln w="0">
            <a:noFill/>
          </a:ln>
        </p:spPr>
      </p:pic>
      <p:pic>
        <p:nvPicPr>
          <p:cNvPr id="138" name="图片 69640" descr="">
            <a:hlinkClick r:id="rId5"/>
          </p:cNvPr>
          <p:cNvPicPr/>
          <p:nvPr/>
        </p:nvPicPr>
        <p:blipFill>
          <a:blip r:embed="rId6"/>
          <a:stretch/>
        </p:blipFill>
        <p:spPr>
          <a:xfrm>
            <a:off x="7858080" y="0"/>
            <a:ext cx="1285920" cy="895320"/>
          </a:xfrm>
          <a:prstGeom prst="rect">
            <a:avLst/>
          </a:prstGeom>
          <a:ln w="0">
            <a:noFill/>
          </a:ln>
        </p:spPr>
      </p:pic>
      <p:pic>
        <p:nvPicPr>
          <p:cNvPr id="139" name="图片 69642" descr="">
            <a:hlinkClick r:id="rId7"/>
          </p:cNvPr>
          <p:cNvPicPr/>
          <p:nvPr/>
        </p:nvPicPr>
        <p:blipFill>
          <a:blip r:embed="rId8"/>
          <a:stretch/>
        </p:blipFill>
        <p:spPr>
          <a:xfrm>
            <a:off x="0" y="0"/>
            <a:ext cx="1285920" cy="89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位中国游客在谈到他对德国一些百货公司的感受时说：“步入百货公司，内部典雅的装潢，巧妙的布局，柔和的组合灯光，再加上不时更换的轻音乐，使人犹如置身于艺术殿堂；而营业员彬彬有礼的举止，真诚友善的微笑，更使人无形中提升了自身的价值。‘顾客是上帝’在这里不再是空洞的说教，而是一种真实的感受。”正是这种真实全面的公关艺术，构成了德国企业形象的魅力。</a:t>
            </a:r>
            <a:endParaRPr b="0" lang="en-US" sz="3200" spc="-1" strike="noStrike">
              <a:solidFill>
                <a:srgbClr val="000000"/>
              </a:solidFill>
              <a:latin typeface="Arial"/>
            </a:endParaRPr>
          </a:p>
        </p:txBody>
      </p:sp>
      <p:pic>
        <p:nvPicPr>
          <p:cNvPr id="142" name="图片 70659" descr="j0292020"/>
          <p:cNvPicPr/>
          <p:nvPr/>
        </p:nvPicPr>
        <p:blipFill>
          <a:blip r:embed="rId1"/>
          <a:stretch/>
        </p:blipFill>
        <p:spPr>
          <a:xfrm>
            <a:off x="762120" y="0"/>
            <a:ext cx="1868400" cy="1773360"/>
          </a:xfrm>
          <a:prstGeom prst="rect">
            <a:avLst/>
          </a:prstGeom>
          <a:ln w="0">
            <a:noFill/>
          </a:ln>
        </p:spPr>
      </p:pic>
      <p:pic>
        <p:nvPicPr>
          <p:cNvPr id="143" name="图片 70661" descr="">
            <a:hlinkClick r:id="rId2"/>
          </p:cNvPr>
          <p:cNvPicPr/>
          <p:nvPr/>
        </p:nvPicPr>
        <p:blipFill>
          <a:blip r:embed="rId3"/>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球疫情大考，中国展现负责任大国形象</a:t>
            </a:r>
            <a:endParaRPr b="0" lang="en-US" sz="3200" spc="-1" strike="noStrike">
              <a:solidFill>
                <a:srgbClr val="000000"/>
              </a:solidFill>
              <a:latin typeface="Arial"/>
            </a:endParaRPr>
          </a:p>
        </p:txBody>
      </p:sp>
      <p:sp>
        <p:nvSpPr>
          <p:cNvPr id="49" name=""/>
          <p:cNvSpPr txBox="1"/>
          <p:nvPr/>
        </p:nvSpPr>
        <p:spPr>
          <a:xfrm>
            <a:off x="75960" y="998280"/>
            <a:ext cx="5724360" cy="512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2020</a:t>
            </a:r>
            <a:r>
              <a:rPr b="0" lang="zh-CN" sz="2400" spc="-1" strike="noStrike">
                <a:solidFill>
                  <a:srgbClr val="000000"/>
                </a:solidFill>
                <a:latin typeface="Arial"/>
              </a:rPr>
              <a:t>年，一场突如其来的新型冠状病毒肺炎疫情在中国各省市蔓延，情况不容乐观，武汉封城。随后，在党中央和国务院的正确领导和大力支持下，众多医护工作人员和防疫人员在一线奋战，无数普通的中国人积极配合防疫工作，海外华人华侨及各企业也纷纷捐款捐物，为祖国抗击疫情贡献力量，经过两个月左右的努力，这场防疫战争已见胜利的曙光，全国各地陆续复工复产复学。但全球范围内的疫情则并不乐观，多个国家陆续爆发严重的新冠疫情，截止到</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世界卫生组织统计的数字显示，全球患新冠肺炎疫情人数已超</a:t>
            </a:r>
            <a:r>
              <a:rPr b="0" lang="zh-CN" sz="2400" spc="-1" strike="noStrike">
                <a:solidFill>
                  <a:srgbClr val="000000"/>
                </a:solidFill>
                <a:latin typeface="Arial"/>
              </a:rPr>
              <a:t>239</a:t>
            </a:r>
            <a:r>
              <a:rPr b="0" lang="zh-CN" sz="2400" spc="-1" strike="noStrike">
                <a:solidFill>
                  <a:srgbClr val="000000"/>
                </a:solidFill>
                <a:latin typeface="Arial"/>
              </a:rPr>
              <a:t>万，情况尚不明朗，全面胜利的时间节点犹未可知。</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5799240" y="1828800"/>
            <a:ext cx="3300480" cy="346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公开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公开性原则，就是坚持公众对社会组织的状况、运作程序及决策过程，有了解、参与、评价的权利。</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6" name="图片 71684" descr="u=1950667657,997512751&amp;fm=3&amp;gp=0">
            <a:hlinkClick r:id="rId1"/>
          </p:cNvPr>
          <p:cNvPicPr/>
          <p:nvPr/>
        </p:nvPicPr>
        <p:blipFill>
          <a:blip r:embed="rId2"/>
          <a:stretch/>
        </p:blipFill>
        <p:spPr>
          <a:xfrm>
            <a:off x="0" y="5867280"/>
            <a:ext cx="1324080" cy="990720"/>
          </a:xfrm>
          <a:prstGeom prst="rect">
            <a:avLst/>
          </a:prstGeom>
          <a:ln w="0">
            <a:noFill/>
          </a:ln>
        </p:spPr>
      </p:pic>
      <p:pic>
        <p:nvPicPr>
          <p:cNvPr id="147" name="图片 71686" descr="u=1950667657,997512751&amp;fm=3&amp;gp=0">
            <a:hlinkClick r:id="rId3"/>
          </p:cNvPr>
          <p:cNvPicPr/>
          <p:nvPr/>
        </p:nvPicPr>
        <p:blipFill>
          <a:blip r:embed="rId4"/>
          <a:stretch/>
        </p:blipFill>
        <p:spPr>
          <a:xfrm>
            <a:off x="7819920" y="5867280"/>
            <a:ext cx="1324080" cy="990720"/>
          </a:xfrm>
          <a:prstGeom prst="rect">
            <a:avLst/>
          </a:prstGeom>
          <a:ln w="0">
            <a:noFill/>
          </a:ln>
        </p:spPr>
      </p:pic>
      <p:pic>
        <p:nvPicPr>
          <p:cNvPr id="148" name="图片 71688" descr="u=1950667657,997512751&amp;fm=3&amp;gp=0">
            <a:hlinkClick r:id="rId5"/>
          </p:cNvPr>
          <p:cNvPicPr/>
          <p:nvPr/>
        </p:nvPicPr>
        <p:blipFill>
          <a:blip r:embed="rId6"/>
          <a:stretch/>
        </p:blipFill>
        <p:spPr>
          <a:xfrm>
            <a:off x="7819920" y="0"/>
            <a:ext cx="1324080" cy="990720"/>
          </a:xfrm>
          <a:prstGeom prst="rect">
            <a:avLst/>
          </a:prstGeom>
          <a:ln w="0">
            <a:noFill/>
          </a:ln>
        </p:spPr>
      </p:pic>
      <p:pic>
        <p:nvPicPr>
          <p:cNvPr id="149" name="图片 71690" descr="u=1950667657,997512751&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长期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长期性原则，就是在公共关系活动中要坚持立足于平时、靠长期努力的原则。长期的努力是形成良好公共关系的基础。 </a:t>
            </a:r>
            <a:endParaRPr b="0" lang="en-US" sz="3200" spc="-1" strike="noStrike">
              <a:solidFill>
                <a:srgbClr val="000000"/>
              </a:solidFill>
              <a:latin typeface="Arial"/>
            </a:endParaRPr>
          </a:p>
        </p:txBody>
      </p:sp>
      <p:pic>
        <p:nvPicPr>
          <p:cNvPr id="152" name="图片 72708" descr="u=3022446030,2579828612&amp;fm=3&amp;gp=0">
            <a:hlinkClick r:id="rId1"/>
          </p:cNvPr>
          <p:cNvPicPr/>
          <p:nvPr/>
        </p:nvPicPr>
        <p:blipFill>
          <a:blip r:embed="rId2"/>
          <a:stretch/>
        </p:blipFill>
        <p:spPr>
          <a:xfrm>
            <a:off x="0" y="5533920"/>
            <a:ext cx="990720" cy="1324080"/>
          </a:xfrm>
          <a:prstGeom prst="rect">
            <a:avLst/>
          </a:prstGeom>
          <a:ln w="0">
            <a:noFill/>
          </a:ln>
        </p:spPr>
      </p:pic>
      <p:pic>
        <p:nvPicPr>
          <p:cNvPr id="153" name="图片 72710" descr="u=3022446030,2579828612&amp;fm=3&amp;gp=0">
            <a:hlinkClick r:id="rId3"/>
          </p:cNvPr>
          <p:cNvPicPr/>
          <p:nvPr/>
        </p:nvPicPr>
        <p:blipFill>
          <a:blip r:embed="rId4"/>
          <a:stretch/>
        </p:blipFill>
        <p:spPr>
          <a:xfrm>
            <a:off x="8153280" y="0"/>
            <a:ext cx="990720" cy="1324080"/>
          </a:xfrm>
          <a:prstGeom prst="rect">
            <a:avLst/>
          </a:prstGeom>
          <a:ln w="0">
            <a:noFill/>
          </a:ln>
        </p:spPr>
      </p:pic>
      <p:pic>
        <p:nvPicPr>
          <p:cNvPr id="154" name="图片 72712" descr="u=3665025148,1177664857&amp;fm=3&amp;gp=0">
            <a:hlinkClick r:id="rId5"/>
          </p:cNvPr>
          <p:cNvPicPr/>
          <p:nvPr/>
        </p:nvPicPr>
        <p:blipFill>
          <a:blip r:embed="rId6"/>
          <a:stretch/>
        </p:blipFill>
        <p:spPr>
          <a:xfrm>
            <a:off x="7819920" y="5867280"/>
            <a:ext cx="1324080" cy="990720"/>
          </a:xfrm>
          <a:prstGeom prst="rect">
            <a:avLst/>
          </a:prstGeom>
          <a:ln w="0">
            <a:noFill/>
          </a:ln>
        </p:spPr>
      </p:pic>
      <p:pic>
        <p:nvPicPr>
          <p:cNvPr id="155" name="图片 72714" descr="u=3665025148,1177664857&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科学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科学性原则，就是公关工作不仅要坚持以科学理论为指导，而且要坚持以调查研究为基础的工作原则。 </a:t>
            </a:r>
            <a:endParaRPr b="0" lang="en-US" sz="3200" spc="-1" strike="noStrike">
              <a:solidFill>
                <a:srgbClr val="000000"/>
              </a:solidFill>
              <a:latin typeface="Arial"/>
            </a:endParaRPr>
          </a:p>
        </p:txBody>
      </p:sp>
      <p:pic>
        <p:nvPicPr>
          <p:cNvPr id="158" name="图片 73732" descr="u=2438638919,4173893803&amp;fm=3&amp;gp=0">
            <a:hlinkClick r:id="rId1"/>
          </p:cNvPr>
          <p:cNvPicPr/>
          <p:nvPr/>
        </p:nvPicPr>
        <p:blipFill>
          <a:blip r:embed="rId2"/>
          <a:stretch/>
        </p:blipFill>
        <p:spPr>
          <a:xfrm>
            <a:off x="0" y="5867280"/>
            <a:ext cx="1324080" cy="990720"/>
          </a:xfrm>
          <a:prstGeom prst="rect">
            <a:avLst/>
          </a:prstGeom>
          <a:ln w="0">
            <a:noFill/>
          </a:ln>
        </p:spPr>
      </p:pic>
      <p:pic>
        <p:nvPicPr>
          <p:cNvPr id="159" name="图片 73734" descr="u=2438638919,4173893803&amp;fm=3&amp;gp=0">
            <a:hlinkClick r:id="rId3"/>
          </p:cNvPr>
          <p:cNvPicPr/>
          <p:nvPr/>
        </p:nvPicPr>
        <p:blipFill>
          <a:blip r:embed="rId4"/>
          <a:stretch/>
        </p:blipFill>
        <p:spPr>
          <a:xfrm>
            <a:off x="7819920" y="5867280"/>
            <a:ext cx="1324080" cy="990720"/>
          </a:xfrm>
          <a:prstGeom prst="rect">
            <a:avLst/>
          </a:prstGeom>
          <a:ln w="0">
            <a:noFill/>
          </a:ln>
        </p:spPr>
      </p:pic>
      <p:pic>
        <p:nvPicPr>
          <p:cNvPr id="160" name="图片 73736" descr="u=2438638919,4173893803&amp;fm=3&amp;gp=0">
            <a:hlinkClick r:id="rId5"/>
          </p:cNvPr>
          <p:cNvPicPr/>
          <p:nvPr/>
        </p:nvPicPr>
        <p:blipFill>
          <a:blip r:embed="rId6"/>
          <a:stretch/>
        </p:blipFill>
        <p:spPr>
          <a:xfrm>
            <a:off x="7819920" y="0"/>
            <a:ext cx="1324080" cy="990720"/>
          </a:xfrm>
          <a:prstGeom prst="rect">
            <a:avLst/>
          </a:prstGeom>
          <a:ln w="0">
            <a:noFill/>
          </a:ln>
        </p:spPr>
      </p:pic>
      <p:pic>
        <p:nvPicPr>
          <p:cNvPr id="161" name="图片 73738" descr="u=2438638919,417389380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最大份炒饭”事件的公关事件</a:t>
            </a:r>
            <a:br>
              <a:rPr sz="4400"/>
            </a:br>
            <a:endParaRPr b="0" lang="en-US" sz="4400" spc="-1" strike="noStrike">
              <a:solidFill>
                <a:srgbClr val="000000"/>
              </a:solidFill>
              <a:latin typeface="Arial"/>
            </a:endParaRPr>
          </a:p>
        </p:txBody>
      </p:sp>
      <p:sp>
        <p:nvSpPr>
          <p:cNvPr id="163" name=""/>
          <p:cNvSpPr txBox="1"/>
          <p:nvPr/>
        </p:nvSpPr>
        <p:spPr>
          <a:xfrm>
            <a:off x="144000" y="1071720"/>
            <a:ext cx="88297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2015</a:t>
            </a:r>
            <a:r>
              <a:rPr b="0" lang="zh-CN" sz="2000" spc="-1" strike="noStrike">
                <a:solidFill>
                  <a:srgbClr val="000000"/>
                </a:solidFill>
                <a:latin typeface="Arial"/>
              </a:rPr>
              <a:t>年</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3</a:t>
            </a:r>
            <a:r>
              <a:rPr b="0" lang="zh-CN" sz="2000" spc="-1" strike="noStrike">
                <a:solidFill>
                  <a:srgbClr val="000000"/>
                </a:solidFill>
                <a:latin typeface="Arial"/>
              </a:rPr>
              <a:t>日，扬州举办了一场“最大份炒饭”的挑战赛，</a:t>
            </a:r>
            <a:r>
              <a:rPr b="0" lang="zh-CN" sz="2000" spc="-1" strike="noStrike">
                <a:solidFill>
                  <a:srgbClr val="000000"/>
                </a:solidFill>
                <a:latin typeface="Arial"/>
              </a:rPr>
              <a:t>300</a:t>
            </a:r>
            <a:r>
              <a:rPr b="0" lang="zh-CN" sz="2000" spc="-1" strike="noStrike">
                <a:solidFill>
                  <a:srgbClr val="000000"/>
                </a:solidFill>
                <a:latin typeface="Arial"/>
              </a:rPr>
              <a:t>名专业厨师共同参与，炒出约</a:t>
            </a:r>
            <a:r>
              <a:rPr b="0" lang="zh-CN" sz="2000" spc="-1" strike="noStrike">
                <a:solidFill>
                  <a:srgbClr val="000000"/>
                </a:solidFill>
                <a:latin typeface="Arial"/>
              </a:rPr>
              <a:t>4</a:t>
            </a:r>
            <a:r>
              <a:rPr b="0" lang="zh-CN" sz="2000" spc="-1" strike="noStrike">
                <a:solidFill>
                  <a:srgbClr val="000000"/>
                </a:solidFill>
                <a:latin typeface="Arial"/>
              </a:rPr>
              <a:t>吨重的扬州炒饭，成功刷新了吉尼斯世界纪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随后，网友曝光的图片显示，现场工作人员脚踩炒饭，并将炒饭装进卡车运走，致使该事件再次掀起热议，纷纷怀疑这</a:t>
            </a:r>
            <a:r>
              <a:rPr b="0" lang="zh-CN" sz="2000" spc="-1" strike="noStrike">
                <a:solidFill>
                  <a:srgbClr val="000000"/>
                </a:solidFill>
                <a:latin typeface="Arial"/>
              </a:rPr>
              <a:t>4</a:t>
            </a:r>
            <a:r>
              <a:rPr b="0" lang="zh-CN" sz="2000" spc="-1" strike="noStrike">
                <a:solidFill>
                  <a:srgbClr val="000000"/>
                </a:solidFill>
                <a:latin typeface="Arial"/>
              </a:rPr>
              <a:t>吨炒饭的去向。主办方事后回应，由于长期存放，确有</a:t>
            </a:r>
            <a:r>
              <a:rPr b="0" lang="zh-CN" sz="2000" spc="-1" strike="noStrike">
                <a:solidFill>
                  <a:srgbClr val="000000"/>
                </a:solidFill>
                <a:latin typeface="Arial"/>
              </a:rPr>
              <a:t>150</a:t>
            </a:r>
            <a:r>
              <a:rPr b="0" lang="zh-CN" sz="2000" spc="-1" strike="noStrike">
                <a:solidFill>
                  <a:srgbClr val="000000"/>
                </a:solidFill>
                <a:latin typeface="Arial"/>
              </a:rPr>
              <a:t>斤炒饭无法食用，被送到了养殖场，其余炒饭送到了相关接收单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舆论普遍认为此举过于浪费。针对强烈的质疑，</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6</a:t>
            </a:r>
            <a:r>
              <a:rPr b="0" lang="zh-CN" sz="2000" spc="-1" strike="noStrike">
                <a:solidFill>
                  <a:srgbClr val="000000"/>
                </a:solidFill>
                <a:latin typeface="Arial"/>
              </a:rPr>
              <a:t>日，吉尼斯世界纪录官方发布消息：因“最大份炒饭”存在浪费的情况，此次挑战纪录无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据了解，举办“最大份炒饭”活动，主要是为了庆祝扬州建城</a:t>
            </a:r>
            <a:r>
              <a:rPr b="0" lang="zh-CN" sz="2000" spc="-1" strike="noStrike">
                <a:solidFill>
                  <a:srgbClr val="000000"/>
                </a:solidFill>
                <a:latin typeface="Arial"/>
              </a:rPr>
              <a:t>2500</a:t>
            </a:r>
            <a:r>
              <a:rPr b="0" lang="zh-CN" sz="2000" spc="-1" strike="noStrike">
                <a:solidFill>
                  <a:srgbClr val="000000"/>
                </a:solidFill>
                <a:latin typeface="Arial"/>
              </a:rPr>
              <a:t>周年，相关部门想借此次活动，宣传扬州古城的美食文化。实际上，早在大赛前夕，扬州市质量监督局就出台了一份扬州炒饭的官方标准。据统计，按照官方标准，此次“最大份炒饭”的成本约</a:t>
            </a:r>
            <a:r>
              <a:rPr b="0" lang="zh-CN" sz="2000" spc="-1" strike="noStrike">
                <a:solidFill>
                  <a:srgbClr val="000000"/>
                </a:solidFill>
                <a:latin typeface="Arial"/>
              </a:rPr>
              <a:t>14</a:t>
            </a:r>
            <a:r>
              <a:rPr b="0" lang="zh-CN" sz="2000" spc="-1" strike="noStrike">
                <a:solidFill>
                  <a:srgbClr val="000000"/>
                </a:solidFill>
                <a:latin typeface="Arial"/>
              </a:rPr>
              <a:t>万元。近年来，吉尼斯世界纪录在中国大受欢迎，并陆续成为众多品牌和城市的宣传窗口，很多大型活动都有政府部门的参与或支持。“世界最长鞭炮”“世界最大月饼”等纪录陆续出现，不禁让人怀疑这类纪录的价值所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意识</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意识，就是对组织运行过程中发生的各类公共关系的认识和态度的总和，是公共关系实践在人们意识中科学、系统的反映，是公共关系管理的基本原则、观念和思想。 </a:t>
            </a:r>
            <a:endParaRPr b="0" lang="en-US" sz="3200" spc="-1" strike="noStrike">
              <a:solidFill>
                <a:srgbClr val="000000"/>
              </a:solidFill>
              <a:latin typeface="Arial"/>
            </a:endParaRPr>
          </a:p>
        </p:txBody>
      </p:sp>
      <p:pic>
        <p:nvPicPr>
          <p:cNvPr id="166" name="图片 75780" descr="u=1940214491,2162086272&amp;fm=3&amp;gp=0">
            <a:hlinkClick r:id="rId1"/>
          </p:cNvPr>
          <p:cNvPicPr/>
          <p:nvPr/>
        </p:nvPicPr>
        <p:blipFill>
          <a:blip r:embed="rId2"/>
          <a:stretch/>
        </p:blipFill>
        <p:spPr>
          <a:xfrm>
            <a:off x="3352680" y="4419720"/>
            <a:ext cx="24386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15960"/>
            <a:ext cx="8424720" cy="4525920"/>
          </a:xfrm>
          <a:prstGeom prst="rect">
            <a:avLst/>
          </a:prstGeom>
          <a:noFill/>
          <a:ln w="0">
            <a:noFill/>
          </a:ln>
        </p:spPr>
        <p:txBody>
          <a:bodyPr lIns="90000" rIns="90000" tIns="46800" bIns="46800"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腾讯和老干妈事件中的公关意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腾讯老干妈事件原本是一个很普通的合同纠纷案件，但极不寻常的是涉事双方的特殊身份，以及剧情反转尺度之大、速度之快，让公众可谓目瞪口呆、脑洞大开，一夜之间，腾讯老干妈事件就上了热搜，成为社会关注热点。表面上看是广告合同纠纷官司，其实是对腾讯和老干妈的危机公关能力的考验之战，危机公关的攻与防在双方之间不断切换，首先是腾讯起诉，老干妈如何应对，其次，老干妈发声，剧情反转，腾讯如何化解危机。不管是老干妈还是腾讯，核心在于找到此次危机源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此次事件刚一爆出，普通大众仅凭深圳南山法院的一纸裁定，老干妈合同违约属于既定事实。再加上原告腾讯素有南山必胜客的美誉以及互联网最强法务团队，势必会对老干妈造成极其恶劣的负面影响。对此，老干妈的危机公关极其简单，当天发表声明澄清，老干妈与腾讯从未有过商业合作，并已报案处理。次日贵州警方发布通告，宣布案件侦破。可以说，老干妈很好掌握了危机公关处理的黄金</a:t>
            </a:r>
            <a:r>
              <a:rPr b="0" lang="zh-CN" sz="2000" spc="-1" strike="noStrike">
                <a:solidFill>
                  <a:srgbClr val="000000"/>
                </a:solidFill>
                <a:latin typeface="Arial"/>
              </a:rPr>
              <a:t>24</a:t>
            </a:r>
            <a:r>
              <a:rPr b="0" lang="zh-CN" sz="2000" spc="-1" strike="noStrike">
                <a:solidFill>
                  <a:srgbClr val="000000"/>
                </a:solidFill>
                <a:latin typeface="Arial"/>
              </a:rPr>
              <a:t>小时法则，不仅使事件还未多次发酵和失控的情况下，就得到及时处理，而且还让该事件对老干妈的负面影响以及给公众的负面情绪一扫而空。自此，老干妈乾坤大挪移，成功实现其危机公关的“由防到攻”的大转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公众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意识是公共关系意识中的导向意识，以公众为导向不仅是公共关系理论中的基本观点，而且日益成为公共关系实践中的普遍共识。 </a:t>
            </a:r>
            <a:endParaRPr b="0" lang="en-US" sz="3200" spc="-1" strike="noStrike">
              <a:solidFill>
                <a:srgbClr val="000000"/>
              </a:solidFill>
              <a:latin typeface="Arial"/>
            </a:endParaRPr>
          </a:p>
        </p:txBody>
      </p:sp>
      <p:pic>
        <p:nvPicPr>
          <p:cNvPr id="170" name="图片 76803" descr="2006322191665">
            <a:hlinkClick r:id="rId1"/>
          </p:cNvPr>
          <p:cNvPicPr/>
          <p:nvPr/>
        </p:nvPicPr>
        <p:blipFill>
          <a:blip r:embed="rId2"/>
          <a:stretch/>
        </p:blipFill>
        <p:spPr>
          <a:xfrm>
            <a:off x="5257800" y="4114800"/>
            <a:ext cx="3886200" cy="2514600"/>
          </a:xfrm>
          <a:prstGeom prst="rect">
            <a:avLst/>
          </a:prstGeom>
          <a:ln w="0">
            <a:noFill/>
          </a:ln>
        </p:spPr>
      </p:pic>
      <p:pic>
        <p:nvPicPr>
          <p:cNvPr id="171" name="图片 76804" descr="b_3D6D69C087800D62"/>
          <p:cNvPicPr/>
          <p:nvPr/>
        </p:nvPicPr>
        <p:blipFill>
          <a:blip r:embed="rId3"/>
          <a:stretch/>
        </p:blipFill>
        <p:spPr>
          <a:xfrm>
            <a:off x="228600" y="419112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舆情监控体现企业公众意识</a:t>
            </a:r>
            <a:br>
              <a:rPr sz="4400"/>
            </a:br>
            <a:endParaRPr b="0" lang="en-US" sz="4400" spc="-1" strike="noStrike">
              <a:solidFill>
                <a:srgbClr val="000000"/>
              </a:solidFill>
              <a:latin typeface="Arial"/>
            </a:endParaRPr>
          </a:p>
        </p:txBody>
      </p:sp>
      <p:sp>
        <p:nvSpPr>
          <p:cNvPr id="173" name=""/>
          <p:cNvSpPr txBox="1"/>
          <p:nvPr/>
        </p:nvSpPr>
        <p:spPr>
          <a:xfrm>
            <a:off x="133200" y="837720"/>
            <a:ext cx="8553600" cy="52880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是消费者权益日，多家媒体纷纷曝光企业侵犯消费者权益的不法行为，其中中央电视台“</a:t>
            </a:r>
            <a:r>
              <a:rPr b="0" lang="zh-CN" sz="2000" spc="-1" strike="noStrike">
                <a:solidFill>
                  <a:srgbClr val="000000"/>
                </a:solidFill>
                <a:latin typeface="Arial"/>
              </a:rPr>
              <a:t>3·15</a:t>
            </a:r>
            <a:r>
              <a:rPr b="0" lang="zh-CN" sz="2000" spc="-1" strike="noStrike">
                <a:solidFill>
                  <a:srgbClr val="000000"/>
                </a:solidFill>
                <a:latin typeface="Arial"/>
              </a:rPr>
              <a:t>晚会”曝光了多家知名公司：尼康</a:t>
            </a:r>
            <a:r>
              <a:rPr b="0" lang="zh-CN" sz="2000" spc="-1" strike="noStrike">
                <a:solidFill>
                  <a:srgbClr val="000000"/>
                </a:solidFill>
                <a:latin typeface="Arial"/>
              </a:rPr>
              <a:t>D600</a:t>
            </a:r>
            <a:r>
              <a:rPr b="0" lang="zh-CN" sz="2000" spc="-1" strike="noStrike">
                <a:solidFill>
                  <a:srgbClr val="000000"/>
                </a:solidFill>
                <a:latin typeface="Arial"/>
              </a:rPr>
              <a:t>被曝拍照现黑点，澳妙可奶粉篡改保质期</a:t>
            </a:r>
            <a:r>
              <a:rPr b="0" lang="zh-CN" sz="2000" spc="-1" strike="noStrike">
                <a:solidFill>
                  <a:srgbClr val="000000"/>
                </a:solidFill>
                <a:latin typeface="Arial"/>
              </a:rPr>
              <a:t>·</a:t>
            </a:r>
            <a:r>
              <a:rPr b="0" lang="zh-CN" sz="2000" spc="-1" strike="noStrike">
                <a:solidFill>
                  <a:srgbClr val="000000"/>
                </a:solidFill>
                <a:latin typeface="Arial"/>
              </a:rPr>
              <a:t>大唐电信旗下公司为手机装恶意软件，等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除了消费者关注，每一年的“</a:t>
            </a:r>
            <a:r>
              <a:rPr b="0" lang="zh-CN" sz="2000" spc="-1" strike="noStrike">
                <a:solidFill>
                  <a:srgbClr val="000000"/>
                </a:solidFill>
                <a:latin typeface="Arial"/>
              </a:rPr>
              <a:t>3·15</a:t>
            </a:r>
            <a:r>
              <a:rPr b="0" lang="zh-CN" sz="2000" spc="-1" strike="noStrike">
                <a:solidFill>
                  <a:srgbClr val="000000"/>
                </a:solidFill>
                <a:latin typeface="Arial"/>
              </a:rPr>
              <a:t>晚会”还有一群固定的观众——企业公关，不过他们观看晚会的心情比较复杂，通常是忐忑不安的。一家车企的公关部员工表示，虽然对品牌足够放心，但也怕出事，因为如果真的出现问题的话，马上就会出现一些危机公关，还有一些马上要做的市场活动，包括一些之前的市场宣传也要根据这个突发事件做调整，市场的一些策划、推广类的广告投放可能都需要更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还有一家企业的公关部干脆成立了应急小组，公司老板担任小组组长，大家一起在公司看“</a:t>
            </a:r>
            <a:r>
              <a:rPr b="0" lang="zh-CN" sz="2000" spc="-1" strike="noStrike">
                <a:solidFill>
                  <a:srgbClr val="000000"/>
                </a:solidFill>
                <a:latin typeface="Arial"/>
              </a:rPr>
              <a:t>3·15</a:t>
            </a:r>
            <a:r>
              <a:rPr b="0" lang="zh-CN" sz="2000" spc="-1" strike="noStrike">
                <a:solidFill>
                  <a:srgbClr val="000000"/>
                </a:solidFill>
                <a:latin typeface="Arial"/>
              </a:rPr>
              <a:t>晚会”。这家公司的公关部负责人表示，准备了几个不同的应急预案，其实他们很清楚基本不会上榜，但可以借这个机会做一次模拟危机公关应急演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573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一家企业公关部负责人表示，被曝光后最重要的是迅速发声，一般企业都有应急预案。他说，如果被点到了，大约会在两个小时之内以官方的渠道发出声音，先做一个回应，然后内部针对所曝光的事情做出相应的分析，大概在一天之内。根据曝光的事情的严重程度，启动相应的应急预案，正常情况下我们还是会通过一些官方的渠道，通过媒体的渠道给消费者一个交代。除非达到了那种我们内部最高级别的舆情危机，我们会晚上通宵，否则的话，之前已经做好预案，启动预案就好了，再按部就班地推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形象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意识是公关意识中的核心意识。要树立公关意识，必须树立形象意识。如今，形象、信誉已成为一个社会组织谋求生存、争取发展的重要基础和条件，良好的形象和信誉可以赢得公众的信赖、支持和合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6240"/>
            <a:ext cx="8229600" cy="32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0000"/>
                </a:solidFill>
                <a:latin typeface="Arial"/>
              </a:rPr>
              <a:t>在抗击疫情的过程中，中国对疫情的迅速反应，建立方舱医院，倾举国之力抗疫，保障人民的生命安全，而后又对其他国家施以援手，陆续得到国际社会的好评。由此，这场全球疫情大考不仅增强了中华儿女的凝聚力，激发了人民的爱国热情，更将中国负责任有担当的大国形象展现在世人面前。</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1714680" y="3540240"/>
            <a:ext cx="5715000" cy="2857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美的公司靠公关塑造形象</a:t>
            </a:r>
            <a:br>
              <a:rPr sz="4400"/>
            </a:br>
            <a:endParaRPr b="0" lang="en-US" sz="4400" spc="-1" strike="noStrike">
              <a:solidFill>
                <a:srgbClr val="000000"/>
              </a:solidFill>
              <a:latin typeface="Arial"/>
            </a:endParaRPr>
          </a:p>
        </p:txBody>
      </p:sp>
      <p:sp>
        <p:nvSpPr>
          <p:cNvPr id="178" name=""/>
          <p:cNvSpPr txBox="1"/>
          <p:nvPr/>
        </p:nvSpPr>
        <p:spPr>
          <a:xfrm>
            <a:off x="355320" y="1571760"/>
            <a:ext cx="8507160" cy="5038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广东美的集团股份有限公司靠</a:t>
            </a:r>
            <a:r>
              <a:rPr b="0" lang="zh-CN" sz="3200" spc="-1" strike="noStrike">
                <a:solidFill>
                  <a:srgbClr val="000000"/>
                </a:solidFill>
                <a:latin typeface="Arial"/>
              </a:rPr>
              <a:t>5000</a:t>
            </a:r>
            <a:r>
              <a:rPr b="0" lang="zh-CN" sz="3200" spc="-1" strike="noStrike">
                <a:solidFill>
                  <a:srgbClr val="000000"/>
                </a:solidFill>
                <a:latin typeface="Arial"/>
              </a:rPr>
              <a:t>元起家，迅速发展成为中国十大乡镇企业之一，在国内外享有盛誉。究其原因，美的集团的老总一语道破天机：“一靠质量管理，二靠企业公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用名人扬“美的”美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借传媒融公众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重人才树“美的”形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筹庆典绘“美的”新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沟通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沟通意识是指管理者注重信息的双向沟通，主张依靠信息沟通去赢得公众的理解、信任、合作与支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81" name="图片 78852" descr="">
            <a:hlinkClick r:id="rId1"/>
          </p:cNvPr>
          <p:cNvPicPr/>
          <p:nvPr/>
        </p:nvPicPr>
        <p:blipFill>
          <a:blip r:embed="rId2"/>
          <a:stretch/>
        </p:blipFill>
        <p:spPr>
          <a:xfrm>
            <a:off x="0" y="5181480"/>
            <a:ext cx="1295280" cy="1676520"/>
          </a:xfrm>
          <a:prstGeom prst="rect">
            <a:avLst/>
          </a:prstGeom>
          <a:ln w="0">
            <a:noFill/>
          </a:ln>
        </p:spPr>
      </p:pic>
      <p:pic>
        <p:nvPicPr>
          <p:cNvPr id="182" name="图片 78854" descr="">
            <a:hlinkClick r:id="rId3"/>
          </p:cNvPr>
          <p:cNvPicPr/>
          <p:nvPr/>
        </p:nvPicPr>
        <p:blipFill>
          <a:blip r:embed="rId4"/>
          <a:stretch/>
        </p:blipFill>
        <p:spPr>
          <a:xfrm>
            <a:off x="7467480" y="0"/>
            <a:ext cx="1676520" cy="1371600"/>
          </a:xfrm>
          <a:prstGeom prst="rect">
            <a:avLst/>
          </a:prstGeom>
          <a:ln w="0">
            <a:noFill/>
          </a:ln>
        </p:spPr>
      </p:pic>
      <p:pic>
        <p:nvPicPr>
          <p:cNvPr id="183" name="图片 78856" descr="">
            <a:hlinkClick r:id="rId5"/>
          </p:cNvPr>
          <p:cNvPicPr/>
          <p:nvPr/>
        </p:nvPicPr>
        <p:blipFill>
          <a:blip r:embed="rId6"/>
          <a:stretch/>
        </p:blipFill>
        <p:spPr>
          <a:xfrm>
            <a:off x="6705720" y="5257800"/>
            <a:ext cx="2076480" cy="14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协调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公共关系的性质既有对立一面，也有合作的一面。促使组织与其相关的公众建立信任与合作的关系，调节其对立性因素，并使其向合作方面转化是公共关系工作的重要一面，因此，只有在协调的状态下，社会组织和公众才能各得其所，才能获得更为广阔的发展空间。</a:t>
            </a:r>
            <a:endParaRPr b="0" lang="en-US" sz="3200" spc="-1" strike="noStrike">
              <a:solidFill>
                <a:srgbClr val="000000"/>
              </a:solidFill>
              <a:latin typeface="Arial"/>
            </a:endParaRPr>
          </a:p>
        </p:txBody>
      </p:sp>
      <p:pic>
        <p:nvPicPr>
          <p:cNvPr id="186" name="图片 79876" descr="">
            <a:hlinkClick r:id="rId1"/>
          </p:cNvPr>
          <p:cNvPicPr/>
          <p:nvPr/>
        </p:nvPicPr>
        <p:blipFill>
          <a:blip r:embed="rId2"/>
          <a:stretch/>
        </p:blipFill>
        <p:spPr>
          <a:xfrm>
            <a:off x="7543800" y="0"/>
            <a:ext cx="1600200" cy="205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 </a:t>
            </a:r>
            <a:r>
              <a:rPr b="1" lang="zh-CN" sz="3200" spc="-1" strike="noStrike">
                <a:solidFill>
                  <a:srgbClr val="000000"/>
                </a:solidFill>
                <a:latin typeface="隶书"/>
                <a:ea typeface="隶书"/>
              </a:rPr>
              <a:t>开放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组织既要适应社会的发展，又要了解社会，更要面向公众敞开自己的大门，开放自己的门户，才能有更大的发展。</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89" name="图片 80900" descr="">
            <a:hlinkClick r:id="rId1"/>
          </p:cNvPr>
          <p:cNvPicPr/>
          <p:nvPr/>
        </p:nvPicPr>
        <p:blipFill>
          <a:blip r:embed="rId2"/>
          <a:stretch/>
        </p:blipFill>
        <p:spPr>
          <a:xfrm>
            <a:off x="0" y="4572000"/>
            <a:ext cx="1600200" cy="2286000"/>
          </a:xfrm>
          <a:prstGeom prst="rect">
            <a:avLst/>
          </a:prstGeom>
          <a:ln w="0">
            <a:noFill/>
          </a:ln>
        </p:spPr>
      </p:pic>
      <p:pic>
        <p:nvPicPr>
          <p:cNvPr id="190" name="图片 80902" descr="">
            <a:hlinkClick r:id="rId3"/>
          </p:cNvPr>
          <p:cNvPicPr/>
          <p:nvPr/>
        </p:nvPicPr>
        <p:blipFill>
          <a:blip r:embed="rId4"/>
          <a:stretch/>
        </p:blipFill>
        <p:spPr>
          <a:xfrm>
            <a:off x="0" y="0"/>
            <a:ext cx="2133720" cy="1295280"/>
          </a:xfrm>
          <a:prstGeom prst="rect">
            <a:avLst/>
          </a:prstGeom>
          <a:ln w="0">
            <a:noFill/>
          </a:ln>
        </p:spPr>
      </p:pic>
      <p:pic>
        <p:nvPicPr>
          <p:cNvPr id="191" name="图片 80904" descr="">
            <a:hlinkClick r:id="rId5"/>
          </p:cNvPr>
          <p:cNvPicPr/>
          <p:nvPr/>
        </p:nvPicPr>
        <p:blipFill>
          <a:blip r:embed="rId6"/>
          <a:stretch/>
        </p:blipFill>
        <p:spPr>
          <a:xfrm>
            <a:off x="7391520" y="510552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互惠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是一种追求利益的活动，是有明确目的活动。互惠意识是公共关系意识中的功利意识。 </a:t>
            </a:r>
            <a:endParaRPr b="0" lang="en-US" sz="3200" spc="-1" strike="noStrike">
              <a:solidFill>
                <a:srgbClr val="000000"/>
              </a:solidFill>
              <a:latin typeface="Arial"/>
            </a:endParaRPr>
          </a:p>
        </p:txBody>
      </p:sp>
      <p:pic>
        <p:nvPicPr>
          <p:cNvPr id="194" name="图片 81924" descr="">
            <a:hlinkClick r:id="rId1"/>
          </p:cNvPr>
          <p:cNvPicPr/>
          <p:nvPr/>
        </p:nvPicPr>
        <p:blipFill>
          <a:blip r:embed="rId2"/>
          <a:stretch/>
        </p:blipFill>
        <p:spPr>
          <a:xfrm>
            <a:off x="0" y="556272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创新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创新意识是从事任何工作都必须具备的意识，创新意识也是公共关系意识中的特殊意识。它集中、深刻地反映和体现了公共关系的创造性这一本质特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97" name="图片 82948" descr="">
            <a:hlinkClick r:id="rId1"/>
          </p:cNvPr>
          <p:cNvPicPr/>
          <p:nvPr/>
        </p:nvPicPr>
        <p:blipFill>
          <a:blip r:embed="rId2"/>
          <a:stretch/>
        </p:blipFill>
        <p:spPr>
          <a:xfrm>
            <a:off x="0" y="5105520"/>
            <a:ext cx="1981080" cy="1752480"/>
          </a:xfrm>
          <a:prstGeom prst="rect">
            <a:avLst/>
          </a:prstGeom>
          <a:ln w="0">
            <a:noFill/>
          </a:ln>
        </p:spPr>
      </p:pic>
      <p:pic>
        <p:nvPicPr>
          <p:cNvPr id="198" name="图片 82950" descr="">
            <a:hlinkClick r:id="rId3"/>
          </p:cNvPr>
          <p:cNvPicPr/>
          <p:nvPr/>
        </p:nvPicPr>
        <p:blipFill>
          <a:blip r:embed="rId4"/>
          <a:stretch/>
        </p:blipFill>
        <p:spPr>
          <a:xfrm>
            <a:off x="7772400" y="5029200"/>
            <a:ext cx="1371600" cy="182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发展的历史脉络</a:t>
            </a:r>
            <a:br>
              <a:rPr sz="4000"/>
            </a:br>
            <a:endParaRPr b="0" lang="en-US" sz="40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作为一门学科不过百余年的历史，但作为一种社会活动，一种商业现象，不管是在国内还是在国外，都历史悠长。我们追溯公共关系源流，了解其发生与发展的历史过程，把握国内外公共关系现状，对全面、准确、科学地把握公共关系的思想和理论，开创我国公共关系事业的新局面具有重要意义。</a:t>
            </a:r>
            <a:endParaRPr b="0" lang="en-US" sz="3200" spc="-1" strike="noStrike">
              <a:solidFill>
                <a:srgbClr val="000000"/>
              </a:solidFill>
              <a:latin typeface="Arial"/>
            </a:endParaRPr>
          </a:p>
        </p:txBody>
      </p:sp>
      <p:pic>
        <p:nvPicPr>
          <p:cNvPr id="201" name="图片 83972" descr="">
            <a:hlinkClick r:id="rId1"/>
          </p:cNvPr>
          <p:cNvPicPr/>
          <p:nvPr/>
        </p:nvPicPr>
        <p:blipFill>
          <a:blip r:embed="rId2"/>
          <a:stretch/>
        </p:blipFill>
        <p:spPr>
          <a:xfrm>
            <a:off x="76960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起源</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公共关系“</a:t>
            </a:r>
            <a:r>
              <a:rPr b="0" lang="en-US" sz="2800" spc="-1" strike="noStrike">
                <a:solidFill>
                  <a:srgbClr val="000000"/>
                </a:solidFill>
                <a:latin typeface="隶书"/>
                <a:ea typeface="隶书"/>
              </a:rPr>
              <a:t>Public Relations”</a:t>
            </a:r>
            <a:r>
              <a:rPr b="0" lang="zh-CN" sz="2800" spc="-1" strike="noStrike">
                <a:solidFill>
                  <a:srgbClr val="000000"/>
                </a:solidFill>
                <a:latin typeface="隶书"/>
                <a:ea typeface="隶书"/>
              </a:rPr>
              <a:t>一语最早出现于</a:t>
            </a:r>
            <a:r>
              <a:rPr b="0" lang="en-US" sz="2800" spc="-1" strike="noStrike">
                <a:solidFill>
                  <a:srgbClr val="000000"/>
                </a:solidFill>
                <a:latin typeface="隶书"/>
                <a:ea typeface="隶书"/>
              </a:rPr>
              <a:t>1882</a:t>
            </a:r>
            <a:r>
              <a:rPr b="0" lang="zh-CN" sz="2800" spc="-1" strike="noStrike">
                <a:solidFill>
                  <a:srgbClr val="000000"/>
                </a:solidFill>
                <a:latin typeface="隶书"/>
                <a:ea typeface="隶书"/>
              </a:rPr>
              <a:t>年美国律师多尔曼</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伊顿在耶鲁大学法学院毕业班所作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与法律职业的责任</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演讲中，但那时的公共关系表示的并非现代意义上的“公共关系”，而是“大众利益”的意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真正具有现代意义上的公共关系第一次正式使用是在</a:t>
            </a:r>
            <a:r>
              <a:rPr b="0" lang="en-US" sz="2800" spc="-1" strike="noStrike">
                <a:solidFill>
                  <a:srgbClr val="000000"/>
                </a:solidFill>
                <a:latin typeface="隶书"/>
                <a:ea typeface="隶书"/>
              </a:rPr>
              <a:t>1897</a:t>
            </a:r>
            <a:r>
              <a:rPr b="0" lang="zh-CN" sz="2800" spc="-1" strike="noStrike">
                <a:solidFill>
                  <a:srgbClr val="000000"/>
                </a:solidFill>
                <a:latin typeface="隶书"/>
                <a:ea typeface="隶书"/>
              </a:rPr>
              <a:t>年，出现在美国铁路协会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铁路文献年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上。公共关系不是凭空产生的，它的形成是有一定历史渊源的。</a:t>
            </a:r>
            <a:endParaRPr b="0" lang="en-US" sz="2800" spc="-1" strike="noStrike">
              <a:solidFill>
                <a:srgbClr val="000000"/>
              </a:solidFill>
              <a:latin typeface="Arial"/>
            </a:endParaRPr>
          </a:p>
        </p:txBody>
      </p:sp>
      <p:pic>
        <p:nvPicPr>
          <p:cNvPr id="204" name="图片 84996" descr="">
            <a:hlinkClick r:id="rId1"/>
          </p:cNvPr>
          <p:cNvPicPr/>
          <p:nvPr/>
        </p:nvPicPr>
        <p:blipFill>
          <a:blip r:embed="rId2"/>
          <a:stretch/>
        </p:blipFill>
        <p:spPr>
          <a:xfrm>
            <a:off x="7848720" y="5105520"/>
            <a:ext cx="1295280" cy="17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代公关的奠基人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兹这样写道，“公关的三个要素实际上是跟社会史一样久远的：告知公众、说服公众以及整合公众。 </a:t>
            </a:r>
            <a:endParaRPr b="0" lang="en-US" sz="3200" spc="-1" strike="noStrike">
              <a:solidFill>
                <a:srgbClr val="000000"/>
              </a:solidFill>
              <a:latin typeface="Arial"/>
            </a:endParaRPr>
          </a:p>
        </p:txBody>
      </p:sp>
      <p:pic>
        <p:nvPicPr>
          <p:cNvPr id="207" name="图片 86020" descr="">
            <a:hlinkClick r:id="rId1"/>
          </p:cNvPr>
          <p:cNvPicPr/>
          <p:nvPr/>
        </p:nvPicPr>
        <p:blipFill>
          <a:blip r:embed="rId2"/>
          <a:stretch/>
        </p:blipFill>
        <p:spPr>
          <a:xfrm>
            <a:off x="0" y="5676840"/>
            <a:ext cx="1038240" cy="1181160"/>
          </a:xfrm>
          <a:prstGeom prst="rect">
            <a:avLst/>
          </a:prstGeom>
          <a:ln w="0">
            <a:noFill/>
          </a:ln>
        </p:spPr>
      </p:pic>
      <p:pic>
        <p:nvPicPr>
          <p:cNvPr id="208" name="图片 86022" descr="">
            <a:hlinkClick r:id="rId3"/>
          </p:cNvPr>
          <p:cNvPicPr/>
          <p:nvPr/>
        </p:nvPicPr>
        <p:blipFill>
          <a:blip r:embed="rId4"/>
          <a:stretch/>
        </p:blipFill>
        <p:spPr>
          <a:xfrm>
            <a:off x="8105760" y="5676840"/>
            <a:ext cx="1038240" cy="1181160"/>
          </a:xfrm>
          <a:prstGeom prst="rect">
            <a:avLst/>
          </a:prstGeom>
          <a:ln w="0">
            <a:noFill/>
          </a:ln>
        </p:spPr>
      </p:pic>
      <p:pic>
        <p:nvPicPr>
          <p:cNvPr id="209" name="图片 86024" descr="">
            <a:hlinkClick r:id="rId5"/>
          </p:cNvPr>
          <p:cNvPicPr/>
          <p:nvPr/>
        </p:nvPicPr>
        <p:blipFill>
          <a:blip r:embed="rId6"/>
          <a:stretch/>
        </p:blipFill>
        <p:spPr>
          <a:xfrm>
            <a:off x="8105760" y="0"/>
            <a:ext cx="1038240" cy="1181160"/>
          </a:xfrm>
          <a:prstGeom prst="rect">
            <a:avLst/>
          </a:prstGeom>
          <a:ln w="0">
            <a:noFill/>
          </a:ln>
        </p:spPr>
      </p:pic>
      <p:pic>
        <p:nvPicPr>
          <p:cNvPr id="210" name="图片 86026" descr="">
            <a:hlinkClick r:id="rId7"/>
          </p:cNvPr>
          <p:cNvPicPr/>
          <p:nvPr/>
        </p:nvPicPr>
        <p:blipFill>
          <a:blip r:embed="rId8"/>
          <a:stretch/>
        </p:blipFill>
        <p:spPr>
          <a:xfrm>
            <a:off x="0" y="0"/>
            <a:ext cx="1038240" cy="1181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外国古文明时期的公共关系起源</a:t>
            </a:r>
            <a:endParaRPr b="0" lang="en-US" sz="40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为了树立他们作为战神或国王的形象，苏美尔、巴比伦、爱沙尼亚和波斯等古文明的统治者借助诗歌和其他作品来宣扬他们在战场上和政治斗争中的所向披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在埃及，许多艺术和建筑（雕塑、庙宇、坟墓）的初衷就是在人们心目中树立神职人员、贵族和抄写员的伟大形象。在古代以色列，</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圣经</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和其他宗教著作成为影响公众思想强有力的武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雅典市场成为公众讨论的中心，人们在这里谈论商业和公众生活问题。讲演术盛行，公众利益成为哲学思想主要的关注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一节　什么是公共关系</a:t>
            </a:r>
            <a:br>
              <a:rPr sz="4000"/>
            </a:br>
            <a:endParaRPr b="0" lang="en-US" sz="4000" spc="-1" strike="noStrike">
              <a:solidFill>
                <a:srgbClr val="000000"/>
              </a:solidFill>
              <a:latin typeface="Arial"/>
            </a:endParaRPr>
          </a:p>
        </p:txBody>
      </p:sp>
      <p:sp>
        <p:nvSpPr>
          <p:cNvPr id="54"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一词是英语“</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的中文译称，简称</a:t>
            </a:r>
            <a:r>
              <a:rPr b="0" lang="en-US" sz="3200" spc="-1" strike="noStrike">
                <a:solidFill>
                  <a:srgbClr val="000000"/>
                </a:solidFill>
                <a:latin typeface="隶书"/>
                <a:ea typeface="隶书"/>
              </a:rPr>
              <a:t>PR</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它有两种理解：一是“公开的、公共的关系”，二是“公众的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因此，也有些专家学者，尤其是海外学者，将“</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译作“公众关系”。 </a:t>
            </a:r>
            <a:endParaRPr b="0" lang="en-US" sz="3200" spc="-1" strike="noStrike">
              <a:solidFill>
                <a:srgbClr val="000000"/>
              </a:solidFill>
              <a:latin typeface="Arial"/>
            </a:endParaRPr>
          </a:p>
        </p:txBody>
      </p:sp>
      <p:pic>
        <p:nvPicPr>
          <p:cNvPr id="55" name="图片 45060" descr="u=3780997093,722785657&amp;fm=3&amp;gp=0">
            <a:hlinkClick r:id="rId1"/>
          </p:cNvPr>
          <p:cNvPicPr/>
          <p:nvPr/>
        </p:nvPicPr>
        <p:blipFill>
          <a:blip r:embed="rId2"/>
          <a:stretch/>
        </p:blipFill>
        <p:spPr>
          <a:xfrm>
            <a:off x="6324480" y="472428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中国古代公共关系思想与活动</a:t>
            </a:r>
            <a:endParaRPr b="0" lang="en-US" sz="40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中国古代公共关系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国语</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中的</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邵公谏弥谤</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先叙述了周厉王的残暴引起民怨的情况，然后批评了周厉王“防民之口，甚于防川”的做法。强调了民众言论与政权的关系。其中就包含着政府形象、政权形象的公共关系观念。</a:t>
            </a:r>
            <a:endParaRPr b="0" lang="en-US" sz="3200" spc="-1" strike="noStrike">
              <a:solidFill>
                <a:srgbClr val="000000"/>
              </a:solidFill>
              <a:latin typeface="Arial"/>
            </a:endParaRPr>
          </a:p>
        </p:txBody>
      </p:sp>
      <p:pic>
        <p:nvPicPr>
          <p:cNvPr id="215" name="图片 88068" descr="">
            <a:hlinkClick r:id="rId1"/>
          </p:cNvPr>
          <p:cNvPicPr/>
          <p:nvPr/>
        </p:nvPicPr>
        <p:blipFill>
          <a:blip r:embed="rId2"/>
          <a:stretch/>
        </p:blipFill>
        <p:spPr>
          <a:xfrm>
            <a:off x="228600" y="5715000"/>
            <a:ext cx="1828800" cy="1143000"/>
          </a:xfrm>
          <a:prstGeom prst="rect">
            <a:avLst/>
          </a:prstGeom>
          <a:ln w="0">
            <a:noFill/>
          </a:ln>
        </p:spPr>
      </p:pic>
      <p:pic>
        <p:nvPicPr>
          <p:cNvPr id="216" name="图片 88070" descr="">
            <a:hlinkClick r:id="rId3"/>
          </p:cNvPr>
          <p:cNvPicPr/>
          <p:nvPr/>
        </p:nvPicPr>
        <p:blipFill>
          <a:blip r:embed="rId4"/>
          <a:stretch/>
        </p:blipFill>
        <p:spPr>
          <a:xfrm>
            <a:off x="7543800" y="5181480"/>
            <a:ext cx="160020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提出了仁、义、礼、信的道德准则，并想以此来调节人们之间的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还提出了实现人际和谐关系的具体办法，即“己欲立而立人，己欲达而达人”、“己所不欲，勿施于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礼”是孔子重要观点之一，他提倡“克己复礼”，要人们“非礼勿视，非礼勿听，非礼勿言，非礼勿动。”孔子的这些观点，都被现代公共关系所接受，并在现代公共关系中起了很大作用。</a:t>
            </a:r>
            <a:endParaRPr b="0" lang="en-US" sz="2800" spc="-1" strike="noStrike">
              <a:solidFill>
                <a:srgbClr val="000000"/>
              </a:solidFill>
              <a:latin typeface="Arial"/>
            </a:endParaRPr>
          </a:p>
        </p:txBody>
      </p:sp>
      <p:pic>
        <p:nvPicPr>
          <p:cNvPr id="219" name="图片 89092" descr="">
            <a:hlinkClick r:id="rId1"/>
          </p:cNvPr>
          <p:cNvPicPr/>
          <p:nvPr/>
        </p:nvPicPr>
        <p:blipFill>
          <a:blip r:embed="rId2"/>
          <a:stretch/>
        </p:blipFill>
        <p:spPr>
          <a:xfrm>
            <a:off x="0" y="0"/>
            <a:ext cx="1447920" cy="1523880"/>
          </a:xfrm>
          <a:prstGeom prst="rect">
            <a:avLst/>
          </a:prstGeom>
          <a:ln w="0">
            <a:noFill/>
          </a:ln>
        </p:spPr>
      </p:pic>
      <p:pic>
        <p:nvPicPr>
          <p:cNvPr id="220" name="图片 89094" descr="">
            <a:hlinkClick r:id="rId3"/>
          </p:cNvPr>
          <p:cNvPicPr/>
          <p:nvPr/>
        </p:nvPicPr>
        <p:blipFill>
          <a:blip r:embed="rId4"/>
          <a:stretch/>
        </p:blipFill>
        <p:spPr>
          <a:xfrm>
            <a:off x="8039160" y="5781600"/>
            <a:ext cx="1104840" cy="107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孟子提出了“民贵君轻”的观点，强调民心向背对政权安危的作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关于君臣关系，孟子认为：“君其视臣如手足，则臣视君如心腹；君之视臣如犬马，则臣视君如国人；君之视臣如土芥，则臣视君如寇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而孟子的“天时不如地利，地利不如人和”说，更加强调了和谐的公众关系在国家管理中的重要性。</a:t>
            </a:r>
            <a:endParaRPr b="0" lang="en-US" sz="3200" spc="-1" strike="noStrike">
              <a:solidFill>
                <a:srgbClr val="000000"/>
              </a:solidFill>
              <a:latin typeface="Arial"/>
            </a:endParaRPr>
          </a:p>
        </p:txBody>
      </p:sp>
      <p:pic>
        <p:nvPicPr>
          <p:cNvPr id="223" name="图片 90116" descr="">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至汉武帝“罢黜百家，独尊儒术”之后，儒家思想对后世的影响越来越大。唐朝魏征提出的“水可载舟，亦可覆舟”便是孟子“民贵君轻”思想的发展。</a:t>
            </a:r>
            <a:endParaRPr b="0" lang="en-US" sz="3200" spc="-1" strike="noStrike">
              <a:solidFill>
                <a:srgbClr val="000000"/>
              </a:solidFill>
              <a:latin typeface="Arial"/>
            </a:endParaRPr>
          </a:p>
        </p:txBody>
      </p:sp>
      <p:pic>
        <p:nvPicPr>
          <p:cNvPr id="226" name="图片 91140" descr="">
            <a:hlinkClick r:id="rId1"/>
          </p:cNvPr>
          <p:cNvPicPr/>
          <p:nvPr/>
        </p:nvPicPr>
        <p:blipFill>
          <a:blip r:embed="rId2"/>
          <a:stretch/>
        </p:blipFill>
        <p:spPr>
          <a:xfrm>
            <a:off x="0" y="464832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中国古代的公共关系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春秋战国时期，诸侯征战，此消彼长。为了争取公众的支持，各国霸主纷纷招募“外交人员”（当时称“士”）到各国游说，宣传自己的主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如东周的苏秦，周游列国，到处宣传政治上的“合纵”主张，是当时的齐、楚、燕、韩、赵、魏六国结成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而魏国的张仪则凭借雄辩的口才，宣传“连横”的主张，对东方六国采取各个击破的政策，瓦解了六国“合纵”的政治军事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苏秦和张仪所从事的游说和宣传、劝服和沟通工作，十分类似现代的公共关系活动。</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9" name="图片 92164" descr="">
            <a:hlinkClick r:id="rId1"/>
          </p:cNvPr>
          <p:cNvPicPr/>
          <p:nvPr/>
        </p:nvPicPr>
        <p:blipFill>
          <a:blip r:embed="rId2"/>
          <a:stretch/>
        </p:blipFill>
        <p:spPr>
          <a:xfrm>
            <a:off x="7915320" y="5934240"/>
            <a:ext cx="1228680" cy="923760"/>
          </a:xfrm>
          <a:prstGeom prst="rect">
            <a:avLst/>
          </a:prstGeom>
          <a:ln w="0">
            <a:noFill/>
          </a:ln>
        </p:spPr>
      </p:pic>
      <p:pic>
        <p:nvPicPr>
          <p:cNvPr id="230" name="图片 92166" descr="">
            <a:hlinkClick r:id="rId3"/>
          </p:cNvPr>
          <p:cNvPicPr/>
          <p:nvPr/>
        </p:nvPicPr>
        <p:blipFill>
          <a:blip r:embed="rId4"/>
          <a:stretch/>
        </p:blipFill>
        <p:spPr>
          <a:xfrm>
            <a:off x="0" y="5934240"/>
            <a:ext cx="1228680" cy="923760"/>
          </a:xfrm>
          <a:prstGeom prst="rect">
            <a:avLst/>
          </a:prstGeom>
          <a:ln w="0">
            <a:noFill/>
          </a:ln>
        </p:spPr>
      </p:pic>
      <p:pic>
        <p:nvPicPr>
          <p:cNvPr id="231" name="图片 92168" descr="">
            <a:hlinkClick r:id="rId5"/>
          </p:cNvPr>
          <p:cNvPicPr/>
          <p:nvPr/>
        </p:nvPicPr>
        <p:blipFill>
          <a:blip r:embed="rId6"/>
          <a:stretch/>
        </p:blipFill>
        <p:spPr>
          <a:xfrm>
            <a:off x="0" y="0"/>
            <a:ext cx="1228680" cy="923760"/>
          </a:xfrm>
          <a:prstGeom prst="rect">
            <a:avLst/>
          </a:prstGeom>
          <a:ln w="0">
            <a:noFill/>
          </a:ln>
        </p:spPr>
      </p:pic>
      <p:pic>
        <p:nvPicPr>
          <p:cNvPr id="232" name="图片 92170" descr="">
            <a:hlinkClick r:id="rId7"/>
          </p:cNvPr>
          <p:cNvPicPr/>
          <p:nvPr/>
        </p:nvPicPr>
        <p:blipFill>
          <a:blip r:embed="rId8"/>
          <a:stretch/>
        </p:blipFill>
        <p:spPr>
          <a:xfrm>
            <a:off x="7915320" y="0"/>
            <a:ext cx="1228680" cy="92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元前</a:t>
            </a:r>
            <a:r>
              <a:rPr b="0" lang="en-US" sz="3200" spc="-1" strike="noStrike">
                <a:solidFill>
                  <a:srgbClr val="000000"/>
                </a:solidFill>
                <a:latin typeface="隶书"/>
                <a:ea typeface="隶书"/>
              </a:rPr>
              <a:t>206</a:t>
            </a:r>
            <a:r>
              <a:rPr b="0" lang="zh-CN" sz="3200" spc="-1" strike="noStrike">
                <a:solidFill>
                  <a:srgbClr val="000000"/>
                </a:solidFill>
                <a:latin typeface="隶书"/>
                <a:ea typeface="隶书"/>
              </a:rPr>
              <a:t>年，刘邦率军攻入咸阳，本想住在豪华的王宫里，但樊哙和张良告诫他别这样做，免得失掉人心。刘邦接受他们的意见，下令封闭王宫，并留下少数士兵保护王宫和藏有大量财宝的库房，随即还军霸上。并“与父老约，法三章耳；杀人者死，伤人及盗抵罪”，来宣传自己的主张。</a:t>
            </a:r>
            <a:endParaRPr b="0" lang="en-US" sz="3200" spc="-1" strike="noStrike">
              <a:solidFill>
                <a:srgbClr val="000000"/>
              </a:solidFill>
              <a:latin typeface="Arial"/>
            </a:endParaRPr>
          </a:p>
        </p:txBody>
      </p:sp>
      <p:pic>
        <p:nvPicPr>
          <p:cNvPr id="235" name="图片 94211"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现代公共关系的产生与发展</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宣传”一词来源于天主教会。</a:t>
            </a:r>
            <a:r>
              <a:rPr b="0" lang="en-US" sz="3200" spc="-1" strike="noStrike">
                <a:solidFill>
                  <a:srgbClr val="000000"/>
                </a:solidFill>
                <a:latin typeface="隶书"/>
                <a:ea typeface="隶书"/>
              </a:rPr>
              <a:t>17</a:t>
            </a:r>
            <a:r>
              <a:rPr b="0" lang="zh-CN" sz="3200" spc="-1" strike="noStrike">
                <a:solidFill>
                  <a:srgbClr val="000000"/>
                </a:solidFill>
                <a:latin typeface="隶书"/>
                <a:ea typeface="隶书"/>
              </a:rPr>
              <a:t>世纪，天主教会成立了“信徒宣传圣会”。圣会的成立表明教会认识到了由第三方加强政府与公众沟通之间的必要性。随着以新形式为载体的新知识的丰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如</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圣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在</a:t>
            </a:r>
            <a:r>
              <a:rPr b="0" lang="en-US" sz="3200" spc="-1" strike="noStrike">
                <a:solidFill>
                  <a:srgbClr val="000000"/>
                </a:solidFill>
                <a:latin typeface="隶书"/>
                <a:ea typeface="隶书"/>
              </a:rPr>
              <a:t>15</a:t>
            </a:r>
            <a:r>
              <a:rPr b="0" lang="zh-CN" sz="3200" spc="-1" strike="noStrike">
                <a:solidFill>
                  <a:srgbClr val="000000"/>
                </a:solidFill>
                <a:latin typeface="隶书"/>
                <a:ea typeface="隶书"/>
              </a:rPr>
              <a:t>世纪由拉丁翻译成日常用语，面向大众的书籍和报纸的发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沟通的程度得到提升。</a:t>
            </a:r>
            <a:endParaRPr b="0" lang="en-US" sz="3200" spc="-1" strike="noStrike">
              <a:solidFill>
                <a:srgbClr val="000000"/>
              </a:solidFill>
              <a:latin typeface="Arial"/>
            </a:endParaRPr>
          </a:p>
        </p:txBody>
      </p:sp>
      <p:pic>
        <p:nvPicPr>
          <p:cNvPr id="238" name="图片 95236" descr="">
            <a:hlinkClick r:id="rId1"/>
          </p:cNvPr>
          <p:cNvPicPr/>
          <p:nvPr/>
        </p:nvPicPr>
        <p:blipFill>
          <a:blip r:embed="rId2"/>
          <a:stretch/>
        </p:blipFill>
        <p:spPr>
          <a:xfrm>
            <a:off x="0" y="5857920"/>
            <a:ext cx="1333440" cy="1000080"/>
          </a:xfrm>
          <a:prstGeom prst="rect">
            <a:avLst/>
          </a:prstGeom>
          <a:ln w="0">
            <a:noFill/>
          </a:ln>
        </p:spPr>
      </p:pic>
      <p:pic>
        <p:nvPicPr>
          <p:cNvPr id="239" name="图片 95238" descr="">
            <a:hlinkClick r:id="rId3"/>
          </p:cNvPr>
          <p:cNvPicPr/>
          <p:nvPr/>
        </p:nvPicPr>
        <p:blipFill>
          <a:blip r:embed="rId4"/>
          <a:stretch/>
        </p:blipFill>
        <p:spPr>
          <a:xfrm>
            <a:off x="8020080" y="5410080"/>
            <a:ext cx="1123920" cy="1067040"/>
          </a:xfrm>
          <a:prstGeom prst="rect">
            <a:avLst/>
          </a:prstGeom>
          <a:ln w="0">
            <a:noFill/>
          </a:ln>
        </p:spPr>
      </p:pic>
      <p:pic>
        <p:nvPicPr>
          <p:cNvPr id="240" name="图片 95240" descr="">
            <a:hlinkClick r:id="rId5"/>
          </p:cNvPr>
          <p:cNvPicPr/>
          <p:nvPr/>
        </p:nvPicPr>
        <p:blipFill>
          <a:blip r:embed="rId6"/>
          <a:stretch/>
        </p:blipFill>
        <p:spPr>
          <a:xfrm>
            <a:off x="3962520" y="562932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独立战争的领导人起草的其他重要文件</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独立宣言</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宪法</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权力法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都可以看作是公共关系的杰作。这些文件是个人命运与公众利益休戚相关，正是这样的一种观念使美国成为了一个公共关系行为的孵化地，公共关系被看作是一个代表民主与自由事业多元利益的职业。</a:t>
            </a:r>
            <a:endParaRPr b="0" lang="en-US" sz="3200" spc="-1" strike="noStrike">
              <a:solidFill>
                <a:srgbClr val="000000"/>
              </a:solidFill>
              <a:latin typeface="Arial"/>
            </a:endParaRPr>
          </a:p>
        </p:txBody>
      </p:sp>
      <p:pic>
        <p:nvPicPr>
          <p:cNvPr id="243" name="图片 96260" descr="">
            <a:hlinkClick r:id="rId1"/>
          </p:cNvPr>
          <p:cNvPicPr/>
          <p:nvPr/>
        </p:nvPicPr>
        <p:blipFill>
          <a:blip r:embed="rId2"/>
          <a:stretch/>
        </p:blipFill>
        <p:spPr>
          <a:xfrm>
            <a:off x="0" y="5629320"/>
            <a:ext cx="1228680" cy="1228680"/>
          </a:xfrm>
          <a:prstGeom prst="rect">
            <a:avLst/>
          </a:prstGeom>
          <a:ln w="0">
            <a:noFill/>
          </a:ln>
        </p:spPr>
      </p:pic>
      <p:pic>
        <p:nvPicPr>
          <p:cNvPr id="244" name="图片 96262" descr="">
            <a:hlinkClick r:id="rId3"/>
          </p:cNvPr>
          <p:cNvPicPr/>
          <p:nvPr/>
        </p:nvPicPr>
        <p:blipFill>
          <a:blip r:embed="rId4"/>
          <a:stretch/>
        </p:blipFill>
        <p:spPr>
          <a:xfrm>
            <a:off x="7915320" y="5629320"/>
            <a:ext cx="1228680" cy="1228680"/>
          </a:xfrm>
          <a:prstGeom prst="rect">
            <a:avLst/>
          </a:prstGeom>
          <a:ln w="0">
            <a:noFill/>
          </a:ln>
        </p:spPr>
      </p:pic>
      <p:pic>
        <p:nvPicPr>
          <p:cNvPr id="245" name="图片 96264" descr="">
            <a:hlinkClick r:id="rId5"/>
          </p:cNvPr>
          <p:cNvPicPr/>
          <p:nvPr/>
        </p:nvPicPr>
        <p:blipFill>
          <a:blip r:embed="rId6"/>
          <a:stretch/>
        </p:blipFill>
        <p:spPr>
          <a:xfrm>
            <a:off x="7915320" y="0"/>
            <a:ext cx="1228680" cy="1228680"/>
          </a:xfrm>
          <a:prstGeom prst="rect">
            <a:avLst/>
          </a:prstGeom>
          <a:ln w="0">
            <a:noFill/>
          </a:ln>
        </p:spPr>
      </p:pic>
      <p:pic>
        <p:nvPicPr>
          <p:cNvPr id="246" name="图片 96266" descr="">
            <a:hlinkClick r:id="rId7"/>
          </p:cNvPr>
          <p:cNvPicPr/>
          <p:nvPr/>
        </p:nvPicPr>
        <p:blipFill>
          <a:blip r:embed="rId8"/>
          <a:stretch/>
        </p:blipFill>
        <p:spPr>
          <a:xfrm>
            <a:off x="0" y="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903</a:t>
            </a:r>
            <a:r>
              <a:rPr b="0" lang="zh-CN" sz="3200" spc="-1" strike="noStrike">
                <a:solidFill>
                  <a:srgbClr val="000000"/>
                </a:solidFill>
                <a:latin typeface="隶书"/>
                <a:ea typeface="隶书"/>
              </a:rPr>
              <a:t>年，美国记者艾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李在美国开办了第一家正式的公共关系事务所，真正使公共关系成为一门职业并获得社会广泛承认，这标志着现代公共关系得问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他是第一个提出“说真话”宣传思想和第一位提供公关职业服务的人，因而被奉为“公共关系之父”。</a:t>
            </a:r>
            <a:endParaRPr b="0" lang="en-US" sz="3200" spc="-1" strike="noStrike">
              <a:solidFill>
                <a:srgbClr val="000000"/>
              </a:solidFill>
              <a:latin typeface="Arial"/>
            </a:endParaRPr>
          </a:p>
        </p:txBody>
      </p:sp>
      <p:pic>
        <p:nvPicPr>
          <p:cNvPr id="249" name="图片 97284" descr="">
            <a:hlinkClick r:id="rId1"/>
          </p:cNvPr>
          <p:cNvPicPr/>
          <p:nvPr/>
        </p:nvPicPr>
        <p:blipFill>
          <a:blip r:embed="rId2"/>
          <a:stretch/>
        </p:blipFill>
        <p:spPr>
          <a:xfrm>
            <a:off x="0" y="5438880"/>
            <a:ext cx="1324080" cy="1419120"/>
          </a:xfrm>
          <a:prstGeom prst="rect">
            <a:avLst/>
          </a:prstGeom>
          <a:ln w="0">
            <a:noFill/>
          </a:ln>
        </p:spPr>
      </p:pic>
      <p:pic>
        <p:nvPicPr>
          <p:cNvPr id="250" name="图片 97286" descr="">
            <a:hlinkClick r:id="rId3"/>
          </p:cNvPr>
          <p:cNvPicPr/>
          <p:nvPr/>
        </p:nvPicPr>
        <p:blipFill>
          <a:blip r:embed="rId4"/>
          <a:stretch/>
        </p:blipFill>
        <p:spPr>
          <a:xfrm>
            <a:off x="7819920" y="5438880"/>
            <a:ext cx="1324080" cy="1419120"/>
          </a:xfrm>
          <a:prstGeom prst="rect">
            <a:avLst/>
          </a:prstGeom>
          <a:ln w="0">
            <a:noFill/>
          </a:ln>
        </p:spPr>
      </p:pic>
      <p:pic>
        <p:nvPicPr>
          <p:cNvPr id="251" name="图片 97288" descr="">
            <a:hlinkClick r:id="rId5"/>
          </p:cNvPr>
          <p:cNvPicPr/>
          <p:nvPr/>
        </p:nvPicPr>
        <p:blipFill>
          <a:blip r:embed="rId6"/>
          <a:stretch/>
        </p:blipFill>
        <p:spPr>
          <a:xfrm>
            <a:off x="7819920" y="0"/>
            <a:ext cx="1324080" cy="1419120"/>
          </a:xfrm>
          <a:prstGeom prst="rect">
            <a:avLst/>
          </a:prstGeom>
          <a:ln w="0">
            <a:noFill/>
          </a:ln>
        </p:spPr>
      </p:pic>
      <p:pic>
        <p:nvPicPr>
          <p:cNvPr id="252" name="图片 97290" descr="">
            <a:hlinkClick r:id="rId7"/>
          </p:cNvPr>
          <p:cNvPicPr/>
          <p:nvPr/>
        </p:nvPicPr>
        <p:blipFill>
          <a:blip r:embed="rId8"/>
          <a:stretch/>
        </p:blipFill>
        <p:spPr>
          <a:xfrm>
            <a:off x="0" y="0"/>
            <a:ext cx="1324080" cy="1419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真正促使公共关系走向正规化、科学化的重要人物是美国著名的公共关系理论家和实践家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原是奥地利人，他一生致力于公共关系研究。他于</a:t>
            </a:r>
            <a:r>
              <a:rPr b="0" lang="en-US" sz="2800" spc="-1" strike="noStrike">
                <a:solidFill>
                  <a:srgbClr val="000000"/>
                </a:solidFill>
                <a:latin typeface="隶书"/>
                <a:ea typeface="隶书"/>
              </a:rPr>
              <a:t>1913</a:t>
            </a:r>
            <a:r>
              <a:rPr b="0" lang="zh-CN" sz="2800" spc="-1" strike="noStrike">
                <a:solidFill>
                  <a:srgbClr val="000000"/>
                </a:solidFill>
                <a:latin typeface="隶书"/>
                <a:ea typeface="隶书"/>
              </a:rPr>
              <a:t>年受聘于美国福特汽车公司，担任该公司的公关部经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第一次世界大战结束后，伯纳斯和夫人在纽约开办了公共关系公司。</a:t>
            </a:r>
            <a:r>
              <a:rPr b="0" lang="en-US" sz="2800" spc="-1" strike="noStrike">
                <a:solidFill>
                  <a:srgbClr val="000000"/>
                </a:solidFill>
                <a:latin typeface="隶书"/>
                <a:ea typeface="隶书"/>
              </a:rPr>
              <a:t>1923</a:t>
            </a:r>
            <a:r>
              <a:rPr b="0" lang="zh-CN" sz="2800" spc="-1" strike="noStrike">
                <a:solidFill>
                  <a:srgbClr val="000000"/>
                </a:solidFill>
                <a:latin typeface="隶书"/>
                <a:ea typeface="隶书"/>
              </a:rPr>
              <a:t>年出版了他的名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舆论明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是历史上第一本公共关系的专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同年，他把公共关系带入大学教育，在纽约大学首次讲授公共关系课程。</a:t>
            </a:r>
            <a:r>
              <a:rPr b="0" lang="en-US" sz="2800" spc="-1" strike="noStrike">
                <a:solidFill>
                  <a:srgbClr val="000000"/>
                </a:solidFill>
                <a:latin typeface="隶书"/>
                <a:ea typeface="隶书"/>
              </a:rPr>
              <a:t>1925</a:t>
            </a:r>
            <a:r>
              <a:rPr b="0" lang="zh-CN" sz="2800" spc="-1" strike="noStrike">
                <a:solidFill>
                  <a:srgbClr val="000000"/>
                </a:solidFill>
                <a:latin typeface="隶书"/>
                <a:ea typeface="隶书"/>
              </a:rPr>
              <a:t>年他又撰写了</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教科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5" name="图片 98308" descr="">
            <a:hlinkClick r:id="rId1"/>
          </p:cNvPr>
          <p:cNvPicPr/>
          <p:nvPr/>
        </p:nvPicPr>
        <p:blipFill>
          <a:blip r:embed="rId2"/>
          <a:stretch/>
        </p:blipFill>
        <p:spPr>
          <a:xfrm>
            <a:off x="0" y="5695920"/>
            <a:ext cx="1038240" cy="1162080"/>
          </a:xfrm>
          <a:prstGeom prst="rect">
            <a:avLst/>
          </a:prstGeom>
          <a:ln w="0">
            <a:noFill/>
          </a:ln>
        </p:spPr>
      </p:pic>
      <p:pic>
        <p:nvPicPr>
          <p:cNvPr id="256" name="图片 98310" descr="">
            <a:hlinkClick r:id="rId3"/>
          </p:cNvPr>
          <p:cNvPicPr/>
          <p:nvPr/>
        </p:nvPicPr>
        <p:blipFill>
          <a:blip r:embed="rId4"/>
          <a:stretch/>
        </p:blipFill>
        <p:spPr>
          <a:xfrm>
            <a:off x="8105760" y="5695920"/>
            <a:ext cx="1038240" cy="1162080"/>
          </a:xfrm>
          <a:prstGeom prst="rect">
            <a:avLst/>
          </a:prstGeom>
          <a:ln w="0">
            <a:noFill/>
          </a:ln>
        </p:spPr>
      </p:pic>
      <p:pic>
        <p:nvPicPr>
          <p:cNvPr id="257" name="图片 98312" descr="">
            <a:hlinkClick r:id="rId5"/>
          </p:cNvPr>
          <p:cNvPicPr/>
          <p:nvPr/>
        </p:nvPicPr>
        <p:blipFill>
          <a:blip r:embed="rId6"/>
          <a:stretch/>
        </p:blipFill>
        <p:spPr>
          <a:xfrm>
            <a:off x="0" y="0"/>
            <a:ext cx="1038240" cy="1162080"/>
          </a:xfrm>
          <a:prstGeom prst="rect">
            <a:avLst/>
          </a:prstGeom>
          <a:ln w="0">
            <a:noFill/>
          </a:ln>
        </p:spPr>
      </p:pic>
      <p:pic>
        <p:nvPicPr>
          <p:cNvPr id="258" name="图片 98314" descr="">
            <a:hlinkClick r:id="rId7"/>
          </p:cNvPr>
          <p:cNvPicPr/>
          <p:nvPr/>
        </p:nvPicPr>
        <p:blipFill>
          <a:blip r:embed="rId8"/>
          <a:stretch/>
        </p:blipFill>
        <p:spPr>
          <a:xfrm>
            <a:off x="8105760" y="0"/>
            <a:ext cx="103824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968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关系的几种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1978</a:t>
            </a:r>
            <a:r>
              <a:rPr b="0" lang="zh-CN" sz="2800" spc="-1" strike="noStrike">
                <a:solidFill>
                  <a:srgbClr val="000000"/>
                </a:solidFill>
                <a:latin typeface="Arial"/>
              </a:rPr>
              <a:t>年秋天，在墨西哥举办的第一届公共关系大会上，公共关系实践被定义为“一种分析趋势并预测其结果，给组织管理者提供咨询，实施对组织和公众有利的且有计划的行为的艺术和社会科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公共关系协会则将公共关系定义为一种包括了最高层次的咨询并且牵涉到组织的战略策划的管理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而，把公共关系定义为“声誉管理”的做法也很流行。国际公共关系协会认为：公共关系将影响到名誉——言行的结果和他人的评价。公共关系实践是一种关注名誉的行为，目的是获取理解及支持并影响观点及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投公众所好”是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斯公共关系思想的一个重要部分。他认为：首先应该了解公众喜欢什么，对组织有什么期待和需求，在确定公众价值观和态度的基础上，再进行有组织的宣传工作，以迎合公众的需要。 </a:t>
            </a:r>
            <a:endParaRPr b="0" lang="en-US" sz="3200" spc="-1" strike="noStrike">
              <a:solidFill>
                <a:srgbClr val="000000"/>
              </a:solidFill>
              <a:latin typeface="Arial"/>
            </a:endParaRPr>
          </a:p>
        </p:txBody>
      </p:sp>
      <p:pic>
        <p:nvPicPr>
          <p:cNvPr id="261" name="图片 100356" descr="">
            <a:hlinkClick r:id="rId1"/>
          </p:cNvPr>
          <p:cNvPicPr/>
          <p:nvPr/>
        </p:nvPicPr>
        <p:blipFill>
          <a:blip r:embed="rId2"/>
          <a:stretch/>
        </p:blipFill>
        <p:spPr>
          <a:xfrm>
            <a:off x="3886200" y="4876920"/>
            <a:ext cx="144792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在中国的发展</a:t>
            </a:r>
            <a:br>
              <a:rPr sz="4000"/>
            </a:br>
            <a:endParaRPr b="0" lang="en-US" sz="40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公共关系在我国的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进入我国是从</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世纪</a:t>
            </a:r>
            <a:r>
              <a:rPr b="1" lang="en-US" sz="2400" spc="-1" strike="noStrike">
                <a:solidFill>
                  <a:srgbClr val="000000"/>
                </a:solidFill>
                <a:latin typeface="隶书"/>
                <a:ea typeface="隶书"/>
              </a:rPr>
              <a:t>60</a:t>
            </a:r>
            <a:r>
              <a:rPr b="1" lang="zh-CN" sz="2400" spc="-1" strike="noStrike">
                <a:solidFill>
                  <a:srgbClr val="000000"/>
                </a:solidFill>
                <a:latin typeface="隶书"/>
                <a:ea typeface="隶书"/>
              </a:rPr>
              <a:t>年代开始的。当时日本、美国、西欧国家的一些跨国公司，在我国台湾、香港建立子公司，在子公司中设置公关部，聘用受过专业训练的公关人员从事有关业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活动的另一重大发展就是我国第一家公共关系专业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在北京正式成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0000"/>
                </a:solidFill>
                <a:latin typeface="隶书"/>
                <a:ea typeface="隶书"/>
              </a:rPr>
              <a:t>1985</a:t>
            </a:r>
            <a:r>
              <a:rPr b="1" lang="zh-CN" sz="2400" spc="-1" strike="noStrike">
                <a:solidFill>
                  <a:srgbClr val="000000"/>
                </a:solidFill>
                <a:latin typeface="隶书"/>
                <a:ea typeface="隶书"/>
              </a:rPr>
              <a:t>年两家世界上最有影响的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伟达公司和博雅公司先后进入我国。博雅公司与中国新闻发展公司达成协议，成立了中国第一家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图片 101380" descr="">
            <a:hlinkClick r:id="rId1"/>
          </p:cNvPr>
          <p:cNvPicPr/>
          <p:nvPr/>
        </p:nvPicPr>
        <p:blipFill>
          <a:blip r:embed="rId2"/>
          <a:stretch/>
        </p:blipFill>
        <p:spPr>
          <a:xfrm>
            <a:off x="6477120" y="990720"/>
            <a:ext cx="1981080" cy="838080"/>
          </a:xfrm>
          <a:prstGeom prst="rect">
            <a:avLst/>
          </a:prstGeom>
          <a:ln w="0">
            <a:noFill/>
          </a:ln>
        </p:spPr>
      </p:pic>
      <p:pic>
        <p:nvPicPr>
          <p:cNvPr id="265" name="图片 101382" descr="">
            <a:hlinkClick r:id="rId3"/>
          </p:cNvPr>
          <p:cNvPicPr/>
          <p:nvPr/>
        </p:nvPicPr>
        <p:blipFill>
          <a:blip r:embed="rId4"/>
          <a:stretch/>
        </p:blipFill>
        <p:spPr>
          <a:xfrm>
            <a:off x="2971800" y="525780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与博雅公司合作的</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间，中国环球公关公司都是以博雅公司在中国的代理身份开展公关业务的。</a:t>
            </a:r>
            <a:r>
              <a:rPr b="0" lang="en-US" sz="2800" spc="-1" strike="noStrike">
                <a:solidFill>
                  <a:srgbClr val="000000"/>
                </a:solidFill>
                <a:latin typeface="隶书"/>
                <a:ea typeface="隶书"/>
              </a:rPr>
              <a:t>1992</a:t>
            </a:r>
            <a:r>
              <a:rPr b="0" lang="zh-CN" sz="2800" spc="-1" strike="noStrike">
                <a:solidFill>
                  <a:srgbClr val="000000"/>
                </a:solidFill>
                <a:latin typeface="隶书"/>
                <a:ea typeface="隶书"/>
              </a:rPr>
              <a:t>年底，“环球”毅然结束和“博雅”维系</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之久的合作关系，完全凭借自己的智慧和努力，闯出了一条中国职业公关公司的专业化新路。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en-US" sz="2800" spc="-1" strike="noStrike">
                <a:solidFill>
                  <a:srgbClr val="000000"/>
                </a:solidFill>
                <a:latin typeface="隶书"/>
                <a:ea typeface="隶书"/>
              </a:rPr>
              <a:t>1991</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月在北京成立了中国国际公共关系协会在行业发展和协调指导方面发挥了领军作用。</a:t>
            </a:r>
            <a:r>
              <a:rPr b="0" lang="en-US" sz="2800" spc="-1" strike="noStrike">
                <a:solidFill>
                  <a:srgbClr val="000000"/>
                </a:solidFill>
                <a:latin typeface="隶书"/>
                <a:ea typeface="隶书"/>
              </a:rPr>
              <a:t>2000</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劳动社会保障部第</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号令将公关员正式列入持证上岗的</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种职业之一。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8" name="图片 103428" descr="">
            <a:hlinkClick r:id="rId1"/>
          </p:cNvPr>
          <p:cNvPicPr/>
          <p:nvPr/>
        </p:nvPicPr>
        <p:blipFill>
          <a:blip r:embed="rId2"/>
          <a:stretch/>
        </p:blipFill>
        <p:spPr>
          <a:xfrm>
            <a:off x="0" y="5791320"/>
            <a:ext cx="3124080" cy="761760"/>
          </a:xfrm>
          <a:prstGeom prst="rect">
            <a:avLst/>
          </a:prstGeom>
          <a:ln w="0">
            <a:noFill/>
          </a:ln>
        </p:spPr>
      </p:pic>
      <p:pic>
        <p:nvPicPr>
          <p:cNvPr id="269" name="图片 103430" descr="">
            <a:hlinkClick r:id="rId3"/>
          </p:cNvPr>
          <p:cNvPicPr/>
          <p:nvPr/>
        </p:nvPicPr>
        <p:blipFill>
          <a:blip r:embed="rId4"/>
          <a:stretch/>
        </p:blipFill>
        <p:spPr>
          <a:xfrm>
            <a:off x="7162920" y="304920"/>
            <a:ext cx="1828800" cy="1143000"/>
          </a:xfrm>
          <a:prstGeom prst="rect">
            <a:avLst/>
          </a:prstGeom>
          <a:ln w="0">
            <a:noFill/>
          </a:ln>
        </p:spPr>
      </p:pic>
      <p:pic>
        <p:nvPicPr>
          <p:cNvPr id="270" name="图片 103432" descr="">
            <a:hlinkClick r:id="rId5"/>
          </p:cNvPr>
          <p:cNvPicPr/>
          <p:nvPr/>
        </p:nvPicPr>
        <p:blipFill>
          <a:blip r:embed="rId6"/>
          <a:stretch/>
        </p:blipFill>
        <p:spPr>
          <a:xfrm>
            <a:off x="7238880" y="5486400"/>
            <a:ext cx="16765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我国公共关系的特点</a:t>
            </a:r>
            <a:endParaRPr b="0" lang="en-US"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主体多元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理论先行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活动民族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人员年轻化。</a:t>
            </a:r>
            <a:endParaRPr b="0" lang="en-US" sz="3200" spc="-1" strike="noStrike">
              <a:solidFill>
                <a:srgbClr val="000000"/>
              </a:solidFill>
              <a:latin typeface="Arial"/>
            </a:endParaRPr>
          </a:p>
        </p:txBody>
      </p:sp>
      <p:pic>
        <p:nvPicPr>
          <p:cNvPr id="273" name="图片 105476" descr="">
            <a:hlinkClick r:id="rId1"/>
          </p:cNvPr>
          <p:cNvPicPr/>
          <p:nvPr/>
        </p:nvPicPr>
        <p:blipFill>
          <a:blip r:embed="rId2"/>
          <a:stretch/>
        </p:blipFill>
        <p:spPr>
          <a:xfrm>
            <a:off x="5486400" y="23623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图片 109574" descr="">
            <a:hlinkClick r:id="rId1"/>
          </p:cNvPr>
          <p:cNvPicPr/>
          <p:nvPr/>
        </p:nvPicPr>
        <p:blipFill>
          <a:blip r:embed="rId2"/>
          <a:stretch/>
        </p:blipFill>
        <p:spPr>
          <a:xfrm>
            <a:off x="0" y="5686560"/>
            <a:ext cx="1104840" cy="1171440"/>
          </a:xfrm>
          <a:prstGeom prst="rect">
            <a:avLst/>
          </a:prstGeom>
          <a:ln w="0">
            <a:noFill/>
          </a:ln>
        </p:spPr>
      </p:pic>
      <p:sp>
        <p:nvSpPr>
          <p:cNvPr id="275" name="PlaceHolder 1"/>
          <p:cNvSpPr>
            <a:spLocks noGrp="1"/>
          </p:cNvSpPr>
          <p:nvPr>
            <p:ph type="title"/>
          </p:nvPr>
        </p:nvSpPr>
        <p:spPr>
          <a:xfrm>
            <a:off x="-641520" y="13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发展机遇</a:t>
            </a:r>
            <a:endParaRPr b="0" lang="en-US" sz="4400" spc="-1" strike="noStrike">
              <a:solidFill>
                <a:srgbClr val="000000"/>
              </a:solidFill>
              <a:latin typeface="Arial"/>
            </a:endParaRPr>
          </a:p>
        </p:txBody>
      </p:sp>
      <p:sp>
        <p:nvSpPr>
          <p:cNvPr id="276" name=""/>
          <p:cNvSpPr txBox="1"/>
          <p:nvPr/>
        </p:nvSpPr>
        <p:spPr>
          <a:xfrm>
            <a:off x="247680" y="1037880"/>
            <a:ext cx="8439120" cy="5087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公共关系服务的社会化</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北京申办</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001</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7</a:t>
            </a:r>
            <a:r>
              <a:rPr b="1" lang="zh-CN" sz="2400" spc="-1" strike="noStrike">
                <a:solidFill>
                  <a:srgbClr val="000000"/>
                </a:solidFill>
                <a:latin typeface="隶书"/>
                <a:ea typeface="隶书"/>
              </a:rPr>
              <a:t>月</a:t>
            </a:r>
            <a:r>
              <a:rPr b="1" lang="en-US" sz="2400" spc="-1" strike="noStrike">
                <a:solidFill>
                  <a:srgbClr val="000000"/>
                </a:solidFill>
                <a:latin typeface="隶书"/>
                <a:ea typeface="隶书"/>
              </a:rPr>
              <a:t>13</a:t>
            </a:r>
            <a:r>
              <a:rPr b="1" lang="zh-CN" sz="2400" spc="-1" strike="noStrike">
                <a:solidFill>
                  <a:srgbClr val="000000"/>
                </a:solidFill>
                <a:latin typeface="隶书"/>
                <a:ea typeface="隶书"/>
              </a:rPr>
              <a:t>日，国际奥委会在莫斯科举行全会，北京从五个申办城市中脱颖而出，赢得了</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的主办权。</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奥委会投票表决前</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个小时，北京奥申委向国际奥委会做了最后也是最关键的陈述。从公共关系的角度看，在李岚清副总理率领下的北京奥申委的陈述也是一次绝佳的公共关系提案会。竞争对手是另外四个申办城市，主题就是“新北京、新奥运”。</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令人耳目一新的是，</a:t>
            </a:r>
            <a:r>
              <a:rPr b="1" lang="en-US" sz="2400" spc="-1" strike="noStrike">
                <a:solidFill>
                  <a:srgbClr val="000000"/>
                </a:solidFill>
                <a:latin typeface="隶书"/>
                <a:ea typeface="隶书"/>
              </a:rPr>
              <a:t>9</a:t>
            </a:r>
            <a:r>
              <a:rPr b="1" lang="zh-CN" sz="2400" spc="-1" strike="noStrike">
                <a:solidFill>
                  <a:srgbClr val="000000"/>
                </a:solidFill>
                <a:latin typeface="隶书"/>
                <a:ea typeface="隶书"/>
              </a:rPr>
              <a:t>位上台陈述的代表中，竟有包括副总理李岚清、北京市市长刘淇和运动员邓亚萍等</a:t>
            </a:r>
            <a:r>
              <a:rPr b="1" lang="en-US" sz="2400" spc="-1" strike="noStrike">
                <a:solidFill>
                  <a:srgbClr val="000000"/>
                </a:solidFill>
                <a:latin typeface="隶书"/>
                <a:ea typeface="隶书"/>
              </a:rPr>
              <a:t>8</a:t>
            </a:r>
            <a:r>
              <a:rPr b="1" lang="zh-CN" sz="2400" spc="-1" strike="noStrike">
                <a:solidFill>
                  <a:srgbClr val="000000"/>
                </a:solidFill>
                <a:latin typeface="隶书"/>
                <a:ea typeface="隶书"/>
              </a:rPr>
              <a:t>人，都能用流利英语发言。此举显然是对外界长期质疑北京举办奥运会，可能存在语言障碍问题所进行的针对性部署，也希望凭此拉近北京与国际奥委会委员之间的距离。北京陈述的另一大卖点是，李岚清承诺“如果此次奥运会发生盈余，我们将用它来建立一个奥林匹克友谊基金，来帮助发展中国家的体育事业；如果发生赤字，将由中国政府承担”，此举即引起国际奥委会委员的兴趣。</a:t>
            </a:r>
            <a:endParaRPr b="0" lang="en-US" sz="2400" spc="-1" strike="noStrike">
              <a:solidFill>
                <a:srgbClr val="000000"/>
              </a:solidFill>
              <a:latin typeface="Arial"/>
            </a:endParaRPr>
          </a:p>
        </p:txBody>
      </p:sp>
      <p:pic>
        <p:nvPicPr>
          <p:cNvPr id="277" name="图片 109572" descr="">
            <a:hlinkClick r:id="rId3"/>
          </p:cNvPr>
          <p:cNvPicPr/>
          <p:nvPr/>
        </p:nvPicPr>
        <p:blipFill>
          <a:blip r:embed="rId4"/>
          <a:stretch/>
        </p:blipFill>
        <p:spPr>
          <a:xfrm>
            <a:off x="6375240" y="136440"/>
            <a:ext cx="2819520" cy="1143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北京申奥成功后，北京市市长亲自到中国国际公关协会感谢公关界对申奥工作的支持。中国国际公关协会常务副会长兼秘书长郑砚农介绍：“在北京申办</a:t>
            </a:r>
            <a:r>
              <a:rPr b="0" lang="en-US" sz="2400" spc="-1" strike="noStrike">
                <a:solidFill>
                  <a:srgbClr val="000000"/>
                </a:solidFill>
                <a:latin typeface="隶书"/>
                <a:ea typeface="隶书"/>
              </a:rPr>
              <a:t>2008</a:t>
            </a:r>
            <a:r>
              <a:rPr b="0" lang="zh-CN" sz="2400" spc="-1" strike="noStrike">
                <a:solidFill>
                  <a:srgbClr val="000000"/>
                </a:solidFill>
                <a:latin typeface="隶书"/>
                <a:ea typeface="隶书"/>
              </a:rPr>
              <a:t>年奥运会中，协会精心策划，组织了许多配合申奥的公关活动，特别是当国际奥委会评估报告发表后，协会发挥行业指导机构的优势，召集爱德曼、安可、伟达、宣伟等著名公关公司负责人献计献策，就申奥冲刺阶段的对外宣传口径和节奏、陈述报告润色、陈述人培训以及媒体宣传报道等方面问题进行了充分探讨。由于有了在国际上具有广泛的工作渠道和丰富的策划经验的专业公关公司介入，使申奥过程更加科学化、国际化，中国在世界的形象更具亲和力，更能为世人所接受。”</a:t>
            </a:r>
            <a:endParaRPr b="0" lang="en-US" sz="2400" spc="-1" strike="noStrike">
              <a:solidFill>
                <a:srgbClr val="000000"/>
              </a:solidFill>
              <a:latin typeface="Arial"/>
            </a:endParaRPr>
          </a:p>
        </p:txBody>
      </p:sp>
      <p:pic>
        <p:nvPicPr>
          <p:cNvPr id="280" name="图片 111619" descr="">
            <a:hlinkClick r:id="rId1"/>
          </p:cNvPr>
          <p:cNvPicPr/>
          <p:nvPr/>
        </p:nvPicPr>
        <p:blipFill>
          <a:blip r:embed="rId2"/>
          <a:stretch/>
        </p:blipFill>
        <p:spPr>
          <a:xfrm>
            <a:off x="7543800" y="5473800"/>
            <a:ext cx="1600200" cy="1212840"/>
          </a:xfrm>
          <a:prstGeom prst="rect">
            <a:avLst/>
          </a:prstGeom>
          <a:ln w="0">
            <a:noFill/>
          </a:ln>
        </p:spPr>
      </p:pic>
      <p:pic>
        <p:nvPicPr>
          <p:cNvPr id="281" name="图片 111621" descr="">
            <a:hlinkClick r:id="rId3"/>
          </p:cNvPr>
          <p:cNvPicPr/>
          <p:nvPr/>
        </p:nvPicPr>
        <p:blipFill>
          <a:blip r:embed="rId4"/>
          <a:stretch/>
        </p:blipFill>
        <p:spPr>
          <a:xfrm>
            <a:off x="0" y="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公共关系手段现代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zh-CN" sz="2800" spc="-1" strike="noStrike">
                <a:solidFill>
                  <a:srgbClr val="000000"/>
                </a:solidFill>
                <a:latin typeface="隶书"/>
                <a:ea typeface="隶书"/>
              </a:rPr>
              <a:t>沃尔玛是全球最大的商业零售企业，早在世界刚刚进入计算机时代的</a:t>
            </a:r>
            <a:r>
              <a:rPr b="1" lang="en-US" sz="2800" spc="-1" strike="noStrike">
                <a:solidFill>
                  <a:srgbClr val="000000"/>
                </a:solidFill>
                <a:latin typeface="隶书"/>
                <a:ea typeface="隶书"/>
              </a:rPr>
              <a:t>1969</a:t>
            </a:r>
            <a:r>
              <a:rPr b="1" lang="zh-CN" sz="2800" spc="-1" strike="noStrike">
                <a:solidFill>
                  <a:srgbClr val="000000"/>
                </a:solidFill>
                <a:latin typeface="隶书"/>
                <a:ea typeface="隶书"/>
              </a:rPr>
              <a:t>年就租用</a:t>
            </a:r>
            <a:r>
              <a:rPr b="1" lang="en-US" sz="2800" spc="-1" strike="noStrike">
                <a:solidFill>
                  <a:srgbClr val="000000"/>
                </a:solidFill>
                <a:latin typeface="隶书"/>
                <a:ea typeface="隶书"/>
              </a:rPr>
              <a:t>IBM360</a:t>
            </a:r>
            <a:r>
              <a:rPr b="1" lang="zh-CN" sz="2800" spc="-1" strike="noStrike">
                <a:solidFill>
                  <a:srgbClr val="000000"/>
                </a:solidFill>
                <a:latin typeface="隶书"/>
                <a:ea typeface="隶书"/>
              </a:rPr>
              <a:t>型计算机进行货物配送管理。</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en-US" sz="2800" spc="-1" strike="noStrike">
                <a:solidFill>
                  <a:srgbClr val="000000"/>
                </a:solidFill>
                <a:latin typeface="隶书"/>
                <a:ea typeface="隶书"/>
              </a:rPr>
              <a:t>80</a:t>
            </a:r>
            <a:r>
              <a:rPr b="1" lang="zh-CN" sz="2800" spc="-1" strike="noStrike">
                <a:solidFill>
                  <a:srgbClr val="000000"/>
                </a:solidFill>
                <a:latin typeface="隶书"/>
                <a:ea typeface="隶书"/>
              </a:rPr>
              <a:t>年代初，沃尔玛投资</a:t>
            </a:r>
            <a:r>
              <a:rPr b="1" lang="en-US" sz="2800" spc="-1" strike="noStrike">
                <a:solidFill>
                  <a:srgbClr val="000000"/>
                </a:solidFill>
                <a:latin typeface="隶书"/>
                <a:ea typeface="隶书"/>
              </a:rPr>
              <a:t>2400</a:t>
            </a:r>
            <a:r>
              <a:rPr b="1" lang="zh-CN" sz="2800" spc="-1" strike="noStrike">
                <a:solidFill>
                  <a:srgbClr val="000000"/>
                </a:solidFill>
                <a:latin typeface="隶书"/>
                <a:ea typeface="隶书"/>
              </a:rPr>
              <a:t>万美元发射了企业自己的人造卫星，用于企业信息系统的管理。它建立了庞大的信息中心，建筑面积达</a:t>
            </a:r>
            <a:r>
              <a:rPr b="1" lang="en-US" sz="2800" spc="-1" strike="noStrike">
                <a:solidFill>
                  <a:srgbClr val="000000"/>
                </a:solidFill>
                <a:latin typeface="隶书"/>
                <a:ea typeface="隶书"/>
              </a:rPr>
              <a:t>1.2</a:t>
            </a:r>
            <a:r>
              <a:rPr b="1" lang="zh-CN" sz="2800" spc="-1" strike="noStrike">
                <a:solidFill>
                  <a:srgbClr val="000000"/>
                </a:solidFill>
                <a:latin typeface="隶书"/>
                <a:ea typeface="隶书"/>
              </a:rPr>
              <a:t>万平方米，电脑服务器多达</a:t>
            </a:r>
            <a:r>
              <a:rPr b="1" lang="en-US" sz="2800" spc="-1" strike="noStrike">
                <a:solidFill>
                  <a:srgbClr val="000000"/>
                </a:solidFill>
                <a:latin typeface="隶书"/>
                <a:ea typeface="隶书"/>
              </a:rPr>
              <a:t>200</a:t>
            </a:r>
            <a:r>
              <a:rPr b="1" lang="zh-CN" sz="2800" spc="-1" strike="noStrike">
                <a:solidFill>
                  <a:srgbClr val="000000"/>
                </a:solidFill>
                <a:latin typeface="隶书"/>
                <a:ea typeface="隶书"/>
              </a:rPr>
              <a:t>余台。其电子信息通信系统称为全美最大的民用系统，规模超过电信业巨头美国电报电话公司。</a:t>
            </a:r>
            <a:endParaRPr b="0" lang="en-US" sz="2800" spc="-1" strike="noStrike">
              <a:solidFill>
                <a:srgbClr val="000000"/>
              </a:solidFill>
              <a:latin typeface="Arial"/>
            </a:endParaRPr>
          </a:p>
        </p:txBody>
      </p:sp>
      <p:pic>
        <p:nvPicPr>
          <p:cNvPr id="284" name="图片 112644" descr="">
            <a:hlinkClick r:id="rId1"/>
          </p:cNvPr>
          <p:cNvPicPr/>
          <p:nvPr/>
        </p:nvPicPr>
        <p:blipFill>
          <a:blip r:embed="rId2"/>
          <a:stretch/>
        </p:blipFill>
        <p:spPr>
          <a:xfrm>
            <a:off x="7772400" y="152280"/>
            <a:ext cx="1371600" cy="1905120"/>
          </a:xfrm>
          <a:prstGeom prst="rect">
            <a:avLst/>
          </a:prstGeom>
          <a:ln w="0">
            <a:noFill/>
          </a:ln>
        </p:spPr>
      </p:pic>
      <p:pic>
        <p:nvPicPr>
          <p:cNvPr id="285" name="图片 112646" descr="">
            <a:hlinkClick r:id="rId3"/>
          </p:cNvPr>
          <p:cNvPicPr/>
          <p:nvPr/>
        </p:nvPicPr>
        <p:blipFill>
          <a:blip r:embed="rId4"/>
          <a:stretch/>
        </p:blipFill>
        <p:spPr>
          <a:xfrm>
            <a:off x="228600" y="5335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海尔集团是我国进军国外市场并取得成功的知名企业。它在实施国际化战略目标，打造全球知名品牌过程中，运用先进的信息网络，了解消费者需求，随时以用户的难题作为科研开发课题，力求超前满足消费者需求。海尔与世界级的大公司摩托罗拉、飞利浦、东芝等结盟，保持在所处领域的世界先进水平。海尔集团还十分注重网络公关传播的运用。注意竞争性情报的研究，面对可能出现的危机，做出快速反应。在</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月美国对中国的家电反倾销中，注意网络信息的分析和收集，在第一时间给管理层提供家电行业反倾销项目报告。高速度高质量的报告对于应对迎面而来的反倾销起了十分重要的作用，维护了国际知名品牌的地位。</a:t>
            </a:r>
            <a:endParaRPr b="0" lang="en-US" sz="2400" spc="-1" strike="noStrike">
              <a:solidFill>
                <a:srgbClr val="000000"/>
              </a:solidFill>
              <a:latin typeface="Arial"/>
            </a:endParaRPr>
          </a:p>
        </p:txBody>
      </p:sp>
      <p:pic>
        <p:nvPicPr>
          <p:cNvPr id="288" name="图片 113667"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网络化</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共关系手段现代化的新标志。人类社会已进入知识经济时代。知识经济是建立在知识和信息的生产、存储、使用、消费之上的经济，是以知识和信息的传播、增值、应用等作为商品。 </a:t>
            </a:r>
            <a:endParaRPr b="0" lang="en-US" sz="3200" spc="-1" strike="noStrike">
              <a:solidFill>
                <a:srgbClr val="000000"/>
              </a:solidFill>
              <a:latin typeface="Arial"/>
            </a:endParaRPr>
          </a:p>
        </p:txBody>
      </p:sp>
      <p:pic>
        <p:nvPicPr>
          <p:cNvPr id="291" name="图片 114692" descr="">
            <a:hlinkClick r:id="rId1"/>
          </p:cNvPr>
          <p:cNvPicPr/>
          <p:nvPr/>
        </p:nvPicPr>
        <p:blipFill>
          <a:blip r:embed="rId2"/>
          <a:stretch/>
        </p:blipFill>
        <p:spPr>
          <a:xfrm>
            <a:off x="0" y="5943600"/>
            <a:ext cx="1143000" cy="914400"/>
          </a:xfrm>
          <a:prstGeom prst="rect">
            <a:avLst/>
          </a:prstGeom>
          <a:ln w="0">
            <a:noFill/>
          </a:ln>
        </p:spPr>
      </p:pic>
      <p:pic>
        <p:nvPicPr>
          <p:cNvPr id="292" name="图片 114694" descr="">
            <a:hlinkClick r:id="rId3"/>
          </p:cNvPr>
          <p:cNvPicPr/>
          <p:nvPr/>
        </p:nvPicPr>
        <p:blipFill>
          <a:blip r:embed="rId4"/>
          <a:stretch/>
        </p:blipFill>
        <p:spPr>
          <a:xfrm>
            <a:off x="8001000" y="5943600"/>
            <a:ext cx="1143000" cy="914400"/>
          </a:xfrm>
          <a:prstGeom prst="rect">
            <a:avLst/>
          </a:prstGeom>
          <a:ln w="0">
            <a:noFill/>
          </a:ln>
        </p:spPr>
      </p:pic>
      <p:pic>
        <p:nvPicPr>
          <p:cNvPr id="293" name="图片 114696" descr="">
            <a:hlinkClick r:id="rId5"/>
          </p:cNvPr>
          <p:cNvPicPr/>
          <p:nvPr/>
        </p:nvPicPr>
        <p:blipFill>
          <a:blip r:embed="rId6"/>
          <a:stretch/>
        </p:blipFill>
        <p:spPr>
          <a:xfrm>
            <a:off x="8001000" y="0"/>
            <a:ext cx="1143000" cy="914400"/>
          </a:xfrm>
          <a:prstGeom prst="rect">
            <a:avLst/>
          </a:prstGeom>
          <a:ln w="0">
            <a:noFill/>
          </a:ln>
        </p:spPr>
      </p:pic>
      <p:pic>
        <p:nvPicPr>
          <p:cNvPr id="294" name="图片 114698" descr="">
            <a:hlinkClick r:id="rId7"/>
          </p:cNvPr>
          <p:cNvPicPr/>
          <p:nvPr/>
        </p:nvPicPr>
        <p:blipFill>
          <a:blip r:embed="rId8"/>
          <a:stretch/>
        </p:blipFill>
        <p:spPr>
          <a:xfrm>
            <a:off x="0" y="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96"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京东的新旧媒体公共关系传播</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中国自营式电商企业，创始人刘强东担任京东集团</a:t>
            </a:r>
            <a:r>
              <a:rPr b="1" lang="zh-CN" sz="2000" spc="-1" strike="noStrike">
                <a:solidFill>
                  <a:srgbClr val="000000"/>
                </a:solidFill>
                <a:latin typeface="隶书"/>
                <a:ea typeface="隶书"/>
              </a:rPr>
              <a:t>CEO,</a:t>
            </a:r>
            <a:r>
              <a:rPr b="1" lang="zh-CN" sz="2000" spc="-1" strike="noStrike">
                <a:solidFill>
                  <a:srgbClr val="000000"/>
                </a:solidFill>
                <a:latin typeface="隶书"/>
                <a:ea typeface="隶书"/>
              </a:rPr>
              <a:t>旗下设有京东商城、京东金融、拍拍网、京东智能、</a:t>
            </a:r>
            <a:r>
              <a:rPr b="1" lang="zh-CN" sz="2000" spc="-1" strike="noStrike">
                <a:solidFill>
                  <a:srgbClr val="000000"/>
                </a:solidFill>
                <a:latin typeface="隶书"/>
                <a:ea typeface="隶书"/>
              </a:rPr>
              <a:t>O20</a:t>
            </a:r>
            <a:r>
              <a:rPr b="1" lang="zh-CN" sz="2000" spc="-1" strike="noStrike">
                <a:solidFill>
                  <a:srgbClr val="000000"/>
                </a:solidFill>
                <a:latin typeface="隶书"/>
                <a:ea typeface="隶书"/>
              </a:rPr>
              <a:t>及海外事业部等，</a:t>
            </a:r>
            <a:r>
              <a:rPr b="1" lang="zh-CN" sz="2000" spc="-1" strike="noStrike">
                <a:solidFill>
                  <a:srgbClr val="000000"/>
                </a:solidFill>
                <a:latin typeface="隶书"/>
                <a:ea typeface="隶书"/>
              </a:rPr>
              <a:t>2013</a:t>
            </a:r>
            <a:r>
              <a:rPr b="1" lang="zh-CN" sz="2000" spc="-1" strike="noStrike">
                <a:solidFill>
                  <a:srgbClr val="000000"/>
                </a:solidFill>
                <a:latin typeface="隶书"/>
                <a:ea typeface="隶书"/>
              </a:rPr>
              <a:t>年正式获得虚拟运营商牌照。</a:t>
            </a:r>
            <a:r>
              <a:rPr b="1" lang="zh-CN" sz="2000" spc="-1" strike="noStrike">
                <a:solidFill>
                  <a:srgbClr val="000000"/>
                </a:solidFill>
                <a:latin typeface="隶书"/>
                <a:ea typeface="隶书"/>
              </a:rPr>
              <a:t>2014</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5</a:t>
            </a:r>
            <a:r>
              <a:rPr b="1" lang="zh-CN" sz="2000" spc="-1" strike="noStrike">
                <a:solidFill>
                  <a:srgbClr val="000000"/>
                </a:solidFill>
                <a:latin typeface="隶书"/>
                <a:ea typeface="隶书"/>
              </a:rPr>
              <a:t>月在美国纳斯达克证券交易所正式挂牌上市，</a:t>
            </a:r>
            <a:r>
              <a:rPr b="1" lang="zh-CN"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6</a:t>
            </a:r>
            <a:r>
              <a:rPr b="1" lang="zh-CN" sz="2000" spc="-1" strike="noStrike">
                <a:solidFill>
                  <a:srgbClr val="000000"/>
                </a:solidFill>
                <a:latin typeface="隶书"/>
                <a:ea typeface="隶书"/>
              </a:rPr>
              <a:t>月与沃尔玛达成深度战略合作，</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号店并入京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之所以能成为中国最大的电商企业，跟它的公关传播是分不开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新媒体的出现，并不代表着旧媒体的消失。新旧媒体各有所长、彼此融合，在不断磨合过程中给公关带来新的传播方式。对于年轻一代来说，很少有人愿意去通过报纸、广播、电视获取信息，所以，新媒体的草根性、即时性、主动性更受年轻人青睐。手机、平板电脑、移动设备的发展，使得用户能够随时随地获取信息、分享信息，而在快节奏的生活下，大多数用户是通过碎片化的时间来获取信息。这就需要传统媒体结合新媒体弥补不足。</a:t>
            </a:r>
            <a:endParaRPr b="0" lang="en-US" sz="2000" spc="-1" strike="noStrike">
              <a:solidFill>
                <a:srgbClr val="000000"/>
              </a:solidFill>
              <a:latin typeface="Arial"/>
            </a:endParaRPr>
          </a:p>
        </p:txBody>
      </p:sp>
      <p:pic>
        <p:nvPicPr>
          <p:cNvPr id="297" name="图片 115717" descr="j0292020"/>
          <p:cNvPicPr/>
          <p:nvPr/>
        </p:nvPicPr>
        <p:blipFill>
          <a:blip r:embed="rId1"/>
          <a:stretch/>
        </p:blipFill>
        <p:spPr>
          <a:xfrm>
            <a:off x="101520" y="-4140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涵义</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是一种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任何组织都处在一定的公共关系状态之中，这是一种客观存在的形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状态是指一个组织所处的社会关系和社会舆论状态，也就是这个组织在公众心目中的现实形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从公共关系的本质上看，社会组织的公共关系状态可以分为良好的公共关系状态和不良的公共关系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图片 47108" descr="u=574460068,2108157744&amp;fm=3&amp;gp=0">
            <a:hlinkClick r:id="rId1"/>
          </p:cNvPr>
          <p:cNvPicPr/>
          <p:nvPr/>
        </p:nvPicPr>
        <p:blipFill>
          <a:blip r:embed="rId2"/>
          <a:stretch/>
        </p:blipFill>
        <p:spPr>
          <a:xfrm>
            <a:off x="7238880" y="228600"/>
            <a:ext cx="1905120" cy="1828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8938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京东除了利用新媒体有效传播之外，还积极利用旧媒体整合传播。例如京东赞助《我是歌手》电视娱乐节目，并在线上京东手机</a:t>
            </a:r>
            <a:r>
              <a:rPr b="1" lang="zh-CN" sz="2000" spc="-1" strike="noStrike">
                <a:solidFill>
                  <a:srgbClr val="000000"/>
                </a:solidFill>
                <a:latin typeface="Arial"/>
              </a:rPr>
              <a:t>APP</a:t>
            </a:r>
            <a:r>
              <a:rPr b="1" lang="zh-CN" sz="2000" spc="-1" strike="noStrike">
                <a:solidFill>
                  <a:srgbClr val="000000"/>
                </a:solidFill>
                <a:latin typeface="Arial"/>
              </a:rPr>
              <a:t>里通过抽奖游戏“喜摇摇”与观众互动，中奖的公众能够赢取百万京券和电视节目现场门票；在热播的《爱情公寓》电视剧里进行京东的广告植入；还有许多类似《爸爸去哪儿》《男人帮》等反响强烈的电视节目中也都能看到京东的名字。京东挑选娱乐性强、轻松好玩的娱乐节目，借助电视媒体拉动综合媒体进行公关传播，借助电视节目的高收视率与影响力，把企业核心信息和电视传播内容很好地衔接在一起，使京东品牌形象更直接、更深刻地印在用户心里。因此，对于企业来说，有效利用新媒体传播的同时，也不能忽略旧媒体的传播作用。新旧媒体相结合，才能获得更大、更广的传播效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与就业</a:t>
            </a:r>
            <a:br>
              <a:rPr sz="4000"/>
            </a:br>
            <a:endParaRPr b="0" lang="en-US" sz="40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职业前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职业是</a:t>
            </a:r>
            <a:r>
              <a:rPr b="1" lang="en-US" sz="3200" spc="-1" strike="noStrike">
                <a:solidFill>
                  <a:srgbClr val="000000"/>
                </a:solidFill>
                <a:latin typeface="隶书"/>
                <a:ea typeface="隶书"/>
              </a:rPr>
              <a:t>21</a:t>
            </a:r>
            <a:r>
              <a:rPr b="1" lang="zh-CN" sz="3200" spc="-1" strike="noStrike">
                <a:solidFill>
                  <a:srgbClr val="000000"/>
                </a:solidFill>
                <a:latin typeface="隶书"/>
                <a:ea typeface="隶书"/>
              </a:rPr>
              <a:t>世纪最富前景的朝阳行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专业人才需求旺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进入国家职业管理系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公共关系教育培训任重道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公共关系职业专业化是公共关系业健康发展的必然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图片 120836" descr="">
            <a:hlinkClick r:id="rId1"/>
          </p:cNvPr>
          <p:cNvPicPr/>
          <p:nvPr/>
        </p:nvPicPr>
        <p:blipFill>
          <a:blip r:embed="rId2"/>
          <a:stretch/>
        </p:blipFill>
        <p:spPr>
          <a:xfrm>
            <a:off x="7391520" y="55627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企业公共关系最需要的人才</a:t>
            </a:r>
            <a:endParaRPr b="0" lang="en-US" sz="4400" spc="-1" strike="noStrike">
              <a:solidFill>
                <a:srgbClr val="000000"/>
              </a:solidFill>
              <a:latin typeface="Arial"/>
            </a:endParaRPr>
          </a:p>
        </p:txBody>
      </p:sp>
      <p:sp>
        <p:nvSpPr>
          <p:cNvPr id="3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危机公共关系人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首先，反应敏捷。</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次，具有良好的判断能力和处理问题的能力。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再次，善于与各类媒体打交道。 </a:t>
            </a:r>
            <a:endParaRPr b="0" lang="en-US" sz="3200" spc="-1" strike="noStrike">
              <a:solidFill>
                <a:srgbClr val="000000"/>
              </a:solidFill>
              <a:latin typeface="Arial"/>
            </a:endParaRPr>
          </a:p>
        </p:txBody>
      </p:sp>
      <p:pic>
        <p:nvPicPr>
          <p:cNvPr id="304" name="图片 125956" descr="">
            <a:hlinkClick r:id="rId1"/>
          </p:cNvPr>
          <p:cNvPicPr/>
          <p:nvPr/>
        </p:nvPicPr>
        <p:blipFill>
          <a:blip r:embed="rId2"/>
          <a:stretch/>
        </p:blipFill>
        <p:spPr>
          <a:xfrm>
            <a:off x="7315200" y="49528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新闻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企业新闻发言人是企业及企业负责人的形象包装师，是企业与新闻媒体及社会公众的中介人，是企业公关部门的核心人物，也是企业的高级管理人才，他们受企业委托，向公众表达企业对某些事情的意见与主张，发言人可以及时向公众和媒体发布企业发展的各种信息，吸引媒体关注，保持企业声誉。</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07" name="图片 126980" descr="">
            <a:hlinkClick r:id="rId1"/>
          </p:cNvPr>
          <p:cNvPicPr/>
          <p:nvPr/>
        </p:nvPicPr>
        <p:blipFill>
          <a:blip r:embed="rId2"/>
          <a:stretch/>
        </p:blipFill>
        <p:spPr>
          <a:xfrm>
            <a:off x="6705720" y="22860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9" name=""/>
          <p:cNvSpPr txBox="1"/>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作为企业的新闻发言人还要了解新闻发言人制度的规范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首先，建立健全的日常工作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其次，</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应该具备较高的职业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再次，建立规范的媒介记者档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四，建立舆论跟踪分析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五，建立新闻发布后的评估机制。</a:t>
            </a:r>
            <a:endParaRPr b="0" lang="en-US" sz="3200" spc="-1" strike="noStrike">
              <a:solidFill>
                <a:srgbClr val="000000"/>
              </a:solidFill>
              <a:latin typeface="Arial"/>
            </a:endParaRPr>
          </a:p>
        </p:txBody>
      </p:sp>
      <p:pic>
        <p:nvPicPr>
          <p:cNvPr id="310" name="图片 128004" descr="">
            <a:hlinkClick r:id="rId1"/>
          </p:cNvPr>
          <p:cNvPicPr/>
          <p:nvPr/>
        </p:nvPicPr>
        <p:blipFill>
          <a:blip r:embed="rId2"/>
          <a:stretch/>
        </p:blipFill>
        <p:spPr>
          <a:xfrm>
            <a:off x="7391520" y="4419720"/>
            <a:ext cx="1752480" cy="2209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职业准则</a:t>
            </a:r>
            <a:endParaRPr b="0" lang="en-US"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专业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专业培训是对各类公共关系人员所进行的业务培训，公共关系人员担负的任务不同，培训的内容和要求有所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职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业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人员培训。</a:t>
            </a:r>
            <a:endParaRPr b="0" lang="en-US" sz="3200" spc="-1" strike="noStrike">
              <a:solidFill>
                <a:srgbClr val="000000"/>
              </a:solidFill>
              <a:latin typeface="Arial"/>
            </a:endParaRPr>
          </a:p>
        </p:txBody>
      </p:sp>
      <p:pic>
        <p:nvPicPr>
          <p:cNvPr id="313" name="图片 131076" descr="">
            <a:hlinkClick r:id="rId1"/>
          </p:cNvPr>
          <p:cNvPicPr/>
          <p:nvPr/>
        </p:nvPicPr>
        <p:blipFill>
          <a:blip r:embed="rId2"/>
          <a:stretch/>
        </p:blipFill>
        <p:spPr>
          <a:xfrm>
            <a:off x="6934320" y="4495680"/>
            <a:ext cx="2057400" cy="198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200" spc="-1" strike="noStrike">
                <a:solidFill>
                  <a:srgbClr val="000000"/>
                </a:solidFill>
                <a:latin typeface="Arial"/>
              </a:rPr>
              <a:t>北京喜来登长城饭店的公共关系部</a:t>
            </a:r>
            <a:br>
              <a:rPr sz="3200"/>
            </a:br>
            <a:endParaRPr b="0" lang="en-US" sz="3200" spc="-1" strike="noStrike">
              <a:solidFill>
                <a:srgbClr val="000000"/>
              </a:solidFill>
              <a:latin typeface="Arial"/>
            </a:endParaRPr>
          </a:p>
        </p:txBody>
      </p:sp>
      <p:sp>
        <p:nvSpPr>
          <p:cNvPr id="315" name=""/>
          <p:cNvSpPr txBox="1"/>
          <p:nvPr/>
        </p:nvSpPr>
        <p:spPr>
          <a:xfrm>
            <a:off x="457200" y="12985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北京喜来登长城饭店在成立之际就设立了公共关系部，招收和培训了一批高质量的公关人员，制定了一套公关活动计划和准则，把公关贯穿于饭店的各个环节。</a:t>
            </a:r>
            <a:r>
              <a:rPr b="1" lang="zh-CN" sz="2400" spc="-1" strike="noStrike">
                <a:solidFill>
                  <a:srgbClr val="000000"/>
                </a:solidFill>
                <a:latin typeface="Arial"/>
              </a:rPr>
              <a:t>1984</a:t>
            </a:r>
            <a:r>
              <a:rPr b="1" lang="zh-CN" sz="2400" spc="-1" strike="noStrike">
                <a:solidFill>
                  <a:srgbClr val="000000"/>
                </a:solidFill>
                <a:latin typeface="Arial"/>
              </a:rPr>
              <a:t>年初，长城饭店试营业期间，公关部经理是美国的露西</a:t>
            </a:r>
            <a:r>
              <a:rPr b="1" lang="zh-CN" sz="2400" spc="-1" strike="noStrike">
                <a:solidFill>
                  <a:srgbClr val="000000"/>
                </a:solidFill>
                <a:latin typeface="Arial"/>
              </a:rPr>
              <a:t>·</a:t>
            </a:r>
            <a:r>
              <a:rPr b="1" lang="zh-CN" sz="2400" spc="-1" strike="noStrike">
                <a:solidFill>
                  <a:srgbClr val="000000"/>
                </a:solidFill>
                <a:latin typeface="Arial"/>
              </a:rPr>
              <a:t>布朗小姐。她为提高饭店的知名度，可谓绞尽脑汁。当时人们对公关相当陌生，觉得很神秘。一次，有位服务员在打扫房间时，发现客人的床头摊放着一本书，她没有挪动书的位置，也没有信手把书合上，而是细心地在书摊开的地方夹进了一张小纸条，以起到书签作用。客人对服务员细致的服务大加称赞，并将此事告诉了同来的几十名同事，以及她所认识的所有朋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露西小姐以这件事为契机，告诉大家，这就是公关活动！公关需要从细微处做起，所有饭店工作人员都应通过自己的一举一动体现公关意识，从各方面树立完美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培训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基础课   包括以下四类</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经济管理：管理学、经济学和市场营销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科学类：社会学、人类学和相关法律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语言文字：中文写作、新闻采访、英语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用技术类：计算机应用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业基础课   主要包括传播学、企业文化、动作语言学、媒介学、广告管理学、组织环境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专业课   主要包括公共关系原理、公共关系实务、社会调查、演讲、谈判、摄影、 表演等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人员的培训内容，可以是全面系统的，也可以择其中几门公共关系理论，因人、因需要而定。</a:t>
            </a:r>
            <a:endParaRPr b="0" lang="en-US" sz="2400" spc="-1" strike="noStrike">
              <a:solidFill>
                <a:srgbClr val="000000"/>
              </a:solidFill>
              <a:latin typeface="Arial"/>
            </a:endParaRPr>
          </a:p>
        </p:txBody>
      </p:sp>
      <p:pic>
        <p:nvPicPr>
          <p:cNvPr id="318" name="图片 132100" descr="">
            <a:hlinkClick r:id="rId1"/>
          </p:cNvPr>
          <p:cNvPicPr/>
          <p:nvPr/>
        </p:nvPicPr>
        <p:blipFill>
          <a:blip r:embed="rId2"/>
          <a:stretch/>
        </p:blipFill>
        <p:spPr>
          <a:xfrm>
            <a:off x="5791320" y="15228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培训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培训方式可以是全脱产或业余的办班学习，可以送入设有公共关系专业的院校或参加有关高校开办的函授学习，可以派员到专业公共关系公司实习进修，也可以以自修为主，兼请公共关系专家定期上门讲课辅导等。</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理论教育固然必要，实践锻炼更为重要。各行“状元”、各业“尖子”，都是在生产和社会实践活动中造就出来的。公共关系的优秀人才，也只能在公关实践中培养造就。中国的公共关系事业方兴未艾，一代群英应景涌现，人才辈出的局面以快到来。</a:t>
            </a:r>
            <a:endParaRPr b="0" lang="en-US" sz="2800" spc="-1" strike="noStrike">
              <a:solidFill>
                <a:srgbClr val="000000"/>
              </a:solidFill>
              <a:latin typeface="Arial"/>
            </a:endParaRPr>
          </a:p>
        </p:txBody>
      </p:sp>
      <p:pic>
        <p:nvPicPr>
          <p:cNvPr id="321" name="图片 133124" descr="">
            <a:hlinkClick r:id="rId1"/>
          </p:cNvPr>
          <p:cNvPicPr/>
          <p:nvPr/>
        </p:nvPicPr>
        <p:blipFill>
          <a:blip r:embed="rId2"/>
          <a:stretch/>
        </p:blipFill>
        <p:spPr>
          <a:xfrm>
            <a:off x="6858000" y="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知识结构图</a:t>
            </a:r>
            <a:br>
              <a:rPr sz="4000"/>
            </a:br>
            <a:endParaRPr b="0" lang="en-US" sz="4000" spc="-1" strike="noStrike">
              <a:solidFill>
                <a:srgbClr val="000000"/>
              </a:solidFill>
              <a:latin typeface="Arial"/>
            </a:endParaRPr>
          </a:p>
        </p:txBody>
      </p:sp>
      <p:pic>
        <p:nvPicPr>
          <p:cNvPr id="323" name="文本占位符 134147" descr=""/>
          <p:cNvPicPr/>
          <p:nvPr/>
        </p:nvPicPr>
        <p:blipFill>
          <a:blip r:embed="rId1"/>
          <a:stretch/>
        </p:blipFill>
        <p:spPr>
          <a:xfrm>
            <a:off x="685800" y="1600200"/>
            <a:ext cx="7848720" cy="4525920"/>
          </a:xfrm>
          <a:prstGeom prst="rect">
            <a:avLst/>
          </a:prstGeom>
          <a:ln w="0">
            <a:noFill/>
          </a:ln>
        </p:spPr>
      </p:pic>
      <p:pic>
        <p:nvPicPr>
          <p:cNvPr id="324" name="图片 1341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良好的公共关系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处在积极的、有利的社会关系环境和社会舆论气氛之中。处在这种状态，组织的各项工作、业务的开展必然顺畅，到处受到社会公众的欢迎和支持，这是一种宝贵的无形资产，可使一个组织的有形资产增值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图片 49155" descr="j0233018"/>
          <p:cNvPicPr/>
          <p:nvPr/>
        </p:nvPicPr>
        <p:blipFill>
          <a:blip r:embed="rId1"/>
          <a:stretch/>
        </p:blipFill>
        <p:spPr>
          <a:xfrm>
            <a:off x="6095880" y="4572000"/>
            <a:ext cx="2575080" cy="208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以小组的形式对我国公共关系的发展情况进行调研，并在全班报告调研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走访学校就业部门老师，并搜集相关资料就公共关系与就业举办班级座谈会。</a:t>
            </a:r>
            <a:endParaRPr b="0" lang="en-US" sz="3200" spc="-1" strike="noStrike">
              <a:solidFill>
                <a:srgbClr val="000000"/>
              </a:solidFill>
              <a:latin typeface="Arial"/>
            </a:endParaRPr>
          </a:p>
        </p:txBody>
      </p:sp>
      <p:pic>
        <p:nvPicPr>
          <p:cNvPr id="327" name="图片 135174" descr="">
            <a:hlinkClick r:id="rId1"/>
          </p:cNvPr>
          <p:cNvPicPr/>
          <p:nvPr/>
        </p:nvPicPr>
        <p:blipFill>
          <a:blip r:embed="rId2"/>
          <a:stretch/>
        </p:blipFill>
        <p:spPr>
          <a:xfrm>
            <a:off x="3429000" y="1143000"/>
            <a:ext cx="2438280" cy="1066680"/>
          </a:xfrm>
          <a:prstGeom prst="rect">
            <a:avLst/>
          </a:prstGeom>
          <a:ln w="0">
            <a:noFill/>
          </a:ln>
        </p:spPr>
      </p:pic>
      <p:pic>
        <p:nvPicPr>
          <p:cNvPr id="328" name="图片 135176" descr="">
            <a:hlinkClick r:id="rId3"/>
          </p:cNvPr>
          <p:cNvPicPr/>
          <p:nvPr/>
        </p:nvPicPr>
        <p:blipFill>
          <a:blip r:embed="rId4"/>
          <a:stretch/>
        </p:blipFill>
        <p:spPr>
          <a:xfrm>
            <a:off x="914400" y="510552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什么是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的意识和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我国公共关系的特点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你如何看待我国在加入</a:t>
            </a:r>
            <a:r>
              <a:rPr b="1" lang="en-US" sz="3200" spc="-1" strike="noStrike">
                <a:solidFill>
                  <a:srgbClr val="000000"/>
                </a:solidFill>
                <a:latin typeface="隶书"/>
                <a:ea typeface="隶书"/>
              </a:rPr>
              <a:t>WTO</a:t>
            </a:r>
            <a:r>
              <a:rPr b="1" lang="zh-CN" sz="3200" spc="-1" strike="noStrike">
                <a:solidFill>
                  <a:srgbClr val="000000"/>
                </a:solidFill>
                <a:latin typeface="隶书"/>
                <a:ea typeface="隶书"/>
              </a:rPr>
              <a:t>后，中国公共关系的发展前景。</a:t>
            </a:r>
            <a:endParaRPr b="0" lang="en-US" sz="3200" spc="-1" strike="noStrike">
              <a:solidFill>
                <a:srgbClr val="000000"/>
              </a:solidFill>
              <a:latin typeface="Arial"/>
            </a:endParaRPr>
          </a:p>
        </p:txBody>
      </p:sp>
      <p:pic>
        <p:nvPicPr>
          <p:cNvPr id="331" name="图片 136197" descr="u=3195011,1001521202&amp;fm=0&amp;gp=0">
            <a:hlinkClick r:id="rId1"/>
          </p:cNvPr>
          <p:cNvPicPr/>
          <p:nvPr/>
        </p:nvPicPr>
        <p:blipFill>
          <a:blip r:embed="rId2"/>
          <a:stretch/>
        </p:blipFill>
        <p:spPr>
          <a:xfrm>
            <a:off x="39625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50179" descr="j0292020"/>
          <p:cNvPicPr/>
          <p:nvPr/>
        </p:nvPicPr>
        <p:blipFill>
          <a:blip r:embed="rId1"/>
          <a:stretch/>
        </p:blipFill>
        <p:spPr>
          <a:xfrm>
            <a:off x="609480" y="0"/>
            <a:ext cx="1868760" cy="1773360"/>
          </a:xfrm>
          <a:prstGeom prst="rect">
            <a:avLst/>
          </a:prstGeom>
          <a:ln w="0">
            <a:noFill/>
          </a:ln>
        </p:spPr>
      </p:pic>
      <p:sp>
        <p:nvSpPr>
          <p:cNvPr id="64" name=""/>
          <p:cNvSpPr txBox="1"/>
          <p:nvPr/>
        </p:nvSpPr>
        <p:spPr>
          <a:xfrm>
            <a:off x="142560" y="593640"/>
            <a:ext cx="9001080" cy="603576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蒙牛集团的公关形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005</a:t>
            </a:r>
            <a:r>
              <a:rPr b="0" lang="zh-CN" sz="2400" spc="-1" strike="noStrike">
                <a:solidFill>
                  <a:srgbClr val="000000"/>
                </a:solidFill>
                <a:latin typeface="隶书"/>
                <a:ea typeface="隶书"/>
              </a:rPr>
              <a:t>年可谓是拥有上千家企业的中国乳品业的多事之秋，几家被曝光、几家被收购；几家欢喜几家忧。在这纷纷扰扰中却始终有一个品牌独树一帜、高歌猛进，它就是来自蒙古草原的蒙牛。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看看其</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品牌宣传的轨迹，我们就不难理解其之所以最风光、最耀眼、最惹人嫉妒的原因。</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份伊拉克战争期间，蒙牛集团抓住央视大规模战争报道形成的收视高峰，率先进行事件营销，获得了极大成功，此后，他们与央视协商建立了一个应对突发新闻事件的快速反应机制，以确保蒙牛广告能在第一时间赢得商机；“非典”期间，很多企业纷纷停下广告，蒙牛集团不但没有撤出广告，反而加大投放，并增加了公益广告的力度，“非典”过后，马上得到了市场的回报；</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月份，蒙牛又利用获得“航天员专用牛奶”称号这一机会、进行大规模 “举起你的右手，为中国喝彩”的公关活动；到</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蒙牛则一举夺得中央电视台的广告标王，再次成为社会关注的焦点。可以说，正是这娴熟的公关营销技巧使蒙牛品牌的知名度和美誉度大幅提升，并由此树立起一个具有民族内涵的大品牌形象，同时使蒙牛的产品销量一路奋进，目前已由行业的乳业第四一举上升至榜眼之位，而液态奶部分更是攀升为行业霸主，值得我们借鉴推广。 </a:t>
            </a:r>
            <a:endParaRPr b="0" lang="en-US" sz="2400" spc="-1" strike="noStrike">
              <a:solidFill>
                <a:srgbClr val="000000"/>
              </a:solidFill>
              <a:latin typeface="Arial"/>
            </a:endParaRPr>
          </a:p>
        </p:txBody>
      </p:sp>
      <p:pic>
        <p:nvPicPr>
          <p:cNvPr id="65" name="图片 50181" descr="u=1624919678,3878562465&amp;fm=0&amp;gp=0">
            <a:hlinkClick r:id="rId2"/>
          </p:cNvPr>
          <p:cNvPicPr/>
          <p:nvPr/>
        </p:nvPicPr>
        <p:blipFill>
          <a:blip r:embed="rId3"/>
          <a:stretch/>
        </p:blipFill>
        <p:spPr>
          <a:xfrm>
            <a:off x="6858000" y="158760"/>
            <a:ext cx="2286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06:45:43Z</dcterms:created>
  <dc:creator/>
  <dc:description/>
  <dc:language>en-US</dc:language>
  <cp:lastModifiedBy>lilanying</cp:lastModifiedBy>
  <dcterms:modified xsi:type="dcterms:W3CDTF">2021-08-30T11:33:33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