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7.png" ContentType="image/png"/>
  <Override PartName="/ppt/media/image4.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0FF7F-8F91-4FC9-BE79-957F30EE0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2AE22-F539-4E0F-82A0-97507D17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8D3D7-81BF-4689-9297-4DFADCEE6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29617-A4A9-4A0C-9424-049C1A412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6C6C2-A9F7-47FA-A15F-EB4B81845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804AD-DA68-4A70-B5E3-B43BE8A03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D54C8-4583-441D-B358-324D86023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F74D2-ED9C-4300-B1FD-451ED6AF1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FFD37-A1A1-4B9C-877A-786F7D2EF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2208D-CC0B-4303-A2E8-EFF3F8EAE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1FFA8-15A8-426B-BDD7-A27A62AEF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7B764-A325-4BE7-BCC5-93CFDDC46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A72B6-8DD9-4CEC-AA88-58357AAF2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C5723-6D57-4AAE-9D5F-A419C4543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551D7-5BA0-414F-BE8E-54581BA99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24F0E-A1D2-4B55-AA39-1676DC386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C945F-9502-4B54-8BA2-3F87A4C4A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F7EA48-4331-44FD-8D7F-A58CB0A68F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713A2-0EDC-4C03-B5DC-52E757B5D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EA4331-92EA-4784-A788-05B01DF1C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9493B-D756-4801-9FC7-19ED95CE3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133B9-8E5D-4CA9-AE49-AE94A0F91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65A6E-920E-467E-80AE-F1BA22F0A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C3915-9FD6-47E5-A1E0-03F5F5DAF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305DC-B705-421D-AE6B-F08CCF497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99E2C-D899-459C-B2C8-B3F7E9839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88B09-6091-4F46-9E98-2C37DB2A0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E9A618-CCCF-4F89-8E1D-7BC7DD7C6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FFF858-044C-4CF0-B9E4-6A52CEB826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475F1C-773B-4F42-A6A6-58F0161AA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BDDD89-F6B5-4E09-B7A5-2A08D6B5BC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12595-BEFC-4E7F-A3E1-1D8242039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62A45-B5CF-4070-A835-EF47323C4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32E5-10EE-4556-871A-06A2DF123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382C41-899B-464A-AD53-5A79A1B02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202A8-72F3-41E5-8F70-84085196B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C89D84-978B-461D-A225-0A8618CA31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70F33-2C1E-4CE4-A94D-50B295CE79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A8576-9D19-4CD0-AC1E-A9608CCF9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08EE2-F4B0-4CA4-8DDA-8F57C188D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1A76F1-1C9D-46D4-8760-BA1F2ED8D4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D23F0-CADC-4802-A8C5-C04A1ACB1D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4E3CF3-1F69-424C-8330-44E00C212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EE132D-2509-47EE-BCCB-63D03AF82D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8EFF-24D7-48AA-9F58-EEF90D5B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AC8D8-B29E-4846-A66A-1890D34D8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A86496-74A5-437F-A77E-CB1903C04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B586C-325F-495A-95D7-910444D48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48F0B-1FCC-450B-8DD2-C09182406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14D0E-225A-4B71-86E1-C346015F5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4CC9A-09A8-4028-9F98-9095E031D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24617-8DBF-4080-A038-9E1CE6E9C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EE505-CB1F-4E9D-9F52-50CCB7C4C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FE2AD-5DB7-4B7F-80B0-6106687CED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4650E3-8B4D-4971-8F15-959B5184C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D8FE-8B58-4B45-A4D1-3D79B9749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327424-2696-4B5D-BB50-FEAEC814E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0F90-C676-49B4-9C60-08C6C92E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5BB0-E7FD-4FA2-B13F-217049BF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084AB-ADC2-4C36-B4C1-3F7E88DF0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0D24-85B4-4462-8EC8-134CCCD79871}"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9350-4DAE-4523-B629-8F882B6B652A}"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D668-098B-485A-938E-B2F68F295074}"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16E0-EC28-400D-9B86-B8EF717E57F1}"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E83C-9D25-4A1E-B1E6-DD504ED22ED7}"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F9A5-DF5E-4786-8214-36BB9017B901}"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625F-DC0E-4EB8-B292-CE5DDEAF54A8}"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840C-80F6-4293-8746-EEAFCABB7A6F}"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436F-9EE1-4FC9-8ADB-6D3DBEA58D38}"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135D-53A1-4413-9113-3B01273E1307}"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6</a:t>
            </a:r>
            <a:r>
              <a:rPr b="1" lang="zh-CN" sz="4000" spc="-1" strike="noStrike">
                <a:solidFill>
                  <a:srgbClr val="000000"/>
                </a:solidFill>
                <a:latin typeface="微软雅黑"/>
                <a:ea typeface="微软雅黑"/>
              </a:rPr>
              <a:t>章   网络经济中的企业行为</a:t>
            </a:r>
            <a:endParaRPr b="0" lang="en-US" sz="4000" spc="-1" strike="noStrike">
              <a:solidFill>
                <a:srgbClr val="000000"/>
              </a:solidFill>
              <a:latin typeface="Calibri"/>
            </a:endParaRPr>
          </a:p>
        </p:txBody>
      </p:sp>
      <p:sp>
        <p:nvSpPr>
          <p:cNvPr id="210" name="直接连接符 4"/>
          <p:cNvSpPr/>
          <p:nvPr/>
        </p:nvSpPr>
        <p:spPr>
          <a:xfrm>
            <a:off x="1440000" y="2889360"/>
            <a:ext cx="723744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6896-D32C-4B0C-81BC-83512D83830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70" name="Group 128"/>
          <p:cNvGrpSpPr/>
          <p:nvPr/>
        </p:nvGrpSpPr>
        <p:grpSpPr>
          <a:xfrm>
            <a:off x="7704000" y="2349360"/>
            <a:ext cx="648000" cy="453960"/>
            <a:chOff x="7704000" y="2349360"/>
            <a:chExt cx="648000" cy="453960"/>
          </a:xfrm>
        </p:grpSpPr>
        <p:sp>
          <p:nvSpPr>
            <p:cNvPr id="37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127"/>
          <p:cNvGrpSpPr/>
          <p:nvPr/>
        </p:nvGrpSpPr>
        <p:grpSpPr>
          <a:xfrm>
            <a:off x="250920" y="324000"/>
            <a:ext cx="264960" cy="417240"/>
            <a:chOff x="250920" y="324000"/>
            <a:chExt cx="264960" cy="417240"/>
          </a:xfrm>
        </p:grpSpPr>
        <p:sp>
          <p:nvSpPr>
            <p:cNvPr id="37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10"/>
          <p:cNvGrpSpPr/>
          <p:nvPr/>
        </p:nvGrpSpPr>
        <p:grpSpPr>
          <a:xfrm>
            <a:off x="1224000" y="944640"/>
            <a:ext cx="7128000" cy="647640"/>
            <a:chOff x="1224000" y="944640"/>
            <a:chExt cx="7128000" cy="647640"/>
          </a:xfrm>
        </p:grpSpPr>
        <p:sp>
          <p:nvSpPr>
            <p:cNvPr id="381"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标准竞争</a:t>
              </a:r>
              <a:endParaRPr b="0" lang="en-US" sz="1800" spc="-1" strike="noStrike">
                <a:solidFill>
                  <a:srgbClr val="000000"/>
                </a:solidFill>
                <a:latin typeface="Arial"/>
              </a:endParaRPr>
            </a:p>
          </p:txBody>
        </p:sp>
        <p:sp>
          <p:nvSpPr>
            <p:cNvPr id="382"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384"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389"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单一标准还是多重标准</a:t>
            </a:r>
            <a:endParaRPr b="0" lang="en-US" sz="2000" spc="-1" strike="noStrike">
              <a:solidFill>
                <a:srgbClr val="000000"/>
              </a:solidFill>
              <a:latin typeface="Arial"/>
            </a:endParaRPr>
          </a:p>
        </p:txBody>
      </p:sp>
      <p:sp>
        <p:nvSpPr>
          <p:cNvPr id="390"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92"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标准兼容策略还是控制标准策略</a:t>
            </a:r>
            <a:endParaRPr b="0" lang="en-US" sz="2000" spc="-1" strike="noStrike">
              <a:solidFill>
                <a:srgbClr val="000000"/>
              </a:solidFill>
              <a:latin typeface="Arial"/>
            </a:endParaRPr>
          </a:p>
        </p:txBody>
      </p:sp>
      <p:sp>
        <p:nvSpPr>
          <p:cNvPr id="393"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95"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技术进步与标准</a:t>
            </a:r>
            <a:endParaRPr b="0" lang="en-US" sz="2000" spc="-1" strike="noStrike">
              <a:solidFill>
                <a:srgbClr val="000000"/>
              </a:solidFill>
              <a:latin typeface="Arial"/>
            </a:endParaRPr>
          </a:p>
        </p:txBody>
      </p:sp>
      <p:sp>
        <p:nvSpPr>
          <p:cNvPr id="396"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0" lang="zh-CN" sz="3200" spc="-1" strike="noStrike">
                <a:solidFill>
                  <a:srgbClr val="c0504d"/>
                </a:solidFill>
                <a:latin typeface="微软雅黑"/>
                <a:ea typeface="微软雅黑"/>
              </a:rPr>
              <a:t>进入和标准</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F0A5-3983-472B-8E17-59BBBB5ACF0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98" name="Group 128"/>
          <p:cNvGrpSpPr/>
          <p:nvPr/>
        </p:nvGrpSpPr>
        <p:grpSpPr>
          <a:xfrm>
            <a:off x="7704000" y="2349360"/>
            <a:ext cx="648000" cy="453960"/>
            <a:chOff x="7704000" y="2349360"/>
            <a:chExt cx="648000" cy="453960"/>
          </a:xfrm>
        </p:grpSpPr>
        <p:sp>
          <p:nvSpPr>
            <p:cNvPr id="39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27"/>
          <p:cNvGrpSpPr/>
          <p:nvPr/>
        </p:nvGrpSpPr>
        <p:grpSpPr>
          <a:xfrm>
            <a:off x="250920" y="324000"/>
            <a:ext cx="264960" cy="417240"/>
            <a:chOff x="250920" y="324000"/>
            <a:chExt cx="264960" cy="417240"/>
          </a:xfrm>
        </p:grpSpPr>
        <p:sp>
          <p:nvSpPr>
            <p:cNvPr id="40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1" lang="zh-CN" sz="3200" spc="-1" strike="noStrike">
                <a:solidFill>
                  <a:srgbClr val="c0504d"/>
                </a:solidFill>
                <a:latin typeface="微软雅黑"/>
                <a:ea typeface="微软雅黑"/>
              </a:rPr>
              <a:t>网络经济企业策略</a:t>
            </a:r>
            <a:endParaRPr b="0" lang="en-US" sz="3200" spc="-1" strike="noStrike">
              <a:solidFill>
                <a:srgbClr val="000000"/>
              </a:solidFill>
              <a:latin typeface="Calibri"/>
            </a:endParaRPr>
          </a:p>
        </p:txBody>
      </p:sp>
      <p:sp>
        <p:nvSpPr>
          <p:cNvPr id="41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1" name="组合 10"/>
          <p:cNvGrpSpPr/>
          <p:nvPr/>
        </p:nvGrpSpPr>
        <p:grpSpPr>
          <a:xfrm>
            <a:off x="1871640" y="1387440"/>
            <a:ext cx="4537080" cy="647640"/>
            <a:chOff x="1871640" y="1387440"/>
            <a:chExt cx="4537080" cy="647640"/>
          </a:xfrm>
        </p:grpSpPr>
        <p:sp>
          <p:nvSpPr>
            <p:cNvPr id="412" name="TextBox 35"/>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不同阶段的策略</a:t>
              </a:r>
              <a:endParaRPr b="0" lang="en-US" sz="1800" spc="-1" strike="noStrike">
                <a:solidFill>
                  <a:srgbClr val="000000"/>
                </a:solidFill>
                <a:latin typeface="Arial"/>
              </a:endParaRPr>
            </a:p>
          </p:txBody>
        </p:sp>
        <p:sp>
          <p:nvSpPr>
            <p:cNvPr id="413" name="直接连接符 36"/>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流程图: 联系 37"/>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15" name="直接连接符 38"/>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组合 15"/>
          <p:cNvGrpSpPr/>
          <p:nvPr/>
        </p:nvGrpSpPr>
        <p:grpSpPr>
          <a:xfrm>
            <a:off x="1871640" y="2241720"/>
            <a:ext cx="4537080" cy="647640"/>
            <a:chOff x="1871640" y="2241720"/>
            <a:chExt cx="4537080" cy="647640"/>
          </a:xfrm>
        </p:grpSpPr>
        <p:sp>
          <p:nvSpPr>
            <p:cNvPr id="417" name="TextBox 48"/>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定价策略</a:t>
              </a:r>
              <a:endParaRPr b="0" lang="en-US" sz="1800" spc="-1" strike="noStrike">
                <a:solidFill>
                  <a:srgbClr val="000000"/>
                </a:solidFill>
                <a:latin typeface="Arial"/>
              </a:endParaRPr>
            </a:p>
          </p:txBody>
        </p:sp>
        <p:sp>
          <p:nvSpPr>
            <p:cNvPr id="418" name="直接连接符 49"/>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流程图: 联系 50"/>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20" name="直接连接符 51"/>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组合 20"/>
          <p:cNvGrpSpPr/>
          <p:nvPr/>
        </p:nvGrpSpPr>
        <p:grpSpPr>
          <a:xfrm>
            <a:off x="1871640" y="3105000"/>
            <a:ext cx="4537080" cy="648000"/>
            <a:chOff x="1871640" y="3105000"/>
            <a:chExt cx="4537080" cy="648000"/>
          </a:xfrm>
        </p:grpSpPr>
        <p:sp>
          <p:nvSpPr>
            <p:cNvPr id="422" name="TextBox 53"/>
            <p:cNvSpPr/>
            <p:nvPr/>
          </p:nvSpPr>
          <p:spPr>
            <a:xfrm>
              <a:off x="2036520" y="3105000"/>
              <a:ext cx="4372200" cy="640080"/>
            </a:xfrm>
            <a:prstGeom prst="roundRect">
              <a:avLst>
                <a:gd name="adj" fmla="val 8176"/>
              </a:avLst>
            </a:prstGeom>
            <a:solidFill>
              <a:srgbClr val="ffffff"/>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ea typeface="宋体"/>
                </a:rPr>
                <a:t>其他策略</a:t>
              </a:r>
              <a:endParaRPr b="0" lang="en-US" sz="1800" spc="-1" strike="noStrike">
                <a:solidFill>
                  <a:srgbClr val="000000"/>
                </a:solidFill>
                <a:latin typeface="Arial"/>
              </a:endParaRPr>
            </a:p>
          </p:txBody>
        </p:sp>
        <p:sp>
          <p:nvSpPr>
            <p:cNvPr id="423" name="直接连接符 54"/>
            <p:cNvSpPr/>
            <p:nvPr/>
          </p:nvSpPr>
          <p:spPr>
            <a:xfrm>
              <a:off x="2049120" y="3433680"/>
              <a:ext cx="0" cy="319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流程图: 联系 55"/>
            <p:cNvSpPr/>
            <p:nvPr/>
          </p:nvSpPr>
          <p:spPr>
            <a:xfrm>
              <a:off x="1871640" y="3419640"/>
              <a:ext cx="331560" cy="127080"/>
            </a:xfrm>
            <a:prstGeom prst="flowChartConnector">
              <a:avLst/>
            </a:prstGeom>
            <a:solidFill>
              <a:srgbClr val="92d050"/>
            </a:solidFill>
            <a:ln w="25560">
              <a:solidFill>
                <a:srgbClr val="d9d9d9"/>
              </a:solidFill>
              <a:round/>
            </a:ln>
          </p:spPr>
          <p:style>
            <a:lnRef idx="0"/>
            <a:fillRef idx="0"/>
            <a:effectRef idx="0"/>
            <a:fontRef idx="minor"/>
          </p:style>
          <p:txBody>
            <a:bodyPr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25" name="直接连接符 56"/>
            <p:cNvSpPr/>
            <p:nvPr/>
          </p:nvSpPr>
          <p:spPr>
            <a:xfrm>
              <a:off x="2060280" y="3740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2D87-1ADA-4D35-B387-F644D9314DF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27" name="Group 128"/>
          <p:cNvGrpSpPr/>
          <p:nvPr/>
        </p:nvGrpSpPr>
        <p:grpSpPr>
          <a:xfrm>
            <a:off x="7270920" y="2349360"/>
            <a:ext cx="647280" cy="453960"/>
            <a:chOff x="7270920" y="2349360"/>
            <a:chExt cx="647280" cy="453960"/>
          </a:xfrm>
        </p:grpSpPr>
        <p:sp>
          <p:nvSpPr>
            <p:cNvPr id="428"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组合 10"/>
          <p:cNvGrpSpPr/>
          <p:nvPr/>
        </p:nvGrpSpPr>
        <p:grpSpPr>
          <a:xfrm>
            <a:off x="1224000" y="1052640"/>
            <a:ext cx="7128000" cy="647640"/>
            <a:chOff x="1224000" y="1052640"/>
            <a:chExt cx="7128000" cy="647640"/>
          </a:xfrm>
        </p:grpSpPr>
        <p:sp>
          <p:nvSpPr>
            <p:cNvPr id="437" name="TextBox 11"/>
            <p:cNvSpPr/>
            <p:nvPr/>
          </p:nvSpPr>
          <p:spPr>
            <a:xfrm>
              <a:off x="1482480" y="1052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不同阶段的策略</a:t>
              </a:r>
              <a:endParaRPr b="0" lang="en-US" sz="1800" spc="-1" strike="noStrike">
                <a:solidFill>
                  <a:srgbClr val="000000"/>
                </a:solidFill>
                <a:latin typeface="Arial"/>
              </a:endParaRPr>
            </a:p>
          </p:txBody>
        </p:sp>
        <p:sp>
          <p:nvSpPr>
            <p:cNvPr id="438" name="直接连接符 32"/>
            <p:cNvSpPr/>
            <p:nvPr/>
          </p:nvSpPr>
          <p:spPr>
            <a:xfrm>
              <a:off x="1501560" y="1381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流程图: 联系 13"/>
            <p:cNvSpPr/>
            <p:nvPr/>
          </p:nvSpPr>
          <p:spPr>
            <a:xfrm>
              <a:off x="1224000" y="1320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40" name="直接连接符 34"/>
            <p:cNvSpPr/>
            <p:nvPr/>
          </p:nvSpPr>
          <p:spPr>
            <a:xfrm>
              <a:off x="1522440" y="1690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0" lang="zh-CN" sz="3200" spc="-1" strike="noStrike">
                <a:solidFill>
                  <a:srgbClr val="c0504d"/>
                </a:solidFill>
                <a:latin typeface="微软雅黑"/>
                <a:ea typeface="微软雅黑"/>
              </a:rPr>
              <a:t>网络经济企业策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5" name=""/>
          <p:cNvGraphicFramePr/>
          <p:nvPr/>
        </p:nvGraphicFramePr>
        <p:xfrm>
          <a:off x="870120" y="2367000"/>
          <a:ext cx="7242120" cy="3087720"/>
        </p:xfrm>
        <a:graphic>
          <a:graphicData uri="http://schemas.openxmlformats.org/drawingml/2006/table">
            <a:tbl>
              <a:tblPr/>
              <a:tblGrid>
                <a:gridCol w="1031760"/>
                <a:gridCol w="2587680"/>
                <a:gridCol w="1812960"/>
                <a:gridCol w="1809720"/>
              </a:tblGrid>
              <a:tr h="60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演化阶段</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结构与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核心关注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案例</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916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长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直接网络效应平台间：非对称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用户规模</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顺丰优选、万物心选</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80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熟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交叉网络效应平台间：对称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质量</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唯品会、京东商城</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81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化期</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内：交叉网络效应平台间：叠加网络效应</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平台包络</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阿里巴巴</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E05F-05E0-4AD0-AAA0-F20B6C5DCD41}"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7" name="Group 128"/>
          <p:cNvGrpSpPr/>
          <p:nvPr/>
        </p:nvGrpSpPr>
        <p:grpSpPr>
          <a:xfrm>
            <a:off x="7704000" y="2349360"/>
            <a:ext cx="648000" cy="453960"/>
            <a:chOff x="7704000" y="2349360"/>
            <a:chExt cx="648000" cy="453960"/>
          </a:xfrm>
        </p:grpSpPr>
        <p:sp>
          <p:nvSpPr>
            <p:cNvPr id="44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组合 127"/>
          <p:cNvGrpSpPr/>
          <p:nvPr/>
        </p:nvGrpSpPr>
        <p:grpSpPr>
          <a:xfrm>
            <a:off x="250920" y="324000"/>
            <a:ext cx="264960" cy="417240"/>
            <a:chOff x="250920" y="324000"/>
            <a:chExt cx="264960" cy="417240"/>
          </a:xfrm>
        </p:grpSpPr>
        <p:sp>
          <p:nvSpPr>
            <p:cNvPr id="45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组合 10"/>
          <p:cNvGrpSpPr/>
          <p:nvPr/>
        </p:nvGrpSpPr>
        <p:grpSpPr>
          <a:xfrm>
            <a:off x="1224000" y="944640"/>
            <a:ext cx="7128000" cy="647640"/>
            <a:chOff x="1224000" y="944640"/>
            <a:chExt cx="7128000" cy="647640"/>
          </a:xfrm>
        </p:grpSpPr>
        <p:sp>
          <p:nvSpPr>
            <p:cNvPr id="458"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定价策略</a:t>
              </a:r>
              <a:endParaRPr b="0" lang="en-US" sz="1800" spc="-1" strike="noStrike">
                <a:solidFill>
                  <a:srgbClr val="000000"/>
                </a:solidFill>
                <a:latin typeface="Arial"/>
              </a:endParaRPr>
            </a:p>
          </p:txBody>
        </p:sp>
        <p:sp>
          <p:nvSpPr>
            <p:cNvPr id="459"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61"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1"/>
          <p:cNvGrpSpPr/>
          <p:nvPr/>
        </p:nvGrpSpPr>
        <p:grpSpPr>
          <a:xfrm>
            <a:off x="2000160" y="2374920"/>
            <a:ext cx="5190840" cy="634680"/>
            <a:chOff x="2000160" y="2374920"/>
            <a:chExt cx="5190840" cy="634680"/>
          </a:xfrm>
        </p:grpSpPr>
        <p:sp>
          <p:nvSpPr>
            <p:cNvPr id="465" name="MH_Other_1"/>
            <p:cNvSpPr/>
            <p:nvPr/>
          </p:nvSpPr>
          <p:spPr>
            <a:xfrm>
              <a:off x="2000160" y="2374920"/>
              <a:ext cx="2251080" cy="33444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466" name="MH_SubTitle_1"/>
            <p:cNvSpPr/>
            <p:nvPr/>
          </p:nvSpPr>
          <p:spPr>
            <a:xfrm>
              <a:off x="2361960" y="241920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价格歧视策略</a:t>
              </a:r>
              <a:endParaRPr b="0" lang="en-US" sz="1800" spc="-1" strike="noStrike">
                <a:solidFill>
                  <a:srgbClr val="000000"/>
                </a:solidFill>
                <a:latin typeface="Arial"/>
              </a:endParaRPr>
            </a:p>
          </p:txBody>
        </p:sp>
      </p:grpSp>
      <p:sp>
        <p:nvSpPr>
          <p:cNvPr id="467" name="MH_Other_4"/>
          <p:cNvSpPr/>
          <p:nvPr/>
        </p:nvSpPr>
        <p:spPr>
          <a:xfrm>
            <a:off x="5283360" y="3286080"/>
            <a:ext cx="224928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468" name="MH_SubTitle_2"/>
          <p:cNvSpPr/>
          <p:nvPr/>
        </p:nvSpPr>
        <p:spPr>
          <a:xfrm>
            <a:off x="2341440" y="333216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捆绑定价策略</a:t>
            </a:r>
            <a:endParaRPr b="0" lang="en-US" sz="1800" spc="-1" strike="noStrike">
              <a:solidFill>
                <a:srgbClr val="000000"/>
              </a:solidFill>
              <a:latin typeface="Arial"/>
            </a:endParaRPr>
          </a:p>
        </p:txBody>
      </p:sp>
      <p:sp>
        <p:nvSpPr>
          <p:cNvPr id="469"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1" lang="zh-CN" sz="3200" spc="-1" strike="noStrike">
                <a:solidFill>
                  <a:srgbClr val="c0504d"/>
                </a:solidFill>
                <a:latin typeface="微软雅黑"/>
                <a:ea typeface="微软雅黑"/>
              </a:rPr>
              <a:t>电子商务的价格</a:t>
            </a:r>
            <a:endParaRPr b="0" lang="en-US" sz="3200" spc="-1" strike="noStrike">
              <a:solidFill>
                <a:srgbClr val="000000"/>
              </a:solidFill>
              <a:latin typeface="Arial"/>
            </a:endParaRPr>
          </a:p>
        </p:txBody>
      </p:sp>
      <p:grpSp>
        <p:nvGrpSpPr>
          <p:cNvPr id="470" name="组合 3"/>
          <p:cNvGrpSpPr/>
          <p:nvPr/>
        </p:nvGrpSpPr>
        <p:grpSpPr>
          <a:xfrm>
            <a:off x="1947960" y="4032360"/>
            <a:ext cx="5189040" cy="634680"/>
            <a:chOff x="1947960" y="4032360"/>
            <a:chExt cx="5189040" cy="634680"/>
          </a:xfrm>
        </p:grpSpPr>
        <p:sp>
          <p:nvSpPr>
            <p:cNvPr id="471" name="MH_Other_1"/>
            <p:cNvSpPr/>
            <p:nvPr/>
          </p:nvSpPr>
          <p:spPr>
            <a:xfrm>
              <a:off x="1947960" y="4032360"/>
              <a:ext cx="2250360" cy="335160"/>
            </a:xfrm>
            <a:prstGeom prst="pie">
              <a:avLst/>
            </a:prstGeom>
            <a:gradFill rotWithShape="0">
              <a:gsLst>
                <a:gs pos="0">
                  <a:srgbClr val="7b32b2"/>
                </a:gs>
                <a:gs pos="100000">
                  <a:srgbClr val="401a5d"/>
                </a:gs>
              </a:gsLst>
              <a:lin ang="5400000"/>
            </a:gra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a:t>
              </a:r>
              <a:r>
                <a:rPr b="1" lang="en-US" sz="1800" spc="-1" strike="noStrike">
                  <a:solidFill>
                    <a:srgbClr val="ffffff"/>
                  </a:solidFill>
                  <a:latin typeface="Calibri"/>
                </a:rPr>
                <a:t>3</a:t>
              </a:r>
              <a:endParaRPr b="0" lang="en-US" sz="1800" spc="-1" strike="noStrike">
                <a:solidFill>
                  <a:srgbClr val="000000"/>
                </a:solidFill>
                <a:latin typeface="Arial"/>
              </a:endParaRPr>
            </a:p>
          </p:txBody>
        </p:sp>
        <p:sp>
          <p:nvSpPr>
            <p:cNvPr id="472" name="MH_SubTitle_1"/>
            <p:cNvSpPr/>
            <p:nvPr/>
          </p:nvSpPr>
          <p:spPr>
            <a:xfrm>
              <a:off x="2309400" y="4076640"/>
              <a:ext cx="48276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其他定价策略</a:t>
              </a:r>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1077-94F9-4CF4-B94F-41C1574D432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74" name="Group 128"/>
          <p:cNvGrpSpPr/>
          <p:nvPr/>
        </p:nvGrpSpPr>
        <p:grpSpPr>
          <a:xfrm>
            <a:off x="7270920" y="2349360"/>
            <a:ext cx="647280" cy="453960"/>
            <a:chOff x="7270920" y="2349360"/>
            <a:chExt cx="647280" cy="453960"/>
          </a:xfrm>
        </p:grpSpPr>
        <p:sp>
          <p:nvSpPr>
            <p:cNvPr id="475"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127"/>
          <p:cNvGrpSpPr/>
          <p:nvPr/>
        </p:nvGrpSpPr>
        <p:grpSpPr>
          <a:xfrm>
            <a:off x="250920" y="324000"/>
            <a:ext cx="264960" cy="417240"/>
            <a:chOff x="250920" y="324000"/>
            <a:chExt cx="264960" cy="417240"/>
          </a:xfrm>
        </p:grpSpPr>
        <p:sp>
          <p:nvSpPr>
            <p:cNvPr id="48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10"/>
          <p:cNvGrpSpPr/>
          <p:nvPr/>
        </p:nvGrpSpPr>
        <p:grpSpPr>
          <a:xfrm>
            <a:off x="1224000" y="944640"/>
            <a:ext cx="7128000" cy="647640"/>
            <a:chOff x="1224000" y="944640"/>
            <a:chExt cx="7128000" cy="647640"/>
          </a:xfrm>
        </p:grpSpPr>
        <p:sp>
          <p:nvSpPr>
            <p:cNvPr id="485"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其他策略</a:t>
              </a:r>
              <a:endParaRPr b="0" lang="en-US" sz="1800" spc="-1" strike="noStrike">
                <a:solidFill>
                  <a:srgbClr val="000000"/>
                </a:solidFill>
                <a:latin typeface="Arial"/>
              </a:endParaRPr>
            </a:p>
          </p:txBody>
        </p:sp>
        <p:sp>
          <p:nvSpPr>
            <p:cNvPr id="486"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488"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3" name="Group 1"/>
          <p:cNvGrpSpPr/>
          <p:nvPr/>
        </p:nvGrpSpPr>
        <p:grpSpPr>
          <a:xfrm>
            <a:off x="2610000" y="2119320"/>
            <a:ext cx="4032000" cy="3422520"/>
            <a:chOff x="2610000" y="2119320"/>
            <a:chExt cx="4032000" cy="3422520"/>
          </a:xfrm>
        </p:grpSpPr>
        <p:sp>
          <p:nvSpPr>
            <p:cNvPr id="494" name="AutoShape 8"/>
            <p:cNvSpPr/>
            <p:nvPr/>
          </p:nvSpPr>
          <p:spPr>
            <a:xfrm>
              <a:off x="2610000" y="2119320"/>
              <a:ext cx="4032000" cy="34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7"/>
            <p:cNvSpPr/>
            <p:nvPr/>
          </p:nvSpPr>
          <p:spPr>
            <a:xfrm>
              <a:off x="4754880" y="2119320"/>
              <a:ext cx="149076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差异化、独特性战略</a:t>
              </a:r>
              <a:endParaRPr b="0" lang="en-US" sz="1800" spc="-1" strike="noStrike">
                <a:solidFill>
                  <a:srgbClr val="000000"/>
                </a:solidFill>
                <a:latin typeface="Arial"/>
              </a:endParaRPr>
            </a:p>
          </p:txBody>
        </p:sp>
        <p:sp>
          <p:nvSpPr>
            <p:cNvPr id="496" name="Oval 6"/>
            <p:cNvSpPr/>
            <p:nvPr/>
          </p:nvSpPr>
          <p:spPr>
            <a:xfrm>
              <a:off x="4172040" y="3390480"/>
              <a:ext cx="149112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合作战略</a:t>
              </a:r>
              <a:endParaRPr b="0" lang="en-US" sz="1800" spc="-1" strike="noStrike">
                <a:solidFill>
                  <a:srgbClr val="000000"/>
                </a:solidFill>
                <a:latin typeface="Arial"/>
              </a:endParaRPr>
            </a:p>
          </p:txBody>
        </p:sp>
        <p:sp>
          <p:nvSpPr>
            <p:cNvPr id="497" name="Oval 3"/>
            <p:cNvSpPr/>
            <p:nvPr/>
          </p:nvSpPr>
          <p:spPr>
            <a:xfrm>
              <a:off x="3261960" y="2119320"/>
              <a:ext cx="1492560" cy="1375200"/>
            </a:xfrm>
            <a:prstGeom prst="ellipse">
              <a:avLst/>
            </a:prstGeom>
            <a:solidFill>
              <a:srgbClr val="ffffff"/>
            </a:solidFill>
            <a:ln w="9360">
              <a:solidFill>
                <a:srgbClr val="000000"/>
              </a:solidFill>
              <a:round/>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低成本策略</a:t>
              </a:r>
              <a:endParaRPr b="0" lang="en-US" sz="1800" spc="-1" strike="noStrike">
                <a:solidFill>
                  <a:srgbClr val="000000"/>
                </a:solidFill>
                <a:latin typeface="Arial"/>
              </a:endParaRPr>
            </a:p>
          </p:txBody>
        </p:sp>
      </p:grpSp>
      <p:sp>
        <p:nvSpPr>
          <p:cNvPr id="498"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3 </a:t>
            </a:r>
            <a:r>
              <a:rPr b="0" lang="zh-CN" sz="3200" spc="-1" strike="noStrike">
                <a:solidFill>
                  <a:srgbClr val="c0504d"/>
                </a:solidFill>
                <a:latin typeface="微软雅黑"/>
                <a:ea typeface="微软雅黑"/>
              </a:rPr>
              <a:t>网络经济企业策略</a:t>
            </a:r>
            <a:endParaRPr b="0" lang="en-US" sz="32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CB7B-EE35-4647-9A7B-967E6FF90247}"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500"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01" name="图片 2" descr=""/>
          <p:cNvPicPr/>
          <p:nvPr/>
        </p:nvPicPr>
        <p:blipFill>
          <a:blip r:embed="rId1"/>
          <a:stretch/>
        </p:blipFill>
        <p:spPr>
          <a:xfrm>
            <a:off x="4606920" y="404640"/>
            <a:ext cx="4178160" cy="2679840"/>
          </a:xfrm>
          <a:prstGeom prst="rect">
            <a:avLst/>
          </a:prstGeom>
          <a:ln w="0">
            <a:noFill/>
          </a:ln>
        </p:spPr>
      </p:pic>
      <p:sp>
        <p:nvSpPr>
          <p:cNvPr id="502" name="Rectangle 2"/>
          <p:cNvSpPr/>
          <p:nvPr/>
        </p:nvSpPr>
        <p:spPr>
          <a:xfrm>
            <a:off x="358920" y="3187440"/>
            <a:ext cx="8100720" cy="173988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简述网络经济企业组织结构的变化</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网络经济行业进入壁垒与传统行业有什么不同</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网络经济中，市场主导者开放和控制技术标准的利弊</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简述不同时期，网络经济企业最重要的策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2805-7563-4E69-A743-BE03E96BD74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504" name="Picture 4" descr=""/>
          <p:cNvPicPr/>
          <p:nvPr/>
        </p:nvPicPr>
        <p:blipFill>
          <a:blip r:embed="rId1"/>
          <a:stretch/>
        </p:blipFill>
        <p:spPr>
          <a:xfrm>
            <a:off x="576360" y="836640"/>
            <a:ext cx="4998960" cy="3676680"/>
          </a:xfrm>
          <a:prstGeom prst="rect">
            <a:avLst/>
          </a:prstGeom>
          <a:ln w="0">
            <a:noFill/>
          </a:ln>
        </p:spPr>
      </p:pic>
      <p:sp>
        <p:nvSpPr>
          <p:cNvPr id="505"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2" name="Freeform 62" descr=""/>
          <p:cNvPicPr/>
          <p:nvPr/>
        </p:nvPicPr>
        <p:blipFill>
          <a:blip r:embed="rId1"/>
          <a:stretch/>
        </p:blipFill>
        <p:spPr>
          <a:xfrm>
            <a:off x="1260360" y="3753000"/>
            <a:ext cx="6639120" cy="1028520"/>
          </a:xfrm>
          <a:prstGeom prst="rect">
            <a:avLst/>
          </a:prstGeom>
          <a:ln w="0">
            <a:noFill/>
          </a:ln>
        </p:spPr>
      </p:pic>
      <p:pic>
        <p:nvPicPr>
          <p:cNvPr id="213" name="Freeform 67" descr=""/>
          <p:cNvPicPr/>
          <p:nvPr/>
        </p:nvPicPr>
        <p:blipFill>
          <a:blip r:embed="rId2"/>
          <a:stretch/>
        </p:blipFill>
        <p:spPr>
          <a:xfrm>
            <a:off x="1260360" y="2668680"/>
            <a:ext cx="6634440" cy="992160"/>
          </a:xfrm>
          <a:prstGeom prst="rect">
            <a:avLst/>
          </a:prstGeom>
          <a:ln w="0">
            <a:noFill/>
          </a:ln>
        </p:spPr>
      </p:pic>
      <p:pic>
        <p:nvPicPr>
          <p:cNvPr id="214" name="Freeform 70" descr=""/>
          <p:cNvPicPr/>
          <p:nvPr/>
        </p:nvPicPr>
        <p:blipFill>
          <a:blip r:embed="rId3"/>
          <a:stretch/>
        </p:blipFill>
        <p:spPr>
          <a:xfrm>
            <a:off x="1263600" y="1697040"/>
            <a:ext cx="6632640" cy="925560"/>
          </a:xfrm>
          <a:prstGeom prst="rect">
            <a:avLst/>
          </a:prstGeom>
          <a:ln w="0">
            <a:noFill/>
          </a:ln>
        </p:spPr>
      </p:pic>
      <p:sp>
        <p:nvSpPr>
          <p:cNvPr id="215"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经济下不同企业的标准战略  </a:t>
            </a:r>
            <a:endParaRPr b="0" lang="en-US" sz="2000" spc="-1" strike="noStrike">
              <a:solidFill>
                <a:srgbClr val="000000"/>
              </a:solidFill>
              <a:latin typeface="Arial"/>
            </a:endParaRPr>
          </a:p>
        </p:txBody>
      </p:sp>
      <p:sp>
        <p:nvSpPr>
          <p:cNvPr id="216"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进入壁垒的分类，网络经济下进入壁垒的转变</a:t>
            </a:r>
            <a:endParaRPr b="0" lang="en-US" sz="2000" spc="-1" strike="noStrike">
              <a:solidFill>
                <a:srgbClr val="000000"/>
              </a:solidFill>
              <a:latin typeface="Arial"/>
            </a:endParaRPr>
          </a:p>
        </p:txBody>
      </p:sp>
      <p:sp>
        <p:nvSpPr>
          <p:cNvPr id="217" name="Rectangle 21"/>
          <p:cNvSpPr/>
          <p:nvPr/>
        </p:nvSpPr>
        <p:spPr>
          <a:xfrm>
            <a:off x="1976400" y="193140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下企业组织方式的改变</a:t>
            </a:r>
            <a:endParaRPr b="0" lang="en-US" sz="2000" spc="-1" strike="noStrike">
              <a:solidFill>
                <a:srgbClr val="000000"/>
              </a:solidFill>
              <a:latin typeface="Arial"/>
            </a:endParaRPr>
          </a:p>
        </p:txBody>
      </p:sp>
      <p:pic>
        <p:nvPicPr>
          <p:cNvPr id="218" name="圆角矩形 21" descr=""/>
          <p:cNvPicPr/>
          <p:nvPr/>
        </p:nvPicPr>
        <p:blipFill>
          <a:blip r:embed="rId4"/>
          <a:stretch/>
        </p:blipFill>
        <p:spPr>
          <a:xfrm>
            <a:off x="1325520" y="1940040"/>
            <a:ext cx="405000" cy="479160"/>
          </a:xfrm>
          <a:prstGeom prst="rect">
            <a:avLst/>
          </a:prstGeom>
          <a:ln w="0">
            <a:noFill/>
          </a:ln>
        </p:spPr>
      </p:pic>
      <p:pic>
        <p:nvPicPr>
          <p:cNvPr id="219" name="圆角矩形 26" descr=""/>
          <p:cNvPicPr/>
          <p:nvPr/>
        </p:nvPicPr>
        <p:blipFill>
          <a:blip r:embed="rId5"/>
          <a:stretch/>
        </p:blipFill>
        <p:spPr>
          <a:xfrm>
            <a:off x="1387440" y="2989440"/>
            <a:ext cx="405000" cy="479160"/>
          </a:xfrm>
          <a:prstGeom prst="rect">
            <a:avLst/>
          </a:prstGeom>
          <a:ln w="0">
            <a:noFill/>
          </a:ln>
        </p:spPr>
      </p:pic>
      <p:pic>
        <p:nvPicPr>
          <p:cNvPr id="220" name="圆角矩形 21" descr=""/>
          <p:cNvPicPr/>
          <p:nvPr/>
        </p:nvPicPr>
        <p:blipFill>
          <a:blip r:embed="rId6"/>
          <a:stretch/>
        </p:blipFill>
        <p:spPr>
          <a:xfrm>
            <a:off x="1380960" y="4098960"/>
            <a:ext cx="405000" cy="479520"/>
          </a:xfrm>
          <a:prstGeom prst="rect">
            <a:avLst/>
          </a:prstGeom>
          <a:ln w="0">
            <a:noFill/>
          </a:ln>
        </p:spPr>
      </p:pic>
      <p:pic>
        <p:nvPicPr>
          <p:cNvPr id="221" name="Freeform 70" descr=""/>
          <p:cNvPicPr/>
          <p:nvPr/>
        </p:nvPicPr>
        <p:blipFill>
          <a:blip r:embed="rId7"/>
          <a:stretch/>
        </p:blipFill>
        <p:spPr>
          <a:xfrm>
            <a:off x="1260360" y="4829040"/>
            <a:ext cx="6632640" cy="924120"/>
          </a:xfrm>
          <a:prstGeom prst="rect">
            <a:avLst/>
          </a:prstGeom>
          <a:ln w="0">
            <a:noFill/>
          </a:ln>
        </p:spPr>
      </p:pic>
      <p:sp>
        <p:nvSpPr>
          <p:cNvPr id="222" name="Rectangle 21"/>
          <p:cNvSpPr/>
          <p:nvPr/>
        </p:nvSpPr>
        <p:spPr>
          <a:xfrm>
            <a:off x="2084400" y="511920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网络经济企业不同时期的竞争策略及价格策略</a:t>
            </a:r>
            <a:endParaRPr b="0" lang="en-US" sz="2000" spc="-1" strike="noStrike">
              <a:solidFill>
                <a:srgbClr val="000000"/>
              </a:solidFill>
              <a:latin typeface="Arial"/>
            </a:endParaRPr>
          </a:p>
        </p:txBody>
      </p:sp>
      <p:pic>
        <p:nvPicPr>
          <p:cNvPr id="223" name="圆角矩形 26" descr=""/>
          <p:cNvPicPr/>
          <p:nvPr/>
        </p:nvPicPr>
        <p:blipFill>
          <a:blip r:embed="rId8"/>
          <a:stretch/>
        </p:blipFill>
        <p:spPr>
          <a:xfrm>
            <a:off x="1384200" y="5025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6F49-70DA-4B53-B933-592B300CD18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26" name="组合 127"/>
          <p:cNvGrpSpPr/>
          <p:nvPr/>
        </p:nvGrpSpPr>
        <p:grpSpPr>
          <a:xfrm>
            <a:off x="250920" y="324000"/>
            <a:ext cx="264960" cy="417240"/>
            <a:chOff x="250920" y="324000"/>
            <a:chExt cx="264960" cy="417240"/>
          </a:xfrm>
        </p:grpSpPr>
        <p:sp>
          <p:nvSpPr>
            <p:cNvPr id="2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企业组织理论</a:t>
            </a:r>
            <a:endParaRPr b="0" lang="en-US" sz="1800" spc="-1" strike="noStrike">
              <a:solidFill>
                <a:srgbClr val="000000"/>
              </a:solidFill>
              <a:latin typeface="Arial"/>
            </a:endParaRPr>
          </a:p>
        </p:txBody>
      </p:sp>
      <p:pic>
        <p:nvPicPr>
          <p:cNvPr id="231" name="椭圆 27" descr=""/>
          <p:cNvPicPr/>
          <p:nvPr/>
        </p:nvPicPr>
        <p:blipFill>
          <a:blip r:embed="rId1"/>
          <a:stretch/>
        </p:blipFill>
        <p:spPr>
          <a:xfrm>
            <a:off x="2098800" y="2036880"/>
            <a:ext cx="587160" cy="506160"/>
          </a:xfrm>
          <a:prstGeom prst="rect">
            <a:avLst/>
          </a:prstGeom>
          <a:ln w="0">
            <a:noFill/>
          </a:ln>
        </p:spPr>
      </p:pic>
      <p:sp>
        <p:nvSpPr>
          <p:cNvPr id="232"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进入和标准</a:t>
            </a:r>
            <a:endParaRPr b="0" lang="en-US" sz="1800" spc="-1" strike="noStrike">
              <a:solidFill>
                <a:srgbClr val="000000"/>
              </a:solidFill>
              <a:latin typeface="Arial"/>
            </a:endParaRPr>
          </a:p>
        </p:txBody>
      </p:sp>
      <p:pic>
        <p:nvPicPr>
          <p:cNvPr id="233" name="椭圆 51" descr=""/>
          <p:cNvPicPr/>
          <p:nvPr/>
        </p:nvPicPr>
        <p:blipFill>
          <a:blip r:embed="rId2"/>
          <a:stretch/>
        </p:blipFill>
        <p:spPr>
          <a:xfrm>
            <a:off x="2098800" y="2738520"/>
            <a:ext cx="587160" cy="507960"/>
          </a:xfrm>
          <a:prstGeom prst="rect">
            <a:avLst/>
          </a:prstGeom>
          <a:ln w="0">
            <a:noFill/>
          </a:ln>
        </p:spPr>
      </p:pic>
      <p:sp>
        <p:nvSpPr>
          <p:cNvPr id="234"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企业策略</a:t>
            </a:r>
            <a:endParaRPr b="0" lang="en-US" sz="1800" spc="-1" strike="noStrike">
              <a:solidFill>
                <a:srgbClr val="000000"/>
              </a:solidFill>
              <a:latin typeface="Arial"/>
            </a:endParaRPr>
          </a:p>
        </p:txBody>
      </p:sp>
      <p:pic>
        <p:nvPicPr>
          <p:cNvPr id="235"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3002-B19B-41D6-BE71-F2421CAFF42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37" name="Group 128"/>
          <p:cNvGrpSpPr/>
          <p:nvPr/>
        </p:nvGrpSpPr>
        <p:grpSpPr>
          <a:xfrm>
            <a:off x="7704000" y="2349360"/>
            <a:ext cx="648000" cy="453960"/>
            <a:chOff x="7704000" y="2349360"/>
            <a:chExt cx="648000" cy="453960"/>
          </a:xfrm>
        </p:grpSpPr>
        <p:sp>
          <p:nvSpPr>
            <p:cNvPr id="2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10"/>
          <p:cNvGrpSpPr/>
          <p:nvPr/>
        </p:nvGrpSpPr>
        <p:grpSpPr>
          <a:xfrm>
            <a:off x="1871640" y="1387440"/>
            <a:ext cx="4537080" cy="647640"/>
            <a:chOff x="1871640" y="1387440"/>
            <a:chExt cx="4537080" cy="647640"/>
          </a:xfrm>
        </p:grpSpPr>
        <p:sp>
          <p:nvSpPr>
            <p:cNvPr id="241" name="TextBox 11"/>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一般企业组织理论</a:t>
              </a:r>
              <a:endParaRPr b="0" lang="en-US" sz="1800" spc="-1" strike="noStrike">
                <a:solidFill>
                  <a:srgbClr val="000000"/>
                </a:solidFill>
                <a:latin typeface="Arial"/>
              </a:endParaRPr>
            </a:p>
          </p:txBody>
        </p:sp>
        <p:sp>
          <p:nvSpPr>
            <p:cNvPr id="242" name="直接连接符 12"/>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流程图: 联系 13"/>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44" name="直接连接符 14"/>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组合 15"/>
          <p:cNvGrpSpPr/>
          <p:nvPr/>
        </p:nvGrpSpPr>
        <p:grpSpPr>
          <a:xfrm>
            <a:off x="1871640" y="2241720"/>
            <a:ext cx="4537080" cy="647640"/>
            <a:chOff x="1871640" y="2241720"/>
            <a:chExt cx="4537080" cy="647640"/>
          </a:xfrm>
        </p:grpSpPr>
        <p:sp>
          <p:nvSpPr>
            <p:cNvPr id="246" name="TextBox 16"/>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介于企业与市场之间的第三种组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虚拟企业</a:t>
              </a:r>
              <a:endParaRPr b="0" lang="en-US" sz="1800" spc="-1" strike="noStrike">
                <a:solidFill>
                  <a:srgbClr val="000000"/>
                </a:solidFill>
                <a:latin typeface="Arial"/>
              </a:endParaRPr>
            </a:p>
          </p:txBody>
        </p:sp>
        <p:sp>
          <p:nvSpPr>
            <p:cNvPr id="247" name="直接连接符 17"/>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流程图: 联系 18"/>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49" name="直接连接符 19"/>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1" lang="zh-CN" sz="2900" spc="-1" strike="noStrike">
                <a:solidFill>
                  <a:srgbClr val="c0504d"/>
                </a:solidFill>
                <a:latin typeface="微软雅黑"/>
                <a:ea typeface="微软雅黑"/>
              </a:rPr>
              <a:t>企业组织理论</a:t>
            </a:r>
            <a:endParaRPr b="0" lang="en-US" sz="2900" spc="-1" strike="noStrike">
              <a:solidFill>
                <a:srgbClr val="000000"/>
              </a:solidFill>
              <a:latin typeface="Calibri"/>
            </a:endParaRPr>
          </a:p>
        </p:txBody>
      </p:sp>
      <p:grpSp>
        <p:nvGrpSpPr>
          <p:cNvPr id="254" name="组合 127"/>
          <p:cNvGrpSpPr/>
          <p:nvPr/>
        </p:nvGrpSpPr>
        <p:grpSpPr>
          <a:xfrm>
            <a:off x="250920" y="324000"/>
            <a:ext cx="264960" cy="417240"/>
            <a:chOff x="250920" y="324000"/>
            <a:chExt cx="264960" cy="417240"/>
          </a:xfrm>
        </p:grpSpPr>
        <p:sp>
          <p:nvSpPr>
            <p:cNvPr id="2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TextBox 25"/>
          <p:cNvSpPr/>
          <p:nvPr/>
        </p:nvSpPr>
        <p:spPr>
          <a:xfrm>
            <a:off x="2036880" y="3114720"/>
            <a:ext cx="437184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下的非一体化趋势</a:t>
            </a:r>
            <a:endParaRPr b="0" lang="en-US" sz="1800" spc="-1" strike="noStrike">
              <a:solidFill>
                <a:srgbClr val="000000"/>
              </a:solidFill>
              <a:latin typeface="Arial"/>
            </a:endParaRPr>
          </a:p>
        </p:txBody>
      </p:sp>
      <p:sp>
        <p:nvSpPr>
          <p:cNvPr id="259" name="直接连接符 26"/>
          <p:cNvSpPr/>
          <p:nvPr/>
        </p:nvSpPr>
        <p:spPr>
          <a:xfrm>
            <a:off x="2049480" y="344340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27"/>
          <p:cNvSpPr/>
          <p:nvPr/>
        </p:nvSpPr>
        <p:spPr>
          <a:xfrm>
            <a:off x="1871640" y="3429000"/>
            <a:ext cx="331920" cy="128520"/>
          </a:xfrm>
          <a:prstGeom prst="flowChartConnector">
            <a:avLst/>
          </a:prstGeom>
          <a:solidFill>
            <a:srgbClr val="b3a2c7"/>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261" name="直接连接符 28"/>
          <p:cNvSpPr/>
          <p:nvPr/>
        </p:nvSpPr>
        <p:spPr>
          <a:xfrm>
            <a:off x="2060640" y="37530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28"/>
          <p:cNvGrpSpPr/>
          <p:nvPr/>
        </p:nvGrpSpPr>
        <p:grpSpPr>
          <a:xfrm>
            <a:off x="7704000" y="2349360"/>
            <a:ext cx="648000" cy="453960"/>
            <a:chOff x="7704000" y="2349360"/>
            <a:chExt cx="648000" cy="453960"/>
          </a:xfrm>
        </p:grpSpPr>
        <p:sp>
          <p:nvSpPr>
            <p:cNvPr id="26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组合 10"/>
          <p:cNvGrpSpPr/>
          <p:nvPr/>
        </p:nvGrpSpPr>
        <p:grpSpPr>
          <a:xfrm>
            <a:off x="1224000" y="944640"/>
            <a:ext cx="7128000" cy="647640"/>
            <a:chOff x="1224000" y="944640"/>
            <a:chExt cx="7128000" cy="647640"/>
          </a:xfrm>
        </p:grpSpPr>
        <p:sp>
          <p:nvSpPr>
            <p:cNvPr id="26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一般企业组织理论</a:t>
              </a:r>
              <a:endParaRPr b="0" lang="en-US" sz="1800" spc="-1" strike="noStrike">
                <a:solidFill>
                  <a:srgbClr val="000000"/>
                </a:solidFill>
                <a:latin typeface="Arial"/>
              </a:endParaRPr>
            </a:p>
          </p:txBody>
        </p:sp>
        <p:sp>
          <p:nvSpPr>
            <p:cNvPr id="267"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69"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组合 127"/>
          <p:cNvGrpSpPr/>
          <p:nvPr/>
        </p:nvGrpSpPr>
        <p:grpSpPr>
          <a:xfrm>
            <a:off x="250920" y="324000"/>
            <a:ext cx="264960" cy="417240"/>
            <a:chOff x="250920" y="324000"/>
            <a:chExt cx="264960" cy="417240"/>
          </a:xfrm>
        </p:grpSpPr>
        <p:sp>
          <p:nvSpPr>
            <p:cNvPr id="27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Rectangle 2"/>
          <p:cNvSpPr/>
          <p:nvPr/>
        </p:nvSpPr>
        <p:spPr>
          <a:xfrm>
            <a:off x="684360" y="1809360"/>
            <a:ext cx="7991280" cy="50544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rPr>
              <a:t>科斯的理论</a:t>
            </a:r>
            <a:endParaRPr b="0" lang="en-US" sz="1800" spc="-1" strike="noStrike">
              <a:solidFill>
                <a:srgbClr val="000000"/>
              </a:solidFill>
              <a:latin typeface="Arial"/>
            </a:endParaRPr>
          </a:p>
        </p:txBody>
      </p:sp>
      <p:sp>
        <p:nvSpPr>
          <p:cNvPr id="277"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1</a:t>
            </a:r>
            <a:r>
              <a:rPr b="1" lang="zh-CN" sz="1800" spc="-1" strike="noStrike">
                <a:solidFill>
                  <a:srgbClr val="000000"/>
                </a:solidFill>
                <a:latin typeface="Arial"/>
                <a:ea typeface="宋体"/>
              </a:rPr>
              <a:t>）企业是市场的替代物，替代的原因是因为这种制度安排下交易费用的节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2</a:t>
            </a:r>
            <a:r>
              <a:rPr b="1" lang="zh-CN" sz="1800" spc="-1" strike="noStrike">
                <a:solidFill>
                  <a:srgbClr val="000000"/>
                </a:solidFill>
                <a:latin typeface="Arial"/>
                <a:ea typeface="宋体"/>
              </a:rPr>
              <a:t>）企业本身也存在交易费用，并随着企业内部交易的增加而增加。因此，企业不可能完全替代市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zh-CN" sz="1800" spc="-1" strike="noStrike">
                <a:solidFill>
                  <a:srgbClr val="000000"/>
                </a:solidFill>
                <a:latin typeface="Arial"/>
                <a:ea typeface="宋体"/>
              </a:rPr>
              <a:t>3</a:t>
            </a:r>
            <a:r>
              <a:rPr b="1" lang="zh-CN" sz="1800" spc="-1" strike="noStrike">
                <a:solidFill>
                  <a:srgbClr val="000000"/>
                </a:solidFill>
                <a:latin typeface="Arial"/>
                <a:ea typeface="宋体"/>
              </a:rPr>
              <a:t>）企业是有边界的，这个边界是企业外部交易成本与企业内部交易成本相等的状态。</a:t>
            </a:r>
            <a:endParaRPr b="0" lang="en-US" sz="1800" spc="-1" strike="noStrike">
              <a:solidFill>
                <a:srgbClr val="000000"/>
              </a:solidFill>
              <a:latin typeface="Arial"/>
            </a:endParaRPr>
          </a:p>
        </p:txBody>
      </p:sp>
      <p:sp>
        <p:nvSpPr>
          <p:cNvPr id="279"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26A9-FC98-4F26-B7DA-390B26C9BC5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84" name="Group 128"/>
          <p:cNvGrpSpPr/>
          <p:nvPr/>
        </p:nvGrpSpPr>
        <p:grpSpPr>
          <a:xfrm>
            <a:off x="7704000" y="2349360"/>
            <a:ext cx="648000" cy="453960"/>
            <a:chOff x="7704000" y="2349360"/>
            <a:chExt cx="648000" cy="453960"/>
          </a:xfrm>
        </p:grpSpPr>
        <p:sp>
          <p:nvSpPr>
            <p:cNvPr id="28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组合 127"/>
          <p:cNvGrpSpPr/>
          <p:nvPr/>
        </p:nvGrpSpPr>
        <p:grpSpPr>
          <a:xfrm>
            <a:off x="250920" y="324000"/>
            <a:ext cx="264960" cy="417240"/>
            <a:chOff x="250920" y="324000"/>
            <a:chExt cx="264960" cy="417240"/>
          </a:xfrm>
        </p:grpSpPr>
        <p:sp>
          <p:nvSpPr>
            <p:cNvPr id="29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2"/>
          <p:cNvSpPr/>
          <p:nvPr/>
        </p:nvSpPr>
        <p:spPr>
          <a:xfrm>
            <a:off x="792000" y="2493000"/>
            <a:ext cx="7883640" cy="2597400"/>
          </a:xfrm>
          <a:prstGeom prst="rect">
            <a:avLst/>
          </a:prstGeom>
          <a:solidFill>
            <a:srgbClr val="fdeada">
              <a:alpha val="41000"/>
            </a:srgbClr>
          </a:solidFill>
          <a:ln w="25560">
            <a:solidFill>
              <a:srgbClr val="4f81bd"/>
            </a:solidFill>
            <a:round/>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虚拟企业（</a:t>
            </a:r>
            <a:r>
              <a:rPr b="0" lang="zh-CN" sz="1800" spc="-1" strike="noStrike">
                <a:solidFill>
                  <a:srgbClr val="000000"/>
                </a:solidFill>
                <a:latin typeface="Arial"/>
              </a:rPr>
              <a:t>Virtual Enterprise</a:t>
            </a:r>
            <a:r>
              <a:rPr b="0" lang="zh-CN" sz="1800" spc="-1" strike="noStrike">
                <a:solidFill>
                  <a:srgbClr val="000000"/>
                </a:solidFill>
                <a:latin typeface="Arial"/>
              </a:rPr>
              <a:t>）是通过计算机网络技术，将实现某种机遇所需的若干企业资源集结而成的一种网络化动态合作经济实体。网络经济下企业组织还具有以下特点：</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柔性化</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扁平化</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虚拟化</a:t>
            </a:r>
            <a:endParaRPr b="0" lang="en-US" sz="1800" spc="-1" strike="noStrike">
              <a:solidFill>
                <a:srgbClr val="000000"/>
              </a:solidFill>
              <a:latin typeface="Arial"/>
            </a:endParaRPr>
          </a:p>
        </p:txBody>
      </p:sp>
      <p:grpSp>
        <p:nvGrpSpPr>
          <p:cNvPr id="295" name="组合 10"/>
          <p:cNvGrpSpPr/>
          <p:nvPr/>
        </p:nvGrpSpPr>
        <p:grpSpPr>
          <a:xfrm>
            <a:off x="1224000" y="944640"/>
            <a:ext cx="7128000" cy="647640"/>
            <a:chOff x="1224000" y="944640"/>
            <a:chExt cx="7128000" cy="647640"/>
          </a:xfrm>
        </p:grpSpPr>
        <p:sp>
          <p:nvSpPr>
            <p:cNvPr id="2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介于企业与市场之间的第三种组织——虚拟企业</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297" name="直接连接符 23"/>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99" name="直接连接符 25"/>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8048-0C99-494A-8196-200FFD6BF2E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02" name="Group 128"/>
          <p:cNvGrpSpPr/>
          <p:nvPr/>
        </p:nvGrpSpPr>
        <p:grpSpPr>
          <a:xfrm>
            <a:off x="7704000" y="2349360"/>
            <a:ext cx="648000" cy="210960"/>
            <a:chOff x="7704000" y="2349360"/>
            <a:chExt cx="648000" cy="210960"/>
          </a:xfrm>
        </p:grpSpPr>
        <p:sp>
          <p:nvSpPr>
            <p:cNvPr id="303"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AutoShape 26"/>
          <p:cNvSpPr/>
          <p:nvPr/>
        </p:nvSpPr>
        <p:spPr>
          <a:xfrm>
            <a:off x="1224000" y="4076640"/>
            <a:ext cx="360360" cy="144360"/>
          </a:xfrm>
          <a:prstGeom prst="hexagon">
            <a:avLst>
              <a:gd name="adj" fmla="val 28973"/>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127"/>
          <p:cNvGrpSpPr/>
          <p:nvPr/>
        </p:nvGrpSpPr>
        <p:grpSpPr>
          <a:xfrm>
            <a:off x="250920" y="324000"/>
            <a:ext cx="264960" cy="417240"/>
            <a:chOff x="250920" y="324000"/>
            <a:chExt cx="264960" cy="417240"/>
          </a:xfrm>
        </p:grpSpPr>
        <p:sp>
          <p:nvSpPr>
            <p:cNvPr id="30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组合 10"/>
          <p:cNvGrpSpPr/>
          <p:nvPr/>
        </p:nvGrpSpPr>
        <p:grpSpPr>
          <a:xfrm>
            <a:off x="1224000" y="944640"/>
            <a:ext cx="7128000" cy="647640"/>
            <a:chOff x="1224000" y="944640"/>
            <a:chExt cx="7128000" cy="647640"/>
          </a:xfrm>
        </p:grpSpPr>
        <p:sp>
          <p:nvSpPr>
            <p:cNvPr id="31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下的非一体化趋势</a:t>
              </a:r>
              <a:endParaRPr b="0" lang="en-US" sz="1800" spc="-1" strike="noStrike">
                <a:solidFill>
                  <a:srgbClr val="000000"/>
                </a:solidFill>
                <a:latin typeface="Arial"/>
              </a:endParaRPr>
            </a:p>
          </p:txBody>
        </p:sp>
        <p:sp>
          <p:nvSpPr>
            <p:cNvPr id="314"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316"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标题 1"/>
          <p:cNvSpPr/>
          <p:nvPr/>
        </p:nvSpPr>
        <p:spPr>
          <a:xfrm>
            <a:off x="576360" y="297000"/>
            <a:ext cx="3512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6.1</a:t>
            </a:r>
            <a:r>
              <a:rPr b="0" lang="zh-CN" sz="2900" spc="-1" strike="noStrike">
                <a:solidFill>
                  <a:srgbClr val="c0504d"/>
                </a:solidFill>
                <a:latin typeface="微软雅黑"/>
                <a:ea typeface="微软雅黑"/>
              </a:rPr>
              <a:t>企业组织理论</a:t>
            </a:r>
            <a:endParaRPr b="0" lang="en-US" sz="2900" spc="-1" strike="noStrike">
              <a:solidFill>
                <a:srgbClr val="000000"/>
              </a:solidFill>
              <a:latin typeface="Arial"/>
            </a:endParaRPr>
          </a:p>
        </p:txBody>
      </p:sp>
      <p:sp>
        <p:nvSpPr>
          <p:cNvPr id="319" name="文本框 99"/>
          <p:cNvSpPr/>
          <p:nvPr/>
        </p:nvSpPr>
        <p:spPr>
          <a:xfrm>
            <a:off x="515880" y="2494080"/>
            <a:ext cx="782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1</a:t>
            </a:r>
            <a:r>
              <a:rPr b="0" lang="zh-CN" sz="1800" spc="-1" strike="noStrike">
                <a:solidFill>
                  <a:srgbClr val="000000"/>
                </a:solidFill>
                <a:latin typeface="华文宋体"/>
                <a:ea typeface="华文宋体"/>
              </a:rPr>
              <a:t>、定义：一体化是将原来分属于不同企业的生产环节和过程合并到一个企业或企业集团，而非一体化则是将某些环节和过程从企业或企业集团中分离出来，由外部的其他企业来承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2</a:t>
            </a:r>
            <a:r>
              <a:rPr b="0" lang="zh-CN" sz="1800" spc="-1" strike="noStrike">
                <a:solidFill>
                  <a:srgbClr val="000000"/>
                </a:solidFill>
                <a:latin typeface="华文宋体"/>
                <a:ea typeface="华文宋体"/>
              </a:rPr>
              <a:t>、优势：超分工化、超组织管理、超规模经营、超资源配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宋体"/>
                <a:ea typeface="华文宋体"/>
              </a:rPr>
              <a:t>3</a:t>
            </a:r>
            <a:r>
              <a:rPr b="0" lang="zh-CN" sz="1800" spc="-1" strike="noStrike">
                <a:solidFill>
                  <a:srgbClr val="000000"/>
                </a:solidFill>
                <a:latin typeface="华文宋体"/>
                <a:ea typeface="华文宋体"/>
              </a:rPr>
              <a:t>、条件：非一体化的交易成本应小于一体化的交易成本，企业组织形式才更适用于非一体化</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53B7-99C5-4479-BEC0-40B7553E0BE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21" name="Group 128"/>
          <p:cNvGrpSpPr/>
          <p:nvPr/>
        </p:nvGrpSpPr>
        <p:grpSpPr>
          <a:xfrm>
            <a:off x="7704000" y="2349360"/>
            <a:ext cx="648000" cy="453960"/>
            <a:chOff x="7704000" y="2349360"/>
            <a:chExt cx="648000" cy="453960"/>
          </a:xfrm>
        </p:grpSpPr>
        <p:sp>
          <p:nvSpPr>
            <p:cNvPr id="32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组合 10"/>
          <p:cNvGrpSpPr/>
          <p:nvPr/>
        </p:nvGrpSpPr>
        <p:grpSpPr>
          <a:xfrm>
            <a:off x="1871640" y="1386000"/>
            <a:ext cx="4549680" cy="649080"/>
            <a:chOff x="1871640" y="1386000"/>
            <a:chExt cx="4549680" cy="649080"/>
          </a:xfrm>
        </p:grpSpPr>
        <p:sp>
          <p:nvSpPr>
            <p:cNvPr id="325" name="TextBox 11"/>
            <p:cNvSpPr/>
            <p:nvPr/>
          </p:nvSpPr>
          <p:spPr>
            <a:xfrm>
              <a:off x="2049840" y="1386000"/>
              <a:ext cx="4371480" cy="63936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进入壁垒</a:t>
              </a:r>
              <a:endParaRPr b="0" lang="en-US" sz="1800" spc="-1" strike="noStrike">
                <a:solidFill>
                  <a:srgbClr val="000000"/>
                </a:solidFill>
                <a:latin typeface="Arial"/>
              </a:endParaRPr>
            </a:p>
          </p:txBody>
        </p:sp>
        <p:sp>
          <p:nvSpPr>
            <p:cNvPr id="326" name="直接连接符 12"/>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流程图: 联系 13"/>
            <p:cNvSpPr/>
            <p:nvPr/>
          </p:nvSpPr>
          <p:spPr>
            <a:xfrm>
              <a:off x="1871640" y="170208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28" name="直接连接符 14"/>
            <p:cNvSpPr/>
            <p:nvPr/>
          </p:nvSpPr>
          <p:spPr>
            <a:xfrm>
              <a:off x="2060280" y="2025720"/>
              <a:ext cx="63144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组合 15"/>
          <p:cNvGrpSpPr/>
          <p:nvPr/>
        </p:nvGrpSpPr>
        <p:grpSpPr>
          <a:xfrm>
            <a:off x="1871640" y="2241720"/>
            <a:ext cx="4537080" cy="647640"/>
            <a:chOff x="1871640" y="2241720"/>
            <a:chExt cx="4537080" cy="647640"/>
          </a:xfrm>
        </p:grpSpPr>
        <p:sp>
          <p:nvSpPr>
            <p:cNvPr id="330" name="TextBox 16"/>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标准竞争</a:t>
              </a:r>
              <a:endParaRPr b="0" lang="en-US" sz="1800" spc="-1" strike="noStrike">
                <a:solidFill>
                  <a:srgbClr val="000000"/>
                </a:solidFill>
                <a:latin typeface="Arial"/>
              </a:endParaRPr>
            </a:p>
          </p:txBody>
        </p:sp>
        <p:sp>
          <p:nvSpPr>
            <p:cNvPr id="331" name="直接连接符 17"/>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流程图: 联系 18"/>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33" name="直接连接符 19"/>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1" lang="zh-CN" sz="3200" spc="-1" strike="noStrike">
                <a:solidFill>
                  <a:srgbClr val="c0504d"/>
                </a:solidFill>
                <a:latin typeface="微软雅黑"/>
                <a:ea typeface="微软雅黑"/>
              </a:rPr>
              <a:t>进入和标准</a:t>
            </a:r>
            <a:endParaRPr b="0" lang="en-US" sz="3200" spc="-1" strike="noStrike">
              <a:solidFill>
                <a:srgbClr val="000000"/>
              </a:solidFill>
              <a:latin typeface="Calibri"/>
            </a:endParaRPr>
          </a:p>
        </p:txBody>
      </p:sp>
      <p:grpSp>
        <p:nvGrpSpPr>
          <p:cNvPr id="337" name="组合 127"/>
          <p:cNvGrpSpPr/>
          <p:nvPr/>
        </p:nvGrpSpPr>
        <p:grpSpPr>
          <a:xfrm>
            <a:off x="250920" y="324000"/>
            <a:ext cx="264960" cy="417240"/>
            <a:chOff x="250920" y="324000"/>
            <a:chExt cx="264960" cy="417240"/>
          </a:xfrm>
        </p:grpSpPr>
        <p:sp>
          <p:nvSpPr>
            <p:cNvPr id="33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DA8A-64C5-4782-82ED-9922DE8311D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42" name="Group 128"/>
          <p:cNvGrpSpPr/>
          <p:nvPr/>
        </p:nvGrpSpPr>
        <p:grpSpPr>
          <a:xfrm>
            <a:off x="6762600" y="2451240"/>
            <a:ext cx="648000" cy="453960"/>
            <a:chOff x="6762600" y="2451240"/>
            <a:chExt cx="648000" cy="453960"/>
          </a:xfrm>
        </p:grpSpPr>
        <p:sp>
          <p:nvSpPr>
            <p:cNvPr id="343"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27"/>
          <p:cNvGrpSpPr/>
          <p:nvPr/>
        </p:nvGrpSpPr>
        <p:grpSpPr>
          <a:xfrm>
            <a:off x="250920" y="324000"/>
            <a:ext cx="264960" cy="417240"/>
            <a:chOff x="250920" y="324000"/>
            <a:chExt cx="264960" cy="417240"/>
          </a:xfrm>
        </p:grpSpPr>
        <p:sp>
          <p:nvSpPr>
            <p:cNvPr id="34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组合 10"/>
          <p:cNvGrpSpPr/>
          <p:nvPr/>
        </p:nvGrpSpPr>
        <p:grpSpPr>
          <a:xfrm>
            <a:off x="1224000" y="944640"/>
            <a:ext cx="7128000" cy="647640"/>
            <a:chOff x="1224000" y="944640"/>
            <a:chExt cx="7128000" cy="647640"/>
          </a:xfrm>
        </p:grpSpPr>
        <p:sp>
          <p:nvSpPr>
            <p:cNvPr id="353"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进入壁垒</a:t>
              </a:r>
              <a:endParaRPr b="0" lang="en-US" sz="1800" spc="-1" strike="noStrike">
                <a:solidFill>
                  <a:srgbClr val="000000"/>
                </a:solidFill>
                <a:latin typeface="Arial"/>
              </a:endParaRPr>
            </a:p>
          </p:txBody>
        </p:sp>
        <p:sp>
          <p:nvSpPr>
            <p:cNvPr id="354"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56"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close/>
                <a:moveTo>
                  <a:pt x="875350" y="1643169"/>
                </a:moveTo>
                <a:lnTo>
                  <a:pt x="893299" y="1644629"/>
                </a:lnTo>
                <a:lnTo>
                  <a:pt x="889341" y="1723945"/>
                </a:lnTo>
                <a:lnTo>
                  <a:pt x="871214" y="1726031"/>
                </a:lnTo>
                <a:close/>
                <a:moveTo>
                  <a:pt x="1029699" y="1636826"/>
                </a:moveTo>
                <a:lnTo>
                  <a:pt x="1040815" y="1722087"/>
                </a:lnTo>
                <a:lnTo>
                  <a:pt x="1022537" y="1721121"/>
                </a:lnTo>
                <a:lnTo>
                  <a:pt x="1011828" y="1638982"/>
                </a:lnTo>
                <a:close/>
                <a:moveTo>
                  <a:pt x="807350" y="1636115"/>
                </a:moveTo>
                <a:lnTo>
                  <a:pt x="822430" y="1638864"/>
                </a:lnTo>
                <a:lnTo>
                  <a:pt x="825110" y="1639083"/>
                </a:lnTo>
                <a:lnTo>
                  <a:pt x="811751" y="1734136"/>
                </a:lnTo>
                <a:lnTo>
                  <a:pt x="792774" y="1739833"/>
                </a:lnTo>
                <a:close/>
                <a:moveTo>
                  <a:pt x="1096827" y="1624033"/>
                </a:moveTo>
                <a:lnTo>
                  <a:pt x="1121385" y="1734155"/>
                </a:lnTo>
                <a:lnTo>
                  <a:pt x="1101928" y="1729603"/>
                </a:lnTo>
                <a:lnTo>
                  <a:pt x="1079265" y="1627978"/>
                </a:lnTo>
                <a:close/>
                <a:moveTo>
                  <a:pt x="740342" y="1622534"/>
                </a:moveTo>
                <a:lnTo>
                  <a:pt x="749046" y="1625484"/>
                </a:lnTo>
                <a:lnTo>
                  <a:pt x="757767" y="1627074"/>
                </a:lnTo>
                <a:lnTo>
                  <a:pt x="726815" y="1759631"/>
                </a:lnTo>
                <a:lnTo>
                  <a:pt x="706937" y="1765598"/>
                </a:lnTo>
                <a:close/>
                <a:moveTo>
                  <a:pt x="1162592" y="1605474"/>
                </a:moveTo>
                <a:lnTo>
                  <a:pt x="1211506" y="1758609"/>
                </a:lnTo>
                <a:lnTo>
                  <a:pt x="1193512" y="1751032"/>
                </a:lnTo>
                <a:lnTo>
                  <a:pt x="1189921" y="1750192"/>
                </a:lnTo>
                <a:lnTo>
                  <a:pt x="1145515" y="1611170"/>
                </a:lnTo>
                <a:close/>
                <a:moveTo>
                  <a:pt x="675637" y="1600604"/>
                </a:moveTo>
                <a:lnTo>
                  <a:pt x="692686" y="1606382"/>
                </a:lnTo>
                <a:lnTo>
                  <a:pt x="641486" y="1761326"/>
                </a:lnTo>
                <a:lnTo>
                  <a:pt x="631383" y="1744623"/>
                </a:lnTo>
                <a:lnTo>
                  <a:pt x="628970" y="1741831"/>
                </a:lnTo>
                <a:close/>
                <a:moveTo>
                  <a:pt x="1225916" y="1579868"/>
                </a:moveTo>
                <a:lnTo>
                  <a:pt x="1279540" y="1707080"/>
                </a:lnTo>
                <a:lnTo>
                  <a:pt x="1266966" y="1723591"/>
                </a:lnTo>
                <a:lnTo>
                  <a:pt x="1209837" y="1588066"/>
                </a:lnTo>
                <a:close/>
                <a:moveTo>
                  <a:pt x="610954" y="1578681"/>
                </a:moveTo>
                <a:lnTo>
                  <a:pt x="628059" y="1584478"/>
                </a:lnTo>
                <a:lnTo>
                  <a:pt x="582951" y="1688574"/>
                </a:lnTo>
                <a:lnTo>
                  <a:pt x="569886" y="1673454"/>
                </a:lnTo>
                <a:close/>
                <a:moveTo>
                  <a:pt x="1286670" y="1548893"/>
                </a:moveTo>
                <a:lnTo>
                  <a:pt x="1333269" y="1636531"/>
                </a:lnTo>
                <a:lnTo>
                  <a:pt x="1321264" y="1652294"/>
                </a:lnTo>
                <a:lnTo>
                  <a:pt x="1270632" y="1557070"/>
                </a:lnTo>
                <a:close/>
                <a:moveTo>
                  <a:pt x="551444" y="1545001"/>
                </a:moveTo>
                <a:lnTo>
                  <a:pt x="567074" y="1553937"/>
                </a:lnTo>
                <a:lnTo>
                  <a:pt x="524862" y="1631452"/>
                </a:lnTo>
                <a:lnTo>
                  <a:pt x="510642" y="1619926"/>
                </a:lnTo>
                <a:close/>
                <a:moveTo>
                  <a:pt x="1346034" y="1515267"/>
                </a:moveTo>
                <a:lnTo>
                  <a:pt x="1390051" y="1582679"/>
                </a:lnTo>
                <a:lnTo>
                  <a:pt x="1376613" y="1595021"/>
                </a:lnTo>
                <a:lnTo>
                  <a:pt x="1331552" y="1526010"/>
                </a:lnTo>
                <a:lnTo>
                  <a:pt x="1333983" y="1524770"/>
                </a:lnTo>
                <a:close/>
                <a:moveTo>
                  <a:pt x="492213" y="1511140"/>
                </a:moveTo>
                <a:lnTo>
                  <a:pt x="507877" y="1520095"/>
                </a:lnTo>
                <a:lnTo>
                  <a:pt x="465615" y="1583429"/>
                </a:lnTo>
                <a:lnTo>
                  <a:pt x="452723" y="1572979"/>
                </a:lnTo>
                <a:lnTo>
                  <a:pt x="451434" y="1572252"/>
                </a:lnTo>
                <a:close/>
                <a:moveTo>
                  <a:pt x="1399641" y="1472989"/>
                </a:moveTo>
                <a:lnTo>
                  <a:pt x="1447523" y="1533649"/>
                </a:lnTo>
                <a:lnTo>
                  <a:pt x="1433600" y="1542681"/>
                </a:lnTo>
                <a:lnTo>
                  <a:pt x="1432510" y="1543682"/>
                </a:lnTo>
                <a:lnTo>
                  <a:pt x="1385507" y="1484135"/>
                </a:lnTo>
                <a:close/>
                <a:moveTo>
                  <a:pt x="439084" y="1468240"/>
                </a:moveTo>
                <a:lnTo>
                  <a:pt x="452737" y="1479985"/>
                </a:lnTo>
                <a:lnTo>
                  <a:pt x="401226" y="1543921"/>
                </a:lnTo>
                <a:lnTo>
                  <a:pt x="385335" y="1534955"/>
                </a:lnTo>
                <a:close/>
                <a:moveTo>
                  <a:pt x="1452700" y="1430017"/>
                </a:moveTo>
                <a:lnTo>
                  <a:pt x="1511505" y="1492141"/>
                </a:lnTo>
                <a:lnTo>
                  <a:pt x="1496150" y="1502102"/>
                </a:lnTo>
                <a:lnTo>
                  <a:pt x="1439119" y="1441854"/>
                </a:lnTo>
                <a:lnTo>
                  <a:pt x="1449687" y="1433519"/>
                </a:lnTo>
                <a:close/>
                <a:moveTo>
                  <a:pt x="387391" y="1423768"/>
                </a:moveTo>
                <a:lnTo>
                  <a:pt x="401059" y="1435526"/>
                </a:lnTo>
                <a:lnTo>
                  <a:pt x="332463" y="1506560"/>
                </a:lnTo>
                <a:lnTo>
                  <a:pt x="313761" y="1500014"/>
                </a:lnTo>
                <a:close/>
                <a:moveTo>
                  <a:pt x="1497274" y="1378205"/>
                </a:moveTo>
                <a:lnTo>
                  <a:pt x="1583781" y="1454547"/>
                </a:lnTo>
                <a:lnTo>
                  <a:pt x="1565364" y="1462300"/>
                </a:lnTo>
                <a:lnTo>
                  <a:pt x="1485535" y="1391850"/>
                </a:lnTo>
                <a:close/>
                <a:moveTo>
                  <a:pt x="342078" y="1372754"/>
                </a:moveTo>
                <a:lnTo>
                  <a:pt x="353236" y="1386902"/>
                </a:lnTo>
                <a:lnTo>
                  <a:pt x="248764" y="1477262"/>
                </a:lnTo>
                <a:lnTo>
                  <a:pt x="229175" y="1470405"/>
                </a:lnTo>
                <a:close/>
                <a:moveTo>
                  <a:pt x="1541797" y="1326453"/>
                </a:moveTo>
                <a:lnTo>
                  <a:pt x="1671063" y="1421359"/>
                </a:lnTo>
                <a:lnTo>
                  <a:pt x="1652052" y="1425806"/>
                </a:lnTo>
                <a:lnTo>
                  <a:pt x="1648653" y="1427237"/>
                </a:lnTo>
                <a:lnTo>
                  <a:pt x="1530022" y="1340139"/>
                </a:lnTo>
                <a:close/>
                <a:moveTo>
                  <a:pt x="299862" y="1319225"/>
                </a:moveTo>
                <a:lnTo>
                  <a:pt x="311019" y="1333372"/>
                </a:lnTo>
                <a:lnTo>
                  <a:pt x="178732" y="1428480"/>
                </a:lnTo>
                <a:lnTo>
                  <a:pt x="180377" y="1409027"/>
                </a:lnTo>
                <a:lnTo>
                  <a:pt x="180067" y="1405352"/>
                </a:lnTo>
                <a:close/>
                <a:moveTo>
                  <a:pt x="1576542" y="1267609"/>
                </a:moveTo>
                <a:lnTo>
                  <a:pt x="1695816" y="1339681"/>
                </a:lnTo>
                <a:lnTo>
                  <a:pt x="1695348" y="1360430"/>
                </a:lnTo>
                <a:lnTo>
                  <a:pt x="1567606" y="1283241"/>
                </a:lnTo>
                <a:close/>
                <a:moveTo>
                  <a:pt x="263531" y="1261503"/>
                </a:moveTo>
                <a:lnTo>
                  <a:pt x="271723" y="1277570"/>
                </a:lnTo>
                <a:lnTo>
                  <a:pt x="174140" y="1335215"/>
                </a:lnTo>
                <a:lnTo>
                  <a:pt x="172457" y="1315303"/>
                </a:lnTo>
                <a:close/>
                <a:moveTo>
                  <a:pt x="1610398" y="1208387"/>
                </a:moveTo>
                <a:lnTo>
                  <a:pt x="1697816" y="1251024"/>
                </a:lnTo>
                <a:lnTo>
                  <a:pt x="1697369" y="1270832"/>
                </a:lnTo>
                <a:lnTo>
                  <a:pt x="1601446" y="1224047"/>
                </a:lnTo>
                <a:close/>
                <a:moveTo>
                  <a:pt x="232566" y="1200770"/>
                </a:moveTo>
                <a:lnTo>
                  <a:pt x="240745" y="1216812"/>
                </a:lnTo>
                <a:lnTo>
                  <a:pt x="160720" y="1254859"/>
                </a:lnTo>
                <a:lnTo>
                  <a:pt x="155991" y="1237178"/>
                </a:lnTo>
                <a:close/>
                <a:moveTo>
                  <a:pt x="1634958" y="1144690"/>
                </a:moveTo>
                <a:lnTo>
                  <a:pt x="1712099" y="1174082"/>
                </a:lnTo>
                <a:lnTo>
                  <a:pt x="1708482" y="1191966"/>
                </a:lnTo>
                <a:lnTo>
                  <a:pt x="1629176" y="1161750"/>
                </a:lnTo>
                <a:close/>
                <a:moveTo>
                  <a:pt x="204756" y="1138431"/>
                </a:moveTo>
                <a:lnTo>
                  <a:pt x="210455" y="1155515"/>
                </a:lnTo>
                <a:lnTo>
                  <a:pt x="141015" y="1181182"/>
                </a:lnTo>
                <a:lnTo>
                  <a:pt x="136727" y="1165150"/>
                </a:lnTo>
                <a:lnTo>
                  <a:pt x="136112" y="1163804"/>
                </a:lnTo>
                <a:close/>
                <a:moveTo>
                  <a:pt x="1656844" y="1080115"/>
                </a:moveTo>
                <a:lnTo>
                  <a:pt x="1729776" y="1100634"/>
                </a:lnTo>
                <a:lnTo>
                  <a:pt x="1723821" y="1116126"/>
                </a:lnTo>
                <a:lnTo>
                  <a:pt x="1723528" y="1117576"/>
                </a:lnTo>
                <a:lnTo>
                  <a:pt x="1651058" y="1097186"/>
                </a:lnTo>
                <a:close/>
                <a:moveTo>
                  <a:pt x="184625" y="1073110"/>
                </a:moveTo>
                <a:lnTo>
                  <a:pt x="188043" y="1088326"/>
                </a:lnTo>
                <a:lnTo>
                  <a:pt x="188810" y="1090624"/>
                </a:lnTo>
                <a:lnTo>
                  <a:pt x="112145" y="1111372"/>
                </a:lnTo>
                <a:lnTo>
                  <a:pt x="104560" y="1094778"/>
                </a:lnTo>
                <a:close/>
                <a:moveTo>
                  <a:pt x="1672722" y="1013691"/>
                </a:moveTo>
                <a:lnTo>
                  <a:pt x="1757141" y="1029446"/>
                </a:lnTo>
                <a:lnTo>
                  <a:pt x="1750574" y="1046531"/>
                </a:lnTo>
                <a:lnTo>
                  <a:pt x="1669493" y="1031399"/>
                </a:lnTo>
                <a:close/>
                <a:moveTo>
                  <a:pt x="170225" y="1006273"/>
                </a:moveTo>
                <a:lnTo>
                  <a:pt x="170936" y="1012170"/>
                </a:lnTo>
                <a:lnTo>
                  <a:pt x="173584" y="1023958"/>
                </a:lnTo>
                <a:lnTo>
                  <a:pt x="78475" y="1040728"/>
                </a:lnTo>
                <a:lnTo>
                  <a:pt x="67193" y="1024440"/>
                </a:lnTo>
                <a:close/>
                <a:moveTo>
                  <a:pt x="1681368" y="945892"/>
                </a:moveTo>
                <a:lnTo>
                  <a:pt x="1793516" y="956550"/>
                </a:lnTo>
                <a:lnTo>
                  <a:pt x="1783173" y="973649"/>
                </a:lnTo>
                <a:lnTo>
                  <a:pt x="1679909" y="963835"/>
                </a:lnTo>
                <a:close/>
                <a:moveTo>
                  <a:pt x="162034" y="938372"/>
                </a:moveTo>
                <a:lnTo>
                  <a:pt x="164191" y="956254"/>
                </a:lnTo>
                <a:lnTo>
                  <a:pt x="27981" y="967828"/>
                </a:lnTo>
                <a:lnTo>
                  <a:pt x="16164" y="950767"/>
                </a:lnTo>
                <a:close/>
                <a:moveTo>
                  <a:pt x="1683923" y="877596"/>
                </a:moveTo>
                <a:lnTo>
                  <a:pt x="1844621" y="878397"/>
                </a:lnTo>
                <a:lnTo>
                  <a:pt x="1831855" y="893168"/>
                </a:lnTo>
                <a:lnTo>
                  <a:pt x="1829946" y="896325"/>
                </a:lnTo>
                <a:lnTo>
                  <a:pt x="1684266" y="895598"/>
                </a:lnTo>
                <a:close/>
                <a:moveTo>
                  <a:pt x="14676" y="869273"/>
                </a:moveTo>
                <a:lnTo>
                  <a:pt x="160356" y="869999"/>
                </a:lnTo>
                <a:lnTo>
                  <a:pt x="160699" y="888001"/>
                </a:lnTo>
                <a:lnTo>
                  <a:pt x="0" y="887200"/>
                </a:lnTo>
                <a:lnTo>
                  <a:pt x="12766" y="872429"/>
                </a:lnTo>
                <a:close/>
                <a:moveTo>
                  <a:pt x="1816638" y="797770"/>
                </a:moveTo>
                <a:lnTo>
                  <a:pt x="1828455" y="814831"/>
                </a:lnTo>
                <a:lnTo>
                  <a:pt x="1682588" y="827227"/>
                </a:lnTo>
                <a:lnTo>
                  <a:pt x="1680430" y="809345"/>
                </a:lnTo>
                <a:close/>
                <a:moveTo>
                  <a:pt x="61447" y="791950"/>
                </a:moveTo>
                <a:lnTo>
                  <a:pt x="164713" y="801763"/>
                </a:lnTo>
                <a:lnTo>
                  <a:pt x="163253" y="819705"/>
                </a:lnTo>
                <a:lnTo>
                  <a:pt x="51105" y="809048"/>
                </a:lnTo>
                <a:close/>
                <a:moveTo>
                  <a:pt x="1766145" y="724870"/>
                </a:moveTo>
                <a:lnTo>
                  <a:pt x="1777427" y="741158"/>
                </a:lnTo>
                <a:lnTo>
                  <a:pt x="1674396" y="759325"/>
                </a:lnTo>
                <a:lnTo>
                  <a:pt x="1673685" y="753429"/>
                </a:lnTo>
                <a:lnTo>
                  <a:pt x="1670588" y="741719"/>
                </a:lnTo>
                <a:close/>
                <a:moveTo>
                  <a:pt x="94047" y="719066"/>
                </a:moveTo>
                <a:lnTo>
                  <a:pt x="175129" y="734198"/>
                </a:lnTo>
                <a:lnTo>
                  <a:pt x="171900" y="751906"/>
                </a:lnTo>
                <a:lnTo>
                  <a:pt x="87480" y="736151"/>
                </a:lnTo>
                <a:close/>
                <a:moveTo>
                  <a:pt x="1732475" y="654227"/>
                </a:moveTo>
                <a:lnTo>
                  <a:pt x="1740061" y="670822"/>
                </a:lnTo>
                <a:lnTo>
                  <a:pt x="1657733" y="693102"/>
                </a:lnTo>
                <a:lnTo>
                  <a:pt x="1653131" y="675699"/>
                </a:lnTo>
                <a:close/>
                <a:moveTo>
                  <a:pt x="121093" y="648021"/>
                </a:moveTo>
                <a:lnTo>
                  <a:pt x="193564" y="668412"/>
                </a:lnTo>
                <a:lnTo>
                  <a:pt x="187778" y="685483"/>
                </a:lnTo>
                <a:lnTo>
                  <a:pt x="114844" y="664963"/>
                </a:lnTo>
                <a:lnTo>
                  <a:pt x="120799" y="649471"/>
                </a:lnTo>
                <a:close/>
                <a:moveTo>
                  <a:pt x="1703605" y="584417"/>
                </a:moveTo>
                <a:lnTo>
                  <a:pt x="1707892" y="600448"/>
                </a:lnTo>
                <a:lnTo>
                  <a:pt x="1708508" y="601796"/>
                </a:lnTo>
                <a:lnTo>
                  <a:pt x="1640259" y="627022"/>
                </a:lnTo>
                <a:lnTo>
                  <a:pt x="1639049" y="622444"/>
                </a:lnTo>
                <a:lnTo>
                  <a:pt x="1633440" y="610352"/>
                </a:lnTo>
                <a:close/>
                <a:moveTo>
                  <a:pt x="136138" y="573632"/>
                </a:moveTo>
                <a:lnTo>
                  <a:pt x="215446" y="603848"/>
                </a:lnTo>
                <a:lnTo>
                  <a:pt x="209665" y="620908"/>
                </a:lnTo>
                <a:lnTo>
                  <a:pt x="132521" y="591516"/>
                </a:lnTo>
                <a:close/>
                <a:moveTo>
                  <a:pt x="1683900" y="510741"/>
                </a:moveTo>
                <a:lnTo>
                  <a:pt x="1688629" y="528423"/>
                </a:lnTo>
                <a:lnTo>
                  <a:pt x="1612275" y="564725"/>
                </a:lnTo>
                <a:lnTo>
                  <a:pt x="1604700" y="548396"/>
                </a:lnTo>
                <a:close/>
                <a:moveTo>
                  <a:pt x="147252" y="494765"/>
                </a:moveTo>
                <a:lnTo>
                  <a:pt x="243177" y="541551"/>
                </a:lnTo>
                <a:lnTo>
                  <a:pt x="234224" y="557210"/>
                </a:lnTo>
                <a:lnTo>
                  <a:pt x="146805" y="514573"/>
                </a:lnTo>
                <a:close/>
                <a:moveTo>
                  <a:pt x="1670480" y="430384"/>
                </a:moveTo>
                <a:lnTo>
                  <a:pt x="1672163" y="450296"/>
                </a:lnTo>
                <a:lnTo>
                  <a:pt x="1583450" y="502701"/>
                </a:lnTo>
                <a:lnTo>
                  <a:pt x="1573155" y="487877"/>
                </a:lnTo>
                <a:close/>
                <a:moveTo>
                  <a:pt x="149273" y="405169"/>
                </a:moveTo>
                <a:lnTo>
                  <a:pt x="277016" y="482359"/>
                </a:lnTo>
                <a:lnTo>
                  <a:pt x="268080" y="497989"/>
                </a:lnTo>
                <a:lnTo>
                  <a:pt x="148805" y="425916"/>
                </a:lnTo>
                <a:close/>
                <a:moveTo>
                  <a:pt x="195968" y="338361"/>
                </a:moveTo>
                <a:lnTo>
                  <a:pt x="314600" y="425459"/>
                </a:lnTo>
                <a:lnTo>
                  <a:pt x="302826" y="439145"/>
                </a:lnTo>
                <a:lnTo>
                  <a:pt x="173559" y="344239"/>
                </a:lnTo>
                <a:lnTo>
                  <a:pt x="192568" y="339792"/>
                </a:lnTo>
                <a:close/>
                <a:moveTo>
                  <a:pt x="1665887" y="337121"/>
                </a:moveTo>
                <a:lnTo>
                  <a:pt x="1664242" y="356571"/>
                </a:lnTo>
                <a:lnTo>
                  <a:pt x="1664553" y="360248"/>
                </a:lnTo>
                <a:lnTo>
                  <a:pt x="1544474" y="446578"/>
                </a:lnTo>
                <a:lnTo>
                  <a:pt x="1534206" y="431793"/>
                </a:lnTo>
                <a:close/>
                <a:moveTo>
                  <a:pt x="279257" y="303297"/>
                </a:moveTo>
                <a:lnTo>
                  <a:pt x="359087" y="373748"/>
                </a:lnTo>
                <a:lnTo>
                  <a:pt x="347347" y="387394"/>
                </a:lnTo>
                <a:lnTo>
                  <a:pt x="260839" y="311051"/>
                </a:lnTo>
                <a:close/>
                <a:moveTo>
                  <a:pt x="1595859" y="288337"/>
                </a:moveTo>
                <a:lnTo>
                  <a:pt x="1615448" y="295194"/>
                </a:lnTo>
                <a:lnTo>
                  <a:pt x="1504459" y="391189"/>
                </a:lnTo>
                <a:lnTo>
                  <a:pt x="1491819" y="378322"/>
                </a:lnTo>
                <a:close/>
                <a:moveTo>
                  <a:pt x="348471" y="263494"/>
                </a:moveTo>
                <a:lnTo>
                  <a:pt x="405504" y="323744"/>
                </a:lnTo>
                <a:lnTo>
                  <a:pt x="394934" y="332080"/>
                </a:lnTo>
                <a:lnTo>
                  <a:pt x="391923" y="335581"/>
                </a:lnTo>
                <a:lnTo>
                  <a:pt x="333116" y="273456"/>
                </a:lnTo>
                <a:close/>
                <a:moveTo>
                  <a:pt x="1512159" y="259039"/>
                </a:moveTo>
                <a:lnTo>
                  <a:pt x="1530860" y="265585"/>
                </a:lnTo>
                <a:lnTo>
                  <a:pt x="1456606" y="342477"/>
                </a:lnTo>
                <a:lnTo>
                  <a:pt x="1443988" y="329632"/>
                </a:lnTo>
                <a:close/>
                <a:moveTo>
                  <a:pt x="412110" y="221916"/>
                </a:moveTo>
                <a:lnTo>
                  <a:pt x="459114" y="281464"/>
                </a:lnTo>
                <a:lnTo>
                  <a:pt x="444980" y="292610"/>
                </a:lnTo>
                <a:lnTo>
                  <a:pt x="397097" y="231949"/>
                </a:lnTo>
                <a:lnTo>
                  <a:pt x="411019" y="222917"/>
                </a:lnTo>
                <a:close/>
                <a:moveTo>
                  <a:pt x="1443396" y="221678"/>
                </a:moveTo>
                <a:lnTo>
                  <a:pt x="1459286" y="230644"/>
                </a:lnTo>
                <a:lnTo>
                  <a:pt x="1406897" y="295670"/>
                </a:lnTo>
                <a:lnTo>
                  <a:pt x="1392300" y="285098"/>
                </a:lnTo>
                <a:close/>
                <a:moveTo>
                  <a:pt x="1379005" y="182170"/>
                </a:moveTo>
                <a:lnTo>
                  <a:pt x="1391896" y="192619"/>
                </a:lnTo>
                <a:lnTo>
                  <a:pt x="1393186" y="193347"/>
                </a:lnTo>
                <a:lnTo>
                  <a:pt x="1351622" y="255636"/>
                </a:lnTo>
                <a:lnTo>
                  <a:pt x="1337034" y="245070"/>
                </a:lnTo>
                <a:close/>
                <a:moveTo>
                  <a:pt x="468008" y="170577"/>
                </a:moveTo>
                <a:lnTo>
                  <a:pt x="513069" y="239589"/>
                </a:lnTo>
                <a:lnTo>
                  <a:pt x="510638" y="240828"/>
                </a:lnTo>
                <a:lnTo>
                  <a:pt x="498586" y="250333"/>
                </a:lnTo>
                <a:lnTo>
                  <a:pt x="454568" y="182920"/>
                </a:lnTo>
                <a:close/>
                <a:moveTo>
                  <a:pt x="1319759" y="134146"/>
                </a:moveTo>
                <a:lnTo>
                  <a:pt x="1333978" y="145672"/>
                </a:lnTo>
                <a:lnTo>
                  <a:pt x="1294036" y="219016"/>
                </a:lnTo>
                <a:lnTo>
                  <a:pt x="1277891" y="211027"/>
                </a:lnTo>
                <a:close/>
                <a:moveTo>
                  <a:pt x="523355" y="113305"/>
                </a:moveTo>
                <a:lnTo>
                  <a:pt x="573987" y="208530"/>
                </a:lnTo>
                <a:lnTo>
                  <a:pt x="557949" y="216707"/>
                </a:lnTo>
                <a:lnTo>
                  <a:pt x="511350" y="129068"/>
                </a:lnTo>
                <a:close/>
                <a:moveTo>
                  <a:pt x="1261668" y="77024"/>
                </a:moveTo>
                <a:lnTo>
                  <a:pt x="1274734" y="92144"/>
                </a:lnTo>
                <a:lnTo>
                  <a:pt x="1232872" y="188750"/>
                </a:lnTo>
                <a:lnTo>
                  <a:pt x="1216718" y="180757"/>
                </a:lnTo>
                <a:close/>
                <a:moveTo>
                  <a:pt x="879964" y="47539"/>
                </a:moveTo>
                <a:lnTo>
                  <a:pt x="896536" y="48415"/>
                </a:lnTo>
                <a:lnTo>
                  <a:pt x="898006" y="48246"/>
                </a:lnTo>
                <a:lnTo>
                  <a:pt x="900930" y="121496"/>
                </a:lnTo>
                <a:lnTo>
                  <a:pt x="882930" y="121839"/>
                </a:lnTo>
                <a:close/>
                <a:moveTo>
                  <a:pt x="803804" y="43511"/>
                </a:moveTo>
                <a:lnTo>
                  <a:pt x="822082" y="44478"/>
                </a:lnTo>
                <a:lnTo>
                  <a:pt x="832792" y="126618"/>
                </a:lnTo>
                <a:lnTo>
                  <a:pt x="814920" y="128774"/>
                </a:lnTo>
                <a:close/>
                <a:moveTo>
                  <a:pt x="577653" y="42008"/>
                </a:moveTo>
                <a:lnTo>
                  <a:pt x="634782" y="177534"/>
                </a:lnTo>
                <a:lnTo>
                  <a:pt x="618704" y="185731"/>
                </a:lnTo>
                <a:lnTo>
                  <a:pt x="565079" y="58518"/>
                </a:lnTo>
                <a:close/>
                <a:moveTo>
                  <a:pt x="973404" y="39567"/>
                </a:moveTo>
                <a:lnTo>
                  <a:pt x="969228" y="123258"/>
                </a:lnTo>
                <a:lnTo>
                  <a:pt x="951312" y="121130"/>
                </a:lnTo>
                <a:lnTo>
                  <a:pt x="955278" y="41654"/>
                </a:lnTo>
                <a:close/>
                <a:moveTo>
                  <a:pt x="723233" y="31443"/>
                </a:moveTo>
                <a:lnTo>
                  <a:pt x="742691" y="35995"/>
                </a:lnTo>
                <a:lnTo>
                  <a:pt x="765354" y="137622"/>
                </a:lnTo>
                <a:lnTo>
                  <a:pt x="747791" y="141567"/>
                </a:lnTo>
                <a:close/>
                <a:moveTo>
                  <a:pt x="1051847" y="25765"/>
                </a:moveTo>
                <a:lnTo>
                  <a:pt x="1037014" y="131308"/>
                </a:lnTo>
                <a:lnTo>
                  <a:pt x="1019135" y="129184"/>
                </a:lnTo>
                <a:lnTo>
                  <a:pt x="1032869" y="31462"/>
                </a:lnTo>
                <a:close/>
                <a:moveTo>
                  <a:pt x="633115" y="6990"/>
                </a:moveTo>
                <a:lnTo>
                  <a:pt x="651107" y="14566"/>
                </a:lnTo>
                <a:lnTo>
                  <a:pt x="654699" y="15406"/>
                </a:lnTo>
                <a:lnTo>
                  <a:pt x="699105" y="154429"/>
                </a:lnTo>
                <a:lnTo>
                  <a:pt x="682029" y="160125"/>
                </a:lnTo>
                <a:close/>
                <a:moveTo>
                  <a:pt x="1203134" y="4273"/>
                </a:moveTo>
                <a:lnTo>
                  <a:pt x="1213236" y="20976"/>
                </a:lnTo>
                <a:lnTo>
                  <a:pt x="1215649" y="23769"/>
                </a:lnTo>
                <a:lnTo>
                  <a:pt x="1169442" y="163605"/>
                </a:lnTo>
                <a:lnTo>
                  <a:pt x="1152188" y="158449"/>
                </a:lnTo>
                <a:close/>
                <a:moveTo>
                  <a:pt x="1137683" y="0"/>
                </a:moveTo>
                <a:lnTo>
                  <a:pt x="1104046" y="144062"/>
                </a:lnTo>
                <a:lnTo>
                  <a:pt x="1086767" y="138898"/>
                </a:lnTo>
                <a:lnTo>
                  <a:pt x="1117806" y="5966"/>
                </a:lnTo>
                <a:close/>
              </a:path>
            </a:pathLst>
          </a:cu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结构性进入壁垒</a:t>
            </a:r>
            <a:endParaRPr b="0" lang="en-US" sz="1800" spc="-1" strike="noStrike">
              <a:solidFill>
                <a:srgbClr val="000000"/>
              </a:solidFill>
              <a:latin typeface="Arial"/>
            </a:endParaRPr>
          </a:p>
        </p:txBody>
      </p:sp>
      <p:sp>
        <p:nvSpPr>
          <p:cNvPr id="364"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01</a:t>
            </a:r>
            <a:endParaRPr b="0" lang="en-US" sz="2400" spc="-1" strike="noStrike">
              <a:solidFill>
                <a:srgbClr val="000000"/>
              </a:solidFill>
              <a:latin typeface="Arial"/>
            </a:endParaRPr>
          </a:p>
        </p:txBody>
      </p:sp>
      <p:sp>
        <p:nvSpPr>
          <p:cNvPr id="365"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close/>
                <a:moveTo>
                  <a:pt x="875350" y="1643169"/>
                </a:moveTo>
                <a:lnTo>
                  <a:pt x="893299" y="1644629"/>
                </a:lnTo>
                <a:lnTo>
                  <a:pt x="889341" y="1723945"/>
                </a:lnTo>
                <a:lnTo>
                  <a:pt x="871214" y="1726031"/>
                </a:lnTo>
                <a:close/>
                <a:moveTo>
                  <a:pt x="1029699" y="1636826"/>
                </a:moveTo>
                <a:lnTo>
                  <a:pt x="1040815" y="1722087"/>
                </a:lnTo>
                <a:lnTo>
                  <a:pt x="1022537" y="1721121"/>
                </a:lnTo>
                <a:lnTo>
                  <a:pt x="1011828" y="1638982"/>
                </a:lnTo>
                <a:close/>
                <a:moveTo>
                  <a:pt x="807350" y="1636115"/>
                </a:moveTo>
                <a:lnTo>
                  <a:pt x="822430" y="1638864"/>
                </a:lnTo>
                <a:lnTo>
                  <a:pt x="825110" y="1639083"/>
                </a:lnTo>
                <a:lnTo>
                  <a:pt x="811751" y="1734136"/>
                </a:lnTo>
                <a:lnTo>
                  <a:pt x="792774" y="1739833"/>
                </a:lnTo>
                <a:close/>
                <a:moveTo>
                  <a:pt x="1096827" y="1624033"/>
                </a:moveTo>
                <a:lnTo>
                  <a:pt x="1121385" y="1734155"/>
                </a:lnTo>
                <a:lnTo>
                  <a:pt x="1101928" y="1729603"/>
                </a:lnTo>
                <a:lnTo>
                  <a:pt x="1079265" y="1627978"/>
                </a:lnTo>
                <a:close/>
                <a:moveTo>
                  <a:pt x="740342" y="1622534"/>
                </a:moveTo>
                <a:lnTo>
                  <a:pt x="749046" y="1625484"/>
                </a:lnTo>
                <a:lnTo>
                  <a:pt x="757767" y="1627074"/>
                </a:lnTo>
                <a:lnTo>
                  <a:pt x="726815" y="1759631"/>
                </a:lnTo>
                <a:lnTo>
                  <a:pt x="706937" y="1765598"/>
                </a:lnTo>
                <a:close/>
                <a:moveTo>
                  <a:pt x="1162592" y="1605474"/>
                </a:moveTo>
                <a:lnTo>
                  <a:pt x="1211506" y="1758609"/>
                </a:lnTo>
                <a:lnTo>
                  <a:pt x="1193512" y="1751032"/>
                </a:lnTo>
                <a:lnTo>
                  <a:pt x="1189921" y="1750192"/>
                </a:lnTo>
                <a:lnTo>
                  <a:pt x="1145515" y="1611170"/>
                </a:lnTo>
                <a:close/>
                <a:moveTo>
                  <a:pt x="675637" y="1600604"/>
                </a:moveTo>
                <a:lnTo>
                  <a:pt x="692686" y="1606382"/>
                </a:lnTo>
                <a:lnTo>
                  <a:pt x="641486" y="1761326"/>
                </a:lnTo>
                <a:lnTo>
                  <a:pt x="631383" y="1744623"/>
                </a:lnTo>
                <a:lnTo>
                  <a:pt x="628970" y="1741831"/>
                </a:lnTo>
                <a:close/>
                <a:moveTo>
                  <a:pt x="1225916" y="1579868"/>
                </a:moveTo>
                <a:lnTo>
                  <a:pt x="1279540" y="1707080"/>
                </a:lnTo>
                <a:lnTo>
                  <a:pt x="1266966" y="1723591"/>
                </a:lnTo>
                <a:lnTo>
                  <a:pt x="1209837" y="1588066"/>
                </a:lnTo>
                <a:close/>
                <a:moveTo>
                  <a:pt x="610954" y="1578681"/>
                </a:moveTo>
                <a:lnTo>
                  <a:pt x="628059" y="1584478"/>
                </a:lnTo>
                <a:lnTo>
                  <a:pt x="582951" y="1688574"/>
                </a:lnTo>
                <a:lnTo>
                  <a:pt x="569886" y="1673454"/>
                </a:lnTo>
                <a:close/>
                <a:moveTo>
                  <a:pt x="1286670" y="1548893"/>
                </a:moveTo>
                <a:lnTo>
                  <a:pt x="1333269" y="1636531"/>
                </a:lnTo>
                <a:lnTo>
                  <a:pt x="1321264" y="1652294"/>
                </a:lnTo>
                <a:lnTo>
                  <a:pt x="1270632" y="1557070"/>
                </a:lnTo>
                <a:close/>
                <a:moveTo>
                  <a:pt x="551444" y="1545001"/>
                </a:moveTo>
                <a:lnTo>
                  <a:pt x="567074" y="1553937"/>
                </a:lnTo>
                <a:lnTo>
                  <a:pt x="524862" y="1631452"/>
                </a:lnTo>
                <a:lnTo>
                  <a:pt x="510642" y="1619926"/>
                </a:lnTo>
                <a:close/>
                <a:moveTo>
                  <a:pt x="1346034" y="1515267"/>
                </a:moveTo>
                <a:lnTo>
                  <a:pt x="1390051" y="1582679"/>
                </a:lnTo>
                <a:lnTo>
                  <a:pt x="1376613" y="1595021"/>
                </a:lnTo>
                <a:lnTo>
                  <a:pt x="1331552" y="1526010"/>
                </a:lnTo>
                <a:lnTo>
                  <a:pt x="1333983" y="1524770"/>
                </a:lnTo>
                <a:close/>
                <a:moveTo>
                  <a:pt x="492213" y="1511140"/>
                </a:moveTo>
                <a:lnTo>
                  <a:pt x="507877" y="1520095"/>
                </a:lnTo>
                <a:lnTo>
                  <a:pt x="465615" y="1583429"/>
                </a:lnTo>
                <a:lnTo>
                  <a:pt x="452723" y="1572979"/>
                </a:lnTo>
                <a:lnTo>
                  <a:pt x="451434" y="1572252"/>
                </a:lnTo>
                <a:close/>
                <a:moveTo>
                  <a:pt x="1399641" y="1472989"/>
                </a:moveTo>
                <a:lnTo>
                  <a:pt x="1447523" y="1533649"/>
                </a:lnTo>
                <a:lnTo>
                  <a:pt x="1433600" y="1542681"/>
                </a:lnTo>
                <a:lnTo>
                  <a:pt x="1432510" y="1543682"/>
                </a:lnTo>
                <a:lnTo>
                  <a:pt x="1385507" y="1484135"/>
                </a:lnTo>
                <a:close/>
                <a:moveTo>
                  <a:pt x="439084" y="1468240"/>
                </a:moveTo>
                <a:lnTo>
                  <a:pt x="452737" y="1479985"/>
                </a:lnTo>
                <a:lnTo>
                  <a:pt x="401226" y="1543921"/>
                </a:lnTo>
                <a:lnTo>
                  <a:pt x="385335" y="1534955"/>
                </a:lnTo>
                <a:close/>
                <a:moveTo>
                  <a:pt x="1452700" y="1430017"/>
                </a:moveTo>
                <a:lnTo>
                  <a:pt x="1511505" y="1492141"/>
                </a:lnTo>
                <a:lnTo>
                  <a:pt x="1496150" y="1502102"/>
                </a:lnTo>
                <a:lnTo>
                  <a:pt x="1439119" y="1441854"/>
                </a:lnTo>
                <a:lnTo>
                  <a:pt x="1449687" y="1433519"/>
                </a:lnTo>
                <a:close/>
                <a:moveTo>
                  <a:pt x="387391" y="1423768"/>
                </a:moveTo>
                <a:lnTo>
                  <a:pt x="401059" y="1435526"/>
                </a:lnTo>
                <a:lnTo>
                  <a:pt x="332463" y="1506560"/>
                </a:lnTo>
                <a:lnTo>
                  <a:pt x="313761" y="1500014"/>
                </a:lnTo>
                <a:close/>
                <a:moveTo>
                  <a:pt x="1497274" y="1378205"/>
                </a:moveTo>
                <a:lnTo>
                  <a:pt x="1583781" y="1454547"/>
                </a:lnTo>
                <a:lnTo>
                  <a:pt x="1565364" y="1462300"/>
                </a:lnTo>
                <a:lnTo>
                  <a:pt x="1485535" y="1391850"/>
                </a:lnTo>
                <a:close/>
                <a:moveTo>
                  <a:pt x="342078" y="1372754"/>
                </a:moveTo>
                <a:lnTo>
                  <a:pt x="353236" y="1386902"/>
                </a:lnTo>
                <a:lnTo>
                  <a:pt x="248764" y="1477262"/>
                </a:lnTo>
                <a:lnTo>
                  <a:pt x="229175" y="1470405"/>
                </a:lnTo>
                <a:close/>
                <a:moveTo>
                  <a:pt x="1541797" y="1326453"/>
                </a:moveTo>
                <a:lnTo>
                  <a:pt x="1671063" y="1421359"/>
                </a:lnTo>
                <a:lnTo>
                  <a:pt x="1652052" y="1425806"/>
                </a:lnTo>
                <a:lnTo>
                  <a:pt x="1648653" y="1427237"/>
                </a:lnTo>
                <a:lnTo>
                  <a:pt x="1530022" y="1340139"/>
                </a:lnTo>
                <a:close/>
                <a:moveTo>
                  <a:pt x="299862" y="1319225"/>
                </a:moveTo>
                <a:lnTo>
                  <a:pt x="311019" y="1333372"/>
                </a:lnTo>
                <a:lnTo>
                  <a:pt x="178732" y="1428480"/>
                </a:lnTo>
                <a:lnTo>
                  <a:pt x="180377" y="1409027"/>
                </a:lnTo>
                <a:lnTo>
                  <a:pt x="180067" y="1405352"/>
                </a:lnTo>
                <a:close/>
                <a:moveTo>
                  <a:pt x="1576542" y="1267609"/>
                </a:moveTo>
                <a:lnTo>
                  <a:pt x="1695816" y="1339681"/>
                </a:lnTo>
                <a:lnTo>
                  <a:pt x="1695348" y="1360430"/>
                </a:lnTo>
                <a:lnTo>
                  <a:pt x="1567606" y="1283241"/>
                </a:lnTo>
                <a:close/>
                <a:moveTo>
                  <a:pt x="263531" y="1261503"/>
                </a:moveTo>
                <a:lnTo>
                  <a:pt x="271723" y="1277570"/>
                </a:lnTo>
                <a:lnTo>
                  <a:pt x="174140" y="1335215"/>
                </a:lnTo>
                <a:lnTo>
                  <a:pt x="172457" y="1315303"/>
                </a:lnTo>
                <a:close/>
                <a:moveTo>
                  <a:pt x="1610398" y="1208387"/>
                </a:moveTo>
                <a:lnTo>
                  <a:pt x="1697816" y="1251024"/>
                </a:lnTo>
                <a:lnTo>
                  <a:pt x="1697369" y="1270832"/>
                </a:lnTo>
                <a:lnTo>
                  <a:pt x="1601446" y="1224047"/>
                </a:lnTo>
                <a:close/>
                <a:moveTo>
                  <a:pt x="232566" y="1200770"/>
                </a:moveTo>
                <a:lnTo>
                  <a:pt x="240745" y="1216812"/>
                </a:lnTo>
                <a:lnTo>
                  <a:pt x="160720" y="1254859"/>
                </a:lnTo>
                <a:lnTo>
                  <a:pt x="155991" y="1237178"/>
                </a:lnTo>
                <a:close/>
                <a:moveTo>
                  <a:pt x="1634958" y="1144690"/>
                </a:moveTo>
                <a:lnTo>
                  <a:pt x="1712099" y="1174082"/>
                </a:lnTo>
                <a:lnTo>
                  <a:pt x="1708482" y="1191966"/>
                </a:lnTo>
                <a:lnTo>
                  <a:pt x="1629176" y="1161750"/>
                </a:lnTo>
                <a:close/>
                <a:moveTo>
                  <a:pt x="204756" y="1138431"/>
                </a:moveTo>
                <a:lnTo>
                  <a:pt x="210455" y="1155515"/>
                </a:lnTo>
                <a:lnTo>
                  <a:pt x="141015" y="1181182"/>
                </a:lnTo>
                <a:lnTo>
                  <a:pt x="136727" y="1165150"/>
                </a:lnTo>
                <a:lnTo>
                  <a:pt x="136112" y="1163804"/>
                </a:lnTo>
                <a:close/>
                <a:moveTo>
                  <a:pt x="1656844" y="1080115"/>
                </a:moveTo>
                <a:lnTo>
                  <a:pt x="1729776" y="1100634"/>
                </a:lnTo>
                <a:lnTo>
                  <a:pt x="1723821" y="1116126"/>
                </a:lnTo>
                <a:lnTo>
                  <a:pt x="1723528" y="1117576"/>
                </a:lnTo>
                <a:lnTo>
                  <a:pt x="1651058" y="1097186"/>
                </a:lnTo>
                <a:close/>
                <a:moveTo>
                  <a:pt x="184625" y="1073110"/>
                </a:moveTo>
                <a:lnTo>
                  <a:pt x="188043" y="1088326"/>
                </a:lnTo>
                <a:lnTo>
                  <a:pt x="188810" y="1090624"/>
                </a:lnTo>
                <a:lnTo>
                  <a:pt x="112145" y="1111372"/>
                </a:lnTo>
                <a:lnTo>
                  <a:pt x="104560" y="1094778"/>
                </a:lnTo>
                <a:close/>
                <a:moveTo>
                  <a:pt x="1672722" y="1013691"/>
                </a:moveTo>
                <a:lnTo>
                  <a:pt x="1757141" y="1029446"/>
                </a:lnTo>
                <a:lnTo>
                  <a:pt x="1750574" y="1046531"/>
                </a:lnTo>
                <a:lnTo>
                  <a:pt x="1669493" y="1031399"/>
                </a:lnTo>
                <a:close/>
                <a:moveTo>
                  <a:pt x="170225" y="1006273"/>
                </a:moveTo>
                <a:lnTo>
                  <a:pt x="170936" y="1012170"/>
                </a:lnTo>
                <a:lnTo>
                  <a:pt x="173584" y="1023958"/>
                </a:lnTo>
                <a:lnTo>
                  <a:pt x="78475" y="1040728"/>
                </a:lnTo>
                <a:lnTo>
                  <a:pt x="67193" y="1024440"/>
                </a:lnTo>
                <a:close/>
                <a:moveTo>
                  <a:pt x="1681368" y="945892"/>
                </a:moveTo>
                <a:lnTo>
                  <a:pt x="1793516" y="956550"/>
                </a:lnTo>
                <a:lnTo>
                  <a:pt x="1783173" y="973649"/>
                </a:lnTo>
                <a:lnTo>
                  <a:pt x="1679909" y="963835"/>
                </a:lnTo>
                <a:close/>
                <a:moveTo>
                  <a:pt x="162034" y="938372"/>
                </a:moveTo>
                <a:lnTo>
                  <a:pt x="164191" y="956254"/>
                </a:lnTo>
                <a:lnTo>
                  <a:pt x="27981" y="967828"/>
                </a:lnTo>
                <a:lnTo>
                  <a:pt x="16164" y="950767"/>
                </a:lnTo>
                <a:close/>
                <a:moveTo>
                  <a:pt x="1683923" y="877596"/>
                </a:moveTo>
                <a:lnTo>
                  <a:pt x="1844621" y="878397"/>
                </a:lnTo>
                <a:lnTo>
                  <a:pt x="1831855" y="893168"/>
                </a:lnTo>
                <a:lnTo>
                  <a:pt x="1829946" y="896325"/>
                </a:lnTo>
                <a:lnTo>
                  <a:pt x="1684266" y="895598"/>
                </a:lnTo>
                <a:close/>
                <a:moveTo>
                  <a:pt x="14676" y="869273"/>
                </a:moveTo>
                <a:lnTo>
                  <a:pt x="160356" y="869999"/>
                </a:lnTo>
                <a:lnTo>
                  <a:pt x="160699" y="888001"/>
                </a:lnTo>
                <a:lnTo>
                  <a:pt x="0" y="887200"/>
                </a:lnTo>
                <a:lnTo>
                  <a:pt x="12766" y="872429"/>
                </a:lnTo>
                <a:close/>
                <a:moveTo>
                  <a:pt x="1816638" y="797770"/>
                </a:moveTo>
                <a:lnTo>
                  <a:pt x="1828455" y="814831"/>
                </a:lnTo>
                <a:lnTo>
                  <a:pt x="1682588" y="827227"/>
                </a:lnTo>
                <a:lnTo>
                  <a:pt x="1680430" y="809345"/>
                </a:lnTo>
                <a:close/>
                <a:moveTo>
                  <a:pt x="61447" y="791950"/>
                </a:moveTo>
                <a:lnTo>
                  <a:pt x="164713" y="801763"/>
                </a:lnTo>
                <a:lnTo>
                  <a:pt x="163253" y="819705"/>
                </a:lnTo>
                <a:lnTo>
                  <a:pt x="51105" y="809048"/>
                </a:lnTo>
                <a:close/>
                <a:moveTo>
                  <a:pt x="1766145" y="724870"/>
                </a:moveTo>
                <a:lnTo>
                  <a:pt x="1777427" y="741158"/>
                </a:lnTo>
                <a:lnTo>
                  <a:pt x="1674396" y="759325"/>
                </a:lnTo>
                <a:lnTo>
                  <a:pt x="1673685" y="753429"/>
                </a:lnTo>
                <a:lnTo>
                  <a:pt x="1670588" y="741719"/>
                </a:lnTo>
                <a:close/>
                <a:moveTo>
                  <a:pt x="94047" y="719066"/>
                </a:moveTo>
                <a:lnTo>
                  <a:pt x="175129" y="734198"/>
                </a:lnTo>
                <a:lnTo>
                  <a:pt x="171900" y="751906"/>
                </a:lnTo>
                <a:lnTo>
                  <a:pt x="87480" y="736151"/>
                </a:lnTo>
                <a:close/>
                <a:moveTo>
                  <a:pt x="1732475" y="654227"/>
                </a:moveTo>
                <a:lnTo>
                  <a:pt x="1740061" y="670822"/>
                </a:lnTo>
                <a:lnTo>
                  <a:pt x="1657733" y="693102"/>
                </a:lnTo>
                <a:lnTo>
                  <a:pt x="1653131" y="675699"/>
                </a:lnTo>
                <a:close/>
                <a:moveTo>
                  <a:pt x="121093" y="648021"/>
                </a:moveTo>
                <a:lnTo>
                  <a:pt x="193564" y="668412"/>
                </a:lnTo>
                <a:lnTo>
                  <a:pt x="187778" y="685483"/>
                </a:lnTo>
                <a:lnTo>
                  <a:pt x="114844" y="664963"/>
                </a:lnTo>
                <a:lnTo>
                  <a:pt x="120799" y="649471"/>
                </a:lnTo>
                <a:close/>
                <a:moveTo>
                  <a:pt x="1703605" y="584417"/>
                </a:moveTo>
                <a:lnTo>
                  <a:pt x="1707892" y="600448"/>
                </a:lnTo>
                <a:lnTo>
                  <a:pt x="1708508" y="601796"/>
                </a:lnTo>
                <a:lnTo>
                  <a:pt x="1640259" y="627022"/>
                </a:lnTo>
                <a:lnTo>
                  <a:pt x="1639049" y="622444"/>
                </a:lnTo>
                <a:lnTo>
                  <a:pt x="1633440" y="610352"/>
                </a:lnTo>
                <a:close/>
                <a:moveTo>
                  <a:pt x="136138" y="573632"/>
                </a:moveTo>
                <a:lnTo>
                  <a:pt x="215446" y="603848"/>
                </a:lnTo>
                <a:lnTo>
                  <a:pt x="209665" y="620908"/>
                </a:lnTo>
                <a:lnTo>
                  <a:pt x="132521" y="591516"/>
                </a:lnTo>
                <a:close/>
                <a:moveTo>
                  <a:pt x="1683900" y="510741"/>
                </a:moveTo>
                <a:lnTo>
                  <a:pt x="1688629" y="528423"/>
                </a:lnTo>
                <a:lnTo>
                  <a:pt x="1612275" y="564725"/>
                </a:lnTo>
                <a:lnTo>
                  <a:pt x="1604700" y="548396"/>
                </a:lnTo>
                <a:close/>
                <a:moveTo>
                  <a:pt x="147252" y="494765"/>
                </a:moveTo>
                <a:lnTo>
                  <a:pt x="243177" y="541551"/>
                </a:lnTo>
                <a:lnTo>
                  <a:pt x="234224" y="557210"/>
                </a:lnTo>
                <a:lnTo>
                  <a:pt x="146805" y="514573"/>
                </a:lnTo>
                <a:close/>
                <a:moveTo>
                  <a:pt x="1670480" y="430384"/>
                </a:moveTo>
                <a:lnTo>
                  <a:pt x="1672163" y="450296"/>
                </a:lnTo>
                <a:lnTo>
                  <a:pt x="1583450" y="502701"/>
                </a:lnTo>
                <a:lnTo>
                  <a:pt x="1573155" y="487877"/>
                </a:lnTo>
                <a:close/>
                <a:moveTo>
                  <a:pt x="149273" y="405169"/>
                </a:moveTo>
                <a:lnTo>
                  <a:pt x="277016" y="482359"/>
                </a:lnTo>
                <a:lnTo>
                  <a:pt x="268080" y="497989"/>
                </a:lnTo>
                <a:lnTo>
                  <a:pt x="148805" y="425916"/>
                </a:lnTo>
                <a:close/>
                <a:moveTo>
                  <a:pt x="195968" y="338361"/>
                </a:moveTo>
                <a:lnTo>
                  <a:pt x="314600" y="425459"/>
                </a:lnTo>
                <a:lnTo>
                  <a:pt x="302826" y="439145"/>
                </a:lnTo>
                <a:lnTo>
                  <a:pt x="173559" y="344239"/>
                </a:lnTo>
                <a:lnTo>
                  <a:pt x="192568" y="339792"/>
                </a:lnTo>
                <a:close/>
                <a:moveTo>
                  <a:pt x="1665887" y="337121"/>
                </a:moveTo>
                <a:lnTo>
                  <a:pt x="1664242" y="356571"/>
                </a:lnTo>
                <a:lnTo>
                  <a:pt x="1664553" y="360248"/>
                </a:lnTo>
                <a:lnTo>
                  <a:pt x="1544474" y="446578"/>
                </a:lnTo>
                <a:lnTo>
                  <a:pt x="1534206" y="431793"/>
                </a:lnTo>
                <a:close/>
                <a:moveTo>
                  <a:pt x="279257" y="303297"/>
                </a:moveTo>
                <a:lnTo>
                  <a:pt x="359087" y="373748"/>
                </a:lnTo>
                <a:lnTo>
                  <a:pt x="347347" y="387394"/>
                </a:lnTo>
                <a:lnTo>
                  <a:pt x="260839" y="311051"/>
                </a:lnTo>
                <a:close/>
                <a:moveTo>
                  <a:pt x="1595859" y="288337"/>
                </a:moveTo>
                <a:lnTo>
                  <a:pt x="1615448" y="295194"/>
                </a:lnTo>
                <a:lnTo>
                  <a:pt x="1504459" y="391189"/>
                </a:lnTo>
                <a:lnTo>
                  <a:pt x="1491819" y="378322"/>
                </a:lnTo>
                <a:close/>
                <a:moveTo>
                  <a:pt x="348471" y="263494"/>
                </a:moveTo>
                <a:lnTo>
                  <a:pt x="405504" y="323744"/>
                </a:lnTo>
                <a:lnTo>
                  <a:pt x="394934" y="332080"/>
                </a:lnTo>
                <a:lnTo>
                  <a:pt x="391923" y="335581"/>
                </a:lnTo>
                <a:lnTo>
                  <a:pt x="333116" y="273456"/>
                </a:lnTo>
                <a:close/>
                <a:moveTo>
                  <a:pt x="1512159" y="259039"/>
                </a:moveTo>
                <a:lnTo>
                  <a:pt x="1530860" y="265585"/>
                </a:lnTo>
                <a:lnTo>
                  <a:pt x="1456606" y="342477"/>
                </a:lnTo>
                <a:lnTo>
                  <a:pt x="1443988" y="329632"/>
                </a:lnTo>
                <a:close/>
                <a:moveTo>
                  <a:pt x="412110" y="221916"/>
                </a:moveTo>
                <a:lnTo>
                  <a:pt x="459114" y="281464"/>
                </a:lnTo>
                <a:lnTo>
                  <a:pt x="444980" y="292610"/>
                </a:lnTo>
                <a:lnTo>
                  <a:pt x="397097" y="231949"/>
                </a:lnTo>
                <a:lnTo>
                  <a:pt x="411019" y="222917"/>
                </a:lnTo>
                <a:close/>
                <a:moveTo>
                  <a:pt x="1443396" y="221678"/>
                </a:moveTo>
                <a:lnTo>
                  <a:pt x="1459286" y="230644"/>
                </a:lnTo>
                <a:lnTo>
                  <a:pt x="1406897" y="295670"/>
                </a:lnTo>
                <a:lnTo>
                  <a:pt x="1392300" y="285098"/>
                </a:lnTo>
                <a:close/>
                <a:moveTo>
                  <a:pt x="1379005" y="182170"/>
                </a:moveTo>
                <a:lnTo>
                  <a:pt x="1391896" y="192619"/>
                </a:lnTo>
                <a:lnTo>
                  <a:pt x="1393186" y="193347"/>
                </a:lnTo>
                <a:lnTo>
                  <a:pt x="1351622" y="255636"/>
                </a:lnTo>
                <a:lnTo>
                  <a:pt x="1337034" y="245070"/>
                </a:lnTo>
                <a:close/>
                <a:moveTo>
                  <a:pt x="468008" y="170577"/>
                </a:moveTo>
                <a:lnTo>
                  <a:pt x="513069" y="239589"/>
                </a:lnTo>
                <a:lnTo>
                  <a:pt x="510638" y="240828"/>
                </a:lnTo>
                <a:lnTo>
                  <a:pt x="498586" y="250333"/>
                </a:lnTo>
                <a:lnTo>
                  <a:pt x="454568" y="182920"/>
                </a:lnTo>
                <a:close/>
                <a:moveTo>
                  <a:pt x="1319759" y="134146"/>
                </a:moveTo>
                <a:lnTo>
                  <a:pt x="1333978" y="145672"/>
                </a:lnTo>
                <a:lnTo>
                  <a:pt x="1294036" y="219016"/>
                </a:lnTo>
                <a:lnTo>
                  <a:pt x="1277891" y="211027"/>
                </a:lnTo>
                <a:close/>
                <a:moveTo>
                  <a:pt x="523355" y="113305"/>
                </a:moveTo>
                <a:lnTo>
                  <a:pt x="573987" y="208530"/>
                </a:lnTo>
                <a:lnTo>
                  <a:pt x="557949" y="216707"/>
                </a:lnTo>
                <a:lnTo>
                  <a:pt x="511350" y="129068"/>
                </a:lnTo>
                <a:close/>
                <a:moveTo>
                  <a:pt x="1261668" y="77024"/>
                </a:moveTo>
                <a:lnTo>
                  <a:pt x="1274734" y="92144"/>
                </a:lnTo>
                <a:lnTo>
                  <a:pt x="1232872" y="188750"/>
                </a:lnTo>
                <a:lnTo>
                  <a:pt x="1216718" y="180757"/>
                </a:lnTo>
                <a:close/>
                <a:moveTo>
                  <a:pt x="879964" y="47539"/>
                </a:moveTo>
                <a:lnTo>
                  <a:pt x="896536" y="48415"/>
                </a:lnTo>
                <a:lnTo>
                  <a:pt x="898006" y="48246"/>
                </a:lnTo>
                <a:lnTo>
                  <a:pt x="900930" y="121496"/>
                </a:lnTo>
                <a:lnTo>
                  <a:pt x="882930" y="121839"/>
                </a:lnTo>
                <a:close/>
                <a:moveTo>
                  <a:pt x="803804" y="43511"/>
                </a:moveTo>
                <a:lnTo>
                  <a:pt x="822082" y="44478"/>
                </a:lnTo>
                <a:lnTo>
                  <a:pt x="832792" y="126618"/>
                </a:lnTo>
                <a:lnTo>
                  <a:pt x="814920" y="128774"/>
                </a:lnTo>
                <a:close/>
                <a:moveTo>
                  <a:pt x="577653" y="42008"/>
                </a:moveTo>
                <a:lnTo>
                  <a:pt x="634782" y="177534"/>
                </a:lnTo>
                <a:lnTo>
                  <a:pt x="618704" y="185731"/>
                </a:lnTo>
                <a:lnTo>
                  <a:pt x="565079" y="58518"/>
                </a:lnTo>
                <a:close/>
                <a:moveTo>
                  <a:pt x="973404" y="39567"/>
                </a:moveTo>
                <a:lnTo>
                  <a:pt x="969228" y="123258"/>
                </a:lnTo>
                <a:lnTo>
                  <a:pt x="951312" y="121130"/>
                </a:lnTo>
                <a:lnTo>
                  <a:pt x="955278" y="41654"/>
                </a:lnTo>
                <a:close/>
                <a:moveTo>
                  <a:pt x="723233" y="31443"/>
                </a:moveTo>
                <a:lnTo>
                  <a:pt x="742691" y="35995"/>
                </a:lnTo>
                <a:lnTo>
                  <a:pt x="765354" y="137622"/>
                </a:lnTo>
                <a:lnTo>
                  <a:pt x="747791" y="141567"/>
                </a:lnTo>
                <a:close/>
                <a:moveTo>
                  <a:pt x="1051847" y="25765"/>
                </a:moveTo>
                <a:lnTo>
                  <a:pt x="1037014" y="131308"/>
                </a:lnTo>
                <a:lnTo>
                  <a:pt x="1019135" y="129184"/>
                </a:lnTo>
                <a:lnTo>
                  <a:pt x="1032869" y="31462"/>
                </a:lnTo>
                <a:close/>
                <a:moveTo>
                  <a:pt x="633115" y="6990"/>
                </a:moveTo>
                <a:lnTo>
                  <a:pt x="651107" y="14566"/>
                </a:lnTo>
                <a:lnTo>
                  <a:pt x="654699" y="15406"/>
                </a:lnTo>
                <a:lnTo>
                  <a:pt x="699105" y="154429"/>
                </a:lnTo>
                <a:lnTo>
                  <a:pt x="682029" y="160125"/>
                </a:lnTo>
                <a:close/>
                <a:moveTo>
                  <a:pt x="1203134" y="4273"/>
                </a:moveTo>
                <a:lnTo>
                  <a:pt x="1213236" y="20976"/>
                </a:lnTo>
                <a:lnTo>
                  <a:pt x="1215649" y="23769"/>
                </a:lnTo>
                <a:lnTo>
                  <a:pt x="1169442" y="163605"/>
                </a:lnTo>
                <a:lnTo>
                  <a:pt x="1152188" y="158449"/>
                </a:lnTo>
                <a:close/>
                <a:moveTo>
                  <a:pt x="1137683" y="0"/>
                </a:moveTo>
                <a:lnTo>
                  <a:pt x="1104046" y="144062"/>
                </a:lnTo>
                <a:lnTo>
                  <a:pt x="1086767" y="138898"/>
                </a:lnTo>
                <a:lnTo>
                  <a:pt x="1117806" y="5966"/>
                </a:lnTo>
                <a:close/>
              </a:path>
            </a:pathLst>
          </a:cu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战略性进入壁垒</a:t>
            </a:r>
            <a:endParaRPr b="0" lang="en-US" sz="1800" spc="-1" strike="noStrike">
              <a:solidFill>
                <a:srgbClr val="000000"/>
              </a:solidFill>
              <a:latin typeface="Arial"/>
            </a:endParaRPr>
          </a:p>
        </p:txBody>
      </p:sp>
      <p:sp>
        <p:nvSpPr>
          <p:cNvPr id="367"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02</a:t>
            </a:r>
            <a:endParaRPr b="0" lang="en-US" sz="2400" spc="-1" strike="noStrike">
              <a:solidFill>
                <a:srgbClr val="000000"/>
              </a:solidFill>
              <a:latin typeface="Arial"/>
            </a:endParaRPr>
          </a:p>
        </p:txBody>
      </p:sp>
      <p:sp>
        <p:nvSpPr>
          <p:cNvPr id="368"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6.2</a:t>
            </a:r>
            <a:r>
              <a:rPr b="0" lang="zh-CN" sz="3200" spc="-1" strike="noStrike">
                <a:solidFill>
                  <a:srgbClr val="c0504d"/>
                </a:solidFill>
                <a:latin typeface="微软雅黑"/>
                <a:ea typeface="微软雅黑"/>
              </a:rPr>
              <a:t>进入和标准</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2:27:11Z</dcterms:created>
  <dc:creator>lsy</dc:creator>
  <dc:description/>
  <dc:language>en-US</dc:language>
  <cp:lastModifiedBy>ThinkPad</cp:lastModifiedBy>
  <dcterms:modified xsi:type="dcterms:W3CDTF">2021-06-30T02:52:14Z</dcterms:modified>
  <cp:revision>198</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