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22E-D067-4205-99C0-90098E5B86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D95D-3F88-473F-8985-E0C4B18F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82720" y="1055520"/>
            <a:ext cx="5051520" cy="3789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7640" y="4971960"/>
            <a:ext cx="5022720" cy="34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1BC-92B9-4A39-8C81-4BBB19DB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4C6-C17E-466D-B1EE-A183868E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357-8460-4181-B5FD-D6A9E35B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1AB-267A-4641-9DD9-2229D524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54EF-92DB-4065-8C24-4ED2F398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7214-8975-4CA2-A2C9-ACF6FC24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0551-5124-41D1-8FF7-814A49F9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686B-428F-45A1-B61B-CA9EEF4E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38D9-5CE0-43C3-8F07-6B642747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21DC-1359-4E87-B02C-7D83E119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C1D1-C3F5-4078-9A33-EF6BF71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712-BA32-488C-BE13-2F238751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05F5-A4E6-477E-BC9B-A2B7225C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01B5-546F-47B7-9EC7-02823A8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E9BF-C048-4C0E-A465-AB9EC2D7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5063-B6F4-4E03-889D-49F95549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14D4-31C0-4B5E-A85A-E42F2821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E57BA-7367-42DB-90CB-0AC6BDBF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867E-FCF5-4199-9872-267E8FF7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4B169-A433-4C6B-9879-E57BE463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EC10-8BC3-49ED-A321-6B2099D5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2DD7A-B98E-4DB4-BBA1-DD8492F5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DE8-B6ED-4E2C-9E4F-956A4A43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E0C8-1BE8-4305-9B4C-6202517D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FF0D-6E59-4043-9E52-35FB917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04DC9-43A9-4B05-8D56-B6F21AE2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8610C-976A-4163-ABFC-3523C8A0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5F108-3927-41C0-BD74-3A642A34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D43DE-A106-49F1-99FC-F165F98E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768E0-E2F4-4B91-A749-FE5C740E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3FFE-50A3-4BB2-BBAE-4539EC19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3CDAF-9BC6-4CCF-B3BC-241AA2D3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A693-BFD9-4FE1-9A74-B62C3B89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2F8-1870-4F55-B3A2-57E9EDDF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3C357-1A9D-48F6-AF2D-829AAD8D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36786-4BA9-478D-A736-0D1A0594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AD9A3-7DAF-45F2-8922-DB5B2F64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93F67-4045-4502-9D72-DCA7B399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1BF9-F1D7-42F2-9795-27A6862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C203-960E-4B3E-ADC8-B5BDDE55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BAF1-8D26-491A-BD3A-031A4CF3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2932-E190-4E97-8E04-362280AF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2ADC7-1D03-4957-B55B-8579DC4E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9363E-9D81-409D-B7DC-41615D2E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312-0BF3-494C-A3FC-49656CAD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26B0D-EB44-46B0-BAC8-7F02A26B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40BF-E877-4B6E-9241-6BC795FE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CF851-D46C-46AC-8D35-78E14B8D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16EE-89F9-4970-896D-13E590C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AAE95-EF49-4ED5-B337-8ED8491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18DE-E62A-484D-80EF-716E54BF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25C6F-8CD7-4FE0-8EEE-1CC1DA83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71BFC-C227-4EE6-9E96-EBE685C7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882D1-457C-4A05-873D-9C7ECE63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AD6B-8764-4D47-8E67-E32946E8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CD5-28A7-4AFC-994E-1DB16AB0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3D319-9BC7-45DA-BA12-839D832D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C18-6B80-47F4-88AC-39B8944C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516-B039-435A-A90A-DFCDE916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2DD-571C-4EBF-9686-4DA5F89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77C5-B871-4EE0-986B-8BEB4EB8CAB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AE36-8B9B-4BBF-B295-4095F198A4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图片1修改.jpg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5CF6-4DC3-43C2-A523-0C032ECFE8F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B3D8-BA3A-4F3E-AC50-380600D1D9A8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图片13.jpg"/>
          <p:cNvPicPr/>
          <p:nvPr/>
        </p:nvPicPr>
        <p:blipFill>
          <a:blip r:embed="rId2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D9D3-3184-4B6F-B29A-840288D41C0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F86B-664B-4E5C-924D-15440D933EF8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图片14.jpg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1A9A-FEAC-43EE-BD1F-DA6B387C15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30036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FD6F-74BE-4D51-B101-74D72CCE8E3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7" descr="图片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0B5B-CA20-46FA-A8AC-436A91BDEB8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C9EF-4A9B-461A-AE17-8DF1F733596E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2023560"/>
            <a:ext cx="65880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章 数字产品及其特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4"/>
          <p:cNvSpPr/>
          <p:nvPr/>
        </p:nvSpPr>
        <p:spPr>
          <a:xfrm>
            <a:off x="1440000" y="2889360"/>
            <a:ext cx="5940360" cy="0"/>
          </a:xfrm>
          <a:prstGeom prst="line">
            <a:avLst/>
          </a:prstGeom>
          <a:ln w="349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0392-FC40-4C97-8D86-3C784B64A0B9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323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二节 数字产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3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76360" y="1052640"/>
            <a:ext cx="799308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2b2f"/>
                </a:solidFill>
                <a:latin typeface="Arial"/>
              </a:rPr>
              <a:t>信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义：具备传递一定信息功能的产品就是信息产品，由信息及其物质载体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狭义：信息产品是基于信息的交换物 （本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化产品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ed produc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是指包含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字化格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交换物，包括所有被数字化的商品或服务。数字化产品包括有形 数字产品和无形数字产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字产品是被数字化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信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产品，信息内容基于数字格式的交换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数字产品实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信息和娱乐产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纸上信息产品：报纸、杂志、期刊、书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产品信息：产品说明、用户手册、销售培训手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形图像：照片、卡片、日历、地图、海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音频产品：音乐唱片、语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频产品：电影、电视节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象征、符号和概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定票：航班、旅馆、音乐会、体育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财务工具：支票、电子货币、信用卡、有价证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．过程和服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政府服务：表格、税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电子消费：信件、传真、电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商业价值创造过程：订货、簿记、盘点、签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拍卖和电子化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远程教育、远程医疗和其他交互式服务、交互式娱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AB5B-488D-455D-8236-1471B5E9660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342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345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经济学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350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物理本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三节 数字产品的性质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59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25"/>
          <p:cNvSpPr/>
          <p:nvPr/>
        </p:nvSpPr>
        <p:spPr>
          <a:xfrm>
            <a:off x="2087640" y="3105000"/>
            <a:ext cx="4371840" cy="64008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物理本质和经济学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流程图: 联系 27"/>
          <p:cNvSpPr/>
          <p:nvPr/>
        </p:nvSpPr>
        <p:spPr>
          <a:xfrm>
            <a:off x="1871640" y="3429000"/>
            <a:ext cx="331920" cy="128520"/>
          </a:xfrm>
          <a:prstGeom prst="flowChartConnector">
            <a:avLst/>
          </a:prstGeom>
          <a:solidFill>
            <a:srgbClr val="b3a2c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FDEF-68D6-4E80-884A-4FC4D12189A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三节 数字产品的性质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7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0" y="836640"/>
            <a:ext cx="777564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一、数字产品的经济学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92000" y="1700280"/>
            <a:ext cx="7560000" cy="3876480"/>
            <a:chOff x="792000" y="1700280"/>
            <a:chExt cx="7560000" cy="3876480"/>
          </a:xfrm>
        </p:grpSpPr>
        <p:grpSp>
          <p:nvGrpSpPr>
            <p:cNvPr id="375" name="Group 128"/>
            <p:cNvGrpSpPr/>
            <p:nvPr/>
          </p:nvGrpSpPr>
          <p:grpSpPr>
            <a:xfrm>
              <a:off x="7704000" y="2349360"/>
              <a:ext cx="648000" cy="453960"/>
              <a:chOff x="7704000" y="2349360"/>
              <a:chExt cx="648000" cy="453960"/>
            </a:xfrm>
          </p:grpSpPr>
          <p:sp>
            <p:nvSpPr>
              <p:cNvPr id="376" name="AutoShape 129"/>
              <p:cNvSpPr/>
              <p:nvPr/>
            </p:nvSpPr>
            <p:spPr>
              <a:xfrm>
                <a:off x="7991640" y="249228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30"/>
              <p:cNvSpPr/>
              <p:nvPr/>
            </p:nvSpPr>
            <p:spPr>
              <a:xfrm>
                <a:off x="7704000" y="2349360"/>
                <a:ext cx="360360" cy="311040"/>
              </a:xfrm>
              <a:prstGeom prst="hexagon">
                <a:avLst>
                  <a:gd name="adj" fmla="val 28964"/>
                  <a:gd name="vf" fmla="val 115470"/>
                </a:avLst>
              </a:prstGeom>
              <a:solidFill>
                <a:srgbClr val="0066ff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AutoShape 26"/>
            <p:cNvSpPr/>
            <p:nvPr/>
          </p:nvSpPr>
          <p:spPr>
            <a:xfrm>
              <a:off x="1224000" y="429264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bfbfbf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8"/>
            <p:cNvSpPr/>
            <p:nvPr/>
          </p:nvSpPr>
          <p:spPr>
            <a:xfrm>
              <a:off x="900000" y="526572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aae600">
                <a:alpha val="3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26"/>
            <p:cNvSpPr/>
            <p:nvPr/>
          </p:nvSpPr>
          <p:spPr>
            <a:xfrm>
              <a:off x="2049480" y="344340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28"/>
            <p:cNvSpPr/>
            <p:nvPr/>
          </p:nvSpPr>
          <p:spPr>
            <a:xfrm>
              <a:off x="2060640" y="375300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直接连接符 31"/>
            <p:cNvSpPr/>
            <p:nvPr/>
          </p:nvSpPr>
          <p:spPr>
            <a:xfrm>
              <a:off x="2049480" y="429732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直接连接符 33"/>
            <p:cNvSpPr/>
            <p:nvPr/>
          </p:nvSpPr>
          <p:spPr>
            <a:xfrm>
              <a:off x="2060640" y="460368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28"/>
            <p:cNvGrpSpPr/>
            <p:nvPr/>
          </p:nvGrpSpPr>
          <p:grpSpPr>
            <a:xfrm>
              <a:off x="7596360" y="2025720"/>
              <a:ext cx="647280" cy="453960"/>
              <a:chOff x="7596360" y="2025720"/>
              <a:chExt cx="647280" cy="453960"/>
            </a:xfrm>
          </p:grpSpPr>
          <p:sp>
            <p:nvSpPr>
              <p:cNvPr id="385" name="AutoShape 129"/>
              <p:cNvSpPr/>
              <p:nvPr/>
            </p:nvSpPr>
            <p:spPr>
              <a:xfrm>
                <a:off x="7883640" y="216864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66ff">
                  <a:alpha val="12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utoShape 130"/>
              <p:cNvSpPr/>
              <p:nvPr/>
            </p:nvSpPr>
            <p:spPr>
              <a:xfrm>
                <a:off x="7596360" y="2025720"/>
                <a:ext cx="360000" cy="311040"/>
              </a:xfrm>
              <a:prstGeom prst="hexagon">
                <a:avLst>
                  <a:gd name="adj" fmla="val 28935"/>
                  <a:gd name="vf" fmla="val 115470"/>
                </a:avLst>
              </a:prstGeom>
              <a:solidFill>
                <a:srgbClr val="0066ff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AutoShape 26"/>
            <p:cNvSpPr/>
            <p:nvPr/>
          </p:nvSpPr>
          <p:spPr>
            <a:xfrm>
              <a:off x="1116000" y="375300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bfbfbf">
                <a:alpha val="1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78"/>
            <p:cNvSpPr/>
            <p:nvPr/>
          </p:nvSpPr>
          <p:spPr>
            <a:xfrm>
              <a:off x="792000" y="47260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aae600">
                <a:alpha val="3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MH_Other_1"/>
            <p:cNvSpPr/>
            <p:nvPr/>
          </p:nvSpPr>
          <p:spPr>
            <a:xfrm flipH="1" rot="1805400">
              <a:off x="1439280" y="202536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MH_Other_2"/>
            <p:cNvSpPr/>
            <p:nvPr/>
          </p:nvSpPr>
          <p:spPr>
            <a:xfrm>
              <a:off x="900000" y="1700280"/>
              <a:ext cx="947880" cy="109224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MH_SubTitle_1"/>
            <p:cNvSpPr/>
            <p:nvPr/>
          </p:nvSpPr>
          <p:spPr>
            <a:xfrm>
              <a:off x="1987560" y="1917720"/>
              <a:ext cx="22622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各人偏好依赖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MH_Other_3"/>
            <p:cNvSpPr/>
            <p:nvPr/>
          </p:nvSpPr>
          <p:spPr>
            <a:xfrm flipH="1" rot="1805400">
              <a:off x="1739160" y="3595320"/>
              <a:ext cx="712800" cy="614520"/>
            </a:xfrm>
            <a:prstGeom prst="triangle">
              <a:avLst>
                <a:gd name="adj" fmla="val 50000"/>
              </a:avLst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MH_Other_4"/>
            <p:cNvSpPr/>
            <p:nvPr/>
          </p:nvSpPr>
          <p:spPr>
            <a:xfrm>
              <a:off x="1177920" y="3279600"/>
              <a:ext cx="947880" cy="109080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MH_SubTitle_3"/>
            <p:cNvSpPr/>
            <p:nvPr/>
          </p:nvSpPr>
          <p:spPr>
            <a:xfrm>
              <a:off x="2303640" y="3605040"/>
              <a:ext cx="226188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数字产品外部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MH_Other_5"/>
            <p:cNvSpPr/>
            <p:nvPr/>
          </p:nvSpPr>
          <p:spPr>
            <a:xfrm flipH="1" rot="1805400">
              <a:off x="5110920" y="278100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MH_Other_6"/>
            <p:cNvSpPr/>
            <p:nvPr/>
          </p:nvSpPr>
          <p:spPr>
            <a:xfrm>
              <a:off x="4572000" y="3968640"/>
              <a:ext cx="947880" cy="1092240"/>
            </a:xfrm>
            <a:prstGeom prst="pi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432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  <a:ea typeface="幼圆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MH_SubTitle_2"/>
            <p:cNvSpPr/>
            <p:nvPr/>
          </p:nvSpPr>
          <p:spPr>
            <a:xfrm>
              <a:off x="5651640" y="4346640"/>
              <a:ext cx="2261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数字产品物理价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572000" y="2565360"/>
              <a:ext cx="3341520" cy="1160640"/>
              <a:chOff x="4572000" y="2565360"/>
              <a:chExt cx="3341520" cy="1160640"/>
            </a:xfrm>
          </p:grpSpPr>
          <p:sp>
            <p:nvSpPr>
              <p:cNvPr id="399" name="MH_Other_6"/>
              <p:cNvSpPr/>
              <p:nvPr/>
            </p:nvSpPr>
            <p:spPr>
              <a:xfrm>
                <a:off x="4572000" y="2565360"/>
                <a:ext cx="947880" cy="1092240"/>
              </a:xfrm>
              <a:prstGeom prst="pi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432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Impact"/>
                    <a:ea typeface="幼圆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MH_SubTitle_2"/>
              <p:cNvSpPr/>
              <p:nvPr/>
            </p:nvSpPr>
            <p:spPr>
              <a:xfrm>
                <a:off x="5651640" y="2943360"/>
                <a:ext cx="2261880" cy="78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Calibri"/>
                  </a:rPr>
                  <a:t>效用递增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MH_Other_5"/>
            <p:cNvSpPr/>
            <p:nvPr/>
          </p:nvSpPr>
          <p:spPr>
            <a:xfrm flipH="1" rot="1805400">
              <a:off x="5218920" y="4292280"/>
              <a:ext cx="712800" cy="614160"/>
            </a:xfrm>
            <a:prstGeom prst="triangle">
              <a:avLst>
                <a:gd name="adj" fmla="val 50000"/>
              </a:avLst>
            </a:prstGeom>
            <a:solidFill>
              <a:srgbClr val="800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二、数字产品的物理本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Group 27"/>
          <p:cNvGrpSpPr/>
          <p:nvPr/>
        </p:nvGrpSpPr>
        <p:grpSpPr>
          <a:xfrm>
            <a:off x="1332000" y="1268280"/>
            <a:ext cx="6595560" cy="604800"/>
            <a:chOff x="1332000" y="1268280"/>
            <a:chExt cx="6595560" cy="604800"/>
          </a:xfrm>
        </p:grpSpPr>
        <p:sp>
          <p:nvSpPr>
            <p:cNvPr id="404" name="圆角矩形 32"/>
            <p:cNvSpPr/>
            <p:nvPr/>
          </p:nvSpPr>
          <p:spPr>
            <a:xfrm>
              <a:off x="1332000" y="1278000"/>
              <a:ext cx="1655640" cy="59508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不灭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圆角矩形 34"/>
            <p:cNvSpPr/>
            <p:nvPr/>
          </p:nvSpPr>
          <p:spPr>
            <a:xfrm>
              <a:off x="3809880" y="1268280"/>
              <a:ext cx="1655280" cy="59544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可变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圆角矩形 34"/>
            <p:cNvSpPr/>
            <p:nvPr/>
          </p:nvSpPr>
          <p:spPr>
            <a:xfrm>
              <a:off x="6271920" y="1268280"/>
              <a:ext cx="1655640" cy="595440"/>
            </a:xfrm>
            <a:prstGeom prst="roundRect">
              <a:avLst>
                <a:gd name="adj" fmla="val 16667"/>
              </a:avLst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、可生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11"/>
            <p:cNvSpPr/>
            <p:nvPr/>
          </p:nvSpPr>
          <p:spPr>
            <a:xfrm>
              <a:off x="3046320" y="1469880"/>
              <a:ext cx="720360" cy="216000"/>
            </a:xfrm>
            <a:custGeom>
              <a:avLst/>
              <a:gdLst>
                <a:gd name="textAreaLeft" fmla="*/ 90000 w 720360"/>
                <a:gd name="textAreaRight" fmla="*/ 630360 w 720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12"/>
            <p:cNvSpPr/>
            <p:nvPr/>
          </p:nvSpPr>
          <p:spPr>
            <a:xfrm>
              <a:off x="5508360" y="1484280"/>
              <a:ext cx="720360" cy="216000"/>
            </a:xfrm>
            <a:custGeom>
              <a:avLst/>
              <a:gdLst>
                <a:gd name="textAreaLeft" fmla="*/ 90000 w 720360"/>
                <a:gd name="textAreaRight" fmla="*/ 630360 w 72036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8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28"/>
          <p:cNvSpPr/>
          <p:nvPr/>
        </p:nvSpPr>
        <p:spPr>
          <a:xfrm>
            <a:off x="1289160" y="2039760"/>
            <a:ext cx="1800000" cy="39610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9"/>
          <p:cNvSpPr/>
          <p:nvPr/>
        </p:nvSpPr>
        <p:spPr>
          <a:xfrm>
            <a:off x="3743280" y="2039760"/>
            <a:ext cx="1800360" cy="39610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0"/>
          <p:cNvSpPr/>
          <p:nvPr/>
        </p:nvSpPr>
        <p:spPr>
          <a:xfrm>
            <a:off x="5897520" y="2039760"/>
            <a:ext cx="2309760" cy="412920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"/>
          <p:cNvSpPr/>
          <p:nvPr/>
        </p:nvSpPr>
        <p:spPr>
          <a:xfrm>
            <a:off x="1332000" y="2073240"/>
            <a:ext cx="171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一经生产出来，就能永久保持其存在形式，永不变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频繁升级和许可使用是应对此的常用策略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"/>
          <p:cNvSpPr/>
          <p:nvPr/>
        </p:nvSpPr>
        <p:spPr>
          <a:xfrm>
            <a:off x="3876840" y="2333520"/>
            <a:ext cx="163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的内容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可变，它们很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被制定或随时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修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3"/>
          <p:cNvSpPr/>
          <p:nvPr/>
        </p:nvSpPr>
        <p:spPr>
          <a:xfrm>
            <a:off x="5897520" y="2014560"/>
            <a:ext cx="238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数字产品能够方便地复制、储存或传输，并且复制成本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一方面可复制，边际成本低，可以带来丰厚的利润。另一方面，可复制导致盗版盛行，盗版侵蚀市场，给生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商带来巨大损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三、物理本质和经济学问题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可破坏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耐用性对市场份额和产品选择产生了不良的影响，耐用品生产商必须加以克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一销售原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允许买方转让或出借自己买的产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能会把市场全毁掉，除非信息的销售商可以阻止顾客的转让行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变性导致了产品的差异化和定制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532C-EC0C-4182-A77A-DB335C30730A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419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422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成本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427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数字产品的效用特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6000" y="296640"/>
            <a:ext cx="6156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四节 数字产品的成本和效用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43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010-45CB-4A30-834F-5DAEF846E7EC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443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四节 数字产品的成本及效用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450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76360" y="944640"/>
            <a:ext cx="7993080" cy="23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f2b2f"/>
                </a:solidFill>
                <a:latin typeface="Arial"/>
              </a:rPr>
              <a:t>一、成本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标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平均成本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数字产品的成本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440000" y="2565360"/>
            <a:ext cx="6587640" cy="3347640"/>
            <a:chOff x="1440000" y="2565360"/>
            <a:chExt cx="6587640" cy="3347640"/>
          </a:xfrm>
        </p:grpSpPr>
        <p:grpSp>
          <p:nvGrpSpPr>
            <p:cNvPr id="459" name="Group 30"/>
            <p:cNvGrpSpPr/>
            <p:nvPr/>
          </p:nvGrpSpPr>
          <p:grpSpPr>
            <a:xfrm>
              <a:off x="1511280" y="2565360"/>
              <a:ext cx="4462560" cy="603720"/>
              <a:chOff x="1511280" y="2565360"/>
              <a:chExt cx="4462560" cy="603720"/>
            </a:xfrm>
          </p:grpSpPr>
          <p:grpSp>
            <p:nvGrpSpPr>
              <p:cNvPr id="460" name="Group 15"/>
              <p:cNvGrpSpPr/>
              <p:nvPr/>
            </p:nvGrpSpPr>
            <p:grpSpPr>
              <a:xfrm>
                <a:off x="1511280" y="2565360"/>
                <a:ext cx="991440" cy="603720"/>
                <a:chOff x="1511280" y="2565360"/>
                <a:chExt cx="991440" cy="603720"/>
              </a:xfrm>
            </p:grpSpPr>
            <p:grpSp>
              <p:nvGrpSpPr>
                <p:cNvPr id="461" name="Group 9"/>
                <p:cNvGrpSpPr/>
                <p:nvPr/>
              </p:nvGrpSpPr>
              <p:grpSpPr>
                <a:xfrm>
                  <a:off x="1511280" y="2565360"/>
                  <a:ext cx="991440" cy="603720"/>
                  <a:chOff x="1511280" y="2565360"/>
                  <a:chExt cx="991440" cy="603720"/>
                </a:xfrm>
              </p:grpSpPr>
              <p:sp>
                <p:nvSpPr>
                  <p:cNvPr id="462" name="Oval 6"/>
                  <p:cNvSpPr/>
                  <p:nvPr/>
                </p:nvSpPr>
                <p:spPr>
                  <a:xfrm>
                    <a:off x="1511280" y="2565360"/>
                    <a:ext cx="991440" cy="60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b3b00"/>
                      </a:gs>
                      <a:gs pos="100000">
                        <a:srgbClr val="808000">
                          <a:alpha val="30196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5"/>
                  <p:cNvSpPr/>
                  <p:nvPr/>
                </p:nvSpPr>
                <p:spPr>
                  <a:xfrm>
                    <a:off x="1654560" y="2646720"/>
                    <a:ext cx="713160" cy="43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b3b00"/>
                      </a:gs>
                      <a:gs pos="100000">
                        <a:srgbClr val="808000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4" name="Text Box 10"/>
                <p:cNvSpPr/>
                <p:nvPr/>
              </p:nvSpPr>
              <p:spPr>
                <a:xfrm>
                  <a:off x="1774080" y="2716200"/>
                  <a:ext cx="377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AutoShape 16"/>
              <p:cNvSpPr/>
              <p:nvPr/>
            </p:nvSpPr>
            <p:spPr>
              <a:xfrm>
                <a:off x="2787120" y="2565360"/>
                <a:ext cx="3186720" cy="6037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数字产品的成本结构特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44"/>
            <p:cNvGrpSpPr/>
            <p:nvPr/>
          </p:nvGrpSpPr>
          <p:grpSpPr>
            <a:xfrm>
              <a:off x="1440000" y="3502440"/>
              <a:ext cx="6587640" cy="1473120"/>
              <a:chOff x="1440000" y="3502440"/>
              <a:chExt cx="6587640" cy="1473120"/>
            </a:xfrm>
          </p:grpSpPr>
          <p:sp>
            <p:nvSpPr>
              <p:cNvPr id="467" name="AutoShape 31"/>
              <p:cNvSpPr/>
              <p:nvPr/>
            </p:nvSpPr>
            <p:spPr>
              <a:xfrm>
                <a:off x="1440000" y="3502440"/>
                <a:ext cx="1700280" cy="1473120"/>
              </a:xfrm>
              <a:custGeom>
                <a:avLst/>
                <a:gdLst>
                  <a:gd name="textAreaLeft" fmla="*/ 0 w 1700280"/>
                  <a:gd name="textAreaRight" fmla="*/ 1700640 w 170028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6666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研究与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发成本高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生产制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成本低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32"/>
              <p:cNvSpPr/>
              <p:nvPr/>
            </p:nvSpPr>
            <p:spPr>
              <a:xfrm>
                <a:off x="6327000" y="3502440"/>
                <a:ext cx="1700640" cy="1473120"/>
              </a:xfrm>
              <a:custGeom>
                <a:avLst/>
                <a:gdLst>
                  <a:gd name="textAreaLeft" fmla="*/ 0 w 1700640"/>
                  <a:gd name="textAreaRight" fmla="*/ 1701000 w 170064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销售过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生产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低，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售成本高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33"/>
              <p:cNvSpPr/>
              <p:nvPr/>
            </p:nvSpPr>
            <p:spPr>
              <a:xfrm>
                <a:off x="4697280" y="3502440"/>
                <a:ext cx="1700280" cy="1473120"/>
              </a:xfrm>
              <a:custGeom>
                <a:avLst/>
                <a:gdLst>
                  <a:gd name="textAreaLeft" fmla="*/ 0 w 1700280"/>
                  <a:gd name="textAreaRight" fmla="*/ 1700640 w 170028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数字产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的固定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绝大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数表现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沉没成本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34"/>
              <p:cNvSpPr/>
              <p:nvPr/>
            </p:nvSpPr>
            <p:spPr>
              <a:xfrm>
                <a:off x="3068280" y="3502440"/>
                <a:ext cx="1700640" cy="1473120"/>
              </a:xfrm>
              <a:custGeom>
                <a:avLst/>
                <a:gdLst>
                  <a:gd name="textAreaLeft" fmla="*/ 0 w 1700640"/>
                  <a:gd name="textAreaRight" fmla="*/ 1701000 w 1700640"/>
                  <a:gd name="textAreaTop" fmla="*/ 0 h 1473120"/>
                  <a:gd name="textAreaBottom" fmla="*/ 1473480 h 14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8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生产过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固定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本高，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动成本低。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45"/>
            <p:cNvGrpSpPr/>
            <p:nvPr/>
          </p:nvGrpSpPr>
          <p:grpSpPr>
            <a:xfrm>
              <a:off x="1511280" y="5309280"/>
              <a:ext cx="4461120" cy="603720"/>
              <a:chOff x="1511280" y="5309280"/>
              <a:chExt cx="4461120" cy="603720"/>
            </a:xfrm>
          </p:grpSpPr>
          <p:grpSp>
            <p:nvGrpSpPr>
              <p:cNvPr id="472" name="Group 46"/>
              <p:cNvGrpSpPr/>
              <p:nvPr/>
            </p:nvGrpSpPr>
            <p:grpSpPr>
              <a:xfrm>
                <a:off x="1511280" y="5309280"/>
                <a:ext cx="991080" cy="603720"/>
                <a:chOff x="1511280" y="5309280"/>
                <a:chExt cx="991080" cy="603720"/>
              </a:xfrm>
            </p:grpSpPr>
            <p:grpSp>
              <p:nvGrpSpPr>
                <p:cNvPr id="473" name="Group 47"/>
                <p:cNvGrpSpPr/>
                <p:nvPr/>
              </p:nvGrpSpPr>
              <p:grpSpPr>
                <a:xfrm>
                  <a:off x="1511280" y="5309280"/>
                  <a:ext cx="991080" cy="603720"/>
                  <a:chOff x="1511280" y="5309280"/>
                  <a:chExt cx="991080" cy="603720"/>
                </a:xfrm>
              </p:grpSpPr>
              <p:sp>
                <p:nvSpPr>
                  <p:cNvPr id="474" name="Oval 48"/>
                  <p:cNvSpPr/>
                  <p:nvPr/>
                </p:nvSpPr>
                <p:spPr>
                  <a:xfrm>
                    <a:off x="1511280" y="5309280"/>
                    <a:ext cx="991080" cy="60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185e"/>
                      </a:gs>
                      <a:gs pos="100000">
                        <a:srgbClr val="ff33cc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49"/>
                  <p:cNvSpPr/>
                  <p:nvPr/>
                </p:nvSpPr>
                <p:spPr>
                  <a:xfrm>
                    <a:off x="1654560" y="5390640"/>
                    <a:ext cx="712800" cy="43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6185e"/>
                      </a:gs>
                      <a:gs pos="100000">
                        <a:srgbClr val="ff33cc">
                          <a:alpha val="2000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6" name="Text Box 50"/>
                <p:cNvSpPr/>
                <p:nvPr/>
              </p:nvSpPr>
              <p:spPr>
                <a:xfrm>
                  <a:off x="1774800" y="5459400"/>
                  <a:ext cx="376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AutoShape 51"/>
              <p:cNvSpPr/>
              <p:nvPr/>
            </p:nvSpPr>
            <p:spPr>
              <a:xfrm>
                <a:off x="2785320" y="5309280"/>
                <a:ext cx="3187080" cy="60372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数字产品成本共享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移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选择新产品或新厂商所必须付出的代价为转移成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大多数情况下，网络经济使转移成本增大，从而产生锁定现象。厂商若要吸引新客户，必须补偿他们在抛弃旧产品时，由转移成本带来的损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市场上占有优势的厂商，往往选择增加客户转移成本的策略。市场上的后起之秀，与现有的技术相兼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类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一种类型，是客户因抛弃旧的软硬件而产生，如耐用品购买、针对品牌的培训、信息和数据库、搜索成本等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种类型，是客户因抛弃旧的关系网而产生的转移成本，如合同义务、专门供应商和忠诚顾客计划等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三种类型是客户因对旧产品信任和依赖而产生的心理成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移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466560" y="428760"/>
            <a:ext cx="54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Freeform 62" descr=""/>
          <p:cNvPicPr/>
          <p:nvPr/>
        </p:nvPicPr>
        <p:blipFill>
          <a:blip r:embed="rId1"/>
          <a:stretch/>
        </p:blipFill>
        <p:spPr>
          <a:xfrm>
            <a:off x="1243080" y="3736800"/>
            <a:ext cx="6675480" cy="1060560"/>
          </a:xfrm>
          <a:prstGeom prst="rect">
            <a:avLst/>
          </a:prstGeom>
          <a:ln w="0">
            <a:noFill/>
          </a:ln>
        </p:spPr>
      </p:pic>
      <p:pic>
        <p:nvPicPr>
          <p:cNvPr id="220" name="Freeform 67" descr=""/>
          <p:cNvPicPr/>
          <p:nvPr/>
        </p:nvPicPr>
        <p:blipFill>
          <a:blip r:embed="rId2"/>
          <a:stretch/>
        </p:blipFill>
        <p:spPr>
          <a:xfrm>
            <a:off x="1243080" y="2651040"/>
            <a:ext cx="6669000" cy="1025640"/>
          </a:xfrm>
          <a:prstGeom prst="rect">
            <a:avLst/>
          </a:prstGeom>
          <a:ln w="0">
            <a:noFill/>
          </a:ln>
        </p:spPr>
      </p:pic>
      <p:pic>
        <p:nvPicPr>
          <p:cNvPr id="221" name="Freeform 70" descr=""/>
          <p:cNvPicPr/>
          <p:nvPr/>
        </p:nvPicPr>
        <p:blipFill>
          <a:blip r:embed="rId3"/>
          <a:stretch/>
        </p:blipFill>
        <p:spPr>
          <a:xfrm>
            <a:off x="1249200" y="1682640"/>
            <a:ext cx="6662880" cy="957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5"/>
          <p:cNvSpPr/>
          <p:nvPr/>
        </p:nvSpPr>
        <p:spPr>
          <a:xfrm>
            <a:off x="2049480" y="4087440"/>
            <a:ext cx="565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数字产品的成本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1976400" y="2712960"/>
            <a:ext cx="655812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数字产品的经济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1979640" y="1915920"/>
            <a:ext cx="540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掌握信息产品和数字产品的含义及基本特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圆角矩形 21" descr=""/>
          <p:cNvPicPr/>
          <p:nvPr/>
        </p:nvPicPr>
        <p:blipFill>
          <a:blip r:embed="rId4"/>
          <a:stretch/>
        </p:blipFill>
        <p:spPr>
          <a:xfrm>
            <a:off x="1243080" y="1841400"/>
            <a:ext cx="561960" cy="773280"/>
          </a:xfrm>
          <a:prstGeom prst="rect">
            <a:avLst/>
          </a:prstGeom>
          <a:ln w="0">
            <a:noFill/>
          </a:ln>
        </p:spPr>
      </p:pic>
      <p:pic>
        <p:nvPicPr>
          <p:cNvPr id="226" name="圆角矩形 26" descr=""/>
          <p:cNvPicPr/>
          <p:nvPr/>
        </p:nvPicPr>
        <p:blipFill>
          <a:blip r:embed="rId5"/>
          <a:stretch/>
        </p:blipFill>
        <p:spPr>
          <a:xfrm>
            <a:off x="1305000" y="2895480"/>
            <a:ext cx="560160" cy="768600"/>
          </a:xfrm>
          <a:prstGeom prst="rect">
            <a:avLst/>
          </a:prstGeom>
          <a:ln w="0">
            <a:noFill/>
          </a:ln>
        </p:spPr>
      </p:pic>
      <p:pic>
        <p:nvPicPr>
          <p:cNvPr id="227" name="圆角矩形 21" descr=""/>
          <p:cNvPicPr/>
          <p:nvPr/>
        </p:nvPicPr>
        <p:blipFill>
          <a:blip r:embed="rId6"/>
          <a:stretch/>
        </p:blipFill>
        <p:spPr>
          <a:xfrm>
            <a:off x="1298520" y="4005360"/>
            <a:ext cx="560520" cy="768240"/>
          </a:xfrm>
          <a:prstGeom prst="rect">
            <a:avLst/>
          </a:prstGeom>
          <a:ln w="0">
            <a:noFill/>
          </a:ln>
        </p:spPr>
      </p:pic>
      <p:pic>
        <p:nvPicPr>
          <p:cNvPr id="228" name="圆角矩形 26" descr=""/>
          <p:cNvPicPr/>
          <p:nvPr/>
        </p:nvPicPr>
        <p:blipFill>
          <a:blip r:embed="rId7"/>
          <a:stretch/>
        </p:blipFill>
        <p:spPr>
          <a:xfrm>
            <a:off x="1305000" y="4932360"/>
            <a:ext cx="56016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转换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58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企业进行新决策或选择新技术时必须付出的代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转换成本一般与以下改变相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观念与心理的改变：观念或价值观是一个组织在决策过程中的取舍标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制度的改变：建立和巩固旧制度时，曾经付出过巨大的代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知识的改变：企业采用新技术或新的生产经营方式时，可能需要新的知识、新的人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、基础设施的改变：由于网络经济中技术的快速变化，企业在基础设施上的投入，可能大多数为沉没成本。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交易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8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定义：为了使市场交易活动顺利进行，用于搜索、协调和监督的成本，称为交易成本。交易成本是商品价格的组成部分之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内容：市场信息成本、合同谈判成本、合同履行成本和运输成本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交易成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</a:rPr>
              <a:t>网络经济的显著特征之一，是交易成本大幅度下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市场规模成反向关系：市场规模越大，单位产品承担的交易成本越小，反之则越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交易环节的多少成正向关系：交易环节越多，交易成本就越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与信息传递速度及信息的对称性成反向关系：信息传递速度越快，信息的对称性越强，各项交易成本就越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数字产品的经济特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22"/>
          <p:cNvGrpSpPr/>
          <p:nvPr/>
        </p:nvGrpSpPr>
        <p:grpSpPr>
          <a:xfrm>
            <a:off x="1403280" y="1413000"/>
            <a:ext cx="4537080" cy="649080"/>
            <a:chOff x="1403280" y="1413000"/>
            <a:chExt cx="4537080" cy="649080"/>
          </a:xfrm>
        </p:grpSpPr>
        <p:grpSp>
          <p:nvGrpSpPr>
            <p:cNvPr id="490" name="Group 15"/>
            <p:cNvGrpSpPr/>
            <p:nvPr/>
          </p:nvGrpSpPr>
          <p:grpSpPr>
            <a:xfrm>
              <a:off x="1403280" y="1413000"/>
              <a:ext cx="1007640" cy="648720"/>
              <a:chOff x="1403280" y="1413000"/>
              <a:chExt cx="1007640" cy="648720"/>
            </a:xfrm>
          </p:grpSpPr>
          <p:grpSp>
            <p:nvGrpSpPr>
              <p:cNvPr id="491" name="Group 6"/>
              <p:cNvGrpSpPr/>
              <p:nvPr/>
            </p:nvGrpSpPr>
            <p:grpSpPr>
              <a:xfrm>
                <a:off x="1403280" y="1413000"/>
                <a:ext cx="1007640" cy="648720"/>
                <a:chOff x="1403280" y="1413000"/>
                <a:chExt cx="1007640" cy="648720"/>
              </a:xfrm>
            </p:grpSpPr>
            <p:sp>
              <p:nvSpPr>
                <p:cNvPr id="492" name="Oval 7"/>
                <p:cNvSpPr/>
                <p:nvPr/>
              </p:nvSpPr>
              <p:spPr>
                <a:xfrm>
                  <a:off x="1403280" y="1413000"/>
                  <a:ext cx="100764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7618"/>
                    </a:gs>
                    <a:gs pos="100000">
                      <a:srgbClr val="66ff33">
                        <a:alpha val="2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8"/>
                <p:cNvSpPr/>
                <p:nvPr/>
              </p:nvSpPr>
              <p:spPr>
                <a:xfrm>
                  <a:off x="1549080" y="1500480"/>
                  <a:ext cx="724680" cy="46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7618"/>
                    </a:gs>
                    <a:gs pos="100000">
                      <a:srgbClr val="66ff33">
                        <a:alpha val="2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Text Box 9"/>
              <p:cNvSpPr/>
              <p:nvPr/>
            </p:nvSpPr>
            <p:spPr>
              <a:xfrm>
                <a:off x="1692360" y="1555560"/>
                <a:ext cx="382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AutoShape 10"/>
            <p:cNvSpPr/>
            <p:nvPr/>
          </p:nvSpPr>
          <p:spPr>
            <a:xfrm>
              <a:off x="2700360" y="1413000"/>
              <a:ext cx="3240000" cy="6490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数字产品的效用特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AutoShape 25"/>
          <p:cNvSpPr/>
          <p:nvPr/>
        </p:nvSpPr>
        <p:spPr>
          <a:xfrm>
            <a:off x="2268360" y="2492280"/>
            <a:ext cx="4535640" cy="1440000"/>
          </a:xfrm>
          <a:prstGeom prst="bevel">
            <a:avLst>
              <a:gd name="adj" fmla="val 12500"/>
            </a:avLst>
          </a:prstGeom>
          <a:solidFill>
            <a:srgbClr val="9933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信息与数字产品的效用：指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在占有，使用或者消费某种数字信息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品时所得到的快乐和满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4"/>
          <p:cNvGrpSpPr/>
          <p:nvPr/>
        </p:nvGrpSpPr>
        <p:grpSpPr>
          <a:xfrm>
            <a:off x="1044720" y="4292640"/>
            <a:ext cx="7199280" cy="1942920"/>
            <a:chOff x="1044720" y="4292640"/>
            <a:chExt cx="7199280" cy="1942920"/>
          </a:xfrm>
        </p:grpSpPr>
        <p:sp>
          <p:nvSpPr>
            <p:cNvPr id="498" name="AutoShape 24"/>
            <p:cNvSpPr/>
            <p:nvPr/>
          </p:nvSpPr>
          <p:spPr>
            <a:xfrm>
              <a:off x="3995640" y="4292640"/>
              <a:ext cx="1152720" cy="1368360"/>
            </a:xfrm>
            <a:prstGeom prst="upArrowCallout">
              <a:avLst>
                <a:gd name="adj1" fmla="val 25002"/>
                <a:gd name="adj2" fmla="val 25000"/>
                <a:gd name="adj3" fmla="val 19785"/>
                <a:gd name="adj4" fmla="val 66660"/>
              </a:avLst>
            </a:prstGeom>
            <a:solidFill>
              <a:srgbClr val="4f81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数字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的效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6"/>
            <p:cNvSpPr/>
            <p:nvPr/>
          </p:nvSpPr>
          <p:spPr>
            <a:xfrm>
              <a:off x="1044720" y="4292640"/>
              <a:ext cx="2879640" cy="1942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消费者消费商品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随着消费数量的增加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效用增大，但到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定的极限值以后，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费数量增加，将导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效用减少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8"/>
            <p:cNvSpPr/>
            <p:nvPr/>
          </p:nvSpPr>
          <p:spPr>
            <a:xfrm>
              <a:off x="5364000" y="4292640"/>
              <a:ext cx="2880000" cy="1942920"/>
            </a:xfrm>
            <a:custGeom>
              <a:avLst/>
              <a:gdLst>
                <a:gd name="textAreaLeft" fmla="*/ 0 w 2880000"/>
                <a:gd name="textAreaRight" fmla="*/ 2880360 w 288000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但边际效用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减规律对数字产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不适用。数字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所带来的效用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数量无关，而与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次数相关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26B-2E2A-4F7E-938E-0D09FF15D205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15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Calibri"/>
                <a:ea typeface="微软雅黑"/>
              </a:rPr>
              <a:t>思考与练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图片 2" descr=""/>
          <p:cNvPicPr/>
          <p:nvPr/>
        </p:nvPicPr>
        <p:blipFill>
          <a:blip r:embed="rId1"/>
          <a:stretch/>
        </p:blipFill>
        <p:spPr>
          <a:xfrm>
            <a:off x="4606920" y="404640"/>
            <a:ext cx="4178160" cy="26798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358920" y="3187440"/>
            <a:ext cx="8100720" cy="1739880"/>
          </a:xfrm>
          <a:prstGeom prst="rect">
            <a:avLst/>
          </a:prstGeom>
          <a:solidFill>
            <a:srgbClr val="ffff00">
              <a:alpha val="14000"/>
            </a:srgbClr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息产品和数字产品的概念及区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产品的经济学特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产品的成本构成与一般产品有何不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C750-C442-4923-BB46-5D1D4E93655D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576360" y="836640"/>
            <a:ext cx="4998960" cy="3676680"/>
          </a:xfrm>
          <a:prstGeom prst="rect">
            <a:avLst/>
          </a:prstGeom>
          <a:ln w="0">
            <a:noFill/>
          </a:ln>
        </p:spPr>
      </p:pic>
      <p:sp>
        <p:nvSpPr>
          <p:cNvPr id="507" name="TextBox 27"/>
          <p:cNvSpPr/>
          <p:nvPr/>
        </p:nvSpPr>
        <p:spPr>
          <a:xfrm>
            <a:off x="5003640" y="299736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712-4A53-48BC-AC87-CEFE46FBD0F0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3"/>
          <p:cNvSpPr/>
          <p:nvPr/>
        </p:nvSpPr>
        <p:spPr>
          <a:xfrm>
            <a:off x="2411280" y="4284720"/>
            <a:ext cx="361980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8000" y="728640"/>
            <a:ext cx="30146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微软雅黑"/>
                <a:ea typeface="微软雅黑"/>
              </a:rPr>
              <a:t>本章目录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33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6"/>
          <p:cNvSpPr/>
          <p:nvPr/>
        </p:nvSpPr>
        <p:spPr>
          <a:xfrm>
            <a:off x="2408400" y="2282760"/>
            <a:ext cx="356868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与信息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27"/>
          <p:cNvSpPr/>
          <p:nvPr/>
        </p:nvSpPr>
        <p:spPr>
          <a:xfrm>
            <a:off x="2195640" y="2131920"/>
            <a:ext cx="393480" cy="316080"/>
          </a:xfrm>
          <a:prstGeom prst="ellipse">
            <a:avLst/>
          </a:prstGeom>
          <a:solidFill>
            <a:srgbClr val="e46c0a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0"/>
          <p:cNvSpPr/>
          <p:nvPr/>
        </p:nvSpPr>
        <p:spPr>
          <a:xfrm>
            <a:off x="2408400" y="2984400"/>
            <a:ext cx="3619440" cy="4446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51"/>
          <p:cNvSpPr/>
          <p:nvPr/>
        </p:nvSpPr>
        <p:spPr>
          <a:xfrm>
            <a:off x="2195640" y="2833560"/>
            <a:ext cx="393480" cy="317520"/>
          </a:xfrm>
          <a:prstGeom prst="ellipse">
            <a:avLst/>
          </a:prstGeom>
          <a:solidFill>
            <a:srgbClr val="604a7b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3"/>
          <p:cNvSpPr/>
          <p:nvPr/>
        </p:nvSpPr>
        <p:spPr>
          <a:xfrm>
            <a:off x="2408400" y="3633840"/>
            <a:ext cx="3619440" cy="442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的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4"/>
          <p:cNvSpPr/>
          <p:nvPr/>
        </p:nvSpPr>
        <p:spPr>
          <a:xfrm>
            <a:off x="2195640" y="3483000"/>
            <a:ext cx="393480" cy="315720"/>
          </a:xfrm>
          <a:prstGeom prst="ellipse">
            <a:avLst/>
          </a:prstGeom>
          <a:solidFill>
            <a:srgbClr val="0070c0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27"/>
          <p:cNvSpPr/>
          <p:nvPr/>
        </p:nvSpPr>
        <p:spPr>
          <a:xfrm>
            <a:off x="2195640" y="4076640"/>
            <a:ext cx="393480" cy="316080"/>
          </a:xfrm>
          <a:prstGeom prst="ellipse">
            <a:avLst/>
          </a:prstGeom>
          <a:solidFill>
            <a:srgbClr val="ff99cc"/>
          </a:solidFill>
          <a:ln w="76320">
            <a:solidFill>
              <a:srgbClr val="d9d9d9">
                <a:alpha val="64000"/>
              </a:srgbClr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2411280" y="4292640"/>
            <a:ext cx="36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字产品的成本及效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C9DE-B157-44EE-9557-842D8EFB0AF1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46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249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信息的定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254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信息的表现形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一节 信息与信息商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63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25"/>
          <p:cNvSpPr/>
          <p:nvPr/>
        </p:nvSpPr>
        <p:spPr>
          <a:xfrm>
            <a:off x="2087640" y="3105000"/>
            <a:ext cx="4371840" cy="64008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的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流程图: 联系 27"/>
          <p:cNvSpPr/>
          <p:nvPr/>
        </p:nvSpPr>
        <p:spPr>
          <a:xfrm>
            <a:off x="1871640" y="3429000"/>
            <a:ext cx="331920" cy="128520"/>
          </a:xfrm>
          <a:prstGeom prst="flowChartConnector">
            <a:avLst/>
          </a:prstGeom>
          <a:solidFill>
            <a:srgbClr val="b3a2c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5"/>
          <p:cNvSpPr/>
          <p:nvPr/>
        </p:nvSpPr>
        <p:spPr>
          <a:xfrm>
            <a:off x="2195640" y="4184640"/>
            <a:ext cx="4371840" cy="63972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息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流程图: 联系 27"/>
          <p:cNvSpPr/>
          <p:nvPr/>
        </p:nvSpPr>
        <p:spPr>
          <a:xfrm>
            <a:off x="1979640" y="4400640"/>
            <a:ext cx="331920" cy="128520"/>
          </a:xfrm>
          <a:prstGeom prst="flowChartConnector">
            <a:avLst/>
          </a:prstGeom>
          <a:solidFill>
            <a:srgbClr val="00cc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6B9C-C6D2-427E-95FE-FE0C4AA9C955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74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535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一节 信息与信息商品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281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1"/>
          <p:cNvSpPr/>
          <p:nvPr/>
        </p:nvSpPr>
        <p:spPr>
          <a:xfrm>
            <a:off x="2049480" y="4297320"/>
            <a:ext cx="0" cy="318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3"/>
          <p:cNvSpPr/>
          <p:nvPr/>
        </p:nvSpPr>
        <p:spPr>
          <a:xfrm>
            <a:off x="2060640" y="460368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6360" y="1052640"/>
            <a:ext cx="799308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信息定义的五种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信息是区别与物质、能量的另一个构成世界的重要因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信息是客观世界各种事物变化和特征的反映，信息是事物运动的状态和方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接受信息的认识主题来定义，说明认识主体由于得到了信息而增进了对客观对象的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传输中信息所依附的载体来定义。说明信息作为内容有它外在的表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80808"/>
                </a:solidFill>
                <a:latin typeface="宋体"/>
              </a:rPr>
              <a:t>）从信息的发送、传输、接收的统一中客体和主体之间的相互作用来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65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的特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6560" y="1592280"/>
            <a:ext cx="2810160" cy="39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客观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价值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分享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扩散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再现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积累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开发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4788000" y="1592280"/>
            <a:ext cx="3779640" cy="37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不可分割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时效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传递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传递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加工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存储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延续性和继承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" y="5589720"/>
            <a:ext cx="669780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可再生性和可增值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6560" y="126828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）信息商品脱胎于物质商品，在历史上后于物质商品发挥商品的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80808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宋体"/>
              </a:rPr>
              <a:t>）任何一种物质商品本身都包含着一定的信息成分，一种商品本身是作为物质商品，还是作为信息商品进入市场，主要取决于该类商品中两种成分的比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2b2f"/>
                </a:solidFill>
                <a:latin typeface="Calibri"/>
              </a:rPr>
              <a:t>间接性、重复使用性、对象性、效益性、时效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商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信息商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价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df2b2f"/>
                </a:solidFill>
                <a:latin typeface="Calibri"/>
              </a:rPr>
              <a:t>信息商品的使用价值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是指信息商品所包含的信息内容的自然属性，即能够为消费者带来一定的效用或满足程度的性质。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zh-CN" sz="2400" spc="-1" strike="noStrike">
                <a:solidFill>
                  <a:srgbClr val="df2b2f"/>
                </a:solidFill>
                <a:latin typeface="Calibri"/>
              </a:rPr>
              <a:t>信息商品的价值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是指凝结在信息产品中的人类劳动，它是信息商品的社会属性，体现出信息生产者和信息需求者之间的联系，亦即他们之间交换劳动的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灯片编号占位符 5"/>
          <p:cNvSpPr/>
          <p:nvPr/>
        </p:nvSpPr>
        <p:spPr>
          <a:xfrm>
            <a:off x="6300720" y="634536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50CA-8C93-4866-B695-2EF5B989E41F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28"/>
          <p:cNvGrpSpPr/>
          <p:nvPr/>
        </p:nvGrpSpPr>
        <p:grpSpPr>
          <a:xfrm>
            <a:off x="7704000" y="2349360"/>
            <a:ext cx="648000" cy="453960"/>
            <a:chOff x="7704000" y="2349360"/>
            <a:chExt cx="648000" cy="453960"/>
          </a:xfrm>
        </p:grpSpPr>
        <p:sp>
          <p:nvSpPr>
            <p:cNvPr id="299" name="AutoShape 129"/>
            <p:cNvSpPr/>
            <p:nvPr/>
          </p:nvSpPr>
          <p:spPr>
            <a:xfrm>
              <a:off x="7991640" y="249228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12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30"/>
            <p:cNvSpPr/>
            <p:nvPr/>
          </p:nvSpPr>
          <p:spPr>
            <a:xfrm>
              <a:off x="7704000" y="2349360"/>
              <a:ext cx="360360" cy="311040"/>
            </a:xfrm>
            <a:prstGeom prst="hexagon">
              <a:avLst>
                <a:gd name="adj" fmla="val 28964"/>
                <a:gd name="vf" fmla="val 115470"/>
              </a:avLst>
            </a:prstGeom>
            <a:solidFill>
              <a:srgbClr val="0066ff">
                <a:alpha val="5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"/>
          <p:cNvGrpSpPr/>
          <p:nvPr/>
        </p:nvGrpSpPr>
        <p:grpSpPr>
          <a:xfrm>
            <a:off x="1871640" y="1387440"/>
            <a:ext cx="4537080" cy="647640"/>
            <a:chOff x="1871640" y="1387440"/>
            <a:chExt cx="4537080" cy="647640"/>
          </a:xfrm>
        </p:grpSpPr>
        <p:sp>
          <p:nvSpPr>
            <p:cNvPr id="302" name="TextBox 11"/>
            <p:cNvSpPr/>
            <p:nvPr/>
          </p:nvSpPr>
          <p:spPr>
            <a:xfrm>
              <a:off x="2036520" y="138744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定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12"/>
            <p:cNvSpPr/>
            <p:nvPr/>
          </p:nvSpPr>
          <p:spPr>
            <a:xfrm>
              <a:off x="2049120" y="1716120"/>
              <a:ext cx="0" cy="318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流程图: 联系 13"/>
            <p:cNvSpPr/>
            <p:nvPr/>
          </p:nvSpPr>
          <p:spPr>
            <a:xfrm>
              <a:off x="1871640" y="1701720"/>
              <a:ext cx="331560" cy="128520"/>
            </a:xfrm>
            <a:prstGeom prst="flowChartConnector">
              <a:avLst/>
            </a:prstGeom>
            <a:solidFill>
              <a:srgbClr val="00b0f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rmAutofit fontScale="1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14"/>
            <p:cNvSpPr/>
            <p:nvPr/>
          </p:nvSpPr>
          <p:spPr>
            <a:xfrm>
              <a:off x="2060280" y="202572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15"/>
          <p:cNvGrpSpPr/>
          <p:nvPr/>
        </p:nvGrpSpPr>
        <p:grpSpPr>
          <a:xfrm>
            <a:off x="1871640" y="2241720"/>
            <a:ext cx="4537080" cy="647640"/>
            <a:chOff x="1871640" y="2241720"/>
            <a:chExt cx="4537080" cy="647640"/>
          </a:xfrm>
        </p:grpSpPr>
        <p:sp>
          <p:nvSpPr>
            <p:cNvPr id="307" name="TextBox 16"/>
            <p:cNvSpPr/>
            <p:nvPr/>
          </p:nvSpPr>
          <p:spPr>
            <a:xfrm>
              <a:off x="2036520" y="2241720"/>
              <a:ext cx="4372200" cy="63972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分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7"/>
            <p:cNvSpPr/>
            <p:nvPr/>
          </p:nvSpPr>
          <p:spPr>
            <a:xfrm>
              <a:off x="2049120" y="2570400"/>
              <a:ext cx="0" cy="318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联系 18"/>
            <p:cNvSpPr/>
            <p:nvPr/>
          </p:nvSpPr>
          <p:spPr>
            <a:xfrm>
              <a:off x="1871640" y="2556000"/>
              <a:ext cx="331560" cy="126720"/>
            </a:xfrm>
            <a:prstGeom prst="flowChartConnector">
              <a:avLst/>
            </a:prstGeom>
            <a:solidFill>
              <a:srgbClr val="ffc000"/>
            </a:solidFill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rmAutofit fontScale="1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19"/>
            <p:cNvSpPr/>
            <p:nvPr/>
          </p:nvSpPr>
          <p:spPr>
            <a:xfrm>
              <a:off x="2060280" y="2876760"/>
              <a:ext cx="63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26"/>
          <p:cNvSpPr/>
          <p:nvPr/>
        </p:nvSpPr>
        <p:spPr>
          <a:xfrm>
            <a:off x="1224000" y="4292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bfbfbf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8"/>
          <p:cNvSpPr/>
          <p:nvPr/>
        </p:nvSpPr>
        <p:spPr>
          <a:xfrm>
            <a:off x="7596360" y="83664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8"/>
          <p:cNvSpPr/>
          <p:nvPr/>
        </p:nvSpPr>
        <p:spPr>
          <a:xfrm>
            <a:off x="900000" y="5265720"/>
            <a:ext cx="360360" cy="311040"/>
          </a:xfrm>
          <a:prstGeom prst="hexagon">
            <a:avLst>
              <a:gd name="adj" fmla="val 28964"/>
              <a:gd name="vf" fmla="val 115470"/>
            </a:avLst>
          </a:prstGeom>
          <a:solidFill>
            <a:srgbClr val="aae600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6360" y="296640"/>
            <a:ext cx="46432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c0504d"/>
                </a:solidFill>
                <a:latin typeface="微软雅黑"/>
                <a:ea typeface="微软雅黑"/>
              </a:rPr>
              <a:t>第二节 数字产品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组合 127"/>
          <p:cNvGrpSpPr/>
          <p:nvPr/>
        </p:nvGrpSpPr>
        <p:grpSpPr>
          <a:xfrm>
            <a:off x="250920" y="324000"/>
            <a:ext cx="264960" cy="417240"/>
            <a:chOff x="250920" y="324000"/>
            <a:chExt cx="264960" cy="417240"/>
          </a:xfrm>
        </p:grpSpPr>
        <p:sp>
          <p:nvSpPr>
            <p:cNvPr id="316" name="直接连接符 128"/>
            <p:cNvSpPr/>
            <p:nvPr/>
          </p:nvSpPr>
          <p:spPr>
            <a:xfrm>
              <a:off x="515880" y="324000"/>
              <a:ext cx="0" cy="417240"/>
            </a:xfrm>
            <a:prstGeom prst="line">
              <a:avLst/>
            </a:prstGeom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29"/>
            <p:cNvSpPr/>
            <p:nvPr/>
          </p:nvSpPr>
          <p:spPr>
            <a:xfrm>
              <a:off x="376200" y="324000"/>
              <a:ext cx="0" cy="298440"/>
            </a:xfrm>
            <a:prstGeom prst="line">
              <a:avLst/>
            </a:prstGeom>
            <a:ln w="57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直接连接符 130"/>
            <p:cNvSpPr/>
            <p:nvPr/>
          </p:nvSpPr>
          <p:spPr>
            <a:xfrm>
              <a:off x="250920" y="325440"/>
              <a:ext cx="0" cy="1490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直接连接符 26"/>
          <p:cNvSpPr/>
          <p:nvPr/>
        </p:nvSpPr>
        <p:spPr>
          <a:xfrm>
            <a:off x="2049480" y="3443400"/>
            <a:ext cx="0" cy="3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28"/>
          <p:cNvSpPr/>
          <p:nvPr/>
        </p:nvSpPr>
        <p:spPr>
          <a:xfrm>
            <a:off x="2060640" y="3753000"/>
            <a:ext cx="631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sy</dc:creator>
  <dc:description/>
  <dc:language>en-US</dc:language>
  <cp:lastModifiedBy>AutoBVT</cp:lastModifiedBy>
  <dcterms:modified xsi:type="dcterms:W3CDTF">2018-09-01T01:09:40Z</dcterms:modified>
  <cp:revision>191</cp:revision>
  <dc:subject/>
  <dc:title>ch01</dc:title>
</cp:coreProperties>
</file>