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0.wmf" ContentType="image/x-wmf"/>
  <Override PartName="/ppt/media/image21.png" ContentType="image/png"/>
  <Override PartName="/ppt/media/image19.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0"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3"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4"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F7A5D-CC84-4CCA-A5C2-DD92BD53447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0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6426E-1848-4A0E-8C83-E27B2BF5672D}" type="slidenum">
              <a:rPr b="0" lang="zh-CN" sz="1800" spc="-1" strike="noStrike">
                <a:solidFill>
                  <a:srgbClr val="000000"/>
                </a:solidFill>
                <a:latin typeface="Arial"/>
                <a:ea typeface="楷体_GB2312"/>
              </a:rPr>
              <a:t>&lt;number&gt;</a:t>
            </a:fld>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3240C-5B7D-48EC-B608-ACA3F3BDB2C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23" name="PlaceHolder 1"/>
          <p:cNvSpPr>
            <a:spLocks noGrp="1"/>
          </p:cNvSpPr>
          <p:nvPr>
            <p:ph type="sldImg"/>
          </p:nvPr>
        </p:nvSpPr>
        <p:spPr>
          <a:xfrm>
            <a:off x="882720" y="1055520"/>
            <a:ext cx="5051520" cy="3789360"/>
          </a:xfrm>
          <a:prstGeom prst="rect">
            <a:avLst/>
          </a:prstGeom>
          <a:ln w="0">
            <a:noFill/>
          </a:ln>
        </p:spPr>
      </p:sp>
      <p:sp>
        <p:nvSpPr>
          <p:cNvPr id="1024" name="PlaceHolder 2"/>
          <p:cNvSpPr>
            <a:spLocks noGrp="1"/>
          </p:cNvSpPr>
          <p:nvPr>
            <p:ph type="body"/>
          </p:nvPr>
        </p:nvSpPr>
        <p:spPr>
          <a:xfrm>
            <a:off x="917640" y="4971960"/>
            <a:ext cx="5022720" cy="34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672B02-797E-4462-BF0C-49B17D505A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180E6-204A-44F6-890D-E0FA77F59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0A0D4F-3653-454F-97EB-B229758F5C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DCF101-6ED3-467A-AEBB-52FFACA082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0FCA33-7D98-4E3C-A072-3EE063AF57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C5BA32-C28E-4CA6-9A19-8F7495CEFF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84907C-E856-482D-AD9C-7D4D292E99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B65347-E9B2-4973-AA4E-E52B3B943A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FBCB82-63E9-4C3B-BE29-F4B17FE3D2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C937AD-D9AE-417D-B0AE-D4896D0061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91B9440-371A-413E-B344-A841746E931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C97F91F-8AC3-426D-BD6D-32B4139B3BB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F0ACE-12C9-46E3-90A8-F30A5DCF08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F28D674-31C6-4C08-B761-0304B4DD62A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854010F-B2B0-4E7B-AF1D-F0FD42B0518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868A1DE-F918-43E9-B20D-03185717DC5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03E3007-6986-41EC-85D6-8787373B5DC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3E6D15B-5CEA-4884-B421-22201EEBF8C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FEB95C6-BB19-475F-AFB2-8F984907318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ED9442E-391D-42AB-99E9-0E2BF31EEC7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131598B-765D-4933-9871-ED5CB21A9CD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481E22B-5564-497F-BA85-FF2F27F0EF4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9E3B8FE-6F9B-4B48-B629-AA6EC93CD04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D509D7-8D6F-41EB-BABD-0218CB91F6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94EDCC6-D175-4FDA-BE7F-7827422A3BA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4FA5E2-CC41-486A-8709-5081A7CFC3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C895BA-DA9F-42E7-9FAE-875A157E82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72F144-59E8-46CA-A844-A6FD7763FB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0541AD-22A1-4114-9057-B061FC759D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3D1237-7CE7-4424-B9D5-9028C7BEF5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92E2F-61FD-4B1C-99CE-DCAF9FFE63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C8699-1BF1-48AA-932A-4930E411D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C758C-4D20-4F2D-A8FF-4EE5BB43E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AAD5C-AFDF-428F-9B6C-CC67CD7D3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83154-6378-4780-9371-151B0094D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92DC40-68D3-48A0-B0F0-253986E18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0ACE9A-0357-48D8-9959-035F428A2E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79A286-0270-4E1B-875C-80FE587F31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72C1C7-864B-4BA2-B079-3813EDA67E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CEE440-E0A2-4E0B-BA4F-2110E79748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E5CB64-CF58-477D-B5D0-BF2ED41424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70AAFA-3173-4605-9D7F-6E0A956FFB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202FE6-16E8-4C81-BA68-15B8FDA9F3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966D9-CECA-47B0-9A4A-C8979EC4D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91C345-4187-4DA1-8870-43727DBF2C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40058B-7B4E-4E98-9FBA-96F56DB9DF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993C62-C31D-4F9B-BA1C-B0C2B405F7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1B1164-FEEB-434A-BA1E-4EFA0AE29E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43D499-3DA9-4E7B-8223-98DDC92A4F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7E4586-E187-44AE-A64B-272D429961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87575C-A2FC-46E8-B466-83A4BF3D74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45AF0D-0726-49E7-A8D8-33DB232F73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3C9148-6677-4EB8-B1B3-B778A078BB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DE79B0-9A40-4763-B9B0-D67F1BF997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D9318-D5B0-417A-A8DC-0145E284D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51CAF5-BF96-4423-8055-8FD17A2B5A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F8552B-D595-49AD-B6D8-8804E70DEE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A64DDE-28BD-4DC8-B55D-592B593D47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064818-9DBF-47DE-AEEE-F356254BB5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5775B7-7234-4FF6-B0BE-5F69948CAC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8F63A9-D4EC-4749-B4F6-2B3537A579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753C83-9F4D-4A0E-8B56-0F6FDC09C3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91624A-EBDA-474E-905A-7728580AFC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E9914D-0AD3-4A56-A146-93455D6950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8EBE78-157C-44C7-A700-458B9C540B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33E30-5A74-4029-B013-2D26E26B4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2CC0F3-C1D3-4673-80BA-FB16AF0E65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3DD879-5A98-4B41-AF52-C597473914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041F4B-5357-49B6-902E-B43E0E5A3B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E034BC-582B-4BB1-A4E4-C39E61FA7C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B7806F-C52C-4B8D-82D4-D910C44639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520F09-60D8-431E-8F37-769C09EA7F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EC8CA9-0C19-451E-B886-EF74745411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818EA1-46FB-47E6-AD5C-E34D84ED97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343414-8F2B-41D9-9B8A-E6782EE2D9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B5E97E-DF2F-4C81-B6AC-ACCBB2F9BF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CD1BC-64FB-445C-8F90-E3E51CADC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DD3422-1471-47F8-AC56-CD85E4FC23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7DC3BF-88CB-480F-BBBF-1221D0A5AA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7F1D22-A8CD-4173-AC8D-E59613B53B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B553A2-7F43-4D36-BFAC-4E280E692E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F6F9AF-640B-4F50-B54F-A3B100BC29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93B1CC-03A5-4820-9D96-84AD46A086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71BF7B-CE07-45DA-889D-637E486181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BB288F-4892-4BA3-84B6-1F3456384C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73EB95-FB5C-4327-9016-D0898B58C6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400636-4839-4332-B699-B2ABD1C0A7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1A145-DB7C-4046-859D-4D14FE9B4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840F4F-0E20-4010-9018-6CE00E6BDB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10EA53-0E41-40A8-83CB-C779248F2E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8DA47F-3E94-4C3A-A978-6A9C0FA129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70AFA6A-4744-4071-88CF-AD91F1BFB8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EB2AC5-B693-4F4A-AB05-D28ED672B9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C00467-77ED-4AFC-9032-D187A1E752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2920BE-F964-4996-B565-8AA42C3B1B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7E1B29-7E8E-4689-AF16-21267A8032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1866B2-B281-424A-B347-88E37FE296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80DDBC-F688-4383-A19A-FAC129517A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72F65-EF2C-4B7A-89A9-E26241DB0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143154-D3FE-4E9A-AE1C-B7413EF967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AD0E10-E884-4D18-B40B-08A7BCF4DB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956990-A4F0-4E2F-9607-9BCA7061BD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F0E178-1E54-4ADB-8C3D-0C432DBA965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7FD592-B741-4C7B-9C22-773486889C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854F69-8EC5-4981-90F1-8133353F85B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DB383D-FA3A-4D3C-AAA0-47291BCAB9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CC7149-A6D7-4D4F-BAD0-45D19674D7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AC0C35-9870-4ED9-8D96-8E045410D4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5C2512-9458-4BC3-8436-DC5F5A7280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6B401-55CD-422E-AD11-B8E625DED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393131-6815-4980-8C46-8041CBAE59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AF11A0-5C13-4725-A966-246033783C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5B177E-EE6F-4FB3-B68D-119FED9CDF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DE6E0F-A6AE-4F93-B1B8-4C2AF631A5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D4301D-75AF-41EA-A437-662D418E96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97DA9C-94BD-4A60-A144-D630E4050D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991E06-69B0-4D42-AB1C-6CEA72B9A7C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7B9DFDF-E6D8-48F6-8AE2-557B1C074F0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4E60B8-8037-4BBC-8877-70A5F0595D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0C9682-412E-4089-B9BD-13061EC1F39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4C436-2160-4209-8C61-0F9531E79BE2}" type="datetime">
              <a:rPr b="0" lang="zh-CN" sz="1200" spc="-1" strike="noStrike">
                <a:solidFill>
                  <a:srgbClr val="898989"/>
                </a:solidFill>
                <a:latin typeface="Calibri"/>
              </a:rPr>
              <a:t>26/7/28</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1DC7E-98BB-456E-B913-ACC06E532CD3}"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图片 7" descr="图片12.jpg"/>
          <p:cNvPicPr/>
          <p:nvPr/>
        </p:nvPicPr>
        <p:blipFill>
          <a:blip r:embed="rId2"/>
          <a:stretch/>
        </p:blipFill>
        <p:spPr>
          <a:xfrm>
            <a:off x="0" y="0"/>
            <a:ext cx="9144000" cy="6858000"/>
          </a:xfrm>
          <a:prstGeom prst="rect">
            <a:avLst/>
          </a:prstGeom>
          <a:ln w="0">
            <a:noFill/>
          </a:ln>
        </p:spPr>
      </p:pic>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9"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8C292-2A72-4C37-9AD9-5F595E8748CB}" type="datetime">
              <a:rPr b="0" lang="zh-CN" sz="1200" spc="-1" strike="noStrike">
                <a:solidFill>
                  <a:srgbClr val="898989"/>
                </a:solidFill>
                <a:latin typeface="Calibri"/>
              </a:rPr>
              <a:t>26/7/28</a:t>
            </a:fld>
            <a:endParaRPr b="0" lang="en-US" sz="1200" spc="-1" strike="noStrike">
              <a:solidFill>
                <a:srgbClr val="000000"/>
              </a:solidFill>
              <a:latin typeface="Times New Roman"/>
            </a:endParaRPr>
          </a:p>
        </p:txBody>
      </p:sp>
      <p:sp>
        <p:nvSpPr>
          <p:cNvPr id="380"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43303-18FA-43F4-A96A-AA6DE32CD99A}"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579A3-9D31-4CF8-B367-E080E9925664}" type="datetime">
              <a:rPr b="0" lang="zh-CN" sz="1200" spc="-1" strike="noStrike">
                <a:solidFill>
                  <a:srgbClr val="898989"/>
                </a:solidFill>
                <a:latin typeface="Calibri"/>
              </a:rPr>
              <a:t>26/7/28</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33481-9CA6-40E0-9E21-7D104E75DA91}"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图片 15" descr="图片1修改.jpg"/>
          <p:cNvPicPr/>
          <p:nvPr/>
        </p:nvPicPr>
        <p:blipFill>
          <a:blip r:embed="rId2"/>
          <a:stretch/>
        </p:blipFill>
        <p:spPr>
          <a:xfrm>
            <a:off x="0" y="1773360"/>
            <a:ext cx="9144000" cy="508464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164B2-81E8-4DCF-B8B6-A737D709F31A}" type="datetime">
              <a:rPr b="0" lang="zh-CN" sz="1200" spc="-1" strike="noStrike">
                <a:solidFill>
                  <a:srgbClr val="898989"/>
                </a:solidFill>
                <a:latin typeface="Calibri"/>
              </a:rPr>
              <a:t>26/7/28</a:t>
            </a:fld>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AAB35-D116-4DF7-B65A-B238210B6C79}"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图片 6" descr="图片13.jpg"/>
          <p:cNvPicPr/>
          <p:nvPr/>
        </p:nvPicPr>
        <p:blipFill>
          <a:blip r:embed="rId2"/>
          <a:stretch/>
        </p:blipFill>
        <p:spPr>
          <a:xfrm>
            <a:off x="0" y="874800"/>
            <a:ext cx="9144000" cy="598320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09DC2-9DB5-45BE-9C9C-613279ACD32B}" type="datetime">
              <a:rPr b="0" lang="zh-CN" sz="1200" spc="-1" strike="noStrike">
                <a:solidFill>
                  <a:srgbClr val="898989"/>
                </a:solidFill>
                <a:latin typeface="Calibri"/>
              </a:rPr>
              <a:t>26/7/28</a:t>
            </a:fld>
            <a:endParaRPr b="0" lang="en-US" sz="1200" spc="-1" strike="noStrike">
              <a:solidFill>
                <a:srgbClr val="000000"/>
              </a:solidFill>
              <a:latin typeface="Times New Roman"/>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6E78C-B3FF-475D-A853-25178440165D}"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图片 6" descr="图片14.jpg"/>
          <p:cNvPicPr/>
          <p:nvPr/>
        </p:nvPicPr>
        <p:blipFill>
          <a:blip r:embed="rId2"/>
          <a:stretch/>
        </p:blipFill>
        <p:spPr>
          <a:xfrm>
            <a:off x="0" y="1197000"/>
            <a:ext cx="9144000" cy="566100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5DE3E-FA80-441F-AF7E-A91FD09FC2CA}" type="datetime">
              <a:rPr b="0" lang="zh-CN" sz="1200" spc="-1" strike="noStrike">
                <a:solidFill>
                  <a:srgbClr val="898989"/>
                </a:solidFill>
                <a:latin typeface="Calibri"/>
              </a:rPr>
              <a:t>26/7/28</a:t>
            </a:fld>
            <a:endParaRPr b="0" lang="en-US" sz="1200" spc="-1" strike="noStrike">
              <a:solidFill>
                <a:srgbClr val="000000"/>
              </a:solidFill>
              <a:latin typeface="Times New Roman"/>
            </a:endParaRPr>
          </a:p>
        </p:txBody>
      </p:sp>
      <p:sp>
        <p:nvSpPr>
          <p:cNvPr id="17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300360" y="6345360"/>
            <a:ext cx="2590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67F80-AEFF-49F1-9508-B5B7FC36E378}"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图片 7" descr="图片12.jpg"/>
          <p:cNvPicPr/>
          <p:nvPr/>
        </p:nvPicPr>
        <p:blipFill>
          <a:blip r:embed="rId2"/>
          <a:stretch/>
        </p:blipFill>
        <p:spPr>
          <a:xfrm>
            <a:off x="0" y="0"/>
            <a:ext cx="9144000" cy="6858000"/>
          </a:xfrm>
          <a:prstGeom prst="rect">
            <a:avLst/>
          </a:prstGeom>
          <a:ln w="0">
            <a:noFill/>
          </a:ln>
        </p:spPr>
      </p:pic>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1"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470C0-34AC-4DB7-8816-07BB1C7812F2}" type="datetime">
              <a:rPr b="0" lang="zh-CN" sz="1200" spc="-1" strike="noStrike">
                <a:solidFill>
                  <a:srgbClr val="898989"/>
                </a:solidFill>
                <a:latin typeface="Calibri"/>
              </a:rPr>
              <a:t>26/7/28</a:t>
            </a:fld>
            <a:endParaRPr b="0" lang="en-US" sz="1200" spc="-1" strike="noStrike">
              <a:solidFill>
                <a:srgbClr val="000000"/>
              </a:solidFill>
              <a:latin typeface="Times New Roman"/>
            </a:endParaRPr>
          </a:p>
        </p:txBody>
      </p:sp>
      <p:sp>
        <p:nvSpPr>
          <p:cNvPr id="212"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33E7B-844E-4AC8-B4F5-81BA27DE956D}"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图片 15" descr="图片1修改.jpg"/>
          <p:cNvPicPr/>
          <p:nvPr/>
        </p:nvPicPr>
        <p:blipFill>
          <a:blip r:embed="rId2"/>
          <a:stretch/>
        </p:blipFill>
        <p:spPr>
          <a:xfrm>
            <a:off x="0" y="1773360"/>
            <a:ext cx="9144000" cy="508464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3"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3D0E7-18CF-4749-88FA-B1EEB410F188}" type="datetime">
              <a:rPr b="0" lang="zh-CN" sz="1200" spc="-1" strike="noStrike">
                <a:solidFill>
                  <a:srgbClr val="898989"/>
                </a:solidFill>
                <a:latin typeface="Calibri"/>
              </a:rPr>
              <a:t>26/7/28</a:t>
            </a:fld>
            <a:endParaRPr b="0" lang="en-US" sz="1200" spc="-1" strike="noStrike">
              <a:solidFill>
                <a:srgbClr val="000000"/>
              </a:solidFill>
              <a:latin typeface="Times New Roman"/>
            </a:endParaRPr>
          </a:p>
        </p:txBody>
      </p:sp>
      <p:sp>
        <p:nvSpPr>
          <p:cNvPr id="254"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D1B15-2075-432C-8459-DA4763E05902}"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图片 6" descr="图片13.jpg"/>
          <p:cNvPicPr/>
          <p:nvPr/>
        </p:nvPicPr>
        <p:blipFill>
          <a:blip r:embed="rId2"/>
          <a:stretch/>
        </p:blipFill>
        <p:spPr>
          <a:xfrm>
            <a:off x="0" y="874800"/>
            <a:ext cx="9144000" cy="5983200"/>
          </a:xfrm>
          <a:prstGeom prst="rect">
            <a:avLst/>
          </a:prstGeom>
          <a:ln w="0">
            <a:noFill/>
          </a:ln>
        </p:spPr>
      </p:pic>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2FBF9-E6C4-489B-9BC5-38449726AC0E}" type="datetime">
              <a:rPr b="0" lang="zh-CN" sz="1200" spc="-1" strike="noStrike">
                <a:solidFill>
                  <a:srgbClr val="898989"/>
                </a:solidFill>
                <a:latin typeface="Calibri"/>
              </a:rPr>
              <a:t>26/7/28</a:t>
            </a:fld>
            <a:endParaRPr b="0" lang="en-US" sz="1200" spc="-1" strike="noStrike">
              <a:solidFill>
                <a:srgbClr val="000000"/>
              </a:solidFill>
              <a:latin typeface="Times New Roman"/>
            </a:endParaRPr>
          </a:p>
        </p:txBody>
      </p:sp>
      <p:sp>
        <p:nvSpPr>
          <p:cNvPr id="29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2B204-B48E-4877-ADF5-8D35D0634F6F}"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图片 6" descr="图片14.jpg"/>
          <p:cNvPicPr/>
          <p:nvPr/>
        </p:nvPicPr>
        <p:blipFill>
          <a:blip r:embed="rId2"/>
          <a:stretch/>
        </p:blipFill>
        <p:spPr>
          <a:xfrm>
            <a:off x="0" y="1197000"/>
            <a:ext cx="9144000" cy="5661000"/>
          </a:xfrm>
          <a:prstGeom prst="rect">
            <a:avLst/>
          </a:prstGeom>
          <a:ln w="0">
            <a:noFill/>
          </a:ln>
        </p:spPr>
      </p:pic>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7"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38FF8-D483-4996-B4DD-016AB7C87203}" type="datetime">
              <a:rPr b="0" lang="zh-CN" sz="1200" spc="-1" strike="noStrike">
                <a:solidFill>
                  <a:srgbClr val="898989"/>
                </a:solidFill>
                <a:latin typeface="Calibri"/>
              </a:rPr>
              <a:t>26/7/28</a:t>
            </a:fld>
            <a:endParaRPr b="0" lang="en-US" sz="1200" spc="-1" strike="noStrike">
              <a:solidFill>
                <a:srgbClr val="000000"/>
              </a:solidFill>
              <a:latin typeface="Times New Roman"/>
            </a:endParaRPr>
          </a:p>
        </p:txBody>
      </p:sp>
      <p:sp>
        <p:nvSpPr>
          <p:cNvPr id="33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5"/>
          <p:cNvSpPr>
            <a:spLocks noGrp="1"/>
          </p:cNvSpPr>
          <p:nvPr>
            <p:ph type="sldNum" idx="27"/>
          </p:nvPr>
        </p:nvSpPr>
        <p:spPr>
          <a:xfrm>
            <a:off x="6300360" y="6345360"/>
            <a:ext cx="25909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1E78E-11D7-47CE-96B6-10ED522AE4E2}" type="slidenum">
              <a:rPr b="1"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2.png"/><Relationship Id="rId13" Type="http://schemas.openxmlformats.org/officeDocument/2006/relationships/image" Target="../media/image15.png"/><Relationship Id="rId14" Type="http://schemas.openxmlformats.org/officeDocument/2006/relationships/image" Target="../media/image13.png"/><Relationship Id="rId15" Type="http://schemas.openxmlformats.org/officeDocument/2006/relationships/slideLayout" Target="../slideLayouts/slideLayout49.xml"/><Relationship Id="rId1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97.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97.xml"/>
</Relationships>
</file>

<file path=ppt/slides/_rels/slide2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Layout" Target="../slideLayouts/slideLayout25.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116000" y="2023560"/>
            <a:ext cx="6588000" cy="722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第一章 绪论</a:t>
            </a:r>
            <a:endParaRPr b="0" lang="en-US" sz="4000" spc="-1" strike="noStrike">
              <a:solidFill>
                <a:srgbClr val="000000"/>
              </a:solidFill>
              <a:latin typeface="Calibri"/>
            </a:endParaRPr>
          </a:p>
        </p:txBody>
      </p:sp>
      <p:sp>
        <p:nvSpPr>
          <p:cNvPr id="426" name="直接连接符 4"/>
          <p:cNvSpPr/>
          <p:nvPr/>
        </p:nvSpPr>
        <p:spPr>
          <a:xfrm>
            <a:off x="1440000" y="2889360"/>
            <a:ext cx="5940360" cy="0"/>
          </a:xfrm>
          <a:prstGeom prst="line">
            <a:avLst/>
          </a:prstGeom>
          <a:ln w="3492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BEB83-1754-4E19-9C47-400F915AE666}"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601" name="Group 128"/>
          <p:cNvGrpSpPr/>
          <p:nvPr/>
        </p:nvGrpSpPr>
        <p:grpSpPr>
          <a:xfrm>
            <a:off x="7704000" y="2349360"/>
            <a:ext cx="648000" cy="453960"/>
            <a:chOff x="7704000" y="2349360"/>
            <a:chExt cx="648000" cy="453960"/>
          </a:xfrm>
        </p:grpSpPr>
        <p:sp>
          <p:nvSpPr>
            <p:cNvPr id="602"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4" name="组合 10"/>
          <p:cNvGrpSpPr/>
          <p:nvPr/>
        </p:nvGrpSpPr>
        <p:grpSpPr>
          <a:xfrm>
            <a:off x="1871640" y="1376280"/>
            <a:ext cx="4753080" cy="647640"/>
            <a:chOff x="1871640" y="1376280"/>
            <a:chExt cx="4753080" cy="647640"/>
          </a:xfrm>
        </p:grpSpPr>
        <p:sp>
          <p:nvSpPr>
            <p:cNvPr id="605" name="TextBox 11"/>
            <p:cNvSpPr/>
            <p:nvPr/>
          </p:nvSpPr>
          <p:spPr>
            <a:xfrm>
              <a:off x="2044440" y="1376280"/>
              <a:ext cx="458028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网络经济学的发展过程</a:t>
              </a:r>
              <a:endParaRPr b="0" lang="en-US" sz="1800" spc="-1" strike="noStrike">
                <a:solidFill>
                  <a:srgbClr val="000000"/>
                </a:solidFill>
                <a:latin typeface="Arial"/>
              </a:endParaRPr>
            </a:p>
          </p:txBody>
        </p:sp>
        <p:sp>
          <p:nvSpPr>
            <p:cNvPr id="606" name="直接连接符 12"/>
            <p:cNvSpPr/>
            <p:nvPr/>
          </p:nvSpPr>
          <p:spPr>
            <a:xfrm>
              <a:off x="2057040" y="170496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流程图: 联系 13"/>
            <p:cNvSpPr/>
            <p:nvPr/>
          </p:nvSpPr>
          <p:spPr>
            <a:xfrm>
              <a:off x="1871640" y="1690560"/>
              <a:ext cx="347400" cy="12852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608" name="直接连接符 14"/>
            <p:cNvSpPr/>
            <p:nvPr/>
          </p:nvSpPr>
          <p:spPr>
            <a:xfrm>
              <a:off x="2070000" y="2014560"/>
              <a:ext cx="6620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组合 15"/>
          <p:cNvGrpSpPr/>
          <p:nvPr/>
        </p:nvGrpSpPr>
        <p:grpSpPr>
          <a:xfrm>
            <a:off x="1871640" y="2241720"/>
            <a:ext cx="4645080" cy="647640"/>
            <a:chOff x="1871640" y="2241720"/>
            <a:chExt cx="4645080" cy="647640"/>
          </a:xfrm>
        </p:grpSpPr>
        <p:sp>
          <p:nvSpPr>
            <p:cNvPr id="610" name="TextBox 16"/>
            <p:cNvSpPr/>
            <p:nvPr/>
          </p:nvSpPr>
          <p:spPr>
            <a:xfrm>
              <a:off x="2039760" y="2241720"/>
              <a:ext cx="447696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网络经济学的研究内容</a:t>
              </a:r>
              <a:endParaRPr b="0" lang="en-US" sz="1800" spc="-1" strike="noStrike">
                <a:solidFill>
                  <a:srgbClr val="000000"/>
                </a:solidFill>
                <a:latin typeface="Arial"/>
              </a:endParaRPr>
            </a:p>
          </p:txBody>
        </p:sp>
        <p:sp>
          <p:nvSpPr>
            <p:cNvPr id="611" name="直接连接符 17"/>
            <p:cNvSpPr/>
            <p:nvPr/>
          </p:nvSpPr>
          <p:spPr>
            <a:xfrm>
              <a:off x="2054160" y="257040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流程图: 联系 18"/>
            <p:cNvSpPr/>
            <p:nvPr/>
          </p:nvSpPr>
          <p:spPr>
            <a:xfrm>
              <a:off x="1871640" y="2556000"/>
              <a:ext cx="339480" cy="1267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43200" bIns="4320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613" name="直接连接符 19"/>
            <p:cNvSpPr/>
            <p:nvPr/>
          </p:nvSpPr>
          <p:spPr>
            <a:xfrm>
              <a:off x="2065320" y="2876760"/>
              <a:ext cx="6458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4"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PlaceHolder 1"/>
          <p:cNvSpPr>
            <a:spLocks noGrp="1"/>
          </p:cNvSpPr>
          <p:nvPr>
            <p:ph type="title"/>
          </p:nvPr>
        </p:nvSpPr>
        <p:spPr>
          <a:xfrm>
            <a:off x="576000" y="296640"/>
            <a:ext cx="58323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c0504d"/>
                </a:solidFill>
                <a:latin typeface="微软雅黑"/>
                <a:ea typeface="微软雅黑"/>
              </a:rPr>
              <a:t>第二节 网络经济的产生与发展</a:t>
            </a:r>
            <a:endParaRPr b="0" lang="en-US" sz="2900" spc="-1" strike="noStrike">
              <a:solidFill>
                <a:srgbClr val="000000"/>
              </a:solidFill>
              <a:latin typeface="Calibri"/>
            </a:endParaRPr>
          </a:p>
        </p:txBody>
      </p:sp>
      <p:grpSp>
        <p:nvGrpSpPr>
          <p:cNvPr id="618" name="组合 127"/>
          <p:cNvGrpSpPr/>
          <p:nvPr/>
        </p:nvGrpSpPr>
        <p:grpSpPr>
          <a:xfrm>
            <a:off x="250920" y="324000"/>
            <a:ext cx="264960" cy="417240"/>
            <a:chOff x="250920" y="324000"/>
            <a:chExt cx="264960" cy="417240"/>
          </a:xfrm>
        </p:grpSpPr>
        <p:sp>
          <p:nvSpPr>
            <p:cNvPr id="619"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2" name="TextBox 25"/>
          <p:cNvSpPr/>
          <p:nvPr/>
        </p:nvSpPr>
        <p:spPr>
          <a:xfrm>
            <a:off x="2087640" y="3105000"/>
            <a:ext cx="4645080" cy="64008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本书框架</a:t>
            </a:r>
            <a:endParaRPr b="0" lang="en-US" sz="1800" spc="-1" strike="noStrike">
              <a:solidFill>
                <a:srgbClr val="000000"/>
              </a:solidFill>
              <a:latin typeface="Arial"/>
            </a:endParaRPr>
          </a:p>
        </p:txBody>
      </p:sp>
      <p:sp>
        <p:nvSpPr>
          <p:cNvPr id="623" name="直接连接符 26"/>
          <p:cNvSpPr/>
          <p:nvPr/>
        </p:nvSpPr>
        <p:spPr>
          <a:xfrm>
            <a:off x="2049480" y="344340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流程图: 联系 27"/>
          <p:cNvSpPr/>
          <p:nvPr/>
        </p:nvSpPr>
        <p:spPr>
          <a:xfrm>
            <a:off x="1871640" y="3429000"/>
            <a:ext cx="331920" cy="128520"/>
          </a:xfrm>
          <a:prstGeom prst="flowChartConnector">
            <a:avLst/>
          </a:prstGeom>
          <a:solidFill>
            <a:srgbClr val="b3a2c7"/>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3</a:t>
            </a:r>
            <a:endParaRPr b="0" lang="en-US" sz="1800" spc="-1" strike="noStrike">
              <a:solidFill>
                <a:srgbClr val="000000"/>
              </a:solidFill>
              <a:latin typeface="Arial"/>
            </a:endParaRPr>
          </a:p>
        </p:txBody>
      </p:sp>
      <p:sp>
        <p:nvSpPr>
          <p:cNvPr id="625" name="直接连接符 28"/>
          <p:cNvSpPr/>
          <p:nvPr/>
        </p:nvSpPr>
        <p:spPr>
          <a:xfrm>
            <a:off x="2060640" y="37530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直接连接符 31"/>
          <p:cNvSpPr/>
          <p:nvPr/>
        </p:nvSpPr>
        <p:spPr>
          <a:xfrm>
            <a:off x="2049480" y="429732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直接连接符 33"/>
          <p:cNvSpPr/>
          <p:nvPr/>
        </p:nvSpPr>
        <p:spPr>
          <a:xfrm>
            <a:off x="2060640" y="460368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8" name="Group 128"/>
          <p:cNvGrpSpPr/>
          <p:nvPr/>
        </p:nvGrpSpPr>
        <p:grpSpPr>
          <a:xfrm>
            <a:off x="7704000" y="2349360"/>
            <a:ext cx="648000" cy="453960"/>
            <a:chOff x="7704000" y="2349360"/>
            <a:chExt cx="648000" cy="453960"/>
          </a:xfrm>
        </p:grpSpPr>
        <p:sp>
          <p:nvSpPr>
            <p:cNvPr id="62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1" name="组合 10"/>
          <p:cNvGrpSpPr/>
          <p:nvPr/>
        </p:nvGrpSpPr>
        <p:grpSpPr>
          <a:xfrm>
            <a:off x="1224000" y="944640"/>
            <a:ext cx="7235640" cy="647640"/>
            <a:chOff x="1224000" y="944640"/>
            <a:chExt cx="7235640" cy="647640"/>
          </a:xfrm>
        </p:grpSpPr>
        <p:sp>
          <p:nvSpPr>
            <p:cNvPr id="632" name="TextBox 11"/>
            <p:cNvSpPr/>
            <p:nvPr/>
          </p:nvSpPr>
          <p:spPr>
            <a:xfrm>
              <a:off x="1486440" y="944640"/>
              <a:ext cx="697320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网络经济学的起源</a:t>
              </a:r>
              <a:r>
                <a:rPr b="1" lang="en-US" sz="1800" spc="-1" strike="noStrike">
                  <a:solidFill>
                    <a:srgbClr val="ffffff"/>
                  </a:solidFill>
                  <a:latin typeface="Arial"/>
                </a:rPr>
                <a:t>—</a:t>
              </a:r>
              <a:r>
                <a:rPr b="1" lang="zh-CN" sz="1800" spc="-1" strike="noStrike">
                  <a:solidFill>
                    <a:srgbClr val="ffffff"/>
                  </a:solidFill>
                  <a:latin typeface="Arial"/>
                </a:rPr>
                <a:t>通信经济学</a:t>
              </a:r>
              <a:endParaRPr b="0" lang="en-US" sz="1800" spc="-1" strike="noStrike">
                <a:solidFill>
                  <a:srgbClr val="000000"/>
                </a:solidFill>
                <a:latin typeface="Arial"/>
              </a:endParaRPr>
            </a:p>
          </p:txBody>
        </p:sp>
        <p:sp>
          <p:nvSpPr>
            <p:cNvPr id="633" name="直接连接符 12"/>
            <p:cNvSpPr/>
            <p:nvPr/>
          </p:nvSpPr>
          <p:spPr>
            <a:xfrm>
              <a:off x="150624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流程图: 联系 13"/>
            <p:cNvSpPr/>
            <p:nvPr/>
          </p:nvSpPr>
          <p:spPr>
            <a:xfrm>
              <a:off x="1224000" y="1212840"/>
              <a:ext cx="53028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635" name="直接连接符 14"/>
            <p:cNvSpPr/>
            <p:nvPr/>
          </p:nvSpPr>
          <p:spPr>
            <a:xfrm>
              <a:off x="1527120" y="1582920"/>
              <a:ext cx="1004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6"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PlaceHolder 1"/>
          <p:cNvSpPr>
            <a:spLocks noGrp="1"/>
          </p:cNvSpPr>
          <p:nvPr>
            <p:ph type="title"/>
          </p:nvPr>
        </p:nvSpPr>
        <p:spPr>
          <a:xfrm>
            <a:off x="576000" y="296640"/>
            <a:ext cx="723564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一、网络经济学的发展过程</a:t>
            </a:r>
            <a:endParaRPr b="0" lang="en-US" sz="3200" spc="-1" strike="noStrike">
              <a:solidFill>
                <a:srgbClr val="000000"/>
              </a:solidFill>
              <a:latin typeface="Calibri"/>
            </a:endParaRPr>
          </a:p>
        </p:txBody>
      </p:sp>
      <p:grpSp>
        <p:nvGrpSpPr>
          <p:cNvPr id="639" name="组合 127"/>
          <p:cNvGrpSpPr/>
          <p:nvPr/>
        </p:nvGrpSpPr>
        <p:grpSpPr>
          <a:xfrm>
            <a:off x="250920" y="324000"/>
            <a:ext cx="264960" cy="417240"/>
            <a:chOff x="250920" y="324000"/>
            <a:chExt cx="264960" cy="417240"/>
          </a:xfrm>
        </p:grpSpPr>
        <p:sp>
          <p:nvSpPr>
            <p:cNvPr id="640"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3"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4"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45" name="组合 10"/>
          <p:cNvGrpSpPr/>
          <p:nvPr/>
        </p:nvGrpSpPr>
        <p:grpSpPr>
          <a:xfrm>
            <a:off x="1008000" y="3321000"/>
            <a:ext cx="7451640" cy="647640"/>
            <a:chOff x="1008000" y="3321000"/>
            <a:chExt cx="7451640" cy="647640"/>
          </a:xfrm>
        </p:grpSpPr>
        <p:sp>
          <p:nvSpPr>
            <p:cNvPr id="646" name="TextBox 11"/>
            <p:cNvSpPr/>
            <p:nvPr/>
          </p:nvSpPr>
          <p:spPr>
            <a:xfrm>
              <a:off x="1278360" y="3321000"/>
              <a:ext cx="718128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网络经济学的发展</a:t>
              </a:r>
              <a:r>
                <a:rPr b="1" lang="en-US" sz="1800" spc="-1" strike="noStrike">
                  <a:solidFill>
                    <a:srgbClr val="ffffff"/>
                  </a:solidFill>
                  <a:latin typeface="Arial"/>
                </a:rPr>
                <a:t>—</a:t>
              </a:r>
              <a:r>
                <a:rPr b="1" lang="zh-CN" sz="1800" spc="-1" strike="noStrike">
                  <a:solidFill>
                    <a:srgbClr val="ffffff"/>
                  </a:solidFill>
                  <a:latin typeface="Arial"/>
                </a:rPr>
                <a:t>关于网络特征的分析</a:t>
              </a:r>
              <a:endParaRPr b="0" lang="en-US" sz="1800" spc="-1" strike="noStrike">
                <a:solidFill>
                  <a:srgbClr val="000000"/>
                </a:solidFill>
                <a:latin typeface="Arial"/>
              </a:endParaRPr>
            </a:p>
          </p:txBody>
        </p:sp>
        <p:sp>
          <p:nvSpPr>
            <p:cNvPr id="647" name="直接连接符 12"/>
            <p:cNvSpPr/>
            <p:nvPr/>
          </p:nvSpPr>
          <p:spPr>
            <a:xfrm>
              <a:off x="1298520" y="364968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流程图: 联系 13"/>
            <p:cNvSpPr/>
            <p:nvPr/>
          </p:nvSpPr>
          <p:spPr>
            <a:xfrm>
              <a:off x="1008000" y="3589200"/>
              <a:ext cx="54612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649" name="直接连接符 14"/>
            <p:cNvSpPr/>
            <p:nvPr/>
          </p:nvSpPr>
          <p:spPr>
            <a:xfrm>
              <a:off x="1320480" y="3959280"/>
              <a:ext cx="1035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0" name="Text Box 24"/>
          <p:cNvSpPr/>
          <p:nvPr/>
        </p:nvSpPr>
        <p:spPr>
          <a:xfrm>
            <a:off x="1008000" y="1916280"/>
            <a:ext cx="7344000" cy="36828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利用经济学方法分析电信、电力、交通（公路、航运、铁路和航空）、管道等通信行业。早期的网络经济学，主要是指这些具有网络结构特征的行业的资源优化配置和利用分析及政府规制分析。</a:t>
            </a:r>
            <a:endParaRPr b="0" lang="en-US" sz="1800" spc="-1" strike="noStrike">
              <a:solidFill>
                <a:srgbClr val="000000"/>
              </a:solidFill>
              <a:latin typeface="Arial"/>
            </a:endParaRPr>
          </a:p>
        </p:txBody>
      </p:sp>
      <p:sp>
        <p:nvSpPr>
          <p:cNvPr id="651" name="Text Box 25"/>
          <p:cNvSpPr/>
          <p:nvPr/>
        </p:nvSpPr>
        <p:spPr>
          <a:xfrm>
            <a:off x="1116000" y="4508640"/>
            <a:ext cx="7343640" cy="78552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网络互补性</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网络外部性</a:t>
            </a:r>
            <a:endParaRPr b="0" lang="en-US" sz="1800" spc="-1" strike="noStrike">
              <a:solidFill>
                <a:srgbClr val="0000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2" name="Group 128"/>
          <p:cNvGrpSpPr/>
          <p:nvPr/>
        </p:nvGrpSpPr>
        <p:grpSpPr>
          <a:xfrm>
            <a:off x="7704000" y="2349360"/>
            <a:ext cx="648000" cy="453960"/>
            <a:chOff x="7704000" y="2349360"/>
            <a:chExt cx="648000" cy="453960"/>
          </a:xfrm>
        </p:grpSpPr>
        <p:sp>
          <p:nvSpPr>
            <p:cNvPr id="653"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5" name="组合 10"/>
          <p:cNvGrpSpPr/>
          <p:nvPr/>
        </p:nvGrpSpPr>
        <p:grpSpPr>
          <a:xfrm>
            <a:off x="900000" y="944640"/>
            <a:ext cx="7128000" cy="647640"/>
            <a:chOff x="900000" y="944640"/>
            <a:chExt cx="7128000" cy="647640"/>
          </a:xfrm>
        </p:grpSpPr>
        <p:sp>
          <p:nvSpPr>
            <p:cNvPr id="656" name="TextBox 11"/>
            <p:cNvSpPr/>
            <p:nvPr/>
          </p:nvSpPr>
          <p:spPr>
            <a:xfrm>
              <a:off x="1158480" y="944640"/>
              <a:ext cx="686952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网络产业经济学</a:t>
              </a:r>
              <a:endParaRPr b="0" lang="en-US" sz="1800" spc="-1" strike="noStrike">
                <a:solidFill>
                  <a:srgbClr val="000000"/>
                </a:solidFill>
                <a:latin typeface="Arial"/>
              </a:endParaRPr>
            </a:p>
          </p:txBody>
        </p:sp>
        <p:sp>
          <p:nvSpPr>
            <p:cNvPr id="657" name="直接连接符 12"/>
            <p:cNvSpPr/>
            <p:nvPr/>
          </p:nvSpPr>
          <p:spPr>
            <a:xfrm>
              <a:off x="1177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流程图: 联系 13"/>
            <p:cNvSpPr/>
            <p:nvPr/>
          </p:nvSpPr>
          <p:spPr>
            <a:xfrm>
              <a:off x="900000" y="121284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3</a:t>
              </a:r>
              <a:endParaRPr b="0" lang="en-US" sz="1800" spc="-1" strike="noStrike">
                <a:solidFill>
                  <a:srgbClr val="000000"/>
                </a:solidFill>
                <a:latin typeface="Arial"/>
              </a:endParaRPr>
            </a:p>
          </p:txBody>
        </p:sp>
        <p:sp>
          <p:nvSpPr>
            <p:cNvPr id="659" name="直接连接符 14"/>
            <p:cNvSpPr/>
            <p:nvPr/>
          </p:nvSpPr>
          <p:spPr>
            <a:xfrm>
              <a:off x="1198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0"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PlaceHolder 1"/>
          <p:cNvSpPr>
            <a:spLocks noGrp="1"/>
          </p:cNvSpPr>
          <p:nvPr>
            <p:ph type="title"/>
          </p:nvPr>
        </p:nvSpPr>
        <p:spPr>
          <a:xfrm>
            <a:off x="576000" y="296640"/>
            <a:ext cx="723564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一、网络经济学的发展过程</a:t>
            </a:r>
            <a:endParaRPr b="0" lang="en-US" sz="3200" spc="-1" strike="noStrike">
              <a:solidFill>
                <a:srgbClr val="000000"/>
              </a:solidFill>
              <a:latin typeface="Calibri"/>
            </a:endParaRPr>
          </a:p>
        </p:txBody>
      </p:sp>
      <p:grpSp>
        <p:nvGrpSpPr>
          <p:cNvPr id="663" name="组合 127"/>
          <p:cNvGrpSpPr/>
          <p:nvPr/>
        </p:nvGrpSpPr>
        <p:grpSpPr>
          <a:xfrm>
            <a:off x="250920" y="324000"/>
            <a:ext cx="264960" cy="417240"/>
            <a:chOff x="250920" y="324000"/>
            <a:chExt cx="264960" cy="417240"/>
          </a:xfrm>
        </p:grpSpPr>
        <p:sp>
          <p:nvSpPr>
            <p:cNvPr id="664"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7"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8"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69" name="组合 10"/>
          <p:cNvGrpSpPr/>
          <p:nvPr/>
        </p:nvGrpSpPr>
        <p:grpSpPr>
          <a:xfrm>
            <a:off x="900000" y="2241720"/>
            <a:ext cx="7128000" cy="647640"/>
            <a:chOff x="900000" y="2241720"/>
            <a:chExt cx="7128000" cy="647640"/>
          </a:xfrm>
        </p:grpSpPr>
        <p:sp>
          <p:nvSpPr>
            <p:cNvPr id="670" name="TextBox 11"/>
            <p:cNvSpPr/>
            <p:nvPr/>
          </p:nvSpPr>
          <p:spPr>
            <a:xfrm>
              <a:off x="1158480" y="2241720"/>
              <a:ext cx="686952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互联网经济学</a:t>
              </a:r>
              <a:endParaRPr b="0" lang="en-US" sz="1800" spc="-1" strike="noStrike">
                <a:solidFill>
                  <a:srgbClr val="000000"/>
                </a:solidFill>
                <a:latin typeface="Arial"/>
              </a:endParaRPr>
            </a:p>
          </p:txBody>
        </p:sp>
        <p:sp>
          <p:nvSpPr>
            <p:cNvPr id="671" name="直接连接符 12"/>
            <p:cNvSpPr/>
            <p:nvPr/>
          </p:nvSpPr>
          <p:spPr>
            <a:xfrm>
              <a:off x="1177560" y="257040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流程图: 联系 13"/>
            <p:cNvSpPr/>
            <p:nvPr/>
          </p:nvSpPr>
          <p:spPr>
            <a:xfrm>
              <a:off x="900000" y="250992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4</a:t>
              </a:r>
              <a:endParaRPr b="0" lang="en-US" sz="1800" spc="-1" strike="noStrike">
                <a:solidFill>
                  <a:srgbClr val="000000"/>
                </a:solidFill>
                <a:latin typeface="Arial"/>
              </a:endParaRPr>
            </a:p>
          </p:txBody>
        </p:sp>
        <p:sp>
          <p:nvSpPr>
            <p:cNvPr id="673" name="直接连接符 14"/>
            <p:cNvSpPr/>
            <p:nvPr/>
          </p:nvSpPr>
          <p:spPr>
            <a:xfrm>
              <a:off x="1198440" y="288000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4" name="组合 10"/>
          <p:cNvGrpSpPr/>
          <p:nvPr/>
        </p:nvGrpSpPr>
        <p:grpSpPr>
          <a:xfrm>
            <a:off x="792000" y="3753000"/>
            <a:ext cx="7128000" cy="647640"/>
            <a:chOff x="792000" y="3753000"/>
            <a:chExt cx="7128000" cy="647640"/>
          </a:xfrm>
        </p:grpSpPr>
        <p:sp>
          <p:nvSpPr>
            <p:cNvPr id="675" name="TextBox 11"/>
            <p:cNvSpPr/>
            <p:nvPr/>
          </p:nvSpPr>
          <p:spPr>
            <a:xfrm>
              <a:off x="1050480" y="3753000"/>
              <a:ext cx="686952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信息基础结构经济学与电子商务经济学</a:t>
              </a:r>
              <a:endParaRPr b="0" lang="en-US" sz="1800" spc="-1" strike="noStrike">
                <a:solidFill>
                  <a:srgbClr val="000000"/>
                </a:solidFill>
                <a:latin typeface="Arial"/>
              </a:endParaRPr>
            </a:p>
          </p:txBody>
        </p:sp>
        <p:sp>
          <p:nvSpPr>
            <p:cNvPr id="676" name="直接连接符 12"/>
            <p:cNvSpPr/>
            <p:nvPr/>
          </p:nvSpPr>
          <p:spPr>
            <a:xfrm>
              <a:off x="1069560" y="408168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流程图: 联系 13"/>
            <p:cNvSpPr/>
            <p:nvPr/>
          </p:nvSpPr>
          <p:spPr>
            <a:xfrm>
              <a:off x="792000" y="402120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5</a:t>
              </a:r>
              <a:endParaRPr b="0" lang="en-US" sz="1800" spc="-1" strike="noStrike">
                <a:solidFill>
                  <a:srgbClr val="000000"/>
                </a:solidFill>
                <a:latin typeface="Arial"/>
              </a:endParaRPr>
            </a:p>
          </p:txBody>
        </p:sp>
        <p:sp>
          <p:nvSpPr>
            <p:cNvPr id="678" name="直接连接符 14"/>
            <p:cNvSpPr/>
            <p:nvPr/>
          </p:nvSpPr>
          <p:spPr>
            <a:xfrm>
              <a:off x="1090440" y="439128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AutoShape 64"/>
          <p:cNvSpPr/>
          <p:nvPr/>
        </p:nvSpPr>
        <p:spPr>
          <a:xfrm>
            <a:off x="0" y="5265720"/>
            <a:ext cx="1554120" cy="452520"/>
          </a:xfrm>
          <a:prstGeom prst="roundRect">
            <a:avLst>
              <a:gd name="adj" fmla="val 22815"/>
            </a:avLst>
          </a:prstGeom>
          <a:solidFill>
            <a:srgbClr val="c0504d"/>
          </a:solidFill>
          <a:ln w="12600">
            <a:solidFill>
              <a:srgbClr val="080808"/>
            </a:solidFill>
            <a:miter/>
          </a:ln>
          <a:effectLst>
            <a:outerShdw dist="29795" dir="6901013"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早期的网络经济学</a:t>
            </a:r>
            <a:endParaRPr b="0" lang="en-US" sz="1400" spc="-1" strike="noStrike">
              <a:solidFill>
                <a:srgbClr val="000000"/>
              </a:solidFill>
              <a:latin typeface="Arial"/>
            </a:endParaRPr>
          </a:p>
        </p:txBody>
      </p:sp>
      <p:sp>
        <p:nvSpPr>
          <p:cNvPr id="680" name="TextBox 75"/>
          <p:cNvSpPr/>
          <p:nvPr/>
        </p:nvSpPr>
        <p:spPr>
          <a:xfrm>
            <a:off x="250920" y="189000"/>
            <a:ext cx="7345440" cy="642600"/>
          </a:xfrm>
          <a:prstGeom prst="rect">
            <a:avLst/>
          </a:prstGeom>
          <a:noFill/>
          <a:ln w="28440">
            <a:solidFill>
              <a:srgbClr val="000000"/>
            </a:solidFill>
            <a:prstDash val="sysDash"/>
            <a:miter/>
          </a:ln>
        </p:spPr>
        <p:style>
          <a:lnRef idx="0"/>
          <a:fillRef idx="0"/>
          <a:effectRef idx="0"/>
          <a:fontRef idx="minor"/>
        </p:style>
        <p:txBody>
          <a:bodyPr lIns="90000" rIns="90000" tIns="46800" bIns="46800" anchor="t">
            <a:spAutoFit/>
          </a:bodyPr>
          <a:p>
            <a:pPr marL="285840" indent="-285840" algn="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本书的“网络经济学”涵盖了因特网经济学的理论成果，以及部分电子商务经济学的理论成果。</a:t>
            </a:r>
            <a:endParaRPr b="0" lang="en-US" sz="1800" spc="-1" strike="noStrike">
              <a:solidFill>
                <a:srgbClr val="000000"/>
              </a:solidFill>
              <a:latin typeface="Arial"/>
            </a:endParaRPr>
          </a:p>
          <a:p>
            <a:pPr marL="285840" indent="-285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矩形 76"/>
          <p:cNvSpPr/>
          <p:nvPr/>
        </p:nvSpPr>
        <p:spPr>
          <a:xfrm>
            <a:off x="0" y="6553080"/>
            <a:ext cx="9144000" cy="304920"/>
          </a:xfrm>
          <a:prstGeom prst="rect">
            <a:avLst/>
          </a:prstGeom>
          <a:solidFill>
            <a:srgbClr val="31859c"/>
          </a:solidFill>
          <a:ln w="25560">
            <a:solidFill>
              <a:srgbClr val="31859c"/>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2" name="Group 112"/>
          <p:cNvGrpSpPr/>
          <p:nvPr/>
        </p:nvGrpSpPr>
        <p:grpSpPr>
          <a:xfrm>
            <a:off x="1103400" y="404640"/>
            <a:ext cx="7205400" cy="4871880"/>
            <a:chOff x="1103400" y="404640"/>
            <a:chExt cx="7205400" cy="4871880"/>
          </a:xfrm>
        </p:grpSpPr>
        <p:sp>
          <p:nvSpPr>
            <p:cNvPr id="683" name="Line 3"/>
            <p:cNvSpPr/>
            <p:nvPr/>
          </p:nvSpPr>
          <p:spPr>
            <a:xfrm flipV="1">
              <a:off x="1315800" y="1591560"/>
              <a:ext cx="5608800" cy="3481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4" name="Group 4"/>
            <p:cNvGrpSpPr/>
            <p:nvPr/>
          </p:nvGrpSpPr>
          <p:grpSpPr>
            <a:xfrm>
              <a:off x="1103400" y="5056920"/>
              <a:ext cx="215280" cy="219600"/>
              <a:chOff x="1103400" y="5056920"/>
              <a:chExt cx="215280" cy="219600"/>
            </a:xfrm>
          </p:grpSpPr>
          <p:pic>
            <p:nvPicPr>
              <p:cNvPr id="685" name="Picture 5" descr="circuler_1"/>
              <p:cNvPicPr/>
              <p:nvPr/>
            </p:nvPicPr>
            <p:blipFill>
              <a:blip r:embed="rId1"/>
              <a:stretch/>
            </p:blipFill>
            <p:spPr>
              <a:xfrm>
                <a:off x="1125720" y="5076720"/>
                <a:ext cx="192960" cy="190440"/>
              </a:xfrm>
              <a:prstGeom prst="rect">
                <a:avLst/>
              </a:prstGeom>
              <a:ln w="0">
                <a:noFill/>
              </a:ln>
            </p:spPr>
          </p:pic>
          <p:sp>
            <p:nvSpPr>
              <p:cNvPr id="686" name="Oval 6"/>
              <p:cNvSpPr/>
              <p:nvPr/>
            </p:nvSpPr>
            <p:spPr>
              <a:xfrm>
                <a:off x="1125720" y="5076720"/>
                <a:ext cx="191880" cy="190440"/>
              </a:xfrm>
              <a:prstGeom prst="ellipse">
                <a:avLst/>
              </a:prstGeom>
              <a:gradFill rotWithShape="0">
                <a:gsLst>
                  <a:gs pos="0">
                    <a:srgbClr val="0e223a"/>
                  </a:gs>
                  <a:gs pos="50000">
                    <a:srgbClr val="1f497d">
                      <a:alpha val="50196"/>
                    </a:srgbClr>
                  </a:gs>
                  <a:gs pos="100000">
                    <a:srgbClr val="0e223a"/>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7" name="Group 7"/>
              <p:cNvGrpSpPr/>
              <p:nvPr/>
            </p:nvGrpSpPr>
            <p:grpSpPr>
              <a:xfrm>
                <a:off x="1138680" y="5208480"/>
                <a:ext cx="169920" cy="68040"/>
                <a:chOff x="1138680" y="5208480"/>
                <a:chExt cx="169920" cy="68040"/>
              </a:xfrm>
            </p:grpSpPr>
            <p:grpSp>
              <p:nvGrpSpPr>
                <p:cNvPr id="688" name="Group 8"/>
                <p:cNvGrpSpPr/>
                <p:nvPr/>
              </p:nvGrpSpPr>
              <p:grpSpPr>
                <a:xfrm>
                  <a:off x="1168920" y="5208480"/>
                  <a:ext cx="139680" cy="64080"/>
                  <a:chOff x="1168920" y="5208480"/>
                  <a:chExt cx="139680" cy="64080"/>
                </a:xfrm>
              </p:grpSpPr>
              <p:sp>
                <p:nvSpPr>
                  <p:cNvPr id="689" name="AutoShape 9"/>
                  <p:cNvSpPr/>
                  <p:nvPr/>
                </p:nvSpPr>
                <p:spPr>
                  <a:xfrm flipH="1" flipV="1" rot="3964800">
                    <a:off x="1244160" y="5189400"/>
                    <a:ext cx="2484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AutoShape 10"/>
                  <p:cNvSpPr/>
                  <p:nvPr/>
                </p:nvSpPr>
                <p:spPr>
                  <a:xfrm flipH="1" flipV="1" rot="4780200">
                    <a:off x="1228680" y="5195520"/>
                    <a:ext cx="2484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AutoShape 11"/>
                  <p:cNvSpPr/>
                  <p:nvPr/>
                </p:nvSpPr>
                <p:spPr>
                  <a:xfrm flipH="1" flipV="1" rot="5076000">
                    <a:off x="1218960" y="5196960"/>
                    <a:ext cx="24840" cy="101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AutoShape 12"/>
                  <p:cNvSpPr/>
                  <p:nvPr/>
                </p:nvSpPr>
                <p:spPr>
                  <a:xfrm flipH="1" flipV="1" rot="5608200">
                    <a:off x="1208160" y="5198040"/>
                    <a:ext cx="24840" cy="102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3" name="Group 13"/>
                <p:cNvGrpSpPr/>
                <p:nvPr/>
              </p:nvGrpSpPr>
              <p:grpSpPr>
                <a:xfrm>
                  <a:off x="1138680" y="5208840"/>
                  <a:ext cx="140400" cy="67680"/>
                  <a:chOff x="1138680" y="5208840"/>
                  <a:chExt cx="140400" cy="67680"/>
                </a:xfrm>
              </p:grpSpPr>
              <p:sp>
                <p:nvSpPr>
                  <p:cNvPr id="694" name="AutoShape 14"/>
                  <p:cNvSpPr/>
                  <p:nvPr/>
                </p:nvSpPr>
                <p:spPr>
                  <a:xfrm flipH="1" flipV="1" rot="5317800">
                    <a:off x="1214640" y="5197680"/>
                    <a:ext cx="2520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AutoShape 15"/>
                  <p:cNvSpPr/>
                  <p:nvPr/>
                </p:nvSpPr>
                <p:spPr>
                  <a:xfrm flipH="1" flipV="1" rot="6133800">
                    <a:off x="1197360" y="5197680"/>
                    <a:ext cx="25200" cy="101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AutoShape 16"/>
                  <p:cNvSpPr/>
                  <p:nvPr/>
                </p:nvSpPr>
                <p:spPr>
                  <a:xfrm flipH="1" flipV="1" rot="6429000">
                    <a:off x="1188360" y="5194800"/>
                    <a:ext cx="2520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AutoShape 17"/>
                  <p:cNvSpPr/>
                  <p:nvPr/>
                </p:nvSpPr>
                <p:spPr>
                  <a:xfrm flipH="1" flipV="1" rot="6961200">
                    <a:off x="1176840" y="5191560"/>
                    <a:ext cx="2520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98" name="Picture 18" descr="light_shadow1"/>
              <p:cNvPicPr/>
              <p:nvPr/>
            </p:nvPicPr>
            <p:blipFill>
              <a:blip r:embed="rId2"/>
              <a:srcRect l="0" t="23952" r="0" b="0"/>
              <a:stretch/>
            </p:blipFill>
            <p:spPr>
              <a:xfrm rot="19029600">
                <a:off x="1115640" y="5092920"/>
                <a:ext cx="142920" cy="92880"/>
              </a:xfrm>
              <a:prstGeom prst="rect">
                <a:avLst/>
              </a:prstGeom>
              <a:ln w="0">
                <a:noFill/>
              </a:ln>
            </p:spPr>
          </p:pic>
        </p:grpSp>
        <p:grpSp>
          <p:nvGrpSpPr>
            <p:cNvPr id="699" name="Group 19"/>
            <p:cNvGrpSpPr/>
            <p:nvPr/>
          </p:nvGrpSpPr>
          <p:grpSpPr>
            <a:xfrm>
              <a:off x="1697040" y="4624920"/>
              <a:ext cx="215280" cy="219600"/>
              <a:chOff x="1697040" y="4624920"/>
              <a:chExt cx="215280" cy="219600"/>
            </a:xfrm>
          </p:grpSpPr>
          <p:pic>
            <p:nvPicPr>
              <p:cNvPr id="700" name="Picture 20" descr="circuler_1"/>
              <p:cNvPicPr/>
              <p:nvPr/>
            </p:nvPicPr>
            <p:blipFill>
              <a:blip r:embed="rId3"/>
              <a:stretch/>
            </p:blipFill>
            <p:spPr>
              <a:xfrm>
                <a:off x="1719360" y="4644720"/>
                <a:ext cx="192960" cy="190440"/>
              </a:xfrm>
              <a:prstGeom prst="rect">
                <a:avLst/>
              </a:prstGeom>
              <a:ln w="0">
                <a:noFill/>
              </a:ln>
            </p:spPr>
          </p:pic>
          <p:sp>
            <p:nvSpPr>
              <p:cNvPr id="701" name="Oval 21"/>
              <p:cNvSpPr/>
              <p:nvPr/>
            </p:nvSpPr>
            <p:spPr>
              <a:xfrm>
                <a:off x="1719360" y="4644720"/>
                <a:ext cx="191880" cy="190440"/>
              </a:xfrm>
              <a:prstGeom prst="ellipse">
                <a:avLst/>
              </a:prstGeom>
              <a:gradFill rotWithShape="0">
                <a:gsLst>
                  <a:gs pos="0">
                    <a:srgbClr val="0e223a"/>
                  </a:gs>
                  <a:gs pos="50000">
                    <a:srgbClr val="1f497d">
                      <a:alpha val="50196"/>
                    </a:srgbClr>
                  </a:gs>
                  <a:gs pos="100000">
                    <a:srgbClr val="0e223a"/>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2" name="Group 22"/>
              <p:cNvGrpSpPr/>
              <p:nvPr/>
            </p:nvGrpSpPr>
            <p:grpSpPr>
              <a:xfrm>
                <a:off x="1732320" y="4776480"/>
                <a:ext cx="169920" cy="68040"/>
                <a:chOff x="1732320" y="4776480"/>
                <a:chExt cx="169920" cy="68040"/>
              </a:xfrm>
            </p:grpSpPr>
            <p:grpSp>
              <p:nvGrpSpPr>
                <p:cNvPr id="703" name="Group 23"/>
                <p:cNvGrpSpPr/>
                <p:nvPr/>
              </p:nvGrpSpPr>
              <p:grpSpPr>
                <a:xfrm>
                  <a:off x="1762560" y="4776480"/>
                  <a:ext cx="139680" cy="64080"/>
                  <a:chOff x="1762560" y="4776480"/>
                  <a:chExt cx="139680" cy="64080"/>
                </a:xfrm>
              </p:grpSpPr>
              <p:sp>
                <p:nvSpPr>
                  <p:cNvPr id="704" name="AutoShape 24"/>
                  <p:cNvSpPr/>
                  <p:nvPr/>
                </p:nvSpPr>
                <p:spPr>
                  <a:xfrm flipH="1" flipV="1" rot="3964800">
                    <a:off x="1837800" y="4757400"/>
                    <a:ext cx="2484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AutoShape 25"/>
                  <p:cNvSpPr/>
                  <p:nvPr/>
                </p:nvSpPr>
                <p:spPr>
                  <a:xfrm flipH="1" flipV="1" rot="4780200">
                    <a:off x="1822320" y="4763520"/>
                    <a:ext cx="2484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AutoShape 26"/>
                  <p:cNvSpPr/>
                  <p:nvPr/>
                </p:nvSpPr>
                <p:spPr>
                  <a:xfrm flipH="1" flipV="1" rot="5076000">
                    <a:off x="1812600" y="4764960"/>
                    <a:ext cx="24840" cy="101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AutoShape 27"/>
                  <p:cNvSpPr/>
                  <p:nvPr/>
                </p:nvSpPr>
                <p:spPr>
                  <a:xfrm flipH="1" flipV="1" rot="5608200">
                    <a:off x="1801800" y="4766040"/>
                    <a:ext cx="24840" cy="102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8" name="Group 28"/>
                <p:cNvGrpSpPr/>
                <p:nvPr/>
              </p:nvGrpSpPr>
              <p:grpSpPr>
                <a:xfrm>
                  <a:off x="1732320" y="4776840"/>
                  <a:ext cx="140400" cy="67680"/>
                  <a:chOff x="1732320" y="4776840"/>
                  <a:chExt cx="140400" cy="67680"/>
                </a:xfrm>
              </p:grpSpPr>
              <p:sp>
                <p:nvSpPr>
                  <p:cNvPr id="709" name="AutoShape 29"/>
                  <p:cNvSpPr/>
                  <p:nvPr/>
                </p:nvSpPr>
                <p:spPr>
                  <a:xfrm flipH="1" flipV="1" rot="5317800">
                    <a:off x="1808280" y="4765680"/>
                    <a:ext cx="2520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AutoShape 30"/>
                  <p:cNvSpPr/>
                  <p:nvPr/>
                </p:nvSpPr>
                <p:spPr>
                  <a:xfrm flipH="1" flipV="1" rot="6133800">
                    <a:off x="1791000" y="4765680"/>
                    <a:ext cx="25200" cy="101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AutoShape 31"/>
                  <p:cNvSpPr/>
                  <p:nvPr/>
                </p:nvSpPr>
                <p:spPr>
                  <a:xfrm flipH="1" flipV="1" rot="6429000">
                    <a:off x="1782000" y="4762800"/>
                    <a:ext cx="2520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AutoShape 32"/>
                  <p:cNvSpPr/>
                  <p:nvPr/>
                </p:nvSpPr>
                <p:spPr>
                  <a:xfrm flipH="1" flipV="1" rot="6961200">
                    <a:off x="1770480" y="4759560"/>
                    <a:ext cx="2520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713" name="Picture 33" descr="light_shadow1"/>
              <p:cNvPicPr/>
              <p:nvPr/>
            </p:nvPicPr>
            <p:blipFill>
              <a:blip r:embed="rId4"/>
              <a:srcRect l="0" t="23952" r="0" b="0"/>
              <a:stretch/>
            </p:blipFill>
            <p:spPr>
              <a:xfrm rot="19029600">
                <a:off x="1709280" y="4660920"/>
                <a:ext cx="142920" cy="92880"/>
              </a:xfrm>
              <a:prstGeom prst="rect">
                <a:avLst/>
              </a:prstGeom>
              <a:ln w="0">
                <a:noFill/>
              </a:ln>
            </p:spPr>
          </p:pic>
        </p:grpSp>
        <p:grpSp>
          <p:nvGrpSpPr>
            <p:cNvPr id="714" name="Group 34"/>
            <p:cNvGrpSpPr/>
            <p:nvPr/>
          </p:nvGrpSpPr>
          <p:grpSpPr>
            <a:xfrm>
              <a:off x="2670120" y="4004280"/>
              <a:ext cx="216000" cy="219600"/>
              <a:chOff x="2670120" y="4004280"/>
              <a:chExt cx="216000" cy="219600"/>
            </a:xfrm>
          </p:grpSpPr>
          <p:pic>
            <p:nvPicPr>
              <p:cNvPr id="715" name="Picture 35" descr="circuler_1"/>
              <p:cNvPicPr/>
              <p:nvPr/>
            </p:nvPicPr>
            <p:blipFill>
              <a:blip r:embed="rId5"/>
              <a:stretch/>
            </p:blipFill>
            <p:spPr>
              <a:xfrm>
                <a:off x="2692800" y="4024080"/>
                <a:ext cx="193320" cy="190440"/>
              </a:xfrm>
              <a:prstGeom prst="rect">
                <a:avLst/>
              </a:prstGeom>
              <a:ln w="0">
                <a:noFill/>
              </a:ln>
            </p:spPr>
          </p:pic>
          <p:sp>
            <p:nvSpPr>
              <p:cNvPr id="716" name="Oval 36"/>
              <p:cNvSpPr/>
              <p:nvPr/>
            </p:nvSpPr>
            <p:spPr>
              <a:xfrm>
                <a:off x="2692800" y="4024080"/>
                <a:ext cx="192240" cy="190440"/>
              </a:xfrm>
              <a:prstGeom prst="ellipse">
                <a:avLst/>
              </a:prstGeom>
              <a:gradFill rotWithShape="0">
                <a:gsLst>
                  <a:gs pos="0">
                    <a:srgbClr val="0e223a"/>
                  </a:gs>
                  <a:gs pos="50000">
                    <a:srgbClr val="1f497d">
                      <a:alpha val="50196"/>
                    </a:srgbClr>
                  </a:gs>
                  <a:gs pos="100000">
                    <a:srgbClr val="0e223a"/>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7" name="Group 37"/>
              <p:cNvGrpSpPr/>
              <p:nvPr/>
            </p:nvGrpSpPr>
            <p:grpSpPr>
              <a:xfrm>
                <a:off x="2705760" y="4155480"/>
                <a:ext cx="170280" cy="68400"/>
                <a:chOff x="2705760" y="4155480"/>
                <a:chExt cx="170280" cy="68400"/>
              </a:xfrm>
            </p:grpSpPr>
            <p:grpSp>
              <p:nvGrpSpPr>
                <p:cNvPr id="718" name="Group 38"/>
                <p:cNvGrpSpPr/>
                <p:nvPr/>
              </p:nvGrpSpPr>
              <p:grpSpPr>
                <a:xfrm>
                  <a:off x="2736000" y="4155480"/>
                  <a:ext cx="140040" cy="64080"/>
                  <a:chOff x="2736000" y="4155480"/>
                  <a:chExt cx="140040" cy="64080"/>
                </a:xfrm>
              </p:grpSpPr>
              <p:sp>
                <p:nvSpPr>
                  <p:cNvPr id="719" name="AutoShape 39"/>
                  <p:cNvSpPr/>
                  <p:nvPr/>
                </p:nvSpPr>
                <p:spPr>
                  <a:xfrm flipH="1" flipV="1" rot="3964800">
                    <a:off x="2811600" y="4136400"/>
                    <a:ext cx="2484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AutoShape 40"/>
                  <p:cNvSpPr/>
                  <p:nvPr/>
                </p:nvSpPr>
                <p:spPr>
                  <a:xfrm flipH="1" flipV="1" rot="4780200">
                    <a:off x="2796120" y="4142880"/>
                    <a:ext cx="2484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AutoShape 41"/>
                  <p:cNvSpPr/>
                  <p:nvPr/>
                </p:nvSpPr>
                <p:spPr>
                  <a:xfrm flipH="1" flipV="1" rot="5076000">
                    <a:off x="2786400" y="4144320"/>
                    <a:ext cx="24840" cy="101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AutoShape 42"/>
                  <p:cNvSpPr/>
                  <p:nvPr/>
                </p:nvSpPr>
                <p:spPr>
                  <a:xfrm flipH="1" flipV="1" rot="5608200">
                    <a:off x="2775240" y="4145400"/>
                    <a:ext cx="24840" cy="102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3" name="Group 43"/>
                <p:cNvGrpSpPr/>
                <p:nvPr/>
              </p:nvGrpSpPr>
              <p:grpSpPr>
                <a:xfrm>
                  <a:off x="2705760" y="4156200"/>
                  <a:ext cx="140760" cy="67680"/>
                  <a:chOff x="2705760" y="4156200"/>
                  <a:chExt cx="140760" cy="67680"/>
                </a:xfrm>
              </p:grpSpPr>
              <p:sp>
                <p:nvSpPr>
                  <p:cNvPr id="724" name="AutoShape 44"/>
                  <p:cNvSpPr/>
                  <p:nvPr/>
                </p:nvSpPr>
                <p:spPr>
                  <a:xfrm flipH="1" flipV="1" rot="5317800">
                    <a:off x="2782080" y="4145040"/>
                    <a:ext cx="2520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AutoShape 45"/>
                  <p:cNvSpPr/>
                  <p:nvPr/>
                </p:nvSpPr>
                <p:spPr>
                  <a:xfrm flipH="1" flipV="1" rot="6133800">
                    <a:off x="2765160" y="4145400"/>
                    <a:ext cx="25200" cy="101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AutoShape 46"/>
                  <p:cNvSpPr/>
                  <p:nvPr/>
                </p:nvSpPr>
                <p:spPr>
                  <a:xfrm flipH="1" flipV="1" rot="6429000">
                    <a:off x="2755800" y="4142160"/>
                    <a:ext cx="2520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AutoShape 47"/>
                  <p:cNvSpPr/>
                  <p:nvPr/>
                </p:nvSpPr>
                <p:spPr>
                  <a:xfrm flipH="1" flipV="1" rot="6961200">
                    <a:off x="2743920" y="4138920"/>
                    <a:ext cx="2520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728" name="Picture 48" descr="light_shadow1"/>
              <p:cNvPicPr/>
              <p:nvPr/>
            </p:nvPicPr>
            <p:blipFill>
              <a:blip r:embed="rId6"/>
              <a:srcRect l="0" t="23952" r="0" b="0"/>
              <a:stretch/>
            </p:blipFill>
            <p:spPr>
              <a:xfrm rot="19029600">
                <a:off x="2682360" y="4040640"/>
                <a:ext cx="143280" cy="92880"/>
              </a:xfrm>
              <a:prstGeom prst="rect">
                <a:avLst/>
              </a:prstGeom>
              <a:ln w="0">
                <a:noFill/>
              </a:ln>
            </p:spPr>
          </p:pic>
        </p:grpSp>
        <p:pic>
          <p:nvPicPr>
            <p:cNvPr id="729" name="Picture 70" descr="095"/>
            <p:cNvPicPr/>
            <p:nvPr/>
          </p:nvPicPr>
          <p:blipFill>
            <a:blip r:embed="rId7"/>
            <a:stretch/>
          </p:blipFill>
          <p:spPr>
            <a:xfrm>
              <a:off x="6873840" y="404640"/>
              <a:ext cx="1434960" cy="1281240"/>
            </a:xfrm>
            <a:prstGeom prst="rect">
              <a:avLst/>
            </a:prstGeom>
            <a:ln w="0">
              <a:noFill/>
            </a:ln>
          </p:spPr>
        </p:pic>
        <p:grpSp>
          <p:nvGrpSpPr>
            <p:cNvPr id="730" name="Group 34"/>
            <p:cNvGrpSpPr/>
            <p:nvPr/>
          </p:nvGrpSpPr>
          <p:grpSpPr>
            <a:xfrm>
              <a:off x="5191200" y="2461320"/>
              <a:ext cx="215280" cy="213480"/>
              <a:chOff x="5191200" y="2461320"/>
              <a:chExt cx="215280" cy="213480"/>
            </a:xfrm>
          </p:grpSpPr>
          <p:pic>
            <p:nvPicPr>
              <p:cNvPr id="731" name="Picture 35" descr="circuler_1"/>
              <p:cNvPicPr/>
              <p:nvPr/>
            </p:nvPicPr>
            <p:blipFill>
              <a:blip r:embed="rId8"/>
              <a:stretch/>
            </p:blipFill>
            <p:spPr>
              <a:xfrm>
                <a:off x="5213520" y="2481120"/>
                <a:ext cx="192960" cy="190440"/>
              </a:xfrm>
              <a:prstGeom prst="rect">
                <a:avLst/>
              </a:prstGeom>
              <a:ln w="0">
                <a:noFill/>
              </a:ln>
            </p:spPr>
          </p:pic>
          <p:sp>
            <p:nvSpPr>
              <p:cNvPr id="732" name="Oval 36"/>
              <p:cNvSpPr/>
              <p:nvPr/>
            </p:nvSpPr>
            <p:spPr>
              <a:xfrm>
                <a:off x="5213520" y="2481120"/>
                <a:ext cx="191880" cy="190440"/>
              </a:xfrm>
              <a:prstGeom prst="ellipse">
                <a:avLst/>
              </a:prstGeom>
              <a:gradFill rotWithShape="0">
                <a:gsLst>
                  <a:gs pos="0">
                    <a:srgbClr val="0e223a"/>
                  </a:gs>
                  <a:gs pos="50000">
                    <a:srgbClr val="1f497d">
                      <a:alpha val="50196"/>
                    </a:srgbClr>
                  </a:gs>
                  <a:gs pos="100000">
                    <a:srgbClr val="0e223a"/>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3" name="Group 37"/>
              <p:cNvGrpSpPr/>
              <p:nvPr/>
            </p:nvGrpSpPr>
            <p:grpSpPr>
              <a:xfrm>
                <a:off x="5230800" y="2605680"/>
                <a:ext cx="168120" cy="69120"/>
                <a:chOff x="5230800" y="2605680"/>
                <a:chExt cx="168120" cy="69120"/>
              </a:xfrm>
            </p:grpSpPr>
            <p:grpSp>
              <p:nvGrpSpPr>
                <p:cNvPr id="734" name="Group 38"/>
                <p:cNvGrpSpPr/>
                <p:nvPr/>
              </p:nvGrpSpPr>
              <p:grpSpPr>
                <a:xfrm>
                  <a:off x="5259600" y="2605680"/>
                  <a:ext cx="139320" cy="64440"/>
                  <a:chOff x="5259600" y="2605680"/>
                  <a:chExt cx="139320" cy="64440"/>
                </a:xfrm>
              </p:grpSpPr>
              <p:sp>
                <p:nvSpPr>
                  <p:cNvPr id="735" name="AutoShape 39"/>
                  <p:cNvSpPr/>
                  <p:nvPr/>
                </p:nvSpPr>
                <p:spPr>
                  <a:xfrm flipH="1" flipV="1" rot="3964800">
                    <a:off x="5334480" y="2586960"/>
                    <a:ext cx="25560" cy="10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AutoShape 40"/>
                  <p:cNvSpPr/>
                  <p:nvPr/>
                </p:nvSpPr>
                <p:spPr>
                  <a:xfrm flipH="1" flipV="1" rot="4780200">
                    <a:off x="5319000" y="2593080"/>
                    <a:ext cx="25560" cy="10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AutoShape 41"/>
                  <p:cNvSpPr/>
                  <p:nvPr/>
                </p:nvSpPr>
                <p:spPr>
                  <a:xfrm flipH="1" flipV="1" rot="5076000">
                    <a:off x="5309280" y="2594880"/>
                    <a:ext cx="25560" cy="10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AutoShape 42"/>
                  <p:cNvSpPr/>
                  <p:nvPr/>
                </p:nvSpPr>
                <p:spPr>
                  <a:xfrm flipH="1" flipV="1" rot="5608200">
                    <a:off x="5297760" y="2594880"/>
                    <a:ext cx="25560" cy="101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9" name="Group 43"/>
                <p:cNvGrpSpPr/>
                <p:nvPr/>
              </p:nvGrpSpPr>
              <p:grpSpPr>
                <a:xfrm>
                  <a:off x="5230800" y="2607840"/>
                  <a:ext cx="138600" cy="66960"/>
                  <a:chOff x="5230800" y="2607840"/>
                  <a:chExt cx="138600" cy="66960"/>
                </a:xfrm>
              </p:grpSpPr>
              <p:sp>
                <p:nvSpPr>
                  <p:cNvPr id="740" name="AutoShape 44"/>
                  <p:cNvSpPr/>
                  <p:nvPr/>
                </p:nvSpPr>
                <p:spPr>
                  <a:xfrm flipH="1" flipV="1" rot="5317800">
                    <a:off x="5305680" y="2596680"/>
                    <a:ext cx="25560" cy="10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45"/>
                  <p:cNvSpPr/>
                  <p:nvPr/>
                </p:nvSpPr>
                <p:spPr>
                  <a:xfrm flipH="1" flipV="1" rot="6133800">
                    <a:off x="5289120" y="2597040"/>
                    <a:ext cx="25560" cy="10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AutoShape 46"/>
                  <p:cNvSpPr/>
                  <p:nvPr/>
                </p:nvSpPr>
                <p:spPr>
                  <a:xfrm flipH="1" flipV="1" rot="6429000">
                    <a:off x="5279400" y="2594520"/>
                    <a:ext cx="25560" cy="10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AutoShape 47"/>
                  <p:cNvSpPr/>
                  <p:nvPr/>
                </p:nvSpPr>
                <p:spPr>
                  <a:xfrm flipH="1" flipV="1" rot="6961200">
                    <a:off x="5268600" y="2590560"/>
                    <a:ext cx="25560" cy="10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744" name="Picture 48" descr="light_shadow1"/>
              <p:cNvPicPr/>
              <p:nvPr/>
            </p:nvPicPr>
            <p:blipFill>
              <a:blip r:embed="rId9"/>
              <a:srcRect l="0" t="23952" r="0" b="0"/>
              <a:stretch/>
            </p:blipFill>
            <p:spPr>
              <a:xfrm rot="19029600">
                <a:off x="5203440" y="2497320"/>
                <a:ext cx="142920" cy="92880"/>
              </a:xfrm>
              <a:prstGeom prst="rect">
                <a:avLst/>
              </a:prstGeom>
              <a:ln w="0">
                <a:noFill/>
              </a:ln>
            </p:spPr>
          </p:pic>
        </p:grpSp>
        <p:grpSp>
          <p:nvGrpSpPr>
            <p:cNvPr id="745" name="Group 34"/>
            <p:cNvGrpSpPr/>
            <p:nvPr/>
          </p:nvGrpSpPr>
          <p:grpSpPr>
            <a:xfrm>
              <a:off x="3679920" y="3356640"/>
              <a:ext cx="215280" cy="213480"/>
              <a:chOff x="3679920" y="3356640"/>
              <a:chExt cx="215280" cy="213480"/>
            </a:xfrm>
          </p:grpSpPr>
          <p:pic>
            <p:nvPicPr>
              <p:cNvPr id="746" name="Picture 35" descr="circuler_1"/>
              <p:cNvPicPr/>
              <p:nvPr/>
            </p:nvPicPr>
            <p:blipFill>
              <a:blip r:embed="rId10"/>
              <a:stretch/>
            </p:blipFill>
            <p:spPr>
              <a:xfrm>
                <a:off x="3702240" y="3376440"/>
                <a:ext cx="192960" cy="190440"/>
              </a:xfrm>
              <a:prstGeom prst="rect">
                <a:avLst/>
              </a:prstGeom>
              <a:ln w="0">
                <a:noFill/>
              </a:ln>
            </p:spPr>
          </p:pic>
          <p:sp>
            <p:nvSpPr>
              <p:cNvPr id="747" name="Oval 36"/>
              <p:cNvSpPr/>
              <p:nvPr/>
            </p:nvSpPr>
            <p:spPr>
              <a:xfrm>
                <a:off x="3702240" y="3376440"/>
                <a:ext cx="191880" cy="190440"/>
              </a:xfrm>
              <a:prstGeom prst="ellipse">
                <a:avLst/>
              </a:prstGeom>
              <a:gradFill rotWithShape="0">
                <a:gsLst>
                  <a:gs pos="0">
                    <a:srgbClr val="0e223a"/>
                  </a:gs>
                  <a:gs pos="50000">
                    <a:srgbClr val="1f497d">
                      <a:alpha val="50196"/>
                    </a:srgbClr>
                  </a:gs>
                  <a:gs pos="100000">
                    <a:srgbClr val="0e223a"/>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8" name="Group 37"/>
              <p:cNvGrpSpPr/>
              <p:nvPr/>
            </p:nvGrpSpPr>
            <p:grpSpPr>
              <a:xfrm>
                <a:off x="3719520" y="3501000"/>
                <a:ext cx="168120" cy="69120"/>
                <a:chOff x="3719520" y="3501000"/>
                <a:chExt cx="168120" cy="69120"/>
              </a:xfrm>
            </p:grpSpPr>
            <p:grpSp>
              <p:nvGrpSpPr>
                <p:cNvPr id="749" name="Group 38"/>
                <p:cNvGrpSpPr/>
                <p:nvPr/>
              </p:nvGrpSpPr>
              <p:grpSpPr>
                <a:xfrm>
                  <a:off x="3748320" y="3501000"/>
                  <a:ext cx="139320" cy="64440"/>
                  <a:chOff x="3748320" y="3501000"/>
                  <a:chExt cx="139320" cy="64440"/>
                </a:xfrm>
              </p:grpSpPr>
              <p:sp>
                <p:nvSpPr>
                  <p:cNvPr id="750" name="AutoShape 39"/>
                  <p:cNvSpPr/>
                  <p:nvPr/>
                </p:nvSpPr>
                <p:spPr>
                  <a:xfrm flipH="1" flipV="1" rot="3964800">
                    <a:off x="3823200" y="3482280"/>
                    <a:ext cx="25560" cy="10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AutoShape 40"/>
                  <p:cNvSpPr/>
                  <p:nvPr/>
                </p:nvSpPr>
                <p:spPr>
                  <a:xfrm flipH="1" flipV="1" rot="4780200">
                    <a:off x="3807720" y="3488400"/>
                    <a:ext cx="25560" cy="10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AutoShape 41"/>
                  <p:cNvSpPr/>
                  <p:nvPr/>
                </p:nvSpPr>
                <p:spPr>
                  <a:xfrm flipH="1" flipV="1" rot="5076000">
                    <a:off x="3798000" y="3490200"/>
                    <a:ext cx="25560" cy="10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AutoShape 42"/>
                  <p:cNvSpPr/>
                  <p:nvPr/>
                </p:nvSpPr>
                <p:spPr>
                  <a:xfrm flipH="1" flipV="1" rot="5608200">
                    <a:off x="3786480" y="3490200"/>
                    <a:ext cx="25560" cy="101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4" name="Group 43"/>
                <p:cNvGrpSpPr/>
                <p:nvPr/>
              </p:nvGrpSpPr>
              <p:grpSpPr>
                <a:xfrm>
                  <a:off x="3719520" y="3503160"/>
                  <a:ext cx="138600" cy="66960"/>
                  <a:chOff x="3719520" y="3503160"/>
                  <a:chExt cx="138600" cy="66960"/>
                </a:xfrm>
              </p:grpSpPr>
              <p:sp>
                <p:nvSpPr>
                  <p:cNvPr id="755" name="AutoShape 44"/>
                  <p:cNvSpPr/>
                  <p:nvPr/>
                </p:nvSpPr>
                <p:spPr>
                  <a:xfrm flipH="1" flipV="1" rot="5317800">
                    <a:off x="3794400" y="3492000"/>
                    <a:ext cx="25560" cy="10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45"/>
                  <p:cNvSpPr/>
                  <p:nvPr/>
                </p:nvSpPr>
                <p:spPr>
                  <a:xfrm flipH="1" flipV="1" rot="6133800">
                    <a:off x="3777840" y="3492360"/>
                    <a:ext cx="25560" cy="10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46"/>
                  <p:cNvSpPr/>
                  <p:nvPr/>
                </p:nvSpPr>
                <p:spPr>
                  <a:xfrm flipH="1" flipV="1" rot="6429000">
                    <a:off x="3768120" y="3489840"/>
                    <a:ext cx="25560" cy="10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47"/>
                  <p:cNvSpPr/>
                  <p:nvPr/>
                </p:nvSpPr>
                <p:spPr>
                  <a:xfrm flipH="1" flipV="1" rot="6961200">
                    <a:off x="3757320" y="3485880"/>
                    <a:ext cx="25560" cy="10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759" name="Picture 48" descr="light_shadow1"/>
              <p:cNvPicPr/>
              <p:nvPr/>
            </p:nvPicPr>
            <p:blipFill>
              <a:blip r:embed="rId11"/>
              <a:srcRect l="0" t="23952" r="0" b="0"/>
              <a:stretch/>
            </p:blipFill>
            <p:spPr>
              <a:xfrm rot="19029600">
                <a:off x="3692160" y="3392640"/>
                <a:ext cx="142920" cy="92880"/>
              </a:xfrm>
              <a:prstGeom prst="rect">
                <a:avLst/>
              </a:prstGeom>
              <a:ln w="0">
                <a:noFill/>
              </a:ln>
            </p:spPr>
          </p:pic>
        </p:grpSp>
      </p:grpSp>
      <p:sp>
        <p:nvSpPr>
          <p:cNvPr id="760" name="矩形 115"/>
          <p:cNvSpPr/>
          <p:nvPr/>
        </p:nvSpPr>
        <p:spPr>
          <a:xfrm>
            <a:off x="4032360" y="3321000"/>
            <a:ext cx="5111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因特网经济的充分竞争使网络经济学中的竞争与垄断的讨论不再成为核心问题，则因特网经济学的研究内容演变为：</a:t>
            </a:r>
            <a:r>
              <a:rPr b="0" i="1" lang="zh-CN" sz="1400" spc="-1" strike="noStrike">
                <a:solidFill>
                  <a:srgbClr val="000000"/>
                </a:solidFill>
                <a:latin typeface="Arial"/>
              </a:rPr>
              <a:t>信息处理和循环，通过网络的商业交易，组织协调和网络管理等。</a:t>
            </a:r>
            <a:endParaRPr b="0" lang="en-US" sz="1400" spc="-1" strike="noStrike">
              <a:solidFill>
                <a:srgbClr val="000000"/>
              </a:solidFill>
              <a:latin typeface="Arial"/>
            </a:endParaRPr>
          </a:p>
        </p:txBody>
      </p:sp>
      <p:grpSp>
        <p:nvGrpSpPr>
          <p:cNvPr id="761" name="Group 113"/>
          <p:cNvGrpSpPr/>
          <p:nvPr/>
        </p:nvGrpSpPr>
        <p:grpSpPr>
          <a:xfrm>
            <a:off x="576360" y="1142640"/>
            <a:ext cx="8340480" cy="5059800"/>
            <a:chOff x="576360" y="1142640"/>
            <a:chExt cx="8340480" cy="5059800"/>
          </a:xfrm>
        </p:grpSpPr>
        <p:sp>
          <p:nvSpPr>
            <p:cNvPr id="762" name="AutoShape 66"/>
            <p:cNvSpPr/>
            <p:nvPr/>
          </p:nvSpPr>
          <p:spPr>
            <a:xfrm>
              <a:off x="2195640" y="1809720"/>
              <a:ext cx="3143160" cy="470160"/>
            </a:xfrm>
            <a:prstGeom prst="roundRect">
              <a:avLst>
                <a:gd name="adj" fmla="val 22815"/>
              </a:avLst>
            </a:prstGeom>
            <a:solidFill>
              <a:srgbClr val="c0504d"/>
            </a:solidFill>
            <a:ln w="12600">
              <a:solidFill>
                <a:srgbClr val="080808"/>
              </a:solidFill>
              <a:miter/>
            </a:ln>
            <a:effectLst>
              <a:outerShdw dist="29795" dir="6901013"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66"/>
            <p:cNvSpPr/>
            <p:nvPr/>
          </p:nvSpPr>
          <p:spPr>
            <a:xfrm>
              <a:off x="2303640" y="2781360"/>
              <a:ext cx="1428480" cy="469800"/>
            </a:xfrm>
            <a:prstGeom prst="roundRect">
              <a:avLst>
                <a:gd name="adj" fmla="val 22815"/>
              </a:avLst>
            </a:prstGeom>
            <a:solidFill>
              <a:srgbClr val="c0504d"/>
            </a:solidFill>
            <a:ln w="12600">
              <a:solidFill>
                <a:srgbClr val="080808"/>
              </a:solidFill>
              <a:miter/>
            </a:ln>
            <a:effectLst>
              <a:outerShdw dist="29795" dir="6901013"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4" name="Group 49"/>
            <p:cNvGrpSpPr/>
            <p:nvPr/>
          </p:nvGrpSpPr>
          <p:grpSpPr>
            <a:xfrm>
              <a:off x="7044480" y="1142640"/>
              <a:ext cx="214920" cy="214920"/>
              <a:chOff x="7044480" y="1142640"/>
              <a:chExt cx="214920" cy="214920"/>
            </a:xfrm>
          </p:grpSpPr>
          <p:pic>
            <p:nvPicPr>
              <p:cNvPr id="765" name="Picture 50" descr="circuler_1"/>
              <p:cNvPicPr/>
              <p:nvPr/>
            </p:nvPicPr>
            <p:blipFill>
              <a:blip r:embed="rId12"/>
              <a:stretch/>
            </p:blipFill>
            <p:spPr>
              <a:xfrm>
                <a:off x="7066080" y="1162440"/>
                <a:ext cx="191880" cy="186120"/>
              </a:xfrm>
              <a:prstGeom prst="rect">
                <a:avLst/>
              </a:prstGeom>
              <a:ln w="0">
                <a:noFill/>
              </a:ln>
            </p:spPr>
          </p:pic>
          <p:grpSp>
            <p:nvGrpSpPr>
              <p:cNvPr id="766" name="Oval 51"/>
              <p:cNvGrpSpPr/>
              <p:nvPr/>
            </p:nvGrpSpPr>
            <p:grpSpPr>
              <a:xfrm>
                <a:off x="7065000" y="1160640"/>
                <a:ext cx="194400" cy="190440"/>
                <a:chOff x="7065000" y="1160640"/>
                <a:chExt cx="194400" cy="190440"/>
              </a:xfrm>
            </p:grpSpPr>
            <p:pic>
              <p:nvPicPr>
                <p:cNvPr id="767" name="Oval 51" descr=""/>
                <p:cNvPicPr/>
                <p:nvPr/>
              </p:nvPicPr>
              <p:blipFill>
                <a:blip r:embed="rId13"/>
                <a:stretch/>
              </p:blipFill>
              <p:spPr>
                <a:xfrm>
                  <a:off x="7065000" y="1160640"/>
                  <a:ext cx="194400" cy="190440"/>
                </a:xfrm>
                <a:prstGeom prst="rect">
                  <a:avLst/>
                </a:prstGeom>
                <a:ln w="0">
                  <a:noFill/>
                </a:ln>
              </p:spPr>
            </p:pic>
            <p:sp>
              <p:nvSpPr>
                <p:cNvPr id="768" name=""/>
                <p:cNvSpPr/>
                <p:nvPr/>
              </p:nvSpPr>
              <p:spPr>
                <a:xfrm>
                  <a:off x="7094160" y="1189800"/>
                  <a:ext cx="135360" cy="13140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9" name="Group 52"/>
              <p:cNvGrpSpPr/>
              <p:nvPr/>
            </p:nvGrpSpPr>
            <p:grpSpPr>
              <a:xfrm>
                <a:off x="7080120" y="1290240"/>
                <a:ext cx="167760" cy="67320"/>
                <a:chOff x="7080120" y="1290240"/>
                <a:chExt cx="167760" cy="67320"/>
              </a:xfrm>
            </p:grpSpPr>
            <p:grpSp>
              <p:nvGrpSpPr>
                <p:cNvPr id="770" name="Group 53"/>
                <p:cNvGrpSpPr/>
                <p:nvPr/>
              </p:nvGrpSpPr>
              <p:grpSpPr>
                <a:xfrm>
                  <a:off x="7108560" y="1290240"/>
                  <a:ext cx="139320" cy="64080"/>
                  <a:chOff x="7108560" y="1290240"/>
                  <a:chExt cx="139320" cy="64080"/>
                </a:xfrm>
              </p:grpSpPr>
              <p:sp>
                <p:nvSpPr>
                  <p:cNvPr id="771" name="AutoShape 54"/>
                  <p:cNvSpPr/>
                  <p:nvPr/>
                </p:nvSpPr>
                <p:spPr>
                  <a:xfrm flipH="1" flipV="1" rot="3964800">
                    <a:off x="7183800" y="1271160"/>
                    <a:ext cx="24840" cy="101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AutoShape 55"/>
                  <p:cNvSpPr/>
                  <p:nvPr/>
                </p:nvSpPr>
                <p:spPr>
                  <a:xfrm flipH="1" flipV="1" rot="4780200">
                    <a:off x="7167960" y="1277640"/>
                    <a:ext cx="24840" cy="101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AutoShape 56"/>
                  <p:cNvSpPr/>
                  <p:nvPr/>
                </p:nvSpPr>
                <p:spPr>
                  <a:xfrm flipH="1" flipV="1" rot="5076000">
                    <a:off x="7158600" y="1279440"/>
                    <a:ext cx="24840" cy="101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AutoShape 57"/>
                  <p:cNvSpPr/>
                  <p:nvPr/>
                </p:nvSpPr>
                <p:spPr>
                  <a:xfrm flipH="1" flipV="1" rot="5608200">
                    <a:off x="7147440" y="1279800"/>
                    <a:ext cx="24840" cy="101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5" name="Group 58"/>
                <p:cNvGrpSpPr/>
                <p:nvPr/>
              </p:nvGrpSpPr>
              <p:grpSpPr>
                <a:xfrm>
                  <a:off x="7080120" y="1291320"/>
                  <a:ext cx="138600" cy="66240"/>
                  <a:chOff x="7080120" y="1291320"/>
                  <a:chExt cx="138600" cy="66240"/>
                </a:xfrm>
              </p:grpSpPr>
              <p:sp>
                <p:nvSpPr>
                  <p:cNvPr id="776" name="AutoShape 59"/>
                  <p:cNvSpPr/>
                  <p:nvPr/>
                </p:nvSpPr>
                <p:spPr>
                  <a:xfrm flipH="1" flipV="1" rot="5317800">
                    <a:off x="7155000" y="1279800"/>
                    <a:ext cx="24840" cy="101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AutoShape 60"/>
                  <p:cNvSpPr/>
                  <p:nvPr/>
                </p:nvSpPr>
                <p:spPr>
                  <a:xfrm flipH="1" flipV="1" rot="6133800">
                    <a:off x="7138440" y="1280520"/>
                    <a:ext cx="24840" cy="100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AutoShape 61"/>
                  <p:cNvSpPr/>
                  <p:nvPr/>
                </p:nvSpPr>
                <p:spPr>
                  <a:xfrm flipH="1" flipV="1" rot="6429000">
                    <a:off x="7129080" y="1277280"/>
                    <a:ext cx="24840" cy="101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AutoShape 62"/>
                  <p:cNvSpPr/>
                  <p:nvPr/>
                </p:nvSpPr>
                <p:spPr>
                  <a:xfrm flipH="1" flipV="1" rot="6961200">
                    <a:off x="7118280" y="1273680"/>
                    <a:ext cx="24840" cy="101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780" name="Picture 63" descr="light_shadow1"/>
              <p:cNvPicPr/>
              <p:nvPr/>
            </p:nvPicPr>
            <p:blipFill>
              <a:blip r:embed="rId14"/>
              <a:srcRect l="0" t="23952" r="0" b="0"/>
              <a:stretch/>
            </p:blipFill>
            <p:spPr>
              <a:xfrm rot="19029600">
                <a:off x="7056000" y="1178640"/>
                <a:ext cx="142560" cy="90720"/>
              </a:xfrm>
              <a:prstGeom prst="rect">
                <a:avLst/>
              </a:prstGeom>
              <a:ln w="0">
                <a:noFill/>
              </a:ln>
            </p:spPr>
          </p:pic>
        </p:grpSp>
        <p:sp>
          <p:nvSpPr>
            <p:cNvPr id="781" name="AutoShape 65"/>
            <p:cNvSpPr/>
            <p:nvPr/>
          </p:nvSpPr>
          <p:spPr>
            <a:xfrm>
              <a:off x="576360" y="4184640"/>
              <a:ext cx="1339920" cy="422280"/>
            </a:xfrm>
            <a:prstGeom prst="roundRect">
              <a:avLst>
                <a:gd name="adj" fmla="val 22815"/>
              </a:avLst>
            </a:prstGeom>
            <a:solidFill>
              <a:srgbClr val="c0504d"/>
            </a:solidFill>
            <a:ln w="12600">
              <a:solidFill>
                <a:srgbClr val="080808"/>
              </a:solidFill>
              <a:miter/>
            </a:ln>
            <a:effectLst>
              <a:outerShdw dist="29795" dir="6901013"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a:t>
              </a:r>
              <a:r>
                <a:rPr b="1" lang="zh-CN" sz="1400" spc="-1" strike="noStrike">
                  <a:solidFill>
                    <a:srgbClr val="000000"/>
                  </a:solidFill>
                  <a:latin typeface="Arial"/>
                  <a:ea typeface="楷体_GB2312"/>
                </a:rPr>
                <a:t>网络”经济学</a:t>
              </a:r>
              <a:endParaRPr b="0" lang="en-US" sz="1400" spc="-1" strike="noStrike">
                <a:solidFill>
                  <a:srgbClr val="000000"/>
                </a:solidFill>
                <a:latin typeface="Arial"/>
              </a:endParaRPr>
            </a:p>
          </p:txBody>
        </p:sp>
        <p:sp>
          <p:nvSpPr>
            <p:cNvPr id="782" name="AutoShape 66"/>
            <p:cNvSpPr/>
            <p:nvPr/>
          </p:nvSpPr>
          <p:spPr>
            <a:xfrm>
              <a:off x="1224000" y="3537000"/>
              <a:ext cx="1428840" cy="469800"/>
            </a:xfrm>
            <a:prstGeom prst="roundRect">
              <a:avLst>
                <a:gd name="adj" fmla="val 22815"/>
              </a:avLst>
            </a:prstGeom>
            <a:solidFill>
              <a:srgbClr val="c0504d"/>
            </a:solidFill>
            <a:ln w="12600">
              <a:solidFill>
                <a:srgbClr val="080808"/>
              </a:solidFill>
              <a:miter/>
            </a:ln>
            <a:effectLst>
              <a:outerShdw dist="29795" dir="6901013"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网络产业经济学</a:t>
              </a:r>
              <a:endParaRPr b="0" lang="en-US" sz="1400" spc="-1" strike="noStrike">
                <a:solidFill>
                  <a:srgbClr val="000000"/>
                </a:solidFill>
                <a:latin typeface="Arial"/>
              </a:endParaRPr>
            </a:p>
          </p:txBody>
        </p:sp>
        <p:sp>
          <p:nvSpPr>
            <p:cNvPr id="783" name="Text Box 71"/>
            <p:cNvSpPr/>
            <p:nvPr/>
          </p:nvSpPr>
          <p:spPr>
            <a:xfrm>
              <a:off x="1857240" y="5246640"/>
              <a:ext cx="671040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划归在通信经济学</a:t>
              </a:r>
              <a:r>
                <a:rPr b="0" lang="en-US" sz="1400" spc="-1" strike="noStrike">
                  <a:solidFill>
                    <a:srgbClr val="000000"/>
                  </a:solidFill>
                  <a:latin typeface="宋体"/>
                </a:rPr>
                <a:t>(The Telecommunication Economics)</a:t>
              </a:r>
              <a:r>
                <a:rPr b="0" lang="zh-CN" sz="1400" spc="-1" strike="noStrike">
                  <a:solidFill>
                    <a:srgbClr val="000000"/>
                  </a:solidFill>
                  <a:latin typeface="宋体"/>
                </a:rPr>
                <a:t>的范畴中</a:t>
              </a:r>
              <a:endParaRPr b="0" lang="en-US" sz="1400" spc="-1" strike="noStrike">
                <a:solidFill>
                  <a:srgbClr val="000000"/>
                </a:solidFill>
                <a:latin typeface="Arial"/>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主要研究与有限资源的最优配置相关的经济学问题及相关政策的制</a:t>
              </a:r>
              <a:endParaRPr b="0" lang="en-US" sz="1400" spc="-1" strike="noStrike">
                <a:solidFill>
                  <a:srgbClr val="000000"/>
                </a:solidFill>
                <a:latin typeface="Arial"/>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开放市场，引入竞争</a:t>
              </a:r>
              <a:endParaRPr b="0" lang="en-US" sz="1400" spc="-1" strike="noStrike">
                <a:solidFill>
                  <a:srgbClr val="000000"/>
                </a:solidFill>
                <a:latin typeface="Arial"/>
              </a:endParaRPr>
            </a:p>
          </p:txBody>
        </p:sp>
        <p:sp>
          <p:nvSpPr>
            <p:cNvPr id="784" name="Text Box 72"/>
            <p:cNvSpPr/>
            <p:nvPr/>
          </p:nvSpPr>
          <p:spPr>
            <a:xfrm>
              <a:off x="2303640" y="4726080"/>
              <a:ext cx="6589440" cy="246240"/>
            </a:xfrm>
            <a:prstGeom prst="rect">
              <a:avLst/>
            </a:prstGeom>
            <a:noFill/>
            <a:ln w="0">
              <a:noFill/>
            </a:ln>
          </p:spPr>
          <p:style>
            <a:lnRef idx="0"/>
            <a:fillRef idx="0"/>
            <a:effectRef idx="0"/>
            <a:fontRef idx="minor"/>
          </p:style>
          <p:txBody>
            <a:bodyPr lIns="90000" rIns="90000" tIns="46800" bIns="46800" anchor="t">
              <a:spAutoFit/>
            </a:bodyPr>
            <a:p>
              <a:pPr>
                <a:lnSpc>
                  <a:spcPts val="1199"/>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关于网络特征的研究</a:t>
              </a:r>
              <a:r>
                <a:rPr b="0" lang="en-US" sz="1400" spc="-1" strike="noStrike">
                  <a:solidFill>
                    <a:srgbClr val="000000"/>
                  </a:solidFill>
                  <a:latin typeface="宋体"/>
                </a:rPr>
                <a:t>:</a:t>
              </a:r>
              <a:endParaRPr b="0" lang="en-US" sz="1400" spc="-1" strike="noStrike">
                <a:solidFill>
                  <a:srgbClr val="000000"/>
                </a:solidFill>
                <a:latin typeface="Arial"/>
              </a:endParaRPr>
            </a:p>
          </p:txBody>
        </p:sp>
        <p:sp>
          <p:nvSpPr>
            <p:cNvPr id="785" name="矩形 104"/>
            <p:cNvSpPr/>
            <p:nvPr/>
          </p:nvSpPr>
          <p:spPr>
            <a:xfrm>
              <a:off x="2518560" y="2781360"/>
              <a:ext cx="8208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因特网经济学</a:t>
              </a:r>
              <a:endParaRPr b="0" lang="en-US" sz="1400" spc="-1" strike="noStrike">
                <a:solidFill>
                  <a:srgbClr val="000000"/>
                </a:solidFill>
                <a:latin typeface="Arial"/>
              </a:endParaRPr>
            </a:p>
          </p:txBody>
        </p:sp>
        <p:sp>
          <p:nvSpPr>
            <p:cNvPr id="786" name="矩形 105"/>
            <p:cNvSpPr/>
            <p:nvPr/>
          </p:nvSpPr>
          <p:spPr>
            <a:xfrm>
              <a:off x="2831760" y="1917720"/>
              <a:ext cx="19944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信息基础设施经济学与电子商务经济学</a:t>
              </a:r>
              <a:endParaRPr b="0" lang="en-US" sz="1400" spc="-1" strike="noStrike">
                <a:solidFill>
                  <a:srgbClr val="000000"/>
                </a:solidFill>
                <a:latin typeface="Arial"/>
              </a:endParaRPr>
            </a:p>
          </p:txBody>
        </p:sp>
        <p:sp>
          <p:nvSpPr>
            <p:cNvPr id="787" name="矩形 107"/>
            <p:cNvSpPr/>
            <p:nvPr/>
          </p:nvSpPr>
          <p:spPr>
            <a:xfrm>
              <a:off x="3059280" y="3969000"/>
              <a:ext cx="5857560" cy="307080"/>
            </a:xfrm>
            <a:prstGeom prst="rect">
              <a:avLst/>
            </a:prstGeom>
            <a:noFill/>
            <a:ln w="0">
              <a:noFill/>
            </a:ln>
          </p:spPr>
          <p:style>
            <a:lnRef idx="0"/>
            <a:fillRef idx="0"/>
            <a:effectRef idx="0"/>
            <a:fontRef idx="minor"/>
          </p:style>
          <p:txBody>
            <a:bodyPr lIns="90000" rIns="90000" tIns="46800" bIns="46800" anchor="t">
              <a:sp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以经济体中具有</a:t>
              </a:r>
              <a:r>
                <a:rPr b="0" lang="zh-CN" sz="1400" spc="-1" strike="noStrike">
                  <a:solidFill>
                    <a:srgbClr val="000000"/>
                  </a:solidFill>
                  <a:latin typeface="宋体"/>
                </a:rPr>
                <a:t>“</a:t>
              </a:r>
              <a:r>
                <a:rPr b="0" lang="zh-CN" sz="1400" spc="-1" strike="noStrike">
                  <a:solidFill>
                    <a:srgbClr val="000000"/>
                  </a:solidFill>
                  <a:latin typeface="Arial"/>
                </a:rPr>
                <a:t>网络</a:t>
              </a:r>
              <a:r>
                <a:rPr b="0" lang="zh-CN" sz="1400" spc="-1" strike="noStrike">
                  <a:solidFill>
                    <a:srgbClr val="000000"/>
                  </a:solidFill>
                  <a:latin typeface="宋体"/>
                </a:rPr>
                <a:t>”</a:t>
              </a:r>
              <a:r>
                <a:rPr b="0" lang="zh-CN" sz="1400" spc="-1" strike="noStrike">
                  <a:solidFill>
                    <a:srgbClr val="000000"/>
                  </a:solidFill>
                  <a:latin typeface="Arial"/>
                </a:rPr>
                <a:t>特征的产业为研究对象，运用供求分析、边际分析、均衡分析和博弈分析等分析工具，研究网络产业的市场结构、企业行为和产业绩效等问题。</a:t>
              </a:r>
              <a:endParaRPr b="0" lang="en-US" sz="1400" spc="-1" strike="noStrike">
                <a:solidFill>
                  <a:srgbClr val="000000"/>
                </a:solidFill>
                <a:latin typeface="Arial"/>
              </a:endParaRPr>
            </a:p>
          </p:txBody>
        </p:sp>
        <p:sp>
          <p:nvSpPr>
            <p:cNvPr id="788" name="矩形 116"/>
            <p:cNvSpPr/>
            <p:nvPr/>
          </p:nvSpPr>
          <p:spPr>
            <a:xfrm>
              <a:off x="5111640" y="2457720"/>
              <a:ext cx="3673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信息基础设施经济学：</a:t>
              </a:r>
              <a:r>
                <a:rPr b="0" lang="zh-CN" sz="1400" spc="-1" strike="noStrike">
                  <a:solidFill>
                    <a:srgbClr val="000000"/>
                  </a:solidFill>
                  <a:latin typeface="Arial"/>
                  <a:ea typeface="楷体_GB2312"/>
                </a:rPr>
                <a:t>如何建立一个包含不同类型网络相互竞争的基础结构市场等问题</a:t>
              </a:r>
              <a:endParaRPr b="0" lang="en-US" sz="1400" spc="-1" strike="noStrike">
                <a:solidFill>
                  <a:srgbClr val="000000"/>
                </a:solidFill>
                <a:latin typeface="Arial"/>
              </a:endParaRPr>
            </a:p>
          </p:txBody>
        </p:sp>
      </p:grpSp>
      <p:sp>
        <p:nvSpPr>
          <p:cNvPr id="789" name="矩形 117"/>
          <p:cNvSpPr/>
          <p:nvPr/>
        </p:nvSpPr>
        <p:spPr>
          <a:xfrm>
            <a:off x="6300720" y="1484280"/>
            <a:ext cx="284328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电子商务经济学</a:t>
            </a:r>
            <a:r>
              <a:rPr b="0" lang="zh-CN" sz="1400" spc="-1" strike="noStrike">
                <a:solidFill>
                  <a:srgbClr val="000000"/>
                </a:solidFill>
                <a:latin typeface="Arial"/>
              </a:rPr>
              <a:t>：市场参与者在生产、营销、消费过程中应当就产品选择，市场战略，价格制定等考虑哪些新的影响因素</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0" name="Group 128"/>
          <p:cNvGrpSpPr/>
          <p:nvPr/>
        </p:nvGrpSpPr>
        <p:grpSpPr>
          <a:xfrm>
            <a:off x="7704000" y="2349360"/>
            <a:ext cx="648000" cy="453960"/>
            <a:chOff x="7704000" y="2349360"/>
            <a:chExt cx="648000" cy="453960"/>
          </a:xfrm>
        </p:grpSpPr>
        <p:sp>
          <p:nvSpPr>
            <p:cNvPr id="791"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组合 10"/>
          <p:cNvGrpSpPr/>
          <p:nvPr/>
        </p:nvGrpSpPr>
        <p:grpSpPr>
          <a:xfrm>
            <a:off x="1224000" y="944640"/>
            <a:ext cx="7128000" cy="647640"/>
            <a:chOff x="1224000" y="944640"/>
            <a:chExt cx="7128000" cy="647640"/>
          </a:xfrm>
        </p:grpSpPr>
        <p:sp>
          <p:nvSpPr>
            <p:cNvPr id="794" name="TextBox 11"/>
            <p:cNvSpPr/>
            <p:nvPr/>
          </p:nvSpPr>
          <p:spPr>
            <a:xfrm>
              <a:off x="1482480" y="944640"/>
              <a:ext cx="686952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明确网络经济学内涵，研究其本质特征</a:t>
              </a:r>
              <a:endParaRPr b="0" lang="en-US" sz="1800" spc="-1" strike="noStrike">
                <a:solidFill>
                  <a:srgbClr val="000000"/>
                </a:solidFill>
                <a:latin typeface="Arial"/>
              </a:endParaRPr>
            </a:p>
          </p:txBody>
        </p:sp>
        <p:sp>
          <p:nvSpPr>
            <p:cNvPr id="795" name="直接连接符 12"/>
            <p:cNvSpPr/>
            <p:nvPr/>
          </p:nvSpPr>
          <p:spPr>
            <a:xfrm>
              <a:off x="150156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流程图: 联系 13"/>
            <p:cNvSpPr/>
            <p:nvPr/>
          </p:nvSpPr>
          <p:spPr>
            <a:xfrm>
              <a:off x="1224000" y="121284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797" name="直接连接符 14"/>
            <p:cNvSpPr/>
            <p:nvPr/>
          </p:nvSpPr>
          <p:spPr>
            <a:xfrm>
              <a:off x="1522440" y="158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8"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PlaceHolder 1"/>
          <p:cNvSpPr>
            <a:spLocks noGrp="1"/>
          </p:cNvSpPr>
          <p:nvPr>
            <p:ph type="title"/>
          </p:nvPr>
        </p:nvSpPr>
        <p:spPr>
          <a:xfrm>
            <a:off x="576000" y="296640"/>
            <a:ext cx="723564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二、网络经济学的研究内容</a:t>
            </a:r>
            <a:endParaRPr b="0" lang="en-US" sz="3200" spc="-1" strike="noStrike">
              <a:solidFill>
                <a:srgbClr val="000000"/>
              </a:solidFill>
              <a:latin typeface="Calibri"/>
            </a:endParaRPr>
          </a:p>
        </p:txBody>
      </p:sp>
      <p:grpSp>
        <p:nvGrpSpPr>
          <p:cNvPr id="801" name="组合 127"/>
          <p:cNvGrpSpPr/>
          <p:nvPr/>
        </p:nvGrpSpPr>
        <p:grpSpPr>
          <a:xfrm>
            <a:off x="250920" y="324000"/>
            <a:ext cx="264960" cy="417240"/>
            <a:chOff x="250920" y="324000"/>
            <a:chExt cx="264960" cy="417240"/>
          </a:xfrm>
        </p:grpSpPr>
        <p:sp>
          <p:nvSpPr>
            <p:cNvPr id="802"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5"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6"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07" name="组合 10"/>
          <p:cNvGrpSpPr/>
          <p:nvPr/>
        </p:nvGrpSpPr>
        <p:grpSpPr>
          <a:xfrm>
            <a:off x="1008000" y="2023920"/>
            <a:ext cx="7128000" cy="648000"/>
            <a:chOff x="1008000" y="2023920"/>
            <a:chExt cx="7128000" cy="648000"/>
          </a:xfrm>
        </p:grpSpPr>
        <p:sp>
          <p:nvSpPr>
            <p:cNvPr id="808" name="TextBox 11"/>
            <p:cNvSpPr/>
            <p:nvPr/>
          </p:nvSpPr>
          <p:spPr>
            <a:xfrm>
              <a:off x="1266480" y="2023920"/>
              <a:ext cx="6869520" cy="63972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明确网络经济中的经济主体，并研究其轻微策略和组织模式</a:t>
              </a:r>
              <a:endParaRPr b="0" lang="en-US" sz="1800" spc="-1" strike="noStrike">
                <a:solidFill>
                  <a:srgbClr val="000000"/>
                </a:solidFill>
                <a:latin typeface="Arial"/>
              </a:endParaRPr>
            </a:p>
          </p:txBody>
        </p:sp>
        <p:sp>
          <p:nvSpPr>
            <p:cNvPr id="809" name="直接连接符 12"/>
            <p:cNvSpPr/>
            <p:nvPr/>
          </p:nvSpPr>
          <p:spPr>
            <a:xfrm>
              <a:off x="1285560" y="2352600"/>
              <a:ext cx="0" cy="3193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流程图: 联系 13"/>
            <p:cNvSpPr/>
            <p:nvPr/>
          </p:nvSpPr>
          <p:spPr>
            <a:xfrm>
              <a:off x="1008000" y="229212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811" name="直接连接符 14"/>
            <p:cNvSpPr/>
            <p:nvPr/>
          </p:nvSpPr>
          <p:spPr>
            <a:xfrm>
              <a:off x="1306440" y="266256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2" name="组合 10"/>
          <p:cNvGrpSpPr/>
          <p:nvPr/>
        </p:nvGrpSpPr>
        <p:grpSpPr>
          <a:xfrm>
            <a:off x="1008000" y="2997360"/>
            <a:ext cx="7128000" cy="647640"/>
            <a:chOff x="1008000" y="2997360"/>
            <a:chExt cx="7128000" cy="647640"/>
          </a:xfrm>
        </p:grpSpPr>
        <p:sp>
          <p:nvSpPr>
            <p:cNvPr id="813" name="TextBox 11"/>
            <p:cNvSpPr/>
            <p:nvPr/>
          </p:nvSpPr>
          <p:spPr>
            <a:xfrm>
              <a:off x="1266480" y="2997360"/>
              <a:ext cx="686952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总结网络经济中的特殊现象，探寻背后原理</a:t>
              </a:r>
              <a:endParaRPr b="0" lang="en-US" sz="1800" spc="-1" strike="noStrike">
                <a:solidFill>
                  <a:srgbClr val="000000"/>
                </a:solidFill>
                <a:latin typeface="Arial"/>
              </a:endParaRPr>
            </a:p>
          </p:txBody>
        </p:sp>
        <p:sp>
          <p:nvSpPr>
            <p:cNvPr id="814" name="直接连接符 12"/>
            <p:cNvSpPr/>
            <p:nvPr/>
          </p:nvSpPr>
          <p:spPr>
            <a:xfrm>
              <a:off x="1285560" y="332604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流程图: 联系 13"/>
            <p:cNvSpPr/>
            <p:nvPr/>
          </p:nvSpPr>
          <p:spPr>
            <a:xfrm>
              <a:off x="1008000" y="326556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3</a:t>
              </a:r>
              <a:endParaRPr b="0" lang="en-US" sz="1800" spc="-1" strike="noStrike">
                <a:solidFill>
                  <a:srgbClr val="000000"/>
                </a:solidFill>
                <a:latin typeface="Arial"/>
              </a:endParaRPr>
            </a:p>
          </p:txBody>
        </p:sp>
        <p:sp>
          <p:nvSpPr>
            <p:cNvPr id="816" name="直接连接符 14"/>
            <p:cNvSpPr/>
            <p:nvPr/>
          </p:nvSpPr>
          <p:spPr>
            <a:xfrm>
              <a:off x="1306440" y="363564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7" name="组合 10"/>
          <p:cNvGrpSpPr/>
          <p:nvPr/>
        </p:nvGrpSpPr>
        <p:grpSpPr>
          <a:xfrm>
            <a:off x="1008000" y="4184640"/>
            <a:ext cx="7128000" cy="647640"/>
            <a:chOff x="1008000" y="4184640"/>
            <a:chExt cx="7128000" cy="647640"/>
          </a:xfrm>
        </p:grpSpPr>
        <p:sp>
          <p:nvSpPr>
            <p:cNvPr id="818" name="TextBox 11"/>
            <p:cNvSpPr/>
            <p:nvPr/>
          </p:nvSpPr>
          <p:spPr>
            <a:xfrm>
              <a:off x="1266480" y="4184640"/>
              <a:ext cx="686952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分析政府在网络经济时代的定位</a:t>
              </a:r>
              <a:endParaRPr b="0" lang="en-US" sz="1800" spc="-1" strike="noStrike">
                <a:solidFill>
                  <a:srgbClr val="000000"/>
                </a:solidFill>
                <a:latin typeface="Arial"/>
              </a:endParaRPr>
            </a:p>
          </p:txBody>
        </p:sp>
        <p:sp>
          <p:nvSpPr>
            <p:cNvPr id="819" name="直接连接符 12"/>
            <p:cNvSpPr/>
            <p:nvPr/>
          </p:nvSpPr>
          <p:spPr>
            <a:xfrm>
              <a:off x="1285560" y="451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流程图: 联系 13"/>
            <p:cNvSpPr/>
            <p:nvPr/>
          </p:nvSpPr>
          <p:spPr>
            <a:xfrm>
              <a:off x="1008000" y="4452840"/>
              <a:ext cx="5223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4</a:t>
              </a:r>
              <a:endParaRPr b="0" lang="en-US" sz="1800" spc="-1" strike="noStrike">
                <a:solidFill>
                  <a:srgbClr val="000000"/>
                </a:solidFill>
                <a:latin typeface="Arial"/>
              </a:endParaRPr>
            </a:p>
          </p:txBody>
        </p:sp>
        <p:sp>
          <p:nvSpPr>
            <p:cNvPr id="821" name="直接连接符 14"/>
            <p:cNvSpPr/>
            <p:nvPr/>
          </p:nvSpPr>
          <p:spPr>
            <a:xfrm>
              <a:off x="1306440" y="4822920"/>
              <a:ext cx="990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页脚占位符 3"/>
          <p:cNvSpPr/>
          <p:nvPr/>
        </p:nvSpPr>
        <p:spPr>
          <a:xfrm>
            <a:off x="5724360" y="6381720"/>
            <a:ext cx="2962440" cy="2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Internet Economics</a:t>
            </a:r>
            <a:endParaRPr b="0" lang="en-US" sz="2000" spc="-1" strike="noStrike">
              <a:solidFill>
                <a:srgbClr val="000000"/>
              </a:solidFill>
              <a:latin typeface="Arial"/>
            </a:endParaRPr>
          </a:p>
        </p:txBody>
      </p:sp>
      <p:sp>
        <p:nvSpPr>
          <p:cNvPr id="823" name="圆角矩形 7"/>
          <p:cNvSpPr/>
          <p:nvPr/>
        </p:nvSpPr>
        <p:spPr>
          <a:xfrm>
            <a:off x="4680000" y="1700280"/>
            <a:ext cx="2017800" cy="4051080"/>
          </a:xfrm>
          <a:custGeom>
            <a:avLst/>
            <a:gdLst>
              <a:gd name="textAreaLeft" fmla="*/ 98280 w 2017800"/>
              <a:gd name="textAreaRight" fmla="*/ 1919520 w 2017800"/>
              <a:gd name="textAreaTop" fmla="*/ 98280 h 4051080"/>
              <a:gd name="textAreaBottom" fmla="*/ 3952800 h 4051080"/>
            </a:gdLst>
            <a:ahLst/>
            <a:rect l="textAreaLeft" t="textAreaTop" r="textAreaRight" b="textAreaBottom"/>
            <a:pathLst>
              <a:path w="21600" h="43362">
                <a:moveTo>
                  <a:pt x="3600" y="0"/>
                </a:moveTo>
                <a:arcTo wR="3600" hR="3600" stAng="16200000" swAng="-5400000"/>
                <a:lnTo>
                  <a:pt x="0" y="39762"/>
                </a:lnTo>
                <a:arcTo wR="3600" hR="3600" stAng="10800000" swAng="-5400000"/>
                <a:lnTo>
                  <a:pt x="18000" y="43362"/>
                </a:lnTo>
                <a:arcTo wR="3600" hR="3600" stAng="5400000" swAng="-5400000"/>
                <a:lnTo>
                  <a:pt x="21600" y="3600"/>
                </a:lnTo>
                <a:arcTo wR="3600" hR="3600" stAng="0" swAng="-5400000"/>
                <a:close/>
              </a:path>
            </a:pathLst>
          </a:custGeom>
          <a:solidFill>
            <a:srgbClr val="d7e4bd"/>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椭圆 14"/>
          <p:cNvSpPr/>
          <p:nvPr/>
        </p:nvSpPr>
        <p:spPr>
          <a:xfrm>
            <a:off x="7108920" y="620640"/>
            <a:ext cx="2035080" cy="785880"/>
          </a:xfrm>
          <a:prstGeom prst="ellipse">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5" name="Group 21"/>
          <p:cNvGrpSpPr/>
          <p:nvPr/>
        </p:nvGrpSpPr>
        <p:grpSpPr>
          <a:xfrm>
            <a:off x="466560" y="620640"/>
            <a:ext cx="8396280" cy="5292360"/>
            <a:chOff x="466560" y="620640"/>
            <a:chExt cx="8396280" cy="5292360"/>
          </a:xfrm>
        </p:grpSpPr>
        <p:sp>
          <p:nvSpPr>
            <p:cNvPr id="826" name="圆角矩形 5"/>
            <p:cNvSpPr/>
            <p:nvPr/>
          </p:nvSpPr>
          <p:spPr>
            <a:xfrm>
              <a:off x="572760" y="1398600"/>
              <a:ext cx="1785960" cy="4514400"/>
            </a:xfrm>
            <a:custGeom>
              <a:avLst/>
              <a:gdLst>
                <a:gd name="textAreaLeft" fmla="*/ 87120 w 1785960"/>
                <a:gd name="textAreaRight" fmla="*/ 1698840 w 1785960"/>
                <a:gd name="textAreaTop" fmla="*/ 87120 h 4514400"/>
                <a:gd name="textAreaBottom" fmla="*/ 4427280 h 4514400"/>
              </a:gdLst>
              <a:ahLst/>
              <a:rect l="textAreaLeft" t="textAreaTop" r="textAreaRight" b="textAreaBottom"/>
              <a:pathLst>
                <a:path w="21600" h="54592">
                  <a:moveTo>
                    <a:pt x="3600" y="0"/>
                  </a:moveTo>
                  <a:arcTo wR="3600" hR="3600" stAng="16200000" swAng="-5400000"/>
                  <a:lnTo>
                    <a:pt x="0" y="50992"/>
                  </a:lnTo>
                  <a:arcTo wR="3600" hR="3600" stAng="10800000" swAng="-5400000"/>
                  <a:lnTo>
                    <a:pt x="18000" y="54592"/>
                  </a:lnTo>
                  <a:arcTo wR="3600" hR="3600" stAng="5400000" swAng="-5400000"/>
                  <a:lnTo>
                    <a:pt x="21600" y="3600"/>
                  </a:lnTo>
                  <a:arcTo wR="3600" hR="3600" stAng="0" swAng="-5400000"/>
                  <a:close/>
                </a:path>
              </a:pathLst>
            </a:custGeom>
            <a:solidFill>
              <a:srgbClr val="eeece1"/>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圆角矩形 6"/>
            <p:cNvSpPr/>
            <p:nvPr/>
          </p:nvSpPr>
          <p:spPr>
            <a:xfrm>
              <a:off x="2484000" y="1398600"/>
              <a:ext cx="2160720" cy="4514400"/>
            </a:xfrm>
            <a:custGeom>
              <a:avLst/>
              <a:gdLst>
                <a:gd name="textAreaLeft" fmla="*/ 105480 w 2160720"/>
                <a:gd name="textAreaRight" fmla="*/ 2055240 w 2160720"/>
                <a:gd name="textAreaTop" fmla="*/ 105480 h 4514400"/>
                <a:gd name="textAreaBottom" fmla="*/ 4408920 h 4514400"/>
              </a:gdLst>
              <a:ahLst/>
              <a:rect l="textAreaLeft" t="textAreaTop" r="textAreaRight" b="textAreaBottom"/>
              <a:pathLst>
                <a:path w="21600" h="45125">
                  <a:moveTo>
                    <a:pt x="3600" y="0"/>
                  </a:moveTo>
                  <a:arcTo wR="3600" hR="3600" stAng="16200000" swAng="-5400000"/>
                  <a:lnTo>
                    <a:pt x="0" y="41525"/>
                  </a:lnTo>
                  <a:arcTo wR="3600" hR="3600" stAng="10800000" swAng="-5400000"/>
                  <a:lnTo>
                    <a:pt x="18000" y="45125"/>
                  </a:lnTo>
                  <a:arcTo wR="3600" hR="3600" stAng="5400000" swAng="-5400000"/>
                  <a:lnTo>
                    <a:pt x="21600" y="3600"/>
                  </a:lnTo>
                  <a:arcTo wR="3600" hR="3600" stAng="0" swAng="-5400000"/>
                  <a:close/>
                </a:path>
              </a:pathLst>
            </a:custGeom>
            <a:solidFill>
              <a:srgbClr val="b9cde5"/>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圆角矩形 9"/>
            <p:cNvSpPr/>
            <p:nvPr/>
          </p:nvSpPr>
          <p:spPr>
            <a:xfrm>
              <a:off x="7002000" y="1398600"/>
              <a:ext cx="1785960" cy="4514400"/>
            </a:xfrm>
            <a:custGeom>
              <a:avLst/>
              <a:gdLst>
                <a:gd name="textAreaLeft" fmla="*/ 87120 w 1785960"/>
                <a:gd name="textAreaRight" fmla="*/ 1698840 w 1785960"/>
                <a:gd name="textAreaTop" fmla="*/ 87120 h 4514400"/>
                <a:gd name="textAreaBottom" fmla="*/ 4427280 h 4514400"/>
              </a:gdLst>
              <a:ahLst/>
              <a:rect l="textAreaLeft" t="textAreaTop" r="textAreaRight" b="textAreaBottom"/>
              <a:pathLst>
                <a:path w="21600" h="54592">
                  <a:moveTo>
                    <a:pt x="3600" y="0"/>
                  </a:moveTo>
                  <a:arcTo wR="3600" hR="3600" stAng="16200000" swAng="-5400000"/>
                  <a:lnTo>
                    <a:pt x="0" y="50992"/>
                  </a:lnTo>
                  <a:arcTo wR="3600" hR="3600" stAng="10800000" swAng="-5400000"/>
                  <a:lnTo>
                    <a:pt x="18000" y="54592"/>
                  </a:lnTo>
                  <a:arcTo wR="3600" hR="3600" stAng="5400000" swAng="-5400000"/>
                  <a:lnTo>
                    <a:pt x="21600" y="3600"/>
                  </a:lnTo>
                  <a:arcTo wR="3600" hR="3600" stAng="0" swAng="-5400000"/>
                  <a:close/>
                </a:path>
              </a:pathLst>
            </a:cu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椭圆 10"/>
            <p:cNvSpPr/>
            <p:nvPr/>
          </p:nvSpPr>
          <p:spPr>
            <a:xfrm>
              <a:off x="466560" y="620640"/>
              <a:ext cx="1928520" cy="881280"/>
            </a:xfrm>
            <a:prstGeom prst="ellipse">
              <a:avLst/>
            </a:prstGeom>
            <a:solidFill>
              <a:srgbClr val="eeece1"/>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TextBox 11"/>
            <p:cNvSpPr/>
            <p:nvPr/>
          </p:nvSpPr>
          <p:spPr>
            <a:xfrm>
              <a:off x="644400" y="732600"/>
              <a:ext cx="1643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网络经济内涵，本质特征</a:t>
              </a:r>
              <a:endParaRPr b="0" lang="en-US" sz="1600" spc="-1" strike="noStrike">
                <a:solidFill>
                  <a:srgbClr val="000000"/>
                </a:solidFill>
                <a:latin typeface="Arial"/>
              </a:endParaRPr>
            </a:p>
          </p:txBody>
        </p:sp>
        <p:sp>
          <p:nvSpPr>
            <p:cNvPr id="831" name="椭圆 12"/>
            <p:cNvSpPr/>
            <p:nvPr/>
          </p:nvSpPr>
          <p:spPr>
            <a:xfrm>
              <a:off x="2644560" y="757440"/>
              <a:ext cx="1928880" cy="884880"/>
            </a:xfrm>
            <a:prstGeom prst="ellipse">
              <a:avLst/>
            </a:prstGeom>
            <a:solidFill>
              <a:srgbClr val="b9cde5"/>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椭圆 13"/>
            <p:cNvSpPr/>
            <p:nvPr/>
          </p:nvSpPr>
          <p:spPr>
            <a:xfrm>
              <a:off x="4787640" y="677520"/>
              <a:ext cx="1928880" cy="881280"/>
            </a:xfrm>
            <a:prstGeom prst="ellipse">
              <a:avLst/>
            </a:prstGeom>
            <a:solidFill>
              <a:srgbClr val="d7e4bd"/>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TextBox 15"/>
            <p:cNvSpPr/>
            <p:nvPr/>
          </p:nvSpPr>
          <p:spPr>
            <a:xfrm>
              <a:off x="2673000" y="837720"/>
              <a:ext cx="171144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楷体_GB2312"/>
                </a:rPr>
                <a:t>网络经济中经济现象及经济机理</a:t>
              </a:r>
              <a:endParaRPr b="0" lang="en-US" sz="1600" spc="-1" strike="noStrike">
                <a:solidFill>
                  <a:srgbClr val="000000"/>
                </a:solidFill>
                <a:latin typeface="Arial"/>
              </a:endParaRPr>
            </a:p>
          </p:txBody>
        </p:sp>
        <p:sp>
          <p:nvSpPr>
            <p:cNvPr id="834" name="TextBox 16"/>
            <p:cNvSpPr/>
            <p:nvPr/>
          </p:nvSpPr>
          <p:spPr>
            <a:xfrm>
              <a:off x="4787640" y="757440"/>
              <a:ext cx="1801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研究网络经济</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主体行为</a:t>
              </a:r>
              <a:endParaRPr b="0" lang="en-US" sz="1800" spc="-1" strike="noStrike">
                <a:solidFill>
                  <a:srgbClr val="000000"/>
                </a:solidFill>
                <a:latin typeface="Arial"/>
              </a:endParaRPr>
            </a:p>
          </p:txBody>
        </p:sp>
        <p:sp>
          <p:nvSpPr>
            <p:cNvPr id="835" name="TextBox 17"/>
            <p:cNvSpPr/>
            <p:nvPr/>
          </p:nvSpPr>
          <p:spPr>
            <a:xfrm>
              <a:off x="7076880" y="747000"/>
              <a:ext cx="178596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楷体_GB2312"/>
                </a:rPr>
                <a:t>网络经济运行和公共经济政策</a:t>
              </a:r>
              <a:endParaRPr b="0" lang="en-US" sz="1800" spc="-1" strike="noStrike">
                <a:solidFill>
                  <a:srgbClr val="000000"/>
                </a:solidFill>
                <a:latin typeface="Arial"/>
              </a:endParaRPr>
            </a:p>
          </p:txBody>
        </p:sp>
        <p:sp>
          <p:nvSpPr>
            <p:cNvPr id="836" name="TextBox 18"/>
            <p:cNvSpPr/>
            <p:nvPr/>
          </p:nvSpPr>
          <p:spPr>
            <a:xfrm>
              <a:off x="715680" y="1799280"/>
              <a:ext cx="1571760" cy="2014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首先要对网络经济给出明确的界定，明确其研究对象和研究范围</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分析网络经济与传统经济的区别与联系</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研究网络经济的本质特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TextBox 19"/>
            <p:cNvSpPr/>
            <p:nvPr/>
          </p:nvSpPr>
          <p:spPr>
            <a:xfrm>
              <a:off x="2484000" y="1799280"/>
              <a:ext cx="208944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对如边际收益递增、网络外部性、需求方规模效应、正反馈机制、竞争性垄断等这些新经济现象从理论上进行分析，研究产生这些现象的原因和内在机制，进而说明在这些现象背后隐含的经济学意义</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现代经济学理论发展的新领域</a:t>
              </a:r>
              <a:endParaRPr b="0" lang="en-US" sz="1800" spc="-1" strike="noStrike">
                <a:solidFill>
                  <a:srgbClr val="000000"/>
                </a:solidFill>
                <a:latin typeface="Arial"/>
              </a:endParaRPr>
            </a:p>
          </p:txBody>
        </p:sp>
        <p:sp>
          <p:nvSpPr>
            <p:cNvPr id="838" name="TextBox 20"/>
            <p:cNvSpPr/>
            <p:nvPr/>
          </p:nvSpPr>
          <p:spPr>
            <a:xfrm>
              <a:off x="4787640" y="1644120"/>
              <a:ext cx="2017800" cy="1554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需要运用微观经济学的分析视角，对各种经济主体的行为进行分析，说明在网络经济中生产者与消费者的选择以及市场供给与需求的均衡条件</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楷体_GB2312"/>
                </a:rPr>
                <a:t>从产业组织理论的角度，对企业产品的生产与定价、企业之间的竞争与合作等行为进行解析，说明经济主体行为的行为法则</a:t>
              </a:r>
              <a:endParaRPr b="0" lang="en-US" sz="1600" spc="-1" strike="noStrike">
                <a:solidFill>
                  <a:srgbClr val="000000"/>
                </a:solidFill>
                <a:latin typeface="Arial"/>
              </a:endParaRPr>
            </a:p>
          </p:txBody>
        </p:sp>
        <p:sp>
          <p:nvSpPr>
            <p:cNvPr id="839" name="TextBox 21"/>
            <p:cNvSpPr/>
            <p:nvPr/>
          </p:nvSpPr>
          <p:spPr>
            <a:xfrm>
              <a:off x="7002000" y="1558800"/>
              <a:ext cx="1824120" cy="20142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楷体_GB2312"/>
                </a:rPr>
                <a:t>研究网络经济下的宏观经济运行的新现象及这些现象发展的规律性</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楷体_GB2312"/>
                </a:rPr>
                <a:t>需要对网络经济下的立法和公共政策进行研究，为政府制定新的经济政策提供理论依据</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0" name="Group 128"/>
          <p:cNvGrpSpPr/>
          <p:nvPr/>
        </p:nvGrpSpPr>
        <p:grpSpPr>
          <a:xfrm>
            <a:off x="7704000" y="2349360"/>
            <a:ext cx="648000" cy="453960"/>
            <a:chOff x="7704000" y="2349360"/>
            <a:chExt cx="648000" cy="453960"/>
          </a:xfrm>
        </p:grpSpPr>
        <p:sp>
          <p:nvSpPr>
            <p:cNvPr id="841"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3"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PlaceHolder 1"/>
          <p:cNvSpPr>
            <a:spLocks noGrp="1"/>
          </p:cNvSpPr>
          <p:nvPr>
            <p:ph type="title"/>
          </p:nvPr>
        </p:nvSpPr>
        <p:spPr>
          <a:xfrm>
            <a:off x="358560" y="188640"/>
            <a:ext cx="723564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三、本书框架</a:t>
            </a:r>
            <a:endParaRPr b="0" lang="en-US" sz="3200" spc="-1" strike="noStrike">
              <a:solidFill>
                <a:srgbClr val="000000"/>
              </a:solidFill>
              <a:latin typeface="Calibri"/>
            </a:endParaRPr>
          </a:p>
        </p:txBody>
      </p:sp>
      <p:grpSp>
        <p:nvGrpSpPr>
          <p:cNvPr id="846" name="组合 127"/>
          <p:cNvGrpSpPr/>
          <p:nvPr/>
        </p:nvGrpSpPr>
        <p:grpSpPr>
          <a:xfrm>
            <a:off x="250920" y="324000"/>
            <a:ext cx="264960" cy="417240"/>
            <a:chOff x="250920" y="324000"/>
            <a:chExt cx="264960" cy="417240"/>
          </a:xfrm>
        </p:grpSpPr>
        <p:sp>
          <p:nvSpPr>
            <p:cNvPr id="847"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0"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1"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52" name="Group 34"/>
          <p:cNvGrpSpPr/>
          <p:nvPr/>
        </p:nvGrpSpPr>
        <p:grpSpPr>
          <a:xfrm>
            <a:off x="684360" y="836640"/>
            <a:ext cx="7342200" cy="4738680"/>
            <a:chOff x="684360" y="836640"/>
            <a:chExt cx="7342200" cy="4738680"/>
          </a:xfrm>
        </p:grpSpPr>
        <p:sp>
          <p:nvSpPr>
            <p:cNvPr id="853" name="矩形 48"/>
            <p:cNvSpPr/>
            <p:nvPr/>
          </p:nvSpPr>
          <p:spPr>
            <a:xfrm>
              <a:off x="684360" y="4003560"/>
              <a:ext cx="388080" cy="157176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第</a:t>
              </a:r>
              <a:r>
                <a:rPr b="0" lang="en-US" sz="1400" spc="-1" strike="noStrike">
                  <a:solidFill>
                    <a:srgbClr val="000000"/>
                  </a:solidFill>
                  <a:latin typeface="Arial"/>
                  <a:ea typeface="楷体_GB2312"/>
                </a:rPr>
                <a:t>1</a:t>
              </a:r>
              <a:r>
                <a:rPr b="0" lang="zh-CN" sz="1400" spc="-1" strike="noStrike">
                  <a:solidFill>
                    <a:srgbClr val="000000"/>
                  </a:solidFill>
                  <a:latin typeface="Arial"/>
                  <a:ea typeface="楷体_GB2312"/>
                </a:rPr>
                <a:t>章概述</a:t>
              </a:r>
              <a:endParaRPr b="0" lang="en-US" sz="1400" spc="-1" strike="noStrike">
                <a:solidFill>
                  <a:srgbClr val="000000"/>
                </a:solidFill>
                <a:latin typeface="Arial"/>
              </a:endParaRPr>
            </a:p>
          </p:txBody>
        </p:sp>
        <p:grpSp>
          <p:nvGrpSpPr>
            <p:cNvPr id="854" name="Group 36"/>
            <p:cNvGrpSpPr/>
            <p:nvPr/>
          </p:nvGrpSpPr>
          <p:grpSpPr>
            <a:xfrm>
              <a:off x="941400" y="836640"/>
              <a:ext cx="7085160" cy="4738680"/>
              <a:chOff x="941400" y="836640"/>
              <a:chExt cx="7085160" cy="4738680"/>
            </a:xfrm>
          </p:grpSpPr>
          <p:sp>
            <p:nvSpPr>
              <p:cNvPr id="855" name="矩形 4"/>
              <p:cNvSpPr/>
              <p:nvPr/>
            </p:nvSpPr>
            <p:spPr>
              <a:xfrm>
                <a:off x="2621520" y="836640"/>
                <a:ext cx="4089960" cy="42876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楷体_GB2312"/>
                  </a:rPr>
                  <a:t>网络经济学</a:t>
                </a:r>
                <a:endParaRPr b="0" lang="en-US" sz="1800" spc="-1" strike="noStrike">
                  <a:solidFill>
                    <a:srgbClr val="000000"/>
                  </a:solidFill>
                  <a:latin typeface="Arial"/>
                </a:endParaRPr>
              </a:p>
            </p:txBody>
          </p:sp>
          <p:sp>
            <p:nvSpPr>
              <p:cNvPr id="856" name="直接连接符 10"/>
              <p:cNvSpPr/>
              <p:nvPr/>
            </p:nvSpPr>
            <p:spPr>
              <a:xfrm flipH="1">
                <a:off x="4680720" y="1193760"/>
                <a:ext cx="1800" cy="57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直接连接符 17"/>
              <p:cNvSpPr/>
              <p:nvPr/>
            </p:nvSpPr>
            <p:spPr>
              <a:xfrm flipH="1">
                <a:off x="1623600" y="1871640"/>
                <a:ext cx="1440" cy="50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直接连接符 20"/>
              <p:cNvSpPr/>
              <p:nvPr/>
            </p:nvSpPr>
            <p:spPr>
              <a:xfrm flipH="1">
                <a:off x="4680720" y="1843200"/>
                <a:ext cx="1800" cy="50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直接连接符 21"/>
              <p:cNvSpPr/>
              <p:nvPr/>
            </p:nvSpPr>
            <p:spPr>
              <a:xfrm>
                <a:off x="7247160" y="1800360"/>
                <a:ext cx="0" cy="50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直接连接符 24"/>
              <p:cNvSpPr/>
              <p:nvPr/>
            </p:nvSpPr>
            <p:spPr>
              <a:xfrm flipV="1">
                <a:off x="1591200" y="1771200"/>
                <a:ext cx="56685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61" name="矩形 25"/>
              <p:cNvSpPr/>
              <p:nvPr/>
            </p:nvSpPr>
            <p:spPr>
              <a:xfrm>
                <a:off x="1284120" y="2301840"/>
                <a:ext cx="766800" cy="92880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ea typeface="楷体_GB2312"/>
                  </a:rPr>
                  <a:t>网络经济学的概述和基础研究</a:t>
                </a:r>
                <a:endParaRPr b="0" lang="en-US" sz="1200" spc="-1" strike="noStrike">
                  <a:solidFill>
                    <a:srgbClr val="000000"/>
                  </a:solidFill>
                  <a:latin typeface="Arial"/>
                </a:endParaRPr>
              </a:p>
            </p:txBody>
          </p:sp>
          <p:sp>
            <p:nvSpPr>
              <p:cNvPr id="862" name="矩形 26"/>
              <p:cNvSpPr/>
              <p:nvPr/>
            </p:nvSpPr>
            <p:spPr>
              <a:xfrm>
                <a:off x="4168080" y="2347920"/>
                <a:ext cx="766800" cy="92880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ea typeface="楷体_GB2312"/>
                  </a:rPr>
                  <a:t>网络经济主体微观行为研究</a:t>
                </a:r>
                <a:endParaRPr b="0" lang="en-US" sz="1200" spc="-1" strike="noStrike">
                  <a:solidFill>
                    <a:srgbClr val="000000"/>
                  </a:solidFill>
                  <a:latin typeface="Arial"/>
                </a:endParaRPr>
              </a:p>
            </p:txBody>
          </p:sp>
          <p:sp>
            <p:nvSpPr>
              <p:cNvPr id="863" name="矩形 28"/>
              <p:cNvSpPr/>
              <p:nvPr/>
            </p:nvSpPr>
            <p:spPr>
              <a:xfrm>
                <a:off x="6823080" y="2301840"/>
                <a:ext cx="766800" cy="92880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ea typeface="楷体_GB2312"/>
                  </a:rPr>
                  <a:t>网络产业及其增长规律</a:t>
                </a:r>
                <a:endParaRPr b="0" lang="en-US" sz="1200" spc="-1" strike="noStrike">
                  <a:solidFill>
                    <a:srgbClr val="000000"/>
                  </a:solidFill>
                  <a:latin typeface="Arial"/>
                </a:endParaRPr>
              </a:p>
            </p:txBody>
          </p:sp>
          <p:sp>
            <p:nvSpPr>
              <p:cNvPr id="864" name="直接连接符 35"/>
              <p:cNvSpPr/>
              <p:nvPr/>
            </p:nvSpPr>
            <p:spPr>
              <a:xfrm>
                <a:off x="943560" y="3587760"/>
                <a:ext cx="1448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5" name="直接连接符 37"/>
              <p:cNvSpPr/>
              <p:nvPr/>
            </p:nvSpPr>
            <p:spPr>
              <a:xfrm flipH="1">
                <a:off x="941400" y="3586320"/>
                <a:ext cx="180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直接连接符 42"/>
              <p:cNvSpPr/>
              <p:nvPr/>
            </p:nvSpPr>
            <p:spPr>
              <a:xfrm flipH="1">
                <a:off x="1416960" y="3570120"/>
                <a:ext cx="1440" cy="35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直接连接符 43"/>
              <p:cNvSpPr/>
              <p:nvPr/>
            </p:nvSpPr>
            <p:spPr>
              <a:xfrm flipH="1">
                <a:off x="2390400" y="3586320"/>
                <a:ext cx="144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直接连接符 47"/>
              <p:cNvSpPr/>
              <p:nvPr/>
            </p:nvSpPr>
            <p:spPr>
              <a:xfrm>
                <a:off x="1763280" y="3284640"/>
                <a:ext cx="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矩形 49"/>
              <p:cNvSpPr/>
              <p:nvPr/>
            </p:nvSpPr>
            <p:spPr>
              <a:xfrm>
                <a:off x="1161360" y="3932280"/>
                <a:ext cx="346320" cy="159372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第</a:t>
                </a:r>
                <a:r>
                  <a:rPr b="0" lang="en-US" sz="1400" spc="-1" strike="noStrike">
                    <a:solidFill>
                      <a:srgbClr val="000000"/>
                    </a:solidFill>
                    <a:latin typeface="Arial"/>
                    <a:ea typeface="楷体_GB2312"/>
                  </a:rPr>
                  <a:t>2</a:t>
                </a:r>
                <a:r>
                  <a:rPr b="0" lang="zh-CN" sz="1400" spc="-1" strike="noStrike">
                    <a:solidFill>
                      <a:srgbClr val="000000"/>
                    </a:solidFill>
                    <a:latin typeface="Arial"/>
                    <a:ea typeface="楷体_GB2312"/>
                  </a:rPr>
                  <a:t>章</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信息</a:t>
                </a:r>
                <a:endParaRPr b="0" lang="en-US" sz="1400" spc="-1" strike="noStrike">
                  <a:solidFill>
                    <a:srgbClr val="000000"/>
                  </a:solidFill>
                  <a:latin typeface="Arial"/>
                </a:endParaRPr>
              </a:p>
            </p:txBody>
          </p:sp>
          <p:sp>
            <p:nvSpPr>
              <p:cNvPr id="870" name="矩形 50"/>
              <p:cNvSpPr/>
              <p:nvPr/>
            </p:nvSpPr>
            <p:spPr>
              <a:xfrm>
                <a:off x="1591200" y="3932280"/>
                <a:ext cx="514800" cy="157968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第</a:t>
                </a:r>
                <a:r>
                  <a:rPr b="0" lang="en-US" sz="1400" spc="-1" strike="noStrike">
                    <a:solidFill>
                      <a:srgbClr val="000000"/>
                    </a:solidFill>
                    <a:latin typeface="Arial"/>
                    <a:ea typeface="楷体_GB2312"/>
                  </a:rPr>
                  <a:t>3</a:t>
                </a:r>
                <a:r>
                  <a:rPr b="0" lang="zh-CN" sz="1400" spc="-1" strike="noStrike">
                    <a:solidFill>
                      <a:srgbClr val="000000"/>
                    </a:solidFill>
                    <a:latin typeface="Arial"/>
                    <a:ea typeface="楷体_GB2312"/>
                  </a:rPr>
                  <a:t>章数字产品</a:t>
                </a:r>
                <a:endParaRPr b="0" lang="en-US" sz="1400" spc="-1" strike="noStrike">
                  <a:solidFill>
                    <a:srgbClr val="000000"/>
                  </a:solidFill>
                  <a:latin typeface="Arial"/>
                </a:endParaRPr>
              </a:p>
            </p:txBody>
          </p:sp>
          <p:sp>
            <p:nvSpPr>
              <p:cNvPr id="871" name="直接连接符 58"/>
              <p:cNvSpPr/>
              <p:nvPr/>
            </p:nvSpPr>
            <p:spPr>
              <a:xfrm>
                <a:off x="4511160" y="3213000"/>
                <a:ext cx="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直接连接符 60"/>
              <p:cNvSpPr/>
              <p:nvPr/>
            </p:nvSpPr>
            <p:spPr>
              <a:xfrm>
                <a:off x="3653280" y="3571920"/>
                <a:ext cx="180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直接连接符 62"/>
              <p:cNvSpPr/>
              <p:nvPr/>
            </p:nvSpPr>
            <p:spPr>
              <a:xfrm flipH="1">
                <a:off x="3651480" y="3570120"/>
                <a:ext cx="1440" cy="35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直接连接符 63"/>
              <p:cNvSpPr/>
              <p:nvPr/>
            </p:nvSpPr>
            <p:spPr>
              <a:xfrm flipH="1">
                <a:off x="4508640" y="3570120"/>
                <a:ext cx="1800" cy="35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直接连接符 64"/>
              <p:cNvSpPr/>
              <p:nvPr/>
            </p:nvSpPr>
            <p:spPr>
              <a:xfrm flipH="1">
                <a:off x="5454000" y="3570120"/>
                <a:ext cx="1440" cy="35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矩形 65"/>
              <p:cNvSpPr/>
              <p:nvPr/>
            </p:nvSpPr>
            <p:spPr>
              <a:xfrm>
                <a:off x="2278440" y="3932280"/>
                <a:ext cx="687240" cy="160164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第</a:t>
                </a:r>
                <a:r>
                  <a:rPr b="0" lang="en-US" sz="1400" spc="-1" strike="noStrike">
                    <a:solidFill>
                      <a:srgbClr val="000000"/>
                    </a:solidFill>
                    <a:latin typeface="Arial"/>
                    <a:ea typeface="楷体_GB2312"/>
                  </a:rPr>
                  <a:t>4</a:t>
                </a:r>
                <a:r>
                  <a:rPr b="0" lang="zh-CN" sz="1400" spc="-1" strike="noStrike">
                    <a:solidFill>
                      <a:srgbClr val="000000"/>
                    </a:solidFill>
                    <a:latin typeface="Arial"/>
                    <a:ea typeface="楷体_GB2312"/>
                  </a:rPr>
                  <a:t>章数字产品供求分析</a:t>
                </a:r>
                <a:endParaRPr b="0" lang="en-US" sz="1400" spc="-1" strike="noStrike">
                  <a:solidFill>
                    <a:srgbClr val="000000"/>
                  </a:solidFill>
                  <a:latin typeface="Arial"/>
                </a:endParaRPr>
              </a:p>
            </p:txBody>
          </p:sp>
          <p:sp>
            <p:nvSpPr>
              <p:cNvPr id="877" name="矩形 69"/>
              <p:cNvSpPr/>
              <p:nvPr/>
            </p:nvSpPr>
            <p:spPr>
              <a:xfrm>
                <a:off x="3137760" y="3932280"/>
                <a:ext cx="685440" cy="161136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第</a:t>
                </a:r>
                <a:r>
                  <a:rPr b="0" lang="en-US" sz="1400" spc="-1" strike="noStrike">
                    <a:solidFill>
                      <a:srgbClr val="000000"/>
                    </a:solidFill>
                    <a:latin typeface="Arial"/>
                    <a:ea typeface="楷体_GB2312"/>
                  </a:rPr>
                  <a:t>5</a:t>
                </a:r>
                <a:r>
                  <a:rPr b="0" lang="zh-CN" sz="1400" spc="-1" strike="noStrike">
                    <a:solidFill>
                      <a:srgbClr val="000000"/>
                    </a:solidFill>
                    <a:latin typeface="Arial"/>
                    <a:ea typeface="楷体_GB2312"/>
                  </a:rPr>
                  <a:t>章网络广告与产品信息分析</a:t>
                </a:r>
                <a:endParaRPr b="0" lang="en-US" sz="1400" spc="-1" strike="noStrike">
                  <a:solidFill>
                    <a:srgbClr val="000000"/>
                  </a:solidFill>
                  <a:latin typeface="Arial"/>
                </a:endParaRPr>
              </a:p>
            </p:txBody>
          </p:sp>
          <p:sp>
            <p:nvSpPr>
              <p:cNvPr id="878" name="矩形 70"/>
              <p:cNvSpPr/>
              <p:nvPr/>
            </p:nvSpPr>
            <p:spPr>
              <a:xfrm>
                <a:off x="4168080" y="3932280"/>
                <a:ext cx="687240" cy="157176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第</a:t>
                </a:r>
                <a:r>
                  <a:rPr b="0" lang="en-US" sz="1400" spc="-1" strike="noStrike">
                    <a:solidFill>
                      <a:srgbClr val="000000"/>
                    </a:solidFill>
                    <a:latin typeface="Arial"/>
                    <a:ea typeface="楷体_GB2312"/>
                  </a:rPr>
                  <a:t>6</a:t>
                </a:r>
                <a:r>
                  <a:rPr b="0" lang="zh-CN" sz="1400" spc="-1" strike="noStrike">
                    <a:solidFill>
                      <a:srgbClr val="000000"/>
                    </a:solidFill>
                    <a:latin typeface="Arial"/>
                    <a:ea typeface="楷体_GB2312"/>
                  </a:rPr>
                  <a:t>章营销与场竞争策略</a:t>
                </a:r>
                <a:endParaRPr b="0" lang="en-US" sz="1400" spc="-1" strike="noStrike">
                  <a:solidFill>
                    <a:srgbClr val="000000"/>
                  </a:solidFill>
                  <a:latin typeface="Arial"/>
                </a:endParaRPr>
              </a:p>
            </p:txBody>
          </p:sp>
          <p:sp>
            <p:nvSpPr>
              <p:cNvPr id="879" name="矩形 77"/>
              <p:cNvSpPr/>
              <p:nvPr/>
            </p:nvSpPr>
            <p:spPr>
              <a:xfrm>
                <a:off x="5283720" y="4003560"/>
                <a:ext cx="722880" cy="157176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第</a:t>
                </a:r>
                <a:r>
                  <a:rPr b="0" lang="en-US" sz="1400" spc="-1" strike="noStrike">
                    <a:solidFill>
                      <a:srgbClr val="000000"/>
                    </a:solidFill>
                    <a:latin typeface="Arial"/>
                    <a:ea typeface="楷体_GB2312"/>
                  </a:rPr>
                  <a:t>7</a:t>
                </a:r>
                <a:r>
                  <a:rPr b="0" lang="zh-CN" sz="1400" spc="-1" strike="noStrike">
                    <a:solidFill>
                      <a:srgbClr val="000000"/>
                    </a:solidFill>
                    <a:latin typeface="Arial"/>
                    <a:ea typeface="楷体_GB2312"/>
                  </a:rPr>
                  <a:t>章网络垄断与竞争</a:t>
                </a:r>
                <a:endParaRPr b="0" lang="en-US" sz="1400" spc="-1" strike="noStrike">
                  <a:solidFill>
                    <a:srgbClr val="000000"/>
                  </a:solidFill>
                  <a:latin typeface="Arial"/>
                </a:endParaRPr>
              </a:p>
            </p:txBody>
          </p:sp>
          <p:sp>
            <p:nvSpPr>
              <p:cNvPr id="880" name="直接连接符 80"/>
              <p:cNvSpPr/>
              <p:nvPr/>
            </p:nvSpPr>
            <p:spPr>
              <a:xfrm>
                <a:off x="7247160" y="3209760"/>
                <a:ext cx="0" cy="3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直接连接符 81"/>
              <p:cNvSpPr/>
              <p:nvPr/>
            </p:nvSpPr>
            <p:spPr>
              <a:xfrm>
                <a:off x="6737400" y="3587760"/>
                <a:ext cx="93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2" name="直接连接符 82"/>
              <p:cNvSpPr/>
              <p:nvPr/>
            </p:nvSpPr>
            <p:spPr>
              <a:xfrm flipH="1">
                <a:off x="6735960" y="3586320"/>
                <a:ext cx="144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直接连接符 83"/>
              <p:cNvSpPr/>
              <p:nvPr/>
            </p:nvSpPr>
            <p:spPr>
              <a:xfrm flipH="1">
                <a:off x="7673040" y="3586320"/>
                <a:ext cx="144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矩形 84"/>
              <p:cNvSpPr/>
              <p:nvPr/>
            </p:nvSpPr>
            <p:spPr>
              <a:xfrm>
                <a:off x="7345440" y="3932280"/>
                <a:ext cx="681120" cy="157176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第</a:t>
                </a:r>
                <a:r>
                  <a:rPr b="0" lang="en-US" sz="1400" spc="-1" strike="noStrike">
                    <a:solidFill>
                      <a:srgbClr val="000000"/>
                    </a:solidFill>
                    <a:latin typeface="Arial"/>
                    <a:ea typeface="楷体_GB2312"/>
                  </a:rPr>
                  <a:t>9</a:t>
                </a:r>
                <a:r>
                  <a:rPr b="0" lang="zh-CN" sz="1400" spc="-1" strike="noStrike">
                    <a:solidFill>
                      <a:srgbClr val="000000"/>
                    </a:solidFill>
                    <a:latin typeface="Arial"/>
                    <a:ea typeface="楷体_GB2312"/>
                  </a:rPr>
                  <a:t>章网络产业经济及创新分析</a:t>
                </a:r>
                <a:endParaRPr b="0" lang="en-US" sz="1400" spc="-1" strike="noStrike">
                  <a:solidFill>
                    <a:srgbClr val="000000"/>
                  </a:solidFill>
                  <a:latin typeface="Arial"/>
                </a:endParaRPr>
              </a:p>
            </p:txBody>
          </p:sp>
          <p:sp>
            <p:nvSpPr>
              <p:cNvPr id="885" name="矩形 85"/>
              <p:cNvSpPr/>
              <p:nvPr/>
            </p:nvSpPr>
            <p:spPr>
              <a:xfrm>
                <a:off x="6228360" y="4003560"/>
                <a:ext cx="869040" cy="157176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楷体_GB2312"/>
                  </a:rPr>
                  <a:t>第</a:t>
                </a:r>
                <a:r>
                  <a:rPr b="0" lang="en-US" sz="1400" spc="-1" strike="noStrike">
                    <a:solidFill>
                      <a:srgbClr val="000000"/>
                    </a:solidFill>
                    <a:latin typeface="Arial"/>
                    <a:ea typeface="楷体_GB2312"/>
                  </a:rPr>
                  <a:t>8</a:t>
                </a:r>
                <a:r>
                  <a:rPr b="0" lang="zh-CN" sz="1400" spc="-1" strike="noStrike">
                    <a:solidFill>
                      <a:srgbClr val="000000"/>
                    </a:solidFill>
                    <a:latin typeface="Arial"/>
                    <a:ea typeface="楷体_GB2312"/>
                  </a:rPr>
                  <a:t>章网络经济产业结构变迁与经济增长</a:t>
                </a:r>
                <a:endParaRPr b="0" lang="en-US" sz="1400" spc="-1" strike="noStrike">
                  <a:solidFill>
                    <a:srgbClr val="000000"/>
                  </a:solidFill>
                  <a:latin typeface="Arial"/>
                </a:endParaRPr>
              </a:p>
            </p:txBody>
          </p:sp>
          <p:sp>
            <p:nvSpPr>
              <p:cNvPr id="886" name="Line 68"/>
              <p:cNvSpPr/>
              <p:nvPr/>
            </p:nvSpPr>
            <p:spPr>
              <a:xfrm>
                <a:off x="1763280" y="357192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5C2F5-CC73-44C5-972B-CB9E24845FA6}"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888" name="Group 128"/>
          <p:cNvGrpSpPr/>
          <p:nvPr/>
        </p:nvGrpSpPr>
        <p:grpSpPr>
          <a:xfrm>
            <a:off x="7704000" y="2349360"/>
            <a:ext cx="648000" cy="453960"/>
            <a:chOff x="7704000" y="2349360"/>
            <a:chExt cx="648000" cy="453960"/>
          </a:xfrm>
        </p:grpSpPr>
        <p:sp>
          <p:nvSpPr>
            <p:cNvPr id="88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1" name="组合 10"/>
          <p:cNvGrpSpPr/>
          <p:nvPr/>
        </p:nvGrpSpPr>
        <p:grpSpPr>
          <a:xfrm>
            <a:off x="1871640" y="1376280"/>
            <a:ext cx="4753080" cy="647640"/>
            <a:chOff x="1871640" y="1376280"/>
            <a:chExt cx="4753080" cy="647640"/>
          </a:xfrm>
        </p:grpSpPr>
        <p:sp>
          <p:nvSpPr>
            <p:cNvPr id="892" name="TextBox 11"/>
            <p:cNvSpPr/>
            <p:nvPr/>
          </p:nvSpPr>
          <p:spPr>
            <a:xfrm>
              <a:off x="2044440" y="1376280"/>
              <a:ext cx="458028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电子商务的基本内容和服务范围</a:t>
              </a:r>
              <a:endParaRPr b="0" lang="en-US" sz="1800" spc="-1" strike="noStrike">
                <a:solidFill>
                  <a:srgbClr val="000000"/>
                </a:solidFill>
                <a:latin typeface="Arial"/>
              </a:endParaRPr>
            </a:p>
          </p:txBody>
        </p:sp>
        <p:sp>
          <p:nvSpPr>
            <p:cNvPr id="893" name="直接连接符 12"/>
            <p:cNvSpPr/>
            <p:nvPr/>
          </p:nvSpPr>
          <p:spPr>
            <a:xfrm>
              <a:off x="2057040" y="170496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流程图: 联系 13"/>
            <p:cNvSpPr/>
            <p:nvPr/>
          </p:nvSpPr>
          <p:spPr>
            <a:xfrm>
              <a:off x="1871640" y="1690560"/>
              <a:ext cx="347400" cy="12852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895" name="直接连接符 14"/>
            <p:cNvSpPr/>
            <p:nvPr/>
          </p:nvSpPr>
          <p:spPr>
            <a:xfrm>
              <a:off x="2070000" y="2014560"/>
              <a:ext cx="6620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6" name="组合 15"/>
          <p:cNvGrpSpPr/>
          <p:nvPr/>
        </p:nvGrpSpPr>
        <p:grpSpPr>
          <a:xfrm>
            <a:off x="1876320" y="2184480"/>
            <a:ext cx="4645080" cy="647640"/>
            <a:chOff x="1876320" y="2184480"/>
            <a:chExt cx="4645080" cy="647640"/>
          </a:xfrm>
        </p:grpSpPr>
        <p:sp>
          <p:nvSpPr>
            <p:cNvPr id="897" name="TextBox 16"/>
            <p:cNvSpPr/>
            <p:nvPr/>
          </p:nvSpPr>
          <p:spPr>
            <a:xfrm>
              <a:off x="2044440" y="2184480"/>
              <a:ext cx="447696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电子商务发展阶段</a:t>
              </a:r>
              <a:endParaRPr b="0" lang="en-US" sz="1800" spc="-1" strike="noStrike">
                <a:solidFill>
                  <a:srgbClr val="000000"/>
                </a:solidFill>
                <a:latin typeface="Arial"/>
              </a:endParaRPr>
            </a:p>
          </p:txBody>
        </p:sp>
        <p:sp>
          <p:nvSpPr>
            <p:cNvPr id="898" name="直接连接符 17"/>
            <p:cNvSpPr/>
            <p:nvPr/>
          </p:nvSpPr>
          <p:spPr>
            <a:xfrm>
              <a:off x="2058840" y="251316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流程图: 联系 18"/>
            <p:cNvSpPr/>
            <p:nvPr/>
          </p:nvSpPr>
          <p:spPr>
            <a:xfrm>
              <a:off x="1876320" y="2498760"/>
              <a:ext cx="339480" cy="1267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43200" bIns="4320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900" name="直接连接符 19"/>
            <p:cNvSpPr/>
            <p:nvPr/>
          </p:nvSpPr>
          <p:spPr>
            <a:xfrm>
              <a:off x="2070000" y="2819520"/>
              <a:ext cx="6458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1"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PlaceHolder 1"/>
          <p:cNvSpPr>
            <a:spLocks noGrp="1"/>
          </p:cNvSpPr>
          <p:nvPr>
            <p:ph type="title"/>
          </p:nvPr>
        </p:nvSpPr>
        <p:spPr>
          <a:xfrm>
            <a:off x="576000" y="296640"/>
            <a:ext cx="58323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c0504d"/>
                </a:solidFill>
                <a:latin typeface="微软雅黑"/>
                <a:ea typeface="微软雅黑"/>
              </a:rPr>
              <a:t>第三节 电子商务基础</a:t>
            </a:r>
            <a:endParaRPr b="0" lang="en-US" sz="2900" spc="-1" strike="noStrike">
              <a:solidFill>
                <a:srgbClr val="000000"/>
              </a:solidFill>
              <a:latin typeface="Calibri"/>
            </a:endParaRPr>
          </a:p>
        </p:txBody>
      </p:sp>
      <p:grpSp>
        <p:nvGrpSpPr>
          <p:cNvPr id="905" name="组合 127"/>
          <p:cNvGrpSpPr/>
          <p:nvPr/>
        </p:nvGrpSpPr>
        <p:grpSpPr>
          <a:xfrm>
            <a:off x="250920" y="324000"/>
            <a:ext cx="264960" cy="417240"/>
            <a:chOff x="250920" y="324000"/>
            <a:chExt cx="264960" cy="417240"/>
          </a:xfrm>
        </p:grpSpPr>
        <p:sp>
          <p:nvSpPr>
            <p:cNvPr id="906"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9" name="TextBox 25"/>
          <p:cNvSpPr/>
          <p:nvPr/>
        </p:nvSpPr>
        <p:spPr>
          <a:xfrm>
            <a:off x="2087640" y="3105000"/>
            <a:ext cx="4645080" cy="64008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电子商务面临的问题</a:t>
            </a:r>
            <a:endParaRPr b="0" lang="en-US" sz="1800" spc="-1" strike="noStrike">
              <a:solidFill>
                <a:srgbClr val="000000"/>
              </a:solidFill>
              <a:latin typeface="Arial"/>
            </a:endParaRPr>
          </a:p>
        </p:txBody>
      </p:sp>
      <p:sp>
        <p:nvSpPr>
          <p:cNvPr id="910" name="直接连接符 26"/>
          <p:cNvSpPr/>
          <p:nvPr/>
        </p:nvSpPr>
        <p:spPr>
          <a:xfrm>
            <a:off x="2049480" y="344340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流程图: 联系 27"/>
          <p:cNvSpPr/>
          <p:nvPr/>
        </p:nvSpPr>
        <p:spPr>
          <a:xfrm>
            <a:off x="1871640" y="3429000"/>
            <a:ext cx="331920" cy="128520"/>
          </a:xfrm>
          <a:prstGeom prst="flowChartConnector">
            <a:avLst/>
          </a:prstGeom>
          <a:solidFill>
            <a:srgbClr val="b3a2c7"/>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3</a:t>
            </a:r>
            <a:endParaRPr b="0" lang="en-US" sz="1800" spc="-1" strike="noStrike">
              <a:solidFill>
                <a:srgbClr val="000000"/>
              </a:solidFill>
              <a:latin typeface="Arial"/>
            </a:endParaRPr>
          </a:p>
        </p:txBody>
      </p:sp>
      <p:sp>
        <p:nvSpPr>
          <p:cNvPr id="912" name="直接连接符 28"/>
          <p:cNvSpPr/>
          <p:nvPr/>
        </p:nvSpPr>
        <p:spPr>
          <a:xfrm>
            <a:off x="2060640" y="37530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直接连接符 31"/>
          <p:cNvSpPr/>
          <p:nvPr/>
        </p:nvSpPr>
        <p:spPr>
          <a:xfrm>
            <a:off x="2049480" y="429732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直接连接符 33"/>
          <p:cNvSpPr/>
          <p:nvPr/>
        </p:nvSpPr>
        <p:spPr>
          <a:xfrm>
            <a:off x="2060640" y="460368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5" name="Group 128"/>
          <p:cNvGrpSpPr/>
          <p:nvPr/>
        </p:nvGrpSpPr>
        <p:grpSpPr>
          <a:xfrm>
            <a:off x="7704000" y="2349360"/>
            <a:ext cx="648000" cy="453960"/>
            <a:chOff x="7704000" y="2349360"/>
            <a:chExt cx="648000" cy="453960"/>
          </a:xfrm>
        </p:grpSpPr>
        <p:sp>
          <p:nvSpPr>
            <p:cNvPr id="916"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8"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PlaceHolder 1"/>
          <p:cNvSpPr>
            <a:spLocks noGrp="1"/>
          </p:cNvSpPr>
          <p:nvPr>
            <p:ph type="title"/>
          </p:nvPr>
        </p:nvSpPr>
        <p:spPr>
          <a:xfrm>
            <a:off x="576000" y="296640"/>
            <a:ext cx="723564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一、电子商务的基本内容和服务范围</a:t>
            </a:r>
            <a:endParaRPr b="0" lang="en-US" sz="3200" spc="-1" strike="noStrike">
              <a:solidFill>
                <a:srgbClr val="000000"/>
              </a:solidFill>
              <a:latin typeface="Calibri"/>
            </a:endParaRPr>
          </a:p>
        </p:txBody>
      </p:sp>
      <p:grpSp>
        <p:nvGrpSpPr>
          <p:cNvPr id="921" name="组合 127"/>
          <p:cNvGrpSpPr/>
          <p:nvPr/>
        </p:nvGrpSpPr>
        <p:grpSpPr>
          <a:xfrm>
            <a:off x="250920" y="324000"/>
            <a:ext cx="264960" cy="417240"/>
            <a:chOff x="250920" y="324000"/>
            <a:chExt cx="264960" cy="417240"/>
          </a:xfrm>
        </p:grpSpPr>
        <p:sp>
          <p:nvSpPr>
            <p:cNvPr id="922"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5"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6"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7" name="Rectangle 34"/>
          <p:cNvSpPr/>
          <p:nvPr/>
        </p:nvSpPr>
        <p:spPr>
          <a:xfrm>
            <a:off x="684360" y="1592640"/>
            <a:ext cx="6948360" cy="91692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电子商务既包括电子函件（</a:t>
            </a:r>
            <a:r>
              <a:rPr b="0" lang="en-US" sz="1800" spc="-1" strike="noStrike">
                <a:solidFill>
                  <a:srgbClr val="000000"/>
                </a:solidFill>
                <a:latin typeface="Arial"/>
              </a:rPr>
              <a:t>E-mail</a:t>
            </a:r>
            <a:r>
              <a:rPr b="0" lang="zh-CN" sz="1800" spc="-1" strike="noStrike">
                <a:solidFill>
                  <a:srgbClr val="000000"/>
                </a:solidFill>
                <a:latin typeface="Arial"/>
              </a:rPr>
              <a:t>）、电子数据交换（</a:t>
            </a:r>
            <a:r>
              <a:rPr b="0" lang="en-US" sz="1800" spc="-1" strike="noStrike">
                <a:solidFill>
                  <a:srgbClr val="000000"/>
                </a:solidFill>
                <a:latin typeface="Arial"/>
              </a:rPr>
              <a:t>EDI</a:t>
            </a:r>
            <a:r>
              <a:rPr b="0" lang="zh-CN" sz="1800" spc="-1" strike="noStrike">
                <a:solidFill>
                  <a:srgbClr val="000000"/>
                </a:solidFill>
                <a:latin typeface="Arial"/>
              </a:rPr>
              <a:t>）、电子资金转帐（</a:t>
            </a:r>
            <a:r>
              <a:rPr b="0" lang="en-US" sz="1800" spc="-1" strike="noStrike">
                <a:solidFill>
                  <a:srgbClr val="000000"/>
                </a:solidFill>
                <a:latin typeface="Arial"/>
              </a:rPr>
              <a:t>EFT</a:t>
            </a:r>
            <a:r>
              <a:rPr b="0" lang="zh-CN" sz="1800" spc="-1" strike="noStrike">
                <a:solidFill>
                  <a:srgbClr val="000000"/>
                </a:solidFill>
                <a:latin typeface="Arial"/>
              </a:rPr>
              <a:t>）、快速响应（</a:t>
            </a:r>
            <a:r>
              <a:rPr b="0" lang="en-US" sz="1800" spc="-1" strike="noStrike">
                <a:solidFill>
                  <a:srgbClr val="000000"/>
                </a:solidFill>
                <a:latin typeface="Arial"/>
              </a:rPr>
              <a:t>QR</a:t>
            </a:r>
            <a:r>
              <a:rPr b="0" lang="zh-CN" sz="1800" spc="-1" strike="noStrike">
                <a:solidFill>
                  <a:srgbClr val="000000"/>
                </a:solidFill>
                <a:latin typeface="Arial"/>
              </a:rPr>
              <a:t>）系统、电子表单和信用卡交易等电子商务的一系列应用，又包括支持电子商务的信息基础设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狭义上电子商务仅指企业－企业、企业－消费者之间的电子交易。 </a:t>
            </a:r>
            <a:endParaRPr b="0" lang="en-US" sz="1800" spc="-1" strike="noStrike">
              <a:solidFill>
                <a:srgbClr val="000000"/>
              </a:solidFill>
              <a:latin typeface="Arial"/>
            </a:endParaRPr>
          </a:p>
        </p:txBody>
      </p:sp>
      <p:sp>
        <p:nvSpPr>
          <p:cNvPr id="928" name="Rectangle 35"/>
          <p:cNvSpPr/>
          <p:nvPr/>
        </p:nvSpPr>
        <p:spPr>
          <a:xfrm>
            <a:off x="906840" y="3319920"/>
            <a:ext cx="1108800" cy="58140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电子商务特点</a:t>
            </a:r>
            <a:r>
              <a:rPr b="1" lang="zh-CN" sz="3200" spc="-1" strike="noStrike">
                <a:solidFill>
                  <a:srgbClr val="c0504d"/>
                </a:solidFill>
                <a:latin typeface="微软雅黑"/>
                <a:ea typeface="微软雅黑"/>
              </a:rPr>
              <a:t> </a:t>
            </a:r>
            <a:endParaRPr b="0" lang="en-US" sz="3200" spc="-1" strike="noStrike">
              <a:solidFill>
                <a:srgbClr val="000000"/>
              </a:solidFill>
              <a:latin typeface="Arial"/>
            </a:endParaRPr>
          </a:p>
        </p:txBody>
      </p:sp>
      <p:sp>
        <p:nvSpPr>
          <p:cNvPr id="929" name="Rectangle 36"/>
          <p:cNvSpPr/>
          <p:nvPr/>
        </p:nvSpPr>
        <p:spPr>
          <a:xfrm>
            <a:off x="900000" y="4195440"/>
            <a:ext cx="2700360" cy="119124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变革贸易方式</a:t>
            </a:r>
            <a:endParaRPr b="0" lang="en-US" sz="18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减少费用</a:t>
            </a:r>
            <a:endParaRPr b="0" lang="en-US" sz="18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提高信息的利用效率</a:t>
            </a:r>
            <a:endParaRPr b="0" lang="en-US" sz="18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堵塞漏洞，反对腐败</a:t>
            </a:r>
            <a:endParaRPr b="0" lang="en-US" sz="18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0" name="Group 128"/>
          <p:cNvGrpSpPr/>
          <p:nvPr/>
        </p:nvGrpSpPr>
        <p:grpSpPr>
          <a:xfrm>
            <a:off x="7704000" y="2349360"/>
            <a:ext cx="648000" cy="453960"/>
            <a:chOff x="7704000" y="2349360"/>
            <a:chExt cx="648000" cy="453960"/>
          </a:xfrm>
        </p:grpSpPr>
        <p:sp>
          <p:nvSpPr>
            <p:cNvPr id="931"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3"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PlaceHolder 1"/>
          <p:cNvSpPr>
            <a:spLocks noGrp="1"/>
          </p:cNvSpPr>
          <p:nvPr>
            <p:ph type="title"/>
          </p:nvPr>
        </p:nvSpPr>
        <p:spPr>
          <a:xfrm>
            <a:off x="576000" y="296640"/>
            <a:ext cx="723564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二、电子商务发展的阶段</a:t>
            </a:r>
            <a:endParaRPr b="0" lang="en-US" sz="3200" spc="-1" strike="noStrike">
              <a:solidFill>
                <a:srgbClr val="000000"/>
              </a:solidFill>
              <a:latin typeface="Calibri"/>
            </a:endParaRPr>
          </a:p>
        </p:txBody>
      </p:sp>
      <p:grpSp>
        <p:nvGrpSpPr>
          <p:cNvPr id="936" name="组合 127"/>
          <p:cNvGrpSpPr/>
          <p:nvPr/>
        </p:nvGrpSpPr>
        <p:grpSpPr>
          <a:xfrm>
            <a:off x="250920" y="324000"/>
            <a:ext cx="264960" cy="417240"/>
            <a:chOff x="250920" y="324000"/>
            <a:chExt cx="264960" cy="417240"/>
          </a:xfrm>
        </p:grpSpPr>
        <p:sp>
          <p:nvSpPr>
            <p:cNvPr id="937"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0"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1"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2" name="文本框 99"/>
          <p:cNvSpPr/>
          <p:nvPr/>
        </p:nvSpPr>
        <p:spPr>
          <a:xfrm>
            <a:off x="942840" y="1147680"/>
            <a:ext cx="72583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1</a:t>
            </a:r>
            <a:r>
              <a:rPr b="0" lang="en-US" sz="1800" spc="-1" strike="noStrike">
                <a:solidFill>
                  <a:srgbClr val="000000"/>
                </a:solidFill>
                <a:latin typeface="Arial"/>
              </a:rPr>
              <a:t>） 第一代电子商务（</a:t>
            </a:r>
            <a:r>
              <a:rPr b="0" lang="en-US" sz="1800" spc="-1" strike="noStrike">
                <a:solidFill>
                  <a:srgbClr val="000000"/>
                </a:solidFill>
                <a:latin typeface="Arial"/>
              </a:rPr>
              <a:t>1995-2000</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第一，全世界的消费者可以随时随地访问；</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第二，成本低廉且覆盖面广的营销通信技术；</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第三，分割市场的能力</a:t>
            </a:r>
            <a:r>
              <a:rPr b="0"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第四，抢先者优势（先发优势）：</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第五，网络效应</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2</a:t>
            </a:r>
            <a:r>
              <a:rPr b="0" lang="en-US" sz="1800" spc="-1" strike="noStrike">
                <a:solidFill>
                  <a:srgbClr val="000000"/>
                </a:solidFill>
                <a:latin typeface="Arial"/>
              </a:rPr>
              <a:t>）第二代电子商务（</a:t>
            </a:r>
            <a:r>
              <a:rPr b="0" lang="en-US" sz="1800" spc="-1" strike="noStrike">
                <a:solidFill>
                  <a:srgbClr val="000000"/>
                </a:solidFill>
                <a:latin typeface="Arial"/>
              </a:rPr>
              <a:t>2001</a:t>
            </a:r>
            <a:r>
              <a:rPr b="0" lang="en-US" sz="1800" spc="-1" strike="noStrike">
                <a:solidFill>
                  <a:srgbClr val="000000"/>
                </a:solidFill>
                <a:latin typeface="Arial"/>
              </a:rPr>
              <a:t>至今）</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电子商务公司重新整顿公司的资产与股票价值，注重于企业的利润。不再盲目通过各种融资方式扩大企业，转而采取一些风险较低的传统融资方式，同时更加注重企业内部的制度建设与管理。</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另一方面注意到网络经济中假货泛滥，中介的存在可以适当解决该问题，出现大量网络零售商、网络平台商。</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出现了线上线下相结合的交易方式，大大提高了成交量，技术的日益进步和各国在网络市场的加入使得网络经济蓬勃发展。</a:t>
            </a:r>
            <a:endParaRPr b="0" lang="en-US" sz="18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ea typeface="微软雅黑"/>
              </a:rPr>
              <a:t>课程信息</a:t>
            </a: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课程名称：</a:t>
            </a:r>
            <a:r>
              <a:rPr b="1" lang="zh-CN" sz="3200" spc="-1" strike="noStrike">
                <a:solidFill>
                  <a:srgbClr val="000000"/>
                </a:solidFill>
                <a:latin typeface="微软雅黑"/>
                <a:ea typeface="微软雅黑"/>
              </a:rPr>
              <a:t>网络经济学</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教材：</a:t>
            </a:r>
            <a:r>
              <a:rPr b="0" lang="en-US" sz="3200" spc="-1" strike="noStrike">
                <a:solidFill>
                  <a:srgbClr val="000000"/>
                </a:solidFill>
                <a:latin typeface="Calibri"/>
              </a:rPr>
              <a:t>《</a:t>
            </a:r>
            <a:r>
              <a:rPr b="0" lang="zh-CN" sz="3200" spc="-1" strike="noStrike">
                <a:solidFill>
                  <a:srgbClr val="000000"/>
                </a:solidFill>
                <a:latin typeface="Calibri"/>
              </a:rPr>
              <a:t>网络经济学</a:t>
            </a:r>
            <a:r>
              <a:rPr b="0" lang="en-US" sz="3200" spc="-1" strike="noStrike">
                <a:solidFill>
                  <a:srgbClr val="000000"/>
                </a:solidFill>
                <a:latin typeface="Calibri"/>
              </a:rPr>
              <a:t>》</a:t>
            </a:r>
            <a:r>
              <a:rPr b="0" lang="zh-CN" sz="3200" spc="-1" strike="noStrike">
                <a:solidFill>
                  <a:srgbClr val="000000"/>
                </a:solidFill>
                <a:latin typeface="Calibri"/>
              </a:rPr>
              <a:t>芮廷先主编</a:t>
            </a:r>
            <a:r>
              <a:rPr b="0" lang="en-US" sz="3200" spc="-1" strike="noStrike">
                <a:solidFill>
                  <a:srgbClr val="000000"/>
                </a:solidFill>
                <a:latin typeface="Calibri"/>
              </a:rPr>
              <a:t> </a:t>
            </a:r>
            <a:r>
              <a:rPr b="0" lang="zh-CN" sz="3200" spc="-1" strike="noStrike">
                <a:solidFill>
                  <a:srgbClr val="000000"/>
                </a:solidFill>
                <a:latin typeface="Calibri"/>
              </a:rPr>
              <a:t>上海财经大学出版社</a:t>
            </a:r>
            <a:r>
              <a:rPr b="0" lang="en-US" sz="3200" spc="-1" strike="noStrike">
                <a:solidFill>
                  <a:srgbClr val="000000"/>
                </a:solidFill>
                <a:latin typeface="Calibri"/>
              </a:rPr>
              <a:t>2021</a:t>
            </a:r>
            <a:r>
              <a:rPr b="0" lang="zh-CN"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主讲人：</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3" name="Group 128"/>
          <p:cNvGrpSpPr/>
          <p:nvPr/>
        </p:nvGrpSpPr>
        <p:grpSpPr>
          <a:xfrm>
            <a:off x="7704000" y="2349360"/>
            <a:ext cx="648000" cy="453960"/>
            <a:chOff x="7704000" y="2349360"/>
            <a:chExt cx="648000" cy="453960"/>
          </a:xfrm>
        </p:grpSpPr>
        <p:sp>
          <p:nvSpPr>
            <p:cNvPr id="944"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6"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PlaceHolder 1"/>
          <p:cNvSpPr>
            <a:spLocks noGrp="1"/>
          </p:cNvSpPr>
          <p:nvPr>
            <p:ph type="title"/>
          </p:nvPr>
        </p:nvSpPr>
        <p:spPr>
          <a:xfrm>
            <a:off x="576000" y="296640"/>
            <a:ext cx="723564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三、中国电子商务发展现状和趋势</a:t>
            </a:r>
            <a:endParaRPr b="0" lang="en-US" sz="3200" spc="-1" strike="noStrike">
              <a:solidFill>
                <a:srgbClr val="000000"/>
              </a:solidFill>
              <a:latin typeface="Calibri"/>
            </a:endParaRPr>
          </a:p>
        </p:txBody>
      </p:sp>
      <p:grpSp>
        <p:nvGrpSpPr>
          <p:cNvPr id="949" name="组合 127"/>
          <p:cNvGrpSpPr/>
          <p:nvPr/>
        </p:nvGrpSpPr>
        <p:grpSpPr>
          <a:xfrm>
            <a:off x="250920" y="324000"/>
            <a:ext cx="264960" cy="417240"/>
            <a:chOff x="250920" y="324000"/>
            <a:chExt cx="264960" cy="417240"/>
          </a:xfrm>
        </p:grpSpPr>
        <p:sp>
          <p:nvSpPr>
            <p:cNvPr id="950"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53"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55" name="图片 1" descr="http://image1.askci.com/images/2019/06/24/526afcc6-6ee9-422a-9603-3ec300fda905.png"/>
          <p:cNvPicPr/>
          <p:nvPr/>
        </p:nvPicPr>
        <p:blipFill>
          <a:blip r:embed="rId1"/>
          <a:stretch/>
        </p:blipFill>
        <p:spPr>
          <a:xfrm>
            <a:off x="576360" y="993600"/>
            <a:ext cx="5275080" cy="3022920"/>
          </a:xfrm>
          <a:prstGeom prst="rect">
            <a:avLst/>
          </a:prstGeom>
          <a:ln w="0">
            <a:noFill/>
          </a:ln>
        </p:spPr>
      </p:pic>
      <p:sp>
        <p:nvSpPr>
          <p:cNvPr id="956" name="文本框 99"/>
          <p:cNvSpPr/>
          <p:nvPr/>
        </p:nvSpPr>
        <p:spPr>
          <a:xfrm>
            <a:off x="576360" y="4351320"/>
            <a:ext cx="5079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Calibri"/>
              </a:rPr>
              <a:t>图</a:t>
            </a:r>
            <a:r>
              <a:rPr b="0" sz="1000" spc="-1" strike="noStrike">
                <a:solidFill>
                  <a:srgbClr val="000000"/>
                </a:solidFill>
                <a:latin typeface="Calibri"/>
                <a:ea typeface="Times New Roman"/>
              </a:rPr>
              <a:t>1-1  2015-2019</a:t>
            </a:r>
            <a:r>
              <a:rPr b="0" sz="1000" spc="-1" strike="noStrike">
                <a:solidFill>
                  <a:srgbClr val="000000"/>
                </a:solidFill>
                <a:latin typeface="Calibri"/>
              </a:rPr>
              <a:t>年中国电子商务市场规模</a:t>
            </a:r>
            <a:endParaRPr b="0" lang="en-US" sz="1000" spc="-1" strike="noStrike">
              <a:solidFill>
                <a:srgbClr val="000000"/>
              </a:solidFill>
              <a:latin typeface="Arial"/>
            </a:endParaRPr>
          </a:p>
        </p:txBody>
      </p:sp>
      <p:pic>
        <p:nvPicPr>
          <p:cNvPr id="957" name="图片 20" descr="http://image1.askci.com/images/2019/06/24/339770c1-0f99-4572-becf-608be1f38cb3.png"/>
          <p:cNvPicPr/>
          <p:nvPr/>
        </p:nvPicPr>
        <p:blipFill>
          <a:blip r:embed="rId2"/>
          <a:stretch/>
        </p:blipFill>
        <p:spPr>
          <a:xfrm>
            <a:off x="3511440" y="3213000"/>
            <a:ext cx="5273640" cy="2994120"/>
          </a:xfrm>
          <a:prstGeom prst="rect">
            <a:avLst/>
          </a:prstGeom>
          <a:ln w="0">
            <a:noFill/>
          </a:ln>
        </p:spPr>
      </p:pic>
    </p:spTree>
  </p:cSld>
  <p:transition>
    <p:wipe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5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8" name="Group 128"/>
          <p:cNvGrpSpPr/>
          <p:nvPr/>
        </p:nvGrpSpPr>
        <p:grpSpPr>
          <a:xfrm>
            <a:off x="7704000" y="2349360"/>
            <a:ext cx="648000" cy="453960"/>
            <a:chOff x="7704000" y="2349360"/>
            <a:chExt cx="648000" cy="453960"/>
          </a:xfrm>
        </p:grpSpPr>
        <p:sp>
          <p:nvSpPr>
            <p:cNvPr id="95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1"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PlaceHolder 1"/>
          <p:cNvSpPr>
            <a:spLocks noGrp="1"/>
          </p:cNvSpPr>
          <p:nvPr>
            <p:ph type="title"/>
          </p:nvPr>
        </p:nvSpPr>
        <p:spPr>
          <a:xfrm>
            <a:off x="576000" y="296640"/>
            <a:ext cx="723564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三、中国电子商务发展现状和趋势</a:t>
            </a:r>
            <a:endParaRPr b="0" lang="en-US" sz="3200" spc="-1" strike="noStrike">
              <a:solidFill>
                <a:srgbClr val="000000"/>
              </a:solidFill>
              <a:latin typeface="Calibri"/>
            </a:endParaRPr>
          </a:p>
        </p:txBody>
      </p:sp>
      <p:grpSp>
        <p:nvGrpSpPr>
          <p:cNvPr id="964" name="组合 127"/>
          <p:cNvGrpSpPr/>
          <p:nvPr/>
        </p:nvGrpSpPr>
        <p:grpSpPr>
          <a:xfrm>
            <a:off x="250920" y="324000"/>
            <a:ext cx="264960" cy="417240"/>
            <a:chOff x="250920" y="324000"/>
            <a:chExt cx="264960" cy="417240"/>
          </a:xfrm>
        </p:grpSpPr>
        <p:sp>
          <p:nvSpPr>
            <p:cNvPr id="965"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8"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9"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0" name="Rectangle 15"/>
          <p:cNvSpPr/>
          <p:nvPr/>
        </p:nvSpPr>
        <p:spPr>
          <a:xfrm>
            <a:off x="1996560" y="2723760"/>
            <a:ext cx="471960" cy="58140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四、网络经济泡沫 </a:t>
            </a:r>
            <a:endParaRPr b="0" lang="en-US" sz="3200" spc="-1" strike="noStrike">
              <a:solidFill>
                <a:srgbClr val="000000"/>
              </a:solidFill>
              <a:latin typeface="Arial"/>
            </a:endParaRPr>
          </a:p>
        </p:txBody>
      </p:sp>
      <p:sp>
        <p:nvSpPr>
          <p:cNvPr id="971" name="文本框 99"/>
          <p:cNvSpPr/>
          <p:nvPr/>
        </p:nvSpPr>
        <p:spPr>
          <a:xfrm>
            <a:off x="973080" y="1015920"/>
            <a:ext cx="50799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1</a:t>
            </a:r>
            <a:r>
              <a:rPr b="1" lang="zh-CN" sz="1800" spc="-1" strike="noStrike">
                <a:solidFill>
                  <a:srgbClr val="000000"/>
                </a:solidFill>
                <a:latin typeface="Arial"/>
              </a:rPr>
              <a:t>）电商法推动网购市场走向规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2</a:t>
            </a:r>
            <a:r>
              <a:rPr b="1" lang="zh-CN" sz="1800" spc="-1" strike="noStrike">
                <a:solidFill>
                  <a:srgbClr val="000000"/>
                </a:solidFill>
                <a:latin typeface="Arial"/>
              </a:rPr>
              <a:t>）电子商务赋能传统行业转型发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3</a:t>
            </a:r>
            <a:r>
              <a:rPr b="1" lang="zh-CN" sz="1800" spc="-1" strike="noStrike">
                <a:solidFill>
                  <a:srgbClr val="000000"/>
                </a:solidFill>
                <a:latin typeface="Arial"/>
              </a:rPr>
              <a:t>）新业态新模式活跃网络消费市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4</a:t>
            </a:r>
            <a:r>
              <a:rPr b="1" lang="zh-CN" sz="1800" spc="-1" strike="noStrike">
                <a:solidFill>
                  <a:srgbClr val="000000"/>
                </a:solidFill>
                <a:latin typeface="Arial"/>
              </a:rPr>
              <a:t>）电商应用进一步向县域（农村）渗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5</a:t>
            </a:r>
            <a:r>
              <a:rPr b="1" lang="zh-CN" sz="1800" spc="-1" strike="noStrike">
                <a:solidFill>
                  <a:srgbClr val="000000"/>
                </a:solidFill>
                <a:latin typeface="Arial"/>
              </a:rPr>
              <a:t>）跨境电商规模继续保持快速增长</a:t>
            </a:r>
            <a:endParaRPr b="0" lang="en-US" sz="1800" spc="-1" strike="noStrike">
              <a:solidFill>
                <a:srgbClr val="000000"/>
              </a:solidFill>
              <a:latin typeface="Arial"/>
            </a:endParaRPr>
          </a:p>
        </p:txBody>
      </p:sp>
      <p:sp>
        <p:nvSpPr>
          <p:cNvPr id="972" name="文本框 1"/>
          <p:cNvSpPr/>
          <p:nvPr/>
        </p:nvSpPr>
        <p:spPr>
          <a:xfrm>
            <a:off x="736560" y="3405240"/>
            <a:ext cx="707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宋体"/>
                <a:ea typeface="华文宋体"/>
              </a:rPr>
              <a:t>所谓经济泡沫指的是由于局部的投机需求</a:t>
            </a:r>
            <a:r>
              <a:rPr b="0" lang="zh-CN" sz="1800" spc="-1" strike="noStrike">
                <a:solidFill>
                  <a:srgbClr val="000000"/>
                </a:solidFill>
                <a:latin typeface="华文宋体"/>
                <a:ea typeface="华文宋体"/>
              </a:rPr>
              <a:t>(</a:t>
            </a:r>
            <a:r>
              <a:rPr b="0" lang="zh-CN" sz="1800" spc="-1" strike="noStrike">
                <a:solidFill>
                  <a:srgbClr val="000000"/>
                </a:solidFill>
                <a:latin typeface="华文宋体"/>
                <a:ea typeface="华文宋体"/>
              </a:rPr>
              <a:t>虚假需求</a:t>
            </a:r>
            <a:r>
              <a:rPr b="0" lang="zh-CN" sz="1800" spc="-1" strike="noStrike">
                <a:solidFill>
                  <a:srgbClr val="000000"/>
                </a:solidFill>
                <a:latin typeface="华文宋体"/>
                <a:ea typeface="华文宋体"/>
              </a:rPr>
              <a:t>)</a:t>
            </a:r>
            <a:r>
              <a:rPr b="0" lang="zh-CN" sz="1800" spc="-1" strike="noStrike">
                <a:solidFill>
                  <a:srgbClr val="000000"/>
                </a:solidFill>
                <a:latin typeface="华文宋体"/>
                <a:ea typeface="华文宋体"/>
              </a:rPr>
              <a:t>使资产的市场价格脱离资产内在价值的部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宋体"/>
                <a:ea typeface="华文宋体"/>
              </a:rPr>
              <a:t>• </a:t>
            </a:r>
            <a:r>
              <a:rPr b="0" lang="zh-CN" sz="1800" spc="-1" strike="noStrike">
                <a:solidFill>
                  <a:srgbClr val="000000"/>
                </a:solidFill>
                <a:latin typeface="华文宋体"/>
                <a:ea typeface="华文宋体"/>
              </a:rPr>
              <a:t>网络经济泡沫界定</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宋体"/>
                <a:ea typeface="华文宋体"/>
              </a:rPr>
              <a:t>• </a:t>
            </a:r>
            <a:r>
              <a:rPr b="0" lang="zh-CN" sz="1800" spc="-1" strike="noStrike">
                <a:solidFill>
                  <a:srgbClr val="000000"/>
                </a:solidFill>
                <a:latin typeface="华文宋体"/>
                <a:ea typeface="华文宋体"/>
              </a:rPr>
              <a:t>网络经济泡沫的载体是什么呢？</a:t>
            </a:r>
            <a:endParaRPr b="0" lang="en-US" sz="1800" spc="-1" strike="noStrike">
              <a:solidFill>
                <a:srgbClr val="000000"/>
              </a:solidFill>
              <a:latin typeface="Arial"/>
            </a:endParaRPr>
          </a:p>
        </p:txBody>
      </p:sp>
      <p:sp>
        <p:nvSpPr>
          <p:cNvPr id="973" name="文本框 2"/>
          <p:cNvSpPr/>
          <p:nvPr/>
        </p:nvSpPr>
        <p:spPr>
          <a:xfrm>
            <a:off x="866880" y="4714920"/>
            <a:ext cx="7029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Calibri"/>
              </a:rPr>
              <a:t>股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a:t>
            </a:r>
            <a:r>
              <a:rPr b="0" lang="zh-CN" sz="1800" spc="-1" strike="noStrike">
                <a:solidFill>
                  <a:srgbClr val="000000"/>
                </a:solidFill>
                <a:latin typeface="Calibri"/>
              </a:rPr>
              <a:t>从需求上看，社会对商品的需求分为真实需求和投机需求，投机需求取决于对未来价值的预期。</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 </a:t>
            </a:r>
            <a:r>
              <a:rPr b="0" lang="zh-CN" sz="1800" spc="-1" strike="noStrike">
                <a:solidFill>
                  <a:srgbClr val="000000"/>
                </a:solidFill>
                <a:latin typeface="Calibri"/>
              </a:rPr>
              <a:t>股票的虚拟资本特性和价格的决定方法注定其内在价值的难以确定，而内在价值难以确定或具有多变性是产生经济泡沫的重要条件</a:t>
            </a:r>
            <a:endParaRPr b="0" lang="en-US" sz="1800" spc="-1" strike="noStrike">
              <a:solidFill>
                <a:srgbClr val="000000"/>
              </a:solidFill>
              <a:latin typeface="Arial"/>
            </a:endParaRPr>
          </a:p>
        </p:txBody>
      </p:sp>
    </p:spTree>
  </p:cSld>
  <p:transition>
    <p:wipe dir="d"/>
  </p:transition>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9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4" name="Group 128"/>
          <p:cNvGrpSpPr/>
          <p:nvPr/>
        </p:nvGrpSpPr>
        <p:grpSpPr>
          <a:xfrm>
            <a:off x="7704000" y="2349360"/>
            <a:ext cx="648000" cy="453960"/>
            <a:chOff x="7704000" y="2349360"/>
            <a:chExt cx="648000" cy="453960"/>
          </a:xfrm>
        </p:grpSpPr>
        <p:sp>
          <p:nvSpPr>
            <p:cNvPr id="975"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7"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9" name="组合 127"/>
          <p:cNvGrpSpPr/>
          <p:nvPr/>
        </p:nvGrpSpPr>
        <p:grpSpPr>
          <a:xfrm>
            <a:off x="250920" y="324000"/>
            <a:ext cx="264960" cy="417240"/>
            <a:chOff x="250920" y="324000"/>
            <a:chExt cx="264960" cy="417240"/>
          </a:xfrm>
        </p:grpSpPr>
        <p:sp>
          <p:nvSpPr>
            <p:cNvPr id="980"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3"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 name="Rectangle 15"/>
          <p:cNvSpPr/>
          <p:nvPr/>
        </p:nvSpPr>
        <p:spPr>
          <a:xfrm>
            <a:off x="2077560" y="742680"/>
            <a:ext cx="471960" cy="58140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四、网络经济泡沫 </a:t>
            </a:r>
            <a:endParaRPr b="0" lang="en-US" sz="3200" spc="-1" strike="noStrike">
              <a:solidFill>
                <a:srgbClr val="000000"/>
              </a:solidFill>
              <a:latin typeface="Arial"/>
            </a:endParaRPr>
          </a:p>
        </p:txBody>
      </p:sp>
      <p:sp>
        <p:nvSpPr>
          <p:cNvPr id="985" name="文本框 4"/>
          <p:cNvSpPr/>
          <p:nvPr/>
        </p:nvSpPr>
        <p:spPr>
          <a:xfrm>
            <a:off x="880920" y="1325520"/>
            <a:ext cx="7259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2</a:t>
            </a:r>
            <a:r>
              <a:rPr b="0" lang="zh-CN" sz="1800" spc="-1" strike="noStrike">
                <a:solidFill>
                  <a:srgbClr val="000000"/>
                </a:solidFill>
                <a:latin typeface="Arial"/>
              </a:rPr>
              <a:t>）诱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一，大量的投机资金充斥股市；第二，网络经济特有发展规律推动，如马太效应、需求方规模经济、成长率理论等等；第三，网络公司领导层盲目追求投资，网络公司原有目标应该是不断提升用户体验、不断完善产品性能、不断扩大用户规模，在此背景下却变成了不断争取风险投资和股票上市；第四，媒体的过度炒作使得广大小投资者跟风投机，最终形成泡沫。</a:t>
            </a:r>
            <a:endParaRPr b="0" lang="en-US" sz="1800" spc="-1" strike="noStrike">
              <a:solidFill>
                <a:srgbClr val="000000"/>
              </a:solidFill>
              <a:latin typeface="Arial"/>
            </a:endParaRPr>
          </a:p>
        </p:txBody>
      </p:sp>
      <p:pic>
        <p:nvPicPr>
          <p:cNvPr id="986" name="图片 21" descr="a12adac02354e6a5df0588e7a681b59"/>
          <p:cNvPicPr/>
          <p:nvPr/>
        </p:nvPicPr>
        <p:blipFill>
          <a:blip r:embed="rId1"/>
          <a:srcRect l="22587" t="5713" r="26504" b="8506"/>
          <a:stretch/>
        </p:blipFill>
        <p:spPr>
          <a:xfrm>
            <a:off x="809640" y="3521160"/>
            <a:ext cx="2681280" cy="2176200"/>
          </a:xfrm>
          <a:prstGeom prst="rect">
            <a:avLst/>
          </a:prstGeom>
          <a:ln w="0">
            <a:noFill/>
          </a:ln>
        </p:spPr>
      </p:pic>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7" name="Group 128"/>
          <p:cNvGrpSpPr/>
          <p:nvPr/>
        </p:nvGrpSpPr>
        <p:grpSpPr>
          <a:xfrm>
            <a:off x="7704000" y="2349360"/>
            <a:ext cx="648000" cy="453960"/>
            <a:chOff x="7704000" y="2349360"/>
            <a:chExt cx="648000" cy="453960"/>
          </a:xfrm>
        </p:grpSpPr>
        <p:sp>
          <p:nvSpPr>
            <p:cNvPr id="98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0"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2" name="组合 127"/>
          <p:cNvGrpSpPr/>
          <p:nvPr/>
        </p:nvGrpSpPr>
        <p:grpSpPr>
          <a:xfrm>
            <a:off x="250920" y="324000"/>
            <a:ext cx="264960" cy="417240"/>
            <a:chOff x="250920" y="324000"/>
            <a:chExt cx="264960" cy="417240"/>
          </a:xfrm>
        </p:grpSpPr>
        <p:sp>
          <p:nvSpPr>
            <p:cNvPr id="993"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6"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7" name="Rectangle 15"/>
          <p:cNvSpPr/>
          <p:nvPr/>
        </p:nvSpPr>
        <p:spPr>
          <a:xfrm>
            <a:off x="2077560" y="742680"/>
            <a:ext cx="471960" cy="58140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四、网络经济泡沫 </a:t>
            </a:r>
            <a:endParaRPr b="0" lang="en-US" sz="3200" spc="-1" strike="noStrike">
              <a:solidFill>
                <a:srgbClr val="000000"/>
              </a:solidFill>
              <a:latin typeface="Arial"/>
            </a:endParaRPr>
          </a:p>
        </p:txBody>
      </p:sp>
      <p:sp>
        <p:nvSpPr>
          <p:cNvPr id="998" name="文本框 4"/>
          <p:cNvSpPr/>
          <p:nvPr/>
        </p:nvSpPr>
        <p:spPr>
          <a:xfrm>
            <a:off x="880920" y="1325520"/>
            <a:ext cx="72597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3</a:t>
            </a:r>
            <a:r>
              <a:rPr b="0" lang="zh-CN" sz="1800" spc="-1" strike="noStrike">
                <a:solidFill>
                  <a:srgbClr val="000000"/>
                </a:solidFill>
                <a:latin typeface="Arial"/>
              </a:rPr>
              <a:t>）对国民经济的影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未出现过量的投机需求时经济均衡点是</a:t>
            </a:r>
            <a:r>
              <a:rPr b="0" lang="zh-CN" sz="1800" spc="-1" strike="noStrike">
                <a:solidFill>
                  <a:srgbClr val="000000"/>
                </a:solidFill>
                <a:latin typeface="Arial"/>
              </a:rPr>
              <a:t>E0</a:t>
            </a:r>
            <a:r>
              <a:rPr b="0" lang="zh-CN" sz="1800" spc="-1" strike="noStrike">
                <a:solidFill>
                  <a:srgbClr val="000000"/>
                </a:solidFill>
                <a:latin typeface="Arial"/>
              </a:rPr>
              <a:t>点（</a:t>
            </a:r>
            <a:r>
              <a:rPr b="0" lang="zh-CN" sz="1800" spc="-1" strike="noStrike">
                <a:solidFill>
                  <a:srgbClr val="000000"/>
                </a:solidFill>
                <a:latin typeface="Arial"/>
              </a:rPr>
              <a:t>IS0</a:t>
            </a:r>
            <a:r>
              <a:rPr b="0" lang="zh-CN" sz="1800" spc="-1" strike="noStrike">
                <a:solidFill>
                  <a:srgbClr val="000000"/>
                </a:solidFill>
                <a:latin typeface="Arial"/>
              </a:rPr>
              <a:t>和</a:t>
            </a:r>
            <a:r>
              <a:rPr b="0" lang="zh-CN" sz="1800" spc="-1" strike="noStrike">
                <a:solidFill>
                  <a:srgbClr val="000000"/>
                </a:solidFill>
                <a:latin typeface="Arial"/>
              </a:rPr>
              <a:t>LM0</a:t>
            </a:r>
            <a:r>
              <a:rPr b="0" lang="zh-CN" sz="1800" spc="-1" strike="noStrike">
                <a:solidFill>
                  <a:srgbClr val="000000"/>
                </a:solidFill>
                <a:latin typeface="Arial"/>
              </a:rPr>
              <a:t>的交点），投机需求大量增加会导致</a:t>
            </a:r>
            <a:r>
              <a:rPr b="0" lang="zh-CN" sz="1800" spc="-1" strike="noStrike">
                <a:solidFill>
                  <a:srgbClr val="000000"/>
                </a:solidFill>
                <a:latin typeface="Arial"/>
              </a:rPr>
              <a:t>IS</a:t>
            </a:r>
            <a:r>
              <a:rPr b="0" lang="zh-CN" sz="1800" spc="-1" strike="noStrike">
                <a:solidFill>
                  <a:srgbClr val="000000"/>
                </a:solidFill>
                <a:latin typeface="Arial"/>
              </a:rPr>
              <a:t>曲线向右边移动，到</a:t>
            </a:r>
            <a:r>
              <a:rPr b="0" lang="zh-CN" sz="1800" spc="-1" strike="noStrike">
                <a:solidFill>
                  <a:srgbClr val="000000"/>
                </a:solidFill>
                <a:latin typeface="Arial"/>
              </a:rPr>
              <a:t>IS1</a:t>
            </a:r>
            <a:r>
              <a:rPr b="0" lang="zh-CN" sz="1800" spc="-1" strike="noStrike">
                <a:solidFill>
                  <a:srgbClr val="000000"/>
                </a:solidFill>
                <a:latin typeface="Arial"/>
              </a:rPr>
              <a:t>。由于名义货币供给量不变，股价的高涨会导致物价上涨，则实际货币供给量减少，</a:t>
            </a:r>
            <a:r>
              <a:rPr b="0" lang="zh-CN" sz="1800" spc="-1" strike="noStrike">
                <a:solidFill>
                  <a:srgbClr val="000000"/>
                </a:solidFill>
                <a:latin typeface="Arial"/>
              </a:rPr>
              <a:t>LM</a:t>
            </a:r>
            <a:r>
              <a:rPr b="0" lang="zh-CN" sz="1800" spc="-1" strike="noStrike">
                <a:solidFill>
                  <a:srgbClr val="000000"/>
                </a:solidFill>
                <a:latin typeface="Arial"/>
              </a:rPr>
              <a:t>曲线左移至</a:t>
            </a:r>
            <a:r>
              <a:rPr b="0" lang="zh-CN" sz="1800" spc="-1" strike="noStrike">
                <a:solidFill>
                  <a:srgbClr val="000000"/>
                </a:solidFill>
                <a:latin typeface="Arial"/>
              </a:rPr>
              <a:t>LM1</a:t>
            </a:r>
            <a:r>
              <a:rPr b="0" lang="zh-CN" sz="1800" spc="-1" strike="noStrike">
                <a:solidFill>
                  <a:srgbClr val="000000"/>
                </a:solidFill>
                <a:latin typeface="Arial"/>
              </a:rPr>
              <a:t>，此时（</a:t>
            </a:r>
            <a:r>
              <a:rPr b="0" lang="zh-CN" sz="1800" spc="-1" strike="noStrike">
                <a:solidFill>
                  <a:srgbClr val="000000"/>
                </a:solidFill>
                <a:latin typeface="Arial"/>
              </a:rPr>
              <a:t>E1</a:t>
            </a:r>
            <a:r>
              <a:rPr b="0" lang="zh-CN" sz="1800" spc="-1" strike="noStrike">
                <a:solidFill>
                  <a:srgbClr val="000000"/>
                </a:solidFill>
                <a:latin typeface="Arial"/>
              </a:rPr>
              <a:t>）国民收入增加，利率上升。政府为维持利率不变，采取宽松的货币政策，如增加信贷，使得</a:t>
            </a:r>
            <a:r>
              <a:rPr b="0" lang="zh-CN" sz="1800" spc="-1" strike="noStrike">
                <a:solidFill>
                  <a:srgbClr val="000000"/>
                </a:solidFill>
                <a:latin typeface="Arial"/>
              </a:rPr>
              <a:t>LM</a:t>
            </a:r>
            <a:r>
              <a:rPr b="0" lang="zh-CN" sz="1800" spc="-1" strike="noStrike">
                <a:solidFill>
                  <a:srgbClr val="000000"/>
                </a:solidFill>
                <a:latin typeface="Arial"/>
              </a:rPr>
              <a:t>曲线向右边移动，直至均衡利率和</a:t>
            </a:r>
            <a:r>
              <a:rPr b="0" lang="zh-CN" sz="1800" spc="-1" strike="noStrike">
                <a:solidFill>
                  <a:srgbClr val="000000"/>
                </a:solidFill>
                <a:latin typeface="Arial"/>
              </a:rPr>
              <a:t>E0</a:t>
            </a:r>
            <a:r>
              <a:rPr b="0" lang="zh-CN" sz="1800" spc="-1" strike="noStrike">
                <a:solidFill>
                  <a:srgbClr val="000000"/>
                </a:solidFill>
                <a:latin typeface="Arial"/>
              </a:rPr>
              <a:t>点相同，那么此时</a:t>
            </a:r>
            <a:r>
              <a:rPr b="0" lang="zh-CN" sz="1800" spc="-1" strike="noStrike">
                <a:solidFill>
                  <a:srgbClr val="000000"/>
                </a:solidFill>
                <a:latin typeface="Arial"/>
              </a:rPr>
              <a:t>LM</a:t>
            </a:r>
            <a:r>
              <a:rPr b="0" lang="zh-CN" sz="1800" spc="-1" strike="noStrike">
                <a:solidFill>
                  <a:srgbClr val="000000"/>
                </a:solidFill>
                <a:latin typeface="Arial"/>
              </a:rPr>
              <a:t>曲线移动到</a:t>
            </a:r>
            <a:r>
              <a:rPr b="0" lang="zh-CN" sz="1800" spc="-1" strike="noStrike">
                <a:solidFill>
                  <a:srgbClr val="000000"/>
                </a:solidFill>
                <a:latin typeface="Arial"/>
              </a:rPr>
              <a:t>LM2</a:t>
            </a:r>
            <a:r>
              <a:rPr b="0" lang="zh-CN" sz="1800" spc="-1" strike="noStrike">
                <a:solidFill>
                  <a:srgbClr val="000000"/>
                </a:solidFill>
                <a:latin typeface="Arial"/>
              </a:rPr>
              <a:t>，新的均衡点为</a:t>
            </a:r>
            <a:r>
              <a:rPr b="0" lang="zh-CN" sz="1800" spc="-1" strike="noStrike">
                <a:solidFill>
                  <a:srgbClr val="000000"/>
                </a:solidFill>
                <a:latin typeface="Arial"/>
              </a:rPr>
              <a:t>E2</a:t>
            </a:r>
            <a:r>
              <a:rPr b="0" lang="zh-CN" sz="1800" spc="-1" strike="noStrike">
                <a:solidFill>
                  <a:srgbClr val="000000"/>
                </a:solidFill>
                <a:latin typeface="Arial"/>
              </a:rPr>
              <a:t>。</a:t>
            </a:r>
            <a:endParaRPr b="0" lang="en-US" sz="1800" spc="-1" strike="noStrike">
              <a:solidFill>
                <a:srgbClr val="000000"/>
              </a:solidFill>
              <a:latin typeface="Arial"/>
            </a:endParaRPr>
          </a:p>
        </p:txBody>
      </p:sp>
      <p:pic>
        <p:nvPicPr>
          <p:cNvPr id="999" name="图片 23" descr=""/>
          <p:cNvPicPr/>
          <p:nvPr/>
        </p:nvPicPr>
        <p:blipFill>
          <a:blip r:embed="rId1"/>
          <a:stretch/>
        </p:blipFill>
        <p:spPr>
          <a:xfrm>
            <a:off x="735120" y="3767040"/>
            <a:ext cx="3746520" cy="2416320"/>
          </a:xfrm>
          <a:prstGeom prst="rect">
            <a:avLst/>
          </a:prstGeom>
          <a:ln w="0">
            <a:noFill/>
          </a:ln>
        </p:spPr>
      </p:pic>
      <p:sp>
        <p:nvSpPr>
          <p:cNvPr id="1000" name="文本框 99"/>
          <p:cNvSpPr/>
          <p:nvPr/>
        </p:nvSpPr>
        <p:spPr>
          <a:xfrm>
            <a:off x="4911840" y="4292640"/>
            <a:ext cx="3524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泡沫对经济的短期影响是刺激经济增长。</a:t>
            </a:r>
            <a:endParaRPr b="0" lang="en-US" sz="2400" spc="-1" strike="noStrike">
              <a:solidFill>
                <a:srgbClr val="000000"/>
              </a:solidFill>
              <a:latin typeface="Arial"/>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1" name="Group 128"/>
          <p:cNvGrpSpPr/>
          <p:nvPr/>
        </p:nvGrpSpPr>
        <p:grpSpPr>
          <a:xfrm>
            <a:off x="7704000" y="2349360"/>
            <a:ext cx="648000" cy="453960"/>
            <a:chOff x="7704000" y="2349360"/>
            <a:chExt cx="648000" cy="453960"/>
          </a:xfrm>
        </p:grpSpPr>
        <p:sp>
          <p:nvSpPr>
            <p:cNvPr id="1002"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4"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6" name="组合 127"/>
          <p:cNvGrpSpPr/>
          <p:nvPr/>
        </p:nvGrpSpPr>
        <p:grpSpPr>
          <a:xfrm>
            <a:off x="250920" y="324000"/>
            <a:ext cx="264960" cy="417240"/>
            <a:chOff x="250920" y="324000"/>
            <a:chExt cx="264960" cy="417240"/>
          </a:xfrm>
        </p:grpSpPr>
        <p:sp>
          <p:nvSpPr>
            <p:cNvPr id="1007"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0"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1" name="Rectangle 15"/>
          <p:cNvSpPr/>
          <p:nvPr/>
        </p:nvSpPr>
        <p:spPr>
          <a:xfrm>
            <a:off x="2077560" y="742680"/>
            <a:ext cx="471960" cy="58140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四、网络经济泡沫 </a:t>
            </a:r>
            <a:endParaRPr b="0" lang="en-US" sz="3200" spc="-1" strike="noStrike">
              <a:solidFill>
                <a:srgbClr val="000000"/>
              </a:solidFill>
              <a:latin typeface="Arial"/>
            </a:endParaRPr>
          </a:p>
        </p:txBody>
      </p:sp>
      <p:sp>
        <p:nvSpPr>
          <p:cNvPr id="1012" name="文本框 4"/>
          <p:cNvSpPr/>
          <p:nvPr/>
        </p:nvSpPr>
        <p:spPr>
          <a:xfrm>
            <a:off x="880920" y="1325520"/>
            <a:ext cx="7259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3</a:t>
            </a:r>
            <a:r>
              <a:rPr b="0" lang="zh-CN" sz="1800" spc="-1" strike="noStrike">
                <a:solidFill>
                  <a:srgbClr val="000000"/>
                </a:solidFill>
                <a:latin typeface="Arial"/>
              </a:rPr>
              <a:t>）对国民经济的影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长期中，投机者必然在合适的时机抛售股票以套利，这样会导致泡沫破灭。实体经济中消费和投资会进一步下降，</a:t>
            </a:r>
            <a:r>
              <a:rPr b="0" lang="zh-CN" sz="1800" spc="-1" strike="noStrike">
                <a:solidFill>
                  <a:srgbClr val="000000"/>
                </a:solidFill>
                <a:latin typeface="Arial"/>
              </a:rPr>
              <a:t>IS</a:t>
            </a:r>
            <a:r>
              <a:rPr b="0" lang="zh-CN" sz="1800" spc="-1" strike="noStrike">
                <a:solidFill>
                  <a:srgbClr val="000000"/>
                </a:solidFill>
                <a:latin typeface="Arial"/>
              </a:rPr>
              <a:t>向左边移动至</a:t>
            </a:r>
            <a:r>
              <a:rPr b="0" lang="zh-CN" sz="1800" spc="-1" strike="noStrike">
                <a:solidFill>
                  <a:srgbClr val="000000"/>
                </a:solidFill>
                <a:latin typeface="Arial"/>
              </a:rPr>
              <a:t>IS0</a:t>
            </a:r>
            <a:r>
              <a:rPr b="0" lang="zh-CN" sz="1800" spc="-1" strike="noStrike">
                <a:solidFill>
                  <a:srgbClr val="000000"/>
                </a:solidFill>
                <a:latin typeface="Arial"/>
              </a:rPr>
              <a:t>（若信心严重不足，</a:t>
            </a:r>
            <a:r>
              <a:rPr b="0" lang="zh-CN" sz="1800" spc="-1" strike="noStrike">
                <a:solidFill>
                  <a:srgbClr val="000000"/>
                </a:solidFill>
                <a:latin typeface="Arial"/>
              </a:rPr>
              <a:t>IS</a:t>
            </a:r>
            <a:r>
              <a:rPr b="0" lang="zh-CN" sz="1800" spc="-1" strike="noStrike">
                <a:solidFill>
                  <a:srgbClr val="000000"/>
                </a:solidFill>
                <a:latin typeface="Arial"/>
              </a:rPr>
              <a:t>曲线甚至会移动到</a:t>
            </a:r>
            <a:r>
              <a:rPr b="0" lang="zh-CN" sz="1800" spc="-1" strike="noStrike">
                <a:solidFill>
                  <a:srgbClr val="000000"/>
                </a:solidFill>
                <a:latin typeface="Arial"/>
              </a:rPr>
              <a:t>IS0</a:t>
            </a:r>
            <a:r>
              <a:rPr b="0" lang="zh-CN" sz="1800" spc="-1" strike="noStrike">
                <a:solidFill>
                  <a:srgbClr val="000000"/>
                </a:solidFill>
                <a:latin typeface="Arial"/>
              </a:rPr>
              <a:t>的左边），这时国民收入下降，利率下降（</a:t>
            </a:r>
            <a:r>
              <a:rPr b="0" lang="zh-CN" sz="1800" spc="-1" strike="noStrike">
                <a:solidFill>
                  <a:srgbClr val="000000"/>
                </a:solidFill>
                <a:latin typeface="Arial"/>
              </a:rPr>
              <a:t>IS0</a:t>
            </a:r>
            <a:r>
              <a:rPr b="0" lang="zh-CN" sz="1800" spc="-1" strike="noStrike">
                <a:solidFill>
                  <a:srgbClr val="000000"/>
                </a:solidFill>
                <a:latin typeface="Arial"/>
              </a:rPr>
              <a:t>和</a:t>
            </a:r>
            <a:r>
              <a:rPr b="0" lang="zh-CN" sz="1800" spc="-1" strike="noStrike">
                <a:solidFill>
                  <a:srgbClr val="000000"/>
                </a:solidFill>
                <a:latin typeface="Arial"/>
              </a:rPr>
              <a:t>LM2</a:t>
            </a:r>
            <a:r>
              <a:rPr b="0" lang="zh-CN" sz="1800" spc="-1" strike="noStrike">
                <a:solidFill>
                  <a:srgbClr val="000000"/>
                </a:solidFill>
                <a:latin typeface="Arial"/>
              </a:rPr>
              <a:t>的交点）。若政府还要保持</a:t>
            </a:r>
            <a:r>
              <a:rPr b="0" lang="zh-CN" sz="1800" spc="-1" strike="noStrike">
                <a:solidFill>
                  <a:srgbClr val="000000"/>
                </a:solidFill>
                <a:latin typeface="Arial"/>
              </a:rPr>
              <a:t>r0</a:t>
            </a:r>
            <a:r>
              <a:rPr b="0" lang="zh-CN" sz="1800" spc="-1" strike="noStrike">
                <a:solidFill>
                  <a:srgbClr val="000000"/>
                </a:solidFill>
                <a:latin typeface="Arial"/>
              </a:rPr>
              <a:t>的利率水平，将采取收紧的货币政策，结果是国民收入下降的更为厉害。此时政府应该放弃维持</a:t>
            </a:r>
            <a:r>
              <a:rPr b="0" lang="zh-CN" sz="1800" spc="-1" strike="noStrike">
                <a:solidFill>
                  <a:srgbClr val="000000"/>
                </a:solidFill>
                <a:latin typeface="Arial"/>
              </a:rPr>
              <a:t>r0</a:t>
            </a:r>
            <a:r>
              <a:rPr b="0" lang="zh-CN" sz="1800" spc="-1" strike="noStrike">
                <a:solidFill>
                  <a:srgbClr val="000000"/>
                </a:solidFill>
                <a:latin typeface="Arial"/>
              </a:rPr>
              <a:t>，通过利率的下降增加投资排除体系中的泡沫。</a:t>
            </a:r>
            <a:endParaRPr b="0" lang="en-US" sz="1800" spc="-1" strike="noStrike">
              <a:solidFill>
                <a:srgbClr val="000000"/>
              </a:solidFill>
              <a:latin typeface="Arial"/>
            </a:endParaRPr>
          </a:p>
        </p:txBody>
      </p:sp>
      <p:pic>
        <p:nvPicPr>
          <p:cNvPr id="1013" name="图片 23" descr=""/>
          <p:cNvPicPr/>
          <p:nvPr/>
        </p:nvPicPr>
        <p:blipFill>
          <a:blip r:embed="rId1"/>
          <a:stretch/>
        </p:blipFill>
        <p:spPr>
          <a:xfrm>
            <a:off x="735120" y="3767040"/>
            <a:ext cx="3746520" cy="2416320"/>
          </a:xfrm>
          <a:prstGeom prst="rect">
            <a:avLst/>
          </a:prstGeom>
          <a:ln w="0">
            <a:noFill/>
          </a:ln>
        </p:spPr>
      </p:pic>
      <p:sp>
        <p:nvSpPr>
          <p:cNvPr id="1014" name="文本框 1"/>
          <p:cNvSpPr/>
          <p:nvPr/>
        </p:nvSpPr>
        <p:spPr>
          <a:xfrm>
            <a:off x="4483080" y="4603680"/>
            <a:ext cx="422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网络经济泡沫对经济的长期影响是使宏观经济衰退。</a:t>
            </a:r>
            <a:endParaRPr b="0" lang="en-US" sz="2400" spc="-1" strike="noStrike">
              <a:solidFill>
                <a:srgbClr val="000000"/>
              </a:solidFill>
              <a:latin typeface="Arial"/>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4BDAC-5D40-4325-A043-712BC62280BC}"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16" name="PlaceHolder 1"/>
          <p:cNvSpPr>
            <a:spLocks noGrp="1"/>
          </p:cNvSpPr>
          <p:nvPr>
            <p:ph type="title"/>
          </p:nvPr>
        </p:nvSpPr>
        <p:spPr>
          <a:xfrm>
            <a:off x="-1584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0504d"/>
                </a:solidFill>
                <a:latin typeface="Calibri"/>
                <a:ea typeface="微软雅黑"/>
              </a:rPr>
              <a:t>思考与练习</a:t>
            </a:r>
            <a:endParaRPr b="0" lang="en-US" sz="5400" spc="-1" strike="noStrike">
              <a:solidFill>
                <a:srgbClr val="000000"/>
              </a:solidFill>
              <a:latin typeface="Calibri"/>
            </a:endParaRPr>
          </a:p>
        </p:txBody>
      </p:sp>
      <p:pic>
        <p:nvPicPr>
          <p:cNvPr id="1017" name="图片 2" descr=""/>
          <p:cNvPicPr/>
          <p:nvPr/>
        </p:nvPicPr>
        <p:blipFill>
          <a:blip r:embed="rId1"/>
          <a:stretch/>
        </p:blipFill>
        <p:spPr>
          <a:xfrm>
            <a:off x="4606920" y="404640"/>
            <a:ext cx="4178160" cy="2679840"/>
          </a:xfrm>
          <a:prstGeom prst="rect">
            <a:avLst/>
          </a:prstGeom>
          <a:ln w="0">
            <a:noFill/>
          </a:ln>
        </p:spPr>
      </p:pic>
      <p:sp>
        <p:nvSpPr>
          <p:cNvPr id="1018" name="Rectangle 2"/>
          <p:cNvSpPr/>
          <p:nvPr/>
        </p:nvSpPr>
        <p:spPr>
          <a:xfrm>
            <a:off x="358920" y="3187440"/>
            <a:ext cx="8100720" cy="1739880"/>
          </a:xfrm>
          <a:prstGeom prst="rect">
            <a:avLst/>
          </a:prstGeom>
          <a:solidFill>
            <a:srgbClr val="ffff00">
              <a:alpha val="14000"/>
            </a:srgbClr>
          </a:solidFill>
          <a:ln w="25560">
            <a:solidFill>
              <a:srgbClr val="4f81bd"/>
            </a:solidFill>
            <a:miter/>
          </a:ln>
        </p:spPr>
        <p:style>
          <a:lnRef idx="0"/>
          <a:fillRef idx="0"/>
          <a:effectRef idx="0"/>
          <a:fontRef idx="minor"/>
        </p:style>
        <p:txBody>
          <a:bodyPr lIns="90000" rIns="90000" tIns="46800" bIns="46800" anchor="ctr">
            <a:sp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a:t>
            </a:r>
            <a:r>
              <a:rPr b="0" lang="zh-CN" sz="1800" spc="-1" strike="noStrike">
                <a:solidFill>
                  <a:srgbClr val="000000"/>
                </a:solidFill>
                <a:latin typeface="Arial"/>
              </a:rPr>
              <a:t>网络经济是什么，网络经济的特征有哪些</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a:t>
            </a:r>
            <a:r>
              <a:rPr b="0" lang="zh-CN" sz="1800" spc="-1" strike="noStrike">
                <a:solidFill>
                  <a:srgbClr val="000000"/>
                </a:solidFill>
                <a:latin typeface="Arial"/>
              </a:rPr>
              <a:t>网络经济学、互联网经济学和电子商务经济学有什么联系和区别</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3.</a:t>
            </a:r>
            <a:r>
              <a:rPr b="0" lang="zh-CN" sz="1800" spc="-1" strike="noStrike">
                <a:solidFill>
                  <a:srgbClr val="000000"/>
                </a:solidFill>
                <a:latin typeface="Arial"/>
              </a:rPr>
              <a:t>网络经济学的研究对象和研究内容是什么</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4.</a:t>
            </a:r>
            <a:r>
              <a:rPr b="0" lang="zh-CN" sz="1800" spc="-1" strike="noStrike">
                <a:solidFill>
                  <a:srgbClr val="000000"/>
                </a:solidFill>
                <a:latin typeface="Arial"/>
              </a:rPr>
              <a:t>网络经济泡沫是怎么形成的，对经济发展有什么影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EF713-7EE1-4F89-B7A7-5CA38885845D}"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020" name="Picture 4" descr=""/>
          <p:cNvPicPr/>
          <p:nvPr/>
        </p:nvPicPr>
        <p:blipFill>
          <a:blip r:embed="rId1"/>
          <a:stretch/>
        </p:blipFill>
        <p:spPr>
          <a:xfrm>
            <a:off x="576360" y="836640"/>
            <a:ext cx="4998960" cy="3676680"/>
          </a:xfrm>
          <a:prstGeom prst="rect">
            <a:avLst/>
          </a:prstGeom>
          <a:ln w="0">
            <a:noFill/>
          </a:ln>
        </p:spPr>
      </p:pic>
      <p:sp>
        <p:nvSpPr>
          <p:cNvPr id="1021" name="TextBox 27"/>
          <p:cNvSpPr/>
          <p:nvPr/>
        </p:nvSpPr>
        <p:spPr>
          <a:xfrm>
            <a:off x="5003640" y="2997360"/>
            <a:ext cx="302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微软雅黑"/>
                <a:ea typeface="微软雅黑"/>
              </a:rPr>
              <a:t>谢谢</a:t>
            </a:r>
            <a:endParaRPr b="0" lang="en-US" sz="96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Freeform 70" descr=""/>
          <p:cNvPicPr/>
          <p:nvPr/>
        </p:nvPicPr>
        <p:blipFill>
          <a:blip r:embed="rId1"/>
          <a:stretch/>
        </p:blipFill>
        <p:spPr>
          <a:xfrm>
            <a:off x="1139760" y="5029200"/>
            <a:ext cx="6662880" cy="957240"/>
          </a:xfrm>
          <a:prstGeom prst="rect">
            <a:avLst/>
          </a:prstGeom>
          <a:ln w="0">
            <a:noFill/>
          </a:ln>
        </p:spPr>
      </p:pic>
      <p:sp>
        <p:nvSpPr>
          <p:cNvPr id="430" name="Rectangle 3"/>
          <p:cNvSpPr/>
          <p:nvPr/>
        </p:nvSpPr>
        <p:spPr>
          <a:xfrm>
            <a:off x="466560" y="428760"/>
            <a:ext cx="545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504d"/>
                </a:solidFill>
                <a:latin typeface="微软雅黑"/>
                <a:ea typeface="微软雅黑"/>
              </a:rPr>
              <a:t>教学目标</a:t>
            </a:r>
            <a:endParaRPr b="0" lang="en-US" sz="4000" spc="-1" strike="noStrike">
              <a:solidFill>
                <a:srgbClr val="000000"/>
              </a:solidFill>
              <a:latin typeface="Arial"/>
            </a:endParaRPr>
          </a:p>
        </p:txBody>
      </p:sp>
      <p:pic>
        <p:nvPicPr>
          <p:cNvPr id="431" name="Freeform 62" descr=""/>
          <p:cNvPicPr/>
          <p:nvPr/>
        </p:nvPicPr>
        <p:blipFill>
          <a:blip r:embed="rId2"/>
          <a:stretch/>
        </p:blipFill>
        <p:spPr>
          <a:xfrm>
            <a:off x="1243080" y="3736800"/>
            <a:ext cx="6675480" cy="1060560"/>
          </a:xfrm>
          <a:prstGeom prst="rect">
            <a:avLst/>
          </a:prstGeom>
          <a:ln w="0">
            <a:noFill/>
          </a:ln>
        </p:spPr>
      </p:pic>
      <p:pic>
        <p:nvPicPr>
          <p:cNvPr id="432" name="Freeform 67" descr=""/>
          <p:cNvPicPr/>
          <p:nvPr/>
        </p:nvPicPr>
        <p:blipFill>
          <a:blip r:embed="rId3"/>
          <a:stretch/>
        </p:blipFill>
        <p:spPr>
          <a:xfrm>
            <a:off x="1243080" y="2651040"/>
            <a:ext cx="6669000" cy="1025640"/>
          </a:xfrm>
          <a:prstGeom prst="rect">
            <a:avLst/>
          </a:prstGeom>
          <a:ln w="0">
            <a:noFill/>
          </a:ln>
        </p:spPr>
      </p:pic>
      <p:pic>
        <p:nvPicPr>
          <p:cNvPr id="433" name="Freeform 70" descr=""/>
          <p:cNvPicPr/>
          <p:nvPr/>
        </p:nvPicPr>
        <p:blipFill>
          <a:blip r:embed="rId4"/>
          <a:stretch/>
        </p:blipFill>
        <p:spPr>
          <a:xfrm>
            <a:off x="1249200" y="1682640"/>
            <a:ext cx="6662880" cy="957240"/>
          </a:xfrm>
          <a:prstGeom prst="rect">
            <a:avLst/>
          </a:prstGeom>
          <a:ln w="0">
            <a:noFill/>
          </a:ln>
        </p:spPr>
      </p:pic>
      <p:sp>
        <p:nvSpPr>
          <p:cNvPr id="434" name="Rectangle 15"/>
          <p:cNvSpPr/>
          <p:nvPr/>
        </p:nvSpPr>
        <p:spPr>
          <a:xfrm>
            <a:off x="2049480" y="4087440"/>
            <a:ext cx="565164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熟悉电子商务的相关基础</a:t>
            </a:r>
            <a:endParaRPr b="0" lang="en-US" sz="2000" spc="-1" strike="noStrike">
              <a:solidFill>
                <a:srgbClr val="000000"/>
              </a:solidFill>
              <a:latin typeface="Arial"/>
            </a:endParaRPr>
          </a:p>
        </p:txBody>
      </p:sp>
      <p:sp>
        <p:nvSpPr>
          <p:cNvPr id="435" name="Rectangle 18"/>
          <p:cNvSpPr/>
          <p:nvPr/>
        </p:nvSpPr>
        <p:spPr>
          <a:xfrm>
            <a:off x="1976400" y="2712960"/>
            <a:ext cx="6558120" cy="803520"/>
          </a:xfrm>
          <a:prstGeom prst="rect">
            <a:avLst/>
          </a:prstGeom>
          <a:noFill/>
          <a:ln w="0">
            <a:noFill/>
          </a:ln>
        </p:spPr>
        <p:style>
          <a:lnRef idx="0"/>
          <a:fillRef idx="0"/>
          <a:effectRef idx="0"/>
          <a:fontRef idx="minor"/>
        </p:style>
        <p:txBody>
          <a:bodyPr lIns="0" rIns="0" tIns="0" bIns="0" anchor="ctr">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了解网络经济学的发展过程</a:t>
            </a:r>
            <a:endParaRPr b="0" lang="en-US" sz="2000" spc="-1" strike="noStrike">
              <a:solidFill>
                <a:srgbClr val="000000"/>
              </a:solidFill>
              <a:latin typeface="Arial"/>
            </a:endParaRPr>
          </a:p>
        </p:txBody>
      </p:sp>
      <p:sp>
        <p:nvSpPr>
          <p:cNvPr id="436" name="Rectangle 21"/>
          <p:cNvSpPr/>
          <p:nvPr/>
        </p:nvSpPr>
        <p:spPr>
          <a:xfrm>
            <a:off x="1976400" y="1931760"/>
            <a:ext cx="5400720" cy="366120"/>
          </a:xfrm>
          <a:prstGeom prst="rect">
            <a:avLst/>
          </a:prstGeom>
          <a:noFill/>
          <a:ln w="0">
            <a:noFill/>
          </a:ln>
        </p:spPr>
        <p:style>
          <a:lnRef idx="0"/>
          <a:fillRef idx="0"/>
          <a:effectRef idx="0"/>
          <a:fontRef idx="minor"/>
        </p:style>
        <p:txBody>
          <a:bodyPr lIns="0" rIns="0" tIns="0" bIns="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掌握信息化时代网络经济的基本特征</a:t>
            </a:r>
            <a:endParaRPr b="0" lang="en-US" sz="2000" spc="-1" strike="noStrike">
              <a:solidFill>
                <a:srgbClr val="000000"/>
              </a:solidFill>
              <a:latin typeface="Arial"/>
            </a:endParaRPr>
          </a:p>
        </p:txBody>
      </p:sp>
      <p:pic>
        <p:nvPicPr>
          <p:cNvPr id="437" name="圆角矩形 21" descr=""/>
          <p:cNvPicPr/>
          <p:nvPr/>
        </p:nvPicPr>
        <p:blipFill>
          <a:blip r:embed="rId5"/>
          <a:stretch/>
        </p:blipFill>
        <p:spPr>
          <a:xfrm>
            <a:off x="1243080" y="1841400"/>
            <a:ext cx="561960" cy="773280"/>
          </a:xfrm>
          <a:prstGeom prst="rect">
            <a:avLst/>
          </a:prstGeom>
          <a:ln w="0">
            <a:noFill/>
          </a:ln>
        </p:spPr>
      </p:pic>
      <p:pic>
        <p:nvPicPr>
          <p:cNvPr id="438" name="圆角矩形 26" descr=""/>
          <p:cNvPicPr/>
          <p:nvPr/>
        </p:nvPicPr>
        <p:blipFill>
          <a:blip r:embed="rId6"/>
          <a:stretch/>
        </p:blipFill>
        <p:spPr>
          <a:xfrm>
            <a:off x="1305000" y="2895480"/>
            <a:ext cx="560160" cy="768600"/>
          </a:xfrm>
          <a:prstGeom prst="rect">
            <a:avLst/>
          </a:prstGeom>
          <a:ln w="0">
            <a:noFill/>
          </a:ln>
        </p:spPr>
      </p:pic>
      <p:pic>
        <p:nvPicPr>
          <p:cNvPr id="439" name="圆角矩形 21" descr=""/>
          <p:cNvPicPr/>
          <p:nvPr/>
        </p:nvPicPr>
        <p:blipFill>
          <a:blip r:embed="rId7"/>
          <a:stretch/>
        </p:blipFill>
        <p:spPr>
          <a:xfrm>
            <a:off x="1298520" y="4005360"/>
            <a:ext cx="560520" cy="768240"/>
          </a:xfrm>
          <a:prstGeom prst="rect">
            <a:avLst/>
          </a:prstGeom>
          <a:ln w="0">
            <a:noFill/>
          </a:ln>
        </p:spPr>
      </p:pic>
      <p:sp>
        <p:nvSpPr>
          <p:cNvPr id="440" name="文本框 99"/>
          <p:cNvSpPr/>
          <p:nvPr/>
        </p:nvSpPr>
        <p:spPr>
          <a:xfrm>
            <a:off x="1568520" y="5292720"/>
            <a:ext cx="507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掌握网络经济泡沫的形成和影响</a:t>
            </a:r>
            <a:endParaRPr b="0" lang="en-US" sz="2000" spc="-1" strike="noStrike">
              <a:solidFill>
                <a:srgbClr val="000000"/>
              </a:solidFill>
              <a:latin typeface="Arial"/>
            </a:endParaRPr>
          </a:p>
        </p:txBody>
      </p:sp>
      <p:pic>
        <p:nvPicPr>
          <p:cNvPr id="441" name="圆角矩形 26" descr=""/>
          <p:cNvPicPr/>
          <p:nvPr/>
        </p:nvPicPr>
        <p:blipFill>
          <a:blip r:embed="rId8"/>
          <a:stretch/>
        </p:blipFill>
        <p:spPr>
          <a:xfrm>
            <a:off x="1182600" y="5157720"/>
            <a:ext cx="560520" cy="773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EFBEA-3296-40A2-A391-E9AE062DD137}"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3" name="TextBox 53"/>
          <p:cNvSpPr/>
          <p:nvPr/>
        </p:nvSpPr>
        <p:spPr>
          <a:xfrm>
            <a:off x="2411280" y="4284720"/>
            <a:ext cx="3619800" cy="4428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PlaceHolder 1"/>
          <p:cNvSpPr>
            <a:spLocks noGrp="1"/>
          </p:cNvSpPr>
          <p:nvPr>
            <p:ph type="title"/>
          </p:nvPr>
        </p:nvSpPr>
        <p:spPr>
          <a:xfrm>
            <a:off x="1008000" y="728640"/>
            <a:ext cx="3014640" cy="432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504d"/>
                </a:solidFill>
                <a:latin typeface="微软雅黑"/>
                <a:ea typeface="微软雅黑"/>
              </a:rPr>
              <a:t>本章目录</a:t>
            </a:r>
            <a:br>
              <a:rPr sz="3600"/>
            </a:br>
            <a:endParaRPr b="0" lang="en-US" sz="3600" spc="-1" strike="noStrike">
              <a:solidFill>
                <a:srgbClr val="000000"/>
              </a:solidFill>
              <a:latin typeface="Calibri"/>
            </a:endParaRPr>
          </a:p>
        </p:txBody>
      </p:sp>
      <p:grpSp>
        <p:nvGrpSpPr>
          <p:cNvPr id="445" name="组合 127"/>
          <p:cNvGrpSpPr/>
          <p:nvPr/>
        </p:nvGrpSpPr>
        <p:grpSpPr>
          <a:xfrm>
            <a:off x="250920" y="324000"/>
            <a:ext cx="264960" cy="417240"/>
            <a:chOff x="250920" y="324000"/>
            <a:chExt cx="264960" cy="417240"/>
          </a:xfrm>
        </p:grpSpPr>
        <p:sp>
          <p:nvSpPr>
            <p:cNvPr id="446"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9" name="TextBox 26"/>
          <p:cNvSpPr/>
          <p:nvPr/>
        </p:nvSpPr>
        <p:spPr>
          <a:xfrm>
            <a:off x="2408400" y="2282760"/>
            <a:ext cx="3568680" cy="4428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信息时代与网络经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椭圆 27"/>
          <p:cNvSpPr/>
          <p:nvPr/>
        </p:nvSpPr>
        <p:spPr>
          <a:xfrm>
            <a:off x="2195640" y="2131920"/>
            <a:ext cx="393480" cy="316080"/>
          </a:xfrm>
          <a:prstGeom prst="ellipse">
            <a:avLst/>
          </a:prstGeom>
          <a:solidFill>
            <a:srgbClr val="e46c0a"/>
          </a:solidFill>
          <a:ln w="76320">
            <a:solidFill>
              <a:srgbClr val="d9d9d9">
                <a:alpha val="64000"/>
              </a:srgbClr>
            </a:solidFill>
            <a:miter/>
          </a:ln>
          <a:effectLst>
            <a:outerShdw dist="15375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ea typeface="Arial"/>
              </a:rPr>
              <a:t>1</a:t>
            </a:r>
            <a:endParaRPr b="0" lang="en-US" sz="2000" spc="-1" strike="noStrike">
              <a:solidFill>
                <a:srgbClr val="000000"/>
              </a:solidFill>
              <a:latin typeface="Arial"/>
            </a:endParaRPr>
          </a:p>
        </p:txBody>
      </p:sp>
      <p:sp>
        <p:nvSpPr>
          <p:cNvPr id="451" name="TextBox 50"/>
          <p:cNvSpPr/>
          <p:nvPr/>
        </p:nvSpPr>
        <p:spPr>
          <a:xfrm>
            <a:off x="2408400" y="2984400"/>
            <a:ext cx="3619440" cy="4446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网络经济的产生与发展</a:t>
            </a:r>
            <a:endParaRPr b="0" lang="en-US" sz="1800" spc="-1" strike="noStrike">
              <a:solidFill>
                <a:srgbClr val="000000"/>
              </a:solidFill>
              <a:latin typeface="Arial"/>
            </a:endParaRPr>
          </a:p>
        </p:txBody>
      </p:sp>
      <p:sp>
        <p:nvSpPr>
          <p:cNvPr id="452" name="椭圆 51"/>
          <p:cNvSpPr/>
          <p:nvPr/>
        </p:nvSpPr>
        <p:spPr>
          <a:xfrm>
            <a:off x="2195640" y="2833560"/>
            <a:ext cx="393480" cy="317520"/>
          </a:xfrm>
          <a:prstGeom prst="ellipse">
            <a:avLst/>
          </a:prstGeom>
          <a:solidFill>
            <a:srgbClr val="604a7b"/>
          </a:solidFill>
          <a:ln w="76320">
            <a:solidFill>
              <a:srgbClr val="d9d9d9">
                <a:alpha val="64000"/>
              </a:srgbClr>
            </a:solidFill>
            <a:miter/>
          </a:ln>
          <a:effectLst>
            <a:outerShdw dist="15375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ea typeface="Arial"/>
              </a:rPr>
              <a:t>2</a:t>
            </a:r>
            <a:endParaRPr b="0" lang="en-US" sz="2000" spc="-1" strike="noStrike">
              <a:solidFill>
                <a:srgbClr val="000000"/>
              </a:solidFill>
              <a:latin typeface="Arial"/>
            </a:endParaRPr>
          </a:p>
        </p:txBody>
      </p:sp>
      <p:sp>
        <p:nvSpPr>
          <p:cNvPr id="453" name="TextBox 53"/>
          <p:cNvSpPr/>
          <p:nvPr/>
        </p:nvSpPr>
        <p:spPr>
          <a:xfrm>
            <a:off x="2408400" y="3633840"/>
            <a:ext cx="3619440" cy="44280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电子商务基础</a:t>
            </a:r>
            <a:endParaRPr b="0" lang="en-US" sz="1800" spc="-1" strike="noStrike">
              <a:solidFill>
                <a:srgbClr val="000000"/>
              </a:solidFill>
              <a:latin typeface="Arial"/>
            </a:endParaRPr>
          </a:p>
        </p:txBody>
      </p:sp>
      <p:sp>
        <p:nvSpPr>
          <p:cNvPr id="454" name="椭圆 54"/>
          <p:cNvSpPr/>
          <p:nvPr/>
        </p:nvSpPr>
        <p:spPr>
          <a:xfrm>
            <a:off x="2195640" y="3483000"/>
            <a:ext cx="393480" cy="315720"/>
          </a:xfrm>
          <a:prstGeom prst="ellipse">
            <a:avLst/>
          </a:prstGeom>
          <a:solidFill>
            <a:srgbClr val="0070c0"/>
          </a:solidFill>
          <a:ln w="76320">
            <a:solidFill>
              <a:srgbClr val="d9d9d9">
                <a:alpha val="64000"/>
              </a:srgbClr>
            </a:solidFill>
            <a:miter/>
          </a:ln>
          <a:effectLst>
            <a:outerShdw dist="15375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ea typeface="Arial"/>
              </a:rPr>
              <a:t>3</a:t>
            </a:r>
            <a:endParaRPr b="0" lang="en-US" sz="2000" spc="-1" strike="noStrike">
              <a:solidFill>
                <a:srgbClr val="000000"/>
              </a:solidFill>
              <a:latin typeface="Arial"/>
            </a:endParaRPr>
          </a:p>
        </p:txBody>
      </p:sp>
      <p:sp>
        <p:nvSpPr>
          <p:cNvPr id="455" name="椭圆 27"/>
          <p:cNvSpPr/>
          <p:nvPr/>
        </p:nvSpPr>
        <p:spPr>
          <a:xfrm>
            <a:off x="2195640" y="4076640"/>
            <a:ext cx="393480" cy="316080"/>
          </a:xfrm>
          <a:prstGeom prst="ellipse">
            <a:avLst/>
          </a:prstGeom>
          <a:solidFill>
            <a:srgbClr val="ff99cc"/>
          </a:solidFill>
          <a:ln w="76320">
            <a:solidFill>
              <a:srgbClr val="d9d9d9">
                <a:alpha val="64000"/>
              </a:srgbClr>
            </a:solidFill>
            <a:miter/>
          </a:ln>
          <a:effectLst>
            <a:outerShdw dist="15375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ffff"/>
                </a:solidFill>
                <a:latin typeface="Arial Black"/>
              </a:rPr>
              <a:t>4</a:t>
            </a:r>
            <a:endParaRPr b="0" lang="en-US" sz="2000" spc="-1" strike="noStrike">
              <a:solidFill>
                <a:srgbClr val="000000"/>
              </a:solidFill>
              <a:latin typeface="Arial"/>
            </a:endParaRPr>
          </a:p>
        </p:txBody>
      </p:sp>
      <p:sp>
        <p:nvSpPr>
          <p:cNvPr id="456" name="Rectangle 30"/>
          <p:cNvSpPr/>
          <p:nvPr/>
        </p:nvSpPr>
        <p:spPr>
          <a:xfrm>
            <a:off x="2411280" y="4292640"/>
            <a:ext cx="3619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网络经济活动与价值链</a:t>
            </a:r>
            <a:endParaRPr b="0" lang="en-US" sz="18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灯片编号占位符 5"/>
          <p:cNvSpPr/>
          <p:nvPr/>
        </p:nvSpPr>
        <p:spPr>
          <a:xfrm>
            <a:off x="6300720" y="6345360"/>
            <a:ext cx="25909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47977-9617-4829-8D28-D5DBD027DF3A}" type="slidenum">
              <a:rPr b="1" lang="zh-CN" sz="1200" spc="-1" strike="noStrike">
                <a:solidFill>
                  <a:srgbClr val="000000"/>
                </a:solidFill>
                <a:latin typeface="Calibri"/>
              </a:rPr>
              <a:t>&lt;number&gt;</a:t>
            </a:fld>
            <a:endParaRPr b="0" lang="en-US" sz="1200" spc="-1" strike="noStrike">
              <a:solidFill>
                <a:srgbClr val="000000"/>
              </a:solidFill>
              <a:latin typeface="Arial"/>
            </a:endParaRPr>
          </a:p>
        </p:txBody>
      </p:sp>
      <p:grpSp>
        <p:nvGrpSpPr>
          <p:cNvPr id="458" name="Group 128"/>
          <p:cNvGrpSpPr/>
          <p:nvPr/>
        </p:nvGrpSpPr>
        <p:grpSpPr>
          <a:xfrm>
            <a:off x="7704000" y="2349360"/>
            <a:ext cx="648000" cy="453960"/>
            <a:chOff x="7704000" y="2349360"/>
            <a:chExt cx="648000" cy="453960"/>
          </a:xfrm>
        </p:grpSpPr>
        <p:sp>
          <p:nvSpPr>
            <p:cNvPr id="459"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1" name="组合 10"/>
          <p:cNvGrpSpPr/>
          <p:nvPr/>
        </p:nvGrpSpPr>
        <p:grpSpPr>
          <a:xfrm>
            <a:off x="1871640" y="1387440"/>
            <a:ext cx="4537080" cy="647640"/>
            <a:chOff x="1871640" y="1387440"/>
            <a:chExt cx="4537080" cy="647640"/>
          </a:xfrm>
        </p:grpSpPr>
        <p:sp>
          <p:nvSpPr>
            <p:cNvPr id="462" name="TextBox 11"/>
            <p:cNvSpPr/>
            <p:nvPr/>
          </p:nvSpPr>
          <p:spPr>
            <a:xfrm>
              <a:off x="2036520" y="138744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网络起源与经济发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63" name="直接连接符 12"/>
            <p:cNvSpPr/>
            <p:nvPr/>
          </p:nvSpPr>
          <p:spPr>
            <a:xfrm>
              <a:off x="2049120" y="17161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流程图: 联系 13"/>
            <p:cNvSpPr/>
            <p:nvPr/>
          </p:nvSpPr>
          <p:spPr>
            <a:xfrm>
              <a:off x="1871640" y="1701720"/>
              <a:ext cx="331560" cy="128520"/>
            </a:xfrm>
            <a:prstGeom prst="flowChartConnector">
              <a:avLst/>
            </a:prstGeom>
            <a:solidFill>
              <a:srgbClr val="00b0f0"/>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1</a:t>
              </a:r>
              <a:endParaRPr b="0" lang="en-US" sz="1800" spc="-1" strike="noStrike">
                <a:solidFill>
                  <a:srgbClr val="000000"/>
                </a:solidFill>
                <a:latin typeface="Arial"/>
              </a:endParaRPr>
            </a:p>
          </p:txBody>
        </p:sp>
        <p:sp>
          <p:nvSpPr>
            <p:cNvPr id="465" name="直接连接符 14"/>
            <p:cNvSpPr/>
            <p:nvPr/>
          </p:nvSpPr>
          <p:spPr>
            <a:xfrm>
              <a:off x="2060280" y="202572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6" name="组合 15"/>
          <p:cNvGrpSpPr/>
          <p:nvPr/>
        </p:nvGrpSpPr>
        <p:grpSpPr>
          <a:xfrm>
            <a:off x="1871640" y="2241720"/>
            <a:ext cx="4537080" cy="647640"/>
            <a:chOff x="1871640" y="2241720"/>
            <a:chExt cx="4537080" cy="647640"/>
          </a:xfrm>
        </p:grpSpPr>
        <p:sp>
          <p:nvSpPr>
            <p:cNvPr id="467" name="TextBox 16"/>
            <p:cNvSpPr/>
            <p:nvPr/>
          </p:nvSpPr>
          <p:spPr>
            <a:xfrm>
              <a:off x="2036520" y="2241720"/>
              <a:ext cx="437220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互联网的起源与发展</a:t>
              </a:r>
              <a:endParaRPr b="0" lang="en-US" sz="1800" spc="-1" strike="noStrike">
                <a:solidFill>
                  <a:srgbClr val="000000"/>
                </a:solidFill>
                <a:latin typeface="Arial"/>
              </a:endParaRPr>
            </a:p>
          </p:txBody>
        </p:sp>
        <p:sp>
          <p:nvSpPr>
            <p:cNvPr id="468" name="直接连接符 17"/>
            <p:cNvSpPr/>
            <p:nvPr/>
          </p:nvSpPr>
          <p:spPr>
            <a:xfrm>
              <a:off x="2049120" y="257040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流程图: 联系 18"/>
            <p:cNvSpPr/>
            <p:nvPr/>
          </p:nvSpPr>
          <p:spPr>
            <a:xfrm>
              <a:off x="1871640" y="2556000"/>
              <a:ext cx="331560" cy="126720"/>
            </a:xfrm>
            <a:prstGeom prst="flowChartConnector">
              <a:avLst/>
            </a:prstGeom>
            <a:solidFill>
              <a:srgbClr val="ffc000"/>
            </a:solidFill>
            <a:ln w="25560">
              <a:solidFill>
                <a:srgbClr val="d9d9d9"/>
              </a:solidFill>
              <a:miter/>
            </a:ln>
          </p:spPr>
          <p:style>
            <a:lnRef idx="0"/>
            <a:fillRef idx="0"/>
            <a:effectRef idx="0"/>
            <a:fontRef idx="minor"/>
          </p:style>
          <p:txBody>
            <a:bodyPr lIns="90000" rIns="90000" tIns="43200" bIns="4320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2</a:t>
              </a:r>
              <a:endParaRPr b="0" lang="en-US" sz="1800" spc="-1" strike="noStrike">
                <a:solidFill>
                  <a:srgbClr val="000000"/>
                </a:solidFill>
                <a:latin typeface="Arial"/>
              </a:endParaRPr>
            </a:p>
          </p:txBody>
        </p:sp>
        <p:sp>
          <p:nvSpPr>
            <p:cNvPr id="470" name="直接连接符 19"/>
            <p:cNvSpPr/>
            <p:nvPr/>
          </p:nvSpPr>
          <p:spPr>
            <a:xfrm>
              <a:off x="2060280" y="287676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AutoShape 78"/>
          <p:cNvSpPr/>
          <p:nvPr/>
        </p:nvSpPr>
        <p:spPr>
          <a:xfrm>
            <a:off x="900000" y="5265720"/>
            <a:ext cx="360360" cy="311040"/>
          </a:xfrm>
          <a:prstGeom prst="hexagon">
            <a:avLst>
              <a:gd name="adj" fmla="val 28964"/>
              <a:gd name="vf" fmla="val 115470"/>
            </a:avLst>
          </a:prstGeom>
          <a:solidFill>
            <a:srgbClr val="aae600">
              <a:alpha val="3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PlaceHolder 1"/>
          <p:cNvSpPr>
            <a:spLocks noGrp="1"/>
          </p:cNvSpPr>
          <p:nvPr>
            <p:ph type="title"/>
          </p:nvPr>
        </p:nvSpPr>
        <p:spPr>
          <a:xfrm>
            <a:off x="576000" y="296640"/>
            <a:ext cx="58323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0504d"/>
                </a:solidFill>
                <a:latin typeface="微软雅黑"/>
                <a:ea typeface="微软雅黑"/>
              </a:rPr>
              <a:t>第一节 信息时代与网络经济</a:t>
            </a:r>
            <a:br>
              <a:rPr sz="2600"/>
            </a:br>
            <a:endParaRPr b="0" lang="en-US" sz="2600" spc="-1" strike="noStrike">
              <a:solidFill>
                <a:srgbClr val="000000"/>
              </a:solidFill>
              <a:latin typeface="Calibri"/>
            </a:endParaRPr>
          </a:p>
        </p:txBody>
      </p:sp>
      <p:grpSp>
        <p:nvGrpSpPr>
          <p:cNvPr id="475" name="组合 127"/>
          <p:cNvGrpSpPr/>
          <p:nvPr/>
        </p:nvGrpSpPr>
        <p:grpSpPr>
          <a:xfrm>
            <a:off x="250920" y="324000"/>
            <a:ext cx="264960" cy="417240"/>
            <a:chOff x="250920" y="324000"/>
            <a:chExt cx="264960" cy="417240"/>
          </a:xfrm>
        </p:grpSpPr>
        <p:sp>
          <p:nvSpPr>
            <p:cNvPr id="476"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TextBox 25"/>
          <p:cNvSpPr/>
          <p:nvPr/>
        </p:nvSpPr>
        <p:spPr>
          <a:xfrm>
            <a:off x="2036880" y="3114720"/>
            <a:ext cx="437184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网络经济给经济发展带来的改变</a:t>
            </a:r>
            <a:endParaRPr b="0" lang="en-US" sz="1800" spc="-1" strike="noStrike">
              <a:solidFill>
                <a:srgbClr val="000000"/>
              </a:solidFill>
              <a:latin typeface="Arial"/>
            </a:endParaRPr>
          </a:p>
        </p:txBody>
      </p:sp>
      <p:sp>
        <p:nvSpPr>
          <p:cNvPr id="480" name="直接连接符 26"/>
          <p:cNvSpPr/>
          <p:nvPr/>
        </p:nvSpPr>
        <p:spPr>
          <a:xfrm>
            <a:off x="2049480" y="344340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流程图: 联系 27"/>
          <p:cNvSpPr/>
          <p:nvPr/>
        </p:nvSpPr>
        <p:spPr>
          <a:xfrm>
            <a:off x="1871640" y="3429000"/>
            <a:ext cx="331920" cy="128520"/>
          </a:xfrm>
          <a:prstGeom prst="flowChartConnector">
            <a:avLst/>
          </a:prstGeom>
          <a:solidFill>
            <a:srgbClr val="b3a2c7"/>
          </a:solidFill>
          <a:ln w="25560">
            <a:solidFill>
              <a:srgbClr val="d9d9d9"/>
            </a:solidFill>
            <a:miter/>
          </a:ln>
        </p:spPr>
        <p:style>
          <a:lnRef idx="0"/>
          <a:fillRef idx="0"/>
          <a:effectRef idx="0"/>
          <a:fontRef idx="minor"/>
        </p:style>
        <p:txBody>
          <a:bodyPr lIns="90000" rIns="90000" tIns="44280" bIns="44280" anchor="ctr">
            <a:normAutofit fontScale="1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3</a:t>
            </a:r>
            <a:endParaRPr b="0" lang="en-US" sz="1800" spc="-1" strike="noStrike">
              <a:solidFill>
                <a:srgbClr val="000000"/>
              </a:solidFill>
              <a:latin typeface="Arial"/>
            </a:endParaRPr>
          </a:p>
        </p:txBody>
      </p:sp>
      <p:sp>
        <p:nvSpPr>
          <p:cNvPr id="482" name="直接连接符 28"/>
          <p:cNvSpPr/>
          <p:nvPr/>
        </p:nvSpPr>
        <p:spPr>
          <a:xfrm>
            <a:off x="2060640" y="375300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TextBox 30"/>
          <p:cNvSpPr/>
          <p:nvPr/>
        </p:nvSpPr>
        <p:spPr>
          <a:xfrm>
            <a:off x="2036880" y="3968640"/>
            <a:ext cx="4371840" cy="639720"/>
          </a:xfrm>
          <a:prstGeom prst="roundRect">
            <a:avLst>
              <a:gd name="adj" fmla="val 8176"/>
            </a:avLst>
          </a:prstGeom>
          <a:noFill/>
          <a:ln w="1908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网络经济新范式</a:t>
            </a:r>
            <a:endParaRPr b="0" lang="en-US" sz="1800" spc="-1" strike="noStrike">
              <a:solidFill>
                <a:srgbClr val="000000"/>
              </a:solidFill>
              <a:latin typeface="Arial"/>
            </a:endParaRPr>
          </a:p>
        </p:txBody>
      </p:sp>
      <p:sp>
        <p:nvSpPr>
          <p:cNvPr id="484" name="直接连接符 31"/>
          <p:cNvSpPr/>
          <p:nvPr/>
        </p:nvSpPr>
        <p:spPr>
          <a:xfrm>
            <a:off x="2049480" y="4297320"/>
            <a:ext cx="0" cy="3189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流程图: 联系 32"/>
          <p:cNvSpPr/>
          <p:nvPr/>
        </p:nvSpPr>
        <p:spPr>
          <a:xfrm>
            <a:off x="1871640" y="4282920"/>
            <a:ext cx="331920" cy="127080"/>
          </a:xfrm>
          <a:prstGeom prst="flowChartConnector">
            <a:avLst/>
          </a:prstGeom>
          <a:solidFill>
            <a:srgbClr val="e46c0a"/>
          </a:solidFill>
          <a:ln w="25560">
            <a:solidFill>
              <a:srgbClr val="d9d9d9"/>
            </a:solidFill>
            <a:miter/>
          </a:ln>
        </p:spPr>
        <p:style>
          <a:lnRef idx="0"/>
          <a:fillRef idx="0"/>
          <a:effectRef idx="0"/>
          <a:fontRef idx="minor"/>
        </p:style>
        <p:txBody>
          <a:bodyPr lIns="90000" rIns="90000" tIns="42840" bIns="42840" anchor="ctr">
            <a:normAutofit fontScale="1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4</a:t>
            </a:r>
            <a:endParaRPr b="0" lang="en-US" sz="1800" spc="-1" strike="noStrike">
              <a:solidFill>
                <a:srgbClr val="000000"/>
              </a:solidFill>
              <a:latin typeface="Arial"/>
            </a:endParaRPr>
          </a:p>
        </p:txBody>
      </p:sp>
      <p:sp>
        <p:nvSpPr>
          <p:cNvPr id="486" name="直接连接符 33"/>
          <p:cNvSpPr/>
          <p:nvPr/>
        </p:nvSpPr>
        <p:spPr>
          <a:xfrm>
            <a:off x="2060640" y="4603680"/>
            <a:ext cx="631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7" name="Group 128"/>
          <p:cNvGrpSpPr/>
          <p:nvPr/>
        </p:nvGrpSpPr>
        <p:grpSpPr>
          <a:xfrm>
            <a:off x="7704000" y="2349360"/>
            <a:ext cx="648000" cy="453960"/>
            <a:chOff x="7704000" y="2349360"/>
            <a:chExt cx="648000" cy="453960"/>
          </a:xfrm>
        </p:grpSpPr>
        <p:sp>
          <p:nvSpPr>
            <p:cNvPr id="488"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0" name="组合 10"/>
          <p:cNvGrpSpPr/>
          <p:nvPr/>
        </p:nvGrpSpPr>
        <p:grpSpPr>
          <a:xfrm>
            <a:off x="1224000" y="944640"/>
            <a:ext cx="7453440" cy="647640"/>
            <a:chOff x="1224000" y="944640"/>
            <a:chExt cx="7453440" cy="647640"/>
          </a:xfrm>
        </p:grpSpPr>
        <p:sp>
          <p:nvSpPr>
            <p:cNvPr id="491" name="TextBox 11"/>
            <p:cNvSpPr/>
            <p:nvPr/>
          </p:nvSpPr>
          <p:spPr>
            <a:xfrm>
              <a:off x="1494360" y="944640"/>
              <a:ext cx="718308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网络分类</a:t>
              </a:r>
              <a:endParaRPr b="0" lang="en-US" sz="1800" spc="-1" strike="noStrike">
                <a:solidFill>
                  <a:srgbClr val="000000"/>
                </a:solidFill>
                <a:latin typeface="Arial"/>
              </a:endParaRPr>
            </a:p>
          </p:txBody>
        </p:sp>
        <p:sp>
          <p:nvSpPr>
            <p:cNvPr id="492" name="直接连接符 12"/>
            <p:cNvSpPr/>
            <p:nvPr/>
          </p:nvSpPr>
          <p:spPr>
            <a:xfrm>
              <a:off x="151452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流程图: 联系 13"/>
            <p:cNvSpPr/>
            <p:nvPr/>
          </p:nvSpPr>
          <p:spPr>
            <a:xfrm>
              <a:off x="1224000" y="1212840"/>
              <a:ext cx="54612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494" name="直接连接符 14"/>
            <p:cNvSpPr/>
            <p:nvPr/>
          </p:nvSpPr>
          <p:spPr>
            <a:xfrm>
              <a:off x="1536480" y="1582920"/>
              <a:ext cx="1035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PlaceHolder 1"/>
          <p:cNvSpPr>
            <a:spLocks noGrp="1"/>
          </p:cNvSpPr>
          <p:nvPr>
            <p:ph type="title"/>
          </p:nvPr>
        </p:nvSpPr>
        <p:spPr>
          <a:xfrm>
            <a:off x="576000" y="296640"/>
            <a:ext cx="60483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一、网络起源于经济发展</a:t>
            </a:r>
            <a:endParaRPr b="0" lang="en-US" sz="3200" spc="-1" strike="noStrike">
              <a:solidFill>
                <a:srgbClr val="000000"/>
              </a:solidFill>
              <a:latin typeface="Calibri"/>
            </a:endParaRPr>
          </a:p>
        </p:txBody>
      </p:sp>
      <p:grpSp>
        <p:nvGrpSpPr>
          <p:cNvPr id="498" name="组合 127"/>
          <p:cNvGrpSpPr/>
          <p:nvPr/>
        </p:nvGrpSpPr>
        <p:grpSpPr>
          <a:xfrm>
            <a:off x="250920" y="324000"/>
            <a:ext cx="264960" cy="417240"/>
            <a:chOff x="250920" y="324000"/>
            <a:chExt cx="264960" cy="417240"/>
          </a:xfrm>
        </p:grpSpPr>
        <p:sp>
          <p:nvSpPr>
            <p:cNvPr id="499"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2"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04" name="组合 10"/>
          <p:cNvGrpSpPr/>
          <p:nvPr/>
        </p:nvGrpSpPr>
        <p:grpSpPr>
          <a:xfrm>
            <a:off x="1224000" y="2997360"/>
            <a:ext cx="7343640" cy="647640"/>
            <a:chOff x="1224000" y="2997360"/>
            <a:chExt cx="7343640" cy="647640"/>
          </a:xfrm>
        </p:grpSpPr>
        <p:sp>
          <p:nvSpPr>
            <p:cNvPr id="505" name="TextBox 11"/>
            <p:cNvSpPr/>
            <p:nvPr/>
          </p:nvSpPr>
          <p:spPr>
            <a:xfrm>
              <a:off x="1490400" y="2997360"/>
              <a:ext cx="707724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原子网络与比特网络的区别</a:t>
              </a:r>
              <a:endParaRPr b="0" lang="en-US" sz="1800" spc="-1" strike="noStrike">
                <a:solidFill>
                  <a:srgbClr val="000000"/>
                </a:solidFill>
                <a:latin typeface="Arial"/>
              </a:endParaRPr>
            </a:p>
          </p:txBody>
        </p:sp>
        <p:sp>
          <p:nvSpPr>
            <p:cNvPr id="506" name="直接连接符 12"/>
            <p:cNvSpPr/>
            <p:nvPr/>
          </p:nvSpPr>
          <p:spPr>
            <a:xfrm>
              <a:off x="1509480" y="332604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流程图: 联系 13"/>
            <p:cNvSpPr/>
            <p:nvPr/>
          </p:nvSpPr>
          <p:spPr>
            <a:xfrm>
              <a:off x="1224000" y="3265560"/>
              <a:ext cx="53820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508" name="直接连接符 14"/>
            <p:cNvSpPr/>
            <p:nvPr/>
          </p:nvSpPr>
          <p:spPr>
            <a:xfrm>
              <a:off x="1531800" y="3635640"/>
              <a:ext cx="1020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9" name="组合 10"/>
          <p:cNvGrpSpPr/>
          <p:nvPr/>
        </p:nvGrpSpPr>
        <p:grpSpPr>
          <a:xfrm>
            <a:off x="1116000" y="4724280"/>
            <a:ext cx="7669080" cy="648000"/>
            <a:chOff x="1116000" y="4724280"/>
            <a:chExt cx="7669080" cy="648000"/>
          </a:xfrm>
        </p:grpSpPr>
        <p:sp>
          <p:nvSpPr>
            <p:cNvPr id="510" name="TextBox 11"/>
            <p:cNvSpPr/>
            <p:nvPr/>
          </p:nvSpPr>
          <p:spPr>
            <a:xfrm>
              <a:off x="1394280" y="4724280"/>
              <a:ext cx="7390800" cy="63972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比特网络与电子商务</a:t>
              </a:r>
              <a:endParaRPr b="0" lang="en-US" sz="1800" spc="-1" strike="noStrike">
                <a:solidFill>
                  <a:srgbClr val="000000"/>
                </a:solidFill>
                <a:latin typeface="Arial"/>
              </a:endParaRPr>
            </a:p>
          </p:txBody>
        </p:sp>
        <p:sp>
          <p:nvSpPr>
            <p:cNvPr id="511" name="直接连接符 12"/>
            <p:cNvSpPr/>
            <p:nvPr/>
          </p:nvSpPr>
          <p:spPr>
            <a:xfrm>
              <a:off x="1414440" y="5052960"/>
              <a:ext cx="0" cy="3193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流程图: 联系 13"/>
            <p:cNvSpPr/>
            <p:nvPr/>
          </p:nvSpPr>
          <p:spPr>
            <a:xfrm>
              <a:off x="1116000" y="4992480"/>
              <a:ext cx="56196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3</a:t>
              </a:r>
              <a:endParaRPr b="0" lang="en-US" sz="1800" spc="-1" strike="noStrike">
                <a:solidFill>
                  <a:srgbClr val="000000"/>
                </a:solidFill>
                <a:latin typeface="Arial"/>
              </a:endParaRPr>
            </a:p>
          </p:txBody>
        </p:sp>
        <p:sp>
          <p:nvSpPr>
            <p:cNvPr id="513" name="直接连接符 14"/>
            <p:cNvSpPr/>
            <p:nvPr/>
          </p:nvSpPr>
          <p:spPr>
            <a:xfrm>
              <a:off x="1436400" y="5362920"/>
              <a:ext cx="10666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4" name="Group 128"/>
          <p:cNvGrpSpPr/>
          <p:nvPr/>
        </p:nvGrpSpPr>
        <p:grpSpPr>
          <a:xfrm>
            <a:off x="7704000" y="2349360"/>
            <a:ext cx="648000" cy="453960"/>
            <a:chOff x="7704000" y="2349360"/>
            <a:chExt cx="648000" cy="453960"/>
          </a:xfrm>
        </p:grpSpPr>
        <p:sp>
          <p:nvSpPr>
            <p:cNvPr id="515"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7" name="组合 10"/>
          <p:cNvGrpSpPr/>
          <p:nvPr/>
        </p:nvGrpSpPr>
        <p:grpSpPr>
          <a:xfrm>
            <a:off x="1224000" y="944640"/>
            <a:ext cx="7453440" cy="647640"/>
            <a:chOff x="1224000" y="944640"/>
            <a:chExt cx="7453440" cy="647640"/>
          </a:xfrm>
        </p:grpSpPr>
        <p:sp>
          <p:nvSpPr>
            <p:cNvPr id="518" name="TextBox 11"/>
            <p:cNvSpPr/>
            <p:nvPr/>
          </p:nvSpPr>
          <p:spPr>
            <a:xfrm>
              <a:off x="1494360" y="944640"/>
              <a:ext cx="718308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互联网的起源</a:t>
              </a:r>
              <a:endParaRPr b="0" lang="en-US" sz="1800" spc="-1" strike="noStrike">
                <a:solidFill>
                  <a:srgbClr val="000000"/>
                </a:solidFill>
                <a:latin typeface="Arial"/>
              </a:endParaRPr>
            </a:p>
          </p:txBody>
        </p:sp>
        <p:sp>
          <p:nvSpPr>
            <p:cNvPr id="519" name="直接连接符 12"/>
            <p:cNvSpPr/>
            <p:nvPr/>
          </p:nvSpPr>
          <p:spPr>
            <a:xfrm>
              <a:off x="1514520" y="127332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流程图: 联系 13"/>
            <p:cNvSpPr/>
            <p:nvPr/>
          </p:nvSpPr>
          <p:spPr>
            <a:xfrm>
              <a:off x="1224000" y="1212840"/>
              <a:ext cx="54612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521" name="直接连接符 14"/>
            <p:cNvSpPr/>
            <p:nvPr/>
          </p:nvSpPr>
          <p:spPr>
            <a:xfrm>
              <a:off x="1536480" y="1582920"/>
              <a:ext cx="1035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2"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PlaceHolder 1"/>
          <p:cNvSpPr>
            <a:spLocks noGrp="1"/>
          </p:cNvSpPr>
          <p:nvPr>
            <p:ph type="title"/>
          </p:nvPr>
        </p:nvSpPr>
        <p:spPr>
          <a:xfrm>
            <a:off x="576000" y="296640"/>
            <a:ext cx="604836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二、互联网的起源与发展</a:t>
            </a:r>
            <a:endParaRPr b="0" lang="en-US" sz="3200" spc="-1" strike="noStrike">
              <a:solidFill>
                <a:srgbClr val="000000"/>
              </a:solidFill>
              <a:latin typeface="Calibri"/>
            </a:endParaRPr>
          </a:p>
        </p:txBody>
      </p:sp>
      <p:grpSp>
        <p:nvGrpSpPr>
          <p:cNvPr id="525" name="组合 127"/>
          <p:cNvGrpSpPr/>
          <p:nvPr/>
        </p:nvGrpSpPr>
        <p:grpSpPr>
          <a:xfrm>
            <a:off x="250920" y="324000"/>
            <a:ext cx="264960" cy="417240"/>
            <a:chOff x="250920" y="324000"/>
            <a:chExt cx="264960" cy="417240"/>
          </a:xfrm>
        </p:grpSpPr>
        <p:sp>
          <p:nvSpPr>
            <p:cNvPr id="526"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9"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31" name="组合 10"/>
          <p:cNvGrpSpPr/>
          <p:nvPr/>
        </p:nvGrpSpPr>
        <p:grpSpPr>
          <a:xfrm>
            <a:off x="1224000" y="2349360"/>
            <a:ext cx="7343640" cy="648000"/>
            <a:chOff x="1224000" y="2349360"/>
            <a:chExt cx="7343640" cy="648000"/>
          </a:xfrm>
        </p:grpSpPr>
        <p:sp>
          <p:nvSpPr>
            <p:cNvPr id="532" name="TextBox 11"/>
            <p:cNvSpPr/>
            <p:nvPr/>
          </p:nvSpPr>
          <p:spPr>
            <a:xfrm>
              <a:off x="1490400" y="2349360"/>
              <a:ext cx="7077240" cy="63972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互联网的用途</a:t>
              </a:r>
              <a:endParaRPr b="0" lang="en-US" sz="1800" spc="-1" strike="noStrike">
                <a:solidFill>
                  <a:srgbClr val="000000"/>
                </a:solidFill>
                <a:latin typeface="Arial"/>
              </a:endParaRPr>
            </a:p>
          </p:txBody>
        </p:sp>
        <p:sp>
          <p:nvSpPr>
            <p:cNvPr id="533" name="直接连接符 12"/>
            <p:cNvSpPr/>
            <p:nvPr/>
          </p:nvSpPr>
          <p:spPr>
            <a:xfrm>
              <a:off x="1509480" y="2678040"/>
              <a:ext cx="0" cy="3193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流程图: 联系 13"/>
            <p:cNvSpPr/>
            <p:nvPr/>
          </p:nvSpPr>
          <p:spPr>
            <a:xfrm>
              <a:off x="1224000" y="2617560"/>
              <a:ext cx="53820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535" name="直接连接符 14"/>
            <p:cNvSpPr/>
            <p:nvPr/>
          </p:nvSpPr>
          <p:spPr>
            <a:xfrm>
              <a:off x="1531800" y="2988000"/>
              <a:ext cx="1020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6" name="组合 10"/>
          <p:cNvGrpSpPr/>
          <p:nvPr/>
        </p:nvGrpSpPr>
        <p:grpSpPr>
          <a:xfrm>
            <a:off x="1116000" y="3753000"/>
            <a:ext cx="7451640" cy="647640"/>
            <a:chOff x="1116000" y="3753000"/>
            <a:chExt cx="7451640" cy="647640"/>
          </a:xfrm>
        </p:grpSpPr>
        <p:sp>
          <p:nvSpPr>
            <p:cNvPr id="537" name="TextBox 11"/>
            <p:cNvSpPr/>
            <p:nvPr/>
          </p:nvSpPr>
          <p:spPr>
            <a:xfrm>
              <a:off x="1386360" y="3753000"/>
              <a:ext cx="7181280" cy="63936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互联网的商业用途</a:t>
              </a:r>
              <a:endParaRPr b="0" lang="en-US" sz="1800" spc="-1" strike="noStrike">
                <a:solidFill>
                  <a:srgbClr val="000000"/>
                </a:solidFill>
                <a:latin typeface="Arial"/>
              </a:endParaRPr>
            </a:p>
          </p:txBody>
        </p:sp>
        <p:sp>
          <p:nvSpPr>
            <p:cNvPr id="538" name="直接连接符 12"/>
            <p:cNvSpPr/>
            <p:nvPr/>
          </p:nvSpPr>
          <p:spPr>
            <a:xfrm>
              <a:off x="1406520" y="4081680"/>
              <a:ext cx="0" cy="318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流程图: 联系 13"/>
            <p:cNvSpPr/>
            <p:nvPr/>
          </p:nvSpPr>
          <p:spPr>
            <a:xfrm>
              <a:off x="1116000" y="4021200"/>
              <a:ext cx="54612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3</a:t>
              </a:r>
              <a:endParaRPr b="0" lang="en-US" sz="1800" spc="-1" strike="noStrike">
                <a:solidFill>
                  <a:srgbClr val="000000"/>
                </a:solidFill>
                <a:latin typeface="Arial"/>
              </a:endParaRPr>
            </a:p>
          </p:txBody>
        </p:sp>
        <p:sp>
          <p:nvSpPr>
            <p:cNvPr id="540" name="直接连接符 14"/>
            <p:cNvSpPr/>
            <p:nvPr/>
          </p:nvSpPr>
          <p:spPr>
            <a:xfrm>
              <a:off x="1428480" y="4391280"/>
              <a:ext cx="1035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1" name="组合 10"/>
          <p:cNvGrpSpPr/>
          <p:nvPr/>
        </p:nvGrpSpPr>
        <p:grpSpPr>
          <a:xfrm>
            <a:off x="1116000" y="4941720"/>
            <a:ext cx="7561440" cy="648000"/>
            <a:chOff x="1116000" y="4941720"/>
            <a:chExt cx="7561440" cy="648000"/>
          </a:xfrm>
        </p:grpSpPr>
        <p:sp>
          <p:nvSpPr>
            <p:cNvPr id="542" name="TextBox 11"/>
            <p:cNvSpPr/>
            <p:nvPr/>
          </p:nvSpPr>
          <p:spPr>
            <a:xfrm>
              <a:off x="1390320" y="4941720"/>
              <a:ext cx="7287120" cy="639720"/>
            </a:xfrm>
            <a:prstGeom prst="roundRect">
              <a:avLst>
                <a:gd name="adj" fmla="val 8176"/>
              </a:avLst>
            </a:prstGeom>
            <a:solidFill>
              <a:srgbClr val="4f81bd"/>
            </a:solidFill>
            <a:ln w="19080">
              <a:solidFill>
                <a:srgbClr val="a6a6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中国互联网发展</a:t>
              </a:r>
              <a:endParaRPr b="0" lang="en-US" sz="1800" spc="-1" strike="noStrike">
                <a:solidFill>
                  <a:srgbClr val="000000"/>
                </a:solidFill>
                <a:latin typeface="Arial"/>
              </a:endParaRPr>
            </a:p>
          </p:txBody>
        </p:sp>
        <p:sp>
          <p:nvSpPr>
            <p:cNvPr id="543" name="直接连接符 12"/>
            <p:cNvSpPr/>
            <p:nvPr/>
          </p:nvSpPr>
          <p:spPr>
            <a:xfrm>
              <a:off x="1411200" y="5270400"/>
              <a:ext cx="0" cy="3193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流程图: 联系 13"/>
            <p:cNvSpPr/>
            <p:nvPr/>
          </p:nvSpPr>
          <p:spPr>
            <a:xfrm>
              <a:off x="1116000" y="5209920"/>
              <a:ext cx="554040" cy="219960"/>
            </a:xfrm>
            <a:prstGeom prst="flowChartConnector">
              <a:avLst/>
            </a:prstGeom>
            <a:solidFill>
              <a:srgbClr val="4f81bd"/>
            </a:solidFill>
            <a:ln w="25560">
              <a:solidFill>
                <a:srgbClr val="d9d9d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微软雅黑"/>
                  <a:ea typeface="微软雅黑"/>
                </a:rPr>
                <a:t>4</a:t>
              </a:r>
              <a:endParaRPr b="0" lang="en-US" sz="1800" spc="-1" strike="noStrike">
                <a:solidFill>
                  <a:srgbClr val="000000"/>
                </a:solidFill>
                <a:latin typeface="Arial"/>
              </a:endParaRPr>
            </a:p>
          </p:txBody>
        </p:sp>
        <p:sp>
          <p:nvSpPr>
            <p:cNvPr id="545" name="直接连接符 14"/>
            <p:cNvSpPr/>
            <p:nvPr/>
          </p:nvSpPr>
          <p:spPr>
            <a:xfrm>
              <a:off x="1431720" y="5580360"/>
              <a:ext cx="10508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6" name="Group 128"/>
          <p:cNvGrpSpPr/>
          <p:nvPr/>
        </p:nvGrpSpPr>
        <p:grpSpPr>
          <a:xfrm>
            <a:off x="7704000" y="2349360"/>
            <a:ext cx="648000" cy="453960"/>
            <a:chOff x="7704000" y="2349360"/>
            <a:chExt cx="648000" cy="453960"/>
          </a:xfrm>
        </p:grpSpPr>
        <p:sp>
          <p:nvSpPr>
            <p:cNvPr id="547" name="AutoShape 129"/>
            <p:cNvSpPr/>
            <p:nvPr/>
          </p:nvSpPr>
          <p:spPr>
            <a:xfrm>
              <a:off x="7991640" y="2492280"/>
              <a:ext cx="360360" cy="311040"/>
            </a:xfrm>
            <a:prstGeom prst="hexagon">
              <a:avLst>
                <a:gd name="adj" fmla="val 28964"/>
                <a:gd name="vf" fmla="val 115470"/>
              </a:avLst>
            </a:prstGeom>
            <a:solidFill>
              <a:srgbClr val="0066ff">
                <a:alpha val="12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130"/>
            <p:cNvSpPr/>
            <p:nvPr/>
          </p:nvSpPr>
          <p:spPr>
            <a:xfrm>
              <a:off x="7704000" y="2349360"/>
              <a:ext cx="360360" cy="311040"/>
            </a:xfrm>
            <a:prstGeom prst="hexagon">
              <a:avLst>
                <a:gd name="adj" fmla="val 28964"/>
                <a:gd name="vf" fmla="val 115470"/>
              </a:avLst>
            </a:prstGeom>
            <a:solidFill>
              <a:srgbClr val="0066ff">
                <a:alpha val="53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9" name="AutoShape 26"/>
          <p:cNvSpPr/>
          <p:nvPr/>
        </p:nvSpPr>
        <p:spPr>
          <a:xfrm>
            <a:off x="1224000" y="4292640"/>
            <a:ext cx="360360" cy="311040"/>
          </a:xfrm>
          <a:prstGeom prst="hexagon">
            <a:avLst>
              <a:gd name="adj" fmla="val 28964"/>
              <a:gd name="vf" fmla="val 115470"/>
            </a:avLst>
          </a:prstGeom>
          <a:solidFill>
            <a:srgbClr val="bfbfbf">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AutoShape 78"/>
          <p:cNvSpPr/>
          <p:nvPr/>
        </p:nvSpPr>
        <p:spPr>
          <a:xfrm>
            <a:off x="7596360" y="836640"/>
            <a:ext cx="360360" cy="311040"/>
          </a:xfrm>
          <a:prstGeom prst="hexagon">
            <a:avLst>
              <a:gd name="adj" fmla="val 28964"/>
              <a:gd name="vf" fmla="val 115470"/>
            </a:avLst>
          </a:prstGeom>
          <a:solidFill>
            <a:srgbClr val="aae600">
              <a:alpha val="14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PlaceHolder 1"/>
          <p:cNvSpPr>
            <a:spLocks noGrp="1"/>
          </p:cNvSpPr>
          <p:nvPr>
            <p:ph type="title"/>
          </p:nvPr>
        </p:nvSpPr>
        <p:spPr>
          <a:xfrm>
            <a:off x="576000" y="296640"/>
            <a:ext cx="7235640" cy="431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三、网络经济给经济发展带来的改变</a:t>
            </a:r>
            <a:endParaRPr b="0" lang="en-US" sz="3200" spc="-1" strike="noStrike">
              <a:solidFill>
                <a:srgbClr val="000000"/>
              </a:solidFill>
              <a:latin typeface="Calibri"/>
            </a:endParaRPr>
          </a:p>
        </p:txBody>
      </p:sp>
      <p:grpSp>
        <p:nvGrpSpPr>
          <p:cNvPr id="552" name="组合 127"/>
          <p:cNvGrpSpPr/>
          <p:nvPr/>
        </p:nvGrpSpPr>
        <p:grpSpPr>
          <a:xfrm>
            <a:off x="250920" y="324000"/>
            <a:ext cx="264960" cy="417240"/>
            <a:chOff x="250920" y="324000"/>
            <a:chExt cx="264960" cy="417240"/>
          </a:xfrm>
        </p:grpSpPr>
        <p:sp>
          <p:nvSpPr>
            <p:cNvPr id="553" name="直接连接符 128"/>
            <p:cNvSpPr/>
            <p:nvPr/>
          </p:nvSpPr>
          <p:spPr>
            <a:xfrm>
              <a:off x="515880" y="324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直接连接符 129"/>
            <p:cNvSpPr/>
            <p:nvPr/>
          </p:nvSpPr>
          <p:spPr>
            <a:xfrm>
              <a:off x="376200" y="324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直接连接符 130"/>
            <p:cNvSpPr/>
            <p:nvPr/>
          </p:nvSpPr>
          <p:spPr>
            <a:xfrm>
              <a:off x="250920" y="325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6" name="MH_Other_5"/>
          <p:cNvSpPr/>
          <p:nvPr/>
        </p:nvSpPr>
        <p:spPr>
          <a:xfrm>
            <a:off x="4165560" y="2816280"/>
            <a:ext cx="398520" cy="396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7" name="MH_Other_6"/>
          <p:cNvSpPr/>
          <p:nvPr/>
        </p:nvSpPr>
        <p:spPr>
          <a:xfrm>
            <a:off x="4183200" y="4786200"/>
            <a:ext cx="396720" cy="393840"/>
          </a:xfrm>
          <a:custGeom>
            <a:avLst/>
            <a:gdLst/>
            <a:ahLst/>
            <a:rect l="l" t="t" r="r" b="b"/>
            <a:pathLst>
              <a:path w="2390775" h="2365376">
                <a:moveTo>
                  <a:pt x="761351" y="1739900"/>
                </a:moveTo>
                <a:lnTo>
                  <a:pt x="791690" y="1805294"/>
                </a:lnTo>
                <a:lnTo>
                  <a:pt x="794883" y="1808051"/>
                </a:lnTo>
                <a:lnTo>
                  <a:pt x="797278" y="1811991"/>
                </a:lnTo>
                <a:lnTo>
                  <a:pt x="800871" y="1817112"/>
                </a:lnTo>
                <a:lnTo>
                  <a:pt x="803266" y="1822233"/>
                </a:lnTo>
                <a:lnTo>
                  <a:pt x="804065" y="1825384"/>
                </a:lnTo>
                <a:lnTo>
                  <a:pt x="804863" y="1828536"/>
                </a:lnTo>
                <a:lnTo>
                  <a:pt x="804863" y="1831687"/>
                </a:lnTo>
                <a:lnTo>
                  <a:pt x="804863" y="1834839"/>
                </a:lnTo>
                <a:lnTo>
                  <a:pt x="804065" y="1837990"/>
                </a:lnTo>
                <a:lnTo>
                  <a:pt x="802867" y="1841142"/>
                </a:lnTo>
                <a:lnTo>
                  <a:pt x="801670" y="1842718"/>
                </a:lnTo>
                <a:lnTo>
                  <a:pt x="799674" y="1844687"/>
                </a:lnTo>
                <a:lnTo>
                  <a:pt x="797278" y="1845475"/>
                </a:lnTo>
                <a:lnTo>
                  <a:pt x="794484" y="1845869"/>
                </a:lnTo>
                <a:lnTo>
                  <a:pt x="790891" y="1846263"/>
                </a:lnTo>
                <a:lnTo>
                  <a:pt x="787698" y="1845869"/>
                </a:lnTo>
                <a:lnTo>
                  <a:pt x="784105" y="1845475"/>
                </a:lnTo>
                <a:lnTo>
                  <a:pt x="780512" y="1844293"/>
                </a:lnTo>
                <a:lnTo>
                  <a:pt x="776520" y="1842718"/>
                </a:lnTo>
                <a:lnTo>
                  <a:pt x="772927" y="1841142"/>
                </a:lnTo>
                <a:lnTo>
                  <a:pt x="768935" y="1839172"/>
                </a:lnTo>
                <a:lnTo>
                  <a:pt x="765343" y="1836809"/>
                </a:lnTo>
                <a:lnTo>
                  <a:pt x="761750" y="1834051"/>
                </a:lnTo>
                <a:lnTo>
                  <a:pt x="758955" y="1831294"/>
                </a:lnTo>
                <a:lnTo>
                  <a:pt x="756161" y="1827748"/>
                </a:lnTo>
                <a:lnTo>
                  <a:pt x="754165" y="1824597"/>
                </a:lnTo>
                <a:lnTo>
                  <a:pt x="748975" y="1815536"/>
                </a:lnTo>
                <a:lnTo>
                  <a:pt x="745782" y="1808839"/>
                </a:lnTo>
                <a:lnTo>
                  <a:pt x="743387" y="1803718"/>
                </a:lnTo>
                <a:lnTo>
                  <a:pt x="742588" y="1799385"/>
                </a:lnTo>
                <a:lnTo>
                  <a:pt x="742588" y="1795051"/>
                </a:lnTo>
                <a:lnTo>
                  <a:pt x="743387" y="1790718"/>
                </a:lnTo>
                <a:lnTo>
                  <a:pt x="746181" y="1778112"/>
                </a:lnTo>
                <a:lnTo>
                  <a:pt x="746979" y="1774173"/>
                </a:lnTo>
                <a:lnTo>
                  <a:pt x="746979" y="1772203"/>
                </a:lnTo>
                <a:lnTo>
                  <a:pt x="746181" y="1771021"/>
                </a:lnTo>
                <a:lnTo>
                  <a:pt x="745383" y="1770627"/>
                </a:lnTo>
                <a:lnTo>
                  <a:pt x="742987" y="1770627"/>
                </a:lnTo>
                <a:lnTo>
                  <a:pt x="742189" y="1770233"/>
                </a:lnTo>
                <a:lnTo>
                  <a:pt x="741790" y="1769839"/>
                </a:lnTo>
                <a:lnTo>
                  <a:pt x="738596" y="1761961"/>
                </a:lnTo>
                <a:lnTo>
                  <a:pt x="736999" y="1758021"/>
                </a:lnTo>
                <a:lnTo>
                  <a:pt x="736600" y="1756052"/>
                </a:lnTo>
                <a:lnTo>
                  <a:pt x="736600" y="1754476"/>
                </a:lnTo>
                <a:lnTo>
                  <a:pt x="742189" y="1750536"/>
                </a:lnTo>
                <a:lnTo>
                  <a:pt x="747379" y="1747385"/>
                </a:lnTo>
                <a:lnTo>
                  <a:pt x="750971" y="1745021"/>
                </a:lnTo>
                <a:lnTo>
                  <a:pt x="754165" y="1743839"/>
                </a:lnTo>
                <a:lnTo>
                  <a:pt x="758556" y="1741870"/>
                </a:lnTo>
                <a:lnTo>
                  <a:pt x="759754" y="1741870"/>
                </a:lnTo>
                <a:lnTo>
                  <a:pt x="761351" y="1739900"/>
                </a:lnTo>
                <a:close/>
                <a:moveTo>
                  <a:pt x="1554438" y="1730375"/>
                </a:moveTo>
                <a:lnTo>
                  <a:pt x="1565575" y="1730375"/>
                </a:lnTo>
                <a:lnTo>
                  <a:pt x="1575916" y="1730375"/>
                </a:lnTo>
                <a:lnTo>
                  <a:pt x="1586258" y="1731163"/>
                </a:lnTo>
                <a:lnTo>
                  <a:pt x="1591031" y="1731951"/>
                </a:lnTo>
                <a:lnTo>
                  <a:pt x="1595008" y="1733133"/>
                </a:lnTo>
                <a:lnTo>
                  <a:pt x="1598986" y="1734314"/>
                </a:lnTo>
                <a:lnTo>
                  <a:pt x="1602168" y="1735890"/>
                </a:lnTo>
                <a:lnTo>
                  <a:pt x="1605350" y="1737860"/>
                </a:lnTo>
                <a:lnTo>
                  <a:pt x="1607339" y="1739830"/>
                </a:lnTo>
                <a:lnTo>
                  <a:pt x="1608929" y="1741799"/>
                </a:lnTo>
                <a:lnTo>
                  <a:pt x="1609725" y="1744951"/>
                </a:lnTo>
                <a:lnTo>
                  <a:pt x="1609725" y="1747708"/>
                </a:lnTo>
                <a:lnTo>
                  <a:pt x="1608929" y="1751648"/>
                </a:lnTo>
                <a:lnTo>
                  <a:pt x="1607339" y="1755193"/>
                </a:lnTo>
                <a:lnTo>
                  <a:pt x="1604554" y="1759920"/>
                </a:lnTo>
                <a:lnTo>
                  <a:pt x="1600577" y="1764648"/>
                </a:lnTo>
                <a:lnTo>
                  <a:pt x="1595804" y="1769769"/>
                </a:lnTo>
                <a:lnTo>
                  <a:pt x="1589042" y="1776072"/>
                </a:lnTo>
                <a:lnTo>
                  <a:pt x="1582678" y="1781193"/>
                </a:lnTo>
                <a:lnTo>
                  <a:pt x="1576314" y="1786314"/>
                </a:lnTo>
                <a:lnTo>
                  <a:pt x="1570348" y="1790647"/>
                </a:lnTo>
                <a:lnTo>
                  <a:pt x="1563586" y="1794193"/>
                </a:lnTo>
                <a:lnTo>
                  <a:pt x="1557222" y="1797738"/>
                </a:lnTo>
                <a:lnTo>
                  <a:pt x="1550461" y="1800496"/>
                </a:lnTo>
                <a:lnTo>
                  <a:pt x="1544097" y="1802466"/>
                </a:lnTo>
                <a:lnTo>
                  <a:pt x="1537733" y="1804829"/>
                </a:lnTo>
                <a:lnTo>
                  <a:pt x="1530971" y="1806799"/>
                </a:lnTo>
                <a:lnTo>
                  <a:pt x="1524607" y="1807981"/>
                </a:lnTo>
                <a:lnTo>
                  <a:pt x="1518243" y="1809163"/>
                </a:lnTo>
                <a:lnTo>
                  <a:pt x="1505117" y="1811132"/>
                </a:lnTo>
                <a:lnTo>
                  <a:pt x="1491992" y="1812314"/>
                </a:lnTo>
                <a:lnTo>
                  <a:pt x="1486026" y="1813102"/>
                </a:lnTo>
                <a:lnTo>
                  <a:pt x="1483241" y="1813890"/>
                </a:lnTo>
                <a:lnTo>
                  <a:pt x="1482048" y="1814678"/>
                </a:lnTo>
                <a:lnTo>
                  <a:pt x="1481253" y="1815072"/>
                </a:lnTo>
                <a:lnTo>
                  <a:pt x="1480855" y="1815859"/>
                </a:lnTo>
                <a:lnTo>
                  <a:pt x="1480855" y="1817041"/>
                </a:lnTo>
                <a:lnTo>
                  <a:pt x="1481253" y="1818617"/>
                </a:lnTo>
                <a:lnTo>
                  <a:pt x="1482048" y="1819799"/>
                </a:lnTo>
                <a:lnTo>
                  <a:pt x="1482048" y="1821375"/>
                </a:lnTo>
                <a:lnTo>
                  <a:pt x="1482048" y="1821769"/>
                </a:lnTo>
                <a:lnTo>
                  <a:pt x="1480855" y="1822556"/>
                </a:lnTo>
                <a:lnTo>
                  <a:pt x="1471309" y="1830829"/>
                </a:lnTo>
                <a:lnTo>
                  <a:pt x="1465343" y="1834375"/>
                </a:lnTo>
                <a:lnTo>
                  <a:pt x="1463354" y="1835556"/>
                </a:lnTo>
                <a:lnTo>
                  <a:pt x="1461365" y="1836738"/>
                </a:lnTo>
                <a:lnTo>
                  <a:pt x="1452615" y="1830041"/>
                </a:lnTo>
                <a:lnTo>
                  <a:pt x="1445853" y="1824132"/>
                </a:lnTo>
                <a:lnTo>
                  <a:pt x="1440285" y="1819405"/>
                </a:lnTo>
                <a:lnTo>
                  <a:pt x="1437103" y="1815072"/>
                </a:lnTo>
                <a:lnTo>
                  <a:pt x="1434716" y="1812314"/>
                </a:lnTo>
                <a:lnTo>
                  <a:pt x="1433125" y="1810344"/>
                </a:lnTo>
                <a:lnTo>
                  <a:pt x="1432330" y="1808375"/>
                </a:lnTo>
                <a:lnTo>
                  <a:pt x="1428750" y="1806799"/>
                </a:lnTo>
                <a:lnTo>
                  <a:pt x="1512675" y="1734314"/>
                </a:lnTo>
                <a:lnTo>
                  <a:pt x="1518641" y="1733527"/>
                </a:lnTo>
                <a:lnTo>
                  <a:pt x="1533755" y="1731951"/>
                </a:lnTo>
                <a:lnTo>
                  <a:pt x="1543699" y="1731163"/>
                </a:lnTo>
                <a:lnTo>
                  <a:pt x="1554438" y="1730375"/>
                </a:lnTo>
                <a:close/>
                <a:moveTo>
                  <a:pt x="588962" y="1535113"/>
                </a:moveTo>
                <a:lnTo>
                  <a:pt x="694496" y="1535113"/>
                </a:lnTo>
                <a:lnTo>
                  <a:pt x="694496" y="1557872"/>
                </a:lnTo>
                <a:lnTo>
                  <a:pt x="694894" y="1558271"/>
                </a:lnTo>
                <a:lnTo>
                  <a:pt x="696885" y="1560268"/>
                </a:lnTo>
                <a:lnTo>
                  <a:pt x="698478" y="1560667"/>
                </a:lnTo>
                <a:lnTo>
                  <a:pt x="700469" y="1561466"/>
                </a:lnTo>
                <a:lnTo>
                  <a:pt x="704053" y="1561865"/>
                </a:lnTo>
                <a:lnTo>
                  <a:pt x="707239" y="1561865"/>
                </a:lnTo>
                <a:lnTo>
                  <a:pt x="711222" y="1561865"/>
                </a:lnTo>
                <a:lnTo>
                  <a:pt x="714407" y="1561466"/>
                </a:lnTo>
                <a:lnTo>
                  <a:pt x="716797" y="1560667"/>
                </a:lnTo>
                <a:lnTo>
                  <a:pt x="718390" y="1560268"/>
                </a:lnTo>
                <a:lnTo>
                  <a:pt x="720381" y="1558271"/>
                </a:lnTo>
                <a:lnTo>
                  <a:pt x="720779" y="1557872"/>
                </a:lnTo>
                <a:lnTo>
                  <a:pt x="720779" y="1535113"/>
                </a:lnTo>
                <a:lnTo>
                  <a:pt x="820737" y="1535113"/>
                </a:lnTo>
                <a:lnTo>
                  <a:pt x="820737" y="1644117"/>
                </a:lnTo>
                <a:lnTo>
                  <a:pt x="820339" y="1648908"/>
                </a:lnTo>
                <a:lnTo>
                  <a:pt x="819144" y="1652901"/>
                </a:lnTo>
                <a:lnTo>
                  <a:pt x="816755" y="1656894"/>
                </a:lnTo>
                <a:lnTo>
                  <a:pt x="814365" y="1660088"/>
                </a:lnTo>
                <a:lnTo>
                  <a:pt x="810781" y="1663283"/>
                </a:lnTo>
                <a:lnTo>
                  <a:pt x="806799" y="1665279"/>
                </a:lnTo>
                <a:lnTo>
                  <a:pt x="802418" y="1666477"/>
                </a:lnTo>
                <a:lnTo>
                  <a:pt x="797639" y="1666876"/>
                </a:lnTo>
                <a:lnTo>
                  <a:pt x="612060" y="1666876"/>
                </a:lnTo>
                <a:lnTo>
                  <a:pt x="607281" y="1666477"/>
                </a:lnTo>
                <a:lnTo>
                  <a:pt x="602901" y="1665279"/>
                </a:lnTo>
                <a:lnTo>
                  <a:pt x="598918" y="1663283"/>
                </a:lnTo>
                <a:lnTo>
                  <a:pt x="595732" y="1660088"/>
                </a:lnTo>
                <a:lnTo>
                  <a:pt x="592546" y="1656894"/>
                </a:lnTo>
                <a:lnTo>
                  <a:pt x="590555" y="1652901"/>
                </a:lnTo>
                <a:lnTo>
                  <a:pt x="589360" y="1648908"/>
                </a:lnTo>
                <a:lnTo>
                  <a:pt x="588962" y="1644117"/>
                </a:lnTo>
                <a:lnTo>
                  <a:pt x="588962" y="1535113"/>
                </a:lnTo>
                <a:close/>
                <a:moveTo>
                  <a:pt x="612060" y="1476375"/>
                </a:moveTo>
                <a:lnTo>
                  <a:pt x="797639" y="1476375"/>
                </a:lnTo>
                <a:lnTo>
                  <a:pt x="802418" y="1476769"/>
                </a:lnTo>
                <a:lnTo>
                  <a:pt x="806799" y="1477950"/>
                </a:lnTo>
                <a:lnTo>
                  <a:pt x="810781" y="1480312"/>
                </a:lnTo>
                <a:lnTo>
                  <a:pt x="814365" y="1483068"/>
                </a:lnTo>
                <a:lnTo>
                  <a:pt x="816755" y="1486611"/>
                </a:lnTo>
                <a:lnTo>
                  <a:pt x="819144" y="1490155"/>
                </a:lnTo>
                <a:lnTo>
                  <a:pt x="820339" y="1494485"/>
                </a:lnTo>
                <a:lnTo>
                  <a:pt x="820737" y="1498816"/>
                </a:lnTo>
                <a:lnTo>
                  <a:pt x="820737" y="1525588"/>
                </a:lnTo>
                <a:lnTo>
                  <a:pt x="588962" y="1525588"/>
                </a:lnTo>
                <a:lnTo>
                  <a:pt x="588962" y="1498816"/>
                </a:lnTo>
                <a:lnTo>
                  <a:pt x="589360" y="1494485"/>
                </a:lnTo>
                <a:lnTo>
                  <a:pt x="590555" y="1490155"/>
                </a:lnTo>
                <a:lnTo>
                  <a:pt x="592546" y="1486611"/>
                </a:lnTo>
                <a:lnTo>
                  <a:pt x="595732" y="1483068"/>
                </a:lnTo>
                <a:lnTo>
                  <a:pt x="598918" y="1480312"/>
                </a:lnTo>
                <a:lnTo>
                  <a:pt x="602901" y="1477950"/>
                </a:lnTo>
                <a:lnTo>
                  <a:pt x="607281" y="1476769"/>
                </a:lnTo>
                <a:lnTo>
                  <a:pt x="612060" y="1476375"/>
                </a:lnTo>
                <a:close/>
                <a:moveTo>
                  <a:pt x="725449" y="1381125"/>
                </a:moveTo>
                <a:lnTo>
                  <a:pt x="730525" y="1381524"/>
                </a:lnTo>
                <a:lnTo>
                  <a:pt x="732087" y="1381524"/>
                </a:lnTo>
                <a:lnTo>
                  <a:pt x="734430" y="1382322"/>
                </a:lnTo>
                <a:lnTo>
                  <a:pt x="737554" y="1384317"/>
                </a:lnTo>
                <a:lnTo>
                  <a:pt x="740287" y="1386312"/>
                </a:lnTo>
                <a:lnTo>
                  <a:pt x="743411" y="1389505"/>
                </a:lnTo>
                <a:lnTo>
                  <a:pt x="746535" y="1393096"/>
                </a:lnTo>
                <a:lnTo>
                  <a:pt x="749659" y="1397486"/>
                </a:lnTo>
                <a:lnTo>
                  <a:pt x="755906" y="1407063"/>
                </a:lnTo>
                <a:lnTo>
                  <a:pt x="761373" y="1417837"/>
                </a:lnTo>
                <a:lnTo>
                  <a:pt x="766059" y="1427813"/>
                </a:lnTo>
                <a:lnTo>
                  <a:pt x="769182" y="1437390"/>
                </a:lnTo>
                <a:lnTo>
                  <a:pt x="770744" y="1441780"/>
                </a:lnTo>
                <a:lnTo>
                  <a:pt x="771525" y="1445770"/>
                </a:lnTo>
                <a:lnTo>
                  <a:pt x="771525" y="1448164"/>
                </a:lnTo>
                <a:lnTo>
                  <a:pt x="771525" y="1450159"/>
                </a:lnTo>
                <a:lnTo>
                  <a:pt x="770744" y="1451357"/>
                </a:lnTo>
                <a:lnTo>
                  <a:pt x="769182" y="1452155"/>
                </a:lnTo>
                <a:lnTo>
                  <a:pt x="768011" y="1452155"/>
                </a:lnTo>
                <a:lnTo>
                  <a:pt x="766449" y="1450958"/>
                </a:lnTo>
                <a:lnTo>
                  <a:pt x="764887" y="1449760"/>
                </a:lnTo>
                <a:lnTo>
                  <a:pt x="762544" y="1448563"/>
                </a:lnTo>
                <a:lnTo>
                  <a:pt x="759030" y="1444174"/>
                </a:lnTo>
                <a:lnTo>
                  <a:pt x="755516" y="1439784"/>
                </a:lnTo>
                <a:lnTo>
                  <a:pt x="753173" y="1434996"/>
                </a:lnTo>
                <a:lnTo>
                  <a:pt x="752392" y="1433400"/>
                </a:lnTo>
                <a:lnTo>
                  <a:pt x="752392" y="1431404"/>
                </a:lnTo>
                <a:lnTo>
                  <a:pt x="752001" y="1428611"/>
                </a:lnTo>
                <a:lnTo>
                  <a:pt x="750830" y="1426616"/>
                </a:lnTo>
                <a:lnTo>
                  <a:pt x="748878" y="1425419"/>
                </a:lnTo>
                <a:lnTo>
                  <a:pt x="746925" y="1425020"/>
                </a:lnTo>
                <a:lnTo>
                  <a:pt x="746144" y="1425419"/>
                </a:lnTo>
                <a:lnTo>
                  <a:pt x="745363" y="1425818"/>
                </a:lnTo>
                <a:lnTo>
                  <a:pt x="744582" y="1426616"/>
                </a:lnTo>
                <a:lnTo>
                  <a:pt x="743411" y="1427414"/>
                </a:lnTo>
                <a:lnTo>
                  <a:pt x="742630" y="1428611"/>
                </a:lnTo>
                <a:lnTo>
                  <a:pt x="742240" y="1430207"/>
                </a:lnTo>
                <a:lnTo>
                  <a:pt x="741849" y="1432602"/>
                </a:lnTo>
                <a:lnTo>
                  <a:pt x="741849" y="1434597"/>
                </a:lnTo>
                <a:lnTo>
                  <a:pt x="741459" y="1439385"/>
                </a:lnTo>
                <a:lnTo>
                  <a:pt x="740678" y="1443376"/>
                </a:lnTo>
                <a:lnTo>
                  <a:pt x="739897" y="1445371"/>
                </a:lnTo>
                <a:lnTo>
                  <a:pt x="739116" y="1446967"/>
                </a:lnTo>
                <a:lnTo>
                  <a:pt x="737944" y="1448164"/>
                </a:lnTo>
                <a:lnTo>
                  <a:pt x="735992" y="1449361"/>
                </a:lnTo>
                <a:lnTo>
                  <a:pt x="734430" y="1450558"/>
                </a:lnTo>
                <a:lnTo>
                  <a:pt x="732868" y="1452155"/>
                </a:lnTo>
                <a:lnTo>
                  <a:pt x="730525" y="1452953"/>
                </a:lnTo>
                <a:lnTo>
                  <a:pt x="727792" y="1453352"/>
                </a:lnTo>
                <a:lnTo>
                  <a:pt x="721935" y="1454150"/>
                </a:lnTo>
                <a:lnTo>
                  <a:pt x="715297" y="1454150"/>
                </a:lnTo>
                <a:lnTo>
                  <a:pt x="712173" y="1453751"/>
                </a:lnTo>
                <a:lnTo>
                  <a:pt x="709049" y="1452953"/>
                </a:lnTo>
                <a:lnTo>
                  <a:pt x="706706" y="1452155"/>
                </a:lnTo>
                <a:lnTo>
                  <a:pt x="703973" y="1450558"/>
                </a:lnTo>
                <a:lnTo>
                  <a:pt x="701240" y="1448962"/>
                </a:lnTo>
                <a:lnTo>
                  <a:pt x="699287" y="1447366"/>
                </a:lnTo>
                <a:lnTo>
                  <a:pt x="694992" y="1442977"/>
                </a:lnTo>
                <a:lnTo>
                  <a:pt x="691478" y="1438188"/>
                </a:lnTo>
                <a:lnTo>
                  <a:pt x="687963" y="1432602"/>
                </a:lnTo>
                <a:lnTo>
                  <a:pt x="685230" y="1427015"/>
                </a:lnTo>
                <a:lnTo>
                  <a:pt x="682497" y="1421029"/>
                </a:lnTo>
                <a:lnTo>
                  <a:pt x="680544" y="1415044"/>
                </a:lnTo>
                <a:lnTo>
                  <a:pt x="678982" y="1409058"/>
                </a:lnTo>
                <a:lnTo>
                  <a:pt x="676249" y="1399082"/>
                </a:lnTo>
                <a:lnTo>
                  <a:pt x="675078" y="1392298"/>
                </a:lnTo>
                <a:lnTo>
                  <a:pt x="674687" y="1389106"/>
                </a:lnTo>
                <a:lnTo>
                  <a:pt x="674687" y="1388707"/>
                </a:lnTo>
                <a:lnTo>
                  <a:pt x="675078" y="1388308"/>
                </a:lnTo>
                <a:lnTo>
                  <a:pt x="676249" y="1387909"/>
                </a:lnTo>
                <a:lnTo>
                  <a:pt x="679373" y="1387111"/>
                </a:lnTo>
                <a:lnTo>
                  <a:pt x="683278" y="1385913"/>
                </a:lnTo>
                <a:lnTo>
                  <a:pt x="689525" y="1384716"/>
                </a:lnTo>
                <a:lnTo>
                  <a:pt x="698897" y="1383120"/>
                </a:lnTo>
                <a:lnTo>
                  <a:pt x="715297" y="1381524"/>
                </a:lnTo>
                <a:lnTo>
                  <a:pt x="725449" y="1381125"/>
                </a:lnTo>
                <a:close/>
                <a:moveTo>
                  <a:pt x="1433588" y="1247775"/>
                </a:moveTo>
                <a:lnTo>
                  <a:pt x="1439124" y="1247775"/>
                </a:lnTo>
                <a:lnTo>
                  <a:pt x="1444264" y="1248175"/>
                </a:lnTo>
                <a:lnTo>
                  <a:pt x="1448614" y="1248976"/>
                </a:lnTo>
                <a:lnTo>
                  <a:pt x="1451382" y="1249776"/>
                </a:lnTo>
                <a:lnTo>
                  <a:pt x="1453359" y="1250977"/>
                </a:lnTo>
                <a:lnTo>
                  <a:pt x="1454150" y="1252178"/>
                </a:lnTo>
                <a:lnTo>
                  <a:pt x="1454150" y="1253779"/>
                </a:lnTo>
                <a:lnTo>
                  <a:pt x="1453359" y="1255380"/>
                </a:lnTo>
                <a:lnTo>
                  <a:pt x="1452173" y="1256981"/>
                </a:lnTo>
                <a:lnTo>
                  <a:pt x="1450196" y="1258582"/>
                </a:lnTo>
                <a:lnTo>
                  <a:pt x="1447428" y="1260183"/>
                </a:lnTo>
                <a:lnTo>
                  <a:pt x="1441892" y="1262985"/>
                </a:lnTo>
                <a:lnTo>
                  <a:pt x="1435565" y="1264986"/>
                </a:lnTo>
                <a:lnTo>
                  <a:pt x="1432402" y="1265387"/>
                </a:lnTo>
                <a:lnTo>
                  <a:pt x="1429634" y="1265787"/>
                </a:lnTo>
                <a:lnTo>
                  <a:pt x="1427261" y="1265787"/>
                </a:lnTo>
                <a:lnTo>
                  <a:pt x="1425284" y="1265387"/>
                </a:lnTo>
                <a:lnTo>
                  <a:pt x="1423703" y="1264986"/>
                </a:lnTo>
                <a:lnTo>
                  <a:pt x="1422516" y="1264586"/>
                </a:lnTo>
                <a:lnTo>
                  <a:pt x="1420539" y="1264586"/>
                </a:lnTo>
                <a:lnTo>
                  <a:pt x="1419353" y="1264986"/>
                </a:lnTo>
                <a:lnTo>
                  <a:pt x="1418562" y="1265787"/>
                </a:lnTo>
                <a:lnTo>
                  <a:pt x="1417376" y="1266588"/>
                </a:lnTo>
                <a:lnTo>
                  <a:pt x="1416980" y="1267388"/>
                </a:lnTo>
                <a:lnTo>
                  <a:pt x="1416585" y="1268589"/>
                </a:lnTo>
                <a:lnTo>
                  <a:pt x="1416190" y="1269790"/>
                </a:lnTo>
                <a:lnTo>
                  <a:pt x="1416585" y="1270990"/>
                </a:lnTo>
                <a:lnTo>
                  <a:pt x="1416585" y="1272191"/>
                </a:lnTo>
                <a:lnTo>
                  <a:pt x="1417376" y="1273392"/>
                </a:lnTo>
                <a:lnTo>
                  <a:pt x="1418562" y="1274993"/>
                </a:lnTo>
                <a:lnTo>
                  <a:pt x="1419748" y="1276194"/>
                </a:lnTo>
                <a:lnTo>
                  <a:pt x="1422121" y="1277395"/>
                </a:lnTo>
                <a:lnTo>
                  <a:pt x="1424098" y="1278596"/>
                </a:lnTo>
                <a:lnTo>
                  <a:pt x="1428843" y="1280597"/>
                </a:lnTo>
                <a:lnTo>
                  <a:pt x="1430820" y="1282198"/>
                </a:lnTo>
                <a:lnTo>
                  <a:pt x="1432402" y="1283799"/>
                </a:lnTo>
                <a:lnTo>
                  <a:pt x="1433588" y="1285000"/>
                </a:lnTo>
                <a:lnTo>
                  <a:pt x="1435170" y="1287001"/>
                </a:lnTo>
                <a:lnTo>
                  <a:pt x="1436356" y="1289003"/>
                </a:lnTo>
                <a:lnTo>
                  <a:pt x="1436751" y="1291404"/>
                </a:lnTo>
                <a:lnTo>
                  <a:pt x="1437542" y="1293406"/>
                </a:lnTo>
                <a:lnTo>
                  <a:pt x="1437542" y="1296608"/>
                </a:lnTo>
                <a:lnTo>
                  <a:pt x="1437542" y="1299009"/>
                </a:lnTo>
                <a:lnTo>
                  <a:pt x="1437147" y="1302612"/>
                </a:lnTo>
                <a:lnTo>
                  <a:pt x="1436356" y="1305414"/>
                </a:lnTo>
                <a:lnTo>
                  <a:pt x="1435170" y="1309416"/>
                </a:lnTo>
                <a:lnTo>
                  <a:pt x="1431611" y="1317422"/>
                </a:lnTo>
                <a:lnTo>
                  <a:pt x="1430029" y="1320624"/>
                </a:lnTo>
                <a:lnTo>
                  <a:pt x="1428052" y="1323826"/>
                </a:lnTo>
                <a:lnTo>
                  <a:pt x="1425680" y="1326628"/>
                </a:lnTo>
                <a:lnTo>
                  <a:pt x="1423307" y="1328629"/>
                </a:lnTo>
                <a:lnTo>
                  <a:pt x="1420539" y="1331431"/>
                </a:lnTo>
                <a:lnTo>
                  <a:pt x="1417771" y="1333032"/>
                </a:lnTo>
                <a:lnTo>
                  <a:pt x="1414608" y="1334633"/>
                </a:lnTo>
                <a:lnTo>
                  <a:pt x="1411445" y="1336635"/>
                </a:lnTo>
                <a:lnTo>
                  <a:pt x="1404722" y="1338636"/>
                </a:lnTo>
                <a:lnTo>
                  <a:pt x="1397605" y="1340237"/>
                </a:lnTo>
                <a:lnTo>
                  <a:pt x="1390487" y="1341038"/>
                </a:lnTo>
                <a:lnTo>
                  <a:pt x="1383370" y="1341438"/>
                </a:lnTo>
                <a:lnTo>
                  <a:pt x="1376252" y="1341438"/>
                </a:lnTo>
                <a:lnTo>
                  <a:pt x="1369530" y="1341038"/>
                </a:lnTo>
                <a:lnTo>
                  <a:pt x="1358063" y="1339437"/>
                </a:lnTo>
                <a:lnTo>
                  <a:pt x="1350154" y="1338236"/>
                </a:lnTo>
                <a:lnTo>
                  <a:pt x="1347386" y="1337435"/>
                </a:lnTo>
                <a:lnTo>
                  <a:pt x="1347386" y="1337835"/>
                </a:lnTo>
                <a:lnTo>
                  <a:pt x="1346991" y="1337435"/>
                </a:lnTo>
                <a:lnTo>
                  <a:pt x="1346200" y="1337035"/>
                </a:lnTo>
                <a:lnTo>
                  <a:pt x="1346200" y="1334633"/>
                </a:lnTo>
                <a:lnTo>
                  <a:pt x="1346991" y="1331831"/>
                </a:lnTo>
                <a:lnTo>
                  <a:pt x="1347782" y="1326228"/>
                </a:lnTo>
                <a:lnTo>
                  <a:pt x="1349363" y="1318623"/>
                </a:lnTo>
                <a:lnTo>
                  <a:pt x="1351736" y="1307415"/>
                </a:lnTo>
                <a:lnTo>
                  <a:pt x="1355295" y="1296608"/>
                </a:lnTo>
                <a:lnTo>
                  <a:pt x="1357667" y="1287402"/>
                </a:lnTo>
                <a:lnTo>
                  <a:pt x="1361621" y="1275794"/>
                </a:lnTo>
                <a:lnTo>
                  <a:pt x="1363994" y="1270190"/>
                </a:lnTo>
                <a:lnTo>
                  <a:pt x="1364785" y="1268589"/>
                </a:lnTo>
                <a:lnTo>
                  <a:pt x="1366762" y="1265787"/>
                </a:lnTo>
                <a:lnTo>
                  <a:pt x="1369925" y="1262985"/>
                </a:lnTo>
                <a:lnTo>
                  <a:pt x="1373484" y="1260183"/>
                </a:lnTo>
                <a:lnTo>
                  <a:pt x="1378229" y="1258182"/>
                </a:lnTo>
                <a:lnTo>
                  <a:pt x="1383765" y="1256181"/>
                </a:lnTo>
                <a:lnTo>
                  <a:pt x="1389301" y="1253779"/>
                </a:lnTo>
                <a:lnTo>
                  <a:pt x="1395628" y="1252578"/>
                </a:lnTo>
                <a:lnTo>
                  <a:pt x="1401954" y="1250977"/>
                </a:lnTo>
                <a:lnTo>
                  <a:pt x="1415399" y="1248976"/>
                </a:lnTo>
                <a:lnTo>
                  <a:pt x="1428052" y="1248175"/>
                </a:lnTo>
                <a:lnTo>
                  <a:pt x="1433588" y="1247775"/>
                </a:lnTo>
                <a:close/>
                <a:moveTo>
                  <a:pt x="1155700" y="965200"/>
                </a:moveTo>
                <a:lnTo>
                  <a:pt x="1161653" y="965597"/>
                </a:lnTo>
                <a:lnTo>
                  <a:pt x="1167209" y="966787"/>
                </a:lnTo>
                <a:lnTo>
                  <a:pt x="1172766" y="968770"/>
                </a:lnTo>
                <a:lnTo>
                  <a:pt x="1177925" y="971944"/>
                </a:lnTo>
                <a:lnTo>
                  <a:pt x="1182687" y="975514"/>
                </a:lnTo>
                <a:lnTo>
                  <a:pt x="1187450" y="980274"/>
                </a:lnTo>
                <a:lnTo>
                  <a:pt x="1192213" y="985431"/>
                </a:lnTo>
                <a:lnTo>
                  <a:pt x="1196181" y="991381"/>
                </a:lnTo>
                <a:lnTo>
                  <a:pt x="1200150" y="998125"/>
                </a:lnTo>
                <a:lnTo>
                  <a:pt x="1204119" y="1005265"/>
                </a:lnTo>
                <a:lnTo>
                  <a:pt x="1207691" y="1012802"/>
                </a:lnTo>
                <a:lnTo>
                  <a:pt x="1211659" y="1021133"/>
                </a:lnTo>
                <a:lnTo>
                  <a:pt x="1214437" y="1029860"/>
                </a:lnTo>
                <a:lnTo>
                  <a:pt x="1217613" y="1038984"/>
                </a:lnTo>
                <a:lnTo>
                  <a:pt x="1220787" y="1048504"/>
                </a:lnTo>
                <a:lnTo>
                  <a:pt x="1225947" y="1068338"/>
                </a:lnTo>
                <a:lnTo>
                  <a:pt x="1230313" y="1089363"/>
                </a:lnTo>
                <a:lnTo>
                  <a:pt x="1234678" y="1111180"/>
                </a:lnTo>
                <a:lnTo>
                  <a:pt x="1237853" y="1133792"/>
                </a:lnTo>
                <a:lnTo>
                  <a:pt x="1241028" y="1155609"/>
                </a:lnTo>
                <a:lnTo>
                  <a:pt x="1243013" y="1177824"/>
                </a:lnTo>
                <a:lnTo>
                  <a:pt x="1245394" y="1198848"/>
                </a:lnTo>
                <a:lnTo>
                  <a:pt x="1246981" y="1219476"/>
                </a:lnTo>
                <a:lnTo>
                  <a:pt x="1246187" y="1186551"/>
                </a:lnTo>
                <a:lnTo>
                  <a:pt x="1342231" y="1244467"/>
                </a:lnTo>
                <a:lnTo>
                  <a:pt x="1323181" y="1340465"/>
                </a:lnTo>
                <a:lnTo>
                  <a:pt x="1248966" y="1309524"/>
                </a:lnTo>
                <a:lnTo>
                  <a:pt x="1245394" y="1284929"/>
                </a:lnTo>
                <a:lnTo>
                  <a:pt x="1239441" y="1242087"/>
                </a:lnTo>
                <a:lnTo>
                  <a:pt x="1231106" y="1373787"/>
                </a:lnTo>
                <a:lnTo>
                  <a:pt x="1230709" y="1379737"/>
                </a:lnTo>
                <a:lnTo>
                  <a:pt x="1230313" y="1386084"/>
                </a:lnTo>
                <a:lnTo>
                  <a:pt x="1230709" y="1392431"/>
                </a:lnTo>
                <a:lnTo>
                  <a:pt x="1232297" y="1399968"/>
                </a:lnTo>
                <a:lnTo>
                  <a:pt x="1234281" y="1407902"/>
                </a:lnTo>
                <a:lnTo>
                  <a:pt x="1237059" y="1417422"/>
                </a:lnTo>
                <a:lnTo>
                  <a:pt x="1241822" y="1428133"/>
                </a:lnTo>
                <a:lnTo>
                  <a:pt x="1247775" y="1440430"/>
                </a:lnTo>
                <a:lnTo>
                  <a:pt x="1231106" y="1440430"/>
                </a:lnTo>
                <a:lnTo>
                  <a:pt x="1242219" y="1446380"/>
                </a:lnTo>
                <a:lnTo>
                  <a:pt x="1256109" y="1453124"/>
                </a:lnTo>
                <a:lnTo>
                  <a:pt x="1287066" y="1467405"/>
                </a:lnTo>
                <a:lnTo>
                  <a:pt x="1313259" y="1479305"/>
                </a:lnTo>
                <a:lnTo>
                  <a:pt x="1323975" y="1483669"/>
                </a:lnTo>
                <a:lnTo>
                  <a:pt x="1501775" y="1720491"/>
                </a:lnTo>
                <a:lnTo>
                  <a:pt x="1401763" y="1798638"/>
                </a:lnTo>
                <a:lnTo>
                  <a:pt x="1210469" y="1576494"/>
                </a:lnTo>
                <a:lnTo>
                  <a:pt x="1080294" y="1561816"/>
                </a:lnTo>
                <a:lnTo>
                  <a:pt x="1080294" y="1563800"/>
                </a:lnTo>
                <a:lnTo>
                  <a:pt x="1080294" y="1567370"/>
                </a:lnTo>
                <a:lnTo>
                  <a:pt x="1079500" y="1575700"/>
                </a:lnTo>
                <a:lnTo>
                  <a:pt x="1077516" y="1587601"/>
                </a:lnTo>
                <a:lnTo>
                  <a:pt x="1074341" y="1601088"/>
                </a:lnTo>
                <a:lnTo>
                  <a:pt x="1066403" y="1633220"/>
                </a:lnTo>
                <a:lnTo>
                  <a:pt x="1056878" y="1669318"/>
                </a:lnTo>
                <a:lnTo>
                  <a:pt x="1046956" y="1703830"/>
                </a:lnTo>
                <a:lnTo>
                  <a:pt x="1038622" y="1733582"/>
                </a:lnTo>
                <a:lnTo>
                  <a:pt x="1030288" y="1762540"/>
                </a:lnTo>
                <a:lnTo>
                  <a:pt x="802481" y="1785548"/>
                </a:lnTo>
                <a:lnTo>
                  <a:pt x="770731" y="1731201"/>
                </a:lnTo>
                <a:lnTo>
                  <a:pt x="904081" y="1706210"/>
                </a:lnTo>
                <a:lnTo>
                  <a:pt x="903685" y="1489619"/>
                </a:lnTo>
                <a:lnTo>
                  <a:pt x="871935" y="1482479"/>
                </a:lnTo>
                <a:lnTo>
                  <a:pt x="869950" y="1471768"/>
                </a:lnTo>
                <a:lnTo>
                  <a:pt x="867966" y="1461851"/>
                </a:lnTo>
                <a:lnTo>
                  <a:pt x="866378" y="1453124"/>
                </a:lnTo>
                <a:lnTo>
                  <a:pt x="864791" y="1445190"/>
                </a:lnTo>
                <a:lnTo>
                  <a:pt x="863600" y="1428926"/>
                </a:lnTo>
                <a:lnTo>
                  <a:pt x="862806" y="1413455"/>
                </a:lnTo>
                <a:lnTo>
                  <a:pt x="862013" y="1373787"/>
                </a:lnTo>
                <a:lnTo>
                  <a:pt x="860822" y="1346812"/>
                </a:lnTo>
                <a:lnTo>
                  <a:pt x="858044" y="1312697"/>
                </a:lnTo>
                <a:lnTo>
                  <a:pt x="854472" y="1175444"/>
                </a:lnTo>
                <a:lnTo>
                  <a:pt x="843756" y="1181791"/>
                </a:lnTo>
                <a:lnTo>
                  <a:pt x="818753" y="1197658"/>
                </a:lnTo>
                <a:lnTo>
                  <a:pt x="802878" y="1208369"/>
                </a:lnTo>
                <a:lnTo>
                  <a:pt x="786606" y="1219476"/>
                </a:lnTo>
                <a:lnTo>
                  <a:pt x="770731" y="1230980"/>
                </a:lnTo>
                <a:lnTo>
                  <a:pt x="756841" y="1242087"/>
                </a:lnTo>
                <a:lnTo>
                  <a:pt x="754460" y="1250021"/>
                </a:lnTo>
                <a:lnTo>
                  <a:pt x="752872" y="1258351"/>
                </a:lnTo>
                <a:lnTo>
                  <a:pt x="752078" y="1266681"/>
                </a:lnTo>
                <a:lnTo>
                  <a:pt x="751285" y="1275805"/>
                </a:lnTo>
                <a:lnTo>
                  <a:pt x="751285" y="1284532"/>
                </a:lnTo>
                <a:lnTo>
                  <a:pt x="751681" y="1292863"/>
                </a:lnTo>
                <a:lnTo>
                  <a:pt x="752078" y="1301590"/>
                </a:lnTo>
                <a:lnTo>
                  <a:pt x="752872" y="1310317"/>
                </a:lnTo>
                <a:lnTo>
                  <a:pt x="754856" y="1325788"/>
                </a:lnTo>
                <a:lnTo>
                  <a:pt x="756444" y="1339275"/>
                </a:lnTo>
                <a:lnTo>
                  <a:pt x="758031" y="1350382"/>
                </a:lnTo>
                <a:lnTo>
                  <a:pt x="758031" y="1354349"/>
                </a:lnTo>
                <a:lnTo>
                  <a:pt x="756841" y="1357523"/>
                </a:lnTo>
                <a:lnTo>
                  <a:pt x="727869" y="1355539"/>
                </a:lnTo>
                <a:lnTo>
                  <a:pt x="715566" y="1354746"/>
                </a:lnTo>
                <a:lnTo>
                  <a:pt x="709613" y="1354746"/>
                </a:lnTo>
                <a:lnTo>
                  <a:pt x="704453" y="1355143"/>
                </a:lnTo>
                <a:lnTo>
                  <a:pt x="698897" y="1355539"/>
                </a:lnTo>
                <a:lnTo>
                  <a:pt x="693341" y="1356729"/>
                </a:lnTo>
                <a:lnTo>
                  <a:pt x="687785" y="1357919"/>
                </a:lnTo>
                <a:lnTo>
                  <a:pt x="682228" y="1359903"/>
                </a:lnTo>
                <a:lnTo>
                  <a:pt x="677069" y="1361886"/>
                </a:lnTo>
                <a:lnTo>
                  <a:pt x="671116" y="1364663"/>
                </a:lnTo>
                <a:lnTo>
                  <a:pt x="664766" y="1367836"/>
                </a:lnTo>
                <a:lnTo>
                  <a:pt x="658416" y="1372200"/>
                </a:lnTo>
                <a:lnTo>
                  <a:pt x="657225" y="1367043"/>
                </a:lnTo>
                <a:lnTo>
                  <a:pt x="655241" y="1361093"/>
                </a:lnTo>
                <a:lnTo>
                  <a:pt x="654050" y="1355143"/>
                </a:lnTo>
                <a:lnTo>
                  <a:pt x="653256" y="1348399"/>
                </a:lnTo>
                <a:lnTo>
                  <a:pt x="651669" y="1333325"/>
                </a:lnTo>
                <a:lnTo>
                  <a:pt x="650875" y="1316267"/>
                </a:lnTo>
                <a:lnTo>
                  <a:pt x="650875" y="1296830"/>
                </a:lnTo>
                <a:lnTo>
                  <a:pt x="651272" y="1274615"/>
                </a:lnTo>
                <a:lnTo>
                  <a:pt x="652066" y="1251211"/>
                </a:lnTo>
                <a:lnTo>
                  <a:pt x="653653" y="1225029"/>
                </a:lnTo>
                <a:lnTo>
                  <a:pt x="660797" y="1208369"/>
                </a:lnTo>
                <a:lnTo>
                  <a:pt x="667147" y="1194881"/>
                </a:lnTo>
                <a:lnTo>
                  <a:pt x="670322" y="1188931"/>
                </a:lnTo>
                <a:lnTo>
                  <a:pt x="673497" y="1183774"/>
                </a:lnTo>
                <a:lnTo>
                  <a:pt x="680244" y="1174254"/>
                </a:lnTo>
                <a:lnTo>
                  <a:pt x="687388" y="1164733"/>
                </a:lnTo>
                <a:lnTo>
                  <a:pt x="696119" y="1155213"/>
                </a:lnTo>
                <a:lnTo>
                  <a:pt x="706438" y="1143312"/>
                </a:lnTo>
                <a:lnTo>
                  <a:pt x="718741" y="1129031"/>
                </a:lnTo>
                <a:lnTo>
                  <a:pt x="738585" y="1108007"/>
                </a:lnTo>
                <a:lnTo>
                  <a:pt x="756047" y="1088966"/>
                </a:lnTo>
                <a:lnTo>
                  <a:pt x="785416" y="1057231"/>
                </a:lnTo>
                <a:lnTo>
                  <a:pt x="797719" y="1043744"/>
                </a:lnTo>
                <a:lnTo>
                  <a:pt x="809228" y="1032240"/>
                </a:lnTo>
                <a:lnTo>
                  <a:pt x="820738" y="1021926"/>
                </a:lnTo>
                <a:lnTo>
                  <a:pt x="831056" y="1012802"/>
                </a:lnTo>
                <a:lnTo>
                  <a:pt x="836613" y="1008439"/>
                </a:lnTo>
                <a:lnTo>
                  <a:pt x="842169" y="1004869"/>
                </a:lnTo>
                <a:lnTo>
                  <a:pt x="848122" y="1000902"/>
                </a:lnTo>
                <a:lnTo>
                  <a:pt x="854075" y="997331"/>
                </a:lnTo>
                <a:lnTo>
                  <a:pt x="860028" y="994555"/>
                </a:lnTo>
                <a:lnTo>
                  <a:pt x="866378" y="991381"/>
                </a:lnTo>
                <a:lnTo>
                  <a:pt x="873125" y="988208"/>
                </a:lnTo>
                <a:lnTo>
                  <a:pt x="880269" y="985828"/>
                </a:lnTo>
                <a:lnTo>
                  <a:pt x="895350" y="980274"/>
                </a:lnTo>
                <a:lnTo>
                  <a:pt x="912416" y="975117"/>
                </a:lnTo>
                <a:lnTo>
                  <a:pt x="932260" y="970753"/>
                </a:lnTo>
                <a:lnTo>
                  <a:pt x="954881" y="965597"/>
                </a:lnTo>
                <a:lnTo>
                  <a:pt x="963613" y="965993"/>
                </a:lnTo>
                <a:lnTo>
                  <a:pt x="979488" y="966787"/>
                </a:lnTo>
                <a:lnTo>
                  <a:pt x="1004491" y="968373"/>
                </a:lnTo>
                <a:lnTo>
                  <a:pt x="1089819" y="1240103"/>
                </a:lnTo>
                <a:lnTo>
                  <a:pt x="1081484" y="1159179"/>
                </a:lnTo>
                <a:lnTo>
                  <a:pt x="1077516" y="1013199"/>
                </a:lnTo>
                <a:lnTo>
                  <a:pt x="1071959" y="999315"/>
                </a:lnTo>
                <a:lnTo>
                  <a:pt x="1083072" y="980671"/>
                </a:lnTo>
                <a:lnTo>
                  <a:pt x="1107281" y="980671"/>
                </a:lnTo>
                <a:lnTo>
                  <a:pt x="1117600" y="999315"/>
                </a:lnTo>
                <a:lnTo>
                  <a:pt x="1112837" y="1015579"/>
                </a:lnTo>
                <a:lnTo>
                  <a:pt x="1142206" y="1228203"/>
                </a:lnTo>
                <a:lnTo>
                  <a:pt x="1137841" y="971944"/>
                </a:lnTo>
                <a:lnTo>
                  <a:pt x="1146572" y="967580"/>
                </a:lnTo>
                <a:lnTo>
                  <a:pt x="1148953" y="966390"/>
                </a:lnTo>
                <a:lnTo>
                  <a:pt x="1149350" y="965597"/>
                </a:lnTo>
                <a:lnTo>
                  <a:pt x="1155700" y="965200"/>
                </a:lnTo>
                <a:close/>
                <a:moveTo>
                  <a:pt x="931148" y="736601"/>
                </a:moveTo>
                <a:lnTo>
                  <a:pt x="929554" y="751285"/>
                </a:lnTo>
                <a:lnTo>
                  <a:pt x="928757" y="762794"/>
                </a:lnTo>
                <a:lnTo>
                  <a:pt x="929155" y="762794"/>
                </a:lnTo>
                <a:lnTo>
                  <a:pt x="929554" y="751285"/>
                </a:lnTo>
                <a:lnTo>
                  <a:pt x="930351" y="746126"/>
                </a:lnTo>
                <a:lnTo>
                  <a:pt x="931148" y="741363"/>
                </a:lnTo>
                <a:lnTo>
                  <a:pt x="931148" y="736601"/>
                </a:lnTo>
                <a:close/>
                <a:moveTo>
                  <a:pt x="949086" y="679054"/>
                </a:moveTo>
                <a:lnTo>
                  <a:pt x="948289" y="679847"/>
                </a:lnTo>
                <a:lnTo>
                  <a:pt x="945499" y="681435"/>
                </a:lnTo>
                <a:lnTo>
                  <a:pt x="943904" y="683419"/>
                </a:lnTo>
                <a:lnTo>
                  <a:pt x="941911" y="686991"/>
                </a:lnTo>
                <a:lnTo>
                  <a:pt x="945897" y="682625"/>
                </a:lnTo>
                <a:lnTo>
                  <a:pt x="948289" y="681038"/>
                </a:lnTo>
                <a:lnTo>
                  <a:pt x="950282" y="679054"/>
                </a:lnTo>
                <a:lnTo>
                  <a:pt x="949086" y="679054"/>
                </a:lnTo>
                <a:close/>
                <a:moveTo>
                  <a:pt x="1038375" y="620713"/>
                </a:moveTo>
                <a:lnTo>
                  <a:pt x="1049138" y="620713"/>
                </a:lnTo>
                <a:lnTo>
                  <a:pt x="1059502" y="621110"/>
                </a:lnTo>
                <a:lnTo>
                  <a:pt x="1069866" y="622300"/>
                </a:lnTo>
                <a:lnTo>
                  <a:pt x="1079432" y="623491"/>
                </a:lnTo>
                <a:lnTo>
                  <a:pt x="1088999" y="625872"/>
                </a:lnTo>
                <a:lnTo>
                  <a:pt x="1098167" y="627857"/>
                </a:lnTo>
                <a:lnTo>
                  <a:pt x="1106937" y="630238"/>
                </a:lnTo>
                <a:lnTo>
                  <a:pt x="1115307" y="633413"/>
                </a:lnTo>
                <a:lnTo>
                  <a:pt x="1123678" y="636191"/>
                </a:lnTo>
                <a:lnTo>
                  <a:pt x="1130853" y="639763"/>
                </a:lnTo>
                <a:lnTo>
                  <a:pt x="1138028" y="642938"/>
                </a:lnTo>
                <a:lnTo>
                  <a:pt x="1144805" y="646510"/>
                </a:lnTo>
                <a:lnTo>
                  <a:pt x="1156365" y="652860"/>
                </a:lnTo>
                <a:lnTo>
                  <a:pt x="1166729" y="659607"/>
                </a:lnTo>
                <a:lnTo>
                  <a:pt x="1174701" y="664766"/>
                </a:lnTo>
                <a:lnTo>
                  <a:pt x="1180680" y="669529"/>
                </a:lnTo>
                <a:lnTo>
                  <a:pt x="1185862" y="673497"/>
                </a:lnTo>
                <a:lnTo>
                  <a:pt x="1185862" y="676275"/>
                </a:lnTo>
                <a:lnTo>
                  <a:pt x="1185862" y="684213"/>
                </a:lnTo>
                <a:lnTo>
                  <a:pt x="1185065" y="688975"/>
                </a:lnTo>
                <a:lnTo>
                  <a:pt x="1183869" y="694532"/>
                </a:lnTo>
                <a:lnTo>
                  <a:pt x="1182274" y="700088"/>
                </a:lnTo>
                <a:lnTo>
                  <a:pt x="1180281" y="704850"/>
                </a:lnTo>
                <a:lnTo>
                  <a:pt x="1179086" y="707629"/>
                </a:lnTo>
                <a:lnTo>
                  <a:pt x="1177093" y="710010"/>
                </a:lnTo>
                <a:lnTo>
                  <a:pt x="1175498" y="711994"/>
                </a:lnTo>
                <a:lnTo>
                  <a:pt x="1173505" y="713979"/>
                </a:lnTo>
                <a:lnTo>
                  <a:pt x="1170715" y="715963"/>
                </a:lnTo>
                <a:lnTo>
                  <a:pt x="1168323" y="717154"/>
                </a:lnTo>
                <a:lnTo>
                  <a:pt x="1165533" y="718344"/>
                </a:lnTo>
                <a:lnTo>
                  <a:pt x="1161945" y="719138"/>
                </a:lnTo>
                <a:lnTo>
                  <a:pt x="1158756" y="719535"/>
                </a:lnTo>
                <a:lnTo>
                  <a:pt x="1154770" y="719535"/>
                </a:lnTo>
                <a:lnTo>
                  <a:pt x="1150784" y="719138"/>
                </a:lnTo>
                <a:lnTo>
                  <a:pt x="1146001" y="718344"/>
                </a:lnTo>
                <a:lnTo>
                  <a:pt x="1140819" y="717154"/>
                </a:lnTo>
                <a:lnTo>
                  <a:pt x="1135238" y="715566"/>
                </a:lnTo>
                <a:lnTo>
                  <a:pt x="1129259" y="712788"/>
                </a:lnTo>
                <a:lnTo>
                  <a:pt x="1123678" y="710010"/>
                </a:lnTo>
                <a:lnTo>
                  <a:pt x="1120091" y="708819"/>
                </a:lnTo>
                <a:lnTo>
                  <a:pt x="1114112" y="707629"/>
                </a:lnTo>
                <a:lnTo>
                  <a:pt x="1098964" y="704850"/>
                </a:lnTo>
                <a:lnTo>
                  <a:pt x="1083418" y="702072"/>
                </a:lnTo>
                <a:lnTo>
                  <a:pt x="1077439" y="700882"/>
                </a:lnTo>
                <a:lnTo>
                  <a:pt x="1073852" y="700088"/>
                </a:lnTo>
                <a:lnTo>
                  <a:pt x="1104545" y="714772"/>
                </a:lnTo>
                <a:lnTo>
                  <a:pt x="1118895" y="721122"/>
                </a:lnTo>
                <a:lnTo>
                  <a:pt x="1125671" y="723504"/>
                </a:lnTo>
                <a:lnTo>
                  <a:pt x="1132448" y="725885"/>
                </a:lnTo>
                <a:lnTo>
                  <a:pt x="1138826" y="728266"/>
                </a:lnTo>
                <a:lnTo>
                  <a:pt x="1144805" y="729457"/>
                </a:lnTo>
                <a:lnTo>
                  <a:pt x="1150784" y="730647"/>
                </a:lnTo>
                <a:lnTo>
                  <a:pt x="1155966" y="731044"/>
                </a:lnTo>
                <a:lnTo>
                  <a:pt x="1161148" y="730647"/>
                </a:lnTo>
                <a:lnTo>
                  <a:pt x="1165931" y="729457"/>
                </a:lnTo>
                <a:lnTo>
                  <a:pt x="1170316" y="727869"/>
                </a:lnTo>
                <a:lnTo>
                  <a:pt x="1174302" y="725091"/>
                </a:lnTo>
                <a:lnTo>
                  <a:pt x="1175498" y="735410"/>
                </a:lnTo>
                <a:lnTo>
                  <a:pt x="1175897" y="744935"/>
                </a:lnTo>
                <a:lnTo>
                  <a:pt x="1175498" y="753666"/>
                </a:lnTo>
                <a:lnTo>
                  <a:pt x="1175099" y="762397"/>
                </a:lnTo>
                <a:lnTo>
                  <a:pt x="1176694" y="761207"/>
                </a:lnTo>
                <a:lnTo>
                  <a:pt x="1177491" y="760413"/>
                </a:lnTo>
                <a:lnTo>
                  <a:pt x="1178687" y="760016"/>
                </a:lnTo>
                <a:lnTo>
                  <a:pt x="1179086" y="760413"/>
                </a:lnTo>
                <a:lnTo>
                  <a:pt x="1179484" y="761207"/>
                </a:lnTo>
                <a:lnTo>
                  <a:pt x="1179883" y="763985"/>
                </a:lnTo>
                <a:lnTo>
                  <a:pt x="1180281" y="767954"/>
                </a:lnTo>
                <a:lnTo>
                  <a:pt x="1180281" y="773113"/>
                </a:lnTo>
                <a:lnTo>
                  <a:pt x="1179086" y="785813"/>
                </a:lnTo>
                <a:lnTo>
                  <a:pt x="1177491" y="800498"/>
                </a:lnTo>
                <a:lnTo>
                  <a:pt x="1175498" y="814388"/>
                </a:lnTo>
                <a:lnTo>
                  <a:pt x="1173505" y="826294"/>
                </a:lnTo>
                <a:lnTo>
                  <a:pt x="1171911" y="833438"/>
                </a:lnTo>
                <a:lnTo>
                  <a:pt x="1170715" y="834629"/>
                </a:lnTo>
                <a:lnTo>
                  <a:pt x="1170316" y="834232"/>
                </a:lnTo>
                <a:lnTo>
                  <a:pt x="1169519" y="842169"/>
                </a:lnTo>
                <a:lnTo>
                  <a:pt x="1168323" y="849710"/>
                </a:lnTo>
                <a:lnTo>
                  <a:pt x="1166729" y="856854"/>
                </a:lnTo>
                <a:lnTo>
                  <a:pt x="1165134" y="863998"/>
                </a:lnTo>
                <a:lnTo>
                  <a:pt x="1162742" y="870744"/>
                </a:lnTo>
                <a:lnTo>
                  <a:pt x="1160351" y="877491"/>
                </a:lnTo>
                <a:lnTo>
                  <a:pt x="1157959" y="883841"/>
                </a:lnTo>
                <a:lnTo>
                  <a:pt x="1154770" y="890191"/>
                </a:lnTo>
                <a:lnTo>
                  <a:pt x="1151980" y="896541"/>
                </a:lnTo>
                <a:lnTo>
                  <a:pt x="1148791" y="902098"/>
                </a:lnTo>
                <a:lnTo>
                  <a:pt x="1145602" y="907654"/>
                </a:lnTo>
                <a:lnTo>
                  <a:pt x="1141616" y="913210"/>
                </a:lnTo>
                <a:lnTo>
                  <a:pt x="1138028" y="918370"/>
                </a:lnTo>
                <a:lnTo>
                  <a:pt x="1134042" y="923529"/>
                </a:lnTo>
                <a:lnTo>
                  <a:pt x="1126070" y="932260"/>
                </a:lnTo>
                <a:lnTo>
                  <a:pt x="1117699" y="940595"/>
                </a:lnTo>
                <a:lnTo>
                  <a:pt x="1108531" y="947738"/>
                </a:lnTo>
                <a:lnTo>
                  <a:pt x="1099762" y="954088"/>
                </a:lnTo>
                <a:lnTo>
                  <a:pt x="1090593" y="959248"/>
                </a:lnTo>
                <a:lnTo>
                  <a:pt x="1081027" y="963216"/>
                </a:lnTo>
                <a:lnTo>
                  <a:pt x="1077041" y="964804"/>
                </a:lnTo>
                <a:lnTo>
                  <a:pt x="1072257" y="966391"/>
                </a:lnTo>
                <a:lnTo>
                  <a:pt x="1067474" y="967185"/>
                </a:lnTo>
                <a:lnTo>
                  <a:pt x="1063488" y="967979"/>
                </a:lnTo>
                <a:lnTo>
                  <a:pt x="1059103" y="968376"/>
                </a:lnTo>
                <a:lnTo>
                  <a:pt x="1054719" y="968376"/>
                </a:lnTo>
                <a:lnTo>
                  <a:pt x="1051530" y="968376"/>
                </a:lnTo>
                <a:lnTo>
                  <a:pt x="1047543" y="967979"/>
                </a:lnTo>
                <a:lnTo>
                  <a:pt x="1043956" y="967185"/>
                </a:lnTo>
                <a:lnTo>
                  <a:pt x="1039970" y="965995"/>
                </a:lnTo>
                <a:lnTo>
                  <a:pt x="1031998" y="962820"/>
                </a:lnTo>
                <a:lnTo>
                  <a:pt x="1023627" y="958851"/>
                </a:lnTo>
                <a:lnTo>
                  <a:pt x="1014857" y="953295"/>
                </a:lnTo>
                <a:lnTo>
                  <a:pt x="1006088" y="947341"/>
                </a:lnTo>
                <a:lnTo>
                  <a:pt x="997318" y="939801"/>
                </a:lnTo>
                <a:lnTo>
                  <a:pt x="988549" y="931863"/>
                </a:lnTo>
                <a:lnTo>
                  <a:pt x="979779" y="922338"/>
                </a:lnTo>
                <a:lnTo>
                  <a:pt x="971807" y="912813"/>
                </a:lnTo>
                <a:lnTo>
                  <a:pt x="963835" y="902098"/>
                </a:lnTo>
                <a:lnTo>
                  <a:pt x="956660" y="890985"/>
                </a:lnTo>
                <a:lnTo>
                  <a:pt x="949883" y="878682"/>
                </a:lnTo>
                <a:lnTo>
                  <a:pt x="943904" y="865982"/>
                </a:lnTo>
                <a:lnTo>
                  <a:pt x="941512" y="859632"/>
                </a:lnTo>
                <a:lnTo>
                  <a:pt x="938722" y="852885"/>
                </a:lnTo>
                <a:lnTo>
                  <a:pt x="936729" y="846138"/>
                </a:lnTo>
                <a:lnTo>
                  <a:pt x="934736" y="839391"/>
                </a:lnTo>
                <a:lnTo>
                  <a:pt x="933540" y="843757"/>
                </a:lnTo>
                <a:lnTo>
                  <a:pt x="931547" y="847329"/>
                </a:lnTo>
                <a:lnTo>
                  <a:pt x="929554" y="849710"/>
                </a:lnTo>
                <a:lnTo>
                  <a:pt x="928757" y="850107"/>
                </a:lnTo>
                <a:lnTo>
                  <a:pt x="927960" y="850504"/>
                </a:lnTo>
                <a:lnTo>
                  <a:pt x="926764" y="850107"/>
                </a:lnTo>
                <a:lnTo>
                  <a:pt x="925568" y="849710"/>
                </a:lnTo>
                <a:lnTo>
                  <a:pt x="924372" y="848123"/>
                </a:lnTo>
                <a:lnTo>
                  <a:pt x="923575" y="846535"/>
                </a:lnTo>
                <a:lnTo>
                  <a:pt x="921582" y="842963"/>
                </a:lnTo>
                <a:lnTo>
                  <a:pt x="920386" y="837407"/>
                </a:lnTo>
                <a:lnTo>
                  <a:pt x="918791" y="831057"/>
                </a:lnTo>
                <a:lnTo>
                  <a:pt x="917596" y="823516"/>
                </a:lnTo>
                <a:lnTo>
                  <a:pt x="917197" y="815182"/>
                </a:lnTo>
                <a:lnTo>
                  <a:pt x="916798" y="806054"/>
                </a:lnTo>
                <a:lnTo>
                  <a:pt x="917197" y="798116"/>
                </a:lnTo>
                <a:lnTo>
                  <a:pt x="917596" y="790576"/>
                </a:lnTo>
                <a:lnTo>
                  <a:pt x="918393" y="783829"/>
                </a:lnTo>
                <a:lnTo>
                  <a:pt x="919987" y="777479"/>
                </a:lnTo>
                <a:lnTo>
                  <a:pt x="921183" y="772319"/>
                </a:lnTo>
                <a:lnTo>
                  <a:pt x="922379" y="767954"/>
                </a:lnTo>
                <a:lnTo>
                  <a:pt x="924372" y="764779"/>
                </a:lnTo>
                <a:lnTo>
                  <a:pt x="925169" y="763588"/>
                </a:lnTo>
                <a:lnTo>
                  <a:pt x="926365" y="763191"/>
                </a:lnTo>
                <a:lnTo>
                  <a:pt x="923176" y="759619"/>
                </a:lnTo>
                <a:lnTo>
                  <a:pt x="920785" y="756444"/>
                </a:lnTo>
                <a:lnTo>
                  <a:pt x="918393" y="752476"/>
                </a:lnTo>
                <a:lnTo>
                  <a:pt x="916798" y="748507"/>
                </a:lnTo>
                <a:lnTo>
                  <a:pt x="915204" y="744538"/>
                </a:lnTo>
                <a:lnTo>
                  <a:pt x="914407" y="739776"/>
                </a:lnTo>
                <a:lnTo>
                  <a:pt x="913609" y="735807"/>
                </a:lnTo>
                <a:lnTo>
                  <a:pt x="913211" y="731044"/>
                </a:lnTo>
                <a:lnTo>
                  <a:pt x="912812" y="727076"/>
                </a:lnTo>
                <a:lnTo>
                  <a:pt x="912812" y="721916"/>
                </a:lnTo>
                <a:lnTo>
                  <a:pt x="913609" y="712391"/>
                </a:lnTo>
                <a:lnTo>
                  <a:pt x="915204" y="703263"/>
                </a:lnTo>
                <a:lnTo>
                  <a:pt x="917197" y="694135"/>
                </a:lnTo>
                <a:lnTo>
                  <a:pt x="920386" y="685007"/>
                </a:lnTo>
                <a:lnTo>
                  <a:pt x="923575" y="676672"/>
                </a:lnTo>
                <a:lnTo>
                  <a:pt x="927162" y="668735"/>
                </a:lnTo>
                <a:lnTo>
                  <a:pt x="930750" y="661988"/>
                </a:lnTo>
                <a:lnTo>
                  <a:pt x="934337" y="656035"/>
                </a:lnTo>
                <a:lnTo>
                  <a:pt x="937526" y="651272"/>
                </a:lnTo>
                <a:lnTo>
                  <a:pt x="940715" y="647700"/>
                </a:lnTo>
                <a:lnTo>
                  <a:pt x="943107" y="646113"/>
                </a:lnTo>
                <a:lnTo>
                  <a:pt x="955862" y="639763"/>
                </a:lnTo>
                <a:lnTo>
                  <a:pt x="968219" y="634604"/>
                </a:lnTo>
                <a:lnTo>
                  <a:pt x="980178" y="630238"/>
                </a:lnTo>
                <a:lnTo>
                  <a:pt x="992535" y="627063"/>
                </a:lnTo>
                <a:lnTo>
                  <a:pt x="1004493" y="624285"/>
                </a:lnTo>
                <a:lnTo>
                  <a:pt x="1016053" y="622300"/>
                </a:lnTo>
                <a:lnTo>
                  <a:pt x="1027214" y="621110"/>
                </a:lnTo>
                <a:lnTo>
                  <a:pt x="1038375" y="620713"/>
                </a:lnTo>
                <a:close/>
                <a:moveTo>
                  <a:pt x="1043186" y="515586"/>
                </a:moveTo>
                <a:lnTo>
                  <a:pt x="1022934" y="515983"/>
                </a:lnTo>
                <a:lnTo>
                  <a:pt x="1002682" y="516777"/>
                </a:lnTo>
                <a:lnTo>
                  <a:pt x="982827" y="518364"/>
                </a:lnTo>
                <a:lnTo>
                  <a:pt x="962972" y="519952"/>
                </a:lnTo>
                <a:lnTo>
                  <a:pt x="943514" y="521937"/>
                </a:lnTo>
                <a:lnTo>
                  <a:pt x="924056" y="525113"/>
                </a:lnTo>
                <a:lnTo>
                  <a:pt x="904598" y="527891"/>
                </a:lnTo>
                <a:lnTo>
                  <a:pt x="885140" y="531861"/>
                </a:lnTo>
                <a:lnTo>
                  <a:pt x="866476" y="535830"/>
                </a:lnTo>
                <a:lnTo>
                  <a:pt x="847812" y="540594"/>
                </a:lnTo>
                <a:lnTo>
                  <a:pt x="829148" y="545754"/>
                </a:lnTo>
                <a:lnTo>
                  <a:pt x="810485" y="550914"/>
                </a:lnTo>
                <a:lnTo>
                  <a:pt x="792218" y="556869"/>
                </a:lnTo>
                <a:lnTo>
                  <a:pt x="774348" y="563220"/>
                </a:lnTo>
                <a:lnTo>
                  <a:pt x="756082" y="569968"/>
                </a:lnTo>
                <a:lnTo>
                  <a:pt x="738609" y="577113"/>
                </a:lnTo>
                <a:lnTo>
                  <a:pt x="721137" y="585449"/>
                </a:lnTo>
                <a:lnTo>
                  <a:pt x="704061" y="593388"/>
                </a:lnTo>
                <a:lnTo>
                  <a:pt x="686986" y="601724"/>
                </a:lnTo>
                <a:lnTo>
                  <a:pt x="670308" y="610457"/>
                </a:lnTo>
                <a:lnTo>
                  <a:pt x="653630" y="619587"/>
                </a:lnTo>
                <a:lnTo>
                  <a:pt x="637745" y="629114"/>
                </a:lnTo>
                <a:lnTo>
                  <a:pt x="621861" y="639037"/>
                </a:lnTo>
                <a:lnTo>
                  <a:pt x="605977" y="649755"/>
                </a:lnTo>
                <a:lnTo>
                  <a:pt x="590490" y="660473"/>
                </a:lnTo>
                <a:lnTo>
                  <a:pt x="575400" y="671190"/>
                </a:lnTo>
                <a:lnTo>
                  <a:pt x="559913" y="682702"/>
                </a:lnTo>
                <a:lnTo>
                  <a:pt x="545617" y="694610"/>
                </a:lnTo>
                <a:lnTo>
                  <a:pt x="531322" y="706519"/>
                </a:lnTo>
                <a:lnTo>
                  <a:pt x="517026" y="719221"/>
                </a:lnTo>
                <a:lnTo>
                  <a:pt x="503525" y="731924"/>
                </a:lnTo>
                <a:lnTo>
                  <a:pt x="490023" y="745023"/>
                </a:lnTo>
                <a:lnTo>
                  <a:pt x="476919" y="758520"/>
                </a:lnTo>
                <a:lnTo>
                  <a:pt x="464212" y="772413"/>
                </a:lnTo>
                <a:lnTo>
                  <a:pt x="451504" y="786306"/>
                </a:lnTo>
                <a:lnTo>
                  <a:pt x="439591" y="800596"/>
                </a:lnTo>
                <a:lnTo>
                  <a:pt x="427678" y="815680"/>
                </a:lnTo>
                <a:lnTo>
                  <a:pt x="416162" y="830368"/>
                </a:lnTo>
                <a:lnTo>
                  <a:pt x="405441" y="845452"/>
                </a:lnTo>
                <a:lnTo>
                  <a:pt x="394322" y="860933"/>
                </a:lnTo>
                <a:lnTo>
                  <a:pt x="383997" y="876811"/>
                </a:lnTo>
                <a:lnTo>
                  <a:pt x="374070" y="892689"/>
                </a:lnTo>
                <a:lnTo>
                  <a:pt x="364539" y="908964"/>
                </a:lnTo>
                <a:lnTo>
                  <a:pt x="355009" y="925636"/>
                </a:lnTo>
                <a:lnTo>
                  <a:pt x="346272" y="941911"/>
                </a:lnTo>
                <a:lnTo>
                  <a:pt x="337933" y="959377"/>
                </a:lnTo>
                <a:lnTo>
                  <a:pt x="329594" y="976048"/>
                </a:lnTo>
                <a:lnTo>
                  <a:pt x="322049" y="993911"/>
                </a:lnTo>
                <a:lnTo>
                  <a:pt x="314901" y="1011377"/>
                </a:lnTo>
                <a:lnTo>
                  <a:pt x="308151" y="1029240"/>
                </a:lnTo>
                <a:lnTo>
                  <a:pt x="301797" y="1047500"/>
                </a:lnTo>
                <a:lnTo>
                  <a:pt x="295840" y="1065362"/>
                </a:lnTo>
                <a:lnTo>
                  <a:pt x="290678" y="1084019"/>
                </a:lnTo>
                <a:lnTo>
                  <a:pt x="285516" y="1102676"/>
                </a:lnTo>
                <a:lnTo>
                  <a:pt x="280751" y="1121729"/>
                </a:lnTo>
                <a:lnTo>
                  <a:pt x="276780" y="1140783"/>
                </a:lnTo>
                <a:lnTo>
                  <a:pt x="272809" y="1159440"/>
                </a:lnTo>
                <a:lnTo>
                  <a:pt x="270029" y="1178890"/>
                </a:lnTo>
                <a:lnTo>
                  <a:pt x="266852" y="1198341"/>
                </a:lnTo>
                <a:lnTo>
                  <a:pt x="264867" y="1218188"/>
                </a:lnTo>
                <a:lnTo>
                  <a:pt x="263278" y="1237639"/>
                </a:lnTo>
                <a:lnTo>
                  <a:pt x="261690" y="1257883"/>
                </a:lnTo>
                <a:lnTo>
                  <a:pt x="260896" y="1277731"/>
                </a:lnTo>
                <a:lnTo>
                  <a:pt x="260498" y="1297975"/>
                </a:lnTo>
                <a:lnTo>
                  <a:pt x="260896" y="1318220"/>
                </a:lnTo>
                <a:lnTo>
                  <a:pt x="261690" y="1338067"/>
                </a:lnTo>
                <a:lnTo>
                  <a:pt x="263278" y="1357915"/>
                </a:lnTo>
                <a:lnTo>
                  <a:pt x="264867" y="1377763"/>
                </a:lnTo>
                <a:lnTo>
                  <a:pt x="266852" y="1397213"/>
                </a:lnTo>
                <a:lnTo>
                  <a:pt x="270029" y="1416664"/>
                </a:lnTo>
                <a:lnTo>
                  <a:pt x="272809" y="1436114"/>
                </a:lnTo>
                <a:lnTo>
                  <a:pt x="276780" y="1455168"/>
                </a:lnTo>
                <a:lnTo>
                  <a:pt x="280751" y="1474222"/>
                </a:lnTo>
                <a:lnTo>
                  <a:pt x="285516" y="1493275"/>
                </a:lnTo>
                <a:lnTo>
                  <a:pt x="290678" y="1511535"/>
                </a:lnTo>
                <a:lnTo>
                  <a:pt x="295840" y="1530192"/>
                </a:lnTo>
                <a:lnTo>
                  <a:pt x="301797" y="1548452"/>
                </a:lnTo>
                <a:lnTo>
                  <a:pt x="308151" y="1566314"/>
                </a:lnTo>
                <a:lnTo>
                  <a:pt x="314901" y="1584177"/>
                </a:lnTo>
                <a:lnTo>
                  <a:pt x="322049" y="1602040"/>
                </a:lnTo>
                <a:lnTo>
                  <a:pt x="329594" y="1619109"/>
                </a:lnTo>
                <a:lnTo>
                  <a:pt x="337933" y="1636575"/>
                </a:lnTo>
                <a:lnTo>
                  <a:pt x="346272" y="1653247"/>
                </a:lnTo>
                <a:lnTo>
                  <a:pt x="355009" y="1670316"/>
                </a:lnTo>
                <a:lnTo>
                  <a:pt x="364539" y="1686591"/>
                </a:lnTo>
                <a:lnTo>
                  <a:pt x="374070" y="1703262"/>
                </a:lnTo>
                <a:lnTo>
                  <a:pt x="383997" y="1719140"/>
                </a:lnTo>
                <a:lnTo>
                  <a:pt x="394322" y="1734622"/>
                </a:lnTo>
                <a:lnTo>
                  <a:pt x="405441" y="1750500"/>
                </a:lnTo>
                <a:lnTo>
                  <a:pt x="416162" y="1765584"/>
                </a:lnTo>
                <a:lnTo>
                  <a:pt x="427678" y="1780271"/>
                </a:lnTo>
                <a:lnTo>
                  <a:pt x="439591" y="1794958"/>
                </a:lnTo>
                <a:lnTo>
                  <a:pt x="451504" y="1809248"/>
                </a:lnTo>
                <a:lnTo>
                  <a:pt x="464212" y="1823142"/>
                </a:lnTo>
                <a:lnTo>
                  <a:pt x="476919" y="1837035"/>
                </a:lnTo>
                <a:lnTo>
                  <a:pt x="490023" y="1850531"/>
                </a:lnTo>
                <a:lnTo>
                  <a:pt x="503525" y="1863631"/>
                </a:lnTo>
                <a:lnTo>
                  <a:pt x="517026" y="1876333"/>
                </a:lnTo>
                <a:lnTo>
                  <a:pt x="531322" y="1889035"/>
                </a:lnTo>
                <a:lnTo>
                  <a:pt x="545617" y="1900944"/>
                </a:lnTo>
                <a:lnTo>
                  <a:pt x="559913" y="1912852"/>
                </a:lnTo>
                <a:lnTo>
                  <a:pt x="575400" y="1923967"/>
                </a:lnTo>
                <a:lnTo>
                  <a:pt x="590490" y="1935479"/>
                </a:lnTo>
                <a:lnTo>
                  <a:pt x="605977" y="1945799"/>
                </a:lnTo>
                <a:lnTo>
                  <a:pt x="621861" y="1956517"/>
                </a:lnTo>
                <a:lnTo>
                  <a:pt x="637745" y="1966044"/>
                </a:lnTo>
                <a:lnTo>
                  <a:pt x="653630" y="1975968"/>
                </a:lnTo>
                <a:lnTo>
                  <a:pt x="670308" y="1985097"/>
                </a:lnTo>
                <a:lnTo>
                  <a:pt x="686986" y="1994227"/>
                </a:lnTo>
                <a:lnTo>
                  <a:pt x="704061" y="2002563"/>
                </a:lnTo>
                <a:lnTo>
                  <a:pt x="721137" y="2010502"/>
                </a:lnTo>
                <a:lnTo>
                  <a:pt x="738609" y="2018044"/>
                </a:lnTo>
                <a:lnTo>
                  <a:pt x="756082" y="2025189"/>
                </a:lnTo>
                <a:lnTo>
                  <a:pt x="774348" y="2032335"/>
                </a:lnTo>
                <a:lnTo>
                  <a:pt x="792218" y="2038686"/>
                </a:lnTo>
                <a:lnTo>
                  <a:pt x="810485" y="2044640"/>
                </a:lnTo>
                <a:lnTo>
                  <a:pt x="829148" y="2050197"/>
                </a:lnTo>
                <a:lnTo>
                  <a:pt x="847812" y="2055358"/>
                </a:lnTo>
                <a:lnTo>
                  <a:pt x="866476" y="2059724"/>
                </a:lnTo>
                <a:lnTo>
                  <a:pt x="885140" y="2064091"/>
                </a:lnTo>
                <a:lnTo>
                  <a:pt x="904598" y="2067266"/>
                </a:lnTo>
                <a:lnTo>
                  <a:pt x="924056" y="2070839"/>
                </a:lnTo>
                <a:lnTo>
                  <a:pt x="943514" y="2073220"/>
                </a:lnTo>
                <a:lnTo>
                  <a:pt x="962972" y="2075999"/>
                </a:lnTo>
                <a:lnTo>
                  <a:pt x="982827" y="2077587"/>
                </a:lnTo>
                <a:lnTo>
                  <a:pt x="1002682" y="2078778"/>
                </a:lnTo>
                <a:lnTo>
                  <a:pt x="1022934" y="2079572"/>
                </a:lnTo>
                <a:lnTo>
                  <a:pt x="1043186" y="2079572"/>
                </a:lnTo>
                <a:lnTo>
                  <a:pt x="1063041" y="2079572"/>
                </a:lnTo>
                <a:lnTo>
                  <a:pt x="1083293" y="2078778"/>
                </a:lnTo>
                <a:lnTo>
                  <a:pt x="1103148" y="2077587"/>
                </a:lnTo>
                <a:lnTo>
                  <a:pt x="1122606" y="2075999"/>
                </a:lnTo>
                <a:lnTo>
                  <a:pt x="1142064" y="2073220"/>
                </a:lnTo>
                <a:lnTo>
                  <a:pt x="1161919" y="2070839"/>
                </a:lnTo>
                <a:lnTo>
                  <a:pt x="1180980" y="2067266"/>
                </a:lnTo>
                <a:lnTo>
                  <a:pt x="1200438" y="2064091"/>
                </a:lnTo>
                <a:lnTo>
                  <a:pt x="1219499" y="2059724"/>
                </a:lnTo>
                <a:lnTo>
                  <a:pt x="1237766" y="2055358"/>
                </a:lnTo>
                <a:lnTo>
                  <a:pt x="1256827" y="2050197"/>
                </a:lnTo>
                <a:lnTo>
                  <a:pt x="1275093" y="2044640"/>
                </a:lnTo>
                <a:lnTo>
                  <a:pt x="1293757" y="2038686"/>
                </a:lnTo>
                <a:lnTo>
                  <a:pt x="1311627" y="2032335"/>
                </a:lnTo>
                <a:lnTo>
                  <a:pt x="1329496" y="2025189"/>
                </a:lnTo>
                <a:lnTo>
                  <a:pt x="1347366" y="2018044"/>
                </a:lnTo>
                <a:lnTo>
                  <a:pt x="1364441" y="2010502"/>
                </a:lnTo>
                <a:lnTo>
                  <a:pt x="1381914" y="2002563"/>
                </a:lnTo>
                <a:lnTo>
                  <a:pt x="1398592" y="1994227"/>
                </a:lnTo>
                <a:lnTo>
                  <a:pt x="1415667" y="1985097"/>
                </a:lnTo>
                <a:lnTo>
                  <a:pt x="1431949" y="1975968"/>
                </a:lnTo>
                <a:lnTo>
                  <a:pt x="1447833" y="1966044"/>
                </a:lnTo>
                <a:lnTo>
                  <a:pt x="1464114" y="1956517"/>
                </a:lnTo>
                <a:lnTo>
                  <a:pt x="1479998" y="1945799"/>
                </a:lnTo>
                <a:lnTo>
                  <a:pt x="1495088" y="1935479"/>
                </a:lnTo>
                <a:lnTo>
                  <a:pt x="1510575" y="1923967"/>
                </a:lnTo>
                <a:lnTo>
                  <a:pt x="1525665" y="1912852"/>
                </a:lnTo>
                <a:lnTo>
                  <a:pt x="1539960" y="1900944"/>
                </a:lnTo>
                <a:lnTo>
                  <a:pt x="1554256" y="1889035"/>
                </a:lnTo>
                <a:lnTo>
                  <a:pt x="1568551" y="1876333"/>
                </a:lnTo>
                <a:lnTo>
                  <a:pt x="1582053" y="1863631"/>
                </a:lnTo>
                <a:lnTo>
                  <a:pt x="1595555" y="1850531"/>
                </a:lnTo>
                <a:lnTo>
                  <a:pt x="1608659" y="1837035"/>
                </a:lnTo>
                <a:lnTo>
                  <a:pt x="1621763" y="1823142"/>
                </a:lnTo>
                <a:lnTo>
                  <a:pt x="1634073" y="1809248"/>
                </a:lnTo>
                <a:lnTo>
                  <a:pt x="1646383" y="1794958"/>
                </a:lnTo>
                <a:lnTo>
                  <a:pt x="1657899" y="1780271"/>
                </a:lnTo>
                <a:lnTo>
                  <a:pt x="1669415" y="1765584"/>
                </a:lnTo>
                <a:lnTo>
                  <a:pt x="1680534" y="1750500"/>
                </a:lnTo>
                <a:lnTo>
                  <a:pt x="1691256" y="1734622"/>
                </a:lnTo>
                <a:lnTo>
                  <a:pt x="1701581" y="1719140"/>
                </a:lnTo>
                <a:lnTo>
                  <a:pt x="1711508" y="1703262"/>
                </a:lnTo>
                <a:lnTo>
                  <a:pt x="1721436" y="1686591"/>
                </a:lnTo>
                <a:lnTo>
                  <a:pt x="1730569" y="1670316"/>
                </a:lnTo>
                <a:lnTo>
                  <a:pt x="1739305" y="1653247"/>
                </a:lnTo>
                <a:lnTo>
                  <a:pt x="1748041" y="1636575"/>
                </a:lnTo>
                <a:lnTo>
                  <a:pt x="1755983" y="1619109"/>
                </a:lnTo>
                <a:lnTo>
                  <a:pt x="1763529" y="1602040"/>
                </a:lnTo>
                <a:lnTo>
                  <a:pt x="1770676" y="1584177"/>
                </a:lnTo>
                <a:lnTo>
                  <a:pt x="1777427" y="1566314"/>
                </a:lnTo>
                <a:lnTo>
                  <a:pt x="1783781" y="1548452"/>
                </a:lnTo>
                <a:lnTo>
                  <a:pt x="1789737" y="1530192"/>
                </a:lnTo>
                <a:lnTo>
                  <a:pt x="1795694" y="1511535"/>
                </a:lnTo>
                <a:lnTo>
                  <a:pt x="1800459" y="1493275"/>
                </a:lnTo>
                <a:lnTo>
                  <a:pt x="1804827" y="1474222"/>
                </a:lnTo>
                <a:lnTo>
                  <a:pt x="1809195" y="1455168"/>
                </a:lnTo>
                <a:lnTo>
                  <a:pt x="1812769" y="1436114"/>
                </a:lnTo>
                <a:lnTo>
                  <a:pt x="1816343" y="1416664"/>
                </a:lnTo>
                <a:lnTo>
                  <a:pt x="1818726" y="1397213"/>
                </a:lnTo>
                <a:lnTo>
                  <a:pt x="1820711" y="1377763"/>
                </a:lnTo>
                <a:lnTo>
                  <a:pt x="1823094" y="1357915"/>
                </a:lnTo>
                <a:lnTo>
                  <a:pt x="1824285" y="1338067"/>
                </a:lnTo>
                <a:lnTo>
                  <a:pt x="1824682" y="1318220"/>
                </a:lnTo>
                <a:lnTo>
                  <a:pt x="1825079" y="1297975"/>
                </a:lnTo>
                <a:lnTo>
                  <a:pt x="1824682" y="1277731"/>
                </a:lnTo>
                <a:lnTo>
                  <a:pt x="1824285" y="1257883"/>
                </a:lnTo>
                <a:lnTo>
                  <a:pt x="1823094" y="1237639"/>
                </a:lnTo>
                <a:lnTo>
                  <a:pt x="1820711" y="1218188"/>
                </a:lnTo>
                <a:lnTo>
                  <a:pt x="1818726" y="1198341"/>
                </a:lnTo>
                <a:lnTo>
                  <a:pt x="1816343" y="1178890"/>
                </a:lnTo>
                <a:lnTo>
                  <a:pt x="1812769" y="1159440"/>
                </a:lnTo>
                <a:lnTo>
                  <a:pt x="1809195" y="1140783"/>
                </a:lnTo>
                <a:lnTo>
                  <a:pt x="1804827" y="1121729"/>
                </a:lnTo>
                <a:lnTo>
                  <a:pt x="1800459" y="1102676"/>
                </a:lnTo>
                <a:lnTo>
                  <a:pt x="1795694" y="1084019"/>
                </a:lnTo>
                <a:lnTo>
                  <a:pt x="1789737" y="1065362"/>
                </a:lnTo>
                <a:lnTo>
                  <a:pt x="1783781" y="1047500"/>
                </a:lnTo>
                <a:lnTo>
                  <a:pt x="1777427" y="1029240"/>
                </a:lnTo>
                <a:lnTo>
                  <a:pt x="1770676" y="1011377"/>
                </a:lnTo>
                <a:lnTo>
                  <a:pt x="1763529" y="993911"/>
                </a:lnTo>
                <a:lnTo>
                  <a:pt x="1755983" y="976048"/>
                </a:lnTo>
                <a:lnTo>
                  <a:pt x="1748041" y="959377"/>
                </a:lnTo>
                <a:lnTo>
                  <a:pt x="1739305" y="941911"/>
                </a:lnTo>
                <a:lnTo>
                  <a:pt x="1730569" y="925636"/>
                </a:lnTo>
                <a:lnTo>
                  <a:pt x="1721436" y="908964"/>
                </a:lnTo>
                <a:lnTo>
                  <a:pt x="1711508" y="892689"/>
                </a:lnTo>
                <a:lnTo>
                  <a:pt x="1701581" y="876811"/>
                </a:lnTo>
                <a:lnTo>
                  <a:pt x="1691256" y="860933"/>
                </a:lnTo>
                <a:lnTo>
                  <a:pt x="1680534" y="845452"/>
                </a:lnTo>
                <a:lnTo>
                  <a:pt x="1669415" y="830368"/>
                </a:lnTo>
                <a:lnTo>
                  <a:pt x="1657899" y="815680"/>
                </a:lnTo>
                <a:lnTo>
                  <a:pt x="1646383" y="800596"/>
                </a:lnTo>
                <a:lnTo>
                  <a:pt x="1634073" y="786306"/>
                </a:lnTo>
                <a:lnTo>
                  <a:pt x="1621763" y="772413"/>
                </a:lnTo>
                <a:lnTo>
                  <a:pt x="1608659" y="758520"/>
                </a:lnTo>
                <a:lnTo>
                  <a:pt x="1595555" y="745023"/>
                </a:lnTo>
                <a:lnTo>
                  <a:pt x="1582053" y="731924"/>
                </a:lnTo>
                <a:lnTo>
                  <a:pt x="1568551" y="719221"/>
                </a:lnTo>
                <a:lnTo>
                  <a:pt x="1554256" y="706519"/>
                </a:lnTo>
                <a:lnTo>
                  <a:pt x="1539960" y="694610"/>
                </a:lnTo>
                <a:lnTo>
                  <a:pt x="1525665" y="682702"/>
                </a:lnTo>
                <a:lnTo>
                  <a:pt x="1510575" y="671190"/>
                </a:lnTo>
                <a:lnTo>
                  <a:pt x="1495088" y="660473"/>
                </a:lnTo>
                <a:lnTo>
                  <a:pt x="1479998" y="649755"/>
                </a:lnTo>
                <a:lnTo>
                  <a:pt x="1464114" y="639037"/>
                </a:lnTo>
                <a:lnTo>
                  <a:pt x="1447833" y="629114"/>
                </a:lnTo>
                <a:lnTo>
                  <a:pt x="1431949" y="619587"/>
                </a:lnTo>
                <a:lnTo>
                  <a:pt x="1415667" y="610457"/>
                </a:lnTo>
                <a:lnTo>
                  <a:pt x="1398592" y="601724"/>
                </a:lnTo>
                <a:lnTo>
                  <a:pt x="1381914" y="593388"/>
                </a:lnTo>
                <a:lnTo>
                  <a:pt x="1364441" y="585449"/>
                </a:lnTo>
                <a:lnTo>
                  <a:pt x="1347366" y="577113"/>
                </a:lnTo>
                <a:lnTo>
                  <a:pt x="1329496" y="569968"/>
                </a:lnTo>
                <a:lnTo>
                  <a:pt x="1311627" y="563220"/>
                </a:lnTo>
                <a:lnTo>
                  <a:pt x="1293757" y="556869"/>
                </a:lnTo>
                <a:lnTo>
                  <a:pt x="1275093" y="550914"/>
                </a:lnTo>
                <a:lnTo>
                  <a:pt x="1256827" y="545754"/>
                </a:lnTo>
                <a:lnTo>
                  <a:pt x="1237766" y="540594"/>
                </a:lnTo>
                <a:lnTo>
                  <a:pt x="1219499" y="535830"/>
                </a:lnTo>
                <a:lnTo>
                  <a:pt x="1200438" y="531861"/>
                </a:lnTo>
                <a:lnTo>
                  <a:pt x="1180980" y="527891"/>
                </a:lnTo>
                <a:lnTo>
                  <a:pt x="1161919" y="525113"/>
                </a:lnTo>
                <a:lnTo>
                  <a:pt x="1142064" y="521937"/>
                </a:lnTo>
                <a:lnTo>
                  <a:pt x="1122606" y="519952"/>
                </a:lnTo>
                <a:lnTo>
                  <a:pt x="1103148" y="518364"/>
                </a:lnTo>
                <a:lnTo>
                  <a:pt x="1083293" y="516777"/>
                </a:lnTo>
                <a:lnTo>
                  <a:pt x="1063041" y="515983"/>
                </a:lnTo>
                <a:lnTo>
                  <a:pt x="1043186" y="515586"/>
                </a:lnTo>
                <a:close/>
                <a:moveTo>
                  <a:pt x="803734" y="280988"/>
                </a:moveTo>
                <a:lnTo>
                  <a:pt x="862902" y="391340"/>
                </a:lnTo>
                <a:lnTo>
                  <a:pt x="884743" y="387371"/>
                </a:lnTo>
                <a:lnTo>
                  <a:pt x="906980" y="383798"/>
                </a:lnTo>
                <a:lnTo>
                  <a:pt x="929218" y="380622"/>
                </a:lnTo>
                <a:lnTo>
                  <a:pt x="951456" y="378241"/>
                </a:lnTo>
                <a:lnTo>
                  <a:pt x="974488" y="376256"/>
                </a:lnTo>
                <a:lnTo>
                  <a:pt x="997122" y="374668"/>
                </a:lnTo>
                <a:lnTo>
                  <a:pt x="1019757" y="373874"/>
                </a:lnTo>
                <a:lnTo>
                  <a:pt x="1043186" y="373477"/>
                </a:lnTo>
                <a:lnTo>
                  <a:pt x="1059865" y="373874"/>
                </a:lnTo>
                <a:lnTo>
                  <a:pt x="1076940" y="374271"/>
                </a:lnTo>
                <a:lnTo>
                  <a:pt x="1093618" y="375462"/>
                </a:lnTo>
                <a:lnTo>
                  <a:pt x="1110693" y="376256"/>
                </a:lnTo>
                <a:lnTo>
                  <a:pt x="1127372" y="377844"/>
                </a:lnTo>
                <a:lnTo>
                  <a:pt x="1144050" y="379432"/>
                </a:lnTo>
                <a:lnTo>
                  <a:pt x="1160331" y="381019"/>
                </a:lnTo>
                <a:lnTo>
                  <a:pt x="1176612" y="383798"/>
                </a:lnTo>
                <a:lnTo>
                  <a:pt x="1193291" y="386180"/>
                </a:lnTo>
                <a:lnTo>
                  <a:pt x="1209572" y="388958"/>
                </a:lnTo>
                <a:lnTo>
                  <a:pt x="1225853" y="392134"/>
                </a:lnTo>
                <a:lnTo>
                  <a:pt x="1241737" y="395310"/>
                </a:lnTo>
                <a:lnTo>
                  <a:pt x="1257621" y="399279"/>
                </a:lnTo>
                <a:lnTo>
                  <a:pt x="1273505" y="403249"/>
                </a:lnTo>
                <a:lnTo>
                  <a:pt x="1289389" y="407218"/>
                </a:lnTo>
                <a:lnTo>
                  <a:pt x="1304876" y="411982"/>
                </a:lnTo>
                <a:lnTo>
                  <a:pt x="1370398" y="304805"/>
                </a:lnTo>
                <a:lnTo>
                  <a:pt x="1611439" y="417142"/>
                </a:lnTo>
                <a:lnTo>
                  <a:pt x="1570140" y="539800"/>
                </a:lnTo>
                <a:lnTo>
                  <a:pt x="1592775" y="555678"/>
                </a:lnTo>
                <a:lnTo>
                  <a:pt x="1614615" y="572747"/>
                </a:lnTo>
                <a:lnTo>
                  <a:pt x="1636059" y="589815"/>
                </a:lnTo>
                <a:lnTo>
                  <a:pt x="1656708" y="608075"/>
                </a:lnTo>
                <a:lnTo>
                  <a:pt x="1676960" y="626732"/>
                </a:lnTo>
                <a:lnTo>
                  <a:pt x="1696815" y="645389"/>
                </a:lnTo>
                <a:lnTo>
                  <a:pt x="1715876" y="665236"/>
                </a:lnTo>
                <a:lnTo>
                  <a:pt x="1734540" y="685481"/>
                </a:lnTo>
                <a:lnTo>
                  <a:pt x="1752410" y="706519"/>
                </a:lnTo>
                <a:lnTo>
                  <a:pt x="1769882" y="728351"/>
                </a:lnTo>
                <a:lnTo>
                  <a:pt x="1786560" y="750184"/>
                </a:lnTo>
                <a:lnTo>
                  <a:pt x="1802841" y="772413"/>
                </a:lnTo>
                <a:lnTo>
                  <a:pt x="1818329" y="795436"/>
                </a:lnTo>
                <a:lnTo>
                  <a:pt x="1832624" y="818856"/>
                </a:lnTo>
                <a:lnTo>
                  <a:pt x="1846920" y="842673"/>
                </a:lnTo>
                <a:lnTo>
                  <a:pt x="1860024" y="866887"/>
                </a:lnTo>
                <a:lnTo>
                  <a:pt x="1994642" y="834337"/>
                </a:lnTo>
                <a:lnTo>
                  <a:pt x="2085975" y="1084019"/>
                </a:lnTo>
                <a:lnTo>
                  <a:pt x="1954931" y="1149516"/>
                </a:lnTo>
                <a:lnTo>
                  <a:pt x="1958108" y="1167776"/>
                </a:lnTo>
                <a:lnTo>
                  <a:pt x="1960491" y="1185638"/>
                </a:lnTo>
                <a:lnTo>
                  <a:pt x="1962476" y="1204295"/>
                </a:lnTo>
                <a:lnTo>
                  <a:pt x="1964462" y="1222952"/>
                </a:lnTo>
                <a:lnTo>
                  <a:pt x="1965653" y="1241212"/>
                </a:lnTo>
                <a:lnTo>
                  <a:pt x="1966447" y="1259868"/>
                </a:lnTo>
                <a:lnTo>
                  <a:pt x="1967242" y="1278922"/>
                </a:lnTo>
                <a:lnTo>
                  <a:pt x="1967242" y="1297975"/>
                </a:lnTo>
                <a:lnTo>
                  <a:pt x="1967242" y="1315441"/>
                </a:lnTo>
                <a:lnTo>
                  <a:pt x="1966845" y="1332907"/>
                </a:lnTo>
                <a:lnTo>
                  <a:pt x="1966050" y="1349976"/>
                </a:lnTo>
                <a:lnTo>
                  <a:pt x="1964859" y="1367839"/>
                </a:lnTo>
                <a:lnTo>
                  <a:pt x="1962873" y="1385305"/>
                </a:lnTo>
                <a:lnTo>
                  <a:pt x="1961285" y="1401977"/>
                </a:lnTo>
                <a:lnTo>
                  <a:pt x="1959300" y="1419442"/>
                </a:lnTo>
                <a:lnTo>
                  <a:pt x="1957314" y="1436114"/>
                </a:lnTo>
                <a:lnTo>
                  <a:pt x="1954137" y="1453183"/>
                </a:lnTo>
                <a:lnTo>
                  <a:pt x="1951357" y="1469855"/>
                </a:lnTo>
                <a:lnTo>
                  <a:pt x="1947784" y="1486527"/>
                </a:lnTo>
                <a:lnTo>
                  <a:pt x="1944210" y="1503199"/>
                </a:lnTo>
                <a:lnTo>
                  <a:pt x="1940239" y="1519871"/>
                </a:lnTo>
                <a:lnTo>
                  <a:pt x="1935871" y="1535749"/>
                </a:lnTo>
                <a:lnTo>
                  <a:pt x="1931899" y="1552024"/>
                </a:lnTo>
                <a:lnTo>
                  <a:pt x="1926737" y="1568299"/>
                </a:lnTo>
                <a:lnTo>
                  <a:pt x="2061355" y="1650468"/>
                </a:lnTo>
                <a:lnTo>
                  <a:pt x="1949372" y="1891020"/>
                </a:lnTo>
                <a:lnTo>
                  <a:pt x="1791723" y="1838623"/>
                </a:lnTo>
                <a:lnTo>
                  <a:pt x="1776633" y="1859264"/>
                </a:lnTo>
                <a:lnTo>
                  <a:pt x="1761146" y="1879112"/>
                </a:lnTo>
                <a:lnTo>
                  <a:pt x="1744468" y="1898165"/>
                </a:lnTo>
                <a:lnTo>
                  <a:pt x="1728186" y="1917219"/>
                </a:lnTo>
                <a:lnTo>
                  <a:pt x="1710714" y="1935876"/>
                </a:lnTo>
                <a:lnTo>
                  <a:pt x="1693241" y="1954135"/>
                </a:lnTo>
                <a:lnTo>
                  <a:pt x="1674975" y="1971204"/>
                </a:lnTo>
                <a:lnTo>
                  <a:pt x="1655914" y="1988670"/>
                </a:lnTo>
                <a:lnTo>
                  <a:pt x="1636853" y="2004945"/>
                </a:lnTo>
                <a:lnTo>
                  <a:pt x="1616998" y="2021220"/>
                </a:lnTo>
                <a:lnTo>
                  <a:pt x="1597143" y="2036701"/>
                </a:lnTo>
                <a:lnTo>
                  <a:pt x="1576494" y="2051388"/>
                </a:lnTo>
                <a:lnTo>
                  <a:pt x="1555844" y="2066075"/>
                </a:lnTo>
                <a:lnTo>
                  <a:pt x="1534401" y="2079572"/>
                </a:lnTo>
                <a:lnTo>
                  <a:pt x="1512957" y="2093068"/>
                </a:lnTo>
                <a:lnTo>
                  <a:pt x="1491117" y="2105770"/>
                </a:lnTo>
                <a:lnTo>
                  <a:pt x="1531621" y="2274474"/>
                </a:lnTo>
                <a:lnTo>
                  <a:pt x="1281844" y="2365376"/>
                </a:lnTo>
                <a:lnTo>
                  <a:pt x="1202821" y="2207787"/>
                </a:lnTo>
                <a:lnTo>
                  <a:pt x="1183363" y="2210962"/>
                </a:lnTo>
                <a:lnTo>
                  <a:pt x="1163508" y="2213741"/>
                </a:lnTo>
                <a:lnTo>
                  <a:pt x="1144050" y="2216123"/>
                </a:lnTo>
                <a:lnTo>
                  <a:pt x="1124195" y="2218504"/>
                </a:lnTo>
                <a:lnTo>
                  <a:pt x="1103943" y="2219695"/>
                </a:lnTo>
                <a:lnTo>
                  <a:pt x="1083690" y="2220886"/>
                </a:lnTo>
                <a:lnTo>
                  <a:pt x="1063438" y="2221680"/>
                </a:lnTo>
                <a:lnTo>
                  <a:pt x="1043186" y="2221680"/>
                </a:lnTo>
                <a:lnTo>
                  <a:pt x="1013007" y="2221283"/>
                </a:lnTo>
                <a:lnTo>
                  <a:pt x="983224" y="2220092"/>
                </a:lnTo>
                <a:lnTo>
                  <a:pt x="954235" y="2217711"/>
                </a:lnTo>
                <a:lnTo>
                  <a:pt x="924850" y="2214535"/>
                </a:lnTo>
                <a:lnTo>
                  <a:pt x="895862" y="2210565"/>
                </a:lnTo>
                <a:lnTo>
                  <a:pt x="867270" y="2205405"/>
                </a:lnTo>
                <a:lnTo>
                  <a:pt x="839076" y="2199451"/>
                </a:lnTo>
                <a:lnTo>
                  <a:pt x="810882" y="2192703"/>
                </a:lnTo>
                <a:lnTo>
                  <a:pt x="715180" y="2341162"/>
                </a:lnTo>
                <a:lnTo>
                  <a:pt x="474536" y="2229222"/>
                </a:lnTo>
                <a:lnTo>
                  <a:pt x="524968" y="2062900"/>
                </a:lnTo>
                <a:lnTo>
                  <a:pt x="504716" y="2049006"/>
                </a:lnTo>
                <a:lnTo>
                  <a:pt x="484464" y="2033525"/>
                </a:lnTo>
                <a:lnTo>
                  <a:pt x="465006" y="2018441"/>
                </a:lnTo>
                <a:lnTo>
                  <a:pt x="445945" y="2002960"/>
                </a:lnTo>
                <a:lnTo>
                  <a:pt x="427281" y="1986288"/>
                </a:lnTo>
                <a:lnTo>
                  <a:pt x="408617" y="1969616"/>
                </a:lnTo>
                <a:lnTo>
                  <a:pt x="390748" y="1952151"/>
                </a:lnTo>
                <a:lnTo>
                  <a:pt x="373672" y="1934685"/>
                </a:lnTo>
                <a:lnTo>
                  <a:pt x="356597" y="1916028"/>
                </a:lnTo>
                <a:lnTo>
                  <a:pt x="340316" y="1897371"/>
                </a:lnTo>
                <a:lnTo>
                  <a:pt x="324432" y="1878715"/>
                </a:lnTo>
                <a:lnTo>
                  <a:pt x="308548" y="1858867"/>
                </a:lnTo>
                <a:lnTo>
                  <a:pt x="293855" y="1839020"/>
                </a:lnTo>
                <a:lnTo>
                  <a:pt x="279559" y="1818775"/>
                </a:lnTo>
                <a:lnTo>
                  <a:pt x="265661" y="1797737"/>
                </a:lnTo>
                <a:lnTo>
                  <a:pt x="252556" y="1776301"/>
                </a:lnTo>
                <a:lnTo>
                  <a:pt x="91333" y="1811630"/>
                </a:lnTo>
                <a:lnTo>
                  <a:pt x="0" y="1562345"/>
                </a:lnTo>
                <a:lnTo>
                  <a:pt x="138191" y="1488512"/>
                </a:lnTo>
                <a:lnTo>
                  <a:pt x="133426" y="1465092"/>
                </a:lnTo>
                <a:lnTo>
                  <a:pt x="129852" y="1441672"/>
                </a:lnTo>
                <a:lnTo>
                  <a:pt x="126278" y="1418251"/>
                </a:lnTo>
                <a:lnTo>
                  <a:pt x="123498" y="1394434"/>
                </a:lnTo>
                <a:lnTo>
                  <a:pt x="121513" y="1370220"/>
                </a:lnTo>
                <a:lnTo>
                  <a:pt x="119527" y="1346403"/>
                </a:lnTo>
                <a:lnTo>
                  <a:pt x="118733" y="1322189"/>
                </a:lnTo>
                <a:lnTo>
                  <a:pt x="118336" y="1297975"/>
                </a:lnTo>
                <a:lnTo>
                  <a:pt x="118733" y="1269395"/>
                </a:lnTo>
                <a:lnTo>
                  <a:pt x="119924" y="1240418"/>
                </a:lnTo>
                <a:lnTo>
                  <a:pt x="122704" y="1211837"/>
                </a:lnTo>
                <a:lnTo>
                  <a:pt x="125484" y="1184051"/>
                </a:lnTo>
                <a:lnTo>
                  <a:pt x="129455" y="1155867"/>
                </a:lnTo>
                <a:lnTo>
                  <a:pt x="134220" y="1128478"/>
                </a:lnTo>
                <a:lnTo>
                  <a:pt x="139780" y="1101088"/>
                </a:lnTo>
                <a:lnTo>
                  <a:pt x="146133" y="1074095"/>
                </a:lnTo>
                <a:lnTo>
                  <a:pt x="24223" y="995896"/>
                </a:lnTo>
                <a:lnTo>
                  <a:pt x="136603" y="755344"/>
                </a:lnTo>
                <a:lnTo>
                  <a:pt x="268043" y="794642"/>
                </a:lnTo>
                <a:lnTo>
                  <a:pt x="283530" y="772016"/>
                </a:lnTo>
                <a:lnTo>
                  <a:pt x="299017" y="750184"/>
                </a:lnTo>
                <a:lnTo>
                  <a:pt x="315696" y="728351"/>
                </a:lnTo>
                <a:lnTo>
                  <a:pt x="332771" y="707313"/>
                </a:lnTo>
                <a:lnTo>
                  <a:pt x="350243" y="686274"/>
                </a:lnTo>
                <a:lnTo>
                  <a:pt x="368907" y="666824"/>
                </a:lnTo>
                <a:lnTo>
                  <a:pt x="387571" y="646976"/>
                </a:lnTo>
                <a:lnTo>
                  <a:pt x="407426" y="627923"/>
                </a:lnTo>
                <a:lnTo>
                  <a:pt x="427281" y="609266"/>
                </a:lnTo>
                <a:lnTo>
                  <a:pt x="447930" y="591403"/>
                </a:lnTo>
                <a:lnTo>
                  <a:pt x="468977" y="574334"/>
                </a:lnTo>
                <a:lnTo>
                  <a:pt x="490420" y="557662"/>
                </a:lnTo>
                <a:lnTo>
                  <a:pt x="512261" y="541784"/>
                </a:lnTo>
                <a:lnTo>
                  <a:pt x="535293" y="526303"/>
                </a:lnTo>
                <a:lnTo>
                  <a:pt x="557928" y="511616"/>
                </a:lnTo>
                <a:lnTo>
                  <a:pt x="581754" y="497723"/>
                </a:lnTo>
                <a:lnTo>
                  <a:pt x="554354" y="371890"/>
                </a:lnTo>
                <a:lnTo>
                  <a:pt x="803734" y="280988"/>
                </a:lnTo>
                <a:close/>
                <a:moveTo>
                  <a:pt x="2013752" y="186531"/>
                </a:moveTo>
                <a:lnTo>
                  <a:pt x="2001871" y="186928"/>
                </a:lnTo>
                <a:lnTo>
                  <a:pt x="1989594" y="188119"/>
                </a:lnTo>
                <a:lnTo>
                  <a:pt x="1978109" y="190103"/>
                </a:lnTo>
                <a:lnTo>
                  <a:pt x="1966624" y="192881"/>
                </a:lnTo>
                <a:lnTo>
                  <a:pt x="1955139" y="196453"/>
                </a:lnTo>
                <a:lnTo>
                  <a:pt x="1944050" y="200819"/>
                </a:lnTo>
                <a:lnTo>
                  <a:pt x="1932962" y="205978"/>
                </a:lnTo>
                <a:lnTo>
                  <a:pt x="1922269" y="211534"/>
                </a:lnTo>
                <a:lnTo>
                  <a:pt x="1914348" y="216297"/>
                </a:lnTo>
                <a:lnTo>
                  <a:pt x="1906823" y="221853"/>
                </a:lnTo>
                <a:lnTo>
                  <a:pt x="1899695" y="227409"/>
                </a:lnTo>
                <a:lnTo>
                  <a:pt x="1892962" y="233363"/>
                </a:lnTo>
                <a:lnTo>
                  <a:pt x="1886230" y="239713"/>
                </a:lnTo>
                <a:lnTo>
                  <a:pt x="1880289" y="246063"/>
                </a:lnTo>
                <a:lnTo>
                  <a:pt x="1874349" y="252809"/>
                </a:lnTo>
                <a:lnTo>
                  <a:pt x="1869200" y="259953"/>
                </a:lnTo>
                <a:lnTo>
                  <a:pt x="1864052" y="267097"/>
                </a:lnTo>
                <a:lnTo>
                  <a:pt x="1859300" y="274241"/>
                </a:lnTo>
                <a:lnTo>
                  <a:pt x="1855339" y="281781"/>
                </a:lnTo>
                <a:lnTo>
                  <a:pt x="1850983" y="289719"/>
                </a:lnTo>
                <a:lnTo>
                  <a:pt x="1847419" y="297656"/>
                </a:lnTo>
                <a:lnTo>
                  <a:pt x="1844646" y="305594"/>
                </a:lnTo>
                <a:lnTo>
                  <a:pt x="1841874" y="313928"/>
                </a:lnTo>
                <a:lnTo>
                  <a:pt x="1839102" y="322263"/>
                </a:lnTo>
                <a:lnTo>
                  <a:pt x="1837518" y="330597"/>
                </a:lnTo>
                <a:lnTo>
                  <a:pt x="1835934" y="339328"/>
                </a:lnTo>
                <a:lnTo>
                  <a:pt x="1834350" y="348059"/>
                </a:lnTo>
                <a:lnTo>
                  <a:pt x="1833557" y="356791"/>
                </a:lnTo>
                <a:lnTo>
                  <a:pt x="1833557" y="365125"/>
                </a:lnTo>
                <a:lnTo>
                  <a:pt x="1833557" y="373856"/>
                </a:lnTo>
                <a:lnTo>
                  <a:pt x="1833953" y="382984"/>
                </a:lnTo>
                <a:lnTo>
                  <a:pt x="1835142" y="391716"/>
                </a:lnTo>
                <a:lnTo>
                  <a:pt x="1836726" y="400050"/>
                </a:lnTo>
                <a:lnTo>
                  <a:pt x="1838310" y="409178"/>
                </a:lnTo>
                <a:lnTo>
                  <a:pt x="1840290" y="417513"/>
                </a:lnTo>
                <a:lnTo>
                  <a:pt x="1843458" y="426244"/>
                </a:lnTo>
                <a:lnTo>
                  <a:pt x="1846230" y="434578"/>
                </a:lnTo>
                <a:lnTo>
                  <a:pt x="1850191" y="443310"/>
                </a:lnTo>
                <a:lnTo>
                  <a:pt x="1853755" y="451247"/>
                </a:lnTo>
                <a:lnTo>
                  <a:pt x="1858507" y="459581"/>
                </a:lnTo>
                <a:lnTo>
                  <a:pt x="1864844" y="469503"/>
                </a:lnTo>
                <a:lnTo>
                  <a:pt x="1871973" y="479028"/>
                </a:lnTo>
                <a:lnTo>
                  <a:pt x="1879497" y="488156"/>
                </a:lnTo>
                <a:lnTo>
                  <a:pt x="1887418" y="496888"/>
                </a:lnTo>
                <a:lnTo>
                  <a:pt x="1896527" y="504428"/>
                </a:lnTo>
                <a:lnTo>
                  <a:pt x="1905239" y="511969"/>
                </a:lnTo>
                <a:lnTo>
                  <a:pt x="1914744" y="518716"/>
                </a:lnTo>
                <a:lnTo>
                  <a:pt x="1924645" y="524669"/>
                </a:lnTo>
                <a:lnTo>
                  <a:pt x="1934942" y="529828"/>
                </a:lnTo>
                <a:lnTo>
                  <a:pt x="1945635" y="534988"/>
                </a:lnTo>
                <a:lnTo>
                  <a:pt x="1956723" y="538956"/>
                </a:lnTo>
                <a:lnTo>
                  <a:pt x="1967812" y="542131"/>
                </a:lnTo>
                <a:lnTo>
                  <a:pt x="1979297" y="545306"/>
                </a:lnTo>
                <a:lnTo>
                  <a:pt x="1990782" y="546894"/>
                </a:lnTo>
                <a:lnTo>
                  <a:pt x="2002267" y="548085"/>
                </a:lnTo>
                <a:lnTo>
                  <a:pt x="2014544" y="548481"/>
                </a:lnTo>
                <a:lnTo>
                  <a:pt x="2026425" y="548085"/>
                </a:lnTo>
                <a:lnTo>
                  <a:pt x="2038306" y="546894"/>
                </a:lnTo>
                <a:lnTo>
                  <a:pt x="2049791" y="544910"/>
                </a:lnTo>
                <a:lnTo>
                  <a:pt x="2061672" y="542131"/>
                </a:lnTo>
                <a:lnTo>
                  <a:pt x="2073157" y="538560"/>
                </a:lnTo>
                <a:lnTo>
                  <a:pt x="2084246" y="534194"/>
                </a:lnTo>
                <a:lnTo>
                  <a:pt x="2095335" y="529035"/>
                </a:lnTo>
                <a:lnTo>
                  <a:pt x="2106028" y="523081"/>
                </a:lnTo>
                <a:lnTo>
                  <a:pt x="2113552" y="518716"/>
                </a:lnTo>
                <a:lnTo>
                  <a:pt x="2121077" y="513556"/>
                </a:lnTo>
                <a:lnTo>
                  <a:pt x="2128206" y="508000"/>
                </a:lnTo>
                <a:lnTo>
                  <a:pt x="2134938" y="502047"/>
                </a:lnTo>
                <a:lnTo>
                  <a:pt x="2141275" y="496491"/>
                </a:lnTo>
                <a:lnTo>
                  <a:pt x="2147215" y="490141"/>
                </a:lnTo>
                <a:lnTo>
                  <a:pt x="2153156" y="483394"/>
                </a:lnTo>
                <a:lnTo>
                  <a:pt x="2158304" y="476647"/>
                </a:lnTo>
                <a:lnTo>
                  <a:pt x="2163452" y="469503"/>
                </a:lnTo>
                <a:lnTo>
                  <a:pt x="2168601" y="461566"/>
                </a:lnTo>
                <a:lnTo>
                  <a:pt x="2172957" y="454025"/>
                </a:lnTo>
                <a:lnTo>
                  <a:pt x="2176917" y="446485"/>
                </a:lnTo>
                <a:lnTo>
                  <a:pt x="2180482" y="438150"/>
                </a:lnTo>
                <a:lnTo>
                  <a:pt x="2183650" y="430213"/>
                </a:lnTo>
                <a:lnTo>
                  <a:pt x="2186818" y="421481"/>
                </a:lnTo>
                <a:lnTo>
                  <a:pt x="2189195" y="412750"/>
                </a:lnTo>
                <a:lnTo>
                  <a:pt x="2191175" y="404019"/>
                </a:lnTo>
                <a:lnTo>
                  <a:pt x="2192363" y="395288"/>
                </a:lnTo>
                <a:lnTo>
                  <a:pt x="2193947" y="386159"/>
                </a:lnTo>
                <a:lnTo>
                  <a:pt x="2194739" y="377428"/>
                </a:lnTo>
                <a:lnTo>
                  <a:pt x="2194739" y="368697"/>
                </a:lnTo>
                <a:lnTo>
                  <a:pt x="2194739" y="359569"/>
                </a:lnTo>
                <a:lnTo>
                  <a:pt x="2194343" y="351234"/>
                </a:lnTo>
                <a:lnTo>
                  <a:pt x="2192759" y="342503"/>
                </a:lnTo>
                <a:lnTo>
                  <a:pt x="2191571" y="333375"/>
                </a:lnTo>
                <a:lnTo>
                  <a:pt x="2189591" y="325041"/>
                </a:lnTo>
                <a:lnTo>
                  <a:pt x="2187610" y="316706"/>
                </a:lnTo>
                <a:lnTo>
                  <a:pt x="2184838" y="308372"/>
                </a:lnTo>
                <a:lnTo>
                  <a:pt x="2181670" y="299641"/>
                </a:lnTo>
                <a:lnTo>
                  <a:pt x="2178106" y="291703"/>
                </a:lnTo>
                <a:lnTo>
                  <a:pt x="2174145" y="283766"/>
                </a:lnTo>
                <a:lnTo>
                  <a:pt x="2169789" y="275828"/>
                </a:lnTo>
                <a:lnTo>
                  <a:pt x="2163452" y="265509"/>
                </a:lnTo>
                <a:lnTo>
                  <a:pt x="2156324" y="255984"/>
                </a:lnTo>
                <a:lnTo>
                  <a:pt x="2148799" y="247253"/>
                </a:lnTo>
                <a:lnTo>
                  <a:pt x="2140879" y="238522"/>
                </a:lnTo>
                <a:lnTo>
                  <a:pt x="2131770" y="230584"/>
                </a:lnTo>
                <a:lnTo>
                  <a:pt x="2123057" y="223441"/>
                </a:lnTo>
                <a:lnTo>
                  <a:pt x="2113552" y="216694"/>
                </a:lnTo>
                <a:lnTo>
                  <a:pt x="2103255" y="210344"/>
                </a:lnTo>
                <a:lnTo>
                  <a:pt x="2093355" y="204788"/>
                </a:lnTo>
                <a:lnTo>
                  <a:pt x="2082662" y="200422"/>
                </a:lnTo>
                <a:lnTo>
                  <a:pt x="2071969" y="196056"/>
                </a:lnTo>
                <a:lnTo>
                  <a:pt x="2060484" y="192881"/>
                </a:lnTo>
                <a:lnTo>
                  <a:pt x="2048999" y="190103"/>
                </a:lnTo>
                <a:lnTo>
                  <a:pt x="2037118" y="188119"/>
                </a:lnTo>
                <a:lnTo>
                  <a:pt x="2025633" y="186928"/>
                </a:lnTo>
                <a:lnTo>
                  <a:pt x="2013752" y="186531"/>
                </a:lnTo>
                <a:close/>
                <a:moveTo>
                  <a:pt x="2066028" y="0"/>
                </a:moveTo>
                <a:lnTo>
                  <a:pt x="2156324" y="23812"/>
                </a:lnTo>
                <a:lnTo>
                  <a:pt x="2146027" y="100013"/>
                </a:lnTo>
                <a:lnTo>
                  <a:pt x="2140916" y="118533"/>
                </a:lnTo>
                <a:lnTo>
                  <a:pt x="2134542" y="115094"/>
                </a:lnTo>
                <a:lnTo>
                  <a:pt x="2132671" y="114357"/>
                </a:lnTo>
                <a:lnTo>
                  <a:pt x="2132562" y="114300"/>
                </a:lnTo>
                <a:lnTo>
                  <a:pt x="2123453" y="110728"/>
                </a:lnTo>
                <a:lnTo>
                  <a:pt x="2132671" y="114357"/>
                </a:lnTo>
                <a:lnTo>
                  <a:pt x="2140879" y="118666"/>
                </a:lnTo>
                <a:lnTo>
                  <a:pt x="2140916" y="118533"/>
                </a:lnTo>
                <a:lnTo>
                  <a:pt x="2144839" y="120650"/>
                </a:lnTo>
                <a:lnTo>
                  <a:pt x="2153552" y="125413"/>
                </a:lnTo>
                <a:lnTo>
                  <a:pt x="2167413" y="133747"/>
                </a:lnTo>
                <a:lnTo>
                  <a:pt x="2174145" y="138113"/>
                </a:lnTo>
                <a:lnTo>
                  <a:pt x="2180878" y="142875"/>
                </a:lnTo>
                <a:lnTo>
                  <a:pt x="2181274" y="143272"/>
                </a:lnTo>
                <a:lnTo>
                  <a:pt x="2187610" y="148034"/>
                </a:lnTo>
                <a:lnTo>
                  <a:pt x="2193947" y="153194"/>
                </a:lnTo>
                <a:lnTo>
                  <a:pt x="2205432" y="163909"/>
                </a:lnTo>
                <a:lnTo>
                  <a:pt x="2212560" y="170656"/>
                </a:lnTo>
                <a:lnTo>
                  <a:pt x="2221273" y="180181"/>
                </a:lnTo>
                <a:lnTo>
                  <a:pt x="2226433" y="186128"/>
                </a:lnTo>
                <a:lnTo>
                  <a:pt x="2226422" y="186134"/>
                </a:lnTo>
                <a:lnTo>
                  <a:pt x="2229194" y="189309"/>
                </a:lnTo>
                <a:lnTo>
                  <a:pt x="2226433" y="186128"/>
                </a:lnTo>
                <a:lnTo>
                  <a:pt x="2244639" y="175419"/>
                </a:lnTo>
                <a:lnTo>
                  <a:pt x="2315925" y="143669"/>
                </a:lnTo>
                <a:lnTo>
                  <a:pt x="2363053" y="224234"/>
                </a:lnTo>
                <a:lnTo>
                  <a:pt x="2302064" y="270669"/>
                </a:lnTo>
                <a:lnTo>
                  <a:pt x="2280282" y="283369"/>
                </a:lnTo>
                <a:lnTo>
                  <a:pt x="2284242" y="296466"/>
                </a:lnTo>
                <a:lnTo>
                  <a:pt x="2287015" y="309166"/>
                </a:lnTo>
                <a:lnTo>
                  <a:pt x="2289787" y="322263"/>
                </a:lnTo>
                <a:lnTo>
                  <a:pt x="2291371" y="335359"/>
                </a:lnTo>
                <a:lnTo>
                  <a:pt x="2292559" y="348456"/>
                </a:lnTo>
                <a:lnTo>
                  <a:pt x="2293351" y="361553"/>
                </a:lnTo>
                <a:lnTo>
                  <a:pt x="2293351" y="374650"/>
                </a:lnTo>
                <a:lnTo>
                  <a:pt x="2292559" y="387350"/>
                </a:lnTo>
                <a:lnTo>
                  <a:pt x="2318301" y="394097"/>
                </a:lnTo>
                <a:lnTo>
                  <a:pt x="2390775" y="422275"/>
                </a:lnTo>
                <a:lnTo>
                  <a:pt x="2367409" y="512763"/>
                </a:lnTo>
                <a:lnTo>
                  <a:pt x="2291371" y="502047"/>
                </a:lnTo>
                <a:lnTo>
                  <a:pt x="2262857" y="494506"/>
                </a:lnTo>
                <a:lnTo>
                  <a:pt x="2256916" y="506016"/>
                </a:lnTo>
                <a:lnTo>
                  <a:pt x="2250183" y="517128"/>
                </a:lnTo>
                <a:lnTo>
                  <a:pt x="2243451" y="527447"/>
                </a:lnTo>
                <a:lnTo>
                  <a:pt x="2235926" y="537766"/>
                </a:lnTo>
                <a:lnTo>
                  <a:pt x="2228006" y="547688"/>
                </a:lnTo>
                <a:lnTo>
                  <a:pt x="2219293" y="557610"/>
                </a:lnTo>
                <a:lnTo>
                  <a:pt x="2210580" y="566738"/>
                </a:lnTo>
                <a:lnTo>
                  <a:pt x="2201075" y="575469"/>
                </a:lnTo>
                <a:lnTo>
                  <a:pt x="2216125" y="601266"/>
                </a:lnTo>
                <a:lnTo>
                  <a:pt x="2247807" y="671910"/>
                </a:lnTo>
                <a:lnTo>
                  <a:pt x="2167413" y="719932"/>
                </a:lnTo>
                <a:lnTo>
                  <a:pt x="2121077" y="658416"/>
                </a:lnTo>
                <a:lnTo>
                  <a:pt x="2105632" y="632222"/>
                </a:lnTo>
                <a:lnTo>
                  <a:pt x="2110780" y="629841"/>
                </a:lnTo>
                <a:lnTo>
                  <a:pt x="2115929" y="627857"/>
                </a:lnTo>
                <a:lnTo>
                  <a:pt x="2104048" y="632222"/>
                </a:lnTo>
                <a:lnTo>
                  <a:pt x="2092563" y="635794"/>
                </a:lnTo>
                <a:lnTo>
                  <a:pt x="2083058" y="638969"/>
                </a:lnTo>
                <a:lnTo>
                  <a:pt x="2067217" y="642541"/>
                </a:lnTo>
                <a:lnTo>
                  <a:pt x="2059296" y="643732"/>
                </a:lnTo>
                <a:lnTo>
                  <a:pt x="2050583" y="644922"/>
                </a:lnTo>
                <a:lnTo>
                  <a:pt x="2048999" y="644922"/>
                </a:lnTo>
                <a:lnTo>
                  <a:pt x="2033554" y="646907"/>
                </a:lnTo>
                <a:lnTo>
                  <a:pt x="2018505" y="647303"/>
                </a:lnTo>
                <a:lnTo>
                  <a:pt x="2014544" y="647700"/>
                </a:lnTo>
                <a:lnTo>
                  <a:pt x="2008208" y="647303"/>
                </a:lnTo>
                <a:lnTo>
                  <a:pt x="2002617" y="647117"/>
                </a:lnTo>
                <a:lnTo>
                  <a:pt x="1994743" y="646510"/>
                </a:lnTo>
                <a:lnTo>
                  <a:pt x="1984842" y="645716"/>
                </a:lnTo>
                <a:lnTo>
                  <a:pt x="1996327" y="646907"/>
                </a:lnTo>
                <a:lnTo>
                  <a:pt x="2002617" y="647117"/>
                </a:lnTo>
                <a:lnTo>
                  <a:pt x="2005039" y="647303"/>
                </a:lnTo>
                <a:lnTo>
                  <a:pt x="1994347" y="687785"/>
                </a:lnTo>
                <a:lnTo>
                  <a:pt x="1970189" y="747713"/>
                </a:lnTo>
                <a:lnTo>
                  <a:pt x="1879497" y="724297"/>
                </a:lnTo>
                <a:lnTo>
                  <a:pt x="1886230" y="662385"/>
                </a:lnTo>
                <a:lnTo>
                  <a:pt x="1896923" y="621507"/>
                </a:lnTo>
                <a:lnTo>
                  <a:pt x="1904447" y="625078"/>
                </a:lnTo>
                <a:lnTo>
                  <a:pt x="1893754" y="619919"/>
                </a:lnTo>
                <a:lnTo>
                  <a:pt x="1883061" y="614363"/>
                </a:lnTo>
                <a:lnTo>
                  <a:pt x="1874745" y="609997"/>
                </a:lnTo>
                <a:lnTo>
                  <a:pt x="1860884" y="601663"/>
                </a:lnTo>
                <a:lnTo>
                  <a:pt x="1854151" y="596900"/>
                </a:lnTo>
                <a:lnTo>
                  <a:pt x="1847419" y="592535"/>
                </a:lnTo>
                <a:lnTo>
                  <a:pt x="1846627" y="592138"/>
                </a:lnTo>
                <a:lnTo>
                  <a:pt x="1840290" y="586978"/>
                </a:lnTo>
                <a:lnTo>
                  <a:pt x="1834350" y="581819"/>
                </a:lnTo>
                <a:lnTo>
                  <a:pt x="1822469" y="571103"/>
                </a:lnTo>
                <a:lnTo>
                  <a:pt x="1815736" y="564356"/>
                </a:lnTo>
                <a:lnTo>
                  <a:pt x="1809516" y="557841"/>
                </a:lnTo>
                <a:lnTo>
                  <a:pt x="1805439" y="553244"/>
                </a:lnTo>
                <a:lnTo>
                  <a:pt x="1799103" y="545703"/>
                </a:lnTo>
                <a:lnTo>
                  <a:pt x="1807023" y="555228"/>
                </a:lnTo>
                <a:lnTo>
                  <a:pt x="1809516" y="557841"/>
                </a:lnTo>
                <a:lnTo>
                  <a:pt x="1811776" y="560388"/>
                </a:lnTo>
                <a:lnTo>
                  <a:pt x="1779697" y="579438"/>
                </a:lnTo>
                <a:lnTo>
                  <a:pt x="1720292" y="604044"/>
                </a:lnTo>
                <a:lnTo>
                  <a:pt x="1673164" y="523875"/>
                </a:lnTo>
                <a:lnTo>
                  <a:pt x="1721480" y="484585"/>
                </a:lnTo>
                <a:lnTo>
                  <a:pt x="1752767" y="465931"/>
                </a:lnTo>
                <a:lnTo>
                  <a:pt x="1748410" y="452835"/>
                </a:lnTo>
                <a:lnTo>
                  <a:pt x="1744450" y="439341"/>
                </a:lnTo>
                <a:lnTo>
                  <a:pt x="1741282" y="425847"/>
                </a:lnTo>
                <a:lnTo>
                  <a:pt x="1738510" y="412353"/>
                </a:lnTo>
                <a:lnTo>
                  <a:pt x="1736530" y="398860"/>
                </a:lnTo>
                <a:lnTo>
                  <a:pt x="1735737" y="385366"/>
                </a:lnTo>
                <a:lnTo>
                  <a:pt x="1734945" y="371475"/>
                </a:lnTo>
                <a:lnTo>
                  <a:pt x="1735341" y="357981"/>
                </a:lnTo>
                <a:lnTo>
                  <a:pt x="1704451" y="350441"/>
                </a:lnTo>
                <a:lnTo>
                  <a:pt x="1644650" y="325438"/>
                </a:lnTo>
                <a:lnTo>
                  <a:pt x="1668412" y="235347"/>
                </a:lnTo>
                <a:lnTo>
                  <a:pt x="1730193" y="242094"/>
                </a:lnTo>
                <a:lnTo>
                  <a:pt x="1760687" y="250031"/>
                </a:lnTo>
                <a:lnTo>
                  <a:pt x="1766628" y="237331"/>
                </a:lnTo>
                <a:lnTo>
                  <a:pt x="1773361" y="225028"/>
                </a:lnTo>
                <a:lnTo>
                  <a:pt x="1781281" y="213519"/>
                </a:lnTo>
                <a:lnTo>
                  <a:pt x="1789202" y="201613"/>
                </a:lnTo>
                <a:lnTo>
                  <a:pt x="1797915" y="190500"/>
                </a:lnTo>
                <a:lnTo>
                  <a:pt x="1807023" y="179784"/>
                </a:lnTo>
                <a:lnTo>
                  <a:pt x="1816924" y="169069"/>
                </a:lnTo>
                <a:lnTo>
                  <a:pt x="1827221" y="159544"/>
                </a:lnTo>
                <a:lnTo>
                  <a:pt x="1812964" y="135334"/>
                </a:lnTo>
                <a:lnTo>
                  <a:pt x="1788410" y="75406"/>
                </a:lnTo>
                <a:lnTo>
                  <a:pt x="1868804" y="27781"/>
                </a:lnTo>
                <a:lnTo>
                  <a:pt x="1907219" y="76994"/>
                </a:lnTo>
                <a:lnTo>
                  <a:pt x="1923061" y="102791"/>
                </a:lnTo>
                <a:lnTo>
                  <a:pt x="1917516" y="105172"/>
                </a:lnTo>
                <a:lnTo>
                  <a:pt x="1912368" y="107156"/>
                </a:lnTo>
                <a:lnTo>
                  <a:pt x="1924249" y="102791"/>
                </a:lnTo>
                <a:lnTo>
                  <a:pt x="1935734" y="99219"/>
                </a:lnTo>
                <a:lnTo>
                  <a:pt x="1945239" y="96044"/>
                </a:lnTo>
                <a:lnTo>
                  <a:pt x="1961080" y="92869"/>
                </a:lnTo>
                <a:lnTo>
                  <a:pt x="1969001" y="91281"/>
                </a:lnTo>
                <a:lnTo>
                  <a:pt x="1977317" y="89694"/>
                </a:lnTo>
                <a:lnTo>
                  <a:pt x="1979297" y="89694"/>
                </a:lnTo>
                <a:lnTo>
                  <a:pt x="1994347" y="88106"/>
                </a:lnTo>
                <a:lnTo>
                  <a:pt x="2009792" y="87709"/>
                </a:lnTo>
                <a:lnTo>
                  <a:pt x="2013752" y="87709"/>
                </a:lnTo>
                <a:lnTo>
                  <a:pt x="2019693" y="87709"/>
                </a:lnTo>
                <a:lnTo>
                  <a:pt x="2031970" y="88503"/>
                </a:lnTo>
                <a:lnTo>
                  <a:pt x="2043455" y="89297"/>
                </a:lnTo>
                <a:lnTo>
                  <a:pt x="2034346" y="88503"/>
                </a:lnTo>
                <a:lnTo>
                  <a:pt x="2038306" y="72628"/>
                </a:lnTo>
                <a:lnTo>
                  <a:pt x="206602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58" name="Group 39"/>
          <p:cNvGrpSpPr/>
          <p:nvPr/>
        </p:nvGrpSpPr>
        <p:grpSpPr>
          <a:xfrm>
            <a:off x="1224000" y="1052640"/>
            <a:ext cx="1836720" cy="1728720"/>
            <a:chOff x="1224000" y="1052640"/>
            <a:chExt cx="1836720" cy="1728720"/>
          </a:xfrm>
        </p:grpSpPr>
        <p:sp>
          <p:nvSpPr>
            <p:cNvPr id="559" name="MH_Other_1"/>
            <p:cNvSpPr/>
            <p:nvPr/>
          </p:nvSpPr>
          <p:spPr>
            <a:xfrm>
              <a:off x="1224000" y="1052640"/>
              <a:ext cx="1836720" cy="1728720"/>
            </a:xfrm>
            <a:custGeom>
              <a:avLst/>
              <a:gdLst/>
              <a:ahLst/>
              <a:rect l="l" t="t" r="r" b="b"/>
              <a:pathLst>
                <a:path w="1844621" h="1765598">
                  <a:moveTo>
                    <a:pt x="961691" y="1643760"/>
                  </a:moveTo>
                  <a:lnTo>
                    <a:pt x="964657" y="1718060"/>
                  </a:lnTo>
                  <a:lnTo>
                    <a:pt x="948083" y="1717184"/>
                  </a:lnTo>
                  <a:lnTo>
                    <a:pt x="946614" y="1717353"/>
                  </a:lnTo>
                  <a:lnTo>
                    <a:pt x="943691" y="1644103"/>
                  </a:lnTo>
                  <a:lnTo>
                    <a:pt x="961691" y="1643760"/>
                  </a:lnTo>
                  <a:close/>
                  <a:moveTo>
                    <a:pt x="875350" y="1643169"/>
                  </a:moveTo>
                  <a:lnTo>
                    <a:pt x="893299" y="1644629"/>
                  </a:lnTo>
                  <a:lnTo>
                    <a:pt x="889341" y="1723945"/>
                  </a:lnTo>
                  <a:lnTo>
                    <a:pt x="871214" y="1726031"/>
                  </a:lnTo>
                  <a:lnTo>
                    <a:pt x="875350" y="1643169"/>
                  </a:lnTo>
                  <a:close/>
                  <a:moveTo>
                    <a:pt x="1029699" y="1636826"/>
                  </a:moveTo>
                  <a:lnTo>
                    <a:pt x="1040815" y="1722087"/>
                  </a:lnTo>
                  <a:lnTo>
                    <a:pt x="1022537" y="1721121"/>
                  </a:lnTo>
                  <a:lnTo>
                    <a:pt x="1011828" y="1638982"/>
                  </a:lnTo>
                  <a:lnTo>
                    <a:pt x="1029699" y="1636826"/>
                  </a:lnTo>
                  <a:close/>
                  <a:moveTo>
                    <a:pt x="807350" y="1636115"/>
                  </a:moveTo>
                  <a:lnTo>
                    <a:pt x="822430" y="1638864"/>
                  </a:lnTo>
                  <a:lnTo>
                    <a:pt x="825110" y="1639083"/>
                  </a:lnTo>
                  <a:lnTo>
                    <a:pt x="811751" y="1734136"/>
                  </a:lnTo>
                  <a:lnTo>
                    <a:pt x="792774" y="1739833"/>
                  </a:lnTo>
                  <a:lnTo>
                    <a:pt x="807350" y="1636115"/>
                  </a:lnTo>
                  <a:close/>
                  <a:moveTo>
                    <a:pt x="1096827" y="1624033"/>
                  </a:moveTo>
                  <a:lnTo>
                    <a:pt x="1121385" y="1734155"/>
                  </a:lnTo>
                  <a:lnTo>
                    <a:pt x="1101928" y="1729603"/>
                  </a:lnTo>
                  <a:lnTo>
                    <a:pt x="1079265" y="1627978"/>
                  </a:lnTo>
                  <a:lnTo>
                    <a:pt x="1096827" y="1624033"/>
                  </a:lnTo>
                  <a:close/>
                  <a:moveTo>
                    <a:pt x="740342" y="1622534"/>
                  </a:moveTo>
                  <a:lnTo>
                    <a:pt x="749046" y="1625484"/>
                  </a:lnTo>
                  <a:lnTo>
                    <a:pt x="757767" y="1627074"/>
                  </a:lnTo>
                  <a:lnTo>
                    <a:pt x="726815" y="1759631"/>
                  </a:lnTo>
                  <a:lnTo>
                    <a:pt x="706937" y="1765598"/>
                  </a:lnTo>
                  <a:lnTo>
                    <a:pt x="740342" y="1622534"/>
                  </a:lnTo>
                  <a:close/>
                  <a:moveTo>
                    <a:pt x="1162592" y="1605474"/>
                  </a:moveTo>
                  <a:lnTo>
                    <a:pt x="1211506" y="1758609"/>
                  </a:lnTo>
                  <a:lnTo>
                    <a:pt x="1193512" y="1751032"/>
                  </a:lnTo>
                  <a:lnTo>
                    <a:pt x="1189921" y="1750192"/>
                  </a:lnTo>
                  <a:lnTo>
                    <a:pt x="1145515" y="1611170"/>
                  </a:lnTo>
                  <a:lnTo>
                    <a:pt x="1162592" y="1605474"/>
                  </a:lnTo>
                  <a:close/>
                  <a:moveTo>
                    <a:pt x="675637" y="1600604"/>
                  </a:moveTo>
                  <a:lnTo>
                    <a:pt x="692686" y="1606382"/>
                  </a:lnTo>
                  <a:lnTo>
                    <a:pt x="641486" y="1761326"/>
                  </a:lnTo>
                  <a:lnTo>
                    <a:pt x="631383" y="1744623"/>
                  </a:lnTo>
                  <a:lnTo>
                    <a:pt x="628970" y="1741831"/>
                  </a:lnTo>
                  <a:lnTo>
                    <a:pt x="675637" y="1600604"/>
                  </a:lnTo>
                  <a:close/>
                  <a:moveTo>
                    <a:pt x="1225916" y="1579868"/>
                  </a:moveTo>
                  <a:lnTo>
                    <a:pt x="1279540" y="1707080"/>
                  </a:lnTo>
                  <a:lnTo>
                    <a:pt x="1266966" y="1723591"/>
                  </a:lnTo>
                  <a:lnTo>
                    <a:pt x="1209837" y="1588066"/>
                  </a:lnTo>
                  <a:lnTo>
                    <a:pt x="1225916" y="1579868"/>
                  </a:lnTo>
                  <a:close/>
                  <a:moveTo>
                    <a:pt x="610954" y="1578681"/>
                  </a:moveTo>
                  <a:lnTo>
                    <a:pt x="628059" y="1584478"/>
                  </a:lnTo>
                  <a:lnTo>
                    <a:pt x="582951" y="1688574"/>
                  </a:lnTo>
                  <a:lnTo>
                    <a:pt x="569886" y="1673454"/>
                  </a:lnTo>
                  <a:lnTo>
                    <a:pt x="610954" y="1578681"/>
                  </a:lnTo>
                  <a:close/>
                  <a:moveTo>
                    <a:pt x="1286670" y="1548893"/>
                  </a:moveTo>
                  <a:lnTo>
                    <a:pt x="1333269" y="1636531"/>
                  </a:lnTo>
                  <a:lnTo>
                    <a:pt x="1321264" y="1652294"/>
                  </a:lnTo>
                  <a:lnTo>
                    <a:pt x="1270632" y="1557070"/>
                  </a:lnTo>
                  <a:lnTo>
                    <a:pt x="1286670" y="1548893"/>
                  </a:lnTo>
                  <a:close/>
                  <a:moveTo>
                    <a:pt x="551444" y="1545001"/>
                  </a:moveTo>
                  <a:lnTo>
                    <a:pt x="567074" y="1553937"/>
                  </a:lnTo>
                  <a:lnTo>
                    <a:pt x="524862" y="1631452"/>
                  </a:lnTo>
                  <a:lnTo>
                    <a:pt x="510642" y="1619926"/>
                  </a:lnTo>
                  <a:lnTo>
                    <a:pt x="551444" y="1545001"/>
                  </a:lnTo>
                  <a:close/>
                  <a:moveTo>
                    <a:pt x="1346034" y="1515267"/>
                  </a:moveTo>
                  <a:lnTo>
                    <a:pt x="1390051" y="1582679"/>
                  </a:lnTo>
                  <a:lnTo>
                    <a:pt x="1376613" y="1595021"/>
                  </a:lnTo>
                  <a:lnTo>
                    <a:pt x="1331552" y="1526010"/>
                  </a:lnTo>
                  <a:lnTo>
                    <a:pt x="1333983" y="1524770"/>
                  </a:lnTo>
                  <a:lnTo>
                    <a:pt x="1346034" y="1515267"/>
                  </a:lnTo>
                  <a:close/>
                  <a:moveTo>
                    <a:pt x="492213" y="1511140"/>
                  </a:moveTo>
                  <a:lnTo>
                    <a:pt x="507877" y="1520095"/>
                  </a:lnTo>
                  <a:lnTo>
                    <a:pt x="465615" y="1583429"/>
                  </a:lnTo>
                  <a:lnTo>
                    <a:pt x="452723" y="1572979"/>
                  </a:lnTo>
                  <a:lnTo>
                    <a:pt x="451434" y="1572252"/>
                  </a:lnTo>
                  <a:lnTo>
                    <a:pt x="492213" y="1511140"/>
                  </a:lnTo>
                  <a:close/>
                  <a:moveTo>
                    <a:pt x="1399641" y="1472989"/>
                  </a:moveTo>
                  <a:lnTo>
                    <a:pt x="1447523" y="1533649"/>
                  </a:lnTo>
                  <a:lnTo>
                    <a:pt x="1433600" y="1542681"/>
                  </a:lnTo>
                  <a:lnTo>
                    <a:pt x="1432510" y="1543682"/>
                  </a:lnTo>
                  <a:lnTo>
                    <a:pt x="1385507" y="1484135"/>
                  </a:lnTo>
                  <a:lnTo>
                    <a:pt x="1399641" y="1472989"/>
                  </a:lnTo>
                  <a:close/>
                  <a:moveTo>
                    <a:pt x="439084" y="1468240"/>
                  </a:moveTo>
                  <a:lnTo>
                    <a:pt x="452737" y="1479985"/>
                  </a:lnTo>
                  <a:lnTo>
                    <a:pt x="401226" y="1543921"/>
                  </a:lnTo>
                  <a:lnTo>
                    <a:pt x="385335" y="1534955"/>
                  </a:lnTo>
                  <a:lnTo>
                    <a:pt x="439084" y="1468240"/>
                  </a:lnTo>
                  <a:close/>
                  <a:moveTo>
                    <a:pt x="1452700" y="1430017"/>
                  </a:moveTo>
                  <a:lnTo>
                    <a:pt x="1511505" y="1492141"/>
                  </a:lnTo>
                  <a:lnTo>
                    <a:pt x="1496150" y="1502102"/>
                  </a:lnTo>
                  <a:lnTo>
                    <a:pt x="1439119" y="1441854"/>
                  </a:lnTo>
                  <a:lnTo>
                    <a:pt x="1449687" y="1433519"/>
                  </a:lnTo>
                  <a:lnTo>
                    <a:pt x="1452700" y="1430017"/>
                  </a:lnTo>
                  <a:close/>
                  <a:moveTo>
                    <a:pt x="387391" y="1423768"/>
                  </a:moveTo>
                  <a:lnTo>
                    <a:pt x="401059" y="1435526"/>
                  </a:lnTo>
                  <a:lnTo>
                    <a:pt x="332463" y="1506560"/>
                  </a:lnTo>
                  <a:lnTo>
                    <a:pt x="313761" y="1500014"/>
                  </a:lnTo>
                  <a:lnTo>
                    <a:pt x="387391" y="1423768"/>
                  </a:lnTo>
                  <a:close/>
                  <a:moveTo>
                    <a:pt x="1497274" y="1378205"/>
                  </a:moveTo>
                  <a:lnTo>
                    <a:pt x="1583781" y="1454547"/>
                  </a:lnTo>
                  <a:lnTo>
                    <a:pt x="1565364" y="1462300"/>
                  </a:lnTo>
                  <a:lnTo>
                    <a:pt x="1485535" y="1391850"/>
                  </a:lnTo>
                  <a:lnTo>
                    <a:pt x="1497274" y="1378205"/>
                  </a:lnTo>
                  <a:close/>
                  <a:moveTo>
                    <a:pt x="342078" y="1372754"/>
                  </a:moveTo>
                  <a:lnTo>
                    <a:pt x="353236" y="1386902"/>
                  </a:lnTo>
                  <a:lnTo>
                    <a:pt x="248764" y="1477262"/>
                  </a:lnTo>
                  <a:lnTo>
                    <a:pt x="229175" y="1470405"/>
                  </a:lnTo>
                  <a:lnTo>
                    <a:pt x="342078" y="1372754"/>
                  </a:lnTo>
                  <a:close/>
                  <a:moveTo>
                    <a:pt x="1541797" y="1326453"/>
                  </a:moveTo>
                  <a:lnTo>
                    <a:pt x="1671063" y="1421359"/>
                  </a:lnTo>
                  <a:lnTo>
                    <a:pt x="1652052" y="1425806"/>
                  </a:lnTo>
                  <a:lnTo>
                    <a:pt x="1648653" y="1427237"/>
                  </a:lnTo>
                  <a:lnTo>
                    <a:pt x="1530022" y="1340139"/>
                  </a:lnTo>
                  <a:lnTo>
                    <a:pt x="1541797" y="1326453"/>
                  </a:lnTo>
                  <a:close/>
                  <a:moveTo>
                    <a:pt x="299862" y="1319225"/>
                  </a:moveTo>
                  <a:lnTo>
                    <a:pt x="311019" y="1333372"/>
                  </a:lnTo>
                  <a:lnTo>
                    <a:pt x="178732" y="1428480"/>
                  </a:lnTo>
                  <a:lnTo>
                    <a:pt x="180377" y="1409027"/>
                  </a:lnTo>
                  <a:lnTo>
                    <a:pt x="180067" y="1405352"/>
                  </a:lnTo>
                  <a:lnTo>
                    <a:pt x="299862" y="1319225"/>
                  </a:lnTo>
                  <a:close/>
                  <a:moveTo>
                    <a:pt x="1576542" y="1267609"/>
                  </a:moveTo>
                  <a:lnTo>
                    <a:pt x="1695816" y="1339681"/>
                  </a:lnTo>
                  <a:lnTo>
                    <a:pt x="1695348" y="1360430"/>
                  </a:lnTo>
                  <a:lnTo>
                    <a:pt x="1567606" y="1283241"/>
                  </a:lnTo>
                  <a:lnTo>
                    <a:pt x="1576542" y="1267609"/>
                  </a:lnTo>
                  <a:close/>
                  <a:moveTo>
                    <a:pt x="263531" y="1261503"/>
                  </a:moveTo>
                  <a:lnTo>
                    <a:pt x="271723" y="1277570"/>
                  </a:lnTo>
                  <a:lnTo>
                    <a:pt x="174140" y="1335215"/>
                  </a:lnTo>
                  <a:lnTo>
                    <a:pt x="172457" y="1315303"/>
                  </a:lnTo>
                  <a:lnTo>
                    <a:pt x="263531" y="1261503"/>
                  </a:lnTo>
                  <a:close/>
                  <a:moveTo>
                    <a:pt x="1610398" y="1208387"/>
                  </a:moveTo>
                  <a:lnTo>
                    <a:pt x="1697816" y="1251024"/>
                  </a:lnTo>
                  <a:lnTo>
                    <a:pt x="1697369" y="1270832"/>
                  </a:lnTo>
                  <a:lnTo>
                    <a:pt x="1601446" y="1224047"/>
                  </a:lnTo>
                  <a:lnTo>
                    <a:pt x="1610398" y="1208387"/>
                  </a:lnTo>
                  <a:close/>
                  <a:moveTo>
                    <a:pt x="232566" y="1200770"/>
                  </a:moveTo>
                  <a:lnTo>
                    <a:pt x="240745" y="1216812"/>
                  </a:lnTo>
                  <a:lnTo>
                    <a:pt x="160720" y="1254859"/>
                  </a:lnTo>
                  <a:lnTo>
                    <a:pt x="155991" y="1237178"/>
                  </a:lnTo>
                  <a:lnTo>
                    <a:pt x="232566" y="1200770"/>
                  </a:lnTo>
                  <a:close/>
                  <a:moveTo>
                    <a:pt x="1634958" y="1144690"/>
                  </a:moveTo>
                  <a:lnTo>
                    <a:pt x="1712099" y="1174082"/>
                  </a:lnTo>
                  <a:lnTo>
                    <a:pt x="1708482" y="1191966"/>
                  </a:lnTo>
                  <a:lnTo>
                    <a:pt x="1629176" y="1161750"/>
                  </a:lnTo>
                  <a:lnTo>
                    <a:pt x="1634958" y="1144690"/>
                  </a:lnTo>
                  <a:close/>
                  <a:moveTo>
                    <a:pt x="204756" y="1138431"/>
                  </a:moveTo>
                  <a:lnTo>
                    <a:pt x="210455" y="1155515"/>
                  </a:lnTo>
                  <a:lnTo>
                    <a:pt x="141015" y="1181182"/>
                  </a:lnTo>
                  <a:lnTo>
                    <a:pt x="136727" y="1165150"/>
                  </a:lnTo>
                  <a:lnTo>
                    <a:pt x="136112" y="1163804"/>
                  </a:lnTo>
                  <a:lnTo>
                    <a:pt x="204756" y="1138431"/>
                  </a:lnTo>
                  <a:close/>
                  <a:moveTo>
                    <a:pt x="1656844" y="1080115"/>
                  </a:moveTo>
                  <a:lnTo>
                    <a:pt x="1729776" y="1100634"/>
                  </a:lnTo>
                  <a:lnTo>
                    <a:pt x="1723821" y="1116126"/>
                  </a:lnTo>
                  <a:lnTo>
                    <a:pt x="1723528" y="1117576"/>
                  </a:lnTo>
                  <a:lnTo>
                    <a:pt x="1651058" y="1097186"/>
                  </a:lnTo>
                  <a:lnTo>
                    <a:pt x="1656844" y="1080115"/>
                  </a:lnTo>
                  <a:close/>
                  <a:moveTo>
                    <a:pt x="184625" y="1073110"/>
                  </a:moveTo>
                  <a:lnTo>
                    <a:pt x="188043" y="1088326"/>
                  </a:lnTo>
                  <a:lnTo>
                    <a:pt x="188810" y="1090624"/>
                  </a:lnTo>
                  <a:lnTo>
                    <a:pt x="112145" y="1111372"/>
                  </a:lnTo>
                  <a:lnTo>
                    <a:pt x="104560" y="1094778"/>
                  </a:lnTo>
                  <a:lnTo>
                    <a:pt x="184625" y="1073110"/>
                  </a:lnTo>
                  <a:close/>
                  <a:moveTo>
                    <a:pt x="1672722" y="1013691"/>
                  </a:moveTo>
                  <a:lnTo>
                    <a:pt x="1757141" y="1029446"/>
                  </a:lnTo>
                  <a:lnTo>
                    <a:pt x="1750574" y="1046531"/>
                  </a:lnTo>
                  <a:lnTo>
                    <a:pt x="1669493" y="1031399"/>
                  </a:lnTo>
                  <a:lnTo>
                    <a:pt x="1672722" y="1013691"/>
                  </a:lnTo>
                  <a:close/>
                  <a:moveTo>
                    <a:pt x="170225" y="1006273"/>
                  </a:moveTo>
                  <a:lnTo>
                    <a:pt x="170936" y="1012170"/>
                  </a:lnTo>
                  <a:lnTo>
                    <a:pt x="173584" y="1023958"/>
                  </a:lnTo>
                  <a:lnTo>
                    <a:pt x="78475" y="1040728"/>
                  </a:lnTo>
                  <a:lnTo>
                    <a:pt x="67193" y="1024440"/>
                  </a:lnTo>
                  <a:lnTo>
                    <a:pt x="170225" y="1006273"/>
                  </a:lnTo>
                  <a:close/>
                  <a:moveTo>
                    <a:pt x="1681368" y="945892"/>
                  </a:moveTo>
                  <a:lnTo>
                    <a:pt x="1793516" y="956550"/>
                  </a:lnTo>
                  <a:lnTo>
                    <a:pt x="1783173" y="973649"/>
                  </a:lnTo>
                  <a:lnTo>
                    <a:pt x="1679909" y="963835"/>
                  </a:lnTo>
                  <a:lnTo>
                    <a:pt x="1681368" y="945892"/>
                  </a:lnTo>
                  <a:close/>
                  <a:moveTo>
                    <a:pt x="162034" y="938372"/>
                  </a:moveTo>
                  <a:lnTo>
                    <a:pt x="164191" y="956254"/>
                  </a:lnTo>
                  <a:lnTo>
                    <a:pt x="27981" y="967828"/>
                  </a:lnTo>
                  <a:lnTo>
                    <a:pt x="16164" y="950767"/>
                  </a:lnTo>
                  <a:lnTo>
                    <a:pt x="162034" y="938372"/>
                  </a:lnTo>
                  <a:close/>
                  <a:moveTo>
                    <a:pt x="1683923" y="877596"/>
                  </a:moveTo>
                  <a:lnTo>
                    <a:pt x="1844621" y="878397"/>
                  </a:lnTo>
                  <a:lnTo>
                    <a:pt x="1831855" y="893168"/>
                  </a:lnTo>
                  <a:lnTo>
                    <a:pt x="1829946" y="896325"/>
                  </a:lnTo>
                  <a:lnTo>
                    <a:pt x="1684266" y="895598"/>
                  </a:lnTo>
                  <a:lnTo>
                    <a:pt x="1683923" y="877596"/>
                  </a:lnTo>
                  <a:close/>
                  <a:moveTo>
                    <a:pt x="14676" y="869273"/>
                  </a:moveTo>
                  <a:lnTo>
                    <a:pt x="160356" y="869999"/>
                  </a:lnTo>
                  <a:lnTo>
                    <a:pt x="160699" y="888001"/>
                  </a:lnTo>
                  <a:lnTo>
                    <a:pt x="0" y="887200"/>
                  </a:lnTo>
                  <a:lnTo>
                    <a:pt x="12766" y="872429"/>
                  </a:lnTo>
                  <a:lnTo>
                    <a:pt x="14676" y="869273"/>
                  </a:lnTo>
                  <a:close/>
                  <a:moveTo>
                    <a:pt x="1816638" y="797770"/>
                  </a:moveTo>
                  <a:lnTo>
                    <a:pt x="1828455" y="814831"/>
                  </a:lnTo>
                  <a:lnTo>
                    <a:pt x="1682588" y="827227"/>
                  </a:lnTo>
                  <a:lnTo>
                    <a:pt x="1680430" y="809345"/>
                  </a:lnTo>
                  <a:lnTo>
                    <a:pt x="1816638" y="797770"/>
                  </a:lnTo>
                  <a:close/>
                  <a:moveTo>
                    <a:pt x="61447" y="791950"/>
                  </a:moveTo>
                  <a:lnTo>
                    <a:pt x="164713" y="801763"/>
                  </a:lnTo>
                  <a:lnTo>
                    <a:pt x="163253" y="819705"/>
                  </a:lnTo>
                  <a:lnTo>
                    <a:pt x="51105" y="809048"/>
                  </a:lnTo>
                  <a:lnTo>
                    <a:pt x="61447" y="791950"/>
                  </a:lnTo>
                  <a:close/>
                  <a:moveTo>
                    <a:pt x="1766145" y="724870"/>
                  </a:moveTo>
                  <a:lnTo>
                    <a:pt x="1777427" y="741158"/>
                  </a:lnTo>
                  <a:lnTo>
                    <a:pt x="1674396" y="759325"/>
                  </a:lnTo>
                  <a:lnTo>
                    <a:pt x="1673685" y="753429"/>
                  </a:lnTo>
                  <a:lnTo>
                    <a:pt x="1670588" y="741719"/>
                  </a:lnTo>
                  <a:lnTo>
                    <a:pt x="1766145" y="724870"/>
                  </a:lnTo>
                  <a:close/>
                  <a:moveTo>
                    <a:pt x="94047" y="719066"/>
                  </a:moveTo>
                  <a:lnTo>
                    <a:pt x="175129" y="734198"/>
                  </a:lnTo>
                  <a:lnTo>
                    <a:pt x="171900" y="751906"/>
                  </a:lnTo>
                  <a:lnTo>
                    <a:pt x="87480" y="736151"/>
                  </a:lnTo>
                  <a:lnTo>
                    <a:pt x="94047" y="719066"/>
                  </a:lnTo>
                  <a:close/>
                  <a:moveTo>
                    <a:pt x="1732475" y="654227"/>
                  </a:moveTo>
                  <a:lnTo>
                    <a:pt x="1740061" y="670822"/>
                  </a:lnTo>
                  <a:lnTo>
                    <a:pt x="1657733" y="693102"/>
                  </a:lnTo>
                  <a:lnTo>
                    <a:pt x="1653131" y="675699"/>
                  </a:lnTo>
                  <a:lnTo>
                    <a:pt x="1732475" y="654227"/>
                  </a:lnTo>
                  <a:close/>
                  <a:moveTo>
                    <a:pt x="121093" y="648021"/>
                  </a:moveTo>
                  <a:lnTo>
                    <a:pt x="193564" y="668412"/>
                  </a:lnTo>
                  <a:lnTo>
                    <a:pt x="187778" y="685483"/>
                  </a:lnTo>
                  <a:lnTo>
                    <a:pt x="114844" y="664963"/>
                  </a:lnTo>
                  <a:lnTo>
                    <a:pt x="120799" y="649471"/>
                  </a:lnTo>
                  <a:lnTo>
                    <a:pt x="121093" y="648021"/>
                  </a:lnTo>
                  <a:close/>
                  <a:moveTo>
                    <a:pt x="1703605" y="584417"/>
                  </a:moveTo>
                  <a:lnTo>
                    <a:pt x="1707892" y="600448"/>
                  </a:lnTo>
                  <a:lnTo>
                    <a:pt x="1708508" y="601796"/>
                  </a:lnTo>
                  <a:lnTo>
                    <a:pt x="1640259" y="627022"/>
                  </a:lnTo>
                  <a:lnTo>
                    <a:pt x="1639049" y="622444"/>
                  </a:lnTo>
                  <a:lnTo>
                    <a:pt x="1633440" y="610352"/>
                  </a:lnTo>
                  <a:lnTo>
                    <a:pt x="1703605" y="584417"/>
                  </a:lnTo>
                  <a:close/>
                  <a:moveTo>
                    <a:pt x="136138" y="573632"/>
                  </a:moveTo>
                  <a:lnTo>
                    <a:pt x="215446" y="603848"/>
                  </a:lnTo>
                  <a:lnTo>
                    <a:pt x="209665" y="620908"/>
                  </a:lnTo>
                  <a:lnTo>
                    <a:pt x="132521" y="591516"/>
                  </a:lnTo>
                  <a:lnTo>
                    <a:pt x="136138" y="573632"/>
                  </a:lnTo>
                  <a:close/>
                  <a:moveTo>
                    <a:pt x="1683900" y="510741"/>
                  </a:moveTo>
                  <a:lnTo>
                    <a:pt x="1688629" y="528423"/>
                  </a:lnTo>
                  <a:lnTo>
                    <a:pt x="1612275" y="564725"/>
                  </a:lnTo>
                  <a:lnTo>
                    <a:pt x="1604700" y="548396"/>
                  </a:lnTo>
                  <a:lnTo>
                    <a:pt x="1683900" y="510741"/>
                  </a:lnTo>
                  <a:close/>
                  <a:moveTo>
                    <a:pt x="147252" y="494765"/>
                  </a:moveTo>
                  <a:lnTo>
                    <a:pt x="243177" y="541551"/>
                  </a:lnTo>
                  <a:lnTo>
                    <a:pt x="234224" y="557210"/>
                  </a:lnTo>
                  <a:lnTo>
                    <a:pt x="146805" y="514573"/>
                  </a:lnTo>
                  <a:lnTo>
                    <a:pt x="147252" y="494765"/>
                  </a:lnTo>
                  <a:close/>
                  <a:moveTo>
                    <a:pt x="1670480" y="430384"/>
                  </a:moveTo>
                  <a:lnTo>
                    <a:pt x="1672163" y="450296"/>
                  </a:lnTo>
                  <a:lnTo>
                    <a:pt x="1583450" y="502701"/>
                  </a:lnTo>
                  <a:lnTo>
                    <a:pt x="1573155" y="487877"/>
                  </a:lnTo>
                  <a:lnTo>
                    <a:pt x="1670480" y="430384"/>
                  </a:lnTo>
                  <a:close/>
                  <a:moveTo>
                    <a:pt x="149273" y="405169"/>
                  </a:moveTo>
                  <a:lnTo>
                    <a:pt x="277016" y="482359"/>
                  </a:lnTo>
                  <a:lnTo>
                    <a:pt x="268080" y="497989"/>
                  </a:lnTo>
                  <a:lnTo>
                    <a:pt x="148805" y="425916"/>
                  </a:lnTo>
                  <a:lnTo>
                    <a:pt x="149273" y="405169"/>
                  </a:lnTo>
                  <a:close/>
                  <a:moveTo>
                    <a:pt x="195968" y="338361"/>
                  </a:moveTo>
                  <a:lnTo>
                    <a:pt x="314600" y="425459"/>
                  </a:lnTo>
                  <a:lnTo>
                    <a:pt x="302826" y="439145"/>
                  </a:lnTo>
                  <a:lnTo>
                    <a:pt x="173559" y="344239"/>
                  </a:lnTo>
                  <a:lnTo>
                    <a:pt x="192568" y="339792"/>
                  </a:lnTo>
                  <a:lnTo>
                    <a:pt x="195968" y="338361"/>
                  </a:lnTo>
                  <a:close/>
                  <a:moveTo>
                    <a:pt x="1665887" y="337121"/>
                  </a:moveTo>
                  <a:lnTo>
                    <a:pt x="1664242" y="356571"/>
                  </a:lnTo>
                  <a:lnTo>
                    <a:pt x="1664553" y="360248"/>
                  </a:lnTo>
                  <a:lnTo>
                    <a:pt x="1544474" y="446578"/>
                  </a:lnTo>
                  <a:lnTo>
                    <a:pt x="1534206" y="431793"/>
                  </a:lnTo>
                  <a:lnTo>
                    <a:pt x="1665887" y="337121"/>
                  </a:lnTo>
                  <a:close/>
                  <a:moveTo>
                    <a:pt x="279257" y="303297"/>
                  </a:moveTo>
                  <a:lnTo>
                    <a:pt x="359087" y="373748"/>
                  </a:lnTo>
                  <a:lnTo>
                    <a:pt x="347347" y="387394"/>
                  </a:lnTo>
                  <a:lnTo>
                    <a:pt x="260839" y="311051"/>
                  </a:lnTo>
                  <a:lnTo>
                    <a:pt x="279257" y="303297"/>
                  </a:lnTo>
                  <a:close/>
                  <a:moveTo>
                    <a:pt x="1595859" y="288337"/>
                  </a:moveTo>
                  <a:lnTo>
                    <a:pt x="1615448" y="295194"/>
                  </a:lnTo>
                  <a:lnTo>
                    <a:pt x="1504459" y="391189"/>
                  </a:lnTo>
                  <a:lnTo>
                    <a:pt x="1491819" y="378322"/>
                  </a:lnTo>
                  <a:lnTo>
                    <a:pt x="1595859" y="288337"/>
                  </a:lnTo>
                  <a:close/>
                  <a:moveTo>
                    <a:pt x="348471" y="263494"/>
                  </a:moveTo>
                  <a:lnTo>
                    <a:pt x="405504" y="323744"/>
                  </a:lnTo>
                  <a:lnTo>
                    <a:pt x="394934" y="332080"/>
                  </a:lnTo>
                  <a:lnTo>
                    <a:pt x="391923" y="335581"/>
                  </a:lnTo>
                  <a:lnTo>
                    <a:pt x="333116" y="273456"/>
                  </a:lnTo>
                  <a:lnTo>
                    <a:pt x="348471" y="263494"/>
                  </a:lnTo>
                  <a:close/>
                  <a:moveTo>
                    <a:pt x="1512159" y="259039"/>
                  </a:moveTo>
                  <a:lnTo>
                    <a:pt x="1530860" y="265585"/>
                  </a:lnTo>
                  <a:lnTo>
                    <a:pt x="1456606" y="342477"/>
                  </a:lnTo>
                  <a:lnTo>
                    <a:pt x="1443988" y="329632"/>
                  </a:lnTo>
                  <a:lnTo>
                    <a:pt x="1512159" y="259039"/>
                  </a:lnTo>
                  <a:close/>
                  <a:moveTo>
                    <a:pt x="412110" y="221916"/>
                  </a:moveTo>
                  <a:lnTo>
                    <a:pt x="459114" y="281464"/>
                  </a:lnTo>
                  <a:lnTo>
                    <a:pt x="444980" y="292610"/>
                  </a:lnTo>
                  <a:lnTo>
                    <a:pt x="397097" y="231949"/>
                  </a:lnTo>
                  <a:lnTo>
                    <a:pt x="411019" y="222917"/>
                  </a:lnTo>
                  <a:lnTo>
                    <a:pt x="412110" y="221916"/>
                  </a:lnTo>
                  <a:close/>
                  <a:moveTo>
                    <a:pt x="1443396" y="221678"/>
                  </a:moveTo>
                  <a:lnTo>
                    <a:pt x="1459286" y="230644"/>
                  </a:lnTo>
                  <a:lnTo>
                    <a:pt x="1406897" y="295670"/>
                  </a:lnTo>
                  <a:lnTo>
                    <a:pt x="1392300" y="285098"/>
                  </a:lnTo>
                  <a:lnTo>
                    <a:pt x="1443396" y="221678"/>
                  </a:lnTo>
                  <a:close/>
                  <a:moveTo>
                    <a:pt x="1379005" y="182170"/>
                  </a:moveTo>
                  <a:lnTo>
                    <a:pt x="1391896" y="192619"/>
                  </a:lnTo>
                  <a:lnTo>
                    <a:pt x="1393186" y="193347"/>
                  </a:lnTo>
                  <a:lnTo>
                    <a:pt x="1351622" y="255636"/>
                  </a:lnTo>
                  <a:lnTo>
                    <a:pt x="1337034" y="245070"/>
                  </a:lnTo>
                  <a:lnTo>
                    <a:pt x="1379005" y="182170"/>
                  </a:lnTo>
                  <a:close/>
                  <a:moveTo>
                    <a:pt x="468008" y="170577"/>
                  </a:moveTo>
                  <a:lnTo>
                    <a:pt x="513069" y="239589"/>
                  </a:lnTo>
                  <a:lnTo>
                    <a:pt x="510638" y="240828"/>
                  </a:lnTo>
                  <a:lnTo>
                    <a:pt x="498586" y="250333"/>
                  </a:lnTo>
                  <a:lnTo>
                    <a:pt x="454568" y="182920"/>
                  </a:lnTo>
                  <a:lnTo>
                    <a:pt x="468008" y="170577"/>
                  </a:lnTo>
                  <a:close/>
                  <a:moveTo>
                    <a:pt x="1319759" y="134146"/>
                  </a:moveTo>
                  <a:lnTo>
                    <a:pt x="1333978" y="145672"/>
                  </a:lnTo>
                  <a:lnTo>
                    <a:pt x="1294036" y="219016"/>
                  </a:lnTo>
                  <a:lnTo>
                    <a:pt x="1277891" y="211027"/>
                  </a:lnTo>
                  <a:lnTo>
                    <a:pt x="1319759" y="134146"/>
                  </a:lnTo>
                  <a:close/>
                  <a:moveTo>
                    <a:pt x="523355" y="113305"/>
                  </a:moveTo>
                  <a:lnTo>
                    <a:pt x="573987" y="208530"/>
                  </a:lnTo>
                  <a:lnTo>
                    <a:pt x="557949" y="216707"/>
                  </a:lnTo>
                  <a:lnTo>
                    <a:pt x="511350" y="129068"/>
                  </a:lnTo>
                  <a:lnTo>
                    <a:pt x="523355" y="113305"/>
                  </a:lnTo>
                  <a:close/>
                  <a:moveTo>
                    <a:pt x="1261668" y="77024"/>
                  </a:moveTo>
                  <a:lnTo>
                    <a:pt x="1274734" y="92144"/>
                  </a:lnTo>
                  <a:lnTo>
                    <a:pt x="1232872" y="188750"/>
                  </a:lnTo>
                  <a:lnTo>
                    <a:pt x="1216718" y="180757"/>
                  </a:lnTo>
                  <a:lnTo>
                    <a:pt x="1261668" y="77024"/>
                  </a:lnTo>
                  <a:close/>
                  <a:moveTo>
                    <a:pt x="879964" y="47539"/>
                  </a:moveTo>
                  <a:lnTo>
                    <a:pt x="896536" y="48415"/>
                  </a:lnTo>
                  <a:lnTo>
                    <a:pt x="898006" y="48246"/>
                  </a:lnTo>
                  <a:lnTo>
                    <a:pt x="900930" y="121496"/>
                  </a:lnTo>
                  <a:lnTo>
                    <a:pt x="882930" y="121839"/>
                  </a:lnTo>
                  <a:lnTo>
                    <a:pt x="879964" y="47539"/>
                  </a:lnTo>
                  <a:close/>
                  <a:moveTo>
                    <a:pt x="803804" y="43511"/>
                  </a:moveTo>
                  <a:lnTo>
                    <a:pt x="822082" y="44478"/>
                  </a:lnTo>
                  <a:lnTo>
                    <a:pt x="832792" y="126618"/>
                  </a:lnTo>
                  <a:lnTo>
                    <a:pt x="814920" y="128774"/>
                  </a:lnTo>
                  <a:lnTo>
                    <a:pt x="803804" y="43511"/>
                  </a:lnTo>
                  <a:close/>
                  <a:moveTo>
                    <a:pt x="577653" y="42008"/>
                  </a:moveTo>
                  <a:lnTo>
                    <a:pt x="634782" y="177534"/>
                  </a:lnTo>
                  <a:lnTo>
                    <a:pt x="618704" y="185731"/>
                  </a:lnTo>
                  <a:lnTo>
                    <a:pt x="565079" y="58518"/>
                  </a:lnTo>
                  <a:lnTo>
                    <a:pt x="577653" y="42008"/>
                  </a:lnTo>
                  <a:close/>
                  <a:moveTo>
                    <a:pt x="973404" y="39567"/>
                  </a:moveTo>
                  <a:lnTo>
                    <a:pt x="969228" y="123258"/>
                  </a:lnTo>
                  <a:lnTo>
                    <a:pt x="951312" y="121130"/>
                  </a:lnTo>
                  <a:lnTo>
                    <a:pt x="955278" y="41654"/>
                  </a:lnTo>
                  <a:lnTo>
                    <a:pt x="973404" y="39567"/>
                  </a:lnTo>
                  <a:close/>
                  <a:moveTo>
                    <a:pt x="723233" y="31443"/>
                  </a:moveTo>
                  <a:lnTo>
                    <a:pt x="742691" y="35995"/>
                  </a:lnTo>
                  <a:lnTo>
                    <a:pt x="765354" y="137622"/>
                  </a:lnTo>
                  <a:lnTo>
                    <a:pt x="747791" y="141567"/>
                  </a:lnTo>
                  <a:lnTo>
                    <a:pt x="723233" y="31443"/>
                  </a:lnTo>
                  <a:close/>
                  <a:moveTo>
                    <a:pt x="1051847" y="25765"/>
                  </a:moveTo>
                  <a:lnTo>
                    <a:pt x="1037014" y="131308"/>
                  </a:lnTo>
                  <a:lnTo>
                    <a:pt x="1019135" y="129184"/>
                  </a:lnTo>
                  <a:lnTo>
                    <a:pt x="1032869" y="31462"/>
                  </a:lnTo>
                  <a:lnTo>
                    <a:pt x="1051847" y="25765"/>
                  </a:lnTo>
                  <a:close/>
                  <a:moveTo>
                    <a:pt x="633115" y="6990"/>
                  </a:moveTo>
                  <a:lnTo>
                    <a:pt x="651107" y="14566"/>
                  </a:lnTo>
                  <a:lnTo>
                    <a:pt x="654699" y="15406"/>
                  </a:lnTo>
                  <a:lnTo>
                    <a:pt x="699105" y="154429"/>
                  </a:lnTo>
                  <a:lnTo>
                    <a:pt x="682029" y="160125"/>
                  </a:lnTo>
                  <a:lnTo>
                    <a:pt x="633115" y="6990"/>
                  </a:lnTo>
                  <a:close/>
                  <a:moveTo>
                    <a:pt x="1203134" y="4273"/>
                  </a:moveTo>
                  <a:lnTo>
                    <a:pt x="1213236" y="20976"/>
                  </a:lnTo>
                  <a:lnTo>
                    <a:pt x="1215649" y="23769"/>
                  </a:lnTo>
                  <a:lnTo>
                    <a:pt x="1169442" y="163605"/>
                  </a:lnTo>
                  <a:lnTo>
                    <a:pt x="1152188" y="158449"/>
                  </a:lnTo>
                  <a:lnTo>
                    <a:pt x="1203134" y="4273"/>
                  </a:lnTo>
                  <a:close/>
                  <a:moveTo>
                    <a:pt x="1137683" y="0"/>
                  </a:moveTo>
                  <a:lnTo>
                    <a:pt x="1104046" y="144062"/>
                  </a:lnTo>
                  <a:lnTo>
                    <a:pt x="1086767" y="138898"/>
                  </a:lnTo>
                  <a:lnTo>
                    <a:pt x="1117806" y="5966"/>
                  </a:lnTo>
                  <a:lnTo>
                    <a:pt x="1137683" y="0"/>
                  </a:lnTo>
                  <a:close/>
                </a:path>
              </a:pathLst>
            </a:custGeom>
            <a:solidFill>
              <a:srgbClr val="b9cde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0" name="MH_SubTitle_1"/>
            <p:cNvSpPr/>
            <p:nvPr/>
          </p:nvSpPr>
          <p:spPr>
            <a:xfrm>
              <a:off x="1442520" y="1227960"/>
              <a:ext cx="1400400" cy="1376280"/>
            </a:xfrm>
            <a:prstGeom prst="pie">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直接生产过程</a:t>
              </a:r>
              <a:endParaRPr b="0" lang="en-US" sz="1800" spc="-1" strike="noStrike">
                <a:solidFill>
                  <a:srgbClr val="000000"/>
                </a:solidFill>
                <a:latin typeface="Arial"/>
              </a:endParaRPr>
            </a:p>
          </p:txBody>
        </p:sp>
        <p:sp>
          <p:nvSpPr>
            <p:cNvPr id="561" name="MH_Other_2"/>
            <p:cNvSpPr/>
            <p:nvPr/>
          </p:nvSpPr>
          <p:spPr>
            <a:xfrm>
              <a:off x="1581120" y="1227960"/>
              <a:ext cx="1117440" cy="285480"/>
            </a:xfrm>
            <a:prstGeom prst="pi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01</a:t>
              </a:r>
              <a:endParaRPr b="0" lang="en-US" sz="2400" spc="-1" strike="noStrike">
                <a:solidFill>
                  <a:srgbClr val="000000"/>
                </a:solidFill>
                <a:latin typeface="Arial"/>
              </a:endParaRPr>
            </a:p>
          </p:txBody>
        </p:sp>
      </p:grpSp>
      <p:grpSp>
        <p:nvGrpSpPr>
          <p:cNvPr id="562" name="Group 43"/>
          <p:cNvGrpSpPr/>
          <p:nvPr/>
        </p:nvGrpSpPr>
        <p:grpSpPr>
          <a:xfrm>
            <a:off x="5759280" y="1052640"/>
            <a:ext cx="1837080" cy="1728720"/>
            <a:chOff x="5759280" y="1052640"/>
            <a:chExt cx="1837080" cy="1728720"/>
          </a:xfrm>
        </p:grpSpPr>
        <p:sp>
          <p:nvSpPr>
            <p:cNvPr id="563" name="MH_Other_1"/>
            <p:cNvSpPr/>
            <p:nvPr/>
          </p:nvSpPr>
          <p:spPr>
            <a:xfrm>
              <a:off x="5759280" y="1052640"/>
              <a:ext cx="1837080" cy="1728720"/>
            </a:xfrm>
            <a:custGeom>
              <a:avLst/>
              <a:gdLst/>
              <a:ahLst/>
              <a:rect l="l" t="t" r="r" b="b"/>
              <a:pathLst>
                <a:path w="1844621" h="1765598">
                  <a:moveTo>
                    <a:pt x="961691" y="1643760"/>
                  </a:moveTo>
                  <a:lnTo>
                    <a:pt x="964657" y="1718060"/>
                  </a:lnTo>
                  <a:lnTo>
                    <a:pt x="948083" y="1717184"/>
                  </a:lnTo>
                  <a:lnTo>
                    <a:pt x="946614" y="1717353"/>
                  </a:lnTo>
                  <a:lnTo>
                    <a:pt x="943691" y="1644103"/>
                  </a:lnTo>
                  <a:lnTo>
                    <a:pt x="961691" y="1643760"/>
                  </a:lnTo>
                  <a:close/>
                  <a:moveTo>
                    <a:pt x="875350" y="1643169"/>
                  </a:moveTo>
                  <a:lnTo>
                    <a:pt x="893299" y="1644629"/>
                  </a:lnTo>
                  <a:lnTo>
                    <a:pt x="889341" y="1723945"/>
                  </a:lnTo>
                  <a:lnTo>
                    <a:pt x="871214" y="1726031"/>
                  </a:lnTo>
                  <a:lnTo>
                    <a:pt x="875350" y="1643169"/>
                  </a:lnTo>
                  <a:close/>
                  <a:moveTo>
                    <a:pt x="1029699" y="1636826"/>
                  </a:moveTo>
                  <a:lnTo>
                    <a:pt x="1040815" y="1722087"/>
                  </a:lnTo>
                  <a:lnTo>
                    <a:pt x="1022537" y="1721121"/>
                  </a:lnTo>
                  <a:lnTo>
                    <a:pt x="1011828" y="1638982"/>
                  </a:lnTo>
                  <a:lnTo>
                    <a:pt x="1029699" y="1636826"/>
                  </a:lnTo>
                  <a:close/>
                  <a:moveTo>
                    <a:pt x="807350" y="1636115"/>
                  </a:moveTo>
                  <a:lnTo>
                    <a:pt x="822430" y="1638864"/>
                  </a:lnTo>
                  <a:lnTo>
                    <a:pt x="825110" y="1639083"/>
                  </a:lnTo>
                  <a:lnTo>
                    <a:pt x="811751" y="1734136"/>
                  </a:lnTo>
                  <a:lnTo>
                    <a:pt x="792774" y="1739833"/>
                  </a:lnTo>
                  <a:lnTo>
                    <a:pt x="807350" y="1636115"/>
                  </a:lnTo>
                  <a:close/>
                  <a:moveTo>
                    <a:pt x="1096827" y="1624033"/>
                  </a:moveTo>
                  <a:lnTo>
                    <a:pt x="1121385" y="1734155"/>
                  </a:lnTo>
                  <a:lnTo>
                    <a:pt x="1101928" y="1729603"/>
                  </a:lnTo>
                  <a:lnTo>
                    <a:pt x="1079265" y="1627978"/>
                  </a:lnTo>
                  <a:lnTo>
                    <a:pt x="1096827" y="1624033"/>
                  </a:lnTo>
                  <a:close/>
                  <a:moveTo>
                    <a:pt x="740342" y="1622534"/>
                  </a:moveTo>
                  <a:lnTo>
                    <a:pt x="749046" y="1625484"/>
                  </a:lnTo>
                  <a:lnTo>
                    <a:pt x="757767" y="1627074"/>
                  </a:lnTo>
                  <a:lnTo>
                    <a:pt x="726815" y="1759631"/>
                  </a:lnTo>
                  <a:lnTo>
                    <a:pt x="706937" y="1765598"/>
                  </a:lnTo>
                  <a:lnTo>
                    <a:pt x="740342" y="1622534"/>
                  </a:lnTo>
                  <a:close/>
                  <a:moveTo>
                    <a:pt x="1162592" y="1605474"/>
                  </a:moveTo>
                  <a:lnTo>
                    <a:pt x="1211506" y="1758609"/>
                  </a:lnTo>
                  <a:lnTo>
                    <a:pt x="1193512" y="1751032"/>
                  </a:lnTo>
                  <a:lnTo>
                    <a:pt x="1189921" y="1750192"/>
                  </a:lnTo>
                  <a:lnTo>
                    <a:pt x="1145515" y="1611170"/>
                  </a:lnTo>
                  <a:lnTo>
                    <a:pt x="1162592" y="1605474"/>
                  </a:lnTo>
                  <a:close/>
                  <a:moveTo>
                    <a:pt x="675637" y="1600604"/>
                  </a:moveTo>
                  <a:lnTo>
                    <a:pt x="692686" y="1606382"/>
                  </a:lnTo>
                  <a:lnTo>
                    <a:pt x="641486" y="1761326"/>
                  </a:lnTo>
                  <a:lnTo>
                    <a:pt x="631383" y="1744623"/>
                  </a:lnTo>
                  <a:lnTo>
                    <a:pt x="628970" y="1741831"/>
                  </a:lnTo>
                  <a:lnTo>
                    <a:pt x="675637" y="1600604"/>
                  </a:lnTo>
                  <a:close/>
                  <a:moveTo>
                    <a:pt x="1225916" y="1579868"/>
                  </a:moveTo>
                  <a:lnTo>
                    <a:pt x="1279540" y="1707080"/>
                  </a:lnTo>
                  <a:lnTo>
                    <a:pt x="1266966" y="1723591"/>
                  </a:lnTo>
                  <a:lnTo>
                    <a:pt x="1209837" y="1588066"/>
                  </a:lnTo>
                  <a:lnTo>
                    <a:pt x="1225916" y="1579868"/>
                  </a:lnTo>
                  <a:close/>
                  <a:moveTo>
                    <a:pt x="610954" y="1578681"/>
                  </a:moveTo>
                  <a:lnTo>
                    <a:pt x="628059" y="1584478"/>
                  </a:lnTo>
                  <a:lnTo>
                    <a:pt x="582951" y="1688574"/>
                  </a:lnTo>
                  <a:lnTo>
                    <a:pt x="569886" y="1673454"/>
                  </a:lnTo>
                  <a:lnTo>
                    <a:pt x="610954" y="1578681"/>
                  </a:lnTo>
                  <a:close/>
                  <a:moveTo>
                    <a:pt x="1286670" y="1548893"/>
                  </a:moveTo>
                  <a:lnTo>
                    <a:pt x="1333269" y="1636531"/>
                  </a:lnTo>
                  <a:lnTo>
                    <a:pt x="1321264" y="1652294"/>
                  </a:lnTo>
                  <a:lnTo>
                    <a:pt x="1270632" y="1557070"/>
                  </a:lnTo>
                  <a:lnTo>
                    <a:pt x="1286670" y="1548893"/>
                  </a:lnTo>
                  <a:close/>
                  <a:moveTo>
                    <a:pt x="551444" y="1545001"/>
                  </a:moveTo>
                  <a:lnTo>
                    <a:pt x="567074" y="1553937"/>
                  </a:lnTo>
                  <a:lnTo>
                    <a:pt x="524862" y="1631452"/>
                  </a:lnTo>
                  <a:lnTo>
                    <a:pt x="510642" y="1619926"/>
                  </a:lnTo>
                  <a:lnTo>
                    <a:pt x="551444" y="1545001"/>
                  </a:lnTo>
                  <a:close/>
                  <a:moveTo>
                    <a:pt x="1346034" y="1515267"/>
                  </a:moveTo>
                  <a:lnTo>
                    <a:pt x="1390051" y="1582679"/>
                  </a:lnTo>
                  <a:lnTo>
                    <a:pt x="1376613" y="1595021"/>
                  </a:lnTo>
                  <a:lnTo>
                    <a:pt x="1331552" y="1526010"/>
                  </a:lnTo>
                  <a:lnTo>
                    <a:pt x="1333983" y="1524770"/>
                  </a:lnTo>
                  <a:lnTo>
                    <a:pt x="1346034" y="1515267"/>
                  </a:lnTo>
                  <a:close/>
                  <a:moveTo>
                    <a:pt x="492213" y="1511140"/>
                  </a:moveTo>
                  <a:lnTo>
                    <a:pt x="507877" y="1520095"/>
                  </a:lnTo>
                  <a:lnTo>
                    <a:pt x="465615" y="1583429"/>
                  </a:lnTo>
                  <a:lnTo>
                    <a:pt x="452723" y="1572979"/>
                  </a:lnTo>
                  <a:lnTo>
                    <a:pt x="451434" y="1572252"/>
                  </a:lnTo>
                  <a:lnTo>
                    <a:pt x="492213" y="1511140"/>
                  </a:lnTo>
                  <a:close/>
                  <a:moveTo>
                    <a:pt x="1399641" y="1472989"/>
                  </a:moveTo>
                  <a:lnTo>
                    <a:pt x="1447523" y="1533649"/>
                  </a:lnTo>
                  <a:lnTo>
                    <a:pt x="1433600" y="1542681"/>
                  </a:lnTo>
                  <a:lnTo>
                    <a:pt x="1432510" y="1543682"/>
                  </a:lnTo>
                  <a:lnTo>
                    <a:pt x="1385507" y="1484135"/>
                  </a:lnTo>
                  <a:lnTo>
                    <a:pt x="1399641" y="1472989"/>
                  </a:lnTo>
                  <a:close/>
                  <a:moveTo>
                    <a:pt x="439084" y="1468240"/>
                  </a:moveTo>
                  <a:lnTo>
                    <a:pt x="452737" y="1479985"/>
                  </a:lnTo>
                  <a:lnTo>
                    <a:pt x="401226" y="1543921"/>
                  </a:lnTo>
                  <a:lnTo>
                    <a:pt x="385335" y="1534955"/>
                  </a:lnTo>
                  <a:lnTo>
                    <a:pt x="439084" y="1468240"/>
                  </a:lnTo>
                  <a:close/>
                  <a:moveTo>
                    <a:pt x="1452700" y="1430017"/>
                  </a:moveTo>
                  <a:lnTo>
                    <a:pt x="1511505" y="1492141"/>
                  </a:lnTo>
                  <a:lnTo>
                    <a:pt x="1496150" y="1502102"/>
                  </a:lnTo>
                  <a:lnTo>
                    <a:pt x="1439119" y="1441854"/>
                  </a:lnTo>
                  <a:lnTo>
                    <a:pt x="1449687" y="1433519"/>
                  </a:lnTo>
                  <a:lnTo>
                    <a:pt x="1452700" y="1430017"/>
                  </a:lnTo>
                  <a:close/>
                  <a:moveTo>
                    <a:pt x="387391" y="1423768"/>
                  </a:moveTo>
                  <a:lnTo>
                    <a:pt x="401059" y="1435526"/>
                  </a:lnTo>
                  <a:lnTo>
                    <a:pt x="332463" y="1506560"/>
                  </a:lnTo>
                  <a:lnTo>
                    <a:pt x="313761" y="1500014"/>
                  </a:lnTo>
                  <a:lnTo>
                    <a:pt x="387391" y="1423768"/>
                  </a:lnTo>
                  <a:close/>
                  <a:moveTo>
                    <a:pt x="1497274" y="1378205"/>
                  </a:moveTo>
                  <a:lnTo>
                    <a:pt x="1583781" y="1454547"/>
                  </a:lnTo>
                  <a:lnTo>
                    <a:pt x="1565364" y="1462300"/>
                  </a:lnTo>
                  <a:lnTo>
                    <a:pt x="1485535" y="1391850"/>
                  </a:lnTo>
                  <a:lnTo>
                    <a:pt x="1497274" y="1378205"/>
                  </a:lnTo>
                  <a:close/>
                  <a:moveTo>
                    <a:pt x="342078" y="1372754"/>
                  </a:moveTo>
                  <a:lnTo>
                    <a:pt x="353236" y="1386902"/>
                  </a:lnTo>
                  <a:lnTo>
                    <a:pt x="248764" y="1477262"/>
                  </a:lnTo>
                  <a:lnTo>
                    <a:pt x="229175" y="1470405"/>
                  </a:lnTo>
                  <a:lnTo>
                    <a:pt x="342078" y="1372754"/>
                  </a:lnTo>
                  <a:close/>
                  <a:moveTo>
                    <a:pt x="1541797" y="1326453"/>
                  </a:moveTo>
                  <a:lnTo>
                    <a:pt x="1671063" y="1421359"/>
                  </a:lnTo>
                  <a:lnTo>
                    <a:pt x="1652052" y="1425806"/>
                  </a:lnTo>
                  <a:lnTo>
                    <a:pt x="1648653" y="1427237"/>
                  </a:lnTo>
                  <a:lnTo>
                    <a:pt x="1530022" y="1340139"/>
                  </a:lnTo>
                  <a:lnTo>
                    <a:pt x="1541797" y="1326453"/>
                  </a:lnTo>
                  <a:close/>
                  <a:moveTo>
                    <a:pt x="299862" y="1319225"/>
                  </a:moveTo>
                  <a:lnTo>
                    <a:pt x="311019" y="1333372"/>
                  </a:lnTo>
                  <a:lnTo>
                    <a:pt x="178732" y="1428480"/>
                  </a:lnTo>
                  <a:lnTo>
                    <a:pt x="180377" y="1409027"/>
                  </a:lnTo>
                  <a:lnTo>
                    <a:pt x="180067" y="1405352"/>
                  </a:lnTo>
                  <a:lnTo>
                    <a:pt x="299862" y="1319225"/>
                  </a:lnTo>
                  <a:close/>
                  <a:moveTo>
                    <a:pt x="1576542" y="1267609"/>
                  </a:moveTo>
                  <a:lnTo>
                    <a:pt x="1695816" y="1339681"/>
                  </a:lnTo>
                  <a:lnTo>
                    <a:pt x="1695348" y="1360430"/>
                  </a:lnTo>
                  <a:lnTo>
                    <a:pt x="1567606" y="1283241"/>
                  </a:lnTo>
                  <a:lnTo>
                    <a:pt x="1576542" y="1267609"/>
                  </a:lnTo>
                  <a:close/>
                  <a:moveTo>
                    <a:pt x="263531" y="1261503"/>
                  </a:moveTo>
                  <a:lnTo>
                    <a:pt x="271723" y="1277570"/>
                  </a:lnTo>
                  <a:lnTo>
                    <a:pt x="174140" y="1335215"/>
                  </a:lnTo>
                  <a:lnTo>
                    <a:pt x="172457" y="1315303"/>
                  </a:lnTo>
                  <a:lnTo>
                    <a:pt x="263531" y="1261503"/>
                  </a:lnTo>
                  <a:close/>
                  <a:moveTo>
                    <a:pt x="1610398" y="1208387"/>
                  </a:moveTo>
                  <a:lnTo>
                    <a:pt x="1697816" y="1251024"/>
                  </a:lnTo>
                  <a:lnTo>
                    <a:pt x="1697369" y="1270832"/>
                  </a:lnTo>
                  <a:lnTo>
                    <a:pt x="1601446" y="1224047"/>
                  </a:lnTo>
                  <a:lnTo>
                    <a:pt x="1610398" y="1208387"/>
                  </a:lnTo>
                  <a:close/>
                  <a:moveTo>
                    <a:pt x="232566" y="1200770"/>
                  </a:moveTo>
                  <a:lnTo>
                    <a:pt x="240745" y="1216812"/>
                  </a:lnTo>
                  <a:lnTo>
                    <a:pt x="160720" y="1254859"/>
                  </a:lnTo>
                  <a:lnTo>
                    <a:pt x="155991" y="1237178"/>
                  </a:lnTo>
                  <a:lnTo>
                    <a:pt x="232566" y="1200770"/>
                  </a:lnTo>
                  <a:close/>
                  <a:moveTo>
                    <a:pt x="1634958" y="1144690"/>
                  </a:moveTo>
                  <a:lnTo>
                    <a:pt x="1712099" y="1174082"/>
                  </a:lnTo>
                  <a:lnTo>
                    <a:pt x="1708482" y="1191966"/>
                  </a:lnTo>
                  <a:lnTo>
                    <a:pt x="1629176" y="1161750"/>
                  </a:lnTo>
                  <a:lnTo>
                    <a:pt x="1634958" y="1144690"/>
                  </a:lnTo>
                  <a:close/>
                  <a:moveTo>
                    <a:pt x="204756" y="1138431"/>
                  </a:moveTo>
                  <a:lnTo>
                    <a:pt x="210455" y="1155515"/>
                  </a:lnTo>
                  <a:lnTo>
                    <a:pt x="141015" y="1181182"/>
                  </a:lnTo>
                  <a:lnTo>
                    <a:pt x="136727" y="1165150"/>
                  </a:lnTo>
                  <a:lnTo>
                    <a:pt x="136112" y="1163804"/>
                  </a:lnTo>
                  <a:lnTo>
                    <a:pt x="204756" y="1138431"/>
                  </a:lnTo>
                  <a:close/>
                  <a:moveTo>
                    <a:pt x="1656844" y="1080115"/>
                  </a:moveTo>
                  <a:lnTo>
                    <a:pt x="1729776" y="1100634"/>
                  </a:lnTo>
                  <a:lnTo>
                    <a:pt x="1723821" y="1116126"/>
                  </a:lnTo>
                  <a:lnTo>
                    <a:pt x="1723528" y="1117576"/>
                  </a:lnTo>
                  <a:lnTo>
                    <a:pt x="1651058" y="1097186"/>
                  </a:lnTo>
                  <a:lnTo>
                    <a:pt x="1656844" y="1080115"/>
                  </a:lnTo>
                  <a:close/>
                  <a:moveTo>
                    <a:pt x="184625" y="1073110"/>
                  </a:moveTo>
                  <a:lnTo>
                    <a:pt x="188043" y="1088326"/>
                  </a:lnTo>
                  <a:lnTo>
                    <a:pt x="188810" y="1090624"/>
                  </a:lnTo>
                  <a:lnTo>
                    <a:pt x="112145" y="1111372"/>
                  </a:lnTo>
                  <a:lnTo>
                    <a:pt x="104560" y="1094778"/>
                  </a:lnTo>
                  <a:lnTo>
                    <a:pt x="184625" y="1073110"/>
                  </a:lnTo>
                  <a:close/>
                  <a:moveTo>
                    <a:pt x="1672722" y="1013691"/>
                  </a:moveTo>
                  <a:lnTo>
                    <a:pt x="1757141" y="1029446"/>
                  </a:lnTo>
                  <a:lnTo>
                    <a:pt x="1750574" y="1046531"/>
                  </a:lnTo>
                  <a:lnTo>
                    <a:pt x="1669493" y="1031399"/>
                  </a:lnTo>
                  <a:lnTo>
                    <a:pt x="1672722" y="1013691"/>
                  </a:lnTo>
                  <a:close/>
                  <a:moveTo>
                    <a:pt x="170225" y="1006273"/>
                  </a:moveTo>
                  <a:lnTo>
                    <a:pt x="170936" y="1012170"/>
                  </a:lnTo>
                  <a:lnTo>
                    <a:pt x="173584" y="1023958"/>
                  </a:lnTo>
                  <a:lnTo>
                    <a:pt x="78475" y="1040728"/>
                  </a:lnTo>
                  <a:lnTo>
                    <a:pt x="67193" y="1024440"/>
                  </a:lnTo>
                  <a:lnTo>
                    <a:pt x="170225" y="1006273"/>
                  </a:lnTo>
                  <a:close/>
                  <a:moveTo>
                    <a:pt x="1681368" y="945892"/>
                  </a:moveTo>
                  <a:lnTo>
                    <a:pt x="1793516" y="956550"/>
                  </a:lnTo>
                  <a:lnTo>
                    <a:pt x="1783173" y="973649"/>
                  </a:lnTo>
                  <a:lnTo>
                    <a:pt x="1679909" y="963835"/>
                  </a:lnTo>
                  <a:lnTo>
                    <a:pt x="1681368" y="945892"/>
                  </a:lnTo>
                  <a:close/>
                  <a:moveTo>
                    <a:pt x="162034" y="938372"/>
                  </a:moveTo>
                  <a:lnTo>
                    <a:pt x="164191" y="956254"/>
                  </a:lnTo>
                  <a:lnTo>
                    <a:pt x="27981" y="967828"/>
                  </a:lnTo>
                  <a:lnTo>
                    <a:pt x="16164" y="950767"/>
                  </a:lnTo>
                  <a:lnTo>
                    <a:pt x="162034" y="938372"/>
                  </a:lnTo>
                  <a:close/>
                  <a:moveTo>
                    <a:pt x="1683923" y="877596"/>
                  </a:moveTo>
                  <a:lnTo>
                    <a:pt x="1844621" y="878397"/>
                  </a:lnTo>
                  <a:lnTo>
                    <a:pt x="1831855" y="893168"/>
                  </a:lnTo>
                  <a:lnTo>
                    <a:pt x="1829946" y="896325"/>
                  </a:lnTo>
                  <a:lnTo>
                    <a:pt x="1684266" y="895598"/>
                  </a:lnTo>
                  <a:lnTo>
                    <a:pt x="1683923" y="877596"/>
                  </a:lnTo>
                  <a:close/>
                  <a:moveTo>
                    <a:pt x="14676" y="869273"/>
                  </a:moveTo>
                  <a:lnTo>
                    <a:pt x="160356" y="869999"/>
                  </a:lnTo>
                  <a:lnTo>
                    <a:pt x="160699" y="888001"/>
                  </a:lnTo>
                  <a:lnTo>
                    <a:pt x="0" y="887200"/>
                  </a:lnTo>
                  <a:lnTo>
                    <a:pt x="12766" y="872429"/>
                  </a:lnTo>
                  <a:lnTo>
                    <a:pt x="14676" y="869273"/>
                  </a:lnTo>
                  <a:close/>
                  <a:moveTo>
                    <a:pt x="1816638" y="797770"/>
                  </a:moveTo>
                  <a:lnTo>
                    <a:pt x="1828455" y="814831"/>
                  </a:lnTo>
                  <a:lnTo>
                    <a:pt x="1682588" y="827227"/>
                  </a:lnTo>
                  <a:lnTo>
                    <a:pt x="1680430" y="809345"/>
                  </a:lnTo>
                  <a:lnTo>
                    <a:pt x="1816638" y="797770"/>
                  </a:lnTo>
                  <a:close/>
                  <a:moveTo>
                    <a:pt x="61447" y="791950"/>
                  </a:moveTo>
                  <a:lnTo>
                    <a:pt x="164713" y="801763"/>
                  </a:lnTo>
                  <a:lnTo>
                    <a:pt x="163253" y="819705"/>
                  </a:lnTo>
                  <a:lnTo>
                    <a:pt x="51105" y="809048"/>
                  </a:lnTo>
                  <a:lnTo>
                    <a:pt x="61447" y="791950"/>
                  </a:lnTo>
                  <a:close/>
                  <a:moveTo>
                    <a:pt x="1766145" y="724870"/>
                  </a:moveTo>
                  <a:lnTo>
                    <a:pt x="1777427" y="741158"/>
                  </a:lnTo>
                  <a:lnTo>
                    <a:pt x="1674396" y="759325"/>
                  </a:lnTo>
                  <a:lnTo>
                    <a:pt x="1673685" y="753429"/>
                  </a:lnTo>
                  <a:lnTo>
                    <a:pt x="1670588" y="741719"/>
                  </a:lnTo>
                  <a:lnTo>
                    <a:pt x="1766145" y="724870"/>
                  </a:lnTo>
                  <a:close/>
                  <a:moveTo>
                    <a:pt x="94047" y="719066"/>
                  </a:moveTo>
                  <a:lnTo>
                    <a:pt x="175129" y="734198"/>
                  </a:lnTo>
                  <a:lnTo>
                    <a:pt x="171900" y="751906"/>
                  </a:lnTo>
                  <a:lnTo>
                    <a:pt x="87480" y="736151"/>
                  </a:lnTo>
                  <a:lnTo>
                    <a:pt x="94047" y="719066"/>
                  </a:lnTo>
                  <a:close/>
                  <a:moveTo>
                    <a:pt x="1732475" y="654227"/>
                  </a:moveTo>
                  <a:lnTo>
                    <a:pt x="1740061" y="670822"/>
                  </a:lnTo>
                  <a:lnTo>
                    <a:pt x="1657733" y="693102"/>
                  </a:lnTo>
                  <a:lnTo>
                    <a:pt x="1653131" y="675699"/>
                  </a:lnTo>
                  <a:lnTo>
                    <a:pt x="1732475" y="654227"/>
                  </a:lnTo>
                  <a:close/>
                  <a:moveTo>
                    <a:pt x="121093" y="648021"/>
                  </a:moveTo>
                  <a:lnTo>
                    <a:pt x="193564" y="668412"/>
                  </a:lnTo>
                  <a:lnTo>
                    <a:pt x="187778" y="685483"/>
                  </a:lnTo>
                  <a:lnTo>
                    <a:pt x="114844" y="664963"/>
                  </a:lnTo>
                  <a:lnTo>
                    <a:pt x="120799" y="649471"/>
                  </a:lnTo>
                  <a:lnTo>
                    <a:pt x="121093" y="648021"/>
                  </a:lnTo>
                  <a:close/>
                  <a:moveTo>
                    <a:pt x="1703605" y="584417"/>
                  </a:moveTo>
                  <a:lnTo>
                    <a:pt x="1707892" y="600448"/>
                  </a:lnTo>
                  <a:lnTo>
                    <a:pt x="1708508" y="601796"/>
                  </a:lnTo>
                  <a:lnTo>
                    <a:pt x="1640259" y="627022"/>
                  </a:lnTo>
                  <a:lnTo>
                    <a:pt x="1639049" y="622444"/>
                  </a:lnTo>
                  <a:lnTo>
                    <a:pt x="1633440" y="610352"/>
                  </a:lnTo>
                  <a:lnTo>
                    <a:pt x="1703605" y="584417"/>
                  </a:lnTo>
                  <a:close/>
                  <a:moveTo>
                    <a:pt x="136138" y="573632"/>
                  </a:moveTo>
                  <a:lnTo>
                    <a:pt x="215446" y="603848"/>
                  </a:lnTo>
                  <a:lnTo>
                    <a:pt x="209665" y="620908"/>
                  </a:lnTo>
                  <a:lnTo>
                    <a:pt x="132521" y="591516"/>
                  </a:lnTo>
                  <a:lnTo>
                    <a:pt x="136138" y="573632"/>
                  </a:lnTo>
                  <a:close/>
                  <a:moveTo>
                    <a:pt x="1683900" y="510741"/>
                  </a:moveTo>
                  <a:lnTo>
                    <a:pt x="1688629" y="528423"/>
                  </a:lnTo>
                  <a:lnTo>
                    <a:pt x="1612275" y="564725"/>
                  </a:lnTo>
                  <a:lnTo>
                    <a:pt x="1604700" y="548396"/>
                  </a:lnTo>
                  <a:lnTo>
                    <a:pt x="1683900" y="510741"/>
                  </a:lnTo>
                  <a:close/>
                  <a:moveTo>
                    <a:pt x="147252" y="494765"/>
                  </a:moveTo>
                  <a:lnTo>
                    <a:pt x="243177" y="541551"/>
                  </a:lnTo>
                  <a:lnTo>
                    <a:pt x="234224" y="557210"/>
                  </a:lnTo>
                  <a:lnTo>
                    <a:pt x="146805" y="514573"/>
                  </a:lnTo>
                  <a:lnTo>
                    <a:pt x="147252" y="494765"/>
                  </a:lnTo>
                  <a:close/>
                  <a:moveTo>
                    <a:pt x="1670480" y="430384"/>
                  </a:moveTo>
                  <a:lnTo>
                    <a:pt x="1672163" y="450296"/>
                  </a:lnTo>
                  <a:lnTo>
                    <a:pt x="1583450" y="502701"/>
                  </a:lnTo>
                  <a:lnTo>
                    <a:pt x="1573155" y="487877"/>
                  </a:lnTo>
                  <a:lnTo>
                    <a:pt x="1670480" y="430384"/>
                  </a:lnTo>
                  <a:close/>
                  <a:moveTo>
                    <a:pt x="149273" y="405169"/>
                  </a:moveTo>
                  <a:lnTo>
                    <a:pt x="277016" y="482359"/>
                  </a:lnTo>
                  <a:lnTo>
                    <a:pt x="268080" y="497989"/>
                  </a:lnTo>
                  <a:lnTo>
                    <a:pt x="148805" y="425916"/>
                  </a:lnTo>
                  <a:lnTo>
                    <a:pt x="149273" y="405169"/>
                  </a:lnTo>
                  <a:close/>
                  <a:moveTo>
                    <a:pt x="195968" y="338361"/>
                  </a:moveTo>
                  <a:lnTo>
                    <a:pt x="314600" y="425459"/>
                  </a:lnTo>
                  <a:lnTo>
                    <a:pt x="302826" y="439145"/>
                  </a:lnTo>
                  <a:lnTo>
                    <a:pt x="173559" y="344239"/>
                  </a:lnTo>
                  <a:lnTo>
                    <a:pt x="192568" y="339792"/>
                  </a:lnTo>
                  <a:lnTo>
                    <a:pt x="195968" y="338361"/>
                  </a:lnTo>
                  <a:close/>
                  <a:moveTo>
                    <a:pt x="1665887" y="337121"/>
                  </a:moveTo>
                  <a:lnTo>
                    <a:pt x="1664242" y="356571"/>
                  </a:lnTo>
                  <a:lnTo>
                    <a:pt x="1664553" y="360248"/>
                  </a:lnTo>
                  <a:lnTo>
                    <a:pt x="1544474" y="446578"/>
                  </a:lnTo>
                  <a:lnTo>
                    <a:pt x="1534206" y="431793"/>
                  </a:lnTo>
                  <a:lnTo>
                    <a:pt x="1665887" y="337121"/>
                  </a:lnTo>
                  <a:close/>
                  <a:moveTo>
                    <a:pt x="279257" y="303297"/>
                  </a:moveTo>
                  <a:lnTo>
                    <a:pt x="359087" y="373748"/>
                  </a:lnTo>
                  <a:lnTo>
                    <a:pt x="347347" y="387394"/>
                  </a:lnTo>
                  <a:lnTo>
                    <a:pt x="260839" y="311051"/>
                  </a:lnTo>
                  <a:lnTo>
                    <a:pt x="279257" y="303297"/>
                  </a:lnTo>
                  <a:close/>
                  <a:moveTo>
                    <a:pt x="1595859" y="288337"/>
                  </a:moveTo>
                  <a:lnTo>
                    <a:pt x="1615448" y="295194"/>
                  </a:lnTo>
                  <a:lnTo>
                    <a:pt x="1504459" y="391189"/>
                  </a:lnTo>
                  <a:lnTo>
                    <a:pt x="1491819" y="378322"/>
                  </a:lnTo>
                  <a:lnTo>
                    <a:pt x="1595859" y="288337"/>
                  </a:lnTo>
                  <a:close/>
                  <a:moveTo>
                    <a:pt x="348471" y="263494"/>
                  </a:moveTo>
                  <a:lnTo>
                    <a:pt x="405504" y="323744"/>
                  </a:lnTo>
                  <a:lnTo>
                    <a:pt x="394934" y="332080"/>
                  </a:lnTo>
                  <a:lnTo>
                    <a:pt x="391923" y="335581"/>
                  </a:lnTo>
                  <a:lnTo>
                    <a:pt x="333116" y="273456"/>
                  </a:lnTo>
                  <a:lnTo>
                    <a:pt x="348471" y="263494"/>
                  </a:lnTo>
                  <a:close/>
                  <a:moveTo>
                    <a:pt x="1512159" y="259039"/>
                  </a:moveTo>
                  <a:lnTo>
                    <a:pt x="1530860" y="265585"/>
                  </a:lnTo>
                  <a:lnTo>
                    <a:pt x="1456606" y="342477"/>
                  </a:lnTo>
                  <a:lnTo>
                    <a:pt x="1443988" y="329632"/>
                  </a:lnTo>
                  <a:lnTo>
                    <a:pt x="1512159" y="259039"/>
                  </a:lnTo>
                  <a:close/>
                  <a:moveTo>
                    <a:pt x="412110" y="221916"/>
                  </a:moveTo>
                  <a:lnTo>
                    <a:pt x="459114" y="281464"/>
                  </a:lnTo>
                  <a:lnTo>
                    <a:pt x="444980" y="292610"/>
                  </a:lnTo>
                  <a:lnTo>
                    <a:pt x="397097" y="231949"/>
                  </a:lnTo>
                  <a:lnTo>
                    <a:pt x="411019" y="222917"/>
                  </a:lnTo>
                  <a:lnTo>
                    <a:pt x="412110" y="221916"/>
                  </a:lnTo>
                  <a:close/>
                  <a:moveTo>
                    <a:pt x="1443396" y="221678"/>
                  </a:moveTo>
                  <a:lnTo>
                    <a:pt x="1459286" y="230644"/>
                  </a:lnTo>
                  <a:lnTo>
                    <a:pt x="1406897" y="295670"/>
                  </a:lnTo>
                  <a:lnTo>
                    <a:pt x="1392300" y="285098"/>
                  </a:lnTo>
                  <a:lnTo>
                    <a:pt x="1443396" y="221678"/>
                  </a:lnTo>
                  <a:close/>
                  <a:moveTo>
                    <a:pt x="1379005" y="182170"/>
                  </a:moveTo>
                  <a:lnTo>
                    <a:pt x="1391896" y="192619"/>
                  </a:lnTo>
                  <a:lnTo>
                    <a:pt x="1393186" y="193347"/>
                  </a:lnTo>
                  <a:lnTo>
                    <a:pt x="1351622" y="255636"/>
                  </a:lnTo>
                  <a:lnTo>
                    <a:pt x="1337034" y="245070"/>
                  </a:lnTo>
                  <a:lnTo>
                    <a:pt x="1379005" y="182170"/>
                  </a:lnTo>
                  <a:close/>
                  <a:moveTo>
                    <a:pt x="468008" y="170577"/>
                  </a:moveTo>
                  <a:lnTo>
                    <a:pt x="513069" y="239589"/>
                  </a:lnTo>
                  <a:lnTo>
                    <a:pt x="510638" y="240828"/>
                  </a:lnTo>
                  <a:lnTo>
                    <a:pt x="498586" y="250333"/>
                  </a:lnTo>
                  <a:lnTo>
                    <a:pt x="454568" y="182920"/>
                  </a:lnTo>
                  <a:lnTo>
                    <a:pt x="468008" y="170577"/>
                  </a:lnTo>
                  <a:close/>
                  <a:moveTo>
                    <a:pt x="1319759" y="134146"/>
                  </a:moveTo>
                  <a:lnTo>
                    <a:pt x="1333978" y="145672"/>
                  </a:lnTo>
                  <a:lnTo>
                    <a:pt x="1294036" y="219016"/>
                  </a:lnTo>
                  <a:lnTo>
                    <a:pt x="1277891" y="211027"/>
                  </a:lnTo>
                  <a:lnTo>
                    <a:pt x="1319759" y="134146"/>
                  </a:lnTo>
                  <a:close/>
                  <a:moveTo>
                    <a:pt x="523355" y="113305"/>
                  </a:moveTo>
                  <a:lnTo>
                    <a:pt x="573987" y="208530"/>
                  </a:lnTo>
                  <a:lnTo>
                    <a:pt x="557949" y="216707"/>
                  </a:lnTo>
                  <a:lnTo>
                    <a:pt x="511350" y="129068"/>
                  </a:lnTo>
                  <a:lnTo>
                    <a:pt x="523355" y="113305"/>
                  </a:lnTo>
                  <a:close/>
                  <a:moveTo>
                    <a:pt x="1261668" y="77024"/>
                  </a:moveTo>
                  <a:lnTo>
                    <a:pt x="1274734" y="92144"/>
                  </a:lnTo>
                  <a:lnTo>
                    <a:pt x="1232872" y="188750"/>
                  </a:lnTo>
                  <a:lnTo>
                    <a:pt x="1216718" y="180757"/>
                  </a:lnTo>
                  <a:lnTo>
                    <a:pt x="1261668" y="77024"/>
                  </a:lnTo>
                  <a:close/>
                  <a:moveTo>
                    <a:pt x="879964" y="47539"/>
                  </a:moveTo>
                  <a:lnTo>
                    <a:pt x="896536" y="48415"/>
                  </a:lnTo>
                  <a:lnTo>
                    <a:pt x="898006" y="48246"/>
                  </a:lnTo>
                  <a:lnTo>
                    <a:pt x="900930" y="121496"/>
                  </a:lnTo>
                  <a:lnTo>
                    <a:pt x="882930" y="121839"/>
                  </a:lnTo>
                  <a:lnTo>
                    <a:pt x="879964" y="47539"/>
                  </a:lnTo>
                  <a:close/>
                  <a:moveTo>
                    <a:pt x="803804" y="43511"/>
                  </a:moveTo>
                  <a:lnTo>
                    <a:pt x="822082" y="44478"/>
                  </a:lnTo>
                  <a:lnTo>
                    <a:pt x="832792" y="126618"/>
                  </a:lnTo>
                  <a:lnTo>
                    <a:pt x="814920" y="128774"/>
                  </a:lnTo>
                  <a:lnTo>
                    <a:pt x="803804" y="43511"/>
                  </a:lnTo>
                  <a:close/>
                  <a:moveTo>
                    <a:pt x="577653" y="42008"/>
                  </a:moveTo>
                  <a:lnTo>
                    <a:pt x="634782" y="177534"/>
                  </a:lnTo>
                  <a:lnTo>
                    <a:pt x="618704" y="185731"/>
                  </a:lnTo>
                  <a:lnTo>
                    <a:pt x="565079" y="58518"/>
                  </a:lnTo>
                  <a:lnTo>
                    <a:pt x="577653" y="42008"/>
                  </a:lnTo>
                  <a:close/>
                  <a:moveTo>
                    <a:pt x="973404" y="39567"/>
                  </a:moveTo>
                  <a:lnTo>
                    <a:pt x="969228" y="123258"/>
                  </a:lnTo>
                  <a:lnTo>
                    <a:pt x="951312" y="121130"/>
                  </a:lnTo>
                  <a:lnTo>
                    <a:pt x="955278" y="41654"/>
                  </a:lnTo>
                  <a:lnTo>
                    <a:pt x="973404" y="39567"/>
                  </a:lnTo>
                  <a:close/>
                  <a:moveTo>
                    <a:pt x="723233" y="31443"/>
                  </a:moveTo>
                  <a:lnTo>
                    <a:pt x="742691" y="35995"/>
                  </a:lnTo>
                  <a:lnTo>
                    <a:pt x="765354" y="137622"/>
                  </a:lnTo>
                  <a:lnTo>
                    <a:pt x="747791" y="141567"/>
                  </a:lnTo>
                  <a:lnTo>
                    <a:pt x="723233" y="31443"/>
                  </a:lnTo>
                  <a:close/>
                  <a:moveTo>
                    <a:pt x="1051847" y="25765"/>
                  </a:moveTo>
                  <a:lnTo>
                    <a:pt x="1037014" y="131308"/>
                  </a:lnTo>
                  <a:lnTo>
                    <a:pt x="1019135" y="129184"/>
                  </a:lnTo>
                  <a:lnTo>
                    <a:pt x="1032869" y="31462"/>
                  </a:lnTo>
                  <a:lnTo>
                    <a:pt x="1051847" y="25765"/>
                  </a:lnTo>
                  <a:close/>
                  <a:moveTo>
                    <a:pt x="633115" y="6990"/>
                  </a:moveTo>
                  <a:lnTo>
                    <a:pt x="651107" y="14566"/>
                  </a:lnTo>
                  <a:lnTo>
                    <a:pt x="654699" y="15406"/>
                  </a:lnTo>
                  <a:lnTo>
                    <a:pt x="699105" y="154429"/>
                  </a:lnTo>
                  <a:lnTo>
                    <a:pt x="682029" y="160125"/>
                  </a:lnTo>
                  <a:lnTo>
                    <a:pt x="633115" y="6990"/>
                  </a:lnTo>
                  <a:close/>
                  <a:moveTo>
                    <a:pt x="1203134" y="4273"/>
                  </a:moveTo>
                  <a:lnTo>
                    <a:pt x="1213236" y="20976"/>
                  </a:lnTo>
                  <a:lnTo>
                    <a:pt x="1215649" y="23769"/>
                  </a:lnTo>
                  <a:lnTo>
                    <a:pt x="1169442" y="163605"/>
                  </a:lnTo>
                  <a:lnTo>
                    <a:pt x="1152188" y="158449"/>
                  </a:lnTo>
                  <a:lnTo>
                    <a:pt x="1203134" y="4273"/>
                  </a:lnTo>
                  <a:close/>
                  <a:moveTo>
                    <a:pt x="1137683" y="0"/>
                  </a:moveTo>
                  <a:lnTo>
                    <a:pt x="1104046" y="144062"/>
                  </a:lnTo>
                  <a:lnTo>
                    <a:pt x="1086767" y="138898"/>
                  </a:lnTo>
                  <a:lnTo>
                    <a:pt x="1117806" y="5966"/>
                  </a:lnTo>
                  <a:lnTo>
                    <a:pt x="1137683" y="0"/>
                  </a:lnTo>
                  <a:close/>
                </a:path>
              </a:pathLst>
            </a:custGeom>
            <a:solidFill>
              <a:srgbClr val="b9cde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4" name="MH_SubTitle_1"/>
            <p:cNvSpPr/>
            <p:nvPr/>
          </p:nvSpPr>
          <p:spPr>
            <a:xfrm>
              <a:off x="5977800" y="1227960"/>
              <a:ext cx="1400760" cy="1376280"/>
            </a:xfrm>
            <a:prstGeom prst="pie">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交换过程</a:t>
              </a:r>
              <a:endParaRPr b="0" lang="en-US" sz="1800" spc="-1" strike="noStrike">
                <a:solidFill>
                  <a:srgbClr val="000000"/>
                </a:solidFill>
                <a:latin typeface="Arial"/>
              </a:endParaRPr>
            </a:p>
          </p:txBody>
        </p:sp>
        <p:sp>
          <p:nvSpPr>
            <p:cNvPr id="565" name="MH_Other_2"/>
            <p:cNvSpPr/>
            <p:nvPr/>
          </p:nvSpPr>
          <p:spPr>
            <a:xfrm>
              <a:off x="6116400" y="1227960"/>
              <a:ext cx="1117440" cy="285480"/>
            </a:xfrm>
            <a:prstGeom prst="pie">
              <a:avLst/>
            </a:prstGeom>
            <a:solidFill>
              <a:srgbClr val="4f81bd"/>
            </a:solidFill>
            <a:ln w="0">
              <a:noFill/>
            </a:ln>
          </p:spPr>
          <p:style>
            <a:lnRef idx="0"/>
            <a:fillRef idx="0"/>
            <a:effectRef idx="0"/>
            <a:fontRef idx="minor"/>
          </p:style>
          <p:txBody>
            <a:bodyPr lIns="90000" rIns="90000" tIns="46800" bIns="46800" anchor="ctr">
              <a:normAutofit fontScale="5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02</a:t>
              </a:r>
              <a:endParaRPr b="0" lang="en-US" sz="2400" spc="-1" strike="noStrike">
                <a:solidFill>
                  <a:srgbClr val="000000"/>
                </a:solidFill>
                <a:latin typeface="Arial"/>
              </a:endParaRPr>
            </a:p>
          </p:txBody>
        </p:sp>
      </p:grpSp>
      <p:grpSp>
        <p:nvGrpSpPr>
          <p:cNvPr id="566" name="Group 47"/>
          <p:cNvGrpSpPr/>
          <p:nvPr/>
        </p:nvGrpSpPr>
        <p:grpSpPr>
          <a:xfrm>
            <a:off x="3384720" y="2565360"/>
            <a:ext cx="1836720" cy="1728720"/>
            <a:chOff x="3384720" y="2565360"/>
            <a:chExt cx="1836720" cy="1728720"/>
          </a:xfrm>
        </p:grpSpPr>
        <p:sp>
          <p:nvSpPr>
            <p:cNvPr id="567" name="MH_Other_1"/>
            <p:cNvSpPr/>
            <p:nvPr/>
          </p:nvSpPr>
          <p:spPr>
            <a:xfrm>
              <a:off x="3384720" y="2565360"/>
              <a:ext cx="1836720" cy="1728720"/>
            </a:xfrm>
            <a:custGeom>
              <a:avLst/>
              <a:gdLst/>
              <a:ahLst/>
              <a:rect l="l" t="t" r="r" b="b"/>
              <a:pathLst>
                <a:path w="1844621" h="1765598">
                  <a:moveTo>
                    <a:pt x="961691" y="1643760"/>
                  </a:moveTo>
                  <a:lnTo>
                    <a:pt x="964657" y="1718060"/>
                  </a:lnTo>
                  <a:lnTo>
                    <a:pt x="948083" y="1717184"/>
                  </a:lnTo>
                  <a:lnTo>
                    <a:pt x="946614" y="1717353"/>
                  </a:lnTo>
                  <a:lnTo>
                    <a:pt x="943691" y="1644103"/>
                  </a:lnTo>
                  <a:lnTo>
                    <a:pt x="961691" y="1643760"/>
                  </a:lnTo>
                  <a:close/>
                  <a:moveTo>
                    <a:pt x="875350" y="1643169"/>
                  </a:moveTo>
                  <a:lnTo>
                    <a:pt x="893299" y="1644629"/>
                  </a:lnTo>
                  <a:lnTo>
                    <a:pt x="889341" y="1723945"/>
                  </a:lnTo>
                  <a:lnTo>
                    <a:pt x="871214" y="1726031"/>
                  </a:lnTo>
                  <a:lnTo>
                    <a:pt x="875350" y="1643169"/>
                  </a:lnTo>
                  <a:close/>
                  <a:moveTo>
                    <a:pt x="1029699" y="1636826"/>
                  </a:moveTo>
                  <a:lnTo>
                    <a:pt x="1040815" y="1722087"/>
                  </a:lnTo>
                  <a:lnTo>
                    <a:pt x="1022537" y="1721121"/>
                  </a:lnTo>
                  <a:lnTo>
                    <a:pt x="1011828" y="1638982"/>
                  </a:lnTo>
                  <a:lnTo>
                    <a:pt x="1029699" y="1636826"/>
                  </a:lnTo>
                  <a:close/>
                  <a:moveTo>
                    <a:pt x="807350" y="1636115"/>
                  </a:moveTo>
                  <a:lnTo>
                    <a:pt x="822430" y="1638864"/>
                  </a:lnTo>
                  <a:lnTo>
                    <a:pt x="825110" y="1639083"/>
                  </a:lnTo>
                  <a:lnTo>
                    <a:pt x="811751" y="1734136"/>
                  </a:lnTo>
                  <a:lnTo>
                    <a:pt x="792774" y="1739833"/>
                  </a:lnTo>
                  <a:lnTo>
                    <a:pt x="807350" y="1636115"/>
                  </a:lnTo>
                  <a:close/>
                  <a:moveTo>
                    <a:pt x="1096827" y="1624033"/>
                  </a:moveTo>
                  <a:lnTo>
                    <a:pt x="1121385" y="1734155"/>
                  </a:lnTo>
                  <a:lnTo>
                    <a:pt x="1101928" y="1729603"/>
                  </a:lnTo>
                  <a:lnTo>
                    <a:pt x="1079265" y="1627978"/>
                  </a:lnTo>
                  <a:lnTo>
                    <a:pt x="1096827" y="1624033"/>
                  </a:lnTo>
                  <a:close/>
                  <a:moveTo>
                    <a:pt x="740342" y="1622534"/>
                  </a:moveTo>
                  <a:lnTo>
                    <a:pt x="749046" y="1625484"/>
                  </a:lnTo>
                  <a:lnTo>
                    <a:pt x="757767" y="1627074"/>
                  </a:lnTo>
                  <a:lnTo>
                    <a:pt x="726815" y="1759631"/>
                  </a:lnTo>
                  <a:lnTo>
                    <a:pt x="706937" y="1765598"/>
                  </a:lnTo>
                  <a:lnTo>
                    <a:pt x="740342" y="1622534"/>
                  </a:lnTo>
                  <a:close/>
                  <a:moveTo>
                    <a:pt x="1162592" y="1605474"/>
                  </a:moveTo>
                  <a:lnTo>
                    <a:pt x="1211506" y="1758609"/>
                  </a:lnTo>
                  <a:lnTo>
                    <a:pt x="1193512" y="1751032"/>
                  </a:lnTo>
                  <a:lnTo>
                    <a:pt x="1189921" y="1750192"/>
                  </a:lnTo>
                  <a:lnTo>
                    <a:pt x="1145515" y="1611170"/>
                  </a:lnTo>
                  <a:lnTo>
                    <a:pt x="1162592" y="1605474"/>
                  </a:lnTo>
                  <a:close/>
                  <a:moveTo>
                    <a:pt x="675637" y="1600604"/>
                  </a:moveTo>
                  <a:lnTo>
                    <a:pt x="692686" y="1606382"/>
                  </a:lnTo>
                  <a:lnTo>
                    <a:pt x="641486" y="1761326"/>
                  </a:lnTo>
                  <a:lnTo>
                    <a:pt x="631383" y="1744623"/>
                  </a:lnTo>
                  <a:lnTo>
                    <a:pt x="628970" y="1741831"/>
                  </a:lnTo>
                  <a:lnTo>
                    <a:pt x="675637" y="1600604"/>
                  </a:lnTo>
                  <a:close/>
                  <a:moveTo>
                    <a:pt x="1225916" y="1579868"/>
                  </a:moveTo>
                  <a:lnTo>
                    <a:pt x="1279540" y="1707080"/>
                  </a:lnTo>
                  <a:lnTo>
                    <a:pt x="1266966" y="1723591"/>
                  </a:lnTo>
                  <a:lnTo>
                    <a:pt x="1209837" y="1588066"/>
                  </a:lnTo>
                  <a:lnTo>
                    <a:pt x="1225916" y="1579868"/>
                  </a:lnTo>
                  <a:close/>
                  <a:moveTo>
                    <a:pt x="610954" y="1578681"/>
                  </a:moveTo>
                  <a:lnTo>
                    <a:pt x="628059" y="1584478"/>
                  </a:lnTo>
                  <a:lnTo>
                    <a:pt x="582951" y="1688574"/>
                  </a:lnTo>
                  <a:lnTo>
                    <a:pt x="569886" y="1673454"/>
                  </a:lnTo>
                  <a:lnTo>
                    <a:pt x="610954" y="1578681"/>
                  </a:lnTo>
                  <a:close/>
                  <a:moveTo>
                    <a:pt x="1286670" y="1548893"/>
                  </a:moveTo>
                  <a:lnTo>
                    <a:pt x="1333269" y="1636531"/>
                  </a:lnTo>
                  <a:lnTo>
                    <a:pt x="1321264" y="1652294"/>
                  </a:lnTo>
                  <a:lnTo>
                    <a:pt x="1270632" y="1557070"/>
                  </a:lnTo>
                  <a:lnTo>
                    <a:pt x="1286670" y="1548893"/>
                  </a:lnTo>
                  <a:close/>
                  <a:moveTo>
                    <a:pt x="551444" y="1545001"/>
                  </a:moveTo>
                  <a:lnTo>
                    <a:pt x="567074" y="1553937"/>
                  </a:lnTo>
                  <a:lnTo>
                    <a:pt x="524862" y="1631452"/>
                  </a:lnTo>
                  <a:lnTo>
                    <a:pt x="510642" y="1619926"/>
                  </a:lnTo>
                  <a:lnTo>
                    <a:pt x="551444" y="1545001"/>
                  </a:lnTo>
                  <a:close/>
                  <a:moveTo>
                    <a:pt x="1346034" y="1515267"/>
                  </a:moveTo>
                  <a:lnTo>
                    <a:pt x="1390051" y="1582679"/>
                  </a:lnTo>
                  <a:lnTo>
                    <a:pt x="1376613" y="1595021"/>
                  </a:lnTo>
                  <a:lnTo>
                    <a:pt x="1331552" y="1526010"/>
                  </a:lnTo>
                  <a:lnTo>
                    <a:pt x="1333983" y="1524770"/>
                  </a:lnTo>
                  <a:lnTo>
                    <a:pt x="1346034" y="1515267"/>
                  </a:lnTo>
                  <a:close/>
                  <a:moveTo>
                    <a:pt x="492213" y="1511140"/>
                  </a:moveTo>
                  <a:lnTo>
                    <a:pt x="507877" y="1520095"/>
                  </a:lnTo>
                  <a:lnTo>
                    <a:pt x="465615" y="1583429"/>
                  </a:lnTo>
                  <a:lnTo>
                    <a:pt x="452723" y="1572979"/>
                  </a:lnTo>
                  <a:lnTo>
                    <a:pt x="451434" y="1572252"/>
                  </a:lnTo>
                  <a:lnTo>
                    <a:pt x="492213" y="1511140"/>
                  </a:lnTo>
                  <a:close/>
                  <a:moveTo>
                    <a:pt x="1399641" y="1472989"/>
                  </a:moveTo>
                  <a:lnTo>
                    <a:pt x="1447523" y="1533649"/>
                  </a:lnTo>
                  <a:lnTo>
                    <a:pt x="1433600" y="1542681"/>
                  </a:lnTo>
                  <a:lnTo>
                    <a:pt x="1432510" y="1543682"/>
                  </a:lnTo>
                  <a:lnTo>
                    <a:pt x="1385507" y="1484135"/>
                  </a:lnTo>
                  <a:lnTo>
                    <a:pt x="1399641" y="1472989"/>
                  </a:lnTo>
                  <a:close/>
                  <a:moveTo>
                    <a:pt x="439084" y="1468240"/>
                  </a:moveTo>
                  <a:lnTo>
                    <a:pt x="452737" y="1479985"/>
                  </a:lnTo>
                  <a:lnTo>
                    <a:pt x="401226" y="1543921"/>
                  </a:lnTo>
                  <a:lnTo>
                    <a:pt x="385335" y="1534955"/>
                  </a:lnTo>
                  <a:lnTo>
                    <a:pt x="439084" y="1468240"/>
                  </a:lnTo>
                  <a:close/>
                  <a:moveTo>
                    <a:pt x="1452700" y="1430017"/>
                  </a:moveTo>
                  <a:lnTo>
                    <a:pt x="1511505" y="1492141"/>
                  </a:lnTo>
                  <a:lnTo>
                    <a:pt x="1496150" y="1502102"/>
                  </a:lnTo>
                  <a:lnTo>
                    <a:pt x="1439119" y="1441854"/>
                  </a:lnTo>
                  <a:lnTo>
                    <a:pt x="1449687" y="1433519"/>
                  </a:lnTo>
                  <a:lnTo>
                    <a:pt x="1452700" y="1430017"/>
                  </a:lnTo>
                  <a:close/>
                  <a:moveTo>
                    <a:pt x="387391" y="1423768"/>
                  </a:moveTo>
                  <a:lnTo>
                    <a:pt x="401059" y="1435526"/>
                  </a:lnTo>
                  <a:lnTo>
                    <a:pt x="332463" y="1506560"/>
                  </a:lnTo>
                  <a:lnTo>
                    <a:pt x="313761" y="1500014"/>
                  </a:lnTo>
                  <a:lnTo>
                    <a:pt x="387391" y="1423768"/>
                  </a:lnTo>
                  <a:close/>
                  <a:moveTo>
                    <a:pt x="1497274" y="1378205"/>
                  </a:moveTo>
                  <a:lnTo>
                    <a:pt x="1583781" y="1454547"/>
                  </a:lnTo>
                  <a:lnTo>
                    <a:pt x="1565364" y="1462300"/>
                  </a:lnTo>
                  <a:lnTo>
                    <a:pt x="1485535" y="1391850"/>
                  </a:lnTo>
                  <a:lnTo>
                    <a:pt x="1497274" y="1378205"/>
                  </a:lnTo>
                  <a:close/>
                  <a:moveTo>
                    <a:pt x="342078" y="1372754"/>
                  </a:moveTo>
                  <a:lnTo>
                    <a:pt x="353236" y="1386902"/>
                  </a:lnTo>
                  <a:lnTo>
                    <a:pt x="248764" y="1477262"/>
                  </a:lnTo>
                  <a:lnTo>
                    <a:pt x="229175" y="1470405"/>
                  </a:lnTo>
                  <a:lnTo>
                    <a:pt x="342078" y="1372754"/>
                  </a:lnTo>
                  <a:close/>
                  <a:moveTo>
                    <a:pt x="1541797" y="1326453"/>
                  </a:moveTo>
                  <a:lnTo>
                    <a:pt x="1671063" y="1421359"/>
                  </a:lnTo>
                  <a:lnTo>
                    <a:pt x="1652052" y="1425806"/>
                  </a:lnTo>
                  <a:lnTo>
                    <a:pt x="1648653" y="1427237"/>
                  </a:lnTo>
                  <a:lnTo>
                    <a:pt x="1530022" y="1340139"/>
                  </a:lnTo>
                  <a:lnTo>
                    <a:pt x="1541797" y="1326453"/>
                  </a:lnTo>
                  <a:close/>
                  <a:moveTo>
                    <a:pt x="299862" y="1319225"/>
                  </a:moveTo>
                  <a:lnTo>
                    <a:pt x="311019" y="1333372"/>
                  </a:lnTo>
                  <a:lnTo>
                    <a:pt x="178732" y="1428480"/>
                  </a:lnTo>
                  <a:lnTo>
                    <a:pt x="180377" y="1409027"/>
                  </a:lnTo>
                  <a:lnTo>
                    <a:pt x="180067" y="1405352"/>
                  </a:lnTo>
                  <a:lnTo>
                    <a:pt x="299862" y="1319225"/>
                  </a:lnTo>
                  <a:close/>
                  <a:moveTo>
                    <a:pt x="1576542" y="1267609"/>
                  </a:moveTo>
                  <a:lnTo>
                    <a:pt x="1695816" y="1339681"/>
                  </a:lnTo>
                  <a:lnTo>
                    <a:pt x="1695348" y="1360430"/>
                  </a:lnTo>
                  <a:lnTo>
                    <a:pt x="1567606" y="1283241"/>
                  </a:lnTo>
                  <a:lnTo>
                    <a:pt x="1576542" y="1267609"/>
                  </a:lnTo>
                  <a:close/>
                  <a:moveTo>
                    <a:pt x="263531" y="1261503"/>
                  </a:moveTo>
                  <a:lnTo>
                    <a:pt x="271723" y="1277570"/>
                  </a:lnTo>
                  <a:lnTo>
                    <a:pt x="174140" y="1335215"/>
                  </a:lnTo>
                  <a:lnTo>
                    <a:pt x="172457" y="1315303"/>
                  </a:lnTo>
                  <a:lnTo>
                    <a:pt x="263531" y="1261503"/>
                  </a:lnTo>
                  <a:close/>
                  <a:moveTo>
                    <a:pt x="1610398" y="1208387"/>
                  </a:moveTo>
                  <a:lnTo>
                    <a:pt x="1697816" y="1251024"/>
                  </a:lnTo>
                  <a:lnTo>
                    <a:pt x="1697369" y="1270832"/>
                  </a:lnTo>
                  <a:lnTo>
                    <a:pt x="1601446" y="1224047"/>
                  </a:lnTo>
                  <a:lnTo>
                    <a:pt x="1610398" y="1208387"/>
                  </a:lnTo>
                  <a:close/>
                  <a:moveTo>
                    <a:pt x="232566" y="1200770"/>
                  </a:moveTo>
                  <a:lnTo>
                    <a:pt x="240745" y="1216812"/>
                  </a:lnTo>
                  <a:lnTo>
                    <a:pt x="160720" y="1254859"/>
                  </a:lnTo>
                  <a:lnTo>
                    <a:pt x="155991" y="1237178"/>
                  </a:lnTo>
                  <a:lnTo>
                    <a:pt x="232566" y="1200770"/>
                  </a:lnTo>
                  <a:close/>
                  <a:moveTo>
                    <a:pt x="1634958" y="1144690"/>
                  </a:moveTo>
                  <a:lnTo>
                    <a:pt x="1712099" y="1174082"/>
                  </a:lnTo>
                  <a:lnTo>
                    <a:pt x="1708482" y="1191966"/>
                  </a:lnTo>
                  <a:lnTo>
                    <a:pt x="1629176" y="1161750"/>
                  </a:lnTo>
                  <a:lnTo>
                    <a:pt x="1634958" y="1144690"/>
                  </a:lnTo>
                  <a:close/>
                  <a:moveTo>
                    <a:pt x="204756" y="1138431"/>
                  </a:moveTo>
                  <a:lnTo>
                    <a:pt x="210455" y="1155515"/>
                  </a:lnTo>
                  <a:lnTo>
                    <a:pt x="141015" y="1181182"/>
                  </a:lnTo>
                  <a:lnTo>
                    <a:pt x="136727" y="1165150"/>
                  </a:lnTo>
                  <a:lnTo>
                    <a:pt x="136112" y="1163804"/>
                  </a:lnTo>
                  <a:lnTo>
                    <a:pt x="204756" y="1138431"/>
                  </a:lnTo>
                  <a:close/>
                  <a:moveTo>
                    <a:pt x="1656844" y="1080115"/>
                  </a:moveTo>
                  <a:lnTo>
                    <a:pt x="1729776" y="1100634"/>
                  </a:lnTo>
                  <a:lnTo>
                    <a:pt x="1723821" y="1116126"/>
                  </a:lnTo>
                  <a:lnTo>
                    <a:pt x="1723528" y="1117576"/>
                  </a:lnTo>
                  <a:lnTo>
                    <a:pt x="1651058" y="1097186"/>
                  </a:lnTo>
                  <a:lnTo>
                    <a:pt x="1656844" y="1080115"/>
                  </a:lnTo>
                  <a:close/>
                  <a:moveTo>
                    <a:pt x="184625" y="1073110"/>
                  </a:moveTo>
                  <a:lnTo>
                    <a:pt x="188043" y="1088326"/>
                  </a:lnTo>
                  <a:lnTo>
                    <a:pt x="188810" y="1090624"/>
                  </a:lnTo>
                  <a:lnTo>
                    <a:pt x="112145" y="1111372"/>
                  </a:lnTo>
                  <a:lnTo>
                    <a:pt x="104560" y="1094778"/>
                  </a:lnTo>
                  <a:lnTo>
                    <a:pt x="184625" y="1073110"/>
                  </a:lnTo>
                  <a:close/>
                  <a:moveTo>
                    <a:pt x="1672722" y="1013691"/>
                  </a:moveTo>
                  <a:lnTo>
                    <a:pt x="1757141" y="1029446"/>
                  </a:lnTo>
                  <a:lnTo>
                    <a:pt x="1750574" y="1046531"/>
                  </a:lnTo>
                  <a:lnTo>
                    <a:pt x="1669493" y="1031399"/>
                  </a:lnTo>
                  <a:lnTo>
                    <a:pt x="1672722" y="1013691"/>
                  </a:lnTo>
                  <a:close/>
                  <a:moveTo>
                    <a:pt x="170225" y="1006273"/>
                  </a:moveTo>
                  <a:lnTo>
                    <a:pt x="170936" y="1012170"/>
                  </a:lnTo>
                  <a:lnTo>
                    <a:pt x="173584" y="1023958"/>
                  </a:lnTo>
                  <a:lnTo>
                    <a:pt x="78475" y="1040728"/>
                  </a:lnTo>
                  <a:lnTo>
                    <a:pt x="67193" y="1024440"/>
                  </a:lnTo>
                  <a:lnTo>
                    <a:pt x="170225" y="1006273"/>
                  </a:lnTo>
                  <a:close/>
                  <a:moveTo>
                    <a:pt x="1681368" y="945892"/>
                  </a:moveTo>
                  <a:lnTo>
                    <a:pt x="1793516" y="956550"/>
                  </a:lnTo>
                  <a:lnTo>
                    <a:pt x="1783173" y="973649"/>
                  </a:lnTo>
                  <a:lnTo>
                    <a:pt x="1679909" y="963835"/>
                  </a:lnTo>
                  <a:lnTo>
                    <a:pt x="1681368" y="945892"/>
                  </a:lnTo>
                  <a:close/>
                  <a:moveTo>
                    <a:pt x="162034" y="938372"/>
                  </a:moveTo>
                  <a:lnTo>
                    <a:pt x="164191" y="956254"/>
                  </a:lnTo>
                  <a:lnTo>
                    <a:pt x="27981" y="967828"/>
                  </a:lnTo>
                  <a:lnTo>
                    <a:pt x="16164" y="950767"/>
                  </a:lnTo>
                  <a:lnTo>
                    <a:pt x="162034" y="938372"/>
                  </a:lnTo>
                  <a:close/>
                  <a:moveTo>
                    <a:pt x="1683923" y="877596"/>
                  </a:moveTo>
                  <a:lnTo>
                    <a:pt x="1844621" y="878397"/>
                  </a:lnTo>
                  <a:lnTo>
                    <a:pt x="1831855" y="893168"/>
                  </a:lnTo>
                  <a:lnTo>
                    <a:pt x="1829946" y="896325"/>
                  </a:lnTo>
                  <a:lnTo>
                    <a:pt x="1684266" y="895598"/>
                  </a:lnTo>
                  <a:lnTo>
                    <a:pt x="1683923" y="877596"/>
                  </a:lnTo>
                  <a:close/>
                  <a:moveTo>
                    <a:pt x="14676" y="869273"/>
                  </a:moveTo>
                  <a:lnTo>
                    <a:pt x="160356" y="869999"/>
                  </a:lnTo>
                  <a:lnTo>
                    <a:pt x="160699" y="888001"/>
                  </a:lnTo>
                  <a:lnTo>
                    <a:pt x="0" y="887200"/>
                  </a:lnTo>
                  <a:lnTo>
                    <a:pt x="12766" y="872429"/>
                  </a:lnTo>
                  <a:lnTo>
                    <a:pt x="14676" y="869273"/>
                  </a:lnTo>
                  <a:close/>
                  <a:moveTo>
                    <a:pt x="1816638" y="797770"/>
                  </a:moveTo>
                  <a:lnTo>
                    <a:pt x="1828455" y="814831"/>
                  </a:lnTo>
                  <a:lnTo>
                    <a:pt x="1682588" y="827227"/>
                  </a:lnTo>
                  <a:lnTo>
                    <a:pt x="1680430" y="809345"/>
                  </a:lnTo>
                  <a:lnTo>
                    <a:pt x="1816638" y="797770"/>
                  </a:lnTo>
                  <a:close/>
                  <a:moveTo>
                    <a:pt x="61447" y="791950"/>
                  </a:moveTo>
                  <a:lnTo>
                    <a:pt x="164713" y="801763"/>
                  </a:lnTo>
                  <a:lnTo>
                    <a:pt x="163253" y="819705"/>
                  </a:lnTo>
                  <a:lnTo>
                    <a:pt x="51105" y="809048"/>
                  </a:lnTo>
                  <a:lnTo>
                    <a:pt x="61447" y="791950"/>
                  </a:lnTo>
                  <a:close/>
                  <a:moveTo>
                    <a:pt x="1766145" y="724870"/>
                  </a:moveTo>
                  <a:lnTo>
                    <a:pt x="1777427" y="741158"/>
                  </a:lnTo>
                  <a:lnTo>
                    <a:pt x="1674396" y="759325"/>
                  </a:lnTo>
                  <a:lnTo>
                    <a:pt x="1673685" y="753429"/>
                  </a:lnTo>
                  <a:lnTo>
                    <a:pt x="1670588" y="741719"/>
                  </a:lnTo>
                  <a:lnTo>
                    <a:pt x="1766145" y="724870"/>
                  </a:lnTo>
                  <a:close/>
                  <a:moveTo>
                    <a:pt x="94047" y="719066"/>
                  </a:moveTo>
                  <a:lnTo>
                    <a:pt x="175129" y="734198"/>
                  </a:lnTo>
                  <a:lnTo>
                    <a:pt x="171900" y="751906"/>
                  </a:lnTo>
                  <a:lnTo>
                    <a:pt x="87480" y="736151"/>
                  </a:lnTo>
                  <a:lnTo>
                    <a:pt x="94047" y="719066"/>
                  </a:lnTo>
                  <a:close/>
                  <a:moveTo>
                    <a:pt x="1732475" y="654227"/>
                  </a:moveTo>
                  <a:lnTo>
                    <a:pt x="1740061" y="670822"/>
                  </a:lnTo>
                  <a:lnTo>
                    <a:pt x="1657733" y="693102"/>
                  </a:lnTo>
                  <a:lnTo>
                    <a:pt x="1653131" y="675699"/>
                  </a:lnTo>
                  <a:lnTo>
                    <a:pt x="1732475" y="654227"/>
                  </a:lnTo>
                  <a:close/>
                  <a:moveTo>
                    <a:pt x="121093" y="648021"/>
                  </a:moveTo>
                  <a:lnTo>
                    <a:pt x="193564" y="668412"/>
                  </a:lnTo>
                  <a:lnTo>
                    <a:pt x="187778" y="685483"/>
                  </a:lnTo>
                  <a:lnTo>
                    <a:pt x="114844" y="664963"/>
                  </a:lnTo>
                  <a:lnTo>
                    <a:pt x="120799" y="649471"/>
                  </a:lnTo>
                  <a:lnTo>
                    <a:pt x="121093" y="648021"/>
                  </a:lnTo>
                  <a:close/>
                  <a:moveTo>
                    <a:pt x="1703605" y="584417"/>
                  </a:moveTo>
                  <a:lnTo>
                    <a:pt x="1707892" y="600448"/>
                  </a:lnTo>
                  <a:lnTo>
                    <a:pt x="1708508" y="601796"/>
                  </a:lnTo>
                  <a:lnTo>
                    <a:pt x="1640259" y="627022"/>
                  </a:lnTo>
                  <a:lnTo>
                    <a:pt x="1639049" y="622444"/>
                  </a:lnTo>
                  <a:lnTo>
                    <a:pt x="1633440" y="610352"/>
                  </a:lnTo>
                  <a:lnTo>
                    <a:pt x="1703605" y="584417"/>
                  </a:lnTo>
                  <a:close/>
                  <a:moveTo>
                    <a:pt x="136138" y="573632"/>
                  </a:moveTo>
                  <a:lnTo>
                    <a:pt x="215446" y="603848"/>
                  </a:lnTo>
                  <a:lnTo>
                    <a:pt x="209665" y="620908"/>
                  </a:lnTo>
                  <a:lnTo>
                    <a:pt x="132521" y="591516"/>
                  </a:lnTo>
                  <a:lnTo>
                    <a:pt x="136138" y="573632"/>
                  </a:lnTo>
                  <a:close/>
                  <a:moveTo>
                    <a:pt x="1683900" y="510741"/>
                  </a:moveTo>
                  <a:lnTo>
                    <a:pt x="1688629" y="528423"/>
                  </a:lnTo>
                  <a:lnTo>
                    <a:pt x="1612275" y="564725"/>
                  </a:lnTo>
                  <a:lnTo>
                    <a:pt x="1604700" y="548396"/>
                  </a:lnTo>
                  <a:lnTo>
                    <a:pt x="1683900" y="510741"/>
                  </a:lnTo>
                  <a:close/>
                  <a:moveTo>
                    <a:pt x="147252" y="494765"/>
                  </a:moveTo>
                  <a:lnTo>
                    <a:pt x="243177" y="541551"/>
                  </a:lnTo>
                  <a:lnTo>
                    <a:pt x="234224" y="557210"/>
                  </a:lnTo>
                  <a:lnTo>
                    <a:pt x="146805" y="514573"/>
                  </a:lnTo>
                  <a:lnTo>
                    <a:pt x="147252" y="494765"/>
                  </a:lnTo>
                  <a:close/>
                  <a:moveTo>
                    <a:pt x="1670480" y="430384"/>
                  </a:moveTo>
                  <a:lnTo>
                    <a:pt x="1672163" y="450296"/>
                  </a:lnTo>
                  <a:lnTo>
                    <a:pt x="1583450" y="502701"/>
                  </a:lnTo>
                  <a:lnTo>
                    <a:pt x="1573155" y="487877"/>
                  </a:lnTo>
                  <a:lnTo>
                    <a:pt x="1670480" y="430384"/>
                  </a:lnTo>
                  <a:close/>
                  <a:moveTo>
                    <a:pt x="149273" y="405169"/>
                  </a:moveTo>
                  <a:lnTo>
                    <a:pt x="277016" y="482359"/>
                  </a:lnTo>
                  <a:lnTo>
                    <a:pt x="268080" y="497989"/>
                  </a:lnTo>
                  <a:lnTo>
                    <a:pt x="148805" y="425916"/>
                  </a:lnTo>
                  <a:lnTo>
                    <a:pt x="149273" y="405169"/>
                  </a:lnTo>
                  <a:close/>
                  <a:moveTo>
                    <a:pt x="195968" y="338361"/>
                  </a:moveTo>
                  <a:lnTo>
                    <a:pt x="314600" y="425459"/>
                  </a:lnTo>
                  <a:lnTo>
                    <a:pt x="302826" y="439145"/>
                  </a:lnTo>
                  <a:lnTo>
                    <a:pt x="173559" y="344239"/>
                  </a:lnTo>
                  <a:lnTo>
                    <a:pt x="192568" y="339792"/>
                  </a:lnTo>
                  <a:lnTo>
                    <a:pt x="195968" y="338361"/>
                  </a:lnTo>
                  <a:close/>
                  <a:moveTo>
                    <a:pt x="1665887" y="337121"/>
                  </a:moveTo>
                  <a:lnTo>
                    <a:pt x="1664242" y="356571"/>
                  </a:lnTo>
                  <a:lnTo>
                    <a:pt x="1664553" y="360248"/>
                  </a:lnTo>
                  <a:lnTo>
                    <a:pt x="1544474" y="446578"/>
                  </a:lnTo>
                  <a:lnTo>
                    <a:pt x="1534206" y="431793"/>
                  </a:lnTo>
                  <a:lnTo>
                    <a:pt x="1665887" y="337121"/>
                  </a:lnTo>
                  <a:close/>
                  <a:moveTo>
                    <a:pt x="279257" y="303297"/>
                  </a:moveTo>
                  <a:lnTo>
                    <a:pt x="359087" y="373748"/>
                  </a:lnTo>
                  <a:lnTo>
                    <a:pt x="347347" y="387394"/>
                  </a:lnTo>
                  <a:lnTo>
                    <a:pt x="260839" y="311051"/>
                  </a:lnTo>
                  <a:lnTo>
                    <a:pt x="279257" y="303297"/>
                  </a:lnTo>
                  <a:close/>
                  <a:moveTo>
                    <a:pt x="1595859" y="288337"/>
                  </a:moveTo>
                  <a:lnTo>
                    <a:pt x="1615448" y="295194"/>
                  </a:lnTo>
                  <a:lnTo>
                    <a:pt x="1504459" y="391189"/>
                  </a:lnTo>
                  <a:lnTo>
                    <a:pt x="1491819" y="378322"/>
                  </a:lnTo>
                  <a:lnTo>
                    <a:pt x="1595859" y="288337"/>
                  </a:lnTo>
                  <a:close/>
                  <a:moveTo>
                    <a:pt x="348471" y="263494"/>
                  </a:moveTo>
                  <a:lnTo>
                    <a:pt x="405504" y="323744"/>
                  </a:lnTo>
                  <a:lnTo>
                    <a:pt x="394934" y="332080"/>
                  </a:lnTo>
                  <a:lnTo>
                    <a:pt x="391923" y="335581"/>
                  </a:lnTo>
                  <a:lnTo>
                    <a:pt x="333116" y="273456"/>
                  </a:lnTo>
                  <a:lnTo>
                    <a:pt x="348471" y="263494"/>
                  </a:lnTo>
                  <a:close/>
                  <a:moveTo>
                    <a:pt x="1512159" y="259039"/>
                  </a:moveTo>
                  <a:lnTo>
                    <a:pt x="1530860" y="265585"/>
                  </a:lnTo>
                  <a:lnTo>
                    <a:pt x="1456606" y="342477"/>
                  </a:lnTo>
                  <a:lnTo>
                    <a:pt x="1443988" y="329632"/>
                  </a:lnTo>
                  <a:lnTo>
                    <a:pt x="1512159" y="259039"/>
                  </a:lnTo>
                  <a:close/>
                  <a:moveTo>
                    <a:pt x="412110" y="221916"/>
                  </a:moveTo>
                  <a:lnTo>
                    <a:pt x="459114" y="281464"/>
                  </a:lnTo>
                  <a:lnTo>
                    <a:pt x="444980" y="292610"/>
                  </a:lnTo>
                  <a:lnTo>
                    <a:pt x="397097" y="231949"/>
                  </a:lnTo>
                  <a:lnTo>
                    <a:pt x="411019" y="222917"/>
                  </a:lnTo>
                  <a:lnTo>
                    <a:pt x="412110" y="221916"/>
                  </a:lnTo>
                  <a:close/>
                  <a:moveTo>
                    <a:pt x="1443396" y="221678"/>
                  </a:moveTo>
                  <a:lnTo>
                    <a:pt x="1459286" y="230644"/>
                  </a:lnTo>
                  <a:lnTo>
                    <a:pt x="1406897" y="295670"/>
                  </a:lnTo>
                  <a:lnTo>
                    <a:pt x="1392300" y="285098"/>
                  </a:lnTo>
                  <a:lnTo>
                    <a:pt x="1443396" y="221678"/>
                  </a:lnTo>
                  <a:close/>
                  <a:moveTo>
                    <a:pt x="1379005" y="182170"/>
                  </a:moveTo>
                  <a:lnTo>
                    <a:pt x="1391896" y="192619"/>
                  </a:lnTo>
                  <a:lnTo>
                    <a:pt x="1393186" y="193347"/>
                  </a:lnTo>
                  <a:lnTo>
                    <a:pt x="1351622" y="255636"/>
                  </a:lnTo>
                  <a:lnTo>
                    <a:pt x="1337034" y="245070"/>
                  </a:lnTo>
                  <a:lnTo>
                    <a:pt x="1379005" y="182170"/>
                  </a:lnTo>
                  <a:close/>
                  <a:moveTo>
                    <a:pt x="468008" y="170577"/>
                  </a:moveTo>
                  <a:lnTo>
                    <a:pt x="513069" y="239589"/>
                  </a:lnTo>
                  <a:lnTo>
                    <a:pt x="510638" y="240828"/>
                  </a:lnTo>
                  <a:lnTo>
                    <a:pt x="498586" y="250333"/>
                  </a:lnTo>
                  <a:lnTo>
                    <a:pt x="454568" y="182920"/>
                  </a:lnTo>
                  <a:lnTo>
                    <a:pt x="468008" y="170577"/>
                  </a:lnTo>
                  <a:close/>
                  <a:moveTo>
                    <a:pt x="1319759" y="134146"/>
                  </a:moveTo>
                  <a:lnTo>
                    <a:pt x="1333978" y="145672"/>
                  </a:lnTo>
                  <a:lnTo>
                    <a:pt x="1294036" y="219016"/>
                  </a:lnTo>
                  <a:lnTo>
                    <a:pt x="1277891" y="211027"/>
                  </a:lnTo>
                  <a:lnTo>
                    <a:pt x="1319759" y="134146"/>
                  </a:lnTo>
                  <a:close/>
                  <a:moveTo>
                    <a:pt x="523355" y="113305"/>
                  </a:moveTo>
                  <a:lnTo>
                    <a:pt x="573987" y="208530"/>
                  </a:lnTo>
                  <a:lnTo>
                    <a:pt x="557949" y="216707"/>
                  </a:lnTo>
                  <a:lnTo>
                    <a:pt x="511350" y="129068"/>
                  </a:lnTo>
                  <a:lnTo>
                    <a:pt x="523355" y="113305"/>
                  </a:lnTo>
                  <a:close/>
                  <a:moveTo>
                    <a:pt x="1261668" y="77024"/>
                  </a:moveTo>
                  <a:lnTo>
                    <a:pt x="1274734" y="92144"/>
                  </a:lnTo>
                  <a:lnTo>
                    <a:pt x="1232872" y="188750"/>
                  </a:lnTo>
                  <a:lnTo>
                    <a:pt x="1216718" y="180757"/>
                  </a:lnTo>
                  <a:lnTo>
                    <a:pt x="1261668" y="77024"/>
                  </a:lnTo>
                  <a:close/>
                  <a:moveTo>
                    <a:pt x="879964" y="47539"/>
                  </a:moveTo>
                  <a:lnTo>
                    <a:pt x="896536" y="48415"/>
                  </a:lnTo>
                  <a:lnTo>
                    <a:pt x="898006" y="48246"/>
                  </a:lnTo>
                  <a:lnTo>
                    <a:pt x="900930" y="121496"/>
                  </a:lnTo>
                  <a:lnTo>
                    <a:pt x="882930" y="121839"/>
                  </a:lnTo>
                  <a:lnTo>
                    <a:pt x="879964" y="47539"/>
                  </a:lnTo>
                  <a:close/>
                  <a:moveTo>
                    <a:pt x="803804" y="43511"/>
                  </a:moveTo>
                  <a:lnTo>
                    <a:pt x="822082" y="44478"/>
                  </a:lnTo>
                  <a:lnTo>
                    <a:pt x="832792" y="126618"/>
                  </a:lnTo>
                  <a:lnTo>
                    <a:pt x="814920" y="128774"/>
                  </a:lnTo>
                  <a:lnTo>
                    <a:pt x="803804" y="43511"/>
                  </a:lnTo>
                  <a:close/>
                  <a:moveTo>
                    <a:pt x="577653" y="42008"/>
                  </a:moveTo>
                  <a:lnTo>
                    <a:pt x="634782" y="177534"/>
                  </a:lnTo>
                  <a:lnTo>
                    <a:pt x="618704" y="185731"/>
                  </a:lnTo>
                  <a:lnTo>
                    <a:pt x="565079" y="58518"/>
                  </a:lnTo>
                  <a:lnTo>
                    <a:pt x="577653" y="42008"/>
                  </a:lnTo>
                  <a:close/>
                  <a:moveTo>
                    <a:pt x="973404" y="39567"/>
                  </a:moveTo>
                  <a:lnTo>
                    <a:pt x="969228" y="123258"/>
                  </a:lnTo>
                  <a:lnTo>
                    <a:pt x="951312" y="121130"/>
                  </a:lnTo>
                  <a:lnTo>
                    <a:pt x="955278" y="41654"/>
                  </a:lnTo>
                  <a:lnTo>
                    <a:pt x="973404" y="39567"/>
                  </a:lnTo>
                  <a:close/>
                  <a:moveTo>
                    <a:pt x="723233" y="31443"/>
                  </a:moveTo>
                  <a:lnTo>
                    <a:pt x="742691" y="35995"/>
                  </a:lnTo>
                  <a:lnTo>
                    <a:pt x="765354" y="137622"/>
                  </a:lnTo>
                  <a:lnTo>
                    <a:pt x="747791" y="141567"/>
                  </a:lnTo>
                  <a:lnTo>
                    <a:pt x="723233" y="31443"/>
                  </a:lnTo>
                  <a:close/>
                  <a:moveTo>
                    <a:pt x="1051847" y="25765"/>
                  </a:moveTo>
                  <a:lnTo>
                    <a:pt x="1037014" y="131308"/>
                  </a:lnTo>
                  <a:lnTo>
                    <a:pt x="1019135" y="129184"/>
                  </a:lnTo>
                  <a:lnTo>
                    <a:pt x="1032869" y="31462"/>
                  </a:lnTo>
                  <a:lnTo>
                    <a:pt x="1051847" y="25765"/>
                  </a:lnTo>
                  <a:close/>
                  <a:moveTo>
                    <a:pt x="633115" y="6990"/>
                  </a:moveTo>
                  <a:lnTo>
                    <a:pt x="651107" y="14566"/>
                  </a:lnTo>
                  <a:lnTo>
                    <a:pt x="654699" y="15406"/>
                  </a:lnTo>
                  <a:lnTo>
                    <a:pt x="699105" y="154429"/>
                  </a:lnTo>
                  <a:lnTo>
                    <a:pt x="682029" y="160125"/>
                  </a:lnTo>
                  <a:lnTo>
                    <a:pt x="633115" y="6990"/>
                  </a:lnTo>
                  <a:close/>
                  <a:moveTo>
                    <a:pt x="1203134" y="4273"/>
                  </a:moveTo>
                  <a:lnTo>
                    <a:pt x="1213236" y="20976"/>
                  </a:lnTo>
                  <a:lnTo>
                    <a:pt x="1215649" y="23769"/>
                  </a:lnTo>
                  <a:lnTo>
                    <a:pt x="1169442" y="163605"/>
                  </a:lnTo>
                  <a:lnTo>
                    <a:pt x="1152188" y="158449"/>
                  </a:lnTo>
                  <a:lnTo>
                    <a:pt x="1203134" y="4273"/>
                  </a:lnTo>
                  <a:close/>
                  <a:moveTo>
                    <a:pt x="1137683" y="0"/>
                  </a:moveTo>
                  <a:lnTo>
                    <a:pt x="1104046" y="144062"/>
                  </a:lnTo>
                  <a:lnTo>
                    <a:pt x="1086767" y="138898"/>
                  </a:lnTo>
                  <a:lnTo>
                    <a:pt x="1117806" y="5966"/>
                  </a:lnTo>
                  <a:lnTo>
                    <a:pt x="1137683" y="0"/>
                  </a:lnTo>
                  <a:close/>
                </a:path>
              </a:pathLst>
            </a:custGeom>
            <a:solidFill>
              <a:srgbClr val="b9cde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8" name="MH_SubTitle_1"/>
            <p:cNvSpPr/>
            <p:nvPr/>
          </p:nvSpPr>
          <p:spPr>
            <a:xfrm>
              <a:off x="3603240" y="2740680"/>
              <a:ext cx="1400400" cy="1376280"/>
            </a:xfrm>
            <a:prstGeom prst="pie">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分配过程</a:t>
              </a:r>
              <a:endParaRPr b="0" lang="en-US" sz="1800" spc="-1" strike="noStrike">
                <a:solidFill>
                  <a:srgbClr val="000000"/>
                </a:solidFill>
                <a:latin typeface="Arial"/>
              </a:endParaRPr>
            </a:p>
          </p:txBody>
        </p:sp>
        <p:sp>
          <p:nvSpPr>
            <p:cNvPr id="569" name="MH_Other_2"/>
            <p:cNvSpPr/>
            <p:nvPr/>
          </p:nvSpPr>
          <p:spPr>
            <a:xfrm>
              <a:off x="3741840" y="2740680"/>
              <a:ext cx="1117440" cy="285480"/>
            </a:xfrm>
            <a:prstGeom prst="pie">
              <a:avLst/>
            </a:prstGeom>
            <a:solidFill>
              <a:srgbClr val="4f81bd"/>
            </a:solidFill>
            <a:ln w="0">
              <a:noFill/>
            </a:ln>
          </p:spPr>
          <p:style>
            <a:lnRef idx="0"/>
            <a:fillRef idx="0"/>
            <a:effectRef idx="0"/>
            <a:fontRef idx="minor"/>
          </p:style>
          <p:txBody>
            <a:bodyPr lIns="90000" rIns="90000" tIns="46800" bIns="46800" anchor="ctr">
              <a:normAutofit fontScale="5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03</a:t>
              </a:r>
              <a:endParaRPr b="0" lang="en-US" sz="2400" spc="-1" strike="noStrike">
                <a:solidFill>
                  <a:srgbClr val="000000"/>
                </a:solidFill>
                <a:latin typeface="Arial"/>
              </a:endParaRPr>
            </a:p>
          </p:txBody>
        </p:sp>
      </p:grpSp>
      <p:grpSp>
        <p:nvGrpSpPr>
          <p:cNvPr id="570" name="Group 51"/>
          <p:cNvGrpSpPr/>
          <p:nvPr/>
        </p:nvGrpSpPr>
        <p:grpSpPr>
          <a:xfrm>
            <a:off x="1116000" y="3860640"/>
            <a:ext cx="1836720" cy="1729080"/>
            <a:chOff x="1116000" y="3860640"/>
            <a:chExt cx="1836720" cy="1729080"/>
          </a:xfrm>
        </p:grpSpPr>
        <p:sp>
          <p:nvSpPr>
            <p:cNvPr id="571" name="MH_Other_1"/>
            <p:cNvSpPr/>
            <p:nvPr/>
          </p:nvSpPr>
          <p:spPr>
            <a:xfrm>
              <a:off x="1116000" y="3860640"/>
              <a:ext cx="1836720" cy="1729080"/>
            </a:xfrm>
            <a:custGeom>
              <a:avLst/>
              <a:gdLst/>
              <a:ahLst/>
              <a:rect l="l" t="t" r="r" b="b"/>
              <a:pathLst>
                <a:path w="1844621" h="1765598">
                  <a:moveTo>
                    <a:pt x="961691" y="1643760"/>
                  </a:moveTo>
                  <a:lnTo>
                    <a:pt x="964657" y="1718060"/>
                  </a:lnTo>
                  <a:lnTo>
                    <a:pt x="948083" y="1717184"/>
                  </a:lnTo>
                  <a:lnTo>
                    <a:pt x="946614" y="1717353"/>
                  </a:lnTo>
                  <a:lnTo>
                    <a:pt x="943691" y="1644103"/>
                  </a:lnTo>
                  <a:lnTo>
                    <a:pt x="961691" y="1643760"/>
                  </a:lnTo>
                  <a:close/>
                  <a:moveTo>
                    <a:pt x="875350" y="1643169"/>
                  </a:moveTo>
                  <a:lnTo>
                    <a:pt x="893299" y="1644629"/>
                  </a:lnTo>
                  <a:lnTo>
                    <a:pt x="889341" y="1723945"/>
                  </a:lnTo>
                  <a:lnTo>
                    <a:pt x="871214" y="1726031"/>
                  </a:lnTo>
                  <a:lnTo>
                    <a:pt x="875350" y="1643169"/>
                  </a:lnTo>
                  <a:close/>
                  <a:moveTo>
                    <a:pt x="1029699" y="1636826"/>
                  </a:moveTo>
                  <a:lnTo>
                    <a:pt x="1040815" y="1722087"/>
                  </a:lnTo>
                  <a:lnTo>
                    <a:pt x="1022537" y="1721121"/>
                  </a:lnTo>
                  <a:lnTo>
                    <a:pt x="1011828" y="1638982"/>
                  </a:lnTo>
                  <a:lnTo>
                    <a:pt x="1029699" y="1636826"/>
                  </a:lnTo>
                  <a:close/>
                  <a:moveTo>
                    <a:pt x="807350" y="1636115"/>
                  </a:moveTo>
                  <a:lnTo>
                    <a:pt x="822430" y="1638864"/>
                  </a:lnTo>
                  <a:lnTo>
                    <a:pt x="825110" y="1639083"/>
                  </a:lnTo>
                  <a:lnTo>
                    <a:pt x="811751" y="1734136"/>
                  </a:lnTo>
                  <a:lnTo>
                    <a:pt x="792774" y="1739833"/>
                  </a:lnTo>
                  <a:lnTo>
                    <a:pt x="807350" y="1636115"/>
                  </a:lnTo>
                  <a:close/>
                  <a:moveTo>
                    <a:pt x="1096827" y="1624033"/>
                  </a:moveTo>
                  <a:lnTo>
                    <a:pt x="1121385" y="1734155"/>
                  </a:lnTo>
                  <a:lnTo>
                    <a:pt x="1101928" y="1729603"/>
                  </a:lnTo>
                  <a:lnTo>
                    <a:pt x="1079265" y="1627978"/>
                  </a:lnTo>
                  <a:lnTo>
                    <a:pt x="1096827" y="1624033"/>
                  </a:lnTo>
                  <a:close/>
                  <a:moveTo>
                    <a:pt x="740342" y="1622534"/>
                  </a:moveTo>
                  <a:lnTo>
                    <a:pt x="749046" y="1625484"/>
                  </a:lnTo>
                  <a:lnTo>
                    <a:pt x="757767" y="1627074"/>
                  </a:lnTo>
                  <a:lnTo>
                    <a:pt x="726815" y="1759631"/>
                  </a:lnTo>
                  <a:lnTo>
                    <a:pt x="706937" y="1765598"/>
                  </a:lnTo>
                  <a:lnTo>
                    <a:pt x="740342" y="1622534"/>
                  </a:lnTo>
                  <a:close/>
                  <a:moveTo>
                    <a:pt x="1162592" y="1605474"/>
                  </a:moveTo>
                  <a:lnTo>
                    <a:pt x="1211506" y="1758609"/>
                  </a:lnTo>
                  <a:lnTo>
                    <a:pt x="1193512" y="1751032"/>
                  </a:lnTo>
                  <a:lnTo>
                    <a:pt x="1189921" y="1750192"/>
                  </a:lnTo>
                  <a:lnTo>
                    <a:pt x="1145515" y="1611170"/>
                  </a:lnTo>
                  <a:lnTo>
                    <a:pt x="1162592" y="1605474"/>
                  </a:lnTo>
                  <a:close/>
                  <a:moveTo>
                    <a:pt x="675637" y="1600604"/>
                  </a:moveTo>
                  <a:lnTo>
                    <a:pt x="692686" y="1606382"/>
                  </a:lnTo>
                  <a:lnTo>
                    <a:pt x="641486" y="1761326"/>
                  </a:lnTo>
                  <a:lnTo>
                    <a:pt x="631383" y="1744623"/>
                  </a:lnTo>
                  <a:lnTo>
                    <a:pt x="628970" y="1741831"/>
                  </a:lnTo>
                  <a:lnTo>
                    <a:pt x="675637" y="1600604"/>
                  </a:lnTo>
                  <a:close/>
                  <a:moveTo>
                    <a:pt x="1225916" y="1579868"/>
                  </a:moveTo>
                  <a:lnTo>
                    <a:pt x="1279540" y="1707080"/>
                  </a:lnTo>
                  <a:lnTo>
                    <a:pt x="1266966" y="1723591"/>
                  </a:lnTo>
                  <a:lnTo>
                    <a:pt x="1209837" y="1588066"/>
                  </a:lnTo>
                  <a:lnTo>
                    <a:pt x="1225916" y="1579868"/>
                  </a:lnTo>
                  <a:close/>
                  <a:moveTo>
                    <a:pt x="610954" y="1578681"/>
                  </a:moveTo>
                  <a:lnTo>
                    <a:pt x="628059" y="1584478"/>
                  </a:lnTo>
                  <a:lnTo>
                    <a:pt x="582951" y="1688574"/>
                  </a:lnTo>
                  <a:lnTo>
                    <a:pt x="569886" y="1673454"/>
                  </a:lnTo>
                  <a:lnTo>
                    <a:pt x="610954" y="1578681"/>
                  </a:lnTo>
                  <a:close/>
                  <a:moveTo>
                    <a:pt x="1286670" y="1548893"/>
                  </a:moveTo>
                  <a:lnTo>
                    <a:pt x="1333269" y="1636531"/>
                  </a:lnTo>
                  <a:lnTo>
                    <a:pt x="1321264" y="1652294"/>
                  </a:lnTo>
                  <a:lnTo>
                    <a:pt x="1270632" y="1557070"/>
                  </a:lnTo>
                  <a:lnTo>
                    <a:pt x="1286670" y="1548893"/>
                  </a:lnTo>
                  <a:close/>
                  <a:moveTo>
                    <a:pt x="551444" y="1545001"/>
                  </a:moveTo>
                  <a:lnTo>
                    <a:pt x="567074" y="1553937"/>
                  </a:lnTo>
                  <a:lnTo>
                    <a:pt x="524862" y="1631452"/>
                  </a:lnTo>
                  <a:lnTo>
                    <a:pt x="510642" y="1619926"/>
                  </a:lnTo>
                  <a:lnTo>
                    <a:pt x="551444" y="1545001"/>
                  </a:lnTo>
                  <a:close/>
                  <a:moveTo>
                    <a:pt x="1346034" y="1515267"/>
                  </a:moveTo>
                  <a:lnTo>
                    <a:pt x="1390051" y="1582679"/>
                  </a:lnTo>
                  <a:lnTo>
                    <a:pt x="1376613" y="1595021"/>
                  </a:lnTo>
                  <a:lnTo>
                    <a:pt x="1331552" y="1526010"/>
                  </a:lnTo>
                  <a:lnTo>
                    <a:pt x="1333983" y="1524770"/>
                  </a:lnTo>
                  <a:lnTo>
                    <a:pt x="1346034" y="1515267"/>
                  </a:lnTo>
                  <a:close/>
                  <a:moveTo>
                    <a:pt x="492213" y="1511140"/>
                  </a:moveTo>
                  <a:lnTo>
                    <a:pt x="507877" y="1520095"/>
                  </a:lnTo>
                  <a:lnTo>
                    <a:pt x="465615" y="1583429"/>
                  </a:lnTo>
                  <a:lnTo>
                    <a:pt x="452723" y="1572979"/>
                  </a:lnTo>
                  <a:lnTo>
                    <a:pt x="451434" y="1572252"/>
                  </a:lnTo>
                  <a:lnTo>
                    <a:pt x="492213" y="1511140"/>
                  </a:lnTo>
                  <a:close/>
                  <a:moveTo>
                    <a:pt x="1399641" y="1472989"/>
                  </a:moveTo>
                  <a:lnTo>
                    <a:pt x="1447523" y="1533649"/>
                  </a:lnTo>
                  <a:lnTo>
                    <a:pt x="1433600" y="1542681"/>
                  </a:lnTo>
                  <a:lnTo>
                    <a:pt x="1432510" y="1543682"/>
                  </a:lnTo>
                  <a:lnTo>
                    <a:pt x="1385507" y="1484135"/>
                  </a:lnTo>
                  <a:lnTo>
                    <a:pt x="1399641" y="1472989"/>
                  </a:lnTo>
                  <a:close/>
                  <a:moveTo>
                    <a:pt x="439084" y="1468240"/>
                  </a:moveTo>
                  <a:lnTo>
                    <a:pt x="452737" y="1479985"/>
                  </a:lnTo>
                  <a:lnTo>
                    <a:pt x="401226" y="1543921"/>
                  </a:lnTo>
                  <a:lnTo>
                    <a:pt x="385335" y="1534955"/>
                  </a:lnTo>
                  <a:lnTo>
                    <a:pt x="439084" y="1468240"/>
                  </a:lnTo>
                  <a:close/>
                  <a:moveTo>
                    <a:pt x="1452700" y="1430017"/>
                  </a:moveTo>
                  <a:lnTo>
                    <a:pt x="1511505" y="1492141"/>
                  </a:lnTo>
                  <a:lnTo>
                    <a:pt x="1496150" y="1502102"/>
                  </a:lnTo>
                  <a:lnTo>
                    <a:pt x="1439119" y="1441854"/>
                  </a:lnTo>
                  <a:lnTo>
                    <a:pt x="1449687" y="1433519"/>
                  </a:lnTo>
                  <a:lnTo>
                    <a:pt x="1452700" y="1430017"/>
                  </a:lnTo>
                  <a:close/>
                  <a:moveTo>
                    <a:pt x="387391" y="1423768"/>
                  </a:moveTo>
                  <a:lnTo>
                    <a:pt x="401059" y="1435526"/>
                  </a:lnTo>
                  <a:lnTo>
                    <a:pt x="332463" y="1506560"/>
                  </a:lnTo>
                  <a:lnTo>
                    <a:pt x="313761" y="1500014"/>
                  </a:lnTo>
                  <a:lnTo>
                    <a:pt x="387391" y="1423768"/>
                  </a:lnTo>
                  <a:close/>
                  <a:moveTo>
                    <a:pt x="1497274" y="1378205"/>
                  </a:moveTo>
                  <a:lnTo>
                    <a:pt x="1583781" y="1454547"/>
                  </a:lnTo>
                  <a:lnTo>
                    <a:pt x="1565364" y="1462300"/>
                  </a:lnTo>
                  <a:lnTo>
                    <a:pt x="1485535" y="1391850"/>
                  </a:lnTo>
                  <a:lnTo>
                    <a:pt x="1497274" y="1378205"/>
                  </a:lnTo>
                  <a:close/>
                  <a:moveTo>
                    <a:pt x="342078" y="1372754"/>
                  </a:moveTo>
                  <a:lnTo>
                    <a:pt x="353236" y="1386902"/>
                  </a:lnTo>
                  <a:lnTo>
                    <a:pt x="248764" y="1477262"/>
                  </a:lnTo>
                  <a:lnTo>
                    <a:pt x="229175" y="1470405"/>
                  </a:lnTo>
                  <a:lnTo>
                    <a:pt x="342078" y="1372754"/>
                  </a:lnTo>
                  <a:close/>
                  <a:moveTo>
                    <a:pt x="1541797" y="1326453"/>
                  </a:moveTo>
                  <a:lnTo>
                    <a:pt x="1671063" y="1421359"/>
                  </a:lnTo>
                  <a:lnTo>
                    <a:pt x="1652052" y="1425806"/>
                  </a:lnTo>
                  <a:lnTo>
                    <a:pt x="1648653" y="1427237"/>
                  </a:lnTo>
                  <a:lnTo>
                    <a:pt x="1530022" y="1340139"/>
                  </a:lnTo>
                  <a:lnTo>
                    <a:pt x="1541797" y="1326453"/>
                  </a:lnTo>
                  <a:close/>
                  <a:moveTo>
                    <a:pt x="299862" y="1319225"/>
                  </a:moveTo>
                  <a:lnTo>
                    <a:pt x="311019" y="1333372"/>
                  </a:lnTo>
                  <a:lnTo>
                    <a:pt x="178732" y="1428480"/>
                  </a:lnTo>
                  <a:lnTo>
                    <a:pt x="180377" y="1409027"/>
                  </a:lnTo>
                  <a:lnTo>
                    <a:pt x="180067" y="1405352"/>
                  </a:lnTo>
                  <a:lnTo>
                    <a:pt x="299862" y="1319225"/>
                  </a:lnTo>
                  <a:close/>
                  <a:moveTo>
                    <a:pt x="1576542" y="1267609"/>
                  </a:moveTo>
                  <a:lnTo>
                    <a:pt x="1695816" y="1339681"/>
                  </a:lnTo>
                  <a:lnTo>
                    <a:pt x="1695348" y="1360430"/>
                  </a:lnTo>
                  <a:lnTo>
                    <a:pt x="1567606" y="1283241"/>
                  </a:lnTo>
                  <a:lnTo>
                    <a:pt x="1576542" y="1267609"/>
                  </a:lnTo>
                  <a:close/>
                  <a:moveTo>
                    <a:pt x="263531" y="1261503"/>
                  </a:moveTo>
                  <a:lnTo>
                    <a:pt x="271723" y="1277570"/>
                  </a:lnTo>
                  <a:lnTo>
                    <a:pt x="174140" y="1335215"/>
                  </a:lnTo>
                  <a:lnTo>
                    <a:pt x="172457" y="1315303"/>
                  </a:lnTo>
                  <a:lnTo>
                    <a:pt x="263531" y="1261503"/>
                  </a:lnTo>
                  <a:close/>
                  <a:moveTo>
                    <a:pt x="1610398" y="1208387"/>
                  </a:moveTo>
                  <a:lnTo>
                    <a:pt x="1697816" y="1251024"/>
                  </a:lnTo>
                  <a:lnTo>
                    <a:pt x="1697369" y="1270832"/>
                  </a:lnTo>
                  <a:lnTo>
                    <a:pt x="1601446" y="1224047"/>
                  </a:lnTo>
                  <a:lnTo>
                    <a:pt x="1610398" y="1208387"/>
                  </a:lnTo>
                  <a:close/>
                  <a:moveTo>
                    <a:pt x="232566" y="1200770"/>
                  </a:moveTo>
                  <a:lnTo>
                    <a:pt x="240745" y="1216812"/>
                  </a:lnTo>
                  <a:lnTo>
                    <a:pt x="160720" y="1254859"/>
                  </a:lnTo>
                  <a:lnTo>
                    <a:pt x="155991" y="1237178"/>
                  </a:lnTo>
                  <a:lnTo>
                    <a:pt x="232566" y="1200770"/>
                  </a:lnTo>
                  <a:close/>
                  <a:moveTo>
                    <a:pt x="1634958" y="1144690"/>
                  </a:moveTo>
                  <a:lnTo>
                    <a:pt x="1712099" y="1174082"/>
                  </a:lnTo>
                  <a:lnTo>
                    <a:pt x="1708482" y="1191966"/>
                  </a:lnTo>
                  <a:lnTo>
                    <a:pt x="1629176" y="1161750"/>
                  </a:lnTo>
                  <a:lnTo>
                    <a:pt x="1634958" y="1144690"/>
                  </a:lnTo>
                  <a:close/>
                  <a:moveTo>
                    <a:pt x="204756" y="1138431"/>
                  </a:moveTo>
                  <a:lnTo>
                    <a:pt x="210455" y="1155515"/>
                  </a:lnTo>
                  <a:lnTo>
                    <a:pt x="141015" y="1181182"/>
                  </a:lnTo>
                  <a:lnTo>
                    <a:pt x="136727" y="1165150"/>
                  </a:lnTo>
                  <a:lnTo>
                    <a:pt x="136112" y="1163804"/>
                  </a:lnTo>
                  <a:lnTo>
                    <a:pt x="204756" y="1138431"/>
                  </a:lnTo>
                  <a:close/>
                  <a:moveTo>
                    <a:pt x="1656844" y="1080115"/>
                  </a:moveTo>
                  <a:lnTo>
                    <a:pt x="1729776" y="1100634"/>
                  </a:lnTo>
                  <a:lnTo>
                    <a:pt x="1723821" y="1116126"/>
                  </a:lnTo>
                  <a:lnTo>
                    <a:pt x="1723528" y="1117576"/>
                  </a:lnTo>
                  <a:lnTo>
                    <a:pt x="1651058" y="1097186"/>
                  </a:lnTo>
                  <a:lnTo>
                    <a:pt x="1656844" y="1080115"/>
                  </a:lnTo>
                  <a:close/>
                  <a:moveTo>
                    <a:pt x="184625" y="1073110"/>
                  </a:moveTo>
                  <a:lnTo>
                    <a:pt x="188043" y="1088326"/>
                  </a:lnTo>
                  <a:lnTo>
                    <a:pt x="188810" y="1090624"/>
                  </a:lnTo>
                  <a:lnTo>
                    <a:pt x="112145" y="1111372"/>
                  </a:lnTo>
                  <a:lnTo>
                    <a:pt x="104560" y="1094778"/>
                  </a:lnTo>
                  <a:lnTo>
                    <a:pt x="184625" y="1073110"/>
                  </a:lnTo>
                  <a:close/>
                  <a:moveTo>
                    <a:pt x="1672722" y="1013691"/>
                  </a:moveTo>
                  <a:lnTo>
                    <a:pt x="1757141" y="1029446"/>
                  </a:lnTo>
                  <a:lnTo>
                    <a:pt x="1750574" y="1046531"/>
                  </a:lnTo>
                  <a:lnTo>
                    <a:pt x="1669493" y="1031399"/>
                  </a:lnTo>
                  <a:lnTo>
                    <a:pt x="1672722" y="1013691"/>
                  </a:lnTo>
                  <a:close/>
                  <a:moveTo>
                    <a:pt x="170225" y="1006273"/>
                  </a:moveTo>
                  <a:lnTo>
                    <a:pt x="170936" y="1012170"/>
                  </a:lnTo>
                  <a:lnTo>
                    <a:pt x="173584" y="1023958"/>
                  </a:lnTo>
                  <a:lnTo>
                    <a:pt x="78475" y="1040728"/>
                  </a:lnTo>
                  <a:lnTo>
                    <a:pt x="67193" y="1024440"/>
                  </a:lnTo>
                  <a:lnTo>
                    <a:pt x="170225" y="1006273"/>
                  </a:lnTo>
                  <a:close/>
                  <a:moveTo>
                    <a:pt x="1681368" y="945892"/>
                  </a:moveTo>
                  <a:lnTo>
                    <a:pt x="1793516" y="956550"/>
                  </a:lnTo>
                  <a:lnTo>
                    <a:pt x="1783173" y="973649"/>
                  </a:lnTo>
                  <a:lnTo>
                    <a:pt x="1679909" y="963835"/>
                  </a:lnTo>
                  <a:lnTo>
                    <a:pt x="1681368" y="945892"/>
                  </a:lnTo>
                  <a:close/>
                  <a:moveTo>
                    <a:pt x="162034" y="938372"/>
                  </a:moveTo>
                  <a:lnTo>
                    <a:pt x="164191" y="956254"/>
                  </a:lnTo>
                  <a:lnTo>
                    <a:pt x="27981" y="967828"/>
                  </a:lnTo>
                  <a:lnTo>
                    <a:pt x="16164" y="950767"/>
                  </a:lnTo>
                  <a:lnTo>
                    <a:pt x="162034" y="938372"/>
                  </a:lnTo>
                  <a:close/>
                  <a:moveTo>
                    <a:pt x="1683923" y="877596"/>
                  </a:moveTo>
                  <a:lnTo>
                    <a:pt x="1844621" y="878397"/>
                  </a:lnTo>
                  <a:lnTo>
                    <a:pt x="1831855" y="893168"/>
                  </a:lnTo>
                  <a:lnTo>
                    <a:pt x="1829946" y="896325"/>
                  </a:lnTo>
                  <a:lnTo>
                    <a:pt x="1684266" y="895598"/>
                  </a:lnTo>
                  <a:lnTo>
                    <a:pt x="1683923" y="877596"/>
                  </a:lnTo>
                  <a:close/>
                  <a:moveTo>
                    <a:pt x="14676" y="869273"/>
                  </a:moveTo>
                  <a:lnTo>
                    <a:pt x="160356" y="869999"/>
                  </a:lnTo>
                  <a:lnTo>
                    <a:pt x="160699" y="888001"/>
                  </a:lnTo>
                  <a:lnTo>
                    <a:pt x="0" y="887200"/>
                  </a:lnTo>
                  <a:lnTo>
                    <a:pt x="12766" y="872429"/>
                  </a:lnTo>
                  <a:lnTo>
                    <a:pt x="14676" y="869273"/>
                  </a:lnTo>
                  <a:close/>
                  <a:moveTo>
                    <a:pt x="1816638" y="797770"/>
                  </a:moveTo>
                  <a:lnTo>
                    <a:pt x="1828455" y="814831"/>
                  </a:lnTo>
                  <a:lnTo>
                    <a:pt x="1682588" y="827227"/>
                  </a:lnTo>
                  <a:lnTo>
                    <a:pt x="1680430" y="809345"/>
                  </a:lnTo>
                  <a:lnTo>
                    <a:pt x="1816638" y="797770"/>
                  </a:lnTo>
                  <a:close/>
                  <a:moveTo>
                    <a:pt x="61447" y="791950"/>
                  </a:moveTo>
                  <a:lnTo>
                    <a:pt x="164713" y="801763"/>
                  </a:lnTo>
                  <a:lnTo>
                    <a:pt x="163253" y="819705"/>
                  </a:lnTo>
                  <a:lnTo>
                    <a:pt x="51105" y="809048"/>
                  </a:lnTo>
                  <a:lnTo>
                    <a:pt x="61447" y="791950"/>
                  </a:lnTo>
                  <a:close/>
                  <a:moveTo>
                    <a:pt x="1766145" y="724870"/>
                  </a:moveTo>
                  <a:lnTo>
                    <a:pt x="1777427" y="741158"/>
                  </a:lnTo>
                  <a:lnTo>
                    <a:pt x="1674396" y="759325"/>
                  </a:lnTo>
                  <a:lnTo>
                    <a:pt x="1673685" y="753429"/>
                  </a:lnTo>
                  <a:lnTo>
                    <a:pt x="1670588" y="741719"/>
                  </a:lnTo>
                  <a:lnTo>
                    <a:pt x="1766145" y="724870"/>
                  </a:lnTo>
                  <a:close/>
                  <a:moveTo>
                    <a:pt x="94047" y="719066"/>
                  </a:moveTo>
                  <a:lnTo>
                    <a:pt x="175129" y="734198"/>
                  </a:lnTo>
                  <a:lnTo>
                    <a:pt x="171900" y="751906"/>
                  </a:lnTo>
                  <a:lnTo>
                    <a:pt x="87480" y="736151"/>
                  </a:lnTo>
                  <a:lnTo>
                    <a:pt x="94047" y="719066"/>
                  </a:lnTo>
                  <a:close/>
                  <a:moveTo>
                    <a:pt x="1732475" y="654227"/>
                  </a:moveTo>
                  <a:lnTo>
                    <a:pt x="1740061" y="670822"/>
                  </a:lnTo>
                  <a:lnTo>
                    <a:pt x="1657733" y="693102"/>
                  </a:lnTo>
                  <a:lnTo>
                    <a:pt x="1653131" y="675699"/>
                  </a:lnTo>
                  <a:lnTo>
                    <a:pt x="1732475" y="654227"/>
                  </a:lnTo>
                  <a:close/>
                  <a:moveTo>
                    <a:pt x="121093" y="648021"/>
                  </a:moveTo>
                  <a:lnTo>
                    <a:pt x="193564" y="668412"/>
                  </a:lnTo>
                  <a:lnTo>
                    <a:pt x="187778" y="685483"/>
                  </a:lnTo>
                  <a:lnTo>
                    <a:pt x="114844" y="664963"/>
                  </a:lnTo>
                  <a:lnTo>
                    <a:pt x="120799" y="649471"/>
                  </a:lnTo>
                  <a:lnTo>
                    <a:pt x="121093" y="648021"/>
                  </a:lnTo>
                  <a:close/>
                  <a:moveTo>
                    <a:pt x="1703605" y="584417"/>
                  </a:moveTo>
                  <a:lnTo>
                    <a:pt x="1707892" y="600448"/>
                  </a:lnTo>
                  <a:lnTo>
                    <a:pt x="1708508" y="601796"/>
                  </a:lnTo>
                  <a:lnTo>
                    <a:pt x="1640259" y="627022"/>
                  </a:lnTo>
                  <a:lnTo>
                    <a:pt x="1639049" y="622444"/>
                  </a:lnTo>
                  <a:lnTo>
                    <a:pt x="1633440" y="610352"/>
                  </a:lnTo>
                  <a:lnTo>
                    <a:pt x="1703605" y="584417"/>
                  </a:lnTo>
                  <a:close/>
                  <a:moveTo>
                    <a:pt x="136138" y="573632"/>
                  </a:moveTo>
                  <a:lnTo>
                    <a:pt x="215446" y="603848"/>
                  </a:lnTo>
                  <a:lnTo>
                    <a:pt x="209665" y="620908"/>
                  </a:lnTo>
                  <a:lnTo>
                    <a:pt x="132521" y="591516"/>
                  </a:lnTo>
                  <a:lnTo>
                    <a:pt x="136138" y="573632"/>
                  </a:lnTo>
                  <a:close/>
                  <a:moveTo>
                    <a:pt x="1683900" y="510741"/>
                  </a:moveTo>
                  <a:lnTo>
                    <a:pt x="1688629" y="528423"/>
                  </a:lnTo>
                  <a:lnTo>
                    <a:pt x="1612275" y="564725"/>
                  </a:lnTo>
                  <a:lnTo>
                    <a:pt x="1604700" y="548396"/>
                  </a:lnTo>
                  <a:lnTo>
                    <a:pt x="1683900" y="510741"/>
                  </a:lnTo>
                  <a:close/>
                  <a:moveTo>
                    <a:pt x="147252" y="494765"/>
                  </a:moveTo>
                  <a:lnTo>
                    <a:pt x="243177" y="541551"/>
                  </a:lnTo>
                  <a:lnTo>
                    <a:pt x="234224" y="557210"/>
                  </a:lnTo>
                  <a:lnTo>
                    <a:pt x="146805" y="514573"/>
                  </a:lnTo>
                  <a:lnTo>
                    <a:pt x="147252" y="494765"/>
                  </a:lnTo>
                  <a:close/>
                  <a:moveTo>
                    <a:pt x="1670480" y="430384"/>
                  </a:moveTo>
                  <a:lnTo>
                    <a:pt x="1672163" y="450296"/>
                  </a:lnTo>
                  <a:lnTo>
                    <a:pt x="1583450" y="502701"/>
                  </a:lnTo>
                  <a:lnTo>
                    <a:pt x="1573155" y="487877"/>
                  </a:lnTo>
                  <a:lnTo>
                    <a:pt x="1670480" y="430384"/>
                  </a:lnTo>
                  <a:close/>
                  <a:moveTo>
                    <a:pt x="149273" y="405169"/>
                  </a:moveTo>
                  <a:lnTo>
                    <a:pt x="277016" y="482359"/>
                  </a:lnTo>
                  <a:lnTo>
                    <a:pt x="268080" y="497989"/>
                  </a:lnTo>
                  <a:lnTo>
                    <a:pt x="148805" y="425916"/>
                  </a:lnTo>
                  <a:lnTo>
                    <a:pt x="149273" y="405169"/>
                  </a:lnTo>
                  <a:close/>
                  <a:moveTo>
                    <a:pt x="195968" y="338361"/>
                  </a:moveTo>
                  <a:lnTo>
                    <a:pt x="314600" y="425459"/>
                  </a:lnTo>
                  <a:lnTo>
                    <a:pt x="302826" y="439145"/>
                  </a:lnTo>
                  <a:lnTo>
                    <a:pt x="173559" y="344239"/>
                  </a:lnTo>
                  <a:lnTo>
                    <a:pt x="192568" y="339792"/>
                  </a:lnTo>
                  <a:lnTo>
                    <a:pt x="195968" y="338361"/>
                  </a:lnTo>
                  <a:close/>
                  <a:moveTo>
                    <a:pt x="1665887" y="337121"/>
                  </a:moveTo>
                  <a:lnTo>
                    <a:pt x="1664242" y="356571"/>
                  </a:lnTo>
                  <a:lnTo>
                    <a:pt x="1664553" y="360248"/>
                  </a:lnTo>
                  <a:lnTo>
                    <a:pt x="1544474" y="446578"/>
                  </a:lnTo>
                  <a:lnTo>
                    <a:pt x="1534206" y="431793"/>
                  </a:lnTo>
                  <a:lnTo>
                    <a:pt x="1665887" y="337121"/>
                  </a:lnTo>
                  <a:close/>
                  <a:moveTo>
                    <a:pt x="279257" y="303297"/>
                  </a:moveTo>
                  <a:lnTo>
                    <a:pt x="359087" y="373748"/>
                  </a:lnTo>
                  <a:lnTo>
                    <a:pt x="347347" y="387394"/>
                  </a:lnTo>
                  <a:lnTo>
                    <a:pt x="260839" y="311051"/>
                  </a:lnTo>
                  <a:lnTo>
                    <a:pt x="279257" y="303297"/>
                  </a:lnTo>
                  <a:close/>
                  <a:moveTo>
                    <a:pt x="1595859" y="288337"/>
                  </a:moveTo>
                  <a:lnTo>
                    <a:pt x="1615448" y="295194"/>
                  </a:lnTo>
                  <a:lnTo>
                    <a:pt x="1504459" y="391189"/>
                  </a:lnTo>
                  <a:lnTo>
                    <a:pt x="1491819" y="378322"/>
                  </a:lnTo>
                  <a:lnTo>
                    <a:pt x="1595859" y="288337"/>
                  </a:lnTo>
                  <a:close/>
                  <a:moveTo>
                    <a:pt x="348471" y="263494"/>
                  </a:moveTo>
                  <a:lnTo>
                    <a:pt x="405504" y="323744"/>
                  </a:lnTo>
                  <a:lnTo>
                    <a:pt x="394934" y="332080"/>
                  </a:lnTo>
                  <a:lnTo>
                    <a:pt x="391923" y="335581"/>
                  </a:lnTo>
                  <a:lnTo>
                    <a:pt x="333116" y="273456"/>
                  </a:lnTo>
                  <a:lnTo>
                    <a:pt x="348471" y="263494"/>
                  </a:lnTo>
                  <a:close/>
                  <a:moveTo>
                    <a:pt x="1512159" y="259039"/>
                  </a:moveTo>
                  <a:lnTo>
                    <a:pt x="1530860" y="265585"/>
                  </a:lnTo>
                  <a:lnTo>
                    <a:pt x="1456606" y="342477"/>
                  </a:lnTo>
                  <a:lnTo>
                    <a:pt x="1443988" y="329632"/>
                  </a:lnTo>
                  <a:lnTo>
                    <a:pt x="1512159" y="259039"/>
                  </a:lnTo>
                  <a:close/>
                  <a:moveTo>
                    <a:pt x="412110" y="221916"/>
                  </a:moveTo>
                  <a:lnTo>
                    <a:pt x="459114" y="281464"/>
                  </a:lnTo>
                  <a:lnTo>
                    <a:pt x="444980" y="292610"/>
                  </a:lnTo>
                  <a:lnTo>
                    <a:pt x="397097" y="231949"/>
                  </a:lnTo>
                  <a:lnTo>
                    <a:pt x="411019" y="222917"/>
                  </a:lnTo>
                  <a:lnTo>
                    <a:pt x="412110" y="221916"/>
                  </a:lnTo>
                  <a:close/>
                  <a:moveTo>
                    <a:pt x="1443396" y="221678"/>
                  </a:moveTo>
                  <a:lnTo>
                    <a:pt x="1459286" y="230644"/>
                  </a:lnTo>
                  <a:lnTo>
                    <a:pt x="1406897" y="295670"/>
                  </a:lnTo>
                  <a:lnTo>
                    <a:pt x="1392300" y="285098"/>
                  </a:lnTo>
                  <a:lnTo>
                    <a:pt x="1443396" y="221678"/>
                  </a:lnTo>
                  <a:close/>
                  <a:moveTo>
                    <a:pt x="1379005" y="182170"/>
                  </a:moveTo>
                  <a:lnTo>
                    <a:pt x="1391896" y="192619"/>
                  </a:lnTo>
                  <a:lnTo>
                    <a:pt x="1393186" y="193347"/>
                  </a:lnTo>
                  <a:lnTo>
                    <a:pt x="1351622" y="255636"/>
                  </a:lnTo>
                  <a:lnTo>
                    <a:pt x="1337034" y="245070"/>
                  </a:lnTo>
                  <a:lnTo>
                    <a:pt x="1379005" y="182170"/>
                  </a:lnTo>
                  <a:close/>
                  <a:moveTo>
                    <a:pt x="468008" y="170577"/>
                  </a:moveTo>
                  <a:lnTo>
                    <a:pt x="513069" y="239589"/>
                  </a:lnTo>
                  <a:lnTo>
                    <a:pt x="510638" y="240828"/>
                  </a:lnTo>
                  <a:lnTo>
                    <a:pt x="498586" y="250333"/>
                  </a:lnTo>
                  <a:lnTo>
                    <a:pt x="454568" y="182920"/>
                  </a:lnTo>
                  <a:lnTo>
                    <a:pt x="468008" y="170577"/>
                  </a:lnTo>
                  <a:close/>
                  <a:moveTo>
                    <a:pt x="1319759" y="134146"/>
                  </a:moveTo>
                  <a:lnTo>
                    <a:pt x="1333978" y="145672"/>
                  </a:lnTo>
                  <a:lnTo>
                    <a:pt x="1294036" y="219016"/>
                  </a:lnTo>
                  <a:lnTo>
                    <a:pt x="1277891" y="211027"/>
                  </a:lnTo>
                  <a:lnTo>
                    <a:pt x="1319759" y="134146"/>
                  </a:lnTo>
                  <a:close/>
                  <a:moveTo>
                    <a:pt x="523355" y="113305"/>
                  </a:moveTo>
                  <a:lnTo>
                    <a:pt x="573987" y="208530"/>
                  </a:lnTo>
                  <a:lnTo>
                    <a:pt x="557949" y="216707"/>
                  </a:lnTo>
                  <a:lnTo>
                    <a:pt x="511350" y="129068"/>
                  </a:lnTo>
                  <a:lnTo>
                    <a:pt x="523355" y="113305"/>
                  </a:lnTo>
                  <a:close/>
                  <a:moveTo>
                    <a:pt x="1261668" y="77024"/>
                  </a:moveTo>
                  <a:lnTo>
                    <a:pt x="1274734" y="92144"/>
                  </a:lnTo>
                  <a:lnTo>
                    <a:pt x="1232872" y="188750"/>
                  </a:lnTo>
                  <a:lnTo>
                    <a:pt x="1216718" y="180757"/>
                  </a:lnTo>
                  <a:lnTo>
                    <a:pt x="1261668" y="77024"/>
                  </a:lnTo>
                  <a:close/>
                  <a:moveTo>
                    <a:pt x="879964" y="47539"/>
                  </a:moveTo>
                  <a:lnTo>
                    <a:pt x="896536" y="48415"/>
                  </a:lnTo>
                  <a:lnTo>
                    <a:pt x="898006" y="48246"/>
                  </a:lnTo>
                  <a:lnTo>
                    <a:pt x="900930" y="121496"/>
                  </a:lnTo>
                  <a:lnTo>
                    <a:pt x="882930" y="121839"/>
                  </a:lnTo>
                  <a:lnTo>
                    <a:pt x="879964" y="47539"/>
                  </a:lnTo>
                  <a:close/>
                  <a:moveTo>
                    <a:pt x="803804" y="43511"/>
                  </a:moveTo>
                  <a:lnTo>
                    <a:pt x="822082" y="44478"/>
                  </a:lnTo>
                  <a:lnTo>
                    <a:pt x="832792" y="126618"/>
                  </a:lnTo>
                  <a:lnTo>
                    <a:pt x="814920" y="128774"/>
                  </a:lnTo>
                  <a:lnTo>
                    <a:pt x="803804" y="43511"/>
                  </a:lnTo>
                  <a:close/>
                  <a:moveTo>
                    <a:pt x="577653" y="42008"/>
                  </a:moveTo>
                  <a:lnTo>
                    <a:pt x="634782" y="177534"/>
                  </a:lnTo>
                  <a:lnTo>
                    <a:pt x="618704" y="185731"/>
                  </a:lnTo>
                  <a:lnTo>
                    <a:pt x="565079" y="58518"/>
                  </a:lnTo>
                  <a:lnTo>
                    <a:pt x="577653" y="42008"/>
                  </a:lnTo>
                  <a:close/>
                  <a:moveTo>
                    <a:pt x="973404" y="39567"/>
                  </a:moveTo>
                  <a:lnTo>
                    <a:pt x="969228" y="123258"/>
                  </a:lnTo>
                  <a:lnTo>
                    <a:pt x="951312" y="121130"/>
                  </a:lnTo>
                  <a:lnTo>
                    <a:pt x="955278" y="41654"/>
                  </a:lnTo>
                  <a:lnTo>
                    <a:pt x="973404" y="39567"/>
                  </a:lnTo>
                  <a:close/>
                  <a:moveTo>
                    <a:pt x="723233" y="31443"/>
                  </a:moveTo>
                  <a:lnTo>
                    <a:pt x="742691" y="35995"/>
                  </a:lnTo>
                  <a:lnTo>
                    <a:pt x="765354" y="137622"/>
                  </a:lnTo>
                  <a:lnTo>
                    <a:pt x="747791" y="141567"/>
                  </a:lnTo>
                  <a:lnTo>
                    <a:pt x="723233" y="31443"/>
                  </a:lnTo>
                  <a:close/>
                  <a:moveTo>
                    <a:pt x="1051847" y="25765"/>
                  </a:moveTo>
                  <a:lnTo>
                    <a:pt x="1037014" y="131308"/>
                  </a:lnTo>
                  <a:lnTo>
                    <a:pt x="1019135" y="129184"/>
                  </a:lnTo>
                  <a:lnTo>
                    <a:pt x="1032869" y="31462"/>
                  </a:lnTo>
                  <a:lnTo>
                    <a:pt x="1051847" y="25765"/>
                  </a:lnTo>
                  <a:close/>
                  <a:moveTo>
                    <a:pt x="633115" y="6990"/>
                  </a:moveTo>
                  <a:lnTo>
                    <a:pt x="651107" y="14566"/>
                  </a:lnTo>
                  <a:lnTo>
                    <a:pt x="654699" y="15406"/>
                  </a:lnTo>
                  <a:lnTo>
                    <a:pt x="699105" y="154429"/>
                  </a:lnTo>
                  <a:lnTo>
                    <a:pt x="682029" y="160125"/>
                  </a:lnTo>
                  <a:lnTo>
                    <a:pt x="633115" y="6990"/>
                  </a:lnTo>
                  <a:close/>
                  <a:moveTo>
                    <a:pt x="1203134" y="4273"/>
                  </a:moveTo>
                  <a:lnTo>
                    <a:pt x="1213236" y="20976"/>
                  </a:lnTo>
                  <a:lnTo>
                    <a:pt x="1215649" y="23769"/>
                  </a:lnTo>
                  <a:lnTo>
                    <a:pt x="1169442" y="163605"/>
                  </a:lnTo>
                  <a:lnTo>
                    <a:pt x="1152188" y="158449"/>
                  </a:lnTo>
                  <a:lnTo>
                    <a:pt x="1203134" y="4273"/>
                  </a:lnTo>
                  <a:close/>
                  <a:moveTo>
                    <a:pt x="1137683" y="0"/>
                  </a:moveTo>
                  <a:lnTo>
                    <a:pt x="1104046" y="144062"/>
                  </a:lnTo>
                  <a:lnTo>
                    <a:pt x="1086767" y="138898"/>
                  </a:lnTo>
                  <a:lnTo>
                    <a:pt x="1117806" y="5966"/>
                  </a:lnTo>
                  <a:lnTo>
                    <a:pt x="1137683" y="0"/>
                  </a:lnTo>
                  <a:close/>
                </a:path>
              </a:pathLst>
            </a:custGeom>
            <a:solidFill>
              <a:srgbClr val="b9cde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2" name="MH_SubTitle_1"/>
            <p:cNvSpPr/>
            <p:nvPr/>
          </p:nvSpPr>
          <p:spPr>
            <a:xfrm>
              <a:off x="1334520" y="4035960"/>
              <a:ext cx="1400400" cy="1376280"/>
            </a:xfrm>
            <a:prstGeom prst="pie">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消费过程</a:t>
              </a:r>
              <a:endParaRPr b="0" lang="en-US" sz="1800" spc="-1" strike="noStrike">
                <a:solidFill>
                  <a:srgbClr val="000000"/>
                </a:solidFill>
                <a:latin typeface="Arial"/>
              </a:endParaRPr>
            </a:p>
          </p:txBody>
        </p:sp>
        <p:sp>
          <p:nvSpPr>
            <p:cNvPr id="573" name="MH_Other_2"/>
            <p:cNvSpPr/>
            <p:nvPr/>
          </p:nvSpPr>
          <p:spPr>
            <a:xfrm>
              <a:off x="1473120" y="4035960"/>
              <a:ext cx="1117440" cy="285480"/>
            </a:xfrm>
            <a:prstGeom prst="pie">
              <a:avLst/>
            </a:prstGeom>
            <a:solidFill>
              <a:srgbClr val="4f81bd"/>
            </a:solidFill>
            <a:ln w="0">
              <a:noFill/>
            </a:ln>
          </p:spPr>
          <p:style>
            <a:lnRef idx="0"/>
            <a:fillRef idx="0"/>
            <a:effectRef idx="0"/>
            <a:fontRef idx="minor"/>
          </p:style>
          <p:txBody>
            <a:bodyPr lIns="90000" rIns="90000" tIns="46800" bIns="46800" anchor="ctr">
              <a:normAutofit fontScale="5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04</a:t>
              </a:r>
              <a:endParaRPr b="0" lang="en-US" sz="2400" spc="-1" strike="noStrike">
                <a:solidFill>
                  <a:srgbClr val="000000"/>
                </a:solidFill>
                <a:latin typeface="Arial"/>
              </a:endParaRPr>
            </a:p>
          </p:txBody>
        </p:sp>
      </p:grpSp>
      <p:grpSp>
        <p:nvGrpSpPr>
          <p:cNvPr id="574" name="Group 55"/>
          <p:cNvGrpSpPr/>
          <p:nvPr/>
        </p:nvGrpSpPr>
        <p:grpSpPr>
          <a:xfrm>
            <a:off x="5651640" y="4076640"/>
            <a:ext cx="1836720" cy="1728720"/>
            <a:chOff x="5651640" y="4076640"/>
            <a:chExt cx="1836720" cy="1728720"/>
          </a:xfrm>
        </p:grpSpPr>
        <p:sp>
          <p:nvSpPr>
            <p:cNvPr id="575" name="MH_Other_1"/>
            <p:cNvSpPr/>
            <p:nvPr/>
          </p:nvSpPr>
          <p:spPr>
            <a:xfrm>
              <a:off x="5651640" y="4076640"/>
              <a:ext cx="1836720" cy="1728720"/>
            </a:xfrm>
            <a:custGeom>
              <a:avLst/>
              <a:gdLst/>
              <a:ahLst/>
              <a:rect l="l" t="t" r="r" b="b"/>
              <a:pathLst>
                <a:path w="1844621" h="1765598">
                  <a:moveTo>
                    <a:pt x="961691" y="1643760"/>
                  </a:moveTo>
                  <a:lnTo>
                    <a:pt x="964657" y="1718060"/>
                  </a:lnTo>
                  <a:lnTo>
                    <a:pt x="948083" y="1717184"/>
                  </a:lnTo>
                  <a:lnTo>
                    <a:pt x="946614" y="1717353"/>
                  </a:lnTo>
                  <a:lnTo>
                    <a:pt x="943691" y="1644103"/>
                  </a:lnTo>
                  <a:lnTo>
                    <a:pt x="961691" y="1643760"/>
                  </a:lnTo>
                  <a:close/>
                  <a:moveTo>
                    <a:pt x="875350" y="1643169"/>
                  </a:moveTo>
                  <a:lnTo>
                    <a:pt x="893299" y="1644629"/>
                  </a:lnTo>
                  <a:lnTo>
                    <a:pt x="889341" y="1723945"/>
                  </a:lnTo>
                  <a:lnTo>
                    <a:pt x="871214" y="1726031"/>
                  </a:lnTo>
                  <a:lnTo>
                    <a:pt x="875350" y="1643169"/>
                  </a:lnTo>
                  <a:close/>
                  <a:moveTo>
                    <a:pt x="1029699" y="1636826"/>
                  </a:moveTo>
                  <a:lnTo>
                    <a:pt x="1040815" y="1722087"/>
                  </a:lnTo>
                  <a:lnTo>
                    <a:pt x="1022537" y="1721121"/>
                  </a:lnTo>
                  <a:lnTo>
                    <a:pt x="1011828" y="1638982"/>
                  </a:lnTo>
                  <a:lnTo>
                    <a:pt x="1029699" y="1636826"/>
                  </a:lnTo>
                  <a:close/>
                  <a:moveTo>
                    <a:pt x="807350" y="1636115"/>
                  </a:moveTo>
                  <a:lnTo>
                    <a:pt x="822430" y="1638864"/>
                  </a:lnTo>
                  <a:lnTo>
                    <a:pt x="825110" y="1639083"/>
                  </a:lnTo>
                  <a:lnTo>
                    <a:pt x="811751" y="1734136"/>
                  </a:lnTo>
                  <a:lnTo>
                    <a:pt x="792774" y="1739833"/>
                  </a:lnTo>
                  <a:lnTo>
                    <a:pt x="807350" y="1636115"/>
                  </a:lnTo>
                  <a:close/>
                  <a:moveTo>
                    <a:pt x="1096827" y="1624033"/>
                  </a:moveTo>
                  <a:lnTo>
                    <a:pt x="1121385" y="1734155"/>
                  </a:lnTo>
                  <a:lnTo>
                    <a:pt x="1101928" y="1729603"/>
                  </a:lnTo>
                  <a:lnTo>
                    <a:pt x="1079265" y="1627978"/>
                  </a:lnTo>
                  <a:lnTo>
                    <a:pt x="1096827" y="1624033"/>
                  </a:lnTo>
                  <a:close/>
                  <a:moveTo>
                    <a:pt x="740342" y="1622534"/>
                  </a:moveTo>
                  <a:lnTo>
                    <a:pt x="749046" y="1625484"/>
                  </a:lnTo>
                  <a:lnTo>
                    <a:pt x="757767" y="1627074"/>
                  </a:lnTo>
                  <a:lnTo>
                    <a:pt x="726815" y="1759631"/>
                  </a:lnTo>
                  <a:lnTo>
                    <a:pt x="706937" y="1765598"/>
                  </a:lnTo>
                  <a:lnTo>
                    <a:pt x="740342" y="1622534"/>
                  </a:lnTo>
                  <a:close/>
                  <a:moveTo>
                    <a:pt x="1162592" y="1605474"/>
                  </a:moveTo>
                  <a:lnTo>
                    <a:pt x="1211506" y="1758609"/>
                  </a:lnTo>
                  <a:lnTo>
                    <a:pt x="1193512" y="1751032"/>
                  </a:lnTo>
                  <a:lnTo>
                    <a:pt x="1189921" y="1750192"/>
                  </a:lnTo>
                  <a:lnTo>
                    <a:pt x="1145515" y="1611170"/>
                  </a:lnTo>
                  <a:lnTo>
                    <a:pt x="1162592" y="1605474"/>
                  </a:lnTo>
                  <a:close/>
                  <a:moveTo>
                    <a:pt x="675637" y="1600604"/>
                  </a:moveTo>
                  <a:lnTo>
                    <a:pt x="692686" y="1606382"/>
                  </a:lnTo>
                  <a:lnTo>
                    <a:pt x="641486" y="1761326"/>
                  </a:lnTo>
                  <a:lnTo>
                    <a:pt x="631383" y="1744623"/>
                  </a:lnTo>
                  <a:lnTo>
                    <a:pt x="628970" y="1741831"/>
                  </a:lnTo>
                  <a:lnTo>
                    <a:pt x="675637" y="1600604"/>
                  </a:lnTo>
                  <a:close/>
                  <a:moveTo>
                    <a:pt x="1225916" y="1579868"/>
                  </a:moveTo>
                  <a:lnTo>
                    <a:pt x="1279540" y="1707080"/>
                  </a:lnTo>
                  <a:lnTo>
                    <a:pt x="1266966" y="1723591"/>
                  </a:lnTo>
                  <a:lnTo>
                    <a:pt x="1209837" y="1588066"/>
                  </a:lnTo>
                  <a:lnTo>
                    <a:pt x="1225916" y="1579868"/>
                  </a:lnTo>
                  <a:close/>
                  <a:moveTo>
                    <a:pt x="610954" y="1578681"/>
                  </a:moveTo>
                  <a:lnTo>
                    <a:pt x="628059" y="1584478"/>
                  </a:lnTo>
                  <a:lnTo>
                    <a:pt x="582951" y="1688574"/>
                  </a:lnTo>
                  <a:lnTo>
                    <a:pt x="569886" y="1673454"/>
                  </a:lnTo>
                  <a:lnTo>
                    <a:pt x="610954" y="1578681"/>
                  </a:lnTo>
                  <a:close/>
                  <a:moveTo>
                    <a:pt x="1286670" y="1548893"/>
                  </a:moveTo>
                  <a:lnTo>
                    <a:pt x="1333269" y="1636531"/>
                  </a:lnTo>
                  <a:lnTo>
                    <a:pt x="1321264" y="1652294"/>
                  </a:lnTo>
                  <a:lnTo>
                    <a:pt x="1270632" y="1557070"/>
                  </a:lnTo>
                  <a:lnTo>
                    <a:pt x="1286670" y="1548893"/>
                  </a:lnTo>
                  <a:close/>
                  <a:moveTo>
                    <a:pt x="551444" y="1545001"/>
                  </a:moveTo>
                  <a:lnTo>
                    <a:pt x="567074" y="1553937"/>
                  </a:lnTo>
                  <a:lnTo>
                    <a:pt x="524862" y="1631452"/>
                  </a:lnTo>
                  <a:lnTo>
                    <a:pt x="510642" y="1619926"/>
                  </a:lnTo>
                  <a:lnTo>
                    <a:pt x="551444" y="1545001"/>
                  </a:lnTo>
                  <a:close/>
                  <a:moveTo>
                    <a:pt x="1346034" y="1515267"/>
                  </a:moveTo>
                  <a:lnTo>
                    <a:pt x="1390051" y="1582679"/>
                  </a:lnTo>
                  <a:lnTo>
                    <a:pt x="1376613" y="1595021"/>
                  </a:lnTo>
                  <a:lnTo>
                    <a:pt x="1331552" y="1526010"/>
                  </a:lnTo>
                  <a:lnTo>
                    <a:pt x="1333983" y="1524770"/>
                  </a:lnTo>
                  <a:lnTo>
                    <a:pt x="1346034" y="1515267"/>
                  </a:lnTo>
                  <a:close/>
                  <a:moveTo>
                    <a:pt x="492213" y="1511140"/>
                  </a:moveTo>
                  <a:lnTo>
                    <a:pt x="507877" y="1520095"/>
                  </a:lnTo>
                  <a:lnTo>
                    <a:pt x="465615" y="1583429"/>
                  </a:lnTo>
                  <a:lnTo>
                    <a:pt x="452723" y="1572979"/>
                  </a:lnTo>
                  <a:lnTo>
                    <a:pt x="451434" y="1572252"/>
                  </a:lnTo>
                  <a:lnTo>
                    <a:pt x="492213" y="1511140"/>
                  </a:lnTo>
                  <a:close/>
                  <a:moveTo>
                    <a:pt x="1399641" y="1472989"/>
                  </a:moveTo>
                  <a:lnTo>
                    <a:pt x="1447523" y="1533649"/>
                  </a:lnTo>
                  <a:lnTo>
                    <a:pt x="1433600" y="1542681"/>
                  </a:lnTo>
                  <a:lnTo>
                    <a:pt x="1432510" y="1543682"/>
                  </a:lnTo>
                  <a:lnTo>
                    <a:pt x="1385507" y="1484135"/>
                  </a:lnTo>
                  <a:lnTo>
                    <a:pt x="1399641" y="1472989"/>
                  </a:lnTo>
                  <a:close/>
                  <a:moveTo>
                    <a:pt x="439084" y="1468240"/>
                  </a:moveTo>
                  <a:lnTo>
                    <a:pt x="452737" y="1479985"/>
                  </a:lnTo>
                  <a:lnTo>
                    <a:pt x="401226" y="1543921"/>
                  </a:lnTo>
                  <a:lnTo>
                    <a:pt x="385335" y="1534955"/>
                  </a:lnTo>
                  <a:lnTo>
                    <a:pt x="439084" y="1468240"/>
                  </a:lnTo>
                  <a:close/>
                  <a:moveTo>
                    <a:pt x="1452700" y="1430017"/>
                  </a:moveTo>
                  <a:lnTo>
                    <a:pt x="1511505" y="1492141"/>
                  </a:lnTo>
                  <a:lnTo>
                    <a:pt x="1496150" y="1502102"/>
                  </a:lnTo>
                  <a:lnTo>
                    <a:pt x="1439119" y="1441854"/>
                  </a:lnTo>
                  <a:lnTo>
                    <a:pt x="1449687" y="1433519"/>
                  </a:lnTo>
                  <a:lnTo>
                    <a:pt x="1452700" y="1430017"/>
                  </a:lnTo>
                  <a:close/>
                  <a:moveTo>
                    <a:pt x="387391" y="1423768"/>
                  </a:moveTo>
                  <a:lnTo>
                    <a:pt x="401059" y="1435526"/>
                  </a:lnTo>
                  <a:lnTo>
                    <a:pt x="332463" y="1506560"/>
                  </a:lnTo>
                  <a:lnTo>
                    <a:pt x="313761" y="1500014"/>
                  </a:lnTo>
                  <a:lnTo>
                    <a:pt x="387391" y="1423768"/>
                  </a:lnTo>
                  <a:close/>
                  <a:moveTo>
                    <a:pt x="1497274" y="1378205"/>
                  </a:moveTo>
                  <a:lnTo>
                    <a:pt x="1583781" y="1454547"/>
                  </a:lnTo>
                  <a:lnTo>
                    <a:pt x="1565364" y="1462300"/>
                  </a:lnTo>
                  <a:lnTo>
                    <a:pt x="1485535" y="1391850"/>
                  </a:lnTo>
                  <a:lnTo>
                    <a:pt x="1497274" y="1378205"/>
                  </a:lnTo>
                  <a:close/>
                  <a:moveTo>
                    <a:pt x="342078" y="1372754"/>
                  </a:moveTo>
                  <a:lnTo>
                    <a:pt x="353236" y="1386902"/>
                  </a:lnTo>
                  <a:lnTo>
                    <a:pt x="248764" y="1477262"/>
                  </a:lnTo>
                  <a:lnTo>
                    <a:pt x="229175" y="1470405"/>
                  </a:lnTo>
                  <a:lnTo>
                    <a:pt x="342078" y="1372754"/>
                  </a:lnTo>
                  <a:close/>
                  <a:moveTo>
                    <a:pt x="1541797" y="1326453"/>
                  </a:moveTo>
                  <a:lnTo>
                    <a:pt x="1671063" y="1421359"/>
                  </a:lnTo>
                  <a:lnTo>
                    <a:pt x="1652052" y="1425806"/>
                  </a:lnTo>
                  <a:lnTo>
                    <a:pt x="1648653" y="1427237"/>
                  </a:lnTo>
                  <a:lnTo>
                    <a:pt x="1530022" y="1340139"/>
                  </a:lnTo>
                  <a:lnTo>
                    <a:pt x="1541797" y="1326453"/>
                  </a:lnTo>
                  <a:close/>
                  <a:moveTo>
                    <a:pt x="299862" y="1319225"/>
                  </a:moveTo>
                  <a:lnTo>
                    <a:pt x="311019" y="1333372"/>
                  </a:lnTo>
                  <a:lnTo>
                    <a:pt x="178732" y="1428480"/>
                  </a:lnTo>
                  <a:lnTo>
                    <a:pt x="180377" y="1409027"/>
                  </a:lnTo>
                  <a:lnTo>
                    <a:pt x="180067" y="1405352"/>
                  </a:lnTo>
                  <a:lnTo>
                    <a:pt x="299862" y="1319225"/>
                  </a:lnTo>
                  <a:close/>
                  <a:moveTo>
                    <a:pt x="1576542" y="1267609"/>
                  </a:moveTo>
                  <a:lnTo>
                    <a:pt x="1695816" y="1339681"/>
                  </a:lnTo>
                  <a:lnTo>
                    <a:pt x="1695348" y="1360430"/>
                  </a:lnTo>
                  <a:lnTo>
                    <a:pt x="1567606" y="1283241"/>
                  </a:lnTo>
                  <a:lnTo>
                    <a:pt x="1576542" y="1267609"/>
                  </a:lnTo>
                  <a:close/>
                  <a:moveTo>
                    <a:pt x="263531" y="1261503"/>
                  </a:moveTo>
                  <a:lnTo>
                    <a:pt x="271723" y="1277570"/>
                  </a:lnTo>
                  <a:lnTo>
                    <a:pt x="174140" y="1335215"/>
                  </a:lnTo>
                  <a:lnTo>
                    <a:pt x="172457" y="1315303"/>
                  </a:lnTo>
                  <a:lnTo>
                    <a:pt x="263531" y="1261503"/>
                  </a:lnTo>
                  <a:close/>
                  <a:moveTo>
                    <a:pt x="1610398" y="1208387"/>
                  </a:moveTo>
                  <a:lnTo>
                    <a:pt x="1697816" y="1251024"/>
                  </a:lnTo>
                  <a:lnTo>
                    <a:pt x="1697369" y="1270832"/>
                  </a:lnTo>
                  <a:lnTo>
                    <a:pt x="1601446" y="1224047"/>
                  </a:lnTo>
                  <a:lnTo>
                    <a:pt x="1610398" y="1208387"/>
                  </a:lnTo>
                  <a:close/>
                  <a:moveTo>
                    <a:pt x="232566" y="1200770"/>
                  </a:moveTo>
                  <a:lnTo>
                    <a:pt x="240745" y="1216812"/>
                  </a:lnTo>
                  <a:lnTo>
                    <a:pt x="160720" y="1254859"/>
                  </a:lnTo>
                  <a:lnTo>
                    <a:pt x="155991" y="1237178"/>
                  </a:lnTo>
                  <a:lnTo>
                    <a:pt x="232566" y="1200770"/>
                  </a:lnTo>
                  <a:close/>
                  <a:moveTo>
                    <a:pt x="1634958" y="1144690"/>
                  </a:moveTo>
                  <a:lnTo>
                    <a:pt x="1712099" y="1174082"/>
                  </a:lnTo>
                  <a:lnTo>
                    <a:pt x="1708482" y="1191966"/>
                  </a:lnTo>
                  <a:lnTo>
                    <a:pt x="1629176" y="1161750"/>
                  </a:lnTo>
                  <a:lnTo>
                    <a:pt x="1634958" y="1144690"/>
                  </a:lnTo>
                  <a:close/>
                  <a:moveTo>
                    <a:pt x="204756" y="1138431"/>
                  </a:moveTo>
                  <a:lnTo>
                    <a:pt x="210455" y="1155515"/>
                  </a:lnTo>
                  <a:lnTo>
                    <a:pt x="141015" y="1181182"/>
                  </a:lnTo>
                  <a:lnTo>
                    <a:pt x="136727" y="1165150"/>
                  </a:lnTo>
                  <a:lnTo>
                    <a:pt x="136112" y="1163804"/>
                  </a:lnTo>
                  <a:lnTo>
                    <a:pt x="204756" y="1138431"/>
                  </a:lnTo>
                  <a:close/>
                  <a:moveTo>
                    <a:pt x="1656844" y="1080115"/>
                  </a:moveTo>
                  <a:lnTo>
                    <a:pt x="1729776" y="1100634"/>
                  </a:lnTo>
                  <a:lnTo>
                    <a:pt x="1723821" y="1116126"/>
                  </a:lnTo>
                  <a:lnTo>
                    <a:pt x="1723528" y="1117576"/>
                  </a:lnTo>
                  <a:lnTo>
                    <a:pt x="1651058" y="1097186"/>
                  </a:lnTo>
                  <a:lnTo>
                    <a:pt x="1656844" y="1080115"/>
                  </a:lnTo>
                  <a:close/>
                  <a:moveTo>
                    <a:pt x="184625" y="1073110"/>
                  </a:moveTo>
                  <a:lnTo>
                    <a:pt x="188043" y="1088326"/>
                  </a:lnTo>
                  <a:lnTo>
                    <a:pt x="188810" y="1090624"/>
                  </a:lnTo>
                  <a:lnTo>
                    <a:pt x="112145" y="1111372"/>
                  </a:lnTo>
                  <a:lnTo>
                    <a:pt x="104560" y="1094778"/>
                  </a:lnTo>
                  <a:lnTo>
                    <a:pt x="184625" y="1073110"/>
                  </a:lnTo>
                  <a:close/>
                  <a:moveTo>
                    <a:pt x="1672722" y="1013691"/>
                  </a:moveTo>
                  <a:lnTo>
                    <a:pt x="1757141" y="1029446"/>
                  </a:lnTo>
                  <a:lnTo>
                    <a:pt x="1750574" y="1046531"/>
                  </a:lnTo>
                  <a:lnTo>
                    <a:pt x="1669493" y="1031399"/>
                  </a:lnTo>
                  <a:lnTo>
                    <a:pt x="1672722" y="1013691"/>
                  </a:lnTo>
                  <a:close/>
                  <a:moveTo>
                    <a:pt x="170225" y="1006273"/>
                  </a:moveTo>
                  <a:lnTo>
                    <a:pt x="170936" y="1012170"/>
                  </a:lnTo>
                  <a:lnTo>
                    <a:pt x="173584" y="1023958"/>
                  </a:lnTo>
                  <a:lnTo>
                    <a:pt x="78475" y="1040728"/>
                  </a:lnTo>
                  <a:lnTo>
                    <a:pt x="67193" y="1024440"/>
                  </a:lnTo>
                  <a:lnTo>
                    <a:pt x="170225" y="1006273"/>
                  </a:lnTo>
                  <a:close/>
                  <a:moveTo>
                    <a:pt x="1681368" y="945892"/>
                  </a:moveTo>
                  <a:lnTo>
                    <a:pt x="1793516" y="956550"/>
                  </a:lnTo>
                  <a:lnTo>
                    <a:pt x="1783173" y="973649"/>
                  </a:lnTo>
                  <a:lnTo>
                    <a:pt x="1679909" y="963835"/>
                  </a:lnTo>
                  <a:lnTo>
                    <a:pt x="1681368" y="945892"/>
                  </a:lnTo>
                  <a:close/>
                  <a:moveTo>
                    <a:pt x="162034" y="938372"/>
                  </a:moveTo>
                  <a:lnTo>
                    <a:pt x="164191" y="956254"/>
                  </a:lnTo>
                  <a:lnTo>
                    <a:pt x="27981" y="967828"/>
                  </a:lnTo>
                  <a:lnTo>
                    <a:pt x="16164" y="950767"/>
                  </a:lnTo>
                  <a:lnTo>
                    <a:pt x="162034" y="938372"/>
                  </a:lnTo>
                  <a:close/>
                  <a:moveTo>
                    <a:pt x="1683923" y="877596"/>
                  </a:moveTo>
                  <a:lnTo>
                    <a:pt x="1844621" y="878397"/>
                  </a:lnTo>
                  <a:lnTo>
                    <a:pt x="1831855" y="893168"/>
                  </a:lnTo>
                  <a:lnTo>
                    <a:pt x="1829946" y="896325"/>
                  </a:lnTo>
                  <a:lnTo>
                    <a:pt x="1684266" y="895598"/>
                  </a:lnTo>
                  <a:lnTo>
                    <a:pt x="1683923" y="877596"/>
                  </a:lnTo>
                  <a:close/>
                  <a:moveTo>
                    <a:pt x="14676" y="869273"/>
                  </a:moveTo>
                  <a:lnTo>
                    <a:pt x="160356" y="869999"/>
                  </a:lnTo>
                  <a:lnTo>
                    <a:pt x="160699" y="888001"/>
                  </a:lnTo>
                  <a:lnTo>
                    <a:pt x="0" y="887200"/>
                  </a:lnTo>
                  <a:lnTo>
                    <a:pt x="12766" y="872429"/>
                  </a:lnTo>
                  <a:lnTo>
                    <a:pt x="14676" y="869273"/>
                  </a:lnTo>
                  <a:close/>
                  <a:moveTo>
                    <a:pt x="1816638" y="797770"/>
                  </a:moveTo>
                  <a:lnTo>
                    <a:pt x="1828455" y="814831"/>
                  </a:lnTo>
                  <a:lnTo>
                    <a:pt x="1682588" y="827227"/>
                  </a:lnTo>
                  <a:lnTo>
                    <a:pt x="1680430" y="809345"/>
                  </a:lnTo>
                  <a:lnTo>
                    <a:pt x="1816638" y="797770"/>
                  </a:lnTo>
                  <a:close/>
                  <a:moveTo>
                    <a:pt x="61447" y="791950"/>
                  </a:moveTo>
                  <a:lnTo>
                    <a:pt x="164713" y="801763"/>
                  </a:lnTo>
                  <a:lnTo>
                    <a:pt x="163253" y="819705"/>
                  </a:lnTo>
                  <a:lnTo>
                    <a:pt x="51105" y="809048"/>
                  </a:lnTo>
                  <a:lnTo>
                    <a:pt x="61447" y="791950"/>
                  </a:lnTo>
                  <a:close/>
                  <a:moveTo>
                    <a:pt x="1766145" y="724870"/>
                  </a:moveTo>
                  <a:lnTo>
                    <a:pt x="1777427" y="741158"/>
                  </a:lnTo>
                  <a:lnTo>
                    <a:pt x="1674396" y="759325"/>
                  </a:lnTo>
                  <a:lnTo>
                    <a:pt x="1673685" y="753429"/>
                  </a:lnTo>
                  <a:lnTo>
                    <a:pt x="1670588" y="741719"/>
                  </a:lnTo>
                  <a:lnTo>
                    <a:pt x="1766145" y="724870"/>
                  </a:lnTo>
                  <a:close/>
                  <a:moveTo>
                    <a:pt x="94047" y="719066"/>
                  </a:moveTo>
                  <a:lnTo>
                    <a:pt x="175129" y="734198"/>
                  </a:lnTo>
                  <a:lnTo>
                    <a:pt x="171900" y="751906"/>
                  </a:lnTo>
                  <a:lnTo>
                    <a:pt x="87480" y="736151"/>
                  </a:lnTo>
                  <a:lnTo>
                    <a:pt x="94047" y="719066"/>
                  </a:lnTo>
                  <a:close/>
                  <a:moveTo>
                    <a:pt x="1732475" y="654227"/>
                  </a:moveTo>
                  <a:lnTo>
                    <a:pt x="1740061" y="670822"/>
                  </a:lnTo>
                  <a:lnTo>
                    <a:pt x="1657733" y="693102"/>
                  </a:lnTo>
                  <a:lnTo>
                    <a:pt x="1653131" y="675699"/>
                  </a:lnTo>
                  <a:lnTo>
                    <a:pt x="1732475" y="654227"/>
                  </a:lnTo>
                  <a:close/>
                  <a:moveTo>
                    <a:pt x="121093" y="648021"/>
                  </a:moveTo>
                  <a:lnTo>
                    <a:pt x="193564" y="668412"/>
                  </a:lnTo>
                  <a:lnTo>
                    <a:pt x="187778" y="685483"/>
                  </a:lnTo>
                  <a:lnTo>
                    <a:pt x="114844" y="664963"/>
                  </a:lnTo>
                  <a:lnTo>
                    <a:pt x="120799" y="649471"/>
                  </a:lnTo>
                  <a:lnTo>
                    <a:pt x="121093" y="648021"/>
                  </a:lnTo>
                  <a:close/>
                  <a:moveTo>
                    <a:pt x="1703605" y="584417"/>
                  </a:moveTo>
                  <a:lnTo>
                    <a:pt x="1707892" y="600448"/>
                  </a:lnTo>
                  <a:lnTo>
                    <a:pt x="1708508" y="601796"/>
                  </a:lnTo>
                  <a:lnTo>
                    <a:pt x="1640259" y="627022"/>
                  </a:lnTo>
                  <a:lnTo>
                    <a:pt x="1639049" y="622444"/>
                  </a:lnTo>
                  <a:lnTo>
                    <a:pt x="1633440" y="610352"/>
                  </a:lnTo>
                  <a:lnTo>
                    <a:pt x="1703605" y="584417"/>
                  </a:lnTo>
                  <a:close/>
                  <a:moveTo>
                    <a:pt x="136138" y="573632"/>
                  </a:moveTo>
                  <a:lnTo>
                    <a:pt x="215446" y="603848"/>
                  </a:lnTo>
                  <a:lnTo>
                    <a:pt x="209665" y="620908"/>
                  </a:lnTo>
                  <a:lnTo>
                    <a:pt x="132521" y="591516"/>
                  </a:lnTo>
                  <a:lnTo>
                    <a:pt x="136138" y="573632"/>
                  </a:lnTo>
                  <a:close/>
                  <a:moveTo>
                    <a:pt x="1683900" y="510741"/>
                  </a:moveTo>
                  <a:lnTo>
                    <a:pt x="1688629" y="528423"/>
                  </a:lnTo>
                  <a:lnTo>
                    <a:pt x="1612275" y="564725"/>
                  </a:lnTo>
                  <a:lnTo>
                    <a:pt x="1604700" y="548396"/>
                  </a:lnTo>
                  <a:lnTo>
                    <a:pt x="1683900" y="510741"/>
                  </a:lnTo>
                  <a:close/>
                  <a:moveTo>
                    <a:pt x="147252" y="494765"/>
                  </a:moveTo>
                  <a:lnTo>
                    <a:pt x="243177" y="541551"/>
                  </a:lnTo>
                  <a:lnTo>
                    <a:pt x="234224" y="557210"/>
                  </a:lnTo>
                  <a:lnTo>
                    <a:pt x="146805" y="514573"/>
                  </a:lnTo>
                  <a:lnTo>
                    <a:pt x="147252" y="494765"/>
                  </a:lnTo>
                  <a:close/>
                  <a:moveTo>
                    <a:pt x="1670480" y="430384"/>
                  </a:moveTo>
                  <a:lnTo>
                    <a:pt x="1672163" y="450296"/>
                  </a:lnTo>
                  <a:lnTo>
                    <a:pt x="1583450" y="502701"/>
                  </a:lnTo>
                  <a:lnTo>
                    <a:pt x="1573155" y="487877"/>
                  </a:lnTo>
                  <a:lnTo>
                    <a:pt x="1670480" y="430384"/>
                  </a:lnTo>
                  <a:close/>
                  <a:moveTo>
                    <a:pt x="149273" y="405169"/>
                  </a:moveTo>
                  <a:lnTo>
                    <a:pt x="277016" y="482359"/>
                  </a:lnTo>
                  <a:lnTo>
                    <a:pt x="268080" y="497989"/>
                  </a:lnTo>
                  <a:lnTo>
                    <a:pt x="148805" y="425916"/>
                  </a:lnTo>
                  <a:lnTo>
                    <a:pt x="149273" y="405169"/>
                  </a:lnTo>
                  <a:close/>
                  <a:moveTo>
                    <a:pt x="195968" y="338361"/>
                  </a:moveTo>
                  <a:lnTo>
                    <a:pt x="314600" y="425459"/>
                  </a:lnTo>
                  <a:lnTo>
                    <a:pt x="302826" y="439145"/>
                  </a:lnTo>
                  <a:lnTo>
                    <a:pt x="173559" y="344239"/>
                  </a:lnTo>
                  <a:lnTo>
                    <a:pt x="192568" y="339792"/>
                  </a:lnTo>
                  <a:lnTo>
                    <a:pt x="195968" y="338361"/>
                  </a:lnTo>
                  <a:close/>
                  <a:moveTo>
                    <a:pt x="1665887" y="337121"/>
                  </a:moveTo>
                  <a:lnTo>
                    <a:pt x="1664242" y="356571"/>
                  </a:lnTo>
                  <a:lnTo>
                    <a:pt x="1664553" y="360248"/>
                  </a:lnTo>
                  <a:lnTo>
                    <a:pt x="1544474" y="446578"/>
                  </a:lnTo>
                  <a:lnTo>
                    <a:pt x="1534206" y="431793"/>
                  </a:lnTo>
                  <a:lnTo>
                    <a:pt x="1665887" y="337121"/>
                  </a:lnTo>
                  <a:close/>
                  <a:moveTo>
                    <a:pt x="279257" y="303297"/>
                  </a:moveTo>
                  <a:lnTo>
                    <a:pt x="359087" y="373748"/>
                  </a:lnTo>
                  <a:lnTo>
                    <a:pt x="347347" y="387394"/>
                  </a:lnTo>
                  <a:lnTo>
                    <a:pt x="260839" y="311051"/>
                  </a:lnTo>
                  <a:lnTo>
                    <a:pt x="279257" y="303297"/>
                  </a:lnTo>
                  <a:close/>
                  <a:moveTo>
                    <a:pt x="1595859" y="288337"/>
                  </a:moveTo>
                  <a:lnTo>
                    <a:pt x="1615448" y="295194"/>
                  </a:lnTo>
                  <a:lnTo>
                    <a:pt x="1504459" y="391189"/>
                  </a:lnTo>
                  <a:lnTo>
                    <a:pt x="1491819" y="378322"/>
                  </a:lnTo>
                  <a:lnTo>
                    <a:pt x="1595859" y="288337"/>
                  </a:lnTo>
                  <a:close/>
                  <a:moveTo>
                    <a:pt x="348471" y="263494"/>
                  </a:moveTo>
                  <a:lnTo>
                    <a:pt x="405504" y="323744"/>
                  </a:lnTo>
                  <a:lnTo>
                    <a:pt x="394934" y="332080"/>
                  </a:lnTo>
                  <a:lnTo>
                    <a:pt x="391923" y="335581"/>
                  </a:lnTo>
                  <a:lnTo>
                    <a:pt x="333116" y="273456"/>
                  </a:lnTo>
                  <a:lnTo>
                    <a:pt x="348471" y="263494"/>
                  </a:lnTo>
                  <a:close/>
                  <a:moveTo>
                    <a:pt x="1512159" y="259039"/>
                  </a:moveTo>
                  <a:lnTo>
                    <a:pt x="1530860" y="265585"/>
                  </a:lnTo>
                  <a:lnTo>
                    <a:pt x="1456606" y="342477"/>
                  </a:lnTo>
                  <a:lnTo>
                    <a:pt x="1443988" y="329632"/>
                  </a:lnTo>
                  <a:lnTo>
                    <a:pt x="1512159" y="259039"/>
                  </a:lnTo>
                  <a:close/>
                  <a:moveTo>
                    <a:pt x="412110" y="221916"/>
                  </a:moveTo>
                  <a:lnTo>
                    <a:pt x="459114" y="281464"/>
                  </a:lnTo>
                  <a:lnTo>
                    <a:pt x="444980" y="292610"/>
                  </a:lnTo>
                  <a:lnTo>
                    <a:pt x="397097" y="231949"/>
                  </a:lnTo>
                  <a:lnTo>
                    <a:pt x="411019" y="222917"/>
                  </a:lnTo>
                  <a:lnTo>
                    <a:pt x="412110" y="221916"/>
                  </a:lnTo>
                  <a:close/>
                  <a:moveTo>
                    <a:pt x="1443396" y="221678"/>
                  </a:moveTo>
                  <a:lnTo>
                    <a:pt x="1459286" y="230644"/>
                  </a:lnTo>
                  <a:lnTo>
                    <a:pt x="1406897" y="295670"/>
                  </a:lnTo>
                  <a:lnTo>
                    <a:pt x="1392300" y="285098"/>
                  </a:lnTo>
                  <a:lnTo>
                    <a:pt x="1443396" y="221678"/>
                  </a:lnTo>
                  <a:close/>
                  <a:moveTo>
                    <a:pt x="1379005" y="182170"/>
                  </a:moveTo>
                  <a:lnTo>
                    <a:pt x="1391896" y="192619"/>
                  </a:lnTo>
                  <a:lnTo>
                    <a:pt x="1393186" y="193347"/>
                  </a:lnTo>
                  <a:lnTo>
                    <a:pt x="1351622" y="255636"/>
                  </a:lnTo>
                  <a:lnTo>
                    <a:pt x="1337034" y="245070"/>
                  </a:lnTo>
                  <a:lnTo>
                    <a:pt x="1379005" y="182170"/>
                  </a:lnTo>
                  <a:close/>
                  <a:moveTo>
                    <a:pt x="468008" y="170577"/>
                  </a:moveTo>
                  <a:lnTo>
                    <a:pt x="513069" y="239589"/>
                  </a:lnTo>
                  <a:lnTo>
                    <a:pt x="510638" y="240828"/>
                  </a:lnTo>
                  <a:lnTo>
                    <a:pt x="498586" y="250333"/>
                  </a:lnTo>
                  <a:lnTo>
                    <a:pt x="454568" y="182920"/>
                  </a:lnTo>
                  <a:lnTo>
                    <a:pt x="468008" y="170577"/>
                  </a:lnTo>
                  <a:close/>
                  <a:moveTo>
                    <a:pt x="1319759" y="134146"/>
                  </a:moveTo>
                  <a:lnTo>
                    <a:pt x="1333978" y="145672"/>
                  </a:lnTo>
                  <a:lnTo>
                    <a:pt x="1294036" y="219016"/>
                  </a:lnTo>
                  <a:lnTo>
                    <a:pt x="1277891" y="211027"/>
                  </a:lnTo>
                  <a:lnTo>
                    <a:pt x="1319759" y="134146"/>
                  </a:lnTo>
                  <a:close/>
                  <a:moveTo>
                    <a:pt x="523355" y="113305"/>
                  </a:moveTo>
                  <a:lnTo>
                    <a:pt x="573987" y="208530"/>
                  </a:lnTo>
                  <a:lnTo>
                    <a:pt x="557949" y="216707"/>
                  </a:lnTo>
                  <a:lnTo>
                    <a:pt x="511350" y="129068"/>
                  </a:lnTo>
                  <a:lnTo>
                    <a:pt x="523355" y="113305"/>
                  </a:lnTo>
                  <a:close/>
                  <a:moveTo>
                    <a:pt x="1261668" y="77024"/>
                  </a:moveTo>
                  <a:lnTo>
                    <a:pt x="1274734" y="92144"/>
                  </a:lnTo>
                  <a:lnTo>
                    <a:pt x="1232872" y="188750"/>
                  </a:lnTo>
                  <a:lnTo>
                    <a:pt x="1216718" y="180757"/>
                  </a:lnTo>
                  <a:lnTo>
                    <a:pt x="1261668" y="77024"/>
                  </a:lnTo>
                  <a:close/>
                  <a:moveTo>
                    <a:pt x="879964" y="47539"/>
                  </a:moveTo>
                  <a:lnTo>
                    <a:pt x="896536" y="48415"/>
                  </a:lnTo>
                  <a:lnTo>
                    <a:pt x="898006" y="48246"/>
                  </a:lnTo>
                  <a:lnTo>
                    <a:pt x="900930" y="121496"/>
                  </a:lnTo>
                  <a:lnTo>
                    <a:pt x="882930" y="121839"/>
                  </a:lnTo>
                  <a:lnTo>
                    <a:pt x="879964" y="47539"/>
                  </a:lnTo>
                  <a:close/>
                  <a:moveTo>
                    <a:pt x="803804" y="43511"/>
                  </a:moveTo>
                  <a:lnTo>
                    <a:pt x="822082" y="44478"/>
                  </a:lnTo>
                  <a:lnTo>
                    <a:pt x="832792" y="126618"/>
                  </a:lnTo>
                  <a:lnTo>
                    <a:pt x="814920" y="128774"/>
                  </a:lnTo>
                  <a:lnTo>
                    <a:pt x="803804" y="43511"/>
                  </a:lnTo>
                  <a:close/>
                  <a:moveTo>
                    <a:pt x="577653" y="42008"/>
                  </a:moveTo>
                  <a:lnTo>
                    <a:pt x="634782" y="177534"/>
                  </a:lnTo>
                  <a:lnTo>
                    <a:pt x="618704" y="185731"/>
                  </a:lnTo>
                  <a:lnTo>
                    <a:pt x="565079" y="58518"/>
                  </a:lnTo>
                  <a:lnTo>
                    <a:pt x="577653" y="42008"/>
                  </a:lnTo>
                  <a:close/>
                  <a:moveTo>
                    <a:pt x="973404" y="39567"/>
                  </a:moveTo>
                  <a:lnTo>
                    <a:pt x="969228" y="123258"/>
                  </a:lnTo>
                  <a:lnTo>
                    <a:pt x="951312" y="121130"/>
                  </a:lnTo>
                  <a:lnTo>
                    <a:pt x="955278" y="41654"/>
                  </a:lnTo>
                  <a:lnTo>
                    <a:pt x="973404" y="39567"/>
                  </a:lnTo>
                  <a:close/>
                  <a:moveTo>
                    <a:pt x="723233" y="31443"/>
                  </a:moveTo>
                  <a:lnTo>
                    <a:pt x="742691" y="35995"/>
                  </a:lnTo>
                  <a:lnTo>
                    <a:pt x="765354" y="137622"/>
                  </a:lnTo>
                  <a:lnTo>
                    <a:pt x="747791" y="141567"/>
                  </a:lnTo>
                  <a:lnTo>
                    <a:pt x="723233" y="31443"/>
                  </a:lnTo>
                  <a:close/>
                  <a:moveTo>
                    <a:pt x="1051847" y="25765"/>
                  </a:moveTo>
                  <a:lnTo>
                    <a:pt x="1037014" y="131308"/>
                  </a:lnTo>
                  <a:lnTo>
                    <a:pt x="1019135" y="129184"/>
                  </a:lnTo>
                  <a:lnTo>
                    <a:pt x="1032869" y="31462"/>
                  </a:lnTo>
                  <a:lnTo>
                    <a:pt x="1051847" y="25765"/>
                  </a:lnTo>
                  <a:close/>
                  <a:moveTo>
                    <a:pt x="633115" y="6990"/>
                  </a:moveTo>
                  <a:lnTo>
                    <a:pt x="651107" y="14566"/>
                  </a:lnTo>
                  <a:lnTo>
                    <a:pt x="654699" y="15406"/>
                  </a:lnTo>
                  <a:lnTo>
                    <a:pt x="699105" y="154429"/>
                  </a:lnTo>
                  <a:lnTo>
                    <a:pt x="682029" y="160125"/>
                  </a:lnTo>
                  <a:lnTo>
                    <a:pt x="633115" y="6990"/>
                  </a:lnTo>
                  <a:close/>
                  <a:moveTo>
                    <a:pt x="1203134" y="4273"/>
                  </a:moveTo>
                  <a:lnTo>
                    <a:pt x="1213236" y="20976"/>
                  </a:lnTo>
                  <a:lnTo>
                    <a:pt x="1215649" y="23769"/>
                  </a:lnTo>
                  <a:lnTo>
                    <a:pt x="1169442" y="163605"/>
                  </a:lnTo>
                  <a:lnTo>
                    <a:pt x="1152188" y="158449"/>
                  </a:lnTo>
                  <a:lnTo>
                    <a:pt x="1203134" y="4273"/>
                  </a:lnTo>
                  <a:close/>
                  <a:moveTo>
                    <a:pt x="1137683" y="0"/>
                  </a:moveTo>
                  <a:lnTo>
                    <a:pt x="1104046" y="144062"/>
                  </a:lnTo>
                  <a:lnTo>
                    <a:pt x="1086767" y="138898"/>
                  </a:lnTo>
                  <a:lnTo>
                    <a:pt x="1117806" y="5966"/>
                  </a:lnTo>
                  <a:lnTo>
                    <a:pt x="1137683" y="0"/>
                  </a:lnTo>
                  <a:close/>
                </a:path>
              </a:pathLst>
            </a:custGeom>
            <a:solidFill>
              <a:srgbClr val="b9cde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6" name="MH_SubTitle_1"/>
            <p:cNvSpPr/>
            <p:nvPr/>
          </p:nvSpPr>
          <p:spPr>
            <a:xfrm>
              <a:off x="5870160" y="4251960"/>
              <a:ext cx="1400400" cy="1376280"/>
            </a:xfrm>
            <a:prstGeom prst="pie">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政府调控变化</a:t>
              </a:r>
              <a:endParaRPr b="0" lang="en-US" sz="1800" spc="-1" strike="noStrike">
                <a:solidFill>
                  <a:srgbClr val="000000"/>
                </a:solidFill>
                <a:latin typeface="Arial"/>
              </a:endParaRPr>
            </a:p>
          </p:txBody>
        </p:sp>
        <p:sp>
          <p:nvSpPr>
            <p:cNvPr id="577" name="MH_Other_2"/>
            <p:cNvSpPr/>
            <p:nvPr/>
          </p:nvSpPr>
          <p:spPr>
            <a:xfrm>
              <a:off x="6008760" y="4251960"/>
              <a:ext cx="1117440" cy="285480"/>
            </a:xfrm>
            <a:prstGeom prst="pie">
              <a:avLst/>
            </a:prstGeom>
            <a:solidFill>
              <a:srgbClr val="4f81bd"/>
            </a:solidFill>
            <a:ln w="0">
              <a:noFill/>
            </a:ln>
          </p:spPr>
          <p:style>
            <a:lnRef idx="0"/>
            <a:fillRef idx="0"/>
            <a:effectRef idx="0"/>
            <a:fontRef idx="minor"/>
          </p:style>
          <p:txBody>
            <a:bodyPr lIns="90000" rIns="90000" tIns="46800" bIns="46800" anchor="ctr">
              <a:normAutofit fontScale="5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05</a:t>
              </a:r>
              <a:endParaRPr b="0" lang="en-US" sz="2400" spc="-1" strike="noStrike">
                <a:solidFill>
                  <a:srgbClr val="000000"/>
                </a:solidFill>
                <a:latin typeface="Arial"/>
              </a:endParaRPr>
            </a:p>
          </p:txBody>
        </p:sp>
      </p:gr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MH_Other_2"/>
          <p:cNvSpPr/>
          <p:nvPr/>
        </p:nvSpPr>
        <p:spPr>
          <a:xfrm>
            <a:off x="466560" y="1160640"/>
            <a:ext cx="757440" cy="865080"/>
          </a:xfrm>
          <a:prstGeom prst="pie">
            <a:avLst/>
          </a:prstGeom>
          <a:solidFill>
            <a:srgbClr val="4f81bd"/>
          </a:solidFill>
          <a:ln w="0">
            <a:noFill/>
          </a:ln>
        </p:spPr>
        <p:style>
          <a:lnRef idx="0"/>
          <a:fillRef idx="0"/>
          <a:effectRef idx="0"/>
          <a:fontRef idx="minor"/>
        </p:style>
        <p:txBody>
          <a:bodyPr lIns="90000" rIns="43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幼圆"/>
              </a:rPr>
              <a:t>01</a:t>
            </a:r>
            <a:endParaRPr b="0" lang="en-US" sz="2000" spc="-1" strike="noStrike">
              <a:solidFill>
                <a:srgbClr val="000000"/>
              </a:solidFill>
              <a:latin typeface="Arial"/>
            </a:endParaRPr>
          </a:p>
        </p:txBody>
      </p:sp>
      <p:sp>
        <p:nvSpPr>
          <p:cNvPr id="579" name="Rectangle 6"/>
          <p:cNvSpPr/>
          <p:nvPr/>
        </p:nvSpPr>
        <p:spPr>
          <a:xfrm>
            <a:off x="1591200" y="1376280"/>
            <a:ext cx="1278000" cy="36828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交易费用大大降低</a:t>
            </a:r>
            <a:endParaRPr b="0" lang="en-US" sz="1800" spc="-1" strike="noStrike">
              <a:solidFill>
                <a:srgbClr val="000000"/>
              </a:solidFill>
              <a:latin typeface="Arial"/>
            </a:endParaRPr>
          </a:p>
        </p:txBody>
      </p:sp>
      <p:sp>
        <p:nvSpPr>
          <p:cNvPr id="580" name="MH_Other_2"/>
          <p:cNvSpPr/>
          <p:nvPr/>
        </p:nvSpPr>
        <p:spPr>
          <a:xfrm>
            <a:off x="684360" y="4076640"/>
            <a:ext cx="863280" cy="865080"/>
          </a:xfrm>
          <a:prstGeom prst="pie">
            <a:avLst/>
          </a:prstGeom>
          <a:solidFill>
            <a:srgbClr val="4f81bd"/>
          </a:solidFill>
          <a:ln w="0">
            <a:noFill/>
          </a:ln>
        </p:spPr>
        <p:style>
          <a:lnRef idx="0"/>
          <a:fillRef idx="0"/>
          <a:effectRef idx="0"/>
          <a:fontRef idx="minor"/>
        </p:style>
        <p:txBody>
          <a:bodyPr lIns="90000" rIns="43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幼圆"/>
              </a:rPr>
              <a:t>05</a:t>
            </a:r>
            <a:endParaRPr b="0" lang="en-US" sz="2000" spc="-1" strike="noStrike">
              <a:solidFill>
                <a:srgbClr val="000000"/>
              </a:solidFill>
              <a:latin typeface="Arial"/>
            </a:endParaRPr>
          </a:p>
        </p:txBody>
      </p:sp>
      <p:sp>
        <p:nvSpPr>
          <p:cNvPr id="581" name="MH_Other_2"/>
          <p:cNvSpPr/>
          <p:nvPr/>
        </p:nvSpPr>
        <p:spPr>
          <a:xfrm>
            <a:off x="576360" y="2565360"/>
            <a:ext cx="971280" cy="865080"/>
          </a:xfrm>
          <a:prstGeom prst="pie">
            <a:avLst/>
          </a:prstGeom>
          <a:solidFill>
            <a:srgbClr val="4f81bd"/>
          </a:solidFill>
          <a:ln w="0">
            <a:noFill/>
          </a:ln>
        </p:spPr>
        <p:style>
          <a:lnRef idx="0"/>
          <a:fillRef idx="0"/>
          <a:effectRef idx="0"/>
          <a:fontRef idx="minor"/>
        </p:style>
        <p:txBody>
          <a:bodyPr lIns="90000" rIns="43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幼圆"/>
              </a:rPr>
              <a:t>03</a:t>
            </a:r>
            <a:endParaRPr b="0" lang="en-US" sz="2000" spc="-1" strike="noStrike">
              <a:solidFill>
                <a:srgbClr val="000000"/>
              </a:solidFill>
              <a:latin typeface="Arial"/>
            </a:endParaRPr>
          </a:p>
        </p:txBody>
      </p:sp>
      <p:sp>
        <p:nvSpPr>
          <p:cNvPr id="582" name="MH_Other_2"/>
          <p:cNvSpPr/>
          <p:nvPr/>
        </p:nvSpPr>
        <p:spPr>
          <a:xfrm>
            <a:off x="3924360" y="1160640"/>
            <a:ext cx="971640" cy="865080"/>
          </a:xfrm>
          <a:prstGeom prst="pie">
            <a:avLst/>
          </a:prstGeom>
          <a:solidFill>
            <a:srgbClr val="4f81bd"/>
          </a:solidFill>
          <a:ln w="0">
            <a:noFill/>
          </a:ln>
        </p:spPr>
        <p:style>
          <a:lnRef idx="0"/>
          <a:fillRef idx="0"/>
          <a:effectRef idx="0"/>
          <a:fontRef idx="minor"/>
        </p:style>
        <p:txBody>
          <a:bodyPr lIns="90000" rIns="43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幼圆"/>
              </a:rPr>
              <a:t>02</a:t>
            </a:r>
            <a:endParaRPr b="0" lang="en-US" sz="2000" spc="-1" strike="noStrike">
              <a:solidFill>
                <a:srgbClr val="000000"/>
              </a:solidFill>
              <a:latin typeface="Arial"/>
            </a:endParaRPr>
          </a:p>
        </p:txBody>
      </p:sp>
      <p:sp>
        <p:nvSpPr>
          <p:cNvPr id="583" name="Rectangle 11"/>
          <p:cNvSpPr/>
          <p:nvPr/>
        </p:nvSpPr>
        <p:spPr>
          <a:xfrm>
            <a:off x="5289840" y="1376280"/>
            <a:ext cx="1821600" cy="36828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r>
              <a:rPr b="1" lang="zh-CN" sz="1800" spc="-1" strike="noStrike">
                <a:solidFill>
                  <a:srgbClr val="000000"/>
                </a:solidFill>
                <a:latin typeface="Arial"/>
              </a:rPr>
              <a:t>天</a:t>
            </a:r>
            <a:r>
              <a:rPr b="1" lang="en-US" sz="1800" spc="-1" strike="noStrike">
                <a:solidFill>
                  <a:srgbClr val="000000"/>
                </a:solidFill>
                <a:latin typeface="Arial"/>
              </a:rPr>
              <a:t>24</a:t>
            </a:r>
            <a:r>
              <a:rPr b="1" lang="zh-CN" sz="1800" spc="-1" strike="noStrike">
                <a:solidFill>
                  <a:srgbClr val="000000"/>
                </a:solidFill>
                <a:latin typeface="Arial"/>
              </a:rPr>
              <a:t>小时全球化经济</a:t>
            </a:r>
            <a:endParaRPr b="0" lang="en-US" sz="1800" spc="-1" strike="noStrike">
              <a:solidFill>
                <a:srgbClr val="000000"/>
              </a:solidFill>
              <a:latin typeface="Arial"/>
            </a:endParaRPr>
          </a:p>
        </p:txBody>
      </p:sp>
      <p:sp>
        <p:nvSpPr>
          <p:cNvPr id="584" name="Rectangle 12"/>
          <p:cNvSpPr/>
          <p:nvPr/>
        </p:nvSpPr>
        <p:spPr>
          <a:xfrm>
            <a:off x="1814760" y="2781360"/>
            <a:ext cx="843480" cy="36828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000000"/>
                </a:solidFill>
                <a:latin typeface="Arial"/>
              </a:rPr>
              <a:t>光速经济</a:t>
            </a:r>
            <a:endParaRPr b="0" lang="en-US" sz="1800" spc="-1" strike="noStrike">
              <a:solidFill>
                <a:srgbClr val="000000"/>
              </a:solidFill>
              <a:latin typeface="Arial"/>
            </a:endParaRPr>
          </a:p>
        </p:txBody>
      </p:sp>
      <p:grpSp>
        <p:nvGrpSpPr>
          <p:cNvPr id="585" name="Group 20"/>
          <p:cNvGrpSpPr/>
          <p:nvPr/>
        </p:nvGrpSpPr>
        <p:grpSpPr>
          <a:xfrm>
            <a:off x="3924360" y="2565360"/>
            <a:ext cx="1974240" cy="865080"/>
            <a:chOff x="3924360" y="2565360"/>
            <a:chExt cx="1974240" cy="865080"/>
          </a:xfrm>
        </p:grpSpPr>
        <p:sp>
          <p:nvSpPr>
            <p:cNvPr id="586" name="MH_Other_2"/>
            <p:cNvSpPr/>
            <p:nvPr/>
          </p:nvSpPr>
          <p:spPr>
            <a:xfrm>
              <a:off x="3924360" y="2565360"/>
              <a:ext cx="863640" cy="865080"/>
            </a:xfrm>
            <a:prstGeom prst="pie">
              <a:avLst/>
            </a:prstGeom>
            <a:solidFill>
              <a:srgbClr val="4f81bd"/>
            </a:solidFill>
            <a:ln w="0">
              <a:noFill/>
            </a:ln>
          </p:spPr>
          <p:style>
            <a:lnRef idx="0"/>
            <a:fillRef idx="0"/>
            <a:effectRef idx="0"/>
            <a:fontRef idx="minor"/>
          </p:style>
          <p:txBody>
            <a:bodyPr lIns="90000" rIns="43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幼圆"/>
                </a:rPr>
                <a:t>04</a:t>
              </a:r>
              <a:endParaRPr b="0" lang="en-US" sz="2000" spc="-1" strike="noStrike">
                <a:solidFill>
                  <a:srgbClr val="000000"/>
                </a:solidFill>
                <a:latin typeface="Arial"/>
              </a:endParaRPr>
            </a:p>
          </p:txBody>
        </p:sp>
        <p:sp>
          <p:nvSpPr>
            <p:cNvPr id="587" name="Rectangle 13"/>
            <p:cNvSpPr/>
            <p:nvPr/>
          </p:nvSpPr>
          <p:spPr>
            <a:xfrm>
              <a:off x="5055120" y="2781360"/>
              <a:ext cx="843480" cy="36828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000000"/>
                  </a:solidFill>
                  <a:latin typeface="Arial"/>
                </a:rPr>
                <a:t>胜者通吃</a:t>
              </a:r>
              <a:endParaRPr b="0" lang="en-US" sz="1800" spc="-1" strike="noStrike">
                <a:solidFill>
                  <a:srgbClr val="000000"/>
                </a:solidFill>
                <a:latin typeface="Arial"/>
              </a:endParaRPr>
            </a:p>
          </p:txBody>
        </p:sp>
      </p:grpSp>
      <p:sp>
        <p:nvSpPr>
          <p:cNvPr id="588" name="Rectangle 14"/>
          <p:cNvSpPr/>
          <p:nvPr/>
        </p:nvSpPr>
        <p:spPr>
          <a:xfrm>
            <a:off x="1840320" y="4292640"/>
            <a:ext cx="729360" cy="36828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大小不分</a:t>
            </a:r>
            <a:endParaRPr b="0" lang="en-US" sz="1800" spc="-1" strike="noStrike">
              <a:solidFill>
                <a:srgbClr val="000000"/>
              </a:solidFill>
              <a:latin typeface="Arial"/>
            </a:endParaRPr>
          </a:p>
        </p:txBody>
      </p:sp>
      <p:sp>
        <p:nvSpPr>
          <p:cNvPr id="589" name="标题 1"/>
          <p:cNvSpPr/>
          <p:nvPr/>
        </p:nvSpPr>
        <p:spPr>
          <a:xfrm>
            <a:off x="576360" y="297000"/>
            <a:ext cx="7235640" cy="431640"/>
          </a:xfrm>
          <a:prstGeom prst="rect">
            <a:avLst/>
          </a:prstGeom>
          <a:noFill/>
          <a:ln w="0">
            <a:noFill/>
          </a:ln>
        </p:spPr>
        <p:style>
          <a:lnRef idx="0"/>
          <a:fillRef idx="0"/>
          <a:effectRef idx="0"/>
          <a:fontRef idx="minor"/>
        </p:style>
        <p:txBody>
          <a:bodyPr lIns="90000" rIns="90000" tIns="46800" bIns="46800" anchor="t">
            <a:normAutofit fontScale="6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504d"/>
                </a:solidFill>
                <a:latin typeface="微软雅黑"/>
                <a:ea typeface="微软雅黑"/>
              </a:rPr>
              <a:t>四、网络经济新范式</a:t>
            </a:r>
            <a:endParaRPr b="0" lang="en-US" sz="3200" spc="-1" strike="noStrike">
              <a:solidFill>
                <a:srgbClr val="000000"/>
              </a:solidFill>
              <a:latin typeface="Arial"/>
            </a:endParaRPr>
          </a:p>
        </p:txBody>
      </p:sp>
      <p:grpSp>
        <p:nvGrpSpPr>
          <p:cNvPr id="590" name="组合 127"/>
          <p:cNvGrpSpPr/>
          <p:nvPr/>
        </p:nvGrpSpPr>
        <p:grpSpPr>
          <a:xfrm>
            <a:off x="250920" y="297000"/>
            <a:ext cx="264960" cy="417240"/>
            <a:chOff x="250920" y="297000"/>
            <a:chExt cx="264960" cy="417240"/>
          </a:xfrm>
        </p:grpSpPr>
        <p:sp>
          <p:nvSpPr>
            <p:cNvPr id="591" name="直接连接符 128"/>
            <p:cNvSpPr/>
            <p:nvPr/>
          </p:nvSpPr>
          <p:spPr>
            <a:xfrm>
              <a:off x="515880" y="297000"/>
              <a:ext cx="0" cy="41724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直接连接符 129"/>
            <p:cNvSpPr/>
            <p:nvPr/>
          </p:nvSpPr>
          <p:spPr>
            <a:xfrm>
              <a:off x="376200" y="297000"/>
              <a:ext cx="0" cy="29844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直接连接符 130"/>
            <p:cNvSpPr/>
            <p:nvPr/>
          </p:nvSpPr>
          <p:spPr>
            <a:xfrm>
              <a:off x="250920" y="298440"/>
              <a:ext cx="0" cy="14904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4" name="Group 26"/>
          <p:cNvGrpSpPr/>
          <p:nvPr/>
        </p:nvGrpSpPr>
        <p:grpSpPr>
          <a:xfrm>
            <a:off x="3816360" y="3968640"/>
            <a:ext cx="2433960" cy="865080"/>
            <a:chOff x="3816360" y="3968640"/>
            <a:chExt cx="2433960" cy="865080"/>
          </a:xfrm>
        </p:grpSpPr>
        <p:sp>
          <p:nvSpPr>
            <p:cNvPr id="595" name="MH_Other_2"/>
            <p:cNvSpPr/>
            <p:nvPr/>
          </p:nvSpPr>
          <p:spPr>
            <a:xfrm>
              <a:off x="3816360" y="3968640"/>
              <a:ext cx="863640" cy="865080"/>
            </a:xfrm>
            <a:prstGeom prst="pie">
              <a:avLst/>
            </a:prstGeom>
            <a:solidFill>
              <a:srgbClr val="4f81bd"/>
            </a:solidFill>
            <a:ln w="0">
              <a:noFill/>
            </a:ln>
          </p:spPr>
          <p:style>
            <a:lnRef idx="0"/>
            <a:fillRef idx="0"/>
            <a:effectRef idx="0"/>
            <a:fontRef idx="minor"/>
          </p:style>
          <p:txBody>
            <a:bodyPr lIns="90000" rIns="43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幼圆"/>
                </a:rPr>
                <a:t>06</a:t>
              </a:r>
              <a:endParaRPr b="0" lang="en-US" sz="2000" spc="-1" strike="noStrike">
                <a:solidFill>
                  <a:srgbClr val="000000"/>
                </a:solidFill>
                <a:latin typeface="Arial"/>
              </a:endParaRPr>
            </a:p>
          </p:txBody>
        </p:sp>
        <p:sp>
          <p:nvSpPr>
            <p:cNvPr id="596" name="Rectangle 28"/>
            <p:cNvSpPr/>
            <p:nvPr/>
          </p:nvSpPr>
          <p:spPr>
            <a:xfrm>
              <a:off x="5109480" y="4170240"/>
              <a:ext cx="1140840" cy="36828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竞争与合作并存</a:t>
              </a:r>
              <a:endParaRPr b="0" lang="en-US" sz="1800" spc="-1" strike="noStrike">
                <a:solidFill>
                  <a:srgbClr val="000000"/>
                </a:solidFill>
                <a:latin typeface="Arial"/>
              </a:endParaRPr>
            </a:p>
          </p:txBody>
        </p:sp>
      </p:grpSp>
      <p:grpSp>
        <p:nvGrpSpPr>
          <p:cNvPr id="597" name="Group 29"/>
          <p:cNvGrpSpPr/>
          <p:nvPr/>
        </p:nvGrpSpPr>
        <p:grpSpPr>
          <a:xfrm>
            <a:off x="684360" y="5265720"/>
            <a:ext cx="2433960" cy="865080"/>
            <a:chOff x="684360" y="5265720"/>
            <a:chExt cx="2433960" cy="865080"/>
          </a:xfrm>
        </p:grpSpPr>
        <p:sp>
          <p:nvSpPr>
            <p:cNvPr id="598" name="MH_Other_2"/>
            <p:cNvSpPr/>
            <p:nvPr/>
          </p:nvSpPr>
          <p:spPr>
            <a:xfrm>
              <a:off x="684360" y="5265720"/>
              <a:ext cx="863640" cy="865080"/>
            </a:xfrm>
            <a:prstGeom prst="pie">
              <a:avLst/>
            </a:prstGeom>
            <a:solidFill>
              <a:srgbClr val="4f81bd"/>
            </a:solidFill>
            <a:ln w="0">
              <a:noFill/>
            </a:ln>
          </p:spPr>
          <p:style>
            <a:lnRef idx="0"/>
            <a:fillRef idx="0"/>
            <a:effectRef idx="0"/>
            <a:fontRef idx="minor"/>
          </p:style>
          <p:txBody>
            <a:bodyPr lIns="90000" rIns="432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ea typeface="幼圆"/>
                </a:rPr>
                <a:t>07</a:t>
              </a:r>
              <a:endParaRPr b="0" lang="en-US" sz="2000" spc="-1" strike="noStrike">
                <a:solidFill>
                  <a:srgbClr val="000000"/>
                </a:solidFill>
                <a:latin typeface="Arial"/>
              </a:endParaRPr>
            </a:p>
          </p:txBody>
        </p:sp>
        <p:sp>
          <p:nvSpPr>
            <p:cNvPr id="599" name="Rectangle 31"/>
            <p:cNvSpPr/>
            <p:nvPr/>
          </p:nvSpPr>
          <p:spPr>
            <a:xfrm>
              <a:off x="1977480" y="5467320"/>
              <a:ext cx="1140840" cy="36828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创新型经济凸显</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30T00:55:57Z</dcterms:created>
  <dc:creator>lsy</dc:creator>
  <dc:description/>
  <dc:language>en-US</dc:language>
  <cp:lastModifiedBy>Ming</cp:lastModifiedBy>
  <dcterms:modified xsi:type="dcterms:W3CDTF">2021-07-03T02:54:47Z</dcterms:modified>
  <cp:revision>196</cp:revision>
  <dc:subject/>
  <dc:title>ch0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10228</vt:lpwstr>
  </property>
</Properties>
</file>