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wmf" ContentType="image/x-wmf"/>
  <Override PartName="/ppt/media/image17.png" ContentType="image/png"/>
  <Override PartName="/ppt/media/image4.jpeg" ContentType="image/jpeg"/>
  <Override PartName="/ppt/media/image14.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61471A-B630-4A4A-8DB2-7089F0F69D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215CF-E352-451A-A276-068C38D49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B9EFEF-98D6-46D9-AE85-D629368DDC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47DDE5-F7EB-44CF-A2CB-1B9F4BC01E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136A11-2B41-4DA3-9731-BF44826B7A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947F5E-2A96-4F2A-8F17-6AE486E922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237F42-4A36-4D16-9847-E9622B43C8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257898-E770-4F6E-B317-B2195B790F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A2213D-252C-4297-875B-62CCB9771B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ACF565-3CFD-4BB5-91E7-2C0FF0221F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B4598-D605-4C5A-A57B-CEA5883004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373AA-0421-4E27-AFF1-CEB2F23B3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37D958-102C-4E9E-8911-D016947D3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FE98F-E8B7-4E53-B97E-57C848E25F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3ACE01-D802-4900-8C79-0D53912D16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3F1A0D-4BCF-4CCF-AE5B-58C1F4C7B1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291142-0CAD-4964-B9B2-7C5CBB7B53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9D8439-BA10-4FA3-95B2-1FB3D020A8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65B84E-599A-4F0B-B90F-F71614E024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4147E8-7B31-46FC-B0FB-8DAFEF9A90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5470F7-5454-45C1-921E-F21874BECA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6E502A-39D5-44FA-A608-6B36EA48FD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4294F-1D13-46EF-9967-9E9E280BF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AA01E3-CF80-48AF-9554-8A8DB50ECB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6D81EE-B3DC-4D00-BE68-E2AC4AFAFB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85D430-71E6-4019-921E-61E8A00B0D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0FBA0A-3261-45C3-8E42-65475591FD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897D7B-ADC0-4137-84AD-024662FD8F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64D4DE-93B5-4C15-BDA4-ECF6F3E06F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ADCA40-30A7-478D-9960-9D930EF4C4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9A285B-61C5-4F62-9FC7-390B3BA210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CC1D86-6356-4524-9E94-F610884ABF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DC5965-F7AF-4FBB-AF85-9ABF77B54F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7F2B0-4895-471C-9D0C-9721998E5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D5A3C7-BBF4-411B-AE56-1B7838DBE5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88983C-8EDD-4BB7-B54B-33277D261F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81C022-1E80-4382-9785-0813D1E0C8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5695A2-B684-47EA-B43E-A823ECA687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CE0FF1-BBDA-4E3E-A1B5-5169EA69DD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66EB94-5584-40FB-9301-740890620C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B6ED33-FC6C-4093-80A6-F861E72DAC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AE596D-B4A0-4B30-84EF-9C20576F6D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F13D64-AB6A-43E7-A293-00CA52ABA5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EBF0A7-26CB-45D0-B831-515F3B92A4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5078F-776D-4DE7-B449-B8BD01A05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2E3053-7FDD-42DE-BA56-863351BD60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108F0F-8524-4AC7-9957-758D013567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098B33-28AE-4788-AA35-4882528E0F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C862FB-96A9-487C-8BBD-F1B9B00D5C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AB84EB-7C02-45B0-8CC6-C43D671803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4B1D4A-E6CF-4410-9C92-BC7050834B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2B4667-1A89-4593-8253-9D2343E310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6434D4-A99B-4FC6-8C31-606FC5BD1A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89B254-B12B-4E8F-978D-37B74CA2B7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8F8958-7311-47FF-998E-1CC1171D2F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E0BAB-01F4-4E45-BA14-6A47E5AE7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A7AA40-A8D8-412D-8BBE-8B1AE9171A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6AEC3-5BAA-4015-9546-E85E74402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D1056-F356-43A5-8A22-56A04D333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A0AEA-AEB1-4619-A3D5-242A7F8F14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AA9AC-713F-4A2F-8356-378E157FD9FB}" type="datetime">
              <a:rPr b="0" lang="zh-CN" sz="1200" spc="-1" strike="noStrike">
                <a:solidFill>
                  <a:srgbClr val="898989"/>
                </a:solidFill>
                <a:latin typeface="Calibri"/>
              </a:rPr>
              <a:t>26/7/31</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69604-8961-4093-9A90-3301CC9BBB17}"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15" descr="图片1修改.jpg"/>
          <p:cNvPicPr/>
          <p:nvPr/>
        </p:nvPicPr>
        <p:blipFill>
          <a:blip r:embed="rId2"/>
          <a:stretch/>
        </p:blipFill>
        <p:spPr>
          <a:xfrm>
            <a:off x="0" y="1773360"/>
            <a:ext cx="9144000" cy="508464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68888-1C98-4295-8A33-43097C4BB343}" type="datetime">
              <a:rPr b="0" lang="zh-CN" sz="1200" spc="-1" strike="noStrike">
                <a:solidFill>
                  <a:srgbClr val="898989"/>
                </a:solidFill>
                <a:latin typeface="Calibri"/>
              </a:rPr>
              <a:t>26/7/31</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FF2D9-FAA3-46F4-BEA0-1F4BEDE4223D}"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6" descr="图片13.jpg"/>
          <p:cNvPicPr/>
          <p:nvPr/>
        </p:nvPicPr>
        <p:blipFill>
          <a:blip r:embed="rId2"/>
          <a:stretch/>
        </p:blipFill>
        <p:spPr>
          <a:xfrm>
            <a:off x="0" y="874800"/>
            <a:ext cx="9144000" cy="59832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7E13A-4DEB-4B89-A27A-C74CA7629A3F}" type="datetime">
              <a:rPr b="0" lang="zh-CN" sz="1200" spc="-1" strike="noStrike">
                <a:solidFill>
                  <a:srgbClr val="898989"/>
                </a:solidFill>
                <a:latin typeface="Calibri"/>
              </a:rPr>
              <a:t>26/7/31</a:t>
            </a:fld>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DE047-C1E5-4217-8D8F-03B5256615C9}"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图片 6" descr="图片14.jpg"/>
          <p:cNvPicPr/>
          <p:nvPr/>
        </p:nvPicPr>
        <p:blipFill>
          <a:blip r:embed="rId2"/>
          <a:stretch/>
        </p:blipFill>
        <p:spPr>
          <a:xfrm>
            <a:off x="0" y="1197000"/>
            <a:ext cx="9144000" cy="566100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2F383-A450-4B96-9C8C-9963B6B0AAFF}" type="datetime">
              <a:rPr b="0" lang="zh-CN" sz="1200" spc="-1" strike="noStrike">
                <a:solidFill>
                  <a:srgbClr val="898989"/>
                </a:solidFill>
                <a:latin typeface="Calibri"/>
              </a:rPr>
              <a:t>26/7/31</a:t>
            </a:fld>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300360" y="6345360"/>
            <a:ext cx="25909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A645C-1A06-4412-B675-6AE6CE91668E}"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图片 7" descr="图片12.jpg"/>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91188-8210-4F9B-B28E-C44637018F7A}" type="datetime">
              <a:rPr b="0" lang="zh-CN" sz="1200" spc="-1" strike="noStrike">
                <a:solidFill>
                  <a:srgbClr val="898989"/>
                </a:solidFill>
                <a:latin typeface="Calibri"/>
              </a:rPr>
              <a:t>26/7/31</a:t>
            </a:fld>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15"/>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92996-72F0-4142-B6DD-793786C01CFB}"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15640" y="2023560"/>
            <a:ext cx="7777080" cy="722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第</a:t>
            </a:r>
            <a:r>
              <a:rPr b="1" lang="en-US" sz="4000" spc="-1" strike="noStrike">
                <a:solidFill>
                  <a:srgbClr val="000000"/>
                </a:solidFill>
                <a:latin typeface="微软雅黑"/>
                <a:ea typeface="微软雅黑"/>
              </a:rPr>
              <a:t>6</a:t>
            </a:r>
            <a:r>
              <a:rPr b="1" lang="zh-CN" sz="4000" spc="-1" strike="noStrike">
                <a:solidFill>
                  <a:srgbClr val="000000"/>
                </a:solidFill>
                <a:latin typeface="微软雅黑"/>
                <a:ea typeface="微软雅黑"/>
              </a:rPr>
              <a:t>章   网络经济中的企业行为</a:t>
            </a:r>
            <a:endParaRPr b="0" lang="en-US" sz="4000" spc="-1" strike="noStrike">
              <a:solidFill>
                <a:srgbClr val="000000"/>
              </a:solidFill>
              <a:latin typeface="Calibri"/>
            </a:endParaRPr>
          </a:p>
        </p:txBody>
      </p:sp>
      <p:sp>
        <p:nvSpPr>
          <p:cNvPr id="210" name="直接连接符 4"/>
          <p:cNvSpPr/>
          <p:nvPr/>
        </p:nvSpPr>
        <p:spPr>
          <a:xfrm>
            <a:off x="1440000" y="2889360"/>
            <a:ext cx="7237440" cy="0"/>
          </a:xfrm>
          <a:prstGeom prst="line">
            <a:avLst/>
          </a:prstGeom>
          <a:ln w="34920">
            <a:solidFill>
              <a:srgbClr val="7030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99F35-5E2A-46C2-B8E5-4DF759131F0F}"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370" name="Group 128"/>
          <p:cNvGrpSpPr/>
          <p:nvPr/>
        </p:nvGrpSpPr>
        <p:grpSpPr>
          <a:xfrm>
            <a:off x="7704000" y="2349360"/>
            <a:ext cx="648000" cy="453960"/>
            <a:chOff x="7704000" y="2349360"/>
            <a:chExt cx="648000" cy="453960"/>
          </a:xfrm>
        </p:grpSpPr>
        <p:sp>
          <p:nvSpPr>
            <p:cNvPr id="371"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3"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6" name="组合 127"/>
          <p:cNvGrpSpPr/>
          <p:nvPr/>
        </p:nvGrpSpPr>
        <p:grpSpPr>
          <a:xfrm>
            <a:off x="250920" y="324000"/>
            <a:ext cx="264960" cy="417240"/>
            <a:chOff x="250920" y="324000"/>
            <a:chExt cx="264960" cy="417240"/>
          </a:xfrm>
        </p:grpSpPr>
        <p:sp>
          <p:nvSpPr>
            <p:cNvPr id="377"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0" name="组合 10"/>
          <p:cNvGrpSpPr/>
          <p:nvPr/>
        </p:nvGrpSpPr>
        <p:grpSpPr>
          <a:xfrm>
            <a:off x="1224000" y="944640"/>
            <a:ext cx="7128000" cy="647640"/>
            <a:chOff x="1224000" y="944640"/>
            <a:chExt cx="7128000" cy="647640"/>
          </a:xfrm>
        </p:grpSpPr>
        <p:sp>
          <p:nvSpPr>
            <p:cNvPr id="381"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标准竞争</a:t>
              </a:r>
              <a:endParaRPr b="0" lang="en-US" sz="1800" spc="-1" strike="noStrike">
                <a:solidFill>
                  <a:srgbClr val="000000"/>
                </a:solidFill>
                <a:latin typeface="Arial"/>
              </a:endParaRPr>
            </a:p>
          </p:txBody>
        </p:sp>
        <p:sp>
          <p:nvSpPr>
            <p:cNvPr id="382" name="直接连接符 3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384" name="直接连接符 3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5"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20"/>
          <p:cNvSpPr/>
          <p:nvPr/>
        </p:nvSpPr>
        <p:spPr>
          <a:xfrm>
            <a:off x="142920" y="6480"/>
            <a:ext cx="18396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MH_Other_1"/>
          <p:cNvSpPr/>
          <p:nvPr/>
        </p:nvSpPr>
        <p:spPr>
          <a:xfrm flipH="1" rot="1805400">
            <a:off x="1529640" y="2377800"/>
            <a:ext cx="712800" cy="614160"/>
          </a:xfrm>
          <a:prstGeom prst="triangle">
            <a:avLst>
              <a:gd name="adj" fmla="val 50000"/>
            </a:avLst>
          </a:prstGeom>
          <a:solidFill>
            <a:srgbClr val="b9cde5"/>
          </a:solid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MH_Other_2"/>
          <p:cNvSpPr/>
          <p:nvPr/>
        </p:nvSpPr>
        <p:spPr>
          <a:xfrm>
            <a:off x="969840" y="2060640"/>
            <a:ext cx="947880" cy="1092240"/>
          </a:xfrm>
          <a:prstGeom prst="pie">
            <a:avLst/>
          </a:prstGeom>
          <a:solidFill>
            <a:srgbClr val="4f81bd"/>
          </a:solidFill>
          <a:ln w="0">
            <a:noFill/>
          </a:ln>
        </p:spPr>
        <p:style>
          <a:lnRef idx="0"/>
          <a:fillRef idx="0"/>
          <a:effectRef idx="0"/>
          <a:fontRef idx="minor"/>
        </p:style>
        <p:txBody>
          <a:bodyPr lIns="90000" rIns="43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幼圆"/>
              </a:rPr>
              <a:t>01</a:t>
            </a:r>
            <a:endParaRPr b="0" lang="en-US" sz="2800" spc="-1" strike="noStrike">
              <a:solidFill>
                <a:srgbClr val="000000"/>
              </a:solidFill>
              <a:latin typeface="Arial"/>
            </a:endParaRPr>
          </a:p>
        </p:txBody>
      </p:sp>
      <p:sp>
        <p:nvSpPr>
          <p:cNvPr id="389" name="MH_SubTitle_1"/>
          <p:cNvSpPr/>
          <p:nvPr/>
        </p:nvSpPr>
        <p:spPr>
          <a:xfrm>
            <a:off x="2095560" y="2241720"/>
            <a:ext cx="2262240" cy="99036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单一标准还是多重标准</a:t>
            </a:r>
            <a:endParaRPr b="0" lang="en-US" sz="2000" spc="-1" strike="noStrike">
              <a:solidFill>
                <a:srgbClr val="000000"/>
              </a:solidFill>
              <a:latin typeface="Arial"/>
            </a:endParaRPr>
          </a:p>
        </p:txBody>
      </p:sp>
      <p:sp>
        <p:nvSpPr>
          <p:cNvPr id="390" name="MH_Other_3"/>
          <p:cNvSpPr/>
          <p:nvPr/>
        </p:nvSpPr>
        <p:spPr>
          <a:xfrm flipH="1" rot="1805400">
            <a:off x="1847160" y="3919320"/>
            <a:ext cx="712800" cy="614160"/>
          </a:xfrm>
          <a:prstGeom prst="triangle">
            <a:avLst>
              <a:gd name="adj" fmla="val 50000"/>
            </a:avLst>
          </a:prstGeom>
          <a:solidFill>
            <a:srgbClr val="d7e4bd"/>
          </a:solid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MH_Other_4"/>
          <p:cNvSpPr/>
          <p:nvPr/>
        </p:nvSpPr>
        <p:spPr>
          <a:xfrm>
            <a:off x="1285920" y="3603600"/>
            <a:ext cx="947520" cy="1090800"/>
          </a:xfrm>
          <a:prstGeom prst="pie">
            <a:avLst/>
          </a:prstGeom>
          <a:solidFill>
            <a:srgbClr val="9bbb59"/>
          </a:solidFill>
          <a:ln w="0">
            <a:noFill/>
          </a:ln>
        </p:spPr>
        <p:style>
          <a:lnRef idx="0"/>
          <a:fillRef idx="0"/>
          <a:effectRef idx="0"/>
          <a:fontRef idx="minor"/>
        </p:style>
        <p:txBody>
          <a:bodyPr lIns="90000" rIns="43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幼圆"/>
              </a:rPr>
              <a:t>03</a:t>
            </a:r>
            <a:endParaRPr b="0" lang="en-US" sz="2800" spc="-1" strike="noStrike">
              <a:solidFill>
                <a:srgbClr val="000000"/>
              </a:solidFill>
              <a:latin typeface="Arial"/>
            </a:endParaRPr>
          </a:p>
        </p:txBody>
      </p:sp>
      <p:sp>
        <p:nvSpPr>
          <p:cNvPr id="392" name="MH_SubTitle_3"/>
          <p:cNvSpPr/>
          <p:nvPr/>
        </p:nvSpPr>
        <p:spPr>
          <a:xfrm>
            <a:off x="2411280" y="3929040"/>
            <a:ext cx="2262240" cy="78408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标准兼容策略还是控制标准策略</a:t>
            </a:r>
            <a:endParaRPr b="0" lang="en-US" sz="2000" spc="-1" strike="noStrike">
              <a:solidFill>
                <a:srgbClr val="000000"/>
              </a:solidFill>
              <a:latin typeface="Arial"/>
            </a:endParaRPr>
          </a:p>
        </p:txBody>
      </p:sp>
      <p:sp>
        <p:nvSpPr>
          <p:cNvPr id="393" name="MH_Other_5"/>
          <p:cNvSpPr/>
          <p:nvPr/>
        </p:nvSpPr>
        <p:spPr>
          <a:xfrm flipH="1" rot="1805400">
            <a:off x="5190480" y="3147480"/>
            <a:ext cx="712800" cy="614520"/>
          </a:xfrm>
          <a:prstGeom prst="triangle">
            <a:avLst>
              <a:gd name="adj" fmla="val 50000"/>
            </a:avLst>
          </a:prstGeom>
          <a:solidFill>
            <a:srgbClr val="e6b9b8"/>
          </a:solid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MH_Other_6"/>
          <p:cNvSpPr/>
          <p:nvPr/>
        </p:nvSpPr>
        <p:spPr>
          <a:xfrm>
            <a:off x="4630680" y="2832120"/>
            <a:ext cx="947880" cy="1092240"/>
          </a:xfrm>
          <a:prstGeom prst="pie">
            <a:avLst/>
          </a:prstGeom>
          <a:solidFill>
            <a:srgbClr val="c0504d"/>
          </a:solidFill>
          <a:ln w="0">
            <a:noFill/>
          </a:ln>
        </p:spPr>
        <p:style>
          <a:lnRef idx="0"/>
          <a:fillRef idx="0"/>
          <a:effectRef idx="0"/>
          <a:fontRef idx="minor"/>
        </p:style>
        <p:txBody>
          <a:bodyPr lIns="90000" rIns="43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幼圆"/>
              </a:rPr>
              <a:t>02</a:t>
            </a:r>
            <a:endParaRPr b="0" lang="en-US" sz="2800" spc="-1" strike="noStrike">
              <a:solidFill>
                <a:srgbClr val="000000"/>
              </a:solidFill>
              <a:latin typeface="Arial"/>
            </a:endParaRPr>
          </a:p>
        </p:txBody>
      </p:sp>
      <p:sp>
        <p:nvSpPr>
          <p:cNvPr id="395" name="MH_SubTitle_2"/>
          <p:cNvSpPr/>
          <p:nvPr/>
        </p:nvSpPr>
        <p:spPr>
          <a:xfrm>
            <a:off x="5754600" y="3159000"/>
            <a:ext cx="2262240" cy="78264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技术进步与标准</a:t>
            </a:r>
            <a:endParaRPr b="0" lang="en-US" sz="2000" spc="-1" strike="noStrike">
              <a:solidFill>
                <a:srgbClr val="000000"/>
              </a:solidFill>
              <a:latin typeface="Arial"/>
            </a:endParaRPr>
          </a:p>
        </p:txBody>
      </p:sp>
      <p:sp>
        <p:nvSpPr>
          <p:cNvPr id="396" name="标题 1"/>
          <p:cNvSpPr/>
          <p:nvPr/>
        </p:nvSpPr>
        <p:spPr>
          <a:xfrm>
            <a:off x="576360" y="297000"/>
            <a:ext cx="540072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6.2</a:t>
            </a:r>
            <a:r>
              <a:rPr b="0" lang="zh-CN" sz="3200" spc="-1" strike="noStrike">
                <a:solidFill>
                  <a:srgbClr val="c0504d"/>
                </a:solidFill>
                <a:latin typeface="微软雅黑"/>
                <a:ea typeface="微软雅黑"/>
              </a:rPr>
              <a:t>进入和标准</a:t>
            </a:r>
            <a:endParaRPr b="0" lang="en-US" sz="32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A17D3-FFF4-4691-8214-1805FB270C6C}"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398" name="Group 128"/>
          <p:cNvGrpSpPr/>
          <p:nvPr/>
        </p:nvGrpSpPr>
        <p:grpSpPr>
          <a:xfrm>
            <a:off x="7704000" y="2349360"/>
            <a:ext cx="648000" cy="453960"/>
            <a:chOff x="7704000" y="2349360"/>
            <a:chExt cx="648000" cy="453960"/>
          </a:xfrm>
        </p:grpSpPr>
        <p:sp>
          <p:nvSpPr>
            <p:cNvPr id="399"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4" name="组合 127"/>
          <p:cNvGrpSpPr/>
          <p:nvPr/>
        </p:nvGrpSpPr>
        <p:grpSpPr>
          <a:xfrm>
            <a:off x="250920" y="324000"/>
            <a:ext cx="264960" cy="417240"/>
            <a:chOff x="250920" y="324000"/>
            <a:chExt cx="264960" cy="417240"/>
          </a:xfrm>
        </p:grpSpPr>
        <p:sp>
          <p:nvSpPr>
            <p:cNvPr id="405"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8"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1"/>
          <p:cNvSpPr>
            <a:spLocks noGrp="1"/>
          </p:cNvSpPr>
          <p:nvPr>
            <p:ph type="title"/>
          </p:nvPr>
        </p:nvSpPr>
        <p:spPr>
          <a:xfrm>
            <a:off x="576360" y="296640"/>
            <a:ext cx="540072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6.3 </a:t>
            </a:r>
            <a:r>
              <a:rPr b="1" lang="zh-CN" sz="3200" spc="-1" strike="noStrike">
                <a:solidFill>
                  <a:srgbClr val="c0504d"/>
                </a:solidFill>
                <a:latin typeface="微软雅黑"/>
                <a:ea typeface="微软雅黑"/>
              </a:rPr>
              <a:t>网络经济企业策略</a:t>
            </a:r>
            <a:endParaRPr b="0" lang="en-US" sz="3200" spc="-1" strike="noStrike">
              <a:solidFill>
                <a:srgbClr val="000000"/>
              </a:solidFill>
              <a:latin typeface="Calibri"/>
            </a:endParaRPr>
          </a:p>
        </p:txBody>
      </p:sp>
      <p:sp>
        <p:nvSpPr>
          <p:cNvPr id="410"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1" name="组合 10"/>
          <p:cNvGrpSpPr/>
          <p:nvPr/>
        </p:nvGrpSpPr>
        <p:grpSpPr>
          <a:xfrm>
            <a:off x="1871640" y="1387440"/>
            <a:ext cx="4537080" cy="647640"/>
            <a:chOff x="1871640" y="1387440"/>
            <a:chExt cx="4537080" cy="647640"/>
          </a:xfrm>
        </p:grpSpPr>
        <p:sp>
          <p:nvSpPr>
            <p:cNvPr id="412" name="TextBox 35"/>
            <p:cNvSpPr/>
            <p:nvPr/>
          </p:nvSpPr>
          <p:spPr>
            <a:xfrm>
              <a:off x="2036520" y="138744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不同阶段的策略</a:t>
              </a:r>
              <a:endParaRPr b="0" lang="en-US" sz="1800" spc="-1" strike="noStrike">
                <a:solidFill>
                  <a:srgbClr val="000000"/>
                </a:solidFill>
                <a:latin typeface="Arial"/>
              </a:endParaRPr>
            </a:p>
          </p:txBody>
        </p:sp>
        <p:sp>
          <p:nvSpPr>
            <p:cNvPr id="413" name="直接连接符 36"/>
            <p:cNvSpPr/>
            <p:nvPr/>
          </p:nvSpPr>
          <p:spPr>
            <a:xfrm>
              <a:off x="2049120" y="17161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流程图: 联系 37"/>
            <p:cNvSpPr/>
            <p:nvPr/>
          </p:nvSpPr>
          <p:spPr>
            <a:xfrm>
              <a:off x="1871640" y="1701720"/>
              <a:ext cx="331560" cy="128520"/>
            </a:xfrm>
            <a:prstGeom prst="flowChartConnector">
              <a:avLst/>
            </a:prstGeom>
            <a:solidFill>
              <a:srgbClr val="00b0f0"/>
            </a:solidFill>
            <a:ln w="25560">
              <a:solidFill>
                <a:srgbClr val="d9d9d9"/>
              </a:solidFill>
              <a:round/>
            </a:ln>
          </p:spPr>
          <p:style>
            <a:lnRef idx="0"/>
            <a:fillRef idx="0"/>
            <a:effectRef idx="0"/>
            <a:fontRef idx="minor"/>
          </p:style>
          <p:txBody>
            <a:bodyPr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415" name="直接连接符 38"/>
            <p:cNvSpPr/>
            <p:nvPr/>
          </p:nvSpPr>
          <p:spPr>
            <a:xfrm>
              <a:off x="2060280" y="202572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6" name="组合 15"/>
          <p:cNvGrpSpPr/>
          <p:nvPr/>
        </p:nvGrpSpPr>
        <p:grpSpPr>
          <a:xfrm>
            <a:off x="1871640" y="2241720"/>
            <a:ext cx="4537080" cy="647640"/>
            <a:chOff x="1871640" y="2241720"/>
            <a:chExt cx="4537080" cy="647640"/>
          </a:xfrm>
        </p:grpSpPr>
        <p:sp>
          <p:nvSpPr>
            <p:cNvPr id="417" name="TextBox 48"/>
            <p:cNvSpPr/>
            <p:nvPr/>
          </p:nvSpPr>
          <p:spPr>
            <a:xfrm>
              <a:off x="2036520" y="224172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定价策略</a:t>
              </a:r>
              <a:endParaRPr b="0" lang="en-US" sz="1800" spc="-1" strike="noStrike">
                <a:solidFill>
                  <a:srgbClr val="000000"/>
                </a:solidFill>
                <a:latin typeface="Arial"/>
              </a:endParaRPr>
            </a:p>
          </p:txBody>
        </p:sp>
        <p:sp>
          <p:nvSpPr>
            <p:cNvPr id="418" name="直接连接符 49"/>
            <p:cNvSpPr/>
            <p:nvPr/>
          </p:nvSpPr>
          <p:spPr>
            <a:xfrm>
              <a:off x="2049120" y="2570400"/>
              <a:ext cx="0" cy="318960"/>
            </a:xfrm>
            <a:prstGeom prst="line">
              <a:avLst/>
            </a:prstGeom>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流程图: 联系 50"/>
            <p:cNvSpPr/>
            <p:nvPr/>
          </p:nvSpPr>
          <p:spPr>
            <a:xfrm>
              <a:off x="1871640" y="2556000"/>
              <a:ext cx="331560" cy="126720"/>
            </a:xfrm>
            <a:prstGeom prst="flowChartConnector">
              <a:avLst/>
            </a:prstGeom>
            <a:solidFill>
              <a:srgbClr val="ffc000"/>
            </a:solidFill>
            <a:ln w="25560">
              <a:solidFill>
                <a:srgbClr val="d9d9d9"/>
              </a:solidFill>
              <a:round/>
            </a:ln>
          </p:spPr>
          <p:style>
            <a:lnRef idx="0"/>
            <a:fillRef idx="0"/>
            <a:effectRef idx="0"/>
            <a:fontRef idx="minor"/>
          </p:style>
          <p:txBody>
            <a:bodyPr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420" name="直接连接符 51"/>
            <p:cNvSpPr/>
            <p:nvPr/>
          </p:nvSpPr>
          <p:spPr>
            <a:xfrm>
              <a:off x="2060280" y="287676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1" name="组合 20"/>
          <p:cNvGrpSpPr/>
          <p:nvPr/>
        </p:nvGrpSpPr>
        <p:grpSpPr>
          <a:xfrm>
            <a:off x="1871640" y="3105000"/>
            <a:ext cx="4537080" cy="648000"/>
            <a:chOff x="1871640" y="3105000"/>
            <a:chExt cx="4537080" cy="648000"/>
          </a:xfrm>
        </p:grpSpPr>
        <p:sp>
          <p:nvSpPr>
            <p:cNvPr id="422" name="TextBox 53"/>
            <p:cNvSpPr/>
            <p:nvPr/>
          </p:nvSpPr>
          <p:spPr>
            <a:xfrm>
              <a:off x="2036520" y="3105000"/>
              <a:ext cx="4372200" cy="640080"/>
            </a:xfrm>
            <a:prstGeom prst="roundRect">
              <a:avLst>
                <a:gd name="adj" fmla="val 8176"/>
              </a:avLst>
            </a:prstGeom>
            <a:solidFill>
              <a:srgbClr val="ffffff"/>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ea typeface="宋体"/>
                </a:rPr>
                <a:t>其他策略</a:t>
              </a:r>
              <a:endParaRPr b="0" lang="en-US" sz="1800" spc="-1" strike="noStrike">
                <a:solidFill>
                  <a:srgbClr val="000000"/>
                </a:solidFill>
                <a:latin typeface="Arial"/>
              </a:endParaRPr>
            </a:p>
          </p:txBody>
        </p:sp>
        <p:sp>
          <p:nvSpPr>
            <p:cNvPr id="423" name="直接连接符 54"/>
            <p:cNvSpPr/>
            <p:nvPr/>
          </p:nvSpPr>
          <p:spPr>
            <a:xfrm>
              <a:off x="2049120" y="3433680"/>
              <a:ext cx="0" cy="319320"/>
            </a:xfrm>
            <a:prstGeom prst="line">
              <a:avLst/>
            </a:prstGeom>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流程图: 联系 55"/>
            <p:cNvSpPr/>
            <p:nvPr/>
          </p:nvSpPr>
          <p:spPr>
            <a:xfrm>
              <a:off x="1871640" y="3419640"/>
              <a:ext cx="331560" cy="127080"/>
            </a:xfrm>
            <a:prstGeom prst="flowChartConnector">
              <a:avLst/>
            </a:prstGeom>
            <a:solidFill>
              <a:srgbClr val="92d050"/>
            </a:solidFill>
            <a:ln w="25560">
              <a:solidFill>
                <a:srgbClr val="d9d9d9"/>
              </a:solidFill>
              <a:round/>
            </a:ln>
          </p:spPr>
          <p:style>
            <a:lnRef idx="0"/>
            <a:fillRef idx="0"/>
            <a:effectRef idx="0"/>
            <a:fontRef idx="minor"/>
          </p:style>
          <p:txBody>
            <a:bodyPr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3</a:t>
              </a:r>
              <a:endParaRPr b="0" lang="en-US" sz="1800" spc="-1" strike="noStrike">
                <a:solidFill>
                  <a:srgbClr val="000000"/>
                </a:solidFill>
                <a:latin typeface="Arial"/>
              </a:endParaRPr>
            </a:p>
          </p:txBody>
        </p:sp>
        <p:sp>
          <p:nvSpPr>
            <p:cNvPr id="425" name="直接连接符 56"/>
            <p:cNvSpPr/>
            <p:nvPr/>
          </p:nvSpPr>
          <p:spPr>
            <a:xfrm>
              <a:off x="2060280" y="374040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F31D7-C20A-4498-88F5-B15D6CE21EA7}"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427" name="Group 128"/>
          <p:cNvGrpSpPr/>
          <p:nvPr/>
        </p:nvGrpSpPr>
        <p:grpSpPr>
          <a:xfrm>
            <a:off x="7270920" y="2349360"/>
            <a:ext cx="647280" cy="453960"/>
            <a:chOff x="7270920" y="2349360"/>
            <a:chExt cx="647280" cy="453960"/>
          </a:xfrm>
        </p:grpSpPr>
        <p:sp>
          <p:nvSpPr>
            <p:cNvPr id="428" name="AutoShape 129"/>
            <p:cNvSpPr/>
            <p:nvPr/>
          </p:nvSpPr>
          <p:spPr>
            <a:xfrm>
              <a:off x="7558200" y="2492280"/>
              <a:ext cx="360000" cy="311040"/>
            </a:xfrm>
            <a:prstGeom prst="hexagon">
              <a:avLst>
                <a:gd name="adj" fmla="val 28935"/>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AutoShape 130"/>
            <p:cNvSpPr/>
            <p:nvPr/>
          </p:nvSpPr>
          <p:spPr>
            <a:xfrm>
              <a:off x="7270920" y="2349360"/>
              <a:ext cx="360000" cy="311040"/>
            </a:xfrm>
            <a:prstGeom prst="hexagon">
              <a:avLst>
                <a:gd name="adj" fmla="val 28935"/>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0"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AutoShape 78"/>
          <p:cNvSpPr/>
          <p:nvPr/>
        </p:nvSpPr>
        <p:spPr>
          <a:xfrm>
            <a:off x="46656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2" name="组合 127"/>
          <p:cNvGrpSpPr/>
          <p:nvPr/>
        </p:nvGrpSpPr>
        <p:grpSpPr>
          <a:xfrm>
            <a:off x="250920" y="324000"/>
            <a:ext cx="264960" cy="417240"/>
            <a:chOff x="250920" y="324000"/>
            <a:chExt cx="264960" cy="417240"/>
          </a:xfrm>
        </p:grpSpPr>
        <p:sp>
          <p:nvSpPr>
            <p:cNvPr id="433"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组合 10"/>
          <p:cNvGrpSpPr/>
          <p:nvPr/>
        </p:nvGrpSpPr>
        <p:grpSpPr>
          <a:xfrm>
            <a:off x="1224000" y="1052640"/>
            <a:ext cx="7128000" cy="647640"/>
            <a:chOff x="1224000" y="1052640"/>
            <a:chExt cx="7128000" cy="647640"/>
          </a:xfrm>
        </p:grpSpPr>
        <p:sp>
          <p:nvSpPr>
            <p:cNvPr id="437" name="TextBox 11"/>
            <p:cNvSpPr/>
            <p:nvPr/>
          </p:nvSpPr>
          <p:spPr>
            <a:xfrm>
              <a:off x="1482480" y="1052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000000"/>
                  </a:solidFill>
                  <a:latin typeface="Arial"/>
                  <a:ea typeface="宋体"/>
                </a:rPr>
                <a:t>不同阶段的策略</a:t>
              </a:r>
              <a:endParaRPr b="0" lang="en-US" sz="1800" spc="-1" strike="noStrike">
                <a:solidFill>
                  <a:srgbClr val="000000"/>
                </a:solidFill>
                <a:latin typeface="Arial"/>
              </a:endParaRPr>
            </a:p>
          </p:txBody>
        </p:sp>
        <p:sp>
          <p:nvSpPr>
            <p:cNvPr id="438" name="直接连接符 32"/>
            <p:cNvSpPr/>
            <p:nvPr/>
          </p:nvSpPr>
          <p:spPr>
            <a:xfrm>
              <a:off x="1501560" y="1381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流程图: 联系 13"/>
            <p:cNvSpPr/>
            <p:nvPr/>
          </p:nvSpPr>
          <p:spPr>
            <a:xfrm>
              <a:off x="1224000" y="1320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440" name="直接连接符 34"/>
            <p:cNvSpPr/>
            <p:nvPr/>
          </p:nvSpPr>
          <p:spPr>
            <a:xfrm>
              <a:off x="1522440" y="1690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1"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标题 1"/>
          <p:cNvSpPr/>
          <p:nvPr/>
        </p:nvSpPr>
        <p:spPr>
          <a:xfrm>
            <a:off x="576360" y="297000"/>
            <a:ext cx="540072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6.3 </a:t>
            </a:r>
            <a:r>
              <a:rPr b="0" lang="zh-CN" sz="3200" spc="-1" strike="noStrike">
                <a:solidFill>
                  <a:srgbClr val="c0504d"/>
                </a:solidFill>
                <a:latin typeface="微软雅黑"/>
                <a:ea typeface="微软雅黑"/>
              </a:rPr>
              <a:t>网络经济企业策略</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445" name=""/>
          <p:cNvGraphicFramePr/>
          <p:nvPr/>
        </p:nvGraphicFramePr>
        <p:xfrm>
          <a:off x="870120" y="2367000"/>
          <a:ext cx="7242120" cy="3087720"/>
        </p:xfrm>
        <a:graphic>
          <a:graphicData uri="http://schemas.openxmlformats.org/drawingml/2006/table">
            <a:tbl>
              <a:tblPr/>
              <a:tblGrid>
                <a:gridCol w="1031760"/>
                <a:gridCol w="2587680"/>
                <a:gridCol w="1812960"/>
                <a:gridCol w="1809720"/>
              </a:tblGrid>
              <a:tr h="6094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演化阶段</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平台结构与网络效应</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平台核心关注点</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平台案例</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9162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成长期</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平台内：直接网络效应平台间：非对称网络效应</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用户规模</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顺丰优选、万物心选</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7808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成熟期</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平台内：交叉网络效应平台间：对称网络效应</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平台质量</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唯品会、京东商城</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7812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分化期</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平台内：交叉网络效应平台间：叠加网络效应</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平台包络</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阿里巴巴</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75A67-7EC6-4961-B70B-C00F58582119}"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447" name="Group 128"/>
          <p:cNvGrpSpPr/>
          <p:nvPr/>
        </p:nvGrpSpPr>
        <p:grpSpPr>
          <a:xfrm>
            <a:off x="7704000" y="2349360"/>
            <a:ext cx="648000" cy="453960"/>
            <a:chOff x="7704000" y="2349360"/>
            <a:chExt cx="648000" cy="453960"/>
          </a:xfrm>
        </p:grpSpPr>
        <p:sp>
          <p:nvSpPr>
            <p:cNvPr id="448"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3" name="组合 127"/>
          <p:cNvGrpSpPr/>
          <p:nvPr/>
        </p:nvGrpSpPr>
        <p:grpSpPr>
          <a:xfrm>
            <a:off x="250920" y="324000"/>
            <a:ext cx="264960" cy="417240"/>
            <a:chOff x="250920" y="324000"/>
            <a:chExt cx="264960" cy="417240"/>
          </a:xfrm>
        </p:grpSpPr>
        <p:sp>
          <p:nvSpPr>
            <p:cNvPr id="454"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7" name="组合 10"/>
          <p:cNvGrpSpPr/>
          <p:nvPr/>
        </p:nvGrpSpPr>
        <p:grpSpPr>
          <a:xfrm>
            <a:off x="1224000" y="944640"/>
            <a:ext cx="7128000" cy="647640"/>
            <a:chOff x="1224000" y="944640"/>
            <a:chExt cx="7128000" cy="647640"/>
          </a:xfrm>
        </p:grpSpPr>
        <p:sp>
          <p:nvSpPr>
            <p:cNvPr id="458"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定价策略</a:t>
              </a:r>
              <a:endParaRPr b="0" lang="en-US" sz="1800" spc="-1" strike="noStrike">
                <a:solidFill>
                  <a:srgbClr val="000000"/>
                </a:solidFill>
                <a:latin typeface="Arial"/>
              </a:endParaRPr>
            </a:p>
          </p:txBody>
        </p:sp>
        <p:sp>
          <p:nvSpPr>
            <p:cNvPr id="459" name="直接连接符 3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461" name="直接连接符 3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2"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4" name="组合 1"/>
          <p:cNvGrpSpPr/>
          <p:nvPr/>
        </p:nvGrpSpPr>
        <p:grpSpPr>
          <a:xfrm>
            <a:off x="2000160" y="2374920"/>
            <a:ext cx="5190840" cy="634680"/>
            <a:chOff x="2000160" y="2374920"/>
            <a:chExt cx="5190840" cy="634680"/>
          </a:xfrm>
        </p:grpSpPr>
        <p:sp>
          <p:nvSpPr>
            <p:cNvPr id="465" name="MH_Other_1"/>
            <p:cNvSpPr/>
            <p:nvPr/>
          </p:nvSpPr>
          <p:spPr>
            <a:xfrm>
              <a:off x="2000160" y="2374920"/>
              <a:ext cx="2251080" cy="334440"/>
            </a:xfrm>
            <a:prstGeom prst="pie">
              <a:avLst/>
            </a:prstGeom>
            <a:solidFill>
              <a:srgbClr val="4f81bd"/>
            </a:solidFill>
            <a:ln w="0">
              <a:noFill/>
            </a:ln>
          </p:spPr>
          <p:style>
            <a:lnRef idx="0"/>
            <a:fillRef idx="0"/>
            <a:effectRef idx="0"/>
            <a:fontRef idx="minor"/>
          </p:style>
          <p:txBody>
            <a:bodyPr lIns="36000" rIns="90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01</a:t>
              </a:r>
              <a:endParaRPr b="0" lang="en-US" sz="1800" spc="-1" strike="noStrike">
                <a:solidFill>
                  <a:srgbClr val="000000"/>
                </a:solidFill>
                <a:latin typeface="Arial"/>
              </a:endParaRPr>
            </a:p>
          </p:txBody>
        </p:sp>
        <p:sp>
          <p:nvSpPr>
            <p:cNvPr id="466" name="MH_SubTitle_1"/>
            <p:cNvSpPr/>
            <p:nvPr/>
          </p:nvSpPr>
          <p:spPr>
            <a:xfrm>
              <a:off x="2361960" y="2419200"/>
              <a:ext cx="4829040" cy="590400"/>
            </a:xfrm>
            <a:prstGeom prst="rect">
              <a:avLst/>
            </a:prstGeom>
            <a:solidFill>
              <a:srgbClr val="ffffff"/>
            </a:solidFill>
            <a:ln w="9360">
              <a:solidFill>
                <a:srgbClr val="d9d9d9"/>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76092"/>
                  </a:solidFill>
                  <a:latin typeface="Calibri"/>
                  <a:ea typeface="宋体"/>
                </a:rPr>
                <a:t>价格歧视策略</a:t>
              </a:r>
              <a:endParaRPr b="0" lang="en-US" sz="1800" spc="-1" strike="noStrike">
                <a:solidFill>
                  <a:srgbClr val="000000"/>
                </a:solidFill>
                <a:latin typeface="Arial"/>
              </a:endParaRPr>
            </a:p>
          </p:txBody>
        </p:sp>
      </p:grpSp>
      <p:sp>
        <p:nvSpPr>
          <p:cNvPr id="467" name="MH_Other_4"/>
          <p:cNvSpPr/>
          <p:nvPr/>
        </p:nvSpPr>
        <p:spPr>
          <a:xfrm>
            <a:off x="5283360" y="3286080"/>
            <a:ext cx="2249280" cy="336600"/>
          </a:xfrm>
          <a:prstGeom prst="pie">
            <a:avLst/>
          </a:prstGeom>
          <a:solidFill>
            <a:srgbClr val="c0504d"/>
          </a:solidFill>
          <a:ln w="0">
            <a:noFill/>
          </a:ln>
        </p:spPr>
        <p:style>
          <a:lnRef idx="0"/>
          <a:fillRef idx="0"/>
          <a:effectRef idx="0"/>
          <a:fontRef idx="minor"/>
        </p:style>
        <p:txBody>
          <a:bodyPr lIns="90000" rIns="36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02</a:t>
            </a:r>
            <a:endParaRPr b="0" lang="en-US" sz="1800" spc="-1" strike="noStrike">
              <a:solidFill>
                <a:srgbClr val="000000"/>
              </a:solidFill>
              <a:latin typeface="Arial"/>
            </a:endParaRPr>
          </a:p>
        </p:txBody>
      </p:sp>
      <p:sp>
        <p:nvSpPr>
          <p:cNvPr id="468" name="MH_SubTitle_2"/>
          <p:cNvSpPr/>
          <p:nvPr/>
        </p:nvSpPr>
        <p:spPr>
          <a:xfrm>
            <a:off x="2341440" y="3332160"/>
            <a:ext cx="4829400" cy="590400"/>
          </a:xfrm>
          <a:prstGeom prst="rect">
            <a:avLst/>
          </a:prstGeom>
          <a:solidFill>
            <a:srgbClr val="ffffff"/>
          </a:solidFill>
          <a:ln w="9360">
            <a:solidFill>
              <a:srgbClr val="d9d9d9"/>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53735"/>
                </a:solidFill>
                <a:latin typeface="Calibri"/>
                <a:ea typeface="宋体"/>
              </a:rPr>
              <a:t>捆绑定价策略</a:t>
            </a:r>
            <a:endParaRPr b="0" lang="en-US" sz="1800" spc="-1" strike="noStrike">
              <a:solidFill>
                <a:srgbClr val="000000"/>
              </a:solidFill>
              <a:latin typeface="Arial"/>
            </a:endParaRPr>
          </a:p>
        </p:txBody>
      </p:sp>
      <p:sp>
        <p:nvSpPr>
          <p:cNvPr id="469" name="标题 1"/>
          <p:cNvSpPr/>
          <p:nvPr/>
        </p:nvSpPr>
        <p:spPr>
          <a:xfrm>
            <a:off x="576360" y="297000"/>
            <a:ext cx="540072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6.3 </a:t>
            </a:r>
            <a:r>
              <a:rPr b="1" lang="zh-CN" sz="3200" spc="-1" strike="noStrike">
                <a:solidFill>
                  <a:srgbClr val="c0504d"/>
                </a:solidFill>
                <a:latin typeface="微软雅黑"/>
                <a:ea typeface="微软雅黑"/>
              </a:rPr>
              <a:t>电子商务的价格</a:t>
            </a:r>
            <a:endParaRPr b="0" lang="en-US" sz="3200" spc="-1" strike="noStrike">
              <a:solidFill>
                <a:srgbClr val="000000"/>
              </a:solidFill>
              <a:latin typeface="Arial"/>
            </a:endParaRPr>
          </a:p>
        </p:txBody>
      </p:sp>
      <p:grpSp>
        <p:nvGrpSpPr>
          <p:cNvPr id="470" name="组合 3"/>
          <p:cNvGrpSpPr/>
          <p:nvPr/>
        </p:nvGrpSpPr>
        <p:grpSpPr>
          <a:xfrm>
            <a:off x="1947960" y="4032360"/>
            <a:ext cx="5189040" cy="634680"/>
            <a:chOff x="1947960" y="4032360"/>
            <a:chExt cx="5189040" cy="634680"/>
          </a:xfrm>
        </p:grpSpPr>
        <p:sp>
          <p:nvSpPr>
            <p:cNvPr id="471" name="MH_Other_1"/>
            <p:cNvSpPr/>
            <p:nvPr/>
          </p:nvSpPr>
          <p:spPr>
            <a:xfrm>
              <a:off x="1947960" y="4032360"/>
              <a:ext cx="2250360" cy="335160"/>
            </a:xfrm>
            <a:prstGeom prst="pie">
              <a:avLst/>
            </a:prstGeom>
            <a:gradFill rotWithShape="0">
              <a:gsLst>
                <a:gs pos="0">
                  <a:srgbClr val="7b32b2"/>
                </a:gs>
                <a:gs pos="100000">
                  <a:srgbClr val="401a5d"/>
                </a:gs>
              </a:gsLst>
              <a:lin ang="5400000"/>
            </a:gradFill>
            <a:ln w="0">
              <a:noFill/>
            </a:ln>
          </p:spPr>
          <p:style>
            <a:lnRef idx="0"/>
            <a:fillRef idx="0"/>
            <a:effectRef idx="0"/>
            <a:fontRef idx="minor"/>
          </p:style>
          <p:txBody>
            <a:bodyPr lIns="36000" rIns="90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0</a:t>
              </a:r>
              <a:r>
                <a:rPr b="1" lang="en-US" sz="1800" spc="-1" strike="noStrike">
                  <a:solidFill>
                    <a:srgbClr val="ffffff"/>
                  </a:solidFill>
                  <a:latin typeface="Calibri"/>
                </a:rPr>
                <a:t>3</a:t>
              </a:r>
              <a:endParaRPr b="0" lang="en-US" sz="1800" spc="-1" strike="noStrike">
                <a:solidFill>
                  <a:srgbClr val="000000"/>
                </a:solidFill>
                <a:latin typeface="Arial"/>
              </a:endParaRPr>
            </a:p>
          </p:txBody>
        </p:sp>
        <p:sp>
          <p:nvSpPr>
            <p:cNvPr id="472" name="MH_SubTitle_1"/>
            <p:cNvSpPr/>
            <p:nvPr/>
          </p:nvSpPr>
          <p:spPr>
            <a:xfrm>
              <a:off x="2309400" y="4076640"/>
              <a:ext cx="4827600" cy="590400"/>
            </a:xfrm>
            <a:prstGeom prst="rect">
              <a:avLst/>
            </a:prstGeom>
            <a:solidFill>
              <a:srgbClr val="ffffff"/>
            </a:solidFill>
            <a:ln w="9360">
              <a:solidFill>
                <a:srgbClr val="d9d9d9"/>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76092"/>
                  </a:solidFill>
                  <a:latin typeface="Calibri"/>
                  <a:ea typeface="宋体"/>
                </a:rPr>
                <a:t>其他定价策略</a:t>
              </a:r>
              <a:endParaRPr b="0" lang="en-US" sz="1800" spc="-1" strike="noStrike">
                <a:solidFill>
                  <a:srgbClr val="000000"/>
                </a:solidFill>
                <a:latin typeface="Arial"/>
              </a:endParaRPr>
            </a:p>
          </p:txBody>
        </p:sp>
      </p:gr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C1DDB-8CA2-4878-9F94-792976A3C201}"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474" name="Group 128"/>
          <p:cNvGrpSpPr/>
          <p:nvPr/>
        </p:nvGrpSpPr>
        <p:grpSpPr>
          <a:xfrm>
            <a:off x="7270920" y="2349360"/>
            <a:ext cx="647280" cy="453960"/>
            <a:chOff x="7270920" y="2349360"/>
            <a:chExt cx="647280" cy="453960"/>
          </a:xfrm>
        </p:grpSpPr>
        <p:sp>
          <p:nvSpPr>
            <p:cNvPr id="475" name="AutoShape 129"/>
            <p:cNvSpPr/>
            <p:nvPr/>
          </p:nvSpPr>
          <p:spPr>
            <a:xfrm>
              <a:off x="7558200" y="2492280"/>
              <a:ext cx="360000" cy="311040"/>
            </a:xfrm>
            <a:prstGeom prst="hexagon">
              <a:avLst>
                <a:gd name="adj" fmla="val 28935"/>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AutoShape 130"/>
            <p:cNvSpPr/>
            <p:nvPr/>
          </p:nvSpPr>
          <p:spPr>
            <a:xfrm>
              <a:off x="7270920" y="2349360"/>
              <a:ext cx="360000" cy="311040"/>
            </a:xfrm>
            <a:prstGeom prst="hexagon">
              <a:avLst>
                <a:gd name="adj" fmla="val 28935"/>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7" name="AutoShape 26"/>
          <p:cNvSpPr/>
          <p:nvPr/>
        </p:nvSpPr>
        <p:spPr>
          <a:xfrm>
            <a:off x="79056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AutoShape 78"/>
          <p:cNvSpPr/>
          <p:nvPr/>
        </p:nvSpPr>
        <p:spPr>
          <a:xfrm>
            <a:off x="46656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0" name="组合 127"/>
          <p:cNvGrpSpPr/>
          <p:nvPr/>
        </p:nvGrpSpPr>
        <p:grpSpPr>
          <a:xfrm>
            <a:off x="250920" y="324000"/>
            <a:ext cx="264960" cy="417240"/>
            <a:chOff x="250920" y="324000"/>
            <a:chExt cx="264960" cy="417240"/>
          </a:xfrm>
        </p:grpSpPr>
        <p:sp>
          <p:nvSpPr>
            <p:cNvPr id="481"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4" name="组合 10"/>
          <p:cNvGrpSpPr/>
          <p:nvPr/>
        </p:nvGrpSpPr>
        <p:grpSpPr>
          <a:xfrm>
            <a:off x="1224000" y="944640"/>
            <a:ext cx="7128000" cy="647640"/>
            <a:chOff x="1224000" y="944640"/>
            <a:chExt cx="7128000" cy="647640"/>
          </a:xfrm>
        </p:grpSpPr>
        <p:sp>
          <p:nvSpPr>
            <p:cNvPr id="485"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其他策略</a:t>
              </a:r>
              <a:endParaRPr b="0" lang="en-US" sz="1800" spc="-1" strike="noStrike">
                <a:solidFill>
                  <a:srgbClr val="000000"/>
                </a:solidFill>
                <a:latin typeface="Arial"/>
              </a:endParaRPr>
            </a:p>
          </p:txBody>
        </p:sp>
        <p:sp>
          <p:nvSpPr>
            <p:cNvPr id="486" name="直接连接符 3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3</a:t>
              </a:r>
              <a:endParaRPr b="0" lang="en-US" sz="1800" spc="-1" strike="noStrike">
                <a:solidFill>
                  <a:srgbClr val="000000"/>
                </a:solidFill>
                <a:latin typeface="Arial"/>
              </a:endParaRPr>
            </a:p>
          </p:txBody>
        </p:sp>
        <p:sp>
          <p:nvSpPr>
            <p:cNvPr id="488" name="直接连接符 3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9"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9"/>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3" name="Group 1"/>
          <p:cNvGrpSpPr/>
          <p:nvPr/>
        </p:nvGrpSpPr>
        <p:grpSpPr>
          <a:xfrm>
            <a:off x="2610000" y="2119320"/>
            <a:ext cx="4032000" cy="3422520"/>
            <a:chOff x="2610000" y="2119320"/>
            <a:chExt cx="4032000" cy="3422520"/>
          </a:xfrm>
        </p:grpSpPr>
        <p:sp>
          <p:nvSpPr>
            <p:cNvPr id="494" name="AutoShape 8"/>
            <p:cNvSpPr/>
            <p:nvPr/>
          </p:nvSpPr>
          <p:spPr>
            <a:xfrm>
              <a:off x="2610000" y="2119320"/>
              <a:ext cx="4032000" cy="342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Oval 7"/>
            <p:cNvSpPr/>
            <p:nvPr/>
          </p:nvSpPr>
          <p:spPr>
            <a:xfrm>
              <a:off x="4754880" y="2119320"/>
              <a:ext cx="1490760" cy="1375200"/>
            </a:xfrm>
            <a:prstGeom prst="ellipse">
              <a:avLst/>
            </a:prstGeom>
            <a:solidFill>
              <a:srgbClr val="ffffff"/>
            </a:solidFill>
            <a:ln w="9360">
              <a:solidFill>
                <a:srgbClr val="000000"/>
              </a:solidFill>
              <a:round/>
            </a:ln>
          </p:spPr>
          <p:style>
            <a:lnRef idx="0"/>
            <a:fillRef idx="0"/>
            <a:effectRef idx="0"/>
            <a:fontRef idx="minor"/>
          </p:style>
          <p:txBody>
            <a:bodyPr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差异化、独特性战略</a:t>
              </a:r>
              <a:endParaRPr b="0" lang="en-US" sz="1800" spc="-1" strike="noStrike">
                <a:solidFill>
                  <a:srgbClr val="000000"/>
                </a:solidFill>
                <a:latin typeface="Arial"/>
              </a:endParaRPr>
            </a:p>
          </p:txBody>
        </p:sp>
        <p:sp>
          <p:nvSpPr>
            <p:cNvPr id="496" name="Oval 6"/>
            <p:cNvSpPr/>
            <p:nvPr/>
          </p:nvSpPr>
          <p:spPr>
            <a:xfrm>
              <a:off x="4172040" y="3390480"/>
              <a:ext cx="1491120" cy="1375200"/>
            </a:xfrm>
            <a:prstGeom prst="ellipse">
              <a:avLst/>
            </a:prstGeom>
            <a:solidFill>
              <a:srgbClr val="ffffff"/>
            </a:solidFill>
            <a:ln w="9360">
              <a:solidFill>
                <a:srgbClr val="000000"/>
              </a:solidFill>
              <a:round/>
            </a:ln>
          </p:spPr>
          <p:style>
            <a:lnRef idx="0"/>
            <a:fillRef idx="0"/>
            <a:effectRef idx="0"/>
            <a:fontRef idx="minor"/>
          </p:style>
          <p:txBody>
            <a:bodyPr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合作战略</a:t>
              </a:r>
              <a:endParaRPr b="0" lang="en-US" sz="1800" spc="-1" strike="noStrike">
                <a:solidFill>
                  <a:srgbClr val="000000"/>
                </a:solidFill>
                <a:latin typeface="Arial"/>
              </a:endParaRPr>
            </a:p>
          </p:txBody>
        </p:sp>
        <p:sp>
          <p:nvSpPr>
            <p:cNvPr id="497" name="Oval 3"/>
            <p:cNvSpPr/>
            <p:nvPr/>
          </p:nvSpPr>
          <p:spPr>
            <a:xfrm>
              <a:off x="3261960" y="2119320"/>
              <a:ext cx="1492560" cy="1375200"/>
            </a:xfrm>
            <a:prstGeom prst="ellipse">
              <a:avLst/>
            </a:prstGeom>
            <a:solidFill>
              <a:srgbClr val="ffffff"/>
            </a:solidFill>
            <a:ln w="9360">
              <a:solidFill>
                <a:srgbClr val="000000"/>
              </a:solidFill>
              <a:round/>
            </a:ln>
          </p:spPr>
          <p:style>
            <a:lnRef idx="0"/>
            <a:fillRef idx="0"/>
            <a:effectRef idx="0"/>
            <a:fontRef idx="minor"/>
          </p:style>
          <p:txBody>
            <a:bodyPr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低成本策略</a:t>
              </a:r>
              <a:endParaRPr b="0" lang="en-US" sz="1800" spc="-1" strike="noStrike">
                <a:solidFill>
                  <a:srgbClr val="000000"/>
                </a:solidFill>
                <a:latin typeface="Arial"/>
              </a:endParaRPr>
            </a:p>
          </p:txBody>
        </p:sp>
      </p:grpSp>
      <p:sp>
        <p:nvSpPr>
          <p:cNvPr id="498" name="标题 1"/>
          <p:cNvSpPr/>
          <p:nvPr/>
        </p:nvSpPr>
        <p:spPr>
          <a:xfrm>
            <a:off x="576360" y="297000"/>
            <a:ext cx="540072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6.3 </a:t>
            </a:r>
            <a:r>
              <a:rPr b="0" lang="zh-CN" sz="3200" spc="-1" strike="noStrike">
                <a:solidFill>
                  <a:srgbClr val="c0504d"/>
                </a:solidFill>
                <a:latin typeface="微软雅黑"/>
                <a:ea typeface="微软雅黑"/>
              </a:rPr>
              <a:t>网络经济企业策略</a:t>
            </a:r>
            <a:endParaRPr b="0" lang="en-US" sz="3200" spc="-1" strike="noStrike">
              <a:solidFill>
                <a:srgbClr val="000000"/>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22724-0A3C-4609-9CD9-5FAF3CE524D1}"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sp>
        <p:nvSpPr>
          <p:cNvPr id="500" name="PlaceHolder 1"/>
          <p:cNvSpPr>
            <a:spLocks noGrp="1"/>
          </p:cNvSpPr>
          <p:nvPr>
            <p:ph type="title"/>
          </p:nvPr>
        </p:nvSpPr>
        <p:spPr>
          <a:xfrm>
            <a:off x="-158436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0504d"/>
                </a:solidFill>
                <a:latin typeface="Calibri"/>
                <a:ea typeface="微软雅黑"/>
              </a:rPr>
              <a:t>思考与练习</a:t>
            </a:r>
            <a:endParaRPr b="0" lang="en-US" sz="5400" spc="-1" strike="noStrike">
              <a:solidFill>
                <a:srgbClr val="000000"/>
              </a:solidFill>
              <a:latin typeface="Calibri"/>
            </a:endParaRPr>
          </a:p>
        </p:txBody>
      </p:sp>
      <p:pic>
        <p:nvPicPr>
          <p:cNvPr id="501" name="图片 2" descr=""/>
          <p:cNvPicPr/>
          <p:nvPr/>
        </p:nvPicPr>
        <p:blipFill>
          <a:blip r:embed="rId1"/>
          <a:stretch/>
        </p:blipFill>
        <p:spPr>
          <a:xfrm>
            <a:off x="4606920" y="404640"/>
            <a:ext cx="4178160" cy="2679840"/>
          </a:xfrm>
          <a:prstGeom prst="rect">
            <a:avLst/>
          </a:prstGeom>
          <a:ln w="0">
            <a:noFill/>
          </a:ln>
        </p:spPr>
      </p:pic>
      <p:sp>
        <p:nvSpPr>
          <p:cNvPr id="502" name="Rectangle 2"/>
          <p:cNvSpPr/>
          <p:nvPr/>
        </p:nvSpPr>
        <p:spPr>
          <a:xfrm>
            <a:off x="358920" y="3187440"/>
            <a:ext cx="8100720" cy="1739880"/>
          </a:xfrm>
          <a:prstGeom prst="rect">
            <a:avLst/>
          </a:prstGeom>
          <a:solidFill>
            <a:srgbClr val="ffff00">
              <a:alpha val="14000"/>
            </a:srgbClr>
          </a:solidFill>
          <a:ln w="25560">
            <a:solidFill>
              <a:srgbClr val="4f81bd"/>
            </a:solidFill>
            <a:round/>
          </a:ln>
        </p:spPr>
        <p:style>
          <a:lnRef idx="0"/>
          <a:fillRef idx="0"/>
          <a:effectRef idx="0"/>
          <a:fontRef idx="minor"/>
        </p:style>
        <p:txBody>
          <a:bodyPr lIns="90000" rIns="90000" tIns="46800" bIns="46800" anchor="ctr">
            <a:sp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a:t>
            </a:r>
            <a:r>
              <a:rPr b="0" lang="en-US" sz="1800" spc="-1" strike="noStrike">
                <a:solidFill>
                  <a:srgbClr val="000000"/>
                </a:solidFill>
                <a:latin typeface="Arial"/>
              </a:rPr>
              <a:t>简述网络经济企业组织结构的变化</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000000"/>
                </a:solidFill>
                <a:latin typeface="Arial"/>
              </a:rPr>
              <a:t>网络经济行业进入壁垒与传统行业有什么不同</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en-US" sz="1800" spc="-1" strike="noStrike">
                <a:solidFill>
                  <a:srgbClr val="000000"/>
                </a:solidFill>
                <a:latin typeface="Arial"/>
              </a:rPr>
              <a:t>网络经济中，市场主导者开放和控制技术标准的利弊</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en-US" sz="1800" spc="-1" strike="noStrike">
                <a:solidFill>
                  <a:srgbClr val="000000"/>
                </a:solidFill>
                <a:latin typeface="Arial"/>
              </a:rPr>
              <a:t>简述不同时期，网络经济企业最重要的策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D4E2C-AECB-46F3-A0E9-12FAC60EAD31}"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pic>
        <p:nvPicPr>
          <p:cNvPr id="504" name="Picture 4" descr=""/>
          <p:cNvPicPr/>
          <p:nvPr/>
        </p:nvPicPr>
        <p:blipFill>
          <a:blip r:embed="rId1"/>
          <a:stretch/>
        </p:blipFill>
        <p:spPr>
          <a:xfrm>
            <a:off x="576360" y="836640"/>
            <a:ext cx="4998960" cy="3676680"/>
          </a:xfrm>
          <a:prstGeom prst="rect">
            <a:avLst/>
          </a:prstGeom>
          <a:ln w="0">
            <a:noFill/>
          </a:ln>
        </p:spPr>
      </p:pic>
      <p:sp>
        <p:nvSpPr>
          <p:cNvPr id="505" name="TextBox 27"/>
          <p:cNvSpPr/>
          <p:nvPr/>
        </p:nvSpPr>
        <p:spPr>
          <a:xfrm>
            <a:off x="5003640" y="2997360"/>
            <a:ext cx="3024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微软雅黑"/>
                <a:ea typeface="微软雅黑"/>
              </a:rPr>
              <a:t>谢谢</a:t>
            </a:r>
            <a:endParaRPr b="0" lang="en-US" sz="96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3"/>
          <p:cNvSpPr/>
          <p:nvPr/>
        </p:nvSpPr>
        <p:spPr>
          <a:xfrm>
            <a:off x="466560" y="428760"/>
            <a:ext cx="545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504d"/>
                </a:solidFill>
                <a:latin typeface="微软雅黑"/>
                <a:ea typeface="微软雅黑"/>
              </a:rPr>
              <a:t>教学目标</a:t>
            </a:r>
            <a:endParaRPr b="0" lang="en-US" sz="4000" spc="-1" strike="noStrike">
              <a:solidFill>
                <a:srgbClr val="000000"/>
              </a:solidFill>
              <a:latin typeface="Arial"/>
            </a:endParaRPr>
          </a:p>
        </p:txBody>
      </p:sp>
      <p:pic>
        <p:nvPicPr>
          <p:cNvPr id="212" name="Freeform 62" descr=""/>
          <p:cNvPicPr/>
          <p:nvPr/>
        </p:nvPicPr>
        <p:blipFill>
          <a:blip r:embed="rId1"/>
          <a:stretch/>
        </p:blipFill>
        <p:spPr>
          <a:xfrm>
            <a:off x="1260360" y="3753000"/>
            <a:ext cx="6639120" cy="1028520"/>
          </a:xfrm>
          <a:prstGeom prst="rect">
            <a:avLst/>
          </a:prstGeom>
          <a:ln w="0">
            <a:noFill/>
          </a:ln>
        </p:spPr>
      </p:pic>
      <p:pic>
        <p:nvPicPr>
          <p:cNvPr id="213" name="Freeform 67" descr=""/>
          <p:cNvPicPr/>
          <p:nvPr/>
        </p:nvPicPr>
        <p:blipFill>
          <a:blip r:embed="rId2"/>
          <a:stretch/>
        </p:blipFill>
        <p:spPr>
          <a:xfrm>
            <a:off x="1260360" y="2668680"/>
            <a:ext cx="6634440" cy="992160"/>
          </a:xfrm>
          <a:prstGeom prst="rect">
            <a:avLst/>
          </a:prstGeom>
          <a:ln w="0">
            <a:noFill/>
          </a:ln>
        </p:spPr>
      </p:pic>
      <p:pic>
        <p:nvPicPr>
          <p:cNvPr id="214" name="Freeform 70" descr=""/>
          <p:cNvPicPr/>
          <p:nvPr/>
        </p:nvPicPr>
        <p:blipFill>
          <a:blip r:embed="rId3"/>
          <a:stretch/>
        </p:blipFill>
        <p:spPr>
          <a:xfrm>
            <a:off x="1263600" y="1697040"/>
            <a:ext cx="6632640" cy="925560"/>
          </a:xfrm>
          <a:prstGeom prst="rect">
            <a:avLst/>
          </a:prstGeom>
          <a:ln w="0">
            <a:noFill/>
          </a:ln>
        </p:spPr>
      </p:pic>
      <p:sp>
        <p:nvSpPr>
          <p:cNvPr id="215" name="Rectangle 15"/>
          <p:cNvSpPr/>
          <p:nvPr/>
        </p:nvSpPr>
        <p:spPr>
          <a:xfrm>
            <a:off x="2049480" y="4087440"/>
            <a:ext cx="565164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网络经济下不同企业的标准战略  </a:t>
            </a:r>
            <a:endParaRPr b="0" lang="en-US" sz="2000" spc="-1" strike="noStrike">
              <a:solidFill>
                <a:srgbClr val="000000"/>
              </a:solidFill>
              <a:latin typeface="Arial"/>
            </a:endParaRPr>
          </a:p>
        </p:txBody>
      </p:sp>
      <p:sp>
        <p:nvSpPr>
          <p:cNvPr id="216" name="Rectangle 18"/>
          <p:cNvSpPr/>
          <p:nvPr/>
        </p:nvSpPr>
        <p:spPr>
          <a:xfrm>
            <a:off x="1976400" y="2712960"/>
            <a:ext cx="6558120" cy="803520"/>
          </a:xfrm>
          <a:prstGeom prst="rect">
            <a:avLst/>
          </a:prstGeom>
          <a:noFill/>
          <a:ln w="0">
            <a:noFill/>
          </a:ln>
        </p:spPr>
        <p:style>
          <a:lnRef idx="0"/>
          <a:fillRef idx="0"/>
          <a:effectRef idx="0"/>
          <a:fontRef idx="minor"/>
        </p:style>
        <p:txBody>
          <a:bodyPr lIns="0" rIns="0" tIns="0" bIns="0" anchor="ctr">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掌握进入壁垒的分类，网络经济下进入壁垒的转变</a:t>
            </a:r>
            <a:endParaRPr b="0" lang="en-US" sz="2000" spc="-1" strike="noStrike">
              <a:solidFill>
                <a:srgbClr val="000000"/>
              </a:solidFill>
              <a:latin typeface="Arial"/>
            </a:endParaRPr>
          </a:p>
        </p:txBody>
      </p:sp>
      <p:sp>
        <p:nvSpPr>
          <p:cNvPr id="217" name="Rectangle 21"/>
          <p:cNvSpPr/>
          <p:nvPr/>
        </p:nvSpPr>
        <p:spPr>
          <a:xfrm>
            <a:off x="1976400" y="1931400"/>
            <a:ext cx="540072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了解网络经济下企业组织方式的改变</a:t>
            </a:r>
            <a:endParaRPr b="0" lang="en-US" sz="2000" spc="-1" strike="noStrike">
              <a:solidFill>
                <a:srgbClr val="000000"/>
              </a:solidFill>
              <a:latin typeface="Arial"/>
            </a:endParaRPr>
          </a:p>
        </p:txBody>
      </p:sp>
      <p:pic>
        <p:nvPicPr>
          <p:cNvPr id="218" name="圆角矩形 21" descr=""/>
          <p:cNvPicPr/>
          <p:nvPr/>
        </p:nvPicPr>
        <p:blipFill>
          <a:blip r:embed="rId4"/>
          <a:stretch/>
        </p:blipFill>
        <p:spPr>
          <a:xfrm>
            <a:off x="1325520" y="1940040"/>
            <a:ext cx="405000" cy="479160"/>
          </a:xfrm>
          <a:prstGeom prst="rect">
            <a:avLst/>
          </a:prstGeom>
          <a:ln w="0">
            <a:noFill/>
          </a:ln>
        </p:spPr>
      </p:pic>
      <p:pic>
        <p:nvPicPr>
          <p:cNvPr id="219" name="圆角矩形 26" descr=""/>
          <p:cNvPicPr/>
          <p:nvPr/>
        </p:nvPicPr>
        <p:blipFill>
          <a:blip r:embed="rId5"/>
          <a:stretch/>
        </p:blipFill>
        <p:spPr>
          <a:xfrm>
            <a:off x="1387440" y="2989440"/>
            <a:ext cx="405000" cy="479160"/>
          </a:xfrm>
          <a:prstGeom prst="rect">
            <a:avLst/>
          </a:prstGeom>
          <a:ln w="0">
            <a:noFill/>
          </a:ln>
        </p:spPr>
      </p:pic>
      <p:pic>
        <p:nvPicPr>
          <p:cNvPr id="220" name="圆角矩形 21" descr=""/>
          <p:cNvPicPr/>
          <p:nvPr/>
        </p:nvPicPr>
        <p:blipFill>
          <a:blip r:embed="rId6"/>
          <a:stretch/>
        </p:blipFill>
        <p:spPr>
          <a:xfrm>
            <a:off x="1380960" y="4098960"/>
            <a:ext cx="405000" cy="479520"/>
          </a:xfrm>
          <a:prstGeom prst="rect">
            <a:avLst/>
          </a:prstGeom>
          <a:ln w="0">
            <a:noFill/>
          </a:ln>
        </p:spPr>
      </p:pic>
      <p:pic>
        <p:nvPicPr>
          <p:cNvPr id="221" name="Freeform 70" descr=""/>
          <p:cNvPicPr/>
          <p:nvPr/>
        </p:nvPicPr>
        <p:blipFill>
          <a:blip r:embed="rId7"/>
          <a:stretch/>
        </p:blipFill>
        <p:spPr>
          <a:xfrm>
            <a:off x="1260360" y="4829040"/>
            <a:ext cx="6632640" cy="924120"/>
          </a:xfrm>
          <a:prstGeom prst="rect">
            <a:avLst/>
          </a:prstGeom>
          <a:ln w="0">
            <a:noFill/>
          </a:ln>
        </p:spPr>
      </p:pic>
      <p:sp>
        <p:nvSpPr>
          <p:cNvPr id="222" name="Rectangle 21"/>
          <p:cNvSpPr/>
          <p:nvPr/>
        </p:nvSpPr>
        <p:spPr>
          <a:xfrm>
            <a:off x="2084400" y="5119200"/>
            <a:ext cx="585324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网络经济企业不同时期的竞争策略及价格策略</a:t>
            </a:r>
            <a:endParaRPr b="0" lang="en-US" sz="2000" spc="-1" strike="noStrike">
              <a:solidFill>
                <a:srgbClr val="000000"/>
              </a:solidFill>
              <a:latin typeface="Arial"/>
            </a:endParaRPr>
          </a:p>
        </p:txBody>
      </p:sp>
      <p:pic>
        <p:nvPicPr>
          <p:cNvPr id="223" name="圆角矩形 26" descr=""/>
          <p:cNvPicPr/>
          <p:nvPr/>
        </p:nvPicPr>
        <p:blipFill>
          <a:blip r:embed="rId8"/>
          <a:stretch/>
        </p:blipFill>
        <p:spPr>
          <a:xfrm>
            <a:off x="1384200" y="5025960"/>
            <a:ext cx="405000" cy="479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DC734-59C2-4555-9635-7E89F8248EEE}"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sp>
        <p:nvSpPr>
          <p:cNvPr id="225" name="PlaceHolder 1"/>
          <p:cNvSpPr>
            <a:spLocks noGrp="1"/>
          </p:cNvSpPr>
          <p:nvPr>
            <p:ph type="title"/>
          </p:nvPr>
        </p:nvSpPr>
        <p:spPr>
          <a:xfrm>
            <a:off x="1008000" y="728640"/>
            <a:ext cx="3014640" cy="432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504d"/>
                </a:solidFill>
                <a:latin typeface="微软雅黑"/>
                <a:ea typeface="微软雅黑"/>
              </a:rPr>
              <a:t>本章目录</a:t>
            </a:r>
            <a:br>
              <a:rPr sz="3600"/>
            </a:br>
            <a:endParaRPr b="0" lang="en-US" sz="3600" spc="-1" strike="noStrike">
              <a:solidFill>
                <a:srgbClr val="000000"/>
              </a:solidFill>
              <a:latin typeface="Calibri"/>
            </a:endParaRPr>
          </a:p>
        </p:txBody>
      </p:sp>
      <p:grpSp>
        <p:nvGrpSpPr>
          <p:cNvPr id="226" name="组合 127"/>
          <p:cNvGrpSpPr/>
          <p:nvPr/>
        </p:nvGrpSpPr>
        <p:grpSpPr>
          <a:xfrm>
            <a:off x="250920" y="324000"/>
            <a:ext cx="264960" cy="417240"/>
            <a:chOff x="250920" y="324000"/>
            <a:chExt cx="264960" cy="417240"/>
          </a:xfrm>
        </p:grpSpPr>
        <p:sp>
          <p:nvSpPr>
            <p:cNvPr id="227"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TextBox 26"/>
          <p:cNvSpPr/>
          <p:nvPr/>
        </p:nvSpPr>
        <p:spPr>
          <a:xfrm>
            <a:off x="2408400" y="2282760"/>
            <a:ext cx="3568680" cy="44280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企业组织理论</a:t>
            </a:r>
            <a:endParaRPr b="0" lang="en-US" sz="1800" spc="-1" strike="noStrike">
              <a:solidFill>
                <a:srgbClr val="000000"/>
              </a:solidFill>
              <a:latin typeface="Arial"/>
            </a:endParaRPr>
          </a:p>
        </p:txBody>
      </p:sp>
      <p:pic>
        <p:nvPicPr>
          <p:cNvPr id="231" name="椭圆 27" descr=""/>
          <p:cNvPicPr/>
          <p:nvPr/>
        </p:nvPicPr>
        <p:blipFill>
          <a:blip r:embed="rId1"/>
          <a:stretch/>
        </p:blipFill>
        <p:spPr>
          <a:xfrm>
            <a:off x="2098800" y="2036880"/>
            <a:ext cx="587160" cy="506160"/>
          </a:xfrm>
          <a:prstGeom prst="rect">
            <a:avLst/>
          </a:prstGeom>
          <a:ln w="0">
            <a:noFill/>
          </a:ln>
        </p:spPr>
      </p:pic>
      <p:sp>
        <p:nvSpPr>
          <p:cNvPr id="232" name="TextBox 50"/>
          <p:cNvSpPr/>
          <p:nvPr/>
        </p:nvSpPr>
        <p:spPr>
          <a:xfrm>
            <a:off x="2408400" y="2984400"/>
            <a:ext cx="3619440" cy="44460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进入和标准</a:t>
            </a:r>
            <a:endParaRPr b="0" lang="en-US" sz="1800" spc="-1" strike="noStrike">
              <a:solidFill>
                <a:srgbClr val="000000"/>
              </a:solidFill>
              <a:latin typeface="Arial"/>
            </a:endParaRPr>
          </a:p>
        </p:txBody>
      </p:sp>
      <p:pic>
        <p:nvPicPr>
          <p:cNvPr id="233" name="椭圆 51" descr=""/>
          <p:cNvPicPr/>
          <p:nvPr/>
        </p:nvPicPr>
        <p:blipFill>
          <a:blip r:embed="rId2"/>
          <a:stretch/>
        </p:blipFill>
        <p:spPr>
          <a:xfrm>
            <a:off x="2098800" y="2738520"/>
            <a:ext cx="587160" cy="507960"/>
          </a:xfrm>
          <a:prstGeom prst="rect">
            <a:avLst/>
          </a:prstGeom>
          <a:ln w="0">
            <a:noFill/>
          </a:ln>
        </p:spPr>
      </p:pic>
      <p:sp>
        <p:nvSpPr>
          <p:cNvPr id="234" name="TextBox 53"/>
          <p:cNvSpPr/>
          <p:nvPr/>
        </p:nvSpPr>
        <p:spPr>
          <a:xfrm>
            <a:off x="2408400" y="3633840"/>
            <a:ext cx="3619440" cy="44280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网络经济企业策略</a:t>
            </a:r>
            <a:endParaRPr b="0" lang="en-US" sz="1800" spc="-1" strike="noStrike">
              <a:solidFill>
                <a:srgbClr val="000000"/>
              </a:solidFill>
              <a:latin typeface="Arial"/>
            </a:endParaRPr>
          </a:p>
        </p:txBody>
      </p:sp>
      <p:pic>
        <p:nvPicPr>
          <p:cNvPr id="235" name="椭圆 54" descr=""/>
          <p:cNvPicPr/>
          <p:nvPr/>
        </p:nvPicPr>
        <p:blipFill>
          <a:blip r:embed="rId3"/>
          <a:stretch/>
        </p:blipFill>
        <p:spPr>
          <a:xfrm>
            <a:off x="2098800" y="3387600"/>
            <a:ext cx="587160" cy="506520"/>
          </a:xfrm>
          <a:prstGeom prst="rect">
            <a:avLst/>
          </a:prstGeom>
          <a:ln w="0">
            <a:noFill/>
          </a:ln>
        </p:spPr>
      </p:pic>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85A77-D7FE-41D9-B132-F2F3BCB20A38}"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237" name="Group 128"/>
          <p:cNvGrpSpPr/>
          <p:nvPr/>
        </p:nvGrpSpPr>
        <p:grpSpPr>
          <a:xfrm>
            <a:off x="7704000" y="2349360"/>
            <a:ext cx="648000" cy="453960"/>
            <a:chOff x="7704000" y="2349360"/>
            <a:chExt cx="648000" cy="453960"/>
          </a:xfrm>
        </p:grpSpPr>
        <p:sp>
          <p:nvSpPr>
            <p:cNvPr id="238"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组合 10"/>
          <p:cNvGrpSpPr/>
          <p:nvPr/>
        </p:nvGrpSpPr>
        <p:grpSpPr>
          <a:xfrm>
            <a:off x="1871640" y="1387440"/>
            <a:ext cx="4537080" cy="647640"/>
            <a:chOff x="1871640" y="1387440"/>
            <a:chExt cx="4537080" cy="647640"/>
          </a:xfrm>
        </p:grpSpPr>
        <p:sp>
          <p:nvSpPr>
            <p:cNvPr id="241" name="TextBox 11"/>
            <p:cNvSpPr/>
            <p:nvPr/>
          </p:nvSpPr>
          <p:spPr>
            <a:xfrm>
              <a:off x="2036520" y="138744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一般企业组织理论</a:t>
              </a:r>
              <a:endParaRPr b="0" lang="en-US" sz="1800" spc="-1" strike="noStrike">
                <a:solidFill>
                  <a:srgbClr val="000000"/>
                </a:solidFill>
                <a:latin typeface="Arial"/>
              </a:endParaRPr>
            </a:p>
          </p:txBody>
        </p:sp>
        <p:sp>
          <p:nvSpPr>
            <p:cNvPr id="242" name="直接连接符 12"/>
            <p:cNvSpPr/>
            <p:nvPr/>
          </p:nvSpPr>
          <p:spPr>
            <a:xfrm>
              <a:off x="2049120" y="17161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流程图: 联系 13"/>
            <p:cNvSpPr/>
            <p:nvPr/>
          </p:nvSpPr>
          <p:spPr>
            <a:xfrm>
              <a:off x="1871640" y="1701720"/>
              <a:ext cx="331560" cy="128520"/>
            </a:xfrm>
            <a:prstGeom prst="flowChartConnector">
              <a:avLst/>
            </a:prstGeom>
            <a:solidFill>
              <a:srgbClr val="00b0f0"/>
            </a:solidFill>
            <a:ln w="25560">
              <a:solidFill>
                <a:srgbClr val="d9d9d9"/>
              </a:solidFill>
              <a:round/>
            </a:ln>
          </p:spPr>
          <p:style>
            <a:lnRef idx="0"/>
            <a:fillRef idx="0"/>
            <a:effectRef idx="0"/>
            <a:fontRef idx="minor"/>
          </p:style>
          <p:txBody>
            <a:bodyPr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244" name="直接连接符 14"/>
            <p:cNvSpPr/>
            <p:nvPr/>
          </p:nvSpPr>
          <p:spPr>
            <a:xfrm>
              <a:off x="2060280" y="202572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5" name="组合 15"/>
          <p:cNvGrpSpPr/>
          <p:nvPr/>
        </p:nvGrpSpPr>
        <p:grpSpPr>
          <a:xfrm>
            <a:off x="1871640" y="2241720"/>
            <a:ext cx="4537080" cy="647640"/>
            <a:chOff x="1871640" y="2241720"/>
            <a:chExt cx="4537080" cy="647640"/>
          </a:xfrm>
        </p:grpSpPr>
        <p:sp>
          <p:nvSpPr>
            <p:cNvPr id="246" name="TextBox 16"/>
            <p:cNvSpPr/>
            <p:nvPr/>
          </p:nvSpPr>
          <p:spPr>
            <a:xfrm>
              <a:off x="2036520" y="224172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介于企业与市场之间的第三种组织</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虚拟企业</a:t>
              </a:r>
              <a:endParaRPr b="0" lang="en-US" sz="1800" spc="-1" strike="noStrike">
                <a:solidFill>
                  <a:srgbClr val="000000"/>
                </a:solidFill>
                <a:latin typeface="Arial"/>
              </a:endParaRPr>
            </a:p>
          </p:txBody>
        </p:sp>
        <p:sp>
          <p:nvSpPr>
            <p:cNvPr id="247" name="直接连接符 17"/>
            <p:cNvSpPr/>
            <p:nvPr/>
          </p:nvSpPr>
          <p:spPr>
            <a:xfrm>
              <a:off x="2049120" y="2570400"/>
              <a:ext cx="0" cy="318960"/>
            </a:xfrm>
            <a:prstGeom prst="line">
              <a:avLst/>
            </a:prstGeom>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流程图: 联系 18"/>
            <p:cNvSpPr/>
            <p:nvPr/>
          </p:nvSpPr>
          <p:spPr>
            <a:xfrm>
              <a:off x="1871640" y="2556000"/>
              <a:ext cx="331560" cy="126720"/>
            </a:xfrm>
            <a:prstGeom prst="flowChartConnector">
              <a:avLst/>
            </a:prstGeom>
            <a:solidFill>
              <a:srgbClr val="ffc000"/>
            </a:solidFill>
            <a:ln w="25560">
              <a:solidFill>
                <a:srgbClr val="d9d9d9"/>
              </a:solidFill>
              <a:round/>
            </a:ln>
          </p:spPr>
          <p:style>
            <a:lnRef idx="0"/>
            <a:fillRef idx="0"/>
            <a:effectRef idx="0"/>
            <a:fontRef idx="minor"/>
          </p:style>
          <p:txBody>
            <a:bodyPr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249" name="直接连接符 19"/>
            <p:cNvSpPr/>
            <p:nvPr/>
          </p:nvSpPr>
          <p:spPr>
            <a:xfrm>
              <a:off x="2060280" y="287676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0"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utoShape 78"/>
          <p:cNvSpPr/>
          <p:nvPr/>
        </p:nvSpPr>
        <p:spPr>
          <a:xfrm>
            <a:off x="900000" y="5265720"/>
            <a:ext cx="360360" cy="311040"/>
          </a:xfrm>
          <a:prstGeom prst="hexagon">
            <a:avLst>
              <a:gd name="adj" fmla="val 28964"/>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0504d"/>
                </a:solidFill>
                <a:latin typeface="微软雅黑"/>
                <a:ea typeface="微软雅黑"/>
              </a:rPr>
              <a:t>6.1</a:t>
            </a:r>
            <a:r>
              <a:rPr b="1" lang="zh-CN" sz="2900" spc="-1" strike="noStrike">
                <a:solidFill>
                  <a:srgbClr val="c0504d"/>
                </a:solidFill>
                <a:latin typeface="微软雅黑"/>
                <a:ea typeface="微软雅黑"/>
              </a:rPr>
              <a:t>企业组织理论</a:t>
            </a:r>
            <a:endParaRPr b="0" lang="en-US" sz="2900" spc="-1" strike="noStrike">
              <a:solidFill>
                <a:srgbClr val="000000"/>
              </a:solidFill>
              <a:latin typeface="Calibri"/>
            </a:endParaRPr>
          </a:p>
        </p:txBody>
      </p:sp>
      <p:grpSp>
        <p:nvGrpSpPr>
          <p:cNvPr id="254" name="组合 127"/>
          <p:cNvGrpSpPr/>
          <p:nvPr/>
        </p:nvGrpSpPr>
        <p:grpSpPr>
          <a:xfrm>
            <a:off x="250920" y="324000"/>
            <a:ext cx="264960" cy="417240"/>
            <a:chOff x="250920" y="324000"/>
            <a:chExt cx="264960" cy="417240"/>
          </a:xfrm>
        </p:grpSpPr>
        <p:sp>
          <p:nvSpPr>
            <p:cNvPr id="255"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8" name="TextBox 25"/>
          <p:cNvSpPr/>
          <p:nvPr/>
        </p:nvSpPr>
        <p:spPr>
          <a:xfrm>
            <a:off x="2036880" y="3114720"/>
            <a:ext cx="437184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网络经济下的非一体化趋势</a:t>
            </a:r>
            <a:endParaRPr b="0" lang="en-US" sz="1800" spc="-1" strike="noStrike">
              <a:solidFill>
                <a:srgbClr val="000000"/>
              </a:solidFill>
              <a:latin typeface="Arial"/>
            </a:endParaRPr>
          </a:p>
        </p:txBody>
      </p:sp>
      <p:sp>
        <p:nvSpPr>
          <p:cNvPr id="259" name="直接连接符 26"/>
          <p:cNvSpPr/>
          <p:nvPr/>
        </p:nvSpPr>
        <p:spPr>
          <a:xfrm>
            <a:off x="2049480" y="344340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流程图: 联系 27"/>
          <p:cNvSpPr/>
          <p:nvPr/>
        </p:nvSpPr>
        <p:spPr>
          <a:xfrm>
            <a:off x="1871640" y="3429000"/>
            <a:ext cx="331920" cy="128520"/>
          </a:xfrm>
          <a:prstGeom prst="flowChartConnector">
            <a:avLst/>
          </a:prstGeom>
          <a:solidFill>
            <a:srgbClr val="b3a2c7"/>
          </a:solidFill>
          <a:ln w="25560">
            <a:solidFill>
              <a:srgbClr val="d9d9d9"/>
            </a:solidFill>
            <a:round/>
          </a:ln>
        </p:spPr>
        <p:style>
          <a:lnRef idx="0"/>
          <a:fillRef idx="0"/>
          <a:effectRef idx="0"/>
          <a:fontRef idx="minor"/>
        </p:style>
        <p:txBody>
          <a:bodyPr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3</a:t>
            </a:r>
            <a:endParaRPr b="0" lang="en-US" sz="1800" spc="-1" strike="noStrike">
              <a:solidFill>
                <a:srgbClr val="000000"/>
              </a:solidFill>
              <a:latin typeface="Arial"/>
            </a:endParaRPr>
          </a:p>
        </p:txBody>
      </p:sp>
      <p:sp>
        <p:nvSpPr>
          <p:cNvPr id="261" name="直接连接符 28"/>
          <p:cNvSpPr/>
          <p:nvPr/>
        </p:nvSpPr>
        <p:spPr>
          <a:xfrm>
            <a:off x="2060640" y="375300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2" name="Group 128"/>
          <p:cNvGrpSpPr/>
          <p:nvPr/>
        </p:nvGrpSpPr>
        <p:grpSpPr>
          <a:xfrm>
            <a:off x="7704000" y="2349360"/>
            <a:ext cx="648000" cy="453960"/>
            <a:chOff x="7704000" y="2349360"/>
            <a:chExt cx="648000" cy="453960"/>
          </a:xfrm>
        </p:grpSpPr>
        <p:sp>
          <p:nvSpPr>
            <p:cNvPr id="263"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5" name="组合 10"/>
          <p:cNvGrpSpPr/>
          <p:nvPr/>
        </p:nvGrpSpPr>
        <p:grpSpPr>
          <a:xfrm>
            <a:off x="1224000" y="944640"/>
            <a:ext cx="7128000" cy="647640"/>
            <a:chOff x="1224000" y="944640"/>
            <a:chExt cx="7128000" cy="647640"/>
          </a:xfrm>
        </p:grpSpPr>
        <p:sp>
          <p:nvSpPr>
            <p:cNvPr id="266"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000000"/>
                  </a:solidFill>
                  <a:latin typeface="Arial"/>
                  <a:ea typeface="宋体"/>
                </a:rPr>
                <a:t>一般企业组织理论</a:t>
              </a:r>
              <a:endParaRPr b="0" lang="en-US" sz="1800" spc="-1" strike="noStrike">
                <a:solidFill>
                  <a:srgbClr val="000000"/>
                </a:solidFill>
                <a:latin typeface="Arial"/>
              </a:endParaRPr>
            </a:p>
          </p:txBody>
        </p:sp>
        <p:sp>
          <p:nvSpPr>
            <p:cNvPr id="267" name="直接连接符 1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269" name="直接连接符 1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0"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2" name="组合 127"/>
          <p:cNvGrpSpPr/>
          <p:nvPr/>
        </p:nvGrpSpPr>
        <p:grpSpPr>
          <a:xfrm>
            <a:off x="250920" y="324000"/>
            <a:ext cx="264960" cy="417240"/>
            <a:chOff x="250920" y="324000"/>
            <a:chExt cx="264960" cy="417240"/>
          </a:xfrm>
        </p:grpSpPr>
        <p:sp>
          <p:nvSpPr>
            <p:cNvPr id="273"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6" name="Rectangle 2"/>
          <p:cNvSpPr/>
          <p:nvPr/>
        </p:nvSpPr>
        <p:spPr>
          <a:xfrm>
            <a:off x="684360" y="1809360"/>
            <a:ext cx="7991280" cy="505440"/>
          </a:xfrm>
          <a:prstGeom prst="rect">
            <a:avLst/>
          </a:prstGeom>
          <a:solidFill>
            <a:srgbClr val="fdeada">
              <a:alpha val="41000"/>
            </a:srgbClr>
          </a:solidFill>
          <a:ln w="25560">
            <a:solidFill>
              <a:srgbClr val="4f81bd"/>
            </a:solidFill>
            <a:round/>
          </a:ln>
        </p:spPr>
        <p:style>
          <a:lnRef idx="0"/>
          <a:fillRef idx="0"/>
          <a:effectRef idx="0"/>
          <a:fontRef idx="minor"/>
        </p:style>
        <p:txBody>
          <a:bodyPr lIns="90000" rIns="90000" tIns="46800" bIns="46800" anchor="ctr">
            <a:spAutoFit/>
          </a:bodyPr>
          <a:p>
            <a:pPr>
              <a:lnSpc>
                <a:spcPct val="150000"/>
              </a:lnSpc>
              <a:spcAft>
                <a:spcPts val="22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zh-CN" sz="1800" spc="-1" strike="noStrike">
                <a:solidFill>
                  <a:srgbClr val="000000"/>
                </a:solidFill>
                <a:latin typeface="Arial"/>
              </a:rPr>
              <a:t>科斯的理论</a:t>
            </a:r>
            <a:endParaRPr b="0" lang="en-US" sz="1800" spc="-1" strike="noStrike">
              <a:solidFill>
                <a:srgbClr val="000000"/>
              </a:solidFill>
              <a:latin typeface="Arial"/>
            </a:endParaRPr>
          </a:p>
        </p:txBody>
      </p:sp>
      <p:sp>
        <p:nvSpPr>
          <p:cNvPr id="277" name="MH_SubTitle_1"/>
          <p:cNvSpPr/>
          <p:nvPr/>
        </p:nvSpPr>
        <p:spPr>
          <a:xfrm>
            <a:off x="5041800" y="2274840"/>
            <a:ext cx="5108760" cy="493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MH_Text_1"/>
          <p:cNvSpPr/>
          <p:nvPr/>
        </p:nvSpPr>
        <p:spPr>
          <a:xfrm>
            <a:off x="1116000" y="2781360"/>
            <a:ext cx="7343640" cy="1247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a:t>
            </a:r>
            <a:r>
              <a:rPr b="1" lang="zh-CN" sz="1800" spc="-1" strike="noStrike">
                <a:solidFill>
                  <a:srgbClr val="000000"/>
                </a:solidFill>
                <a:latin typeface="Arial"/>
                <a:ea typeface="宋体"/>
              </a:rPr>
              <a:t>1</a:t>
            </a:r>
            <a:r>
              <a:rPr b="1" lang="zh-CN" sz="1800" spc="-1" strike="noStrike">
                <a:solidFill>
                  <a:srgbClr val="000000"/>
                </a:solidFill>
                <a:latin typeface="Arial"/>
                <a:ea typeface="宋体"/>
              </a:rPr>
              <a:t>）企业是市场的替代物，替代的原因是因为这种制度安排下交易费用的节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a:t>
            </a:r>
            <a:r>
              <a:rPr b="1" lang="zh-CN" sz="1800" spc="-1" strike="noStrike">
                <a:solidFill>
                  <a:srgbClr val="000000"/>
                </a:solidFill>
                <a:latin typeface="Arial"/>
                <a:ea typeface="宋体"/>
              </a:rPr>
              <a:t>2</a:t>
            </a:r>
            <a:r>
              <a:rPr b="1" lang="zh-CN" sz="1800" spc="-1" strike="noStrike">
                <a:solidFill>
                  <a:srgbClr val="000000"/>
                </a:solidFill>
                <a:latin typeface="Arial"/>
                <a:ea typeface="宋体"/>
              </a:rPr>
              <a:t>）企业本身也存在交易费用，并随着企业内部交易的增加而增加。因此，企业不可能完全替代市场。</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a:t>
            </a:r>
            <a:r>
              <a:rPr b="1" lang="zh-CN" sz="1800" spc="-1" strike="noStrike">
                <a:solidFill>
                  <a:srgbClr val="000000"/>
                </a:solidFill>
                <a:latin typeface="Arial"/>
                <a:ea typeface="宋体"/>
              </a:rPr>
              <a:t>3</a:t>
            </a:r>
            <a:r>
              <a:rPr b="1" lang="zh-CN" sz="1800" spc="-1" strike="noStrike">
                <a:solidFill>
                  <a:srgbClr val="000000"/>
                </a:solidFill>
                <a:latin typeface="Arial"/>
                <a:ea typeface="宋体"/>
              </a:rPr>
              <a:t>）企业是有边界的，这个边界是企业外部交易成本与企业内部交易成本相等的状态。</a:t>
            </a:r>
            <a:endParaRPr b="0" lang="en-US" sz="1800" spc="-1" strike="noStrike">
              <a:solidFill>
                <a:srgbClr val="000000"/>
              </a:solidFill>
              <a:latin typeface="Arial"/>
            </a:endParaRPr>
          </a:p>
        </p:txBody>
      </p:sp>
      <p:sp>
        <p:nvSpPr>
          <p:cNvPr id="279" name="MH_SubTitle_2"/>
          <p:cNvSpPr/>
          <p:nvPr/>
        </p:nvSpPr>
        <p:spPr>
          <a:xfrm>
            <a:off x="5041800" y="4248000"/>
            <a:ext cx="5108760" cy="493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标题 1"/>
          <p:cNvSpPr/>
          <p:nvPr/>
        </p:nvSpPr>
        <p:spPr>
          <a:xfrm>
            <a:off x="576360" y="297000"/>
            <a:ext cx="351288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0504d"/>
                </a:solidFill>
                <a:latin typeface="微软雅黑"/>
                <a:ea typeface="微软雅黑"/>
              </a:rPr>
              <a:t>6.1</a:t>
            </a:r>
            <a:r>
              <a:rPr b="0" lang="zh-CN" sz="2900" spc="-1" strike="noStrike">
                <a:solidFill>
                  <a:srgbClr val="c0504d"/>
                </a:solidFill>
                <a:latin typeface="微软雅黑"/>
                <a:ea typeface="微软雅黑"/>
              </a:rPr>
              <a:t>企业组织理论</a:t>
            </a:r>
            <a:endParaRPr b="0" lang="en-US" sz="2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endParaRPr b="0" lang="en-US" sz="29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ACDF9-0AAF-4E32-A493-8923CB93FD03}"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284" name="Group 128"/>
          <p:cNvGrpSpPr/>
          <p:nvPr/>
        </p:nvGrpSpPr>
        <p:grpSpPr>
          <a:xfrm>
            <a:off x="7704000" y="2349360"/>
            <a:ext cx="648000" cy="453960"/>
            <a:chOff x="7704000" y="2349360"/>
            <a:chExt cx="648000" cy="453960"/>
          </a:xfrm>
        </p:grpSpPr>
        <p:sp>
          <p:nvSpPr>
            <p:cNvPr id="285"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7"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AutoShape 78"/>
          <p:cNvSpPr/>
          <p:nvPr/>
        </p:nvSpPr>
        <p:spPr>
          <a:xfrm>
            <a:off x="900000" y="5265720"/>
            <a:ext cx="360360" cy="311040"/>
          </a:xfrm>
          <a:prstGeom prst="hexagon">
            <a:avLst>
              <a:gd name="adj" fmla="val 28964"/>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0" name="组合 127"/>
          <p:cNvGrpSpPr/>
          <p:nvPr/>
        </p:nvGrpSpPr>
        <p:grpSpPr>
          <a:xfrm>
            <a:off x="250920" y="324000"/>
            <a:ext cx="264960" cy="417240"/>
            <a:chOff x="250920" y="324000"/>
            <a:chExt cx="264960" cy="417240"/>
          </a:xfrm>
        </p:grpSpPr>
        <p:sp>
          <p:nvSpPr>
            <p:cNvPr id="291"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Rectangle 2"/>
          <p:cNvSpPr/>
          <p:nvPr/>
        </p:nvSpPr>
        <p:spPr>
          <a:xfrm>
            <a:off x="792000" y="2493000"/>
            <a:ext cx="7883640" cy="2597400"/>
          </a:xfrm>
          <a:prstGeom prst="rect">
            <a:avLst/>
          </a:prstGeom>
          <a:solidFill>
            <a:srgbClr val="fdeada">
              <a:alpha val="41000"/>
            </a:srgbClr>
          </a:solidFill>
          <a:ln w="25560">
            <a:solidFill>
              <a:srgbClr val="4f81bd"/>
            </a:solidFill>
            <a:round/>
          </a:ln>
        </p:spPr>
        <p:style>
          <a:lnRef idx="0"/>
          <a:fillRef idx="0"/>
          <a:effectRef idx="0"/>
          <a:fontRef idx="minor"/>
        </p:style>
        <p:txBody>
          <a:bodyPr lIns="90000" rIns="90000" tIns="46800" bIns="46800" anchor="ctr">
            <a:spAutoFit/>
          </a:bodyPr>
          <a:p>
            <a:pPr>
              <a:lnSpc>
                <a:spcPct val="15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虚拟企业（</a:t>
            </a:r>
            <a:r>
              <a:rPr b="0" lang="zh-CN" sz="1800" spc="-1" strike="noStrike">
                <a:solidFill>
                  <a:srgbClr val="000000"/>
                </a:solidFill>
                <a:latin typeface="Arial"/>
              </a:rPr>
              <a:t>Virtual Enterprise</a:t>
            </a:r>
            <a:r>
              <a:rPr b="0" lang="zh-CN" sz="1800" spc="-1" strike="noStrike">
                <a:solidFill>
                  <a:srgbClr val="000000"/>
                </a:solidFill>
                <a:latin typeface="Arial"/>
              </a:rPr>
              <a:t>）是通过计算机网络技术，将实现某种机遇所需的若干企业资源集结而成的一种网络化动态合作经济实体。网络经济下企业组织还具有以下特点：</a:t>
            </a:r>
            <a:endParaRPr b="0" lang="en-US" sz="1800" spc="-1" strike="noStrike">
              <a:solidFill>
                <a:srgbClr val="000000"/>
              </a:solidFill>
              <a:latin typeface="Arial"/>
            </a:endParaRPr>
          </a:p>
          <a:p>
            <a:pPr>
              <a:lnSpc>
                <a:spcPct val="15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1</a:t>
            </a:r>
            <a:r>
              <a:rPr b="0" lang="zh-CN" sz="1800" spc="-1" strike="noStrike">
                <a:solidFill>
                  <a:srgbClr val="000000"/>
                </a:solidFill>
                <a:latin typeface="Arial"/>
              </a:rPr>
              <a:t>）柔性化</a:t>
            </a:r>
            <a:endParaRPr b="0" lang="en-US" sz="1800" spc="-1" strike="noStrike">
              <a:solidFill>
                <a:srgbClr val="000000"/>
              </a:solidFill>
              <a:latin typeface="Arial"/>
            </a:endParaRPr>
          </a:p>
          <a:p>
            <a:pPr>
              <a:lnSpc>
                <a:spcPct val="15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2</a:t>
            </a:r>
            <a:r>
              <a:rPr b="0" lang="zh-CN" sz="1800" spc="-1" strike="noStrike">
                <a:solidFill>
                  <a:srgbClr val="000000"/>
                </a:solidFill>
                <a:latin typeface="Arial"/>
              </a:rPr>
              <a:t>）扁平化</a:t>
            </a:r>
            <a:endParaRPr b="0" lang="en-US" sz="1800" spc="-1" strike="noStrike">
              <a:solidFill>
                <a:srgbClr val="000000"/>
              </a:solidFill>
              <a:latin typeface="Arial"/>
            </a:endParaRPr>
          </a:p>
          <a:p>
            <a:pPr>
              <a:lnSpc>
                <a:spcPct val="15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3</a:t>
            </a:r>
            <a:r>
              <a:rPr b="0" lang="zh-CN" sz="1800" spc="-1" strike="noStrike">
                <a:solidFill>
                  <a:srgbClr val="000000"/>
                </a:solidFill>
                <a:latin typeface="Arial"/>
              </a:rPr>
              <a:t>）虚拟化</a:t>
            </a:r>
            <a:endParaRPr b="0" lang="en-US" sz="1800" spc="-1" strike="noStrike">
              <a:solidFill>
                <a:srgbClr val="000000"/>
              </a:solidFill>
              <a:latin typeface="Arial"/>
            </a:endParaRPr>
          </a:p>
        </p:txBody>
      </p:sp>
      <p:grpSp>
        <p:nvGrpSpPr>
          <p:cNvPr id="295" name="组合 10"/>
          <p:cNvGrpSpPr/>
          <p:nvPr/>
        </p:nvGrpSpPr>
        <p:grpSpPr>
          <a:xfrm>
            <a:off x="1224000" y="944640"/>
            <a:ext cx="7128000" cy="647640"/>
            <a:chOff x="1224000" y="944640"/>
            <a:chExt cx="7128000" cy="647640"/>
          </a:xfrm>
        </p:grpSpPr>
        <p:sp>
          <p:nvSpPr>
            <p:cNvPr id="296"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介于企业与市场之间的第三种组织——虚拟企业</a:t>
              </a:r>
              <a:r>
                <a:rPr b="0" lang="zh-CN" sz="1800" spc="-1" strike="noStrike">
                  <a:solidFill>
                    <a:srgbClr val="ffffff"/>
                  </a:solidFill>
                  <a:latin typeface="Arial"/>
                  <a:ea typeface="宋体"/>
                </a:rPr>
                <a:t>	</a:t>
              </a:r>
              <a:endParaRPr b="0" lang="en-US" sz="1800" spc="-1" strike="noStrike">
                <a:solidFill>
                  <a:srgbClr val="000000"/>
                </a:solidFill>
                <a:latin typeface="Arial"/>
              </a:endParaRPr>
            </a:p>
          </p:txBody>
        </p:sp>
        <p:sp>
          <p:nvSpPr>
            <p:cNvPr id="297" name="直接连接符 23"/>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299" name="直接连接符 25"/>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0" name="标题 1"/>
          <p:cNvSpPr/>
          <p:nvPr/>
        </p:nvSpPr>
        <p:spPr>
          <a:xfrm>
            <a:off x="576360" y="297000"/>
            <a:ext cx="351288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0504d"/>
                </a:solidFill>
                <a:latin typeface="微软雅黑"/>
                <a:ea typeface="微软雅黑"/>
              </a:rPr>
              <a:t>6.1</a:t>
            </a:r>
            <a:r>
              <a:rPr b="0" lang="zh-CN" sz="2900" spc="-1" strike="noStrike">
                <a:solidFill>
                  <a:srgbClr val="c0504d"/>
                </a:solidFill>
                <a:latin typeface="微软雅黑"/>
                <a:ea typeface="微软雅黑"/>
              </a:rPr>
              <a:t>企业组织理论</a:t>
            </a:r>
            <a:endParaRPr b="0" lang="en-US" sz="2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D2FB0-ED62-43D4-A416-352207BF6C08}"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302" name="Group 128"/>
          <p:cNvGrpSpPr/>
          <p:nvPr/>
        </p:nvGrpSpPr>
        <p:grpSpPr>
          <a:xfrm>
            <a:off x="7704000" y="2349360"/>
            <a:ext cx="648000" cy="210960"/>
            <a:chOff x="7704000" y="2349360"/>
            <a:chExt cx="648000" cy="210960"/>
          </a:xfrm>
        </p:grpSpPr>
        <p:sp>
          <p:nvSpPr>
            <p:cNvPr id="303" name="AutoShape 129"/>
            <p:cNvSpPr/>
            <p:nvPr/>
          </p:nvSpPr>
          <p:spPr>
            <a:xfrm>
              <a:off x="7991640" y="2415600"/>
              <a:ext cx="360360" cy="144720"/>
            </a:xfrm>
            <a:prstGeom prst="hexagon">
              <a:avLst>
                <a:gd name="adj" fmla="val 62251"/>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4640" bIns="44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AutoShape 130"/>
            <p:cNvSpPr/>
            <p:nvPr/>
          </p:nvSpPr>
          <p:spPr>
            <a:xfrm>
              <a:off x="7704000" y="2349360"/>
              <a:ext cx="360360" cy="144720"/>
            </a:xfrm>
            <a:prstGeom prst="hexagon">
              <a:avLst>
                <a:gd name="adj" fmla="val 62251"/>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4640" bIns="44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5" name="AutoShape 26"/>
          <p:cNvSpPr/>
          <p:nvPr/>
        </p:nvSpPr>
        <p:spPr>
          <a:xfrm>
            <a:off x="1224000" y="4076640"/>
            <a:ext cx="360360" cy="144360"/>
          </a:xfrm>
          <a:prstGeom prst="hexagon">
            <a:avLst>
              <a:gd name="adj" fmla="val 28973"/>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8" name="组合 127"/>
          <p:cNvGrpSpPr/>
          <p:nvPr/>
        </p:nvGrpSpPr>
        <p:grpSpPr>
          <a:xfrm>
            <a:off x="250920" y="324000"/>
            <a:ext cx="264960" cy="417240"/>
            <a:chOff x="250920" y="324000"/>
            <a:chExt cx="264960" cy="417240"/>
          </a:xfrm>
        </p:grpSpPr>
        <p:sp>
          <p:nvSpPr>
            <p:cNvPr id="309"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2" name="组合 10"/>
          <p:cNvGrpSpPr/>
          <p:nvPr/>
        </p:nvGrpSpPr>
        <p:grpSpPr>
          <a:xfrm>
            <a:off x="1224000" y="944640"/>
            <a:ext cx="7128000" cy="647640"/>
            <a:chOff x="1224000" y="944640"/>
            <a:chExt cx="7128000" cy="647640"/>
          </a:xfrm>
        </p:grpSpPr>
        <p:sp>
          <p:nvSpPr>
            <p:cNvPr id="313"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网络经济下的非一体化趋势</a:t>
              </a:r>
              <a:endParaRPr b="0" lang="en-US" sz="1800" spc="-1" strike="noStrike">
                <a:solidFill>
                  <a:srgbClr val="000000"/>
                </a:solidFill>
                <a:latin typeface="Arial"/>
              </a:endParaRPr>
            </a:p>
          </p:txBody>
        </p:sp>
        <p:sp>
          <p:nvSpPr>
            <p:cNvPr id="314" name="直接连接符 3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3</a:t>
              </a:r>
              <a:endParaRPr b="0" lang="en-US" sz="1800" spc="-1" strike="noStrike">
                <a:solidFill>
                  <a:srgbClr val="000000"/>
                </a:solidFill>
                <a:latin typeface="Arial"/>
              </a:endParaRPr>
            </a:p>
          </p:txBody>
        </p:sp>
        <p:sp>
          <p:nvSpPr>
            <p:cNvPr id="316" name="直接连接符 3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7"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标题 1"/>
          <p:cNvSpPr/>
          <p:nvPr/>
        </p:nvSpPr>
        <p:spPr>
          <a:xfrm>
            <a:off x="576360" y="297000"/>
            <a:ext cx="351288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0504d"/>
                </a:solidFill>
                <a:latin typeface="微软雅黑"/>
                <a:ea typeface="微软雅黑"/>
              </a:rPr>
              <a:t>6.1</a:t>
            </a:r>
            <a:r>
              <a:rPr b="0" lang="zh-CN" sz="2900" spc="-1" strike="noStrike">
                <a:solidFill>
                  <a:srgbClr val="c0504d"/>
                </a:solidFill>
                <a:latin typeface="微软雅黑"/>
                <a:ea typeface="微软雅黑"/>
              </a:rPr>
              <a:t>企业组织理论</a:t>
            </a:r>
            <a:endParaRPr b="0" lang="en-US" sz="2900" spc="-1" strike="noStrike">
              <a:solidFill>
                <a:srgbClr val="000000"/>
              </a:solidFill>
              <a:latin typeface="Arial"/>
            </a:endParaRPr>
          </a:p>
        </p:txBody>
      </p:sp>
      <p:sp>
        <p:nvSpPr>
          <p:cNvPr id="319" name="文本框 99"/>
          <p:cNvSpPr/>
          <p:nvPr/>
        </p:nvSpPr>
        <p:spPr>
          <a:xfrm>
            <a:off x="515880" y="2494080"/>
            <a:ext cx="7828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宋体"/>
                <a:ea typeface="华文宋体"/>
              </a:rPr>
              <a:t>1</a:t>
            </a:r>
            <a:r>
              <a:rPr b="0" lang="zh-CN" sz="1800" spc="-1" strike="noStrike">
                <a:solidFill>
                  <a:srgbClr val="000000"/>
                </a:solidFill>
                <a:latin typeface="华文宋体"/>
                <a:ea typeface="华文宋体"/>
              </a:rPr>
              <a:t>、定义：一体化是将原来分属于不同企业的生产环节和过程合并到一个企业或企业集团，而非一体化则是将某些环节和过程从企业或企业集团中分离出来，由外部的其他企业来承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宋体"/>
                <a:ea typeface="华文宋体"/>
              </a:rPr>
              <a:t>2</a:t>
            </a:r>
            <a:r>
              <a:rPr b="0" lang="zh-CN" sz="1800" spc="-1" strike="noStrike">
                <a:solidFill>
                  <a:srgbClr val="000000"/>
                </a:solidFill>
                <a:latin typeface="华文宋体"/>
                <a:ea typeface="华文宋体"/>
              </a:rPr>
              <a:t>、优势：超分工化、超组织管理、超规模经营、超资源配置。</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宋体"/>
                <a:ea typeface="华文宋体"/>
              </a:rPr>
              <a:t>3</a:t>
            </a:r>
            <a:r>
              <a:rPr b="0" lang="zh-CN" sz="1800" spc="-1" strike="noStrike">
                <a:solidFill>
                  <a:srgbClr val="000000"/>
                </a:solidFill>
                <a:latin typeface="华文宋体"/>
                <a:ea typeface="华文宋体"/>
              </a:rPr>
              <a:t>、条件：非一体化的交易成本应小于一体化的交易成本，企业组织形式才更适用于非一体化</a:t>
            </a:r>
            <a:endParaRPr b="0" lang="en-US" sz="18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0FA8E-68DA-40E8-83C4-628808B19C32}"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321" name="Group 128"/>
          <p:cNvGrpSpPr/>
          <p:nvPr/>
        </p:nvGrpSpPr>
        <p:grpSpPr>
          <a:xfrm>
            <a:off x="7704000" y="2349360"/>
            <a:ext cx="648000" cy="453960"/>
            <a:chOff x="7704000" y="2349360"/>
            <a:chExt cx="648000" cy="453960"/>
          </a:xfrm>
        </p:grpSpPr>
        <p:sp>
          <p:nvSpPr>
            <p:cNvPr id="322"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4" name="组合 10"/>
          <p:cNvGrpSpPr/>
          <p:nvPr/>
        </p:nvGrpSpPr>
        <p:grpSpPr>
          <a:xfrm>
            <a:off x="1871640" y="1386000"/>
            <a:ext cx="4549680" cy="649080"/>
            <a:chOff x="1871640" y="1386000"/>
            <a:chExt cx="4549680" cy="649080"/>
          </a:xfrm>
        </p:grpSpPr>
        <p:sp>
          <p:nvSpPr>
            <p:cNvPr id="325" name="TextBox 11"/>
            <p:cNvSpPr/>
            <p:nvPr/>
          </p:nvSpPr>
          <p:spPr>
            <a:xfrm>
              <a:off x="2049840" y="1386000"/>
              <a:ext cx="4371480" cy="63936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进入壁垒</a:t>
              </a:r>
              <a:endParaRPr b="0" lang="en-US" sz="1800" spc="-1" strike="noStrike">
                <a:solidFill>
                  <a:srgbClr val="000000"/>
                </a:solidFill>
                <a:latin typeface="Arial"/>
              </a:endParaRPr>
            </a:p>
          </p:txBody>
        </p:sp>
        <p:sp>
          <p:nvSpPr>
            <p:cNvPr id="326" name="直接连接符 12"/>
            <p:cNvSpPr/>
            <p:nvPr/>
          </p:nvSpPr>
          <p:spPr>
            <a:xfrm>
              <a:off x="2049120" y="17161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流程图: 联系 13"/>
            <p:cNvSpPr/>
            <p:nvPr/>
          </p:nvSpPr>
          <p:spPr>
            <a:xfrm>
              <a:off x="1871640" y="1702080"/>
              <a:ext cx="331560" cy="128520"/>
            </a:xfrm>
            <a:prstGeom prst="flowChartConnector">
              <a:avLst/>
            </a:prstGeom>
            <a:solidFill>
              <a:srgbClr val="00b0f0"/>
            </a:solidFill>
            <a:ln w="25560">
              <a:solidFill>
                <a:srgbClr val="d9d9d9"/>
              </a:solidFill>
              <a:round/>
            </a:ln>
          </p:spPr>
          <p:style>
            <a:lnRef idx="0"/>
            <a:fillRef idx="0"/>
            <a:effectRef idx="0"/>
            <a:fontRef idx="minor"/>
          </p:style>
          <p:txBody>
            <a:bodyPr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328" name="直接连接符 14"/>
            <p:cNvSpPr/>
            <p:nvPr/>
          </p:nvSpPr>
          <p:spPr>
            <a:xfrm>
              <a:off x="2060280" y="2025720"/>
              <a:ext cx="63144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9" name="组合 15"/>
          <p:cNvGrpSpPr/>
          <p:nvPr/>
        </p:nvGrpSpPr>
        <p:grpSpPr>
          <a:xfrm>
            <a:off x="1871640" y="2241720"/>
            <a:ext cx="4537080" cy="647640"/>
            <a:chOff x="1871640" y="2241720"/>
            <a:chExt cx="4537080" cy="647640"/>
          </a:xfrm>
        </p:grpSpPr>
        <p:sp>
          <p:nvSpPr>
            <p:cNvPr id="330" name="TextBox 16"/>
            <p:cNvSpPr/>
            <p:nvPr/>
          </p:nvSpPr>
          <p:spPr>
            <a:xfrm>
              <a:off x="2036520" y="224172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标准竞争</a:t>
              </a:r>
              <a:endParaRPr b="0" lang="en-US" sz="1800" spc="-1" strike="noStrike">
                <a:solidFill>
                  <a:srgbClr val="000000"/>
                </a:solidFill>
                <a:latin typeface="Arial"/>
              </a:endParaRPr>
            </a:p>
          </p:txBody>
        </p:sp>
        <p:sp>
          <p:nvSpPr>
            <p:cNvPr id="331" name="直接连接符 17"/>
            <p:cNvSpPr/>
            <p:nvPr/>
          </p:nvSpPr>
          <p:spPr>
            <a:xfrm>
              <a:off x="2049120" y="2570400"/>
              <a:ext cx="0" cy="318960"/>
            </a:xfrm>
            <a:prstGeom prst="line">
              <a:avLst/>
            </a:prstGeom>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流程图: 联系 18"/>
            <p:cNvSpPr/>
            <p:nvPr/>
          </p:nvSpPr>
          <p:spPr>
            <a:xfrm>
              <a:off x="1871640" y="2556000"/>
              <a:ext cx="331560" cy="126720"/>
            </a:xfrm>
            <a:prstGeom prst="flowChartConnector">
              <a:avLst/>
            </a:prstGeom>
            <a:solidFill>
              <a:srgbClr val="ffc000"/>
            </a:solidFill>
            <a:ln w="25560">
              <a:solidFill>
                <a:srgbClr val="d9d9d9"/>
              </a:solidFill>
              <a:round/>
            </a:ln>
          </p:spPr>
          <p:style>
            <a:lnRef idx="0"/>
            <a:fillRef idx="0"/>
            <a:effectRef idx="0"/>
            <a:fontRef idx="minor"/>
          </p:style>
          <p:txBody>
            <a:bodyPr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333" name="直接连接符 19"/>
            <p:cNvSpPr/>
            <p:nvPr/>
          </p:nvSpPr>
          <p:spPr>
            <a:xfrm>
              <a:off x="2060280" y="287676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4"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AutoShape 78"/>
          <p:cNvSpPr/>
          <p:nvPr/>
        </p:nvSpPr>
        <p:spPr>
          <a:xfrm>
            <a:off x="900000" y="5265720"/>
            <a:ext cx="360360" cy="311040"/>
          </a:xfrm>
          <a:prstGeom prst="hexagon">
            <a:avLst>
              <a:gd name="adj" fmla="val 28964"/>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1"/>
          <p:cNvSpPr>
            <a:spLocks noGrp="1"/>
          </p:cNvSpPr>
          <p:nvPr>
            <p:ph type="title"/>
          </p:nvPr>
        </p:nvSpPr>
        <p:spPr>
          <a:xfrm>
            <a:off x="576360" y="296640"/>
            <a:ext cx="540072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6.2</a:t>
            </a:r>
            <a:r>
              <a:rPr b="1" lang="zh-CN" sz="3200" spc="-1" strike="noStrike">
                <a:solidFill>
                  <a:srgbClr val="c0504d"/>
                </a:solidFill>
                <a:latin typeface="微软雅黑"/>
                <a:ea typeface="微软雅黑"/>
              </a:rPr>
              <a:t>进入和标准</a:t>
            </a:r>
            <a:endParaRPr b="0" lang="en-US" sz="3200" spc="-1" strike="noStrike">
              <a:solidFill>
                <a:srgbClr val="000000"/>
              </a:solidFill>
              <a:latin typeface="Calibri"/>
            </a:endParaRPr>
          </a:p>
        </p:txBody>
      </p:sp>
      <p:grpSp>
        <p:nvGrpSpPr>
          <p:cNvPr id="337" name="组合 127"/>
          <p:cNvGrpSpPr/>
          <p:nvPr/>
        </p:nvGrpSpPr>
        <p:grpSpPr>
          <a:xfrm>
            <a:off x="250920" y="324000"/>
            <a:ext cx="264960" cy="417240"/>
            <a:chOff x="250920" y="324000"/>
            <a:chExt cx="264960" cy="417240"/>
          </a:xfrm>
        </p:grpSpPr>
        <p:sp>
          <p:nvSpPr>
            <p:cNvPr id="338"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F8B1B-EC59-493F-B911-E92A650C4254}"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342" name="Group 128"/>
          <p:cNvGrpSpPr/>
          <p:nvPr/>
        </p:nvGrpSpPr>
        <p:grpSpPr>
          <a:xfrm>
            <a:off x="6762600" y="2451240"/>
            <a:ext cx="648000" cy="453960"/>
            <a:chOff x="6762600" y="2451240"/>
            <a:chExt cx="648000" cy="453960"/>
          </a:xfrm>
        </p:grpSpPr>
        <p:sp>
          <p:nvSpPr>
            <p:cNvPr id="343" name="AutoShape 129"/>
            <p:cNvSpPr/>
            <p:nvPr/>
          </p:nvSpPr>
          <p:spPr>
            <a:xfrm>
              <a:off x="7050240" y="259416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AutoShape 130"/>
            <p:cNvSpPr/>
            <p:nvPr/>
          </p:nvSpPr>
          <p:spPr>
            <a:xfrm>
              <a:off x="6762600" y="245124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5" name="AutoShape 26"/>
          <p:cNvSpPr/>
          <p:nvPr/>
        </p:nvSpPr>
        <p:spPr>
          <a:xfrm>
            <a:off x="79056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AutoShape 78"/>
          <p:cNvSpPr/>
          <p:nvPr/>
        </p:nvSpPr>
        <p:spPr>
          <a:xfrm>
            <a:off x="46656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8" name="组合 127"/>
          <p:cNvGrpSpPr/>
          <p:nvPr/>
        </p:nvGrpSpPr>
        <p:grpSpPr>
          <a:xfrm>
            <a:off x="250920" y="324000"/>
            <a:ext cx="264960" cy="417240"/>
            <a:chOff x="250920" y="324000"/>
            <a:chExt cx="264960" cy="417240"/>
          </a:xfrm>
        </p:grpSpPr>
        <p:sp>
          <p:nvSpPr>
            <p:cNvPr id="349"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组合 10"/>
          <p:cNvGrpSpPr/>
          <p:nvPr/>
        </p:nvGrpSpPr>
        <p:grpSpPr>
          <a:xfrm>
            <a:off x="1224000" y="944640"/>
            <a:ext cx="7128000" cy="647640"/>
            <a:chOff x="1224000" y="944640"/>
            <a:chExt cx="7128000" cy="647640"/>
          </a:xfrm>
        </p:grpSpPr>
        <p:sp>
          <p:nvSpPr>
            <p:cNvPr id="353"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进入壁垒</a:t>
              </a:r>
              <a:endParaRPr b="0" lang="en-US" sz="1800" spc="-1" strike="noStrike">
                <a:solidFill>
                  <a:srgbClr val="000000"/>
                </a:solidFill>
                <a:latin typeface="Arial"/>
              </a:endParaRPr>
            </a:p>
          </p:txBody>
        </p:sp>
        <p:sp>
          <p:nvSpPr>
            <p:cNvPr id="354" name="直接连接符 3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356" name="直接连接符 3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9"/>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21"/>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MH_Other_1"/>
          <p:cNvSpPr/>
          <p:nvPr/>
        </p:nvSpPr>
        <p:spPr>
          <a:xfrm>
            <a:off x="1852560" y="2448000"/>
            <a:ext cx="2319480" cy="2219400"/>
          </a:xfrm>
          <a:custGeom>
            <a:avLst/>
            <a:gdLst/>
            <a:ahLst/>
            <a:rect l="l" t="t" r="r" b="b"/>
            <a:pathLst>
              <a:path w="1844621" h="1765598">
                <a:moveTo>
                  <a:pt x="961691" y="1643760"/>
                </a:moveTo>
                <a:lnTo>
                  <a:pt x="964657" y="1718060"/>
                </a:lnTo>
                <a:lnTo>
                  <a:pt x="948083" y="1717184"/>
                </a:lnTo>
                <a:lnTo>
                  <a:pt x="946614" y="1717353"/>
                </a:lnTo>
                <a:lnTo>
                  <a:pt x="943691" y="1644103"/>
                </a:lnTo>
                <a:close/>
                <a:moveTo>
                  <a:pt x="875350" y="1643169"/>
                </a:moveTo>
                <a:lnTo>
                  <a:pt x="893299" y="1644629"/>
                </a:lnTo>
                <a:lnTo>
                  <a:pt x="889341" y="1723945"/>
                </a:lnTo>
                <a:lnTo>
                  <a:pt x="871214" y="1726031"/>
                </a:lnTo>
                <a:close/>
                <a:moveTo>
                  <a:pt x="1029699" y="1636826"/>
                </a:moveTo>
                <a:lnTo>
                  <a:pt x="1040815" y="1722087"/>
                </a:lnTo>
                <a:lnTo>
                  <a:pt x="1022537" y="1721121"/>
                </a:lnTo>
                <a:lnTo>
                  <a:pt x="1011828" y="1638982"/>
                </a:lnTo>
                <a:close/>
                <a:moveTo>
                  <a:pt x="807350" y="1636115"/>
                </a:moveTo>
                <a:lnTo>
                  <a:pt x="822430" y="1638864"/>
                </a:lnTo>
                <a:lnTo>
                  <a:pt x="825110" y="1639083"/>
                </a:lnTo>
                <a:lnTo>
                  <a:pt x="811751" y="1734136"/>
                </a:lnTo>
                <a:lnTo>
                  <a:pt x="792774" y="1739833"/>
                </a:lnTo>
                <a:close/>
                <a:moveTo>
                  <a:pt x="1096827" y="1624033"/>
                </a:moveTo>
                <a:lnTo>
                  <a:pt x="1121385" y="1734155"/>
                </a:lnTo>
                <a:lnTo>
                  <a:pt x="1101928" y="1729603"/>
                </a:lnTo>
                <a:lnTo>
                  <a:pt x="1079265" y="1627978"/>
                </a:lnTo>
                <a:close/>
                <a:moveTo>
                  <a:pt x="740342" y="1622534"/>
                </a:moveTo>
                <a:lnTo>
                  <a:pt x="749046" y="1625484"/>
                </a:lnTo>
                <a:lnTo>
                  <a:pt x="757767" y="1627074"/>
                </a:lnTo>
                <a:lnTo>
                  <a:pt x="726815" y="1759631"/>
                </a:lnTo>
                <a:lnTo>
                  <a:pt x="706937" y="1765598"/>
                </a:lnTo>
                <a:close/>
                <a:moveTo>
                  <a:pt x="1162592" y="1605474"/>
                </a:moveTo>
                <a:lnTo>
                  <a:pt x="1211506" y="1758609"/>
                </a:lnTo>
                <a:lnTo>
                  <a:pt x="1193512" y="1751032"/>
                </a:lnTo>
                <a:lnTo>
                  <a:pt x="1189921" y="1750192"/>
                </a:lnTo>
                <a:lnTo>
                  <a:pt x="1145515" y="1611170"/>
                </a:lnTo>
                <a:close/>
                <a:moveTo>
                  <a:pt x="675637" y="1600604"/>
                </a:moveTo>
                <a:lnTo>
                  <a:pt x="692686" y="1606382"/>
                </a:lnTo>
                <a:lnTo>
                  <a:pt x="641486" y="1761326"/>
                </a:lnTo>
                <a:lnTo>
                  <a:pt x="631383" y="1744623"/>
                </a:lnTo>
                <a:lnTo>
                  <a:pt x="628970" y="1741831"/>
                </a:lnTo>
                <a:close/>
                <a:moveTo>
                  <a:pt x="1225916" y="1579868"/>
                </a:moveTo>
                <a:lnTo>
                  <a:pt x="1279540" y="1707080"/>
                </a:lnTo>
                <a:lnTo>
                  <a:pt x="1266966" y="1723591"/>
                </a:lnTo>
                <a:lnTo>
                  <a:pt x="1209837" y="1588066"/>
                </a:lnTo>
                <a:close/>
                <a:moveTo>
                  <a:pt x="610954" y="1578681"/>
                </a:moveTo>
                <a:lnTo>
                  <a:pt x="628059" y="1584478"/>
                </a:lnTo>
                <a:lnTo>
                  <a:pt x="582951" y="1688574"/>
                </a:lnTo>
                <a:lnTo>
                  <a:pt x="569886" y="1673454"/>
                </a:lnTo>
                <a:close/>
                <a:moveTo>
                  <a:pt x="1286670" y="1548893"/>
                </a:moveTo>
                <a:lnTo>
                  <a:pt x="1333269" y="1636531"/>
                </a:lnTo>
                <a:lnTo>
                  <a:pt x="1321264" y="1652294"/>
                </a:lnTo>
                <a:lnTo>
                  <a:pt x="1270632" y="1557070"/>
                </a:lnTo>
                <a:close/>
                <a:moveTo>
                  <a:pt x="551444" y="1545001"/>
                </a:moveTo>
                <a:lnTo>
                  <a:pt x="567074" y="1553937"/>
                </a:lnTo>
                <a:lnTo>
                  <a:pt x="524862" y="1631452"/>
                </a:lnTo>
                <a:lnTo>
                  <a:pt x="510642" y="1619926"/>
                </a:lnTo>
                <a:close/>
                <a:moveTo>
                  <a:pt x="1346034" y="1515267"/>
                </a:moveTo>
                <a:lnTo>
                  <a:pt x="1390051" y="1582679"/>
                </a:lnTo>
                <a:lnTo>
                  <a:pt x="1376613" y="1595021"/>
                </a:lnTo>
                <a:lnTo>
                  <a:pt x="1331552" y="1526010"/>
                </a:lnTo>
                <a:lnTo>
                  <a:pt x="1333983" y="1524770"/>
                </a:lnTo>
                <a:close/>
                <a:moveTo>
                  <a:pt x="492213" y="1511140"/>
                </a:moveTo>
                <a:lnTo>
                  <a:pt x="507877" y="1520095"/>
                </a:lnTo>
                <a:lnTo>
                  <a:pt x="465615" y="1583429"/>
                </a:lnTo>
                <a:lnTo>
                  <a:pt x="452723" y="1572979"/>
                </a:lnTo>
                <a:lnTo>
                  <a:pt x="451434" y="1572252"/>
                </a:lnTo>
                <a:close/>
                <a:moveTo>
                  <a:pt x="1399641" y="1472989"/>
                </a:moveTo>
                <a:lnTo>
                  <a:pt x="1447523" y="1533649"/>
                </a:lnTo>
                <a:lnTo>
                  <a:pt x="1433600" y="1542681"/>
                </a:lnTo>
                <a:lnTo>
                  <a:pt x="1432510" y="1543682"/>
                </a:lnTo>
                <a:lnTo>
                  <a:pt x="1385507" y="1484135"/>
                </a:lnTo>
                <a:close/>
                <a:moveTo>
                  <a:pt x="439084" y="1468240"/>
                </a:moveTo>
                <a:lnTo>
                  <a:pt x="452737" y="1479985"/>
                </a:lnTo>
                <a:lnTo>
                  <a:pt x="401226" y="1543921"/>
                </a:lnTo>
                <a:lnTo>
                  <a:pt x="385335" y="1534955"/>
                </a:lnTo>
                <a:close/>
                <a:moveTo>
                  <a:pt x="1452700" y="1430017"/>
                </a:moveTo>
                <a:lnTo>
                  <a:pt x="1511505" y="1492141"/>
                </a:lnTo>
                <a:lnTo>
                  <a:pt x="1496150" y="1502102"/>
                </a:lnTo>
                <a:lnTo>
                  <a:pt x="1439119" y="1441854"/>
                </a:lnTo>
                <a:lnTo>
                  <a:pt x="1449687" y="1433519"/>
                </a:lnTo>
                <a:close/>
                <a:moveTo>
                  <a:pt x="387391" y="1423768"/>
                </a:moveTo>
                <a:lnTo>
                  <a:pt x="401059" y="1435526"/>
                </a:lnTo>
                <a:lnTo>
                  <a:pt x="332463" y="1506560"/>
                </a:lnTo>
                <a:lnTo>
                  <a:pt x="313761" y="1500014"/>
                </a:lnTo>
                <a:close/>
                <a:moveTo>
                  <a:pt x="1497274" y="1378205"/>
                </a:moveTo>
                <a:lnTo>
                  <a:pt x="1583781" y="1454547"/>
                </a:lnTo>
                <a:lnTo>
                  <a:pt x="1565364" y="1462300"/>
                </a:lnTo>
                <a:lnTo>
                  <a:pt x="1485535" y="1391850"/>
                </a:lnTo>
                <a:close/>
                <a:moveTo>
                  <a:pt x="342078" y="1372754"/>
                </a:moveTo>
                <a:lnTo>
                  <a:pt x="353236" y="1386902"/>
                </a:lnTo>
                <a:lnTo>
                  <a:pt x="248764" y="1477262"/>
                </a:lnTo>
                <a:lnTo>
                  <a:pt x="229175" y="1470405"/>
                </a:lnTo>
                <a:close/>
                <a:moveTo>
                  <a:pt x="1541797" y="1326453"/>
                </a:moveTo>
                <a:lnTo>
                  <a:pt x="1671063" y="1421359"/>
                </a:lnTo>
                <a:lnTo>
                  <a:pt x="1652052" y="1425806"/>
                </a:lnTo>
                <a:lnTo>
                  <a:pt x="1648653" y="1427237"/>
                </a:lnTo>
                <a:lnTo>
                  <a:pt x="1530022" y="1340139"/>
                </a:lnTo>
                <a:close/>
                <a:moveTo>
                  <a:pt x="299862" y="1319225"/>
                </a:moveTo>
                <a:lnTo>
                  <a:pt x="311019" y="1333372"/>
                </a:lnTo>
                <a:lnTo>
                  <a:pt x="178732" y="1428480"/>
                </a:lnTo>
                <a:lnTo>
                  <a:pt x="180377" y="1409027"/>
                </a:lnTo>
                <a:lnTo>
                  <a:pt x="180067" y="1405352"/>
                </a:lnTo>
                <a:close/>
                <a:moveTo>
                  <a:pt x="1576542" y="1267609"/>
                </a:moveTo>
                <a:lnTo>
                  <a:pt x="1695816" y="1339681"/>
                </a:lnTo>
                <a:lnTo>
                  <a:pt x="1695348" y="1360430"/>
                </a:lnTo>
                <a:lnTo>
                  <a:pt x="1567606" y="1283241"/>
                </a:lnTo>
                <a:close/>
                <a:moveTo>
                  <a:pt x="263531" y="1261503"/>
                </a:moveTo>
                <a:lnTo>
                  <a:pt x="271723" y="1277570"/>
                </a:lnTo>
                <a:lnTo>
                  <a:pt x="174140" y="1335215"/>
                </a:lnTo>
                <a:lnTo>
                  <a:pt x="172457" y="1315303"/>
                </a:lnTo>
                <a:close/>
                <a:moveTo>
                  <a:pt x="1610398" y="1208387"/>
                </a:moveTo>
                <a:lnTo>
                  <a:pt x="1697816" y="1251024"/>
                </a:lnTo>
                <a:lnTo>
                  <a:pt x="1697369" y="1270832"/>
                </a:lnTo>
                <a:lnTo>
                  <a:pt x="1601446" y="1224047"/>
                </a:lnTo>
                <a:close/>
                <a:moveTo>
                  <a:pt x="232566" y="1200770"/>
                </a:moveTo>
                <a:lnTo>
                  <a:pt x="240745" y="1216812"/>
                </a:lnTo>
                <a:lnTo>
                  <a:pt x="160720" y="1254859"/>
                </a:lnTo>
                <a:lnTo>
                  <a:pt x="155991" y="1237178"/>
                </a:lnTo>
                <a:close/>
                <a:moveTo>
                  <a:pt x="1634958" y="1144690"/>
                </a:moveTo>
                <a:lnTo>
                  <a:pt x="1712099" y="1174082"/>
                </a:lnTo>
                <a:lnTo>
                  <a:pt x="1708482" y="1191966"/>
                </a:lnTo>
                <a:lnTo>
                  <a:pt x="1629176" y="1161750"/>
                </a:lnTo>
                <a:close/>
                <a:moveTo>
                  <a:pt x="204756" y="1138431"/>
                </a:moveTo>
                <a:lnTo>
                  <a:pt x="210455" y="1155515"/>
                </a:lnTo>
                <a:lnTo>
                  <a:pt x="141015" y="1181182"/>
                </a:lnTo>
                <a:lnTo>
                  <a:pt x="136727" y="1165150"/>
                </a:lnTo>
                <a:lnTo>
                  <a:pt x="136112" y="1163804"/>
                </a:lnTo>
                <a:close/>
                <a:moveTo>
                  <a:pt x="1656844" y="1080115"/>
                </a:moveTo>
                <a:lnTo>
                  <a:pt x="1729776" y="1100634"/>
                </a:lnTo>
                <a:lnTo>
                  <a:pt x="1723821" y="1116126"/>
                </a:lnTo>
                <a:lnTo>
                  <a:pt x="1723528" y="1117576"/>
                </a:lnTo>
                <a:lnTo>
                  <a:pt x="1651058" y="1097186"/>
                </a:lnTo>
                <a:close/>
                <a:moveTo>
                  <a:pt x="184625" y="1073110"/>
                </a:moveTo>
                <a:lnTo>
                  <a:pt x="188043" y="1088326"/>
                </a:lnTo>
                <a:lnTo>
                  <a:pt x="188810" y="1090624"/>
                </a:lnTo>
                <a:lnTo>
                  <a:pt x="112145" y="1111372"/>
                </a:lnTo>
                <a:lnTo>
                  <a:pt x="104560" y="1094778"/>
                </a:lnTo>
                <a:close/>
                <a:moveTo>
                  <a:pt x="1672722" y="1013691"/>
                </a:moveTo>
                <a:lnTo>
                  <a:pt x="1757141" y="1029446"/>
                </a:lnTo>
                <a:lnTo>
                  <a:pt x="1750574" y="1046531"/>
                </a:lnTo>
                <a:lnTo>
                  <a:pt x="1669493" y="1031399"/>
                </a:lnTo>
                <a:close/>
                <a:moveTo>
                  <a:pt x="170225" y="1006273"/>
                </a:moveTo>
                <a:lnTo>
                  <a:pt x="170936" y="1012170"/>
                </a:lnTo>
                <a:lnTo>
                  <a:pt x="173584" y="1023958"/>
                </a:lnTo>
                <a:lnTo>
                  <a:pt x="78475" y="1040728"/>
                </a:lnTo>
                <a:lnTo>
                  <a:pt x="67193" y="1024440"/>
                </a:lnTo>
                <a:close/>
                <a:moveTo>
                  <a:pt x="1681368" y="945892"/>
                </a:moveTo>
                <a:lnTo>
                  <a:pt x="1793516" y="956550"/>
                </a:lnTo>
                <a:lnTo>
                  <a:pt x="1783173" y="973649"/>
                </a:lnTo>
                <a:lnTo>
                  <a:pt x="1679909" y="963835"/>
                </a:lnTo>
                <a:close/>
                <a:moveTo>
                  <a:pt x="162034" y="938372"/>
                </a:moveTo>
                <a:lnTo>
                  <a:pt x="164191" y="956254"/>
                </a:lnTo>
                <a:lnTo>
                  <a:pt x="27981" y="967828"/>
                </a:lnTo>
                <a:lnTo>
                  <a:pt x="16164" y="950767"/>
                </a:lnTo>
                <a:close/>
                <a:moveTo>
                  <a:pt x="1683923" y="877596"/>
                </a:moveTo>
                <a:lnTo>
                  <a:pt x="1844621" y="878397"/>
                </a:lnTo>
                <a:lnTo>
                  <a:pt x="1831855" y="893168"/>
                </a:lnTo>
                <a:lnTo>
                  <a:pt x="1829946" y="896325"/>
                </a:lnTo>
                <a:lnTo>
                  <a:pt x="1684266" y="895598"/>
                </a:lnTo>
                <a:close/>
                <a:moveTo>
                  <a:pt x="14676" y="869273"/>
                </a:moveTo>
                <a:lnTo>
                  <a:pt x="160356" y="869999"/>
                </a:lnTo>
                <a:lnTo>
                  <a:pt x="160699" y="888001"/>
                </a:lnTo>
                <a:lnTo>
                  <a:pt x="0" y="887200"/>
                </a:lnTo>
                <a:lnTo>
                  <a:pt x="12766" y="872429"/>
                </a:lnTo>
                <a:close/>
                <a:moveTo>
                  <a:pt x="1816638" y="797770"/>
                </a:moveTo>
                <a:lnTo>
                  <a:pt x="1828455" y="814831"/>
                </a:lnTo>
                <a:lnTo>
                  <a:pt x="1682588" y="827227"/>
                </a:lnTo>
                <a:lnTo>
                  <a:pt x="1680430" y="809345"/>
                </a:lnTo>
                <a:close/>
                <a:moveTo>
                  <a:pt x="61447" y="791950"/>
                </a:moveTo>
                <a:lnTo>
                  <a:pt x="164713" y="801763"/>
                </a:lnTo>
                <a:lnTo>
                  <a:pt x="163253" y="819705"/>
                </a:lnTo>
                <a:lnTo>
                  <a:pt x="51105" y="809048"/>
                </a:lnTo>
                <a:close/>
                <a:moveTo>
                  <a:pt x="1766145" y="724870"/>
                </a:moveTo>
                <a:lnTo>
                  <a:pt x="1777427" y="741158"/>
                </a:lnTo>
                <a:lnTo>
                  <a:pt x="1674396" y="759325"/>
                </a:lnTo>
                <a:lnTo>
                  <a:pt x="1673685" y="753429"/>
                </a:lnTo>
                <a:lnTo>
                  <a:pt x="1670588" y="741719"/>
                </a:lnTo>
                <a:close/>
                <a:moveTo>
                  <a:pt x="94047" y="719066"/>
                </a:moveTo>
                <a:lnTo>
                  <a:pt x="175129" y="734198"/>
                </a:lnTo>
                <a:lnTo>
                  <a:pt x="171900" y="751906"/>
                </a:lnTo>
                <a:lnTo>
                  <a:pt x="87480" y="736151"/>
                </a:lnTo>
                <a:close/>
                <a:moveTo>
                  <a:pt x="1732475" y="654227"/>
                </a:moveTo>
                <a:lnTo>
                  <a:pt x="1740061" y="670822"/>
                </a:lnTo>
                <a:lnTo>
                  <a:pt x="1657733" y="693102"/>
                </a:lnTo>
                <a:lnTo>
                  <a:pt x="1653131" y="675699"/>
                </a:lnTo>
                <a:close/>
                <a:moveTo>
                  <a:pt x="121093" y="648021"/>
                </a:moveTo>
                <a:lnTo>
                  <a:pt x="193564" y="668412"/>
                </a:lnTo>
                <a:lnTo>
                  <a:pt x="187778" y="685483"/>
                </a:lnTo>
                <a:lnTo>
                  <a:pt x="114844" y="664963"/>
                </a:lnTo>
                <a:lnTo>
                  <a:pt x="120799" y="649471"/>
                </a:lnTo>
                <a:close/>
                <a:moveTo>
                  <a:pt x="1703605" y="584417"/>
                </a:moveTo>
                <a:lnTo>
                  <a:pt x="1707892" y="600448"/>
                </a:lnTo>
                <a:lnTo>
                  <a:pt x="1708508" y="601796"/>
                </a:lnTo>
                <a:lnTo>
                  <a:pt x="1640259" y="627022"/>
                </a:lnTo>
                <a:lnTo>
                  <a:pt x="1639049" y="622444"/>
                </a:lnTo>
                <a:lnTo>
                  <a:pt x="1633440" y="610352"/>
                </a:lnTo>
                <a:close/>
                <a:moveTo>
                  <a:pt x="136138" y="573632"/>
                </a:moveTo>
                <a:lnTo>
                  <a:pt x="215446" y="603848"/>
                </a:lnTo>
                <a:lnTo>
                  <a:pt x="209665" y="620908"/>
                </a:lnTo>
                <a:lnTo>
                  <a:pt x="132521" y="591516"/>
                </a:lnTo>
                <a:close/>
                <a:moveTo>
                  <a:pt x="1683900" y="510741"/>
                </a:moveTo>
                <a:lnTo>
                  <a:pt x="1688629" y="528423"/>
                </a:lnTo>
                <a:lnTo>
                  <a:pt x="1612275" y="564725"/>
                </a:lnTo>
                <a:lnTo>
                  <a:pt x="1604700" y="548396"/>
                </a:lnTo>
                <a:close/>
                <a:moveTo>
                  <a:pt x="147252" y="494765"/>
                </a:moveTo>
                <a:lnTo>
                  <a:pt x="243177" y="541551"/>
                </a:lnTo>
                <a:lnTo>
                  <a:pt x="234224" y="557210"/>
                </a:lnTo>
                <a:lnTo>
                  <a:pt x="146805" y="514573"/>
                </a:lnTo>
                <a:close/>
                <a:moveTo>
                  <a:pt x="1670480" y="430384"/>
                </a:moveTo>
                <a:lnTo>
                  <a:pt x="1672163" y="450296"/>
                </a:lnTo>
                <a:lnTo>
                  <a:pt x="1583450" y="502701"/>
                </a:lnTo>
                <a:lnTo>
                  <a:pt x="1573155" y="487877"/>
                </a:lnTo>
                <a:close/>
                <a:moveTo>
                  <a:pt x="149273" y="405169"/>
                </a:moveTo>
                <a:lnTo>
                  <a:pt x="277016" y="482359"/>
                </a:lnTo>
                <a:lnTo>
                  <a:pt x="268080" y="497989"/>
                </a:lnTo>
                <a:lnTo>
                  <a:pt x="148805" y="425916"/>
                </a:lnTo>
                <a:close/>
                <a:moveTo>
                  <a:pt x="195968" y="338361"/>
                </a:moveTo>
                <a:lnTo>
                  <a:pt x="314600" y="425459"/>
                </a:lnTo>
                <a:lnTo>
                  <a:pt x="302826" y="439145"/>
                </a:lnTo>
                <a:lnTo>
                  <a:pt x="173559" y="344239"/>
                </a:lnTo>
                <a:lnTo>
                  <a:pt x="192568" y="339792"/>
                </a:lnTo>
                <a:close/>
                <a:moveTo>
                  <a:pt x="1665887" y="337121"/>
                </a:moveTo>
                <a:lnTo>
                  <a:pt x="1664242" y="356571"/>
                </a:lnTo>
                <a:lnTo>
                  <a:pt x="1664553" y="360248"/>
                </a:lnTo>
                <a:lnTo>
                  <a:pt x="1544474" y="446578"/>
                </a:lnTo>
                <a:lnTo>
                  <a:pt x="1534206" y="431793"/>
                </a:lnTo>
                <a:close/>
                <a:moveTo>
                  <a:pt x="279257" y="303297"/>
                </a:moveTo>
                <a:lnTo>
                  <a:pt x="359087" y="373748"/>
                </a:lnTo>
                <a:lnTo>
                  <a:pt x="347347" y="387394"/>
                </a:lnTo>
                <a:lnTo>
                  <a:pt x="260839" y="311051"/>
                </a:lnTo>
                <a:close/>
                <a:moveTo>
                  <a:pt x="1595859" y="288337"/>
                </a:moveTo>
                <a:lnTo>
                  <a:pt x="1615448" y="295194"/>
                </a:lnTo>
                <a:lnTo>
                  <a:pt x="1504459" y="391189"/>
                </a:lnTo>
                <a:lnTo>
                  <a:pt x="1491819" y="378322"/>
                </a:lnTo>
                <a:close/>
                <a:moveTo>
                  <a:pt x="348471" y="263494"/>
                </a:moveTo>
                <a:lnTo>
                  <a:pt x="405504" y="323744"/>
                </a:lnTo>
                <a:lnTo>
                  <a:pt x="394934" y="332080"/>
                </a:lnTo>
                <a:lnTo>
                  <a:pt x="391923" y="335581"/>
                </a:lnTo>
                <a:lnTo>
                  <a:pt x="333116" y="273456"/>
                </a:lnTo>
                <a:close/>
                <a:moveTo>
                  <a:pt x="1512159" y="259039"/>
                </a:moveTo>
                <a:lnTo>
                  <a:pt x="1530860" y="265585"/>
                </a:lnTo>
                <a:lnTo>
                  <a:pt x="1456606" y="342477"/>
                </a:lnTo>
                <a:lnTo>
                  <a:pt x="1443988" y="329632"/>
                </a:lnTo>
                <a:close/>
                <a:moveTo>
                  <a:pt x="412110" y="221916"/>
                </a:moveTo>
                <a:lnTo>
                  <a:pt x="459114" y="281464"/>
                </a:lnTo>
                <a:lnTo>
                  <a:pt x="444980" y="292610"/>
                </a:lnTo>
                <a:lnTo>
                  <a:pt x="397097" y="231949"/>
                </a:lnTo>
                <a:lnTo>
                  <a:pt x="411019" y="222917"/>
                </a:lnTo>
                <a:close/>
                <a:moveTo>
                  <a:pt x="1443396" y="221678"/>
                </a:moveTo>
                <a:lnTo>
                  <a:pt x="1459286" y="230644"/>
                </a:lnTo>
                <a:lnTo>
                  <a:pt x="1406897" y="295670"/>
                </a:lnTo>
                <a:lnTo>
                  <a:pt x="1392300" y="285098"/>
                </a:lnTo>
                <a:close/>
                <a:moveTo>
                  <a:pt x="1379005" y="182170"/>
                </a:moveTo>
                <a:lnTo>
                  <a:pt x="1391896" y="192619"/>
                </a:lnTo>
                <a:lnTo>
                  <a:pt x="1393186" y="193347"/>
                </a:lnTo>
                <a:lnTo>
                  <a:pt x="1351622" y="255636"/>
                </a:lnTo>
                <a:lnTo>
                  <a:pt x="1337034" y="245070"/>
                </a:lnTo>
                <a:close/>
                <a:moveTo>
                  <a:pt x="468008" y="170577"/>
                </a:moveTo>
                <a:lnTo>
                  <a:pt x="513069" y="239589"/>
                </a:lnTo>
                <a:lnTo>
                  <a:pt x="510638" y="240828"/>
                </a:lnTo>
                <a:lnTo>
                  <a:pt x="498586" y="250333"/>
                </a:lnTo>
                <a:lnTo>
                  <a:pt x="454568" y="182920"/>
                </a:lnTo>
                <a:close/>
                <a:moveTo>
                  <a:pt x="1319759" y="134146"/>
                </a:moveTo>
                <a:lnTo>
                  <a:pt x="1333978" y="145672"/>
                </a:lnTo>
                <a:lnTo>
                  <a:pt x="1294036" y="219016"/>
                </a:lnTo>
                <a:lnTo>
                  <a:pt x="1277891" y="211027"/>
                </a:lnTo>
                <a:close/>
                <a:moveTo>
                  <a:pt x="523355" y="113305"/>
                </a:moveTo>
                <a:lnTo>
                  <a:pt x="573987" y="208530"/>
                </a:lnTo>
                <a:lnTo>
                  <a:pt x="557949" y="216707"/>
                </a:lnTo>
                <a:lnTo>
                  <a:pt x="511350" y="129068"/>
                </a:lnTo>
                <a:close/>
                <a:moveTo>
                  <a:pt x="1261668" y="77024"/>
                </a:moveTo>
                <a:lnTo>
                  <a:pt x="1274734" y="92144"/>
                </a:lnTo>
                <a:lnTo>
                  <a:pt x="1232872" y="188750"/>
                </a:lnTo>
                <a:lnTo>
                  <a:pt x="1216718" y="180757"/>
                </a:lnTo>
                <a:close/>
                <a:moveTo>
                  <a:pt x="879964" y="47539"/>
                </a:moveTo>
                <a:lnTo>
                  <a:pt x="896536" y="48415"/>
                </a:lnTo>
                <a:lnTo>
                  <a:pt x="898006" y="48246"/>
                </a:lnTo>
                <a:lnTo>
                  <a:pt x="900930" y="121496"/>
                </a:lnTo>
                <a:lnTo>
                  <a:pt x="882930" y="121839"/>
                </a:lnTo>
                <a:close/>
                <a:moveTo>
                  <a:pt x="803804" y="43511"/>
                </a:moveTo>
                <a:lnTo>
                  <a:pt x="822082" y="44478"/>
                </a:lnTo>
                <a:lnTo>
                  <a:pt x="832792" y="126618"/>
                </a:lnTo>
                <a:lnTo>
                  <a:pt x="814920" y="128774"/>
                </a:lnTo>
                <a:close/>
                <a:moveTo>
                  <a:pt x="577653" y="42008"/>
                </a:moveTo>
                <a:lnTo>
                  <a:pt x="634782" y="177534"/>
                </a:lnTo>
                <a:lnTo>
                  <a:pt x="618704" y="185731"/>
                </a:lnTo>
                <a:lnTo>
                  <a:pt x="565079" y="58518"/>
                </a:lnTo>
                <a:close/>
                <a:moveTo>
                  <a:pt x="973404" y="39567"/>
                </a:moveTo>
                <a:lnTo>
                  <a:pt x="969228" y="123258"/>
                </a:lnTo>
                <a:lnTo>
                  <a:pt x="951312" y="121130"/>
                </a:lnTo>
                <a:lnTo>
                  <a:pt x="955278" y="41654"/>
                </a:lnTo>
                <a:close/>
                <a:moveTo>
                  <a:pt x="723233" y="31443"/>
                </a:moveTo>
                <a:lnTo>
                  <a:pt x="742691" y="35995"/>
                </a:lnTo>
                <a:lnTo>
                  <a:pt x="765354" y="137622"/>
                </a:lnTo>
                <a:lnTo>
                  <a:pt x="747791" y="141567"/>
                </a:lnTo>
                <a:close/>
                <a:moveTo>
                  <a:pt x="1051847" y="25765"/>
                </a:moveTo>
                <a:lnTo>
                  <a:pt x="1037014" y="131308"/>
                </a:lnTo>
                <a:lnTo>
                  <a:pt x="1019135" y="129184"/>
                </a:lnTo>
                <a:lnTo>
                  <a:pt x="1032869" y="31462"/>
                </a:lnTo>
                <a:close/>
                <a:moveTo>
                  <a:pt x="633115" y="6990"/>
                </a:moveTo>
                <a:lnTo>
                  <a:pt x="651107" y="14566"/>
                </a:lnTo>
                <a:lnTo>
                  <a:pt x="654699" y="15406"/>
                </a:lnTo>
                <a:lnTo>
                  <a:pt x="699105" y="154429"/>
                </a:lnTo>
                <a:lnTo>
                  <a:pt x="682029" y="160125"/>
                </a:lnTo>
                <a:close/>
                <a:moveTo>
                  <a:pt x="1203134" y="4273"/>
                </a:moveTo>
                <a:lnTo>
                  <a:pt x="1213236" y="20976"/>
                </a:lnTo>
                <a:lnTo>
                  <a:pt x="1215649" y="23769"/>
                </a:lnTo>
                <a:lnTo>
                  <a:pt x="1169442" y="163605"/>
                </a:lnTo>
                <a:lnTo>
                  <a:pt x="1152188" y="158449"/>
                </a:lnTo>
                <a:close/>
                <a:moveTo>
                  <a:pt x="1137683" y="0"/>
                </a:moveTo>
                <a:lnTo>
                  <a:pt x="1104046" y="144062"/>
                </a:lnTo>
                <a:lnTo>
                  <a:pt x="1086767" y="138898"/>
                </a:lnTo>
                <a:lnTo>
                  <a:pt x="1117806" y="5966"/>
                </a:lnTo>
                <a:close/>
              </a:path>
            </a:pathLst>
          </a:custGeom>
          <a:solidFill>
            <a:srgbClr val="b9cde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MH_SubTitle_1"/>
          <p:cNvSpPr/>
          <p:nvPr/>
        </p:nvSpPr>
        <p:spPr>
          <a:xfrm>
            <a:off x="2128680" y="2673360"/>
            <a:ext cx="1768680" cy="1768320"/>
          </a:xfrm>
          <a:prstGeom prst="pi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结构性进入壁垒</a:t>
            </a:r>
            <a:endParaRPr b="0" lang="en-US" sz="1800" spc="-1" strike="noStrike">
              <a:solidFill>
                <a:srgbClr val="000000"/>
              </a:solidFill>
              <a:latin typeface="Arial"/>
            </a:endParaRPr>
          </a:p>
        </p:txBody>
      </p:sp>
      <p:sp>
        <p:nvSpPr>
          <p:cNvPr id="364" name="MH_Other_2"/>
          <p:cNvSpPr/>
          <p:nvPr/>
        </p:nvSpPr>
        <p:spPr>
          <a:xfrm>
            <a:off x="2303640" y="2673360"/>
            <a:ext cx="1411200" cy="368280"/>
          </a:xfrm>
          <a:prstGeom prst="pi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宋体"/>
              </a:rPr>
              <a:t>01</a:t>
            </a:r>
            <a:endParaRPr b="0" lang="en-US" sz="2400" spc="-1" strike="noStrike">
              <a:solidFill>
                <a:srgbClr val="000000"/>
              </a:solidFill>
              <a:latin typeface="Arial"/>
            </a:endParaRPr>
          </a:p>
        </p:txBody>
      </p:sp>
      <p:sp>
        <p:nvSpPr>
          <p:cNvPr id="365" name="MH_Other_3"/>
          <p:cNvSpPr/>
          <p:nvPr/>
        </p:nvSpPr>
        <p:spPr>
          <a:xfrm>
            <a:off x="5308560" y="2556000"/>
            <a:ext cx="2319480" cy="2219040"/>
          </a:xfrm>
          <a:custGeom>
            <a:avLst/>
            <a:gdLst/>
            <a:ahLst/>
            <a:rect l="l" t="t" r="r" b="b"/>
            <a:pathLst>
              <a:path w="1844621" h="1765598">
                <a:moveTo>
                  <a:pt x="961691" y="1643760"/>
                </a:moveTo>
                <a:lnTo>
                  <a:pt x="964657" y="1718060"/>
                </a:lnTo>
                <a:lnTo>
                  <a:pt x="948083" y="1717184"/>
                </a:lnTo>
                <a:lnTo>
                  <a:pt x="946614" y="1717353"/>
                </a:lnTo>
                <a:lnTo>
                  <a:pt x="943691" y="1644103"/>
                </a:lnTo>
                <a:close/>
                <a:moveTo>
                  <a:pt x="875350" y="1643169"/>
                </a:moveTo>
                <a:lnTo>
                  <a:pt x="893299" y="1644629"/>
                </a:lnTo>
                <a:lnTo>
                  <a:pt x="889341" y="1723945"/>
                </a:lnTo>
                <a:lnTo>
                  <a:pt x="871214" y="1726031"/>
                </a:lnTo>
                <a:close/>
                <a:moveTo>
                  <a:pt x="1029699" y="1636826"/>
                </a:moveTo>
                <a:lnTo>
                  <a:pt x="1040815" y="1722087"/>
                </a:lnTo>
                <a:lnTo>
                  <a:pt x="1022537" y="1721121"/>
                </a:lnTo>
                <a:lnTo>
                  <a:pt x="1011828" y="1638982"/>
                </a:lnTo>
                <a:close/>
                <a:moveTo>
                  <a:pt x="807350" y="1636115"/>
                </a:moveTo>
                <a:lnTo>
                  <a:pt x="822430" y="1638864"/>
                </a:lnTo>
                <a:lnTo>
                  <a:pt x="825110" y="1639083"/>
                </a:lnTo>
                <a:lnTo>
                  <a:pt x="811751" y="1734136"/>
                </a:lnTo>
                <a:lnTo>
                  <a:pt x="792774" y="1739833"/>
                </a:lnTo>
                <a:close/>
                <a:moveTo>
                  <a:pt x="1096827" y="1624033"/>
                </a:moveTo>
                <a:lnTo>
                  <a:pt x="1121385" y="1734155"/>
                </a:lnTo>
                <a:lnTo>
                  <a:pt x="1101928" y="1729603"/>
                </a:lnTo>
                <a:lnTo>
                  <a:pt x="1079265" y="1627978"/>
                </a:lnTo>
                <a:close/>
                <a:moveTo>
                  <a:pt x="740342" y="1622534"/>
                </a:moveTo>
                <a:lnTo>
                  <a:pt x="749046" y="1625484"/>
                </a:lnTo>
                <a:lnTo>
                  <a:pt x="757767" y="1627074"/>
                </a:lnTo>
                <a:lnTo>
                  <a:pt x="726815" y="1759631"/>
                </a:lnTo>
                <a:lnTo>
                  <a:pt x="706937" y="1765598"/>
                </a:lnTo>
                <a:close/>
                <a:moveTo>
                  <a:pt x="1162592" y="1605474"/>
                </a:moveTo>
                <a:lnTo>
                  <a:pt x="1211506" y="1758609"/>
                </a:lnTo>
                <a:lnTo>
                  <a:pt x="1193512" y="1751032"/>
                </a:lnTo>
                <a:lnTo>
                  <a:pt x="1189921" y="1750192"/>
                </a:lnTo>
                <a:lnTo>
                  <a:pt x="1145515" y="1611170"/>
                </a:lnTo>
                <a:close/>
                <a:moveTo>
                  <a:pt x="675637" y="1600604"/>
                </a:moveTo>
                <a:lnTo>
                  <a:pt x="692686" y="1606382"/>
                </a:lnTo>
                <a:lnTo>
                  <a:pt x="641486" y="1761326"/>
                </a:lnTo>
                <a:lnTo>
                  <a:pt x="631383" y="1744623"/>
                </a:lnTo>
                <a:lnTo>
                  <a:pt x="628970" y="1741831"/>
                </a:lnTo>
                <a:close/>
                <a:moveTo>
                  <a:pt x="1225916" y="1579868"/>
                </a:moveTo>
                <a:lnTo>
                  <a:pt x="1279540" y="1707080"/>
                </a:lnTo>
                <a:lnTo>
                  <a:pt x="1266966" y="1723591"/>
                </a:lnTo>
                <a:lnTo>
                  <a:pt x="1209837" y="1588066"/>
                </a:lnTo>
                <a:close/>
                <a:moveTo>
                  <a:pt x="610954" y="1578681"/>
                </a:moveTo>
                <a:lnTo>
                  <a:pt x="628059" y="1584478"/>
                </a:lnTo>
                <a:lnTo>
                  <a:pt x="582951" y="1688574"/>
                </a:lnTo>
                <a:lnTo>
                  <a:pt x="569886" y="1673454"/>
                </a:lnTo>
                <a:close/>
                <a:moveTo>
                  <a:pt x="1286670" y="1548893"/>
                </a:moveTo>
                <a:lnTo>
                  <a:pt x="1333269" y="1636531"/>
                </a:lnTo>
                <a:lnTo>
                  <a:pt x="1321264" y="1652294"/>
                </a:lnTo>
                <a:lnTo>
                  <a:pt x="1270632" y="1557070"/>
                </a:lnTo>
                <a:close/>
                <a:moveTo>
                  <a:pt x="551444" y="1545001"/>
                </a:moveTo>
                <a:lnTo>
                  <a:pt x="567074" y="1553937"/>
                </a:lnTo>
                <a:lnTo>
                  <a:pt x="524862" y="1631452"/>
                </a:lnTo>
                <a:lnTo>
                  <a:pt x="510642" y="1619926"/>
                </a:lnTo>
                <a:close/>
                <a:moveTo>
                  <a:pt x="1346034" y="1515267"/>
                </a:moveTo>
                <a:lnTo>
                  <a:pt x="1390051" y="1582679"/>
                </a:lnTo>
                <a:lnTo>
                  <a:pt x="1376613" y="1595021"/>
                </a:lnTo>
                <a:lnTo>
                  <a:pt x="1331552" y="1526010"/>
                </a:lnTo>
                <a:lnTo>
                  <a:pt x="1333983" y="1524770"/>
                </a:lnTo>
                <a:close/>
                <a:moveTo>
                  <a:pt x="492213" y="1511140"/>
                </a:moveTo>
                <a:lnTo>
                  <a:pt x="507877" y="1520095"/>
                </a:lnTo>
                <a:lnTo>
                  <a:pt x="465615" y="1583429"/>
                </a:lnTo>
                <a:lnTo>
                  <a:pt x="452723" y="1572979"/>
                </a:lnTo>
                <a:lnTo>
                  <a:pt x="451434" y="1572252"/>
                </a:lnTo>
                <a:close/>
                <a:moveTo>
                  <a:pt x="1399641" y="1472989"/>
                </a:moveTo>
                <a:lnTo>
                  <a:pt x="1447523" y="1533649"/>
                </a:lnTo>
                <a:lnTo>
                  <a:pt x="1433600" y="1542681"/>
                </a:lnTo>
                <a:lnTo>
                  <a:pt x="1432510" y="1543682"/>
                </a:lnTo>
                <a:lnTo>
                  <a:pt x="1385507" y="1484135"/>
                </a:lnTo>
                <a:close/>
                <a:moveTo>
                  <a:pt x="439084" y="1468240"/>
                </a:moveTo>
                <a:lnTo>
                  <a:pt x="452737" y="1479985"/>
                </a:lnTo>
                <a:lnTo>
                  <a:pt x="401226" y="1543921"/>
                </a:lnTo>
                <a:lnTo>
                  <a:pt x="385335" y="1534955"/>
                </a:lnTo>
                <a:close/>
                <a:moveTo>
                  <a:pt x="1452700" y="1430017"/>
                </a:moveTo>
                <a:lnTo>
                  <a:pt x="1511505" y="1492141"/>
                </a:lnTo>
                <a:lnTo>
                  <a:pt x="1496150" y="1502102"/>
                </a:lnTo>
                <a:lnTo>
                  <a:pt x="1439119" y="1441854"/>
                </a:lnTo>
                <a:lnTo>
                  <a:pt x="1449687" y="1433519"/>
                </a:lnTo>
                <a:close/>
                <a:moveTo>
                  <a:pt x="387391" y="1423768"/>
                </a:moveTo>
                <a:lnTo>
                  <a:pt x="401059" y="1435526"/>
                </a:lnTo>
                <a:lnTo>
                  <a:pt x="332463" y="1506560"/>
                </a:lnTo>
                <a:lnTo>
                  <a:pt x="313761" y="1500014"/>
                </a:lnTo>
                <a:close/>
                <a:moveTo>
                  <a:pt x="1497274" y="1378205"/>
                </a:moveTo>
                <a:lnTo>
                  <a:pt x="1583781" y="1454547"/>
                </a:lnTo>
                <a:lnTo>
                  <a:pt x="1565364" y="1462300"/>
                </a:lnTo>
                <a:lnTo>
                  <a:pt x="1485535" y="1391850"/>
                </a:lnTo>
                <a:close/>
                <a:moveTo>
                  <a:pt x="342078" y="1372754"/>
                </a:moveTo>
                <a:lnTo>
                  <a:pt x="353236" y="1386902"/>
                </a:lnTo>
                <a:lnTo>
                  <a:pt x="248764" y="1477262"/>
                </a:lnTo>
                <a:lnTo>
                  <a:pt x="229175" y="1470405"/>
                </a:lnTo>
                <a:close/>
                <a:moveTo>
                  <a:pt x="1541797" y="1326453"/>
                </a:moveTo>
                <a:lnTo>
                  <a:pt x="1671063" y="1421359"/>
                </a:lnTo>
                <a:lnTo>
                  <a:pt x="1652052" y="1425806"/>
                </a:lnTo>
                <a:lnTo>
                  <a:pt x="1648653" y="1427237"/>
                </a:lnTo>
                <a:lnTo>
                  <a:pt x="1530022" y="1340139"/>
                </a:lnTo>
                <a:close/>
                <a:moveTo>
                  <a:pt x="299862" y="1319225"/>
                </a:moveTo>
                <a:lnTo>
                  <a:pt x="311019" y="1333372"/>
                </a:lnTo>
                <a:lnTo>
                  <a:pt x="178732" y="1428480"/>
                </a:lnTo>
                <a:lnTo>
                  <a:pt x="180377" y="1409027"/>
                </a:lnTo>
                <a:lnTo>
                  <a:pt x="180067" y="1405352"/>
                </a:lnTo>
                <a:close/>
                <a:moveTo>
                  <a:pt x="1576542" y="1267609"/>
                </a:moveTo>
                <a:lnTo>
                  <a:pt x="1695816" y="1339681"/>
                </a:lnTo>
                <a:lnTo>
                  <a:pt x="1695348" y="1360430"/>
                </a:lnTo>
                <a:lnTo>
                  <a:pt x="1567606" y="1283241"/>
                </a:lnTo>
                <a:close/>
                <a:moveTo>
                  <a:pt x="263531" y="1261503"/>
                </a:moveTo>
                <a:lnTo>
                  <a:pt x="271723" y="1277570"/>
                </a:lnTo>
                <a:lnTo>
                  <a:pt x="174140" y="1335215"/>
                </a:lnTo>
                <a:lnTo>
                  <a:pt x="172457" y="1315303"/>
                </a:lnTo>
                <a:close/>
                <a:moveTo>
                  <a:pt x="1610398" y="1208387"/>
                </a:moveTo>
                <a:lnTo>
                  <a:pt x="1697816" y="1251024"/>
                </a:lnTo>
                <a:lnTo>
                  <a:pt x="1697369" y="1270832"/>
                </a:lnTo>
                <a:lnTo>
                  <a:pt x="1601446" y="1224047"/>
                </a:lnTo>
                <a:close/>
                <a:moveTo>
                  <a:pt x="232566" y="1200770"/>
                </a:moveTo>
                <a:lnTo>
                  <a:pt x="240745" y="1216812"/>
                </a:lnTo>
                <a:lnTo>
                  <a:pt x="160720" y="1254859"/>
                </a:lnTo>
                <a:lnTo>
                  <a:pt x="155991" y="1237178"/>
                </a:lnTo>
                <a:close/>
                <a:moveTo>
                  <a:pt x="1634958" y="1144690"/>
                </a:moveTo>
                <a:lnTo>
                  <a:pt x="1712099" y="1174082"/>
                </a:lnTo>
                <a:lnTo>
                  <a:pt x="1708482" y="1191966"/>
                </a:lnTo>
                <a:lnTo>
                  <a:pt x="1629176" y="1161750"/>
                </a:lnTo>
                <a:close/>
                <a:moveTo>
                  <a:pt x="204756" y="1138431"/>
                </a:moveTo>
                <a:lnTo>
                  <a:pt x="210455" y="1155515"/>
                </a:lnTo>
                <a:lnTo>
                  <a:pt x="141015" y="1181182"/>
                </a:lnTo>
                <a:lnTo>
                  <a:pt x="136727" y="1165150"/>
                </a:lnTo>
                <a:lnTo>
                  <a:pt x="136112" y="1163804"/>
                </a:lnTo>
                <a:close/>
                <a:moveTo>
                  <a:pt x="1656844" y="1080115"/>
                </a:moveTo>
                <a:lnTo>
                  <a:pt x="1729776" y="1100634"/>
                </a:lnTo>
                <a:lnTo>
                  <a:pt x="1723821" y="1116126"/>
                </a:lnTo>
                <a:lnTo>
                  <a:pt x="1723528" y="1117576"/>
                </a:lnTo>
                <a:lnTo>
                  <a:pt x="1651058" y="1097186"/>
                </a:lnTo>
                <a:close/>
                <a:moveTo>
                  <a:pt x="184625" y="1073110"/>
                </a:moveTo>
                <a:lnTo>
                  <a:pt x="188043" y="1088326"/>
                </a:lnTo>
                <a:lnTo>
                  <a:pt x="188810" y="1090624"/>
                </a:lnTo>
                <a:lnTo>
                  <a:pt x="112145" y="1111372"/>
                </a:lnTo>
                <a:lnTo>
                  <a:pt x="104560" y="1094778"/>
                </a:lnTo>
                <a:close/>
                <a:moveTo>
                  <a:pt x="1672722" y="1013691"/>
                </a:moveTo>
                <a:lnTo>
                  <a:pt x="1757141" y="1029446"/>
                </a:lnTo>
                <a:lnTo>
                  <a:pt x="1750574" y="1046531"/>
                </a:lnTo>
                <a:lnTo>
                  <a:pt x="1669493" y="1031399"/>
                </a:lnTo>
                <a:close/>
                <a:moveTo>
                  <a:pt x="170225" y="1006273"/>
                </a:moveTo>
                <a:lnTo>
                  <a:pt x="170936" y="1012170"/>
                </a:lnTo>
                <a:lnTo>
                  <a:pt x="173584" y="1023958"/>
                </a:lnTo>
                <a:lnTo>
                  <a:pt x="78475" y="1040728"/>
                </a:lnTo>
                <a:lnTo>
                  <a:pt x="67193" y="1024440"/>
                </a:lnTo>
                <a:close/>
                <a:moveTo>
                  <a:pt x="1681368" y="945892"/>
                </a:moveTo>
                <a:lnTo>
                  <a:pt x="1793516" y="956550"/>
                </a:lnTo>
                <a:lnTo>
                  <a:pt x="1783173" y="973649"/>
                </a:lnTo>
                <a:lnTo>
                  <a:pt x="1679909" y="963835"/>
                </a:lnTo>
                <a:close/>
                <a:moveTo>
                  <a:pt x="162034" y="938372"/>
                </a:moveTo>
                <a:lnTo>
                  <a:pt x="164191" y="956254"/>
                </a:lnTo>
                <a:lnTo>
                  <a:pt x="27981" y="967828"/>
                </a:lnTo>
                <a:lnTo>
                  <a:pt x="16164" y="950767"/>
                </a:lnTo>
                <a:close/>
                <a:moveTo>
                  <a:pt x="1683923" y="877596"/>
                </a:moveTo>
                <a:lnTo>
                  <a:pt x="1844621" y="878397"/>
                </a:lnTo>
                <a:lnTo>
                  <a:pt x="1831855" y="893168"/>
                </a:lnTo>
                <a:lnTo>
                  <a:pt x="1829946" y="896325"/>
                </a:lnTo>
                <a:lnTo>
                  <a:pt x="1684266" y="895598"/>
                </a:lnTo>
                <a:close/>
                <a:moveTo>
                  <a:pt x="14676" y="869273"/>
                </a:moveTo>
                <a:lnTo>
                  <a:pt x="160356" y="869999"/>
                </a:lnTo>
                <a:lnTo>
                  <a:pt x="160699" y="888001"/>
                </a:lnTo>
                <a:lnTo>
                  <a:pt x="0" y="887200"/>
                </a:lnTo>
                <a:lnTo>
                  <a:pt x="12766" y="872429"/>
                </a:lnTo>
                <a:close/>
                <a:moveTo>
                  <a:pt x="1816638" y="797770"/>
                </a:moveTo>
                <a:lnTo>
                  <a:pt x="1828455" y="814831"/>
                </a:lnTo>
                <a:lnTo>
                  <a:pt x="1682588" y="827227"/>
                </a:lnTo>
                <a:lnTo>
                  <a:pt x="1680430" y="809345"/>
                </a:lnTo>
                <a:close/>
                <a:moveTo>
                  <a:pt x="61447" y="791950"/>
                </a:moveTo>
                <a:lnTo>
                  <a:pt x="164713" y="801763"/>
                </a:lnTo>
                <a:lnTo>
                  <a:pt x="163253" y="819705"/>
                </a:lnTo>
                <a:lnTo>
                  <a:pt x="51105" y="809048"/>
                </a:lnTo>
                <a:close/>
                <a:moveTo>
                  <a:pt x="1766145" y="724870"/>
                </a:moveTo>
                <a:lnTo>
                  <a:pt x="1777427" y="741158"/>
                </a:lnTo>
                <a:lnTo>
                  <a:pt x="1674396" y="759325"/>
                </a:lnTo>
                <a:lnTo>
                  <a:pt x="1673685" y="753429"/>
                </a:lnTo>
                <a:lnTo>
                  <a:pt x="1670588" y="741719"/>
                </a:lnTo>
                <a:close/>
                <a:moveTo>
                  <a:pt x="94047" y="719066"/>
                </a:moveTo>
                <a:lnTo>
                  <a:pt x="175129" y="734198"/>
                </a:lnTo>
                <a:lnTo>
                  <a:pt x="171900" y="751906"/>
                </a:lnTo>
                <a:lnTo>
                  <a:pt x="87480" y="736151"/>
                </a:lnTo>
                <a:close/>
                <a:moveTo>
                  <a:pt x="1732475" y="654227"/>
                </a:moveTo>
                <a:lnTo>
                  <a:pt x="1740061" y="670822"/>
                </a:lnTo>
                <a:lnTo>
                  <a:pt x="1657733" y="693102"/>
                </a:lnTo>
                <a:lnTo>
                  <a:pt x="1653131" y="675699"/>
                </a:lnTo>
                <a:close/>
                <a:moveTo>
                  <a:pt x="121093" y="648021"/>
                </a:moveTo>
                <a:lnTo>
                  <a:pt x="193564" y="668412"/>
                </a:lnTo>
                <a:lnTo>
                  <a:pt x="187778" y="685483"/>
                </a:lnTo>
                <a:lnTo>
                  <a:pt x="114844" y="664963"/>
                </a:lnTo>
                <a:lnTo>
                  <a:pt x="120799" y="649471"/>
                </a:lnTo>
                <a:close/>
                <a:moveTo>
                  <a:pt x="1703605" y="584417"/>
                </a:moveTo>
                <a:lnTo>
                  <a:pt x="1707892" y="600448"/>
                </a:lnTo>
                <a:lnTo>
                  <a:pt x="1708508" y="601796"/>
                </a:lnTo>
                <a:lnTo>
                  <a:pt x="1640259" y="627022"/>
                </a:lnTo>
                <a:lnTo>
                  <a:pt x="1639049" y="622444"/>
                </a:lnTo>
                <a:lnTo>
                  <a:pt x="1633440" y="610352"/>
                </a:lnTo>
                <a:close/>
                <a:moveTo>
                  <a:pt x="136138" y="573632"/>
                </a:moveTo>
                <a:lnTo>
                  <a:pt x="215446" y="603848"/>
                </a:lnTo>
                <a:lnTo>
                  <a:pt x="209665" y="620908"/>
                </a:lnTo>
                <a:lnTo>
                  <a:pt x="132521" y="591516"/>
                </a:lnTo>
                <a:close/>
                <a:moveTo>
                  <a:pt x="1683900" y="510741"/>
                </a:moveTo>
                <a:lnTo>
                  <a:pt x="1688629" y="528423"/>
                </a:lnTo>
                <a:lnTo>
                  <a:pt x="1612275" y="564725"/>
                </a:lnTo>
                <a:lnTo>
                  <a:pt x="1604700" y="548396"/>
                </a:lnTo>
                <a:close/>
                <a:moveTo>
                  <a:pt x="147252" y="494765"/>
                </a:moveTo>
                <a:lnTo>
                  <a:pt x="243177" y="541551"/>
                </a:lnTo>
                <a:lnTo>
                  <a:pt x="234224" y="557210"/>
                </a:lnTo>
                <a:lnTo>
                  <a:pt x="146805" y="514573"/>
                </a:lnTo>
                <a:close/>
                <a:moveTo>
                  <a:pt x="1670480" y="430384"/>
                </a:moveTo>
                <a:lnTo>
                  <a:pt x="1672163" y="450296"/>
                </a:lnTo>
                <a:lnTo>
                  <a:pt x="1583450" y="502701"/>
                </a:lnTo>
                <a:lnTo>
                  <a:pt x="1573155" y="487877"/>
                </a:lnTo>
                <a:close/>
                <a:moveTo>
                  <a:pt x="149273" y="405169"/>
                </a:moveTo>
                <a:lnTo>
                  <a:pt x="277016" y="482359"/>
                </a:lnTo>
                <a:lnTo>
                  <a:pt x="268080" y="497989"/>
                </a:lnTo>
                <a:lnTo>
                  <a:pt x="148805" y="425916"/>
                </a:lnTo>
                <a:close/>
                <a:moveTo>
                  <a:pt x="195968" y="338361"/>
                </a:moveTo>
                <a:lnTo>
                  <a:pt x="314600" y="425459"/>
                </a:lnTo>
                <a:lnTo>
                  <a:pt x="302826" y="439145"/>
                </a:lnTo>
                <a:lnTo>
                  <a:pt x="173559" y="344239"/>
                </a:lnTo>
                <a:lnTo>
                  <a:pt x="192568" y="339792"/>
                </a:lnTo>
                <a:close/>
                <a:moveTo>
                  <a:pt x="1665887" y="337121"/>
                </a:moveTo>
                <a:lnTo>
                  <a:pt x="1664242" y="356571"/>
                </a:lnTo>
                <a:lnTo>
                  <a:pt x="1664553" y="360248"/>
                </a:lnTo>
                <a:lnTo>
                  <a:pt x="1544474" y="446578"/>
                </a:lnTo>
                <a:lnTo>
                  <a:pt x="1534206" y="431793"/>
                </a:lnTo>
                <a:close/>
                <a:moveTo>
                  <a:pt x="279257" y="303297"/>
                </a:moveTo>
                <a:lnTo>
                  <a:pt x="359087" y="373748"/>
                </a:lnTo>
                <a:lnTo>
                  <a:pt x="347347" y="387394"/>
                </a:lnTo>
                <a:lnTo>
                  <a:pt x="260839" y="311051"/>
                </a:lnTo>
                <a:close/>
                <a:moveTo>
                  <a:pt x="1595859" y="288337"/>
                </a:moveTo>
                <a:lnTo>
                  <a:pt x="1615448" y="295194"/>
                </a:lnTo>
                <a:lnTo>
                  <a:pt x="1504459" y="391189"/>
                </a:lnTo>
                <a:lnTo>
                  <a:pt x="1491819" y="378322"/>
                </a:lnTo>
                <a:close/>
                <a:moveTo>
                  <a:pt x="348471" y="263494"/>
                </a:moveTo>
                <a:lnTo>
                  <a:pt x="405504" y="323744"/>
                </a:lnTo>
                <a:lnTo>
                  <a:pt x="394934" y="332080"/>
                </a:lnTo>
                <a:lnTo>
                  <a:pt x="391923" y="335581"/>
                </a:lnTo>
                <a:lnTo>
                  <a:pt x="333116" y="273456"/>
                </a:lnTo>
                <a:close/>
                <a:moveTo>
                  <a:pt x="1512159" y="259039"/>
                </a:moveTo>
                <a:lnTo>
                  <a:pt x="1530860" y="265585"/>
                </a:lnTo>
                <a:lnTo>
                  <a:pt x="1456606" y="342477"/>
                </a:lnTo>
                <a:lnTo>
                  <a:pt x="1443988" y="329632"/>
                </a:lnTo>
                <a:close/>
                <a:moveTo>
                  <a:pt x="412110" y="221916"/>
                </a:moveTo>
                <a:lnTo>
                  <a:pt x="459114" y="281464"/>
                </a:lnTo>
                <a:lnTo>
                  <a:pt x="444980" y="292610"/>
                </a:lnTo>
                <a:lnTo>
                  <a:pt x="397097" y="231949"/>
                </a:lnTo>
                <a:lnTo>
                  <a:pt x="411019" y="222917"/>
                </a:lnTo>
                <a:close/>
                <a:moveTo>
                  <a:pt x="1443396" y="221678"/>
                </a:moveTo>
                <a:lnTo>
                  <a:pt x="1459286" y="230644"/>
                </a:lnTo>
                <a:lnTo>
                  <a:pt x="1406897" y="295670"/>
                </a:lnTo>
                <a:lnTo>
                  <a:pt x="1392300" y="285098"/>
                </a:lnTo>
                <a:close/>
                <a:moveTo>
                  <a:pt x="1379005" y="182170"/>
                </a:moveTo>
                <a:lnTo>
                  <a:pt x="1391896" y="192619"/>
                </a:lnTo>
                <a:lnTo>
                  <a:pt x="1393186" y="193347"/>
                </a:lnTo>
                <a:lnTo>
                  <a:pt x="1351622" y="255636"/>
                </a:lnTo>
                <a:lnTo>
                  <a:pt x="1337034" y="245070"/>
                </a:lnTo>
                <a:close/>
                <a:moveTo>
                  <a:pt x="468008" y="170577"/>
                </a:moveTo>
                <a:lnTo>
                  <a:pt x="513069" y="239589"/>
                </a:lnTo>
                <a:lnTo>
                  <a:pt x="510638" y="240828"/>
                </a:lnTo>
                <a:lnTo>
                  <a:pt x="498586" y="250333"/>
                </a:lnTo>
                <a:lnTo>
                  <a:pt x="454568" y="182920"/>
                </a:lnTo>
                <a:close/>
                <a:moveTo>
                  <a:pt x="1319759" y="134146"/>
                </a:moveTo>
                <a:lnTo>
                  <a:pt x="1333978" y="145672"/>
                </a:lnTo>
                <a:lnTo>
                  <a:pt x="1294036" y="219016"/>
                </a:lnTo>
                <a:lnTo>
                  <a:pt x="1277891" y="211027"/>
                </a:lnTo>
                <a:close/>
                <a:moveTo>
                  <a:pt x="523355" y="113305"/>
                </a:moveTo>
                <a:lnTo>
                  <a:pt x="573987" y="208530"/>
                </a:lnTo>
                <a:lnTo>
                  <a:pt x="557949" y="216707"/>
                </a:lnTo>
                <a:lnTo>
                  <a:pt x="511350" y="129068"/>
                </a:lnTo>
                <a:close/>
                <a:moveTo>
                  <a:pt x="1261668" y="77024"/>
                </a:moveTo>
                <a:lnTo>
                  <a:pt x="1274734" y="92144"/>
                </a:lnTo>
                <a:lnTo>
                  <a:pt x="1232872" y="188750"/>
                </a:lnTo>
                <a:lnTo>
                  <a:pt x="1216718" y="180757"/>
                </a:lnTo>
                <a:close/>
                <a:moveTo>
                  <a:pt x="879964" y="47539"/>
                </a:moveTo>
                <a:lnTo>
                  <a:pt x="896536" y="48415"/>
                </a:lnTo>
                <a:lnTo>
                  <a:pt x="898006" y="48246"/>
                </a:lnTo>
                <a:lnTo>
                  <a:pt x="900930" y="121496"/>
                </a:lnTo>
                <a:lnTo>
                  <a:pt x="882930" y="121839"/>
                </a:lnTo>
                <a:close/>
                <a:moveTo>
                  <a:pt x="803804" y="43511"/>
                </a:moveTo>
                <a:lnTo>
                  <a:pt x="822082" y="44478"/>
                </a:lnTo>
                <a:lnTo>
                  <a:pt x="832792" y="126618"/>
                </a:lnTo>
                <a:lnTo>
                  <a:pt x="814920" y="128774"/>
                </a:lnTo>
                <a:close/>
                <a:moveTo>
                  <a:pt x="577653" y="42008"/>
                </a:moveTo>
                <a:lnTo>
                  <a:pt x="634782" y="177534"/>
                </a:lnTo>
                <a:lnTo>
                  <a:pt x="618704" y="185731"/>
                </a:lnTo>
                <a:lnTo>
                  <a:pt x="565079" y="58518"/>
                </a:lnTo>
                <a:close/>
                <a:moveTo>
                  <a:pt x="973404" y="39567"/>
                </a:moveTo>
                <a:lnTo>
                  <a:pt x="969228" y="123258"/>
                </a:lnTo>
                <a:lnTo>
                  <a:pt x="951312" y="121130"/>
                </a:lnTo>
                <a:lnTo>
                  <a:pt x="955278" y="41654"/>
                </a:lnTo>
                <a:close/>
                <a:moveTo>
                  <a:pt x="723233" y="31443"/>
                </a:moveTo>
                <a:lnTo>
                  <a:pt x="742691" y="35995"/>
                </a:lnTo>
                <a:lnTo>
                  <a:pt x="765354" y="137622"/>
                </a:lnTo>
                <a:lnTo>
                  <a:pt x="747791" y="141567"/>
                </a:lnTo>
                <a:close/>
                <a:moveTo>
                  <a:pt x="1051847" y="25765"/>
                </a:moveTo>
                <a:lnTo>
                  <a:pt x="1037014" y="131308"/>
                </a:lnTo>
                <a:lnTo>
                  <a:pt x="1019135" y="129184"/>
                </a:lnTo>
                <a:lnTo>
                  <a:pt x="1032869" y="31462"/>
                </a:lnTo>
                <a:close/>
                <a:moveTo>
                  <a:pt x="633115" y="6990"/>
                </a:moveTo>
                <a:lnTo>
                  <a:pt x="651107" y="14566"/>
                </a:lnTo>
                <a:lnTo>
                  <a:pt x="654699" y="15406"/>
                </a:lnTo>
                <a:lnTo>
                  <a:pt x="699105" y="154429"/>
                </a:lnTo>
                <a:lnTo>
                  <a:pt x="682029" y="160125"/>
                </a:lnTo>
                <a:close/>
                <a:moveTo>
                  <a:pt x="1203134" y="4273"/>
                </a:moveTo>
                <a:lnTo>
                  <a:pt x="1213236" y="20976"/>
                </a:lnTo>
                <a:lnTo>
                  <a:pt x="1215649" y="23769"/>
                </a:lnTo>
                <a:lnTo>
                  <a:pt x="1169442" y="163605"/>
                </a:lnTo>
                <a:lnTo>
                  <a:pt x="1152188" y="158449"/>
                </a:lnTo>
                <a:close/>
                <a:moveTo>
                  <a:pt x="1137683" y="0"/>
                </a:moveTo>
                <a:lnTo>
                  <a:pt x="1104046" y="144062"/>
                </a:lnTo>
                <a:lnTo>
                  <a:pt x="1086767" y="138898"/>
                </a:lnTo>
                <a:lnTo>
                  <a:pt x="1117806" y="5966"/>
                </a:lnTo>
                <a:close/>
              </a:path>
            </a:pathLst>
          </a:custGeom>
          <a:solidFill>
            <a:srgbClr val="b9cde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MH_SubTitle_2"/>
          <p:cNvSpPr/>
          <p:nvPr/>
        </p:nvSpPr>
        <p:spPr>
          <a:xfrm>
            <a:off x="5584680" y="2781360"/>
            <a:ext cx="1766880" cy="1768320"/>
          </a:xfrm>
          <a:prstGeom prst="pi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战略性进入壁垒</a:t>
            </a:r>
            <a:endParaRPr b="0" lang="en-US" sz="1800" spc="-1" strike="noStrike">
              <a:solidFill>
                <a:srgbClr val="000000"/>
              </a:solidFill>
              <a:latin typeface="Arial"/>
            </a:endParaRPr>
          </a:p>
        </p:txBody>
      </p:sp>
      <p:sp>
        <p:nvSpPr>
          <p:cNvPr id="367" name="MH_Other_4"/>
          <p:cNvSpPr/>
          <p:nvPr/>
        </p:nvSpPr>
        <p:spPr>
          <a:xfrm>
            <a:off x="5759280" y="2781360"/>
            <a:ext cx="1411560" cy="368280"/>
          </a:xfrm>
          <a:prstGeom prst="pi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宋体"/>
              </a:rPr>
              <a:t>02</a:t>
            </a:r>
            <a:endParaRPr b="0" lang="en-US" sz="2400" spc="-1" strike="noStrike">
              <a:solidFill>
                <a:srgbClr val="000000"/>
              </a:solidFill>
              <a:latin typeface="Arial"/>
            </a:endParaRPr>
          </a:p>
        </p:txBody>
      </p:sp>
      <p:sp>
        <p:nvSpPr>
          <p:cNvPr id="368" name="标题 1"/>
          <p:cNvSpPr/>
          <p:nvPr/>
        </p:nvSpPr>
        <p:spPr>
          <a:xfrm>
            <a:off x="576360" y="297000"/>
            <a:ext cx="540072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6.2</a:t>
            </a:r>
            <a:r>
              <a:rPr b="0" lang="zh-CN" sz="3200" spc="-1" strike="noStrike">
                <a:solidFill>
                  <a:srgbClr val="c0504d"/>
                </a:solidFill>
                <a:latin typeface="微软雅黑"/>
                <a:ea typeface="微软雅黑"/>
              </a:rPr>
              <a:t>进入和标准</a:t>
            </a:r>
            <a:endParaRPr b="0" lang="en-US" sz="32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6-30T02:27:11Z</dcterms:created>
  <dc:creator>lsy</dc:creator>
  <dc:description/>
  <dc:language>en-US</dc:language>
  <cp:lastModifiedBy>ThinkPad</cp:lastModifiedBy>
  <dcterms:modified xsi:type="dcterms:W3CDTF">2021-06-30T02:52:14Z</dcterms:modified>
  <cp:revision>198</cp:revision>
  <dc:subject/>
  <dc:title>ch0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10228</vt:lpwstr>
  </property>
</Properties>
</file>