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6BF5A-A174-4260-83F1-7ACE97D26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4612C-1006-412F-8B83-4E3CEB0C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EB90BC-6CF4-4509-A41E-F1317B5B48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64A6EC-A648-4BEC-9049-3D757781B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FA60AF-9D00-4C8F-ACD2-714B1E10FA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F5111-AAF1-46DE-98B4-1823F396C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E0443A-7D96-42C0-9480-A365B8686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1600DB-BC2D-416A-A222-B01C616EF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DD0FE-21D0-4E63-83D6-E229D82C6F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11D14-28C4-4A7B-A573-74D67D94B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165BA-1261-4E17-889B-DF02B93D5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FE094D-1AC1-4D72-8BBF-A39C442DD5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4CFBC-4AD5-4BE5-ACA8-17B82EA34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E37EA1-6988-4071-A215-AF7F383D63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6969EA-206E-45A7-B51B-31E8DCE82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E41F9-4E8A-462A-8CFA-BB24A1EB4B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1DF1C-098F-4D48-AEF5-168EB8385A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B2EB1C-D796-464A-B079-A40C6D1784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1205D7-A2C0-495F-ABD4-DC669F5E3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5AD82A-DD90-4EA4-9E3B-CA463ED98D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A9FE24-7668-401F-95CC-50B726FBC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906CA6-854A-451F-BDD5-5B984D1483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4040F7-453D-4276-85AE-5D89391F89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BE26-5C77-4EA8-8EF7-9EEDD3666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CF6346-53D8-4E1C-8757-5FF4E19359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24B9A-8757-49F6-8C28-6049F5748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F6209-108E-4342-8692-02A07B36F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20997-50E4-4476-9C46-2C27FC57E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79551-FFCF-4DB5-9AA5-84A9A3038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2D988-12B2-4BD4-B5EE-79E82233F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77F98-6C63-4D49-A796-F0E3C14DA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F2F28-CC79-470E-88B0-58470337A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F13E-5915-47DA-A8CD-CB0B0C97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8C7C-CF43-4313-8EE1-0BC0AB00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931FE-A74C-402A-B81A-A86F6B934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E10E-064A-45EC-AF0B-44ACAFD18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758B3-5916-43B3-B56B-AC88CF3AF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8D762-55AA-4576-9F0B-43579812B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4B7567-0EF8-4A60-ACB4-27E6697D3B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E50E7-F207-41C9-9164-C93C225A0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43394-A282-4E7D-B429-CF5082FDA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429AB-5AB1-4F9E-8EF7-3ED5B0873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0BAAF-C6A5-418F-A709-E8E613E79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2871-904E-480B-B30B-D0022F88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C4C71-96AC-4CC1-8268-2F7D2A5F6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7B8A6-367D-47C7-ACB9-923C3E8C6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30EE3-DCEE-436B-8D7B-802132CCC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E25AB-A17F-4092-975D-0A74BDBFA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76D5-0608-4F04-A62A-08D4F7DB4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44D5EA-DC55-4148-988E-DE32F46535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0E670-79CE-4007-8AE6-6F7FC56D7B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70100-6531-420B-A48F-B8D9E3602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44950-2698-47B8-A671-1D738FDA8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EEC8B-DDF7-4B78-B598-337E97397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6045A-8513-41AF-990F-62D8B4A6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6654B-BBCD-4D0B-9179-7B99D0B3C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7A6C9-4EFA-44A4-A740-3303E5542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6DF54-A1A7-4FFB-94FB-0BC9B002A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BB3B2-FAB5-4791-A401-ABCC1B36A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46178-1590-4CF1-90E3-D56ADCCD5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96D1F-01A4-4D84-8EB6-9BF981540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6CE5D-4BA6-4EAA-8969-227C57A35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F0AB8-C63C-48ED-88F1-E4A90B74FB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4A1F74-A484-4D8E-AE13-27FAD9BBA7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CA337-3291-45A2-9A9A-A5C5D98DB2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C67E-2A72-4888-99E9-054D5823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D67A0-ADA4-437C-9AF0-12B565899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3DF0A-6097-4D67-B087-2C8503CF0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65561-0CD2-45FD-BA44-6BE4E7C6F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19B6F-01BC-4DCE-B4E6-2C9B21C10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AEDCA-F6DD-490F-8691-DD52C3138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029B-7D29-42A3-823C-DC5649681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72243-6D03-4F4A-BDC7-FA4C58BEF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127D8-2F74-40B0-8056-BDE098AC4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C1624-97CD-4C4D-9065-CB23A6D74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2121C6-6F83-40E8-B8C6-A41F18B2C7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19410-399B-45D9-A288-61AB23103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8A0F2-02B0-4AFF-A5B5-992898B24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1AACAD-2AB3-4AC4-A54A-B7EFDCD52B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02BAE-11F6-4F06-88C1-68DE701B4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33C0A7-5224-44DF-9F68-4BB54DC9B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57BCB-311E-4E59-BA29-B4FAF6F32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2D5D0-1DB5-4E1A-82C2-06B2449F3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D9E5E-0C8F-4378-B20D-8140CD2FA5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B4111-E249-4CE7-AC77-EAFE6EDAD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1B340-7AE2-4060-B662-5971DB94D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56EB9-2E6E-489A-A2F0-4267C4B49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0E2B-0893-43EF-ACEE-6F224449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3C918-888C-40E0-BEA0-42A403F18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AE3B8-FFE5-464B-B4FF-F1FDE4EFE5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930A9B-1705-458C-93F7-2759157302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5798A3-6A9C-4A7B-A1C1-6B5CEE82F1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7D5785-5B8C-45A9-AB2B-4D3BB59B04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6E6648-A2B1-469D-AF3D-CD21E53B4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5FCD9-87CD-4B76-ACBA-75F0077FA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B2F3C-DEE1-48BB-8B31-1AB28B66C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6AB23-17A8-448D-95AD-0B2015B86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5984C-D4A8-421E-8392-DD66025A0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E38E-49E1-4601-8ECD-F97D1024B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C126D-9560-459D-862C-C37A4FFD4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6E420-C117-4811-917A-C7F9C0B69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ADBAC-19C6-4B60-8307-1E15776FB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0696A7-3BD3-4BB8-905E-D85C93D098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67455C-6D05-4D3F-9728-E34C41FE7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A49305-44B3-4EDC-8C34-1C21E2A82A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22B54-B5CF-4ADD-9FE6-B7D3126DF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E4625-B710-4BC0-A4E7-1F78E5DE4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281AFD-310C-4395-BECC-49EB5D1A6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374CE-7CAF-4D88-900A-86F8EF237E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34A5-B67A-4E7E-9B9E-80D54BCB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D3107-54D0-449B-A878-46B5F91E0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43358-6516-4B07-860E-C4D8A336A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9ABE8-8D97-434A-AF9F-BB72BBA88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FC6CA-1D25-413A-868B-153A49D22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7F1EE-EFA7-4B26-BD9C-5680621AF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C3D82D-F795-4018-BDEE-39E75DAFA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1E71E-B863-477D-A1EE-7C78F87151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AFD346-44CD-4ED3-B6D4-FD348B50BE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1D11E-E14C-4D89-90D1-634481BF4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4E58FD-F09A-4038-9A14-494A427584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8C7C-4AF0-40D9-B2DB-E3458EE627BB}"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FE08-586D-4079-B06A-42E09EA31CA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CE79-451B-4BD7-87C6-3CD747B4683E}"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0632-CF9C-40C1-B5D5-C86831B91FEC}"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3C33-6CF1-42FB-B7ED-425DA9729338}"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3B9C-CB71-40A2-BC93-55DF28378FA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8E90-71D9-4E12-8E30-A69B31916C99}"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3DFB-7E30-4E18-B9E6-A24E4028DE34}"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18EF-F787-4E5D-9F41-9AE796936DD1}"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3FEB-07E8-48D6-9D9C-DF094B216D8F}"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141E-DFB7-428E-AF2C-F9DAFD4CA87A}"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2914-1CB5-440C-9CF4-9FD210A538E7}"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1C1B-6EF4-4D09-82AB-BAF53FC25DC2}"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4CCA-E82D-4751-BEDE-D2DAC89D673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21B-2F86-4DF4-A1C8-BAB5D0CF5777}"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12B1-E7A2-4359-85B4-CA95807D5BB7}"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4EC4-76FD-4D4A-901B-FEB34001A9F8}"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BB39-471B-46A7-8023-1563A4BA1FA5}"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8A27-C8E0-4679-8F00-FF356617092E}" type="datetime">
              <a:rPr b="0" lang="zh-CN" sz="1200" spc="-1" strike="noStrike">
                <a:solidFill>
                  <a:srgbClr val="898989"/>
                </a:solidFill>
                <a:latin typeface="Calibri"/>
                <a:ea typeface="宋体"/>
              </a:rPr>
              <a:t>26/7/31</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F32C-7DC1-4072-A807-0522597A81F7}"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5</a:t>
            </a:r>
            <a:r>
              <a:rPr b="1" lang="zh-CN" sz="4000" spc="-1" strike="noStrike">
                <a:solidFill>
                  <a:srgbClr val="000000"/>
                </a:solidFill>
                <a:latin typeface="微软雅黑"/>
                <a:ea typeface="微软雅黑"/>
              </a:rPr>
              <a:t>章  商业模式</a:t>
            </a:r>
            <a:endParaRPr b="0" lang="en-US" sz="4000" spc="-1" strike="noStrike">
              <a:solidFill>
                <a:srgbClr val="000000"/>
              </a:solidFill>
              <a:latin typeface="Calibri"/>
            </a:endParaRPr>
          </a:p>
        </p:txBody>
      </p:sp>
      <p:sp>
        <p:nvSpPr>
          <p:cNvPr id="419" name="直接连接符 4"/>
          <p:cNvSpPr/>
          <p:nvPr/>
        </p:nvSpPr>
        <p:spPr>
          <a:xfrm>
            <a:off x="1440000" y="2889360"/>
            <a:ext cx="5940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B8B0-80DB-405C-901F-CCD3CCC456A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58" name="Group 128"/>
          <p:cNvGrpSpPr/>
          <p:nvPr/>
        </p:nvGrpSpPr>
        <p:grpSpPr>
          <a:xfrm>
            <a:off x="7704000" y="2349360"/>
            <a:ext cx="648000" cy="453960"/>
            <a:chOff x="7704000" y="2349360"/>
            <a:chExt cx="648000" cy="453960"/>
          </a:xfrm>
        </p:grpSpPr>
        <p:sp>
          <p:nvSpPr>
            <p:cNvPr id="5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7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图片 89" descr=""/>
          <p:cNvPicPr/>
          <p:nvPr/>
        </p:nvPicPr>
        <p:blipFill>
          <a:blip r:embed="rId1"/>
          <a:stretch/>
        </p:blipFill>
        <p:spPr>
          <a:xfrm>
            <a:off x="988920" y="2073240"/>
            <a:ext cx="6220080" cy="21909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D3A0-1936-466F-8173-B21B7082545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组合 127"/>
          <p:cNvGrpSpPr/>
          <p:nvPr/>
        </p:nvGrpSpPr>
        <p:grpSpPr>
          <a:xfrm>
            <a:off x="250920" y="324000"/>
            <a:ext cx="264960" cy="417240"/>
            <a:chOff x="250920" y="324000"/>
            <a:chExt cx="264960" cy="417240"/>
          </a:xfrm>
        </p:grpSpPr>
        <p:sp>
          <p:nvSpPr>
            <p:cNvPr id="5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8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文本框 99"/>
          <p:cNvSpPr/>
          <p:nvPr/>
        </p:nvSpPr>
        <p:spPr>
          <a:xfrm>
            <a:off x="515880" y="1252440"/>
            <a:ext cx="7836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消费者目标群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选定产品市场范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列举潜在顾客的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分析潜在顾客的不同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4</a:t>
            </a:r>
            <a:r>
              <a:rPr b="0" lang="zh-CN" sz="1800" spc="-1" strike="noStrike">
                <a:solidFill>
                  <a:srgbClr val="000000"/>
                </a:solidFill>
                <a:latin typeface="Arial"/>
                <a:ea typeface="宋体"/>
              </a:rPr>
              <a:t>）制定相应的营销策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价值主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罗列全部优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宣传有利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突出共鸣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分销渠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分销渠道的起点是生产者，终点是消费者或者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分销渠道是一组路线，是由生产商根据产品的特性进行组织和设计的，在大多数情况下，生产商所设计的渠道策略充分考虑其参与者——中间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rPr>
              <a:t>3</a:t>
            </a:r>
            <a:r>
              <a:rPr b="0" lang="zh-CN" sz="1800" spc="-1" strike="noStrike">
                <a:solidFill>
                  <a:srgbClr val="000000"/>
                </a:solidFill>
                <a:latin typeface="Arial"/>
                <a:ea typeface="宋体"/>
              </a:rPr>
              <a:t>）商流和物流</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8994-0DB1-485F-A76E-E7DBED92DC3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88" name="Group 128"/>
          <p:cNvGrpSpPr/>
          <p:nvPr/>
        </p:nvGrpSpPr>
        <p:grpSpPr>
          <a:xfrm>
            <a:off x="7704000" y="2349360"/>
            <a:ext cx="648000" cy="453960"/>
            <a:chOff x="7704000" y="2349360"/>
            <a:chExt cx="648000" cy="453960"/>
          </a:xfrm>
        </p:grpSpPr>
        <p:sp>
          <p:nvSpPr>
            <p:cNvPr id="5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组合 127"/>
          <p:cNvGrpSpPr/>
          <p:nvPr/>
        </p:nvGrpSpPr>
        <p:grpSpPr>
          <a:xfrm>
            <a:off x="250920" y="324000"/>
            <a:ext cx="264960" cy="417240"/>
            <a:chOff x="250920" y="324000"/>
            <a:chExt cx="264960" cy="417240"/>
          </a:xfrm>
        </p:grpSpPr>
        <p:sp>
          <p:nvSpPr>
            <p:cNvPr id="59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0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99"/>
          <p:cNvSpPr/>
          <p:nvPr/>
        </p:nvSpPr>
        <p:spPr>
          <a:xfrm>
            <a:off x="515880" y="1252440"/>
            <a:ext cx="783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客户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客户关系是指企业为达到其经营目标，主动与客户建立起的某种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收入模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通过各种收入流（</a:t>
            </a:r>
            <a:r>
              <a:rPr b="0" lang="zh-CN" sz="1800" spc="-1" strike="noStrike">
                <a:solidFill>
                  <a:srgbClr val="000000"/>
                </a:solidFill>
                <a:latin typeface="Arial"/>
                <a:ea typeface="宋体"/>
              </a:rPr>
              <a:t>Revenue Flow</a:t>
            </a:r>
            <a:r>
              <a:rPr b="0" lang="zh-CN" sz="1800" spc="-1" strike="noStrike">
                <a:solidFill>
                  <a:srgbClr val="000000"/>
                </a:solidFill>
                <a:latin typeface="Arial"/>
                <a:ea typeface="宋体"/>
              </a:rPr>
              <a:t>）来创造财富的途径。收入流来源一般是资产销售、使用收费、订阅收费、租赁收费、授权收费、经纪收费、广告收费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六）关键资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指使用价值或效果常常处于变动状态且有效空间较大，同时又不易替代的资源。从资源与企业业绩的关系上看，企业关键资源是指企业拥有的一些对其具体业务保持持续性的竞争优势至关重要的基于能力的资源；若企业有效地拥有这些资源，就能够在市场中获得超出平均水平的收益；若企业在市场竞争中缺乏这类资源，就会导致竞争失利甚至难以维持正常的运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七）核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核心能力是指公司的主要能力，即是公司在竞争中处于优势地位的强项，是其它对手很难达到或者无法具备的一种能力。</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F8B2-6CE9-4206-9F3D-A77EB292043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3" name="Group 128"/>
          <p:cNvGrpSpPr/>
          <p:nvPr/>
        </p:nvGrpSpPr>
        <p:grpSpPr>
          <a:xfrm>
            <a:off x="7704000" y="2349360"/>
            <a:ext cx="648000" cy="453960"/>
            <a:chOff x="7704000" y="2349360"/>
            <a:chExt cx="648000" cy="453960"/>
          </a:xfrm>
        </p:grpSpPr>
        <p:sp>
          <p:nvSpPr>
            <p:cNvPr id="60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组合 127"/>
          <p:cNvGrpSpPr/>
          <p:nvPr/>
        </p:nvGrpSpPr>
        <p:grpSpPr>
          <a:xfrm>
            <a:off x="250920" y="324000"/>
            <a:ext cx="264960" cy="417240"/>
            <a:chOff x="250920" y="324000"/>
            <a:chExt cx="264960" cy="417240"/>
          </a:xfrm>
        </p:grpSpPr>
        <p:sp>
          <p:nvSpPr>
            <p:cNvPr id="6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1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99"/>
          <p:cNvSpPr/>
          <p:nvPr/>
        </p:nvSpPr>
        <p:spPr>
          <a:xfrm>
            <a:off x="515880" y="1252440"/>
            <a:ext cx="783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八）合作伙伴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同其他公司之间为有效地提供价值并实现其商业化而形成的合作关系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四种：非竞争者之间的战略联盟关系，竞合关系（在竞争者之间的战略合作关系），为开发新业务而构建的合资关系，为确保可靠供应的购买方——供应商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九）成本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本结构是企业成本中各个成本项目的数额占全部成本数额的比重，即产品 </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劳务或作业</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成本的构成情况。</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3A4A-6AF6-4306-B0A2-BAFB4D268CA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18" name="Group 128"/>
          <p:cNvGrpSpPr/>
          <p:nvPr/>
        </p:nvGrpSpPr>
        <p:grpSpPr>
          <a:xfrm>
            <a:off x="7704000" y="2349360"/>
            <a:ext cx="648000" cy="453960"/>
            <a:chOff x="7704000" y="2349360"/>
            <a:chExt cx="648000" cy="453960"/>
          </a:xfrm>
        </p:grpSpPr>
        <p:sp>
          <p:nvSpPr>
            <p:cNvPr id="6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组合 127"/>
          <p:cNvGrpSpPr/>
          <p:nvPr/>
        </p:nvGrpSpPr>
        <p:grpSpPr>
          <a:xfrm>
            <a:off x="250920" y="324000"/>
            <a:ext cx="264960" cy="417240"/>
            <a:chOff x="250920" y="324000"/>
            <a:chExt cx="264960" cy="417240"/>
          </a:xfrm>
        </p:grpSpPr>
        <p:sp>
          <p:nvSpPr>
            <p:cNvPr id="62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3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文本框 99"/>
          <p:cNvSpPr/>
          <p:nvPr/>
        </p:nvSpPr>
        <p:spPr>
          <a:xfrm>
            <a:off x="576360" y="836640"/>
            <a:ext cx="78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案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493560" y="1822320"/>
          <a:ext cx="8055000" cy="2538720"/>
        </p:xfrm>
        <a:graphic>
          <a:graphicData uri="http://schemas.openxmlformats.org/drawingml/2006/table">
            <a:tbl>
              <a:tblPr/>
              <a:tblGrid>
                <a:gridCol w="1012680"/>
                <a:gridCol w="2051280"/>
                <a:gridCol w="587160"/>
                <a:gridCol w="955800"/>
                <a:gridCol w="1852560"/>
                <a:gridCol w="1595520"/>
              </a:tblGrid>
              <a:tr h="875520">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场地出租商、自行车制造商</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自行车定点停放，场地租赁，自行车购买</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间段收费，服务单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无互动，客户交付押金或以证件租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租车点附近有需求的客户（学生、上班族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6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场地、自行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不同区域设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52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经营人力成本、租用场地成本、自行车购置和维修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3" name="文本框 2"/>
          <p:cNvSpPr/>
          <p:nvPr/>
        </p:nvSpPr>
        <p:spPr>
          <a:xfrm>
            <a:off x="2031840" y="479736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1 </a:t>
            </a:r>
            <a:r>
              <a:rPr b="0" lang="zh-CN" sz="1400" spc="-1" strike="noStrike">
                <a:solidFill>
                  <a:srgbClr val="000000"/>
                </a:solidFill>
                <a:latin typeface="Arial"/>
                <a:ea typeface="宋体"/>
              </a:rPr>
              <a:t>传统单车的商业模式画布分析</a:t>
            </a:r>
            <a:endParaRPr b="0" lang="en-US" sz="1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
          <p:cNvGraphicFramePr/>
          <p:nvPr/>
        </p:nvGraphicFramePr>
        <p:xfrm>
          <a:off x="819000" y="779400"/>
          <a:ext cx="7311960" cy="3565440"/>
        </p:xfrm>
        <a:graphic>
          <a:graphicData uri="http://schemas.openxmlformats.org/drawingml/2006/table">
            <a:tbl>
              <a:tblPr/>
              <a:tblGrid>
                <a:gridCol w="1238400"/>
                <a:gridCol w="1860480"/>
                <a:gridCol w="415800"/>
                <a:gridCol w="1071720"/>
                <a:gridCol w="1487520"/>
                <a:gridCol w="1238040"/>
              </a:tblGrid>
              <a:tr h="16462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投资商、政府、自行车制造商、维修方</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设计、生产、投放自行车维修、保养自行车推广开发客户、获得政府同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段收费、随走随停、解决最后一公里</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通过</a:t>
                      </a:r>
                      <a:r>
                        <a:rPr b="0" lang="en-US" sz="1800" spc="-1" strike="noStrike">
                          <a:solidFill>
                            <a:srgbClr val="000000"/>
                          </a:solidFill>
                          <a:latin typeface="宋体"/>
                        </a:rPr>
                        <a:t>APP</a:t>
                      </a:r>
                      <a:r>
                        <a:rPr b="0" lang="en-US" sz="1800" spc="-1" strike="noStrike">
                          <a:solidFill>
                            <a:srgbClr val="000000"/>
                          </a:solidFill>
                          <a:latin typeface="宋体"/>
                        </a:rPr>
                        <a:t>管理用户、与用户沟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用户较为广泛、即时即地使用</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0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运营、设计管理人才、投入资本、生产能力</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a:t>
                      </a:r>
                      <a:r>
                        <a:rPr b="0" lang="en-US" sz="1800" spc="-1" strike="noStrike">
                          <a:solidFill>
                            <a:srgbClr val="000000"/>
                          </a:solidFill>
                          <a:latin typeface="宋体"/>
                        </a:rPr>
                        <a:t>APP</a:t>
                      </a:r>
                      <a:r>
                        <a:rPr b="0" lang="en-US" sz="1800" spc="-1" strike="noStrike">
                          <a:solidFill>
                            <a:srgbClr val="000000"/>
                          </a:solidFill>
                          <a:latin typeface="宋体"/>
                        </a:rPr>
                        <a:t>注册、定位工具</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24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人力成本、管理成本、软件成本、自行车购置维修成本、推广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押金运作收益</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5" name="文本框 99"/>
          <p:cNvSpPr/>
          <p:nvPr/>
        </p:nvSpPr>
        <p:spPr>
          <a:xfrm>
            <a:off x="2031840" y="476712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2 </a:t>
            </a:r>
            <a:r>
              <a:rPr b="0" lang="zh-CN" sz="1400" spc="-1" strike="noStrike">
                <a:solidFill>
                  <a:srgbClr val="000000"/>
                </a:solidFill>
                <a:latin typeface="Arial"/>
                <a:ea typeface="宋体"/>
              </a:rPr>
              <a:t>共享单车的商业模式画布分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D94F-E53C-4157-8CD3-6E411964519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37" name="Group 128"/>
          <p:cNvGrpSpPr/>
          <p:nvPr/>
        </p:nvGrpSpPr>
        <p:grpSpPr>
          <a:xfrm>
            <a:off x="7704000" y="2349360"/>
            <a:ext cx="648000" cy="453960"/>
            <a:chOff x="7704000" y="2349360"/>
            <a:chExt cx="648000" cy="453960"/>
          </a:xfrm>
        </p:grpSpPr>
        <p:sp>
          <p:nvSpPr>
            <p:cNvPr id="6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组合 127"/>
          <p:cNvGrpSpPr/>
          <p:nvPr/>
        </p:nvGrpSpPr>
        <p:grpSpPr>
          <a:xfrm>
            <a:off x="250920" y="324000"/>
            <a:ext cx="264960" cy="417240"/>
            <a:chOff x="250920" y="324000"/>
            <a:chExt cx="264960" cy="417240"/>
          </a:xfrm>
        </p:grpSpPr>
        <p:sp>
          <p:nvSpPr>
            <p:cNvPr id="64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title"/>
          </p:nvPr>
        </p:nvSpPr>
        <p:spPr>
          <a:xfrm>
            <a:off x="576360" y="296640"/>
            <a:ext cx="70214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3   </a:t>
            </a:r>
            <a:r>
              <a:rPr b="1" lang="en-US" sz="3200" spc="-1" strike="noStrike">
                <a:solidFill>
                  <a:srgbClr val="c0504d"/>
                </a:solidFill>
                <a:latin typeface="微软雅黑"/>
                <a:ea typeface="微软雅黑"/>
              </a:rPr>
              <a:t>互联网经济中常见的商业模式</a:t>
            </a:r>
            <a:endParaRPr b="0" lang="en-US" sz="3200" spc="-1" strike="noStrike">
              <a:solidFill>
                <a:srgbClr val="000000"/>
              </a:solidFill>
              <a:latin typeface="Calibri"/>
            </a:endParaRPr>
          </a:p>
        </p:txBody>
      </p:sp>
      <p:sp>
        <p:nvSpPr>
          <p:cNvPr id="64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文本框 99"/>
          <p:cNvSpPr/>
          <p:nvPr/>
        </p:nvSpPr>
        <p:spPr>
          <a:xfrm>
            <a:off x="770040" y="1562040"/>
            <a:ext cx="5079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免费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二、平台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三、广告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四、计量收费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五、分享经济商业模式</a:t>
            </a:r>
            <a:endParaRPr b="0" lang="en-US" sz="20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906E-EFAB-4710-8CEE-4E920907A0ED}"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6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653" name="图片 2" descr=""/>
          <p:cNvPicPr/>
          <p:nvPr/>
        </p:nvPicPr>
        <p:blipFill>
          <a:blip r:embed="rId1"/>
          <a:stretch/>
        </p:blipFill>
        <p:spPr>
          <a:xfrm>
            <a:off x="4606920" y="404640"/>
            <a:ext cx="4178160" cy="2679840"/>
          </a:xfrm>
          <a:prstGeom prst="rect">
            <a:avLst/>
          </a:prstGeom>
          <a:ln w="0">
            <a:noFill/>
          </a:ln>
        </p:spPr>
      </p:pic>
      <p:sp>
        <p:nvSpPr>
          <p:cNvPr id="654" name="Rectangle 2"/>
          <p:cNvSpPr/>
          <p:nvPr/>
        </p:nvSpPr>
        <p:spPr>
          <a:xfrm>
            <a:off x="358920" y="300528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商业模式是什么，主要从哪些方面评价企业商业模式</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商业模式与盈利模式有什么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用商业模式画布分析某互联网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F842-7850-4AB9-A865-237D7BF25A3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656" name="Picture 4" descr=""/>
          <p:cNvPicPr/>
          <p:nvPr/>
        </p:nvPicPr>
        <p:blipFill>
          <a:blip r:embed="rId1"/>
          <a:stretch/>
        </p:blipFill>
        <p:spPr>
          <a:xfrm>
            <a:off x="576360" y="836640"/>
            <a:ext cx="4998960" cy="3676680"/>
          </a:xfrm>
          <a:prstGeom prst="rect">
            <a:avLst/>
          </a:prstGeom>
          <a:ln w="0">
            <a:noFill/>
          </a:ln>
        </p:spPr>
      </p:pic>
      <p:sp>
        <p:nvSpPr>
          <p:cNvPr id="6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商业模式九要素分析法</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商业模式发展过程</a:t>
            </a:r>
            <a:endParaRPr b="0" lang="en-US" sz="2000" spc="-1" strike="noStrike">
              <a:solidFill>
                <a:srgbClr val="000000"/>
              </a:solidFill>
              <a:latin typeface="Arial"/>
            </a:endParaRPr>
          </a:p>
        </p:txBody>
      </p:sp>
      <p:sp>
        <p:nvSpPr>
          <p:cNvPr id="426"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商业模式的不同定义</a:t>
            </a: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3A59-A070-4CE8-8686-6634E64A6DE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1148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初探</a:t>
            </a: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模式画布</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互联网中常见的商业模式</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DC63-2E22-4FFC-8B90-6A43F99A712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组合 127"/>
          <p:cNvGrpSpPr/>
          <p:nvPr/>
        </p:nvGrpSpPr>
        <p:grpSpPr>
          <a:xfrm>
            <a:off x="250920" y="324000"/>
            <a:ext cx="264960" cy="417240"/>
            <a:chOff x="250920" y="324000"/>
            <a:chExt cx="264960" cy="417240"/>
          </a:xfrm>
        </p:grpSpPr>
        <p:sp>
          <p:nvSpPr>
            <p:cNvPr id="45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sp>
        <p:nvSpPr>
          <p:cNvPr id="45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组合 10"/>
          <p:cNvGrpSpPr/>
          <p:nvPr/>
        </p:nvGrpSpPr>
        <p:grpSpPr>
          <a:xfrm>
            <a:off x="1871640" y="1387440"/>
            <a:ext cx="4537080" cy="647640"/>
            <a:chOff x="1871640" y="1387440"/>
            <a:chExt cx="4537080" cy="647640"/>
          </a:xfrm>
        </p:grpSpPr>
        <p:sp>
          <p:nvSpPr>
            <p:cNvPr id="457"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p:txBody>
        </p:sp>
        <p:sp>
          <p:nvSpPr>
            <p:cNvPr id="458"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0"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 name="组合 15"/>
          <p:cNvGrpSpPr/>
          <p:nvPr/>
        </p:nvGrpSpPr>
        <p:grpSpPr>
          <a:xfrm>
            <a:off x="1871640" y="2241720"/>
            <a:ext cx="4537080" cy="647640"/>
            <a:chOff x="1871640" y="2241720"/>
            <a:chExt cx="4537080" cy="647640"/>
          </a:xfrm>
        </p:grpSpPr>
        <p:sp>
          <p:nvSpPr>
            <p:cNvPr id="462"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定义</a:t>
              </a:r>
              <a:endParaRPr b="0" lang="en-US" sz="1800" spc="-1" strike="noStrike">
                <a:solidFill>
                  <a:srgbClr val="000000"/>
                </a:solidFill>
                <a:latin typeface="Arial"/>
              </a:endParaRPr>
            </a:p>
          </p:txBody>
        </p:sp>
        <p:sp>
          <p:nvSpPr>
            <p:cNvPr id="463"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5"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20"/>
          <p:cNvGrpSpPr/>
          <p:nvPr/>
        </p:nvGrpSpPr>
        <p:grpSpPr>
          <a:xfrm>
            <a:off x="1871640" y="3105000"/>
            <a:ext cx="4537080" cy="648000"/>
            <a:chOff x="1871640" y="3105000"/>
            <a:chExt cx="4537080" cy="648000"/>
          </a:xfrm>
        </p:grpSpPr>
        <p:sp>
          <p:nvSpPr>
            <p:cNvPr id="467"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构成要素</a:t>
              </a:r>
              <a:endParaRPr b="0" lang="en-US" sz="1800" spc="-1" strike="noStrike">
                <a:solidFill>
                  <a:srgbClr val="000000"/>
                </a:solidFill>
                <a:latin typeface="Arial"/>
              </a:endParaRPr>
            </a:p>
          </p:txBody>
        </p:sp>
        <p:sp>
          <p:nvSpPr>
            <p:cNvPr id="468"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70"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28"/>
          <p:cNvGrpSpPr/>
          <p:nvPr/>
        </p:nvGrpSpPr>
        <p:grpSpPr>
          <a:xfrm>
            <a:off x="7704000" y="2349360"/>
            <a:ext cx="648000" cy="453960"/>
            <a:chOff x="7704000" y="2349360"/>
            <a:chExt cx="648000" cy="453960"/>
          </a:xfrm>
        </p:grpSpPr>
        <p:sp>
          <p:nvSpPr>
            <p:cNvPr id="47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136520" y="952560"/>
            <a:ext cx="6869160" cy="639720"/>
            <a:chOff x="1136520" y="952560"/>
            <a:chExt cx="6869160" cy="639720"/>
          </a:xfrm>
        </p:grpSpPr>
        <p:sp>
          <p:nvSpPr>
            <p:cNvPr id="475"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476" name="直接连接符 12"/>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8" name="直接连接符 14"/>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grpSp>
        <p:nvGrpSpPr>
          <p:cNvPr id="482" name="组合 127"/>
          <p:cNvGrpSpPr/>
          <p:nvPr/>
        </p:nvGrpSpPr>
        <p:grpSpPr>
          <a:xfrm>
            <a:off x="250920" y="324000"/>
            <a:ext cx="264960" cy="417240"/>
            <a:chOff x="250920" y="324000"/>
            <a:chExt cx="264960" cy="417240"/>
          </a:xfrm>
        </p:grpSpPr>
        <p:sp>
          <p:nvSpPr>
            <p:cNvPr id="48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MH_Text_1"/>
          <p:cNvSpPr/>
          <p:nvPr/>
        </p:nvSpPr>
        <p:spPr>
          <a:xfrm>
            <a:off x="376200" y="1592280"/>
            <a:ext cx="7567560" cy="4680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ea typeface="宋体"/>
              </a:rPr>
              <a:t>      </a:t>
            </a:r>
            <a:r>
              <a:rPr b="1" lang="zh-CN" sz="1800" spc="-1" strike="noStrike">
                <a:solidFill>
                  <a:srgbClr val="595959"/>
                </a:solidFill>
                <a:latin typeface="Calibri"/>
                <a:ea typeface="宋体"/>
              </a:rPr>
              <a:t>第一时期为</a:t>
            </a:r>
            <a:r>
              <a:rPr b="1" lang="zh-CN" sz="1800" spc="-1" strike="noStrike">
                <a:solidFill>
                  <a:srgbClr val="595959"/>
                </a:solidFill>
                <a:latin typeface="Calibri"/>
                <a:ea typeface="宋体"/>
              </a:rPr>
              <a:t>1990</a:t>
            </a:r>
            <a:r>
              <a:rPr b="1" lang="zh-CN" sz="1800" spc="-1" strike="noStrike">
                <a:solidFill>
                  <a:srgbClr val="595959"/>
                </a:solidFill>
                <a:latin typeface="Calibri"/>
                <a:ea typeface="宋体"/>
              </a:rPr>
              <a:t>年以前，商业模式起源可以从交易的出现，市场的形成再到固定商铺的出现追溯。后来固定商铺又出现了大量知名的连锁店折扣店；连锁店和品牌折扣店便于管理，也便于消费者获取一定的信息，这又是商业模式的进一步发展。后期的规模生产、精益生产、 “刀片</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刀架”模式、 广告模式、 计量收费模式、 平台模式是传统经济中常见的商业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1" lang="zh-CN" sz="1800" spc="-1" strike="noStrike">
                <a:solidFill>
                  <a:srgbClr val="595959"/>
                </a:solidFill>
                <a:latin typeface="Calibri"/>
                <a:ea typeface="宋体"/>
              </a:rPr>
              <a:t>第二时期从</a:t>
            </a:r>
            <a:r>
              <a:rPr b="1" lang="zh-CN" sz="1800" spc="-1" strike="noStrike">
                <a:solidFill>
                  <a:srgbClr val="595959"/>
                </a:solidFill>
                <a:latin typeface="Calibri"/>
                <a:ea typeface="宋体"/>
              </a:rPr>
              <a:t>1991</a:t>
            </a:r>
            <a:r>
              <a:rPr b="1" lang="zh-CN" sz="1800" spc="-1" strike="noStrike">
                <a:solidFill>
                  <a:srgbClr val="595959"/>
                </a:solidFill>
                <a:latin typeface="Calibri"/>
                <a:ea typeface="宋体"/>
              </a:rPr>
              <a:t>到</a:t>
            </a:r>
            <a:r>
              <a:rPr b="1" lang="zh-CN" sz="1800" spc="-1" strike="noStrike">
                <a:solidFill>
                  <a:srgbClr val="595959"/>
                </a:solidFill>
                <a:latin typeface="Calibri"/>
                <a:ea typeface="宋体"/>
              </a:rPr>
              <a:t>2001</a:t>
            </a:r>
            <a:r>
              <a:rPr b="1" lang="zh-CN" sz="1800" spc="-1" strike="noStrike">
                <a:solidFill>
                  <a:srgbClr val="595959"/>
                </a:solidFill>
                <a:latin typeface="Calibri"/>
                <a:ea typeface="宋体"/>
              </a:rPr>
              <a:t>，在此阶段商业模式的变化主要和用网络经济的发展有关，门户网站、 搜索广告模式、 </a:t>
            </a:r>
            <a:r>
              <a:rPr b="1" lang="zh-CN" sz="1800" spc="-1" strike="noStrike">
                <a:solidFill>
                  <a:srgbClr val="595959"/>
                </a:solidFill>
                <a:latin typeface="Calibri"/>
                <a:ea typeface="宋体"/>
              </a:rPr>
              <a:t>C2C/B2C/B2B</a:t>
            </a:r>
            <a:r>
              <a:rPr b="1" lang="zh-CN" sz="1800" spc="-1" strike="noStrike">
                <a:solidFill>
                  <a:srgbClr val="595959"/>
                </a:solidFill>
                <a:latin typeface="Calibri"/>
                <a:ea typeface="宋体"/>
              </a:rPr>
              <a:t>、电子商务平台、 一站式消费理念、 长尾理论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第三时期（</a:t>
            </a:r>
            <a:r>
              <a:rPr b="1" lang="zh-CN" sz="1800" spc="-1" strike="noStrike">
                <a:solidFill>
                  <a:srgbClr val="595959"/>
                </a:solidFill>
                <a:latin typeface="Calibri"/>
                <a:ea typeface="宋体"/>
              </a:rPr>
              <a:t>2002-</a:t>
            </a:r>
            <a:r>
              <a:rPr b="1" lang="zh-CN" sz="1800" spc="-1" strike="noStrike">
                <a:solidFill>
                  <a:srgbClr val="595959"/>
                </a:solidFill>
                <a:latin typeface="Calibri"/>
                <a:ea typeface="宋体"/>
              </a:rPr>
              <a:t>至今），基本上所有行业企业都会研究其商业模式，这个阶段商业模式主要用来回答了竞争优势的持续性问题和创新 的问题。这一阶段主要的商业模式有： “免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收费”模式、社交网络、社交游戏、乔布斯的“再发明”、 全渠道销售、众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包</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创模式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28"/>
          <p:cNvGrpSpPr/>
          <p:nvPr/>
        </p:nvGrpSpPr>
        <p:grpSpPr>
          <a:xfrm>
            <a:off x="7704000" y="2349360"/>
            <a:ext cx="648000" cy="453960"/>
            <a:chOff x="7704000" y="2349360"/>
            <a:chExt cx="648000" cy="453960"/>
          </a:xfrm>
        </p:grpSpPr>
        <p:sp>
          <p:nvSpPr>
            <p:cNvPr id="4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1</a:t>
            </a:r>
            <a:r>
              <a:rPr b="1" lang="zh-CN" sz="1800" spc="-1" strike="noStrike">
                <a:solidFill>
                  <a:srgbClr val="595959"/>
                </a:solidFill>
                <a:latin typeface="Calibri"/>
                <a:ea typeface="宋体"/>
              </a:rPr>
              <a:t>：为实现客户价值最大化，把能使企业运行的内外各要素整合起来，形成一个完整的高效率的具有独特核心竞争力的运行系统，并通过最优实现形式满足客户需求、实现客户价值，同时使系统达成持续赢利目标的整体解决方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2</a:t>
            </a:r>
            <a:r>
              <a:rPr b="1" lang="zh-CN" sz="1800" spc="-1" strike="noStrike">
                <a:solidFill>
                  <a:srgbClr val="595959"/>
                </a:solidFill>
                <a:latin typeface="Calibri"/>
                <a:ea typeface="宋体"/>
              </a:rPr>
              <a:t>：商业模式就是企业为了最大化企业价值而构建的企业与其利益相关者的交易结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3</a:t>
            </a:r>
            <a:r>
              <a:rPr b="1" lang="zh-CN" sz="1800" spc="-1" strike="noStrike">
                <a:solidFill>
                  <a:srgbClr val="595959"/>
                </a:solidFill>
                <a:latin typeface="Calibri"/>
                <a:ea typeface="宋体"/>
              </a:rPr>
              <a:t>：商业模式是企业围绕客户价值最大化构造价值链的方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盈利模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盈利模式主要指的是企业如何获取利润；而商业模式包含机会识别评价、战略规划、执行和反馈等一系列内容。所以说盈利模式是商业模式的核心表现形式，盈利模式回答企业赚不赚钱，商业模式回答怎么赚钱，赚不赚钱。</a:t>
            </a: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组合 10"/>
          <p:cNvGrpSpPr/>
          <p:nvPr/>
        </p:nvGrpSpPr>
        <p:grpSpPr>
          <a:xfrm>
            <a:off x="1136520" y="952560"/>
            <a:ext cx="6869160" cy="639720"/>
            <a:chOff x="1136520" y="952560"/>
            <a:chExt cx="6869160" cy="639720"/>
          </a:xfrm>
        </p:grpSpPr>
        <p:sp>
          <p:nvSpPr>
            <p:cNvPr id="500"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01"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3"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28"/>
          <p:cNvGrpSpPr/>
          <p:nvPr/>
        </p:nvGrpSpPr>
        <p:grpSpPr>
          <a:xfrm>
            <a:off x="7704000" y="2349360"/>
            <a:ext cx="648000" cy="453960"/>
            <a:chOff x="7704000" y="2349360"/>
            <a:chExt cx="648000" cy="453960"/>
          </a:xfrm>
        </p:grpSpPr>
        <p:sp>
          <p:nvSpPr>
            <p:cNvPr id="5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09" name="组合 127"/>
          <p:cNvGrpSpPr/>
          <p:nvPr/>
        </p:nvGrpSpPr>
        <p:grpSpPr>
          <a:xfrm>
            <a:off x="250920" y="324000"/>
            <a:ext cx="264960" cy="417240"/>
            <a:chOff x="250920" y="324000"/>
            <a:chExt cx="264960" cy="417240"/>
          </a:xfrm>
        </p:grpSpPr>
        <p:sp>
          <p:nvSpPr>
            <p:cNvPr id="5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0"/>
          <p:cNvGrpSpPr/>
          <p:nvPr/>
        </p:nvGrpSpPr>
        <p:grpSpPr>
          <a:xfrm>
            <a:off x="1136520" y="952560"/>
            <a:ext cx="6869160" cy="639720"/>
            <a:chOff x="1136520" y="952560"/>
            <a:chExt cx="6869160" cy="639720"/>
          </a:xfrm>
        </p:grpSpPr>
        <p:sp>
          <p:nvSpPr>
            <p:cNvPr id="516"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17"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19"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MH_Text_1"/>
          <p:cNvSpPr/>
          <p:nvPr/>
        </p:nvSpPr>
        <p:spPr>
          <a:xfrm>
            <a:off x="576360" y="1782720"/>
            <a:ext cx="749124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企业战略</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企业战略是指企业为获得竞争优势的规划，它能将方案转化为实际行动。二者本质都是价值创造，竞争优势，模式就是企业战略的一个实施。</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不同点在于侧重点不同，战略是将来的规划，模式是现在的实施，战略更加抽象，模式更为具体。</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价值链</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价值链是一种对企业业务活动进行组织的方法</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每个战略业务单位实施这些活动对其销售的产品或服务进行设计、生产、促销、销售、运输和售后服务及辅助活动。</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异同点：首先，相互交叉。企业价值创造过程是商业模式的一个重要构成部分；企业价值链体现在更广泛的价值系统当中。其次，价值链重在内部分析，特别是对成本的分析，而商业模式分析目的是企业整体的发展规划，开拓市场，提升内部经营效率等。第三，价值链分析更针对于成熟企业，商业模式更注重新创企业。</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28"/>
          <p:cNvGrpSpPr/>
          <p:nvPr/>
        </p:nvGrpSpPr>
        <p:grpSpPr>
          <a:xfrm>
            <a:off x="7704000" y="2349360"/>
            <a:ext cx="648000" cy="453960"/>
            <a:chOff x="7704000" y="2349360"/>
            <a:chExt cx="648000" cy="453960"/>
          </a:xfrm>
        </p:grpSpPr>
        <p:sp>
          <p:nvSpPr>
            <p:cNvPr id="5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26" name="组合 127"/>
          <p:cNvGrpSpPr/>
          <p:nvPr/>
        </p:nvGrpSpPr>
        <p:grpSpPr>
          <a:xfrm>
            <a:off x="250920" y="324000"/>
            <a:ext cx="264960" cy="417240"/>
            <a:chOff x="250920" y="324000"/>
            <a:chExt cx="264960" cy="417240"/>
          </a:xfrm>
        </p:grpSpPr>
        <p:sp>
          <p:nvSpPr>
            <p:cNvPr id="5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组合 10"/>
          <p:cNvGrpSpPr/>
          <p:nvPr/>
        </p:nvGrpSpPr>
        <p:grpSpPr>
          <a:xfrm>
            <a:off x="1136520" y="952560"/>
            <a:ext cx="6869160" cy="639720"/>
            <a:chOff x="1136520" y="952560"/>
            <a:chExt cx="6869160" cy="639720"/>
          </a:xfrm>
        </p:grpSpPr>
        <p:sp>
          <p:nvSpPr>
            <p:cNvPr id="533"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34"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36"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1.</a:t>
            </a:r>
            <a:r>
              <a:rPr b="0" lang="zh-CN" sz="1800" spc="-1" strike="noStrike">
                <a:solidFill>
                  <a:srgbClr val="595959"/>
                </a:solidFill>
                <a:latin typeface="Calibri"/>
                <a:ea typeface="宋体"/>
              </a:rPr>
              <a:t>三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2.</a:t>
            </a:r>
            <a:r>
              <a:rPr b="0" lang="zh-CN" sz="1800" spc="-1" strike="noStrike">
                <a:solidFill>
                  <a:srgbClr val="595959"/>
                </a:solidFill>
                <a:latin typeface="Calibri"/>
                <a:ea typeface="宋体"/>
              </a:rPr>
              <a:t>四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能给客户带来什么价值？（价值主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给客户带来价值之后你怎么赚钱</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盈利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有什么资源能力能同时带来客户价值和公司盈利？（关键资源）</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如何来做，能同时带来客户价值和公司盈利</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关键流程）</a:t>
            </a:r>
            <a:endParaRPr b="0" lang="en-US" sz="1800" spc="-1" strike="noStrike">
              <a:solidFill>
                <a:srgbClr val="000000"/>
              </a:solidFill>
              <a:latin typeface="Arial"/>
            </a:endParaRPr>
          </a:p>
        </p:txBody>
      </p:sp>
      <p:pic>
        <p:nvPicPr>
          <p:cNvPr id="538" name="图片 87" descr=""/>
          <p:cNvPicPr/>
          <p:nvPr/>
        </p:nvPicPr>
        <p:blipFill>
          <a:blip r:embed="rId1"/>
          <a:stretch/>
        </p:blipFill>
        <p:spPr>
          <a:xfrm>
            <a:off x="739800" y="2138400"/>
            <a:ext cx="2689200" cy="19144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128"/>
          <p:cNvGrpSpPr/>
          <p:nvPr/>
        </p:nvGrpSpPr>
        <p:grpSpPr>
          <a:xfrm>
            <a:off x="7704000" y="2349360"/>
            <a:ext cx="648000" cy="453960"/>
            <a:chOff x="7704000" y="2349360"/>
            <a:chExt cx="648000" cy="453960"/>
          </a:xfrm>
        </p:grpSpPr>
        <p:sp>
          <p:nvSpPr>
            <p:cNvPr id="5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0"/>
          <p:cNvGrpSpPr/>
          <p:nvPr/>
        </p:nvGrpSpPr>
        <p:grpSpPr>
          <a:xfrm>
            <a:off x="1136520" y="952560"/>
            <a:ext cx="6869160" cy="639720"/>
            <a:chOff x="1136520" y="952560"/>
            <a:chExt cx="6869160" cy="639720"/>
          </a:xfrm>
        </p:grpSpPr>
        <p:sp>
          <p:nvSpPr>
            <p:cNvPr id="551"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52"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54"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ea typeface="宋体"/>
              </a:rPr>
              <a:t>3</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六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图片 18" descr="微信图片_20210125103812"/>
          <p:cNvPicPr/>
          <p:nvPr/>
        </p:nvPicPr>
        <p:blipFill>
          <a:blip r:embed="rId1"/>
          <a:stretch/>
        </p:blipFill>
        <p:spPr>
          <a:xfrm>
            <a:off x="1936800" y="1655640"/>
            <a:ext cx="5270400" cy="354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1:29:04Z</dcterms:created>
  <dc:creator>lsy</dc:creator>
  <dc:description/>
  <dc:language>en-US</dc:language>
  <cp:lastModifiedBy>ThinkPad</cp:lastModifiedBy>
  <dcterms:modified xsi:type="dcterms:W3CDTF">2021-06-30T02:26:55Z</dcterms:modified>
  <cp:revision>223</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