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3.png" ContentType="image/png"/>
  <Override PartName="/ppt/media/image22.wmf" ContentType="image/x-wmf"/>
  <Override PartName="/ppt/media/image21.jpeg" ContentType="image/jpeg"/>
  <Override PartName="/ppt/media/image16.png" ContentType="image/png"/>
  <Override PartName="/ppt/media/image19.png" ContentType="image/png"/>
  <Override PartName="/ppt/media/image18.png" ContentType="image/png"/>
  <Override PartName="/ppt/media/image17.png" ContentType="image/png"/>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65FAF-06B0-42CB-A889-EAB25373736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78E16-374C-4E25-9A0C-472ADF2F8E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882720" y="1055520"/>
            <a:ext cx="5051520" cy="3789360"/>
          </a:xfrm>
          <a:prstGeom prst="rect">
            <a:avLst/>
          </a:prstGeom>
          <a:ln w="0">
            <a:noFill/>
          </a:ln>
        </p:spPr>
      </p:sp>
      <p:sp>
        <p:nvSpPr>
          <p:cNvPr id="760" name="PlaceHolder 2"/>
          <p:cNvSpPr>
            <a:spLocks noGrp="1"/>
          </p:cNvSpPr>
          <p:nvPr>
            <p:ph type="body"/>
          </p:nvPr>
        </p:nvSpPr>
        <p:spPr>
          <a:xfrm>
            <a:off x="917640" y="4971960"/>
            <a:ext cx="5022720" cy="34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B0FF10-0D7A-4BF1-AFC2-00A1808BE6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06561-31E7-4417-8D85-51B5C56CE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BAFB97-0387-4B2A-9B8B-C4BF29AED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28F1CD-72A1-4EF1-AB48-1854D1CBC7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282897-A38A-4F56-9488-924CA95E7F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0A3F8F-B5D7-4CDD-A7FA-BA08761690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1A78BB-30D7-4C22-AB9F-E07418FA6E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8619B5-A0FC-41AA-B826-D541648DE7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4972AE-7716-44B0-9451-D7915AF01A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1213CC-83DF-4759-9ECA-17174F197A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90D79F-F451-45BC-8CBE-B852590757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66026-2319-4261-9E43-B979AA427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5192E3-5BD2-4332-9CF5-2AD16EB64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238199-1716-4819-8F1F-62D0DACBB7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3CE5F2-4566-417B-AED3-15138D2A22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082942-7BAF-41E5-801C-DDB0907E57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05A957-3792-44D1-B271-99654D829A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262C49-DCF3-4374-9E34-8E3A5AC5C2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9B89CE-3BCA-4D5E-80C1-FE746B4992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365018-79D2-427E-9B86-41D9E05A48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CC3328-C0CB-4320-BCF4-AF09CC428C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2ABC99-1BAD-421C-B23D-96546EDFB1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7F8A4-F4F9-4E37-9FAA-088C07AC8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199F1F-CCBA-4041-ABDE-943C23148B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909579-B599-475C-B807-5C74BCE3B5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ADEF94-2D22-4FCB-BD3C-0B65C26667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14529C-650A-4393-B30E-E33AE58DCF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165566-1DA0-4921-A818-A3A5A8F5E9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C545C0-E00C-442E-9D4A-C8781F9559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894BE4-031F-4301-B700-3577CD2150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DCB129-D301-48AB-B643-62642B3A45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27577A-0C3C-4ED8-8E07-9E63BF1F45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ABBB95-197F-42E5-A049-000362928C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02FA0-C085-4DC6-8475-35A7E4E05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4679E4-C199-4015-AD65-CA7C7FB30D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FF7773-C298-479C-9130-F056C0A940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19EF17-45E5-473A-966C-22E00B3E99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902B9C-21DD-4B44-97D9-9049C902EF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7500A6-2DC5-4699-BEB6-23BB306D8B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78FF9A-C796-457E-A377-CC8D6659B0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C50C2E-D525-4D2D-B43E-7A49494280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7E0F55-EB36-400E-AEB1-0E623AD54B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6D9078-98D4-4D5E-B327-D87D491C6D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EB57DC-0881-42F9-B0B8-69498B2973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E00F1-D1AC-40EB-A3D6-9B66EEC38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825152-BBD0-4D87-96DE-059E5C0984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A63D21-80A3-48D6-9925-EAC47D718E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919949-965B-44AE-AFA7-FC2F2E0175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D9E976-100A-492E-A1C0-E77A77CEE7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77FE52-9AD9-4899-A274-2E5BC85A54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FC0F83-599E-45B3-AC44-848884A1B3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9BFBA7-E75E-4888-B4D2-4565CA4F5C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57E4BF-1FF8-4CC9-BFC9-C4DB594680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3F5DC4-93D6-479D-8721-EF5ADF3615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D76B2A-B230-4DF8-8D89-AA04C632DC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64A5E-E016-4989-ABA2-D0AD3CE32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F5E37E-4D95-40FB-A2FE-41ABB7D395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55BBB-8551-4D94-865C-EFF1329CD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7AF0D-9041-40A0-BE1A-8275626A8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C22B7-106F-4047-A90B-478D757346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B9FD9-65B4-42BA-ABCE-D216B1CCCB0E}" type="datetime">
              <a:rPr b="0" lang="zh-CN" sz="1200" spc="-1" strike="noStrike">
                <a:solidFill>
                  <a:srgbClr val="898989"/>
                </a:solidFill>
                <a:latin typeface="Calibri"/>
              </a:rPr>
              <a:t>26/7/31</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39E3F-AD7C-4DAF-B874-22468EB5E54D}"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15" descr="图片1修改.jpg"/>
          <p:cNvPicPr/>
          <p:nvPr/>
        </p:nvPicPr>
        <p:blipFill>
          <a:blip r:embed="rId2"/>
          <a:stretch/>
        </p:blipFill>
        <p:spPr>
          <a:xfrm>
            <a:off x="0" y="1773360"/>
            <a:ext cx="9144000" cy="508464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B9520-A314-48E8-9988-31DA92739F57}" type="datetime">
              <a:rPr b="0" lang="zh-CN" sz="1200" spc="-1" strike="noStrike">
                <a:solidFill>
                  <a:srgbClr val="898989"/>
                </a:solidFill>
                <a:latin typeface="Calibri"/>
              </a:rPr>
              <a:t>26/7/31</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1CF80-88AD-4ED3-B4B1-C3C4AB65DCF5}"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6" descr="图片13.jpg"/>
          <p:cNvPicPr/>
          <p:nvPr/>
        </p:nvPicPr>
        <p:blipFill>
          <a:blip r:embed="rId2"/>
          <a:stretch/>
        </p:blipFill>
        <p:spPr>
          <a:xfrm>
            <a:off x="0" y="874800"/>
            <a:ext cx="9144000" cy="59832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1778F-8A8B-4208-B393-595183791F7D}" type="datetime">
              <a:rPr b="0" lang="zh-CN" sz="1200" spc="-1" strike="noStrike">
                <a:solidFill>
                  <a:srgbClr val="898989"/>
                </a:solidFill>
                <a:latin typeface="Calibri"/>
              </a:rPr>
              <a:t>26/7/31</a:t>
            </a:fld>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72F72-06E7-4C2B-9469-74AC09E43D91}"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图片 6" descr="图片14.jpg"/>
          <p:cNvPicPr/>
          <p:nvPr/>
        </p:nvPicPr>
        <p:blipFill>
          <a:blip r:embed="rId2"/>
          <a:stretch/>
        </p:blipFill>
        <p:spPr>
          <a:xfrm>
            <a:off x="0" y="1197000"/>
            <a:ext cx="9144000" cy="566100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D9B4E-E26D-4663-B8C8-ABC7B530D888}" type="datetime">
              <a:rPr b="0" lang="zh-CN" sz="1200" spc="-1" strike="noStrike">
                <a:solidFill>
                  <a:srgbClr val="898989"/>
                </a:solidFill>
                <a:latin typeface="Calibri"/>
              </a:rPr>
              <a:t>26/7/31</a:t>
            </a:fld>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300360" y="6345360"/>
            <a:ext cx="2590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3AE6B-3CB0-4363-B036-C961F1138F50}"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图片 7" descr="图片12.jpg"/>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1A2BF-9D60-4B43-B55C-944486A11B36}" type="datetime">
              <a:rPr b="0" lang="zh-CN" sz="1200" spc="-1" strike="noStrike">
                <a:solidFill>
                  <a:srgbClr val="898989"/>
                </a:solidFill>
                <a:latin typeface="Calibri"/>
              </a:rPr>
              <a:t>26/7/31</a:t>
            </a:fld>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2A0D2-002A-45FA-B86B-0D515D5F0B96}"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3.xml"/><Relationship Id="rId1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15640" y="2023560"/>
            <a:ext cx="7777080" cy="722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第四章   网络经济供给与需求</a:t>
            </a:r>
            <a:endParaRPr b="0" lang="en-US" sz="4000" spc="-1" strike="noStrike">
              <a:solidFill>
                <a:srgbClr val="000000"/>
              </a:solidFill>
              <a:latin typeface="Calibri"/>
            </a:endParaRPr>
          </a:p>
        </p:txBody>
      </p:sp>
      <p:sp>
        <p:nvSpPr>
          <p:cNvPr id="217" name="直接连接符 4"/>
          <p:cNvSpPr/>
          <p:nvPr/>
        </p:nvSpPr>
        <p:spPr>
          <a:xfrm>
            <a:off x="1440000" y="2889360"/>
            <a:ext cx="7237440" cy="0"/>
          </a:xfrm>
          <a:prstGeom prst="line">
            <a:avLst/>
          </a:prstGeom>
          <a:ln w="3492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9" name=""/>
          <p:cNvGrpSpPr/>
          <p:nvPr/>
        </p:nvGrpSpPr>
        <p:grpSpPr>
          <a:xfrm>
            <a:off x="576360" y="2023920"/>
            <a:ext cx="7450920" cy="3336840"/>
            <a:chOff x="576360" y="2023920"/>
            <a:chExt cx="7450920" cy="3336840"/>
          </a:xfrm>
        </p:grpSpPr>
        <p:grpSp>
          <p:nvGrpSpPr>
            <p:cNvPr id="370" name="Group 128"/>
            <p:cNvGrpSpPr/>
            <p:nvPr/>
          </p:nvGrpSpPr>
          <p:grpSpPr>
            <a:xfrm>
              <a:off x="7380000" y="2315520"/>
              <a:ext cx="647280" cy="459000"/>
              <a:chOff x="7380000" y="2315520"/>
              <a:chExt cx="647280" cy="459000"/>
            </a:xfrm>
          </p:grpSpPr>
          <p:sp>
            <p:nvSpPr>
              <p:cNvPr id="371" name="AutoShape 129"/>
              <p:cNvSpPr/>
              <p:nvPr/>
            </p:nvSpPr>
            <p:spPr>
              <a:xfrm>
                <a:off x="7667280" y="2459880"/>
                <a:ext cx="360000" cy="314640"/>
              </a:xfrm>
              <a:prstGeom prst="hexagon">
                <a:avLst>
                  <a:gd name="adj" fmla="val 2860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130"/>
              <p:cNvSpPr/>
              <p:nvPr/>
            </p:nvSpPr>
            <p:spPr>
              <a:xfrm>
                <a:off x="7380000" y="2315520"/>
                <a:ext cx="360000" cy="314640"/>
              </a:xfrm>
              <a:prstGeom prst="hexagon">
                <a:avLst>
                  <a:gd name="adj" fmla="val 2860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3" name="AutoShape 26"/>
            <p:cNvSpPr/>
            <p:nvPr/>
          </p:nvSpPr>
          <p:spPr>
            <a:xfrm>
              <a:off x="900000" y="4062240"/>
              <a:ext cx="360000" cy="314280"/>
            </a:xfrm>
            <a:prstGeom prst="hexagon">
              <a:avLst>
                <a:gd name="adj" fmla="val 28637"/>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AutoShape 78"/>
            <p:cNvSpPr/>
            <p:nvPr/>
          </p:nvSpPr>
          <p:spPr>
            <a:xfrm>
              <a:off x="576360" y="5046120"/>
              <a:ext cx="360000" cy="314640"/>
            </a:xfrm>
            <a:prstGeom prst="hexagon">
              <a:avLst>
                <a:gd name="adj" fmla="val 28604"/>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MH_Other_1"/>
            <p:cNvSpPr/>
            <p:nvPr/>
          </p:nvSpPr>
          <p:spPr>
            <a:xfrm flipH="1" rot="1805400">
              <a:off x="1206000" y="2344320"/>
              <a:ext cx="712440" cy="620640"/>
            </a:xfrm>
            <a:prstGeom prst="triangle">
              <a:avLst>
                <a:gd name="adj" fmla="val 50000"/>
              </a:avLst>
            </a:prstGeom>
            <a:solidFill>
              <a:srgbClr val="b9cde5"/>
            </a:solidFill>
            <a:ln w="0">
              <a:noFill/>
            </a:ln>
          </p:spPr>
          <p:style>
            <a:lnRef idx="0"/>
            <a:fillRef idx="0"/>
            <a:effectRef idx="0"/>
            <a:fontRef idx="minor"/>
          </p:style>
          <p:txBody>
            <a:bodyPr lIns="90000" rIns="90000" tIns="46800" bIns="46800" anchor="ctr">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MH_Other_2"/>
            <p:cNvSpPr/>
            <p:nvPr/>
          </p:nvSpPr>
          <p:spPr>
            <a:xfrm>
              <a:off x="645840" y="2023920"/>
              <a:ext cx="947520" cy="1104120"/>
            </a:xfrm>
            <a:prstGeom prst="pie">
              <a:avLst/>
            </a:prstGeom>
            <a:solidFill>
              <a:srgbClr val="4f81bd"/>
            </a:solidFill>
            <a:ln w="0">
              <a:noFill/>
            </a:ln>
          </p:spPr>
          <p:style>
            <a:lnRef idx="0"/>
            <a:fillRef idx="0"/>
            <a:effectRef idx="0"/>
            <a:fontRef idx="minor"/>
          </p:style>
          <p:txBody>
            <a:bodyPr lIns="90000" rIns="432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幼圆"/>
                </a:rPr>
                <a:t>01</a:t>
              </a:r>
              <a:endParaRPr b="0" lang="en-US" sz="2800" spc="-1" strike="noStrike">
                <a:solidFill>
                  <a:srgbClr val="000000"/>
                </a:solidFill>
                <a:latin typeface="Arial"/>
              </a:endParaRPr>
            </a:p>
          </p:txBody>
        </p:sp>
        <p:sp>
          <p:nvSpPr>
            <p:cNvPr id="377" name="MH_SubTitle_1"/>
            <p:cNvSpPr/>
            <p:nvPr/>
          </p:nvSpPr>
          <p:spPr>
            <a:xfrm>
              <a:off x="1771560" y="2206800"/>
              <a:ext cx="2261880" cy="100116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摩尔定律</a:t>
              </a:r>
              <a:endParaRPr b="0" lang="en-US" sz="2000" spc="-1" strike="noStrike">
                <a:solidFill>
                  <a:srgbClr val="000000"/>
                </a:solidFill>
                <a:latin typeface="Arial"/>
              </a:endParaRPr>
            </a:p>
          </p:txBody>
        </p:sp>
        <p:sp>
          <p:nvSpPr>
            <p:cNvPr id="378" name="MH_Other_3"/>
            <p:cNvSpPr/>
            <p:nvPr/>
          </p:nvSpPr>
          <p:spPr>
            <a:xfrm flipH="1" rot="1805400">
              <a:off x="1523520" y="3903120"/>
              <a:ext cx="712440" cy="620640"/>
            </a:xfrm>
            <a:prstGeom prst="triangle">
              <a:avLst>
                <a:gd name="adj" fmla="val 50000"/>
              </a:avLst>
            </a:prstGeom>
            <a:solidFill>
              <a:srgbClr val="d7e4bd"/>
            </a:solidFill>
            <a:ln w="0">
              <a:noFill/>
            </a:ln>
          </p:spPr>
          <p:style>
            <a:lnRef idx="0"/>
            <a:fillRef idx="0"/>
            <a:effectRef idx="0"/>
            <a:fontRef idx="minor"/>
          </p:style>
          <p:txBody>
            <a:bodyPr lIns="90000" rIns="90000" tIns="46800" bIns="46800" anchor="ctr">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MH_Other_4"/>
            <p:cNvSpPr/>
            <p:nvPr/>
          </p:nvSpPr>
          <p:spPr>
            <a:xfrm>
              <a:off x="961920" y="3583800"/>
              <a:ext cx="947160" cy="1102680"/>
            </a:xfrm>
            <a:prstGeom prst="pie">
              <a:avLst/>
            </a:prstGeom>
            <a:solidFill>
              <a:srgbClr val="9bbb59"/>
            </a:solidFill>
            <a:ln w="0">
              <a:noFill/>
            </a:ln>
          </p:spPr>
          <p:style>
            <a:lnRef idx="0"/>
            <a:fillRef idx="0"/>
            <a:effectRef idx="0"/>
            <a:fontRef idx="minor"/>
          </p:style>
          <p:txBody>
            <a:bodyPr lIns="90000" rIns="432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幼圆"/>
                </a:rPr>
                <a:t>03</a:t>
              </a:r>
              <a:endParaRPr b="0" lang="en-US" sz="2800" spc="-1" strike="noStrike">
                <a:solidFill>
                  <a:srgbClr val="000000"/>
                </a:solidFill>
                <a:latin typeface="Arial"/>
              </a:endParaRPr>
            </a:p>
          </p:txBody>
        </p:sp>
        <p:sp>
          <p:nvSpPr>
            <p:cNvPr id="380" name="MH_SubTitle_3"/>
            <p:cNvSpPr/>
            <p:nvPr/>
          </p:nvSpPr>
          <p:spPr>
            <a:xfrm>
              <a:off x="2087280" y="3912840"/>
              <a:ext cx="2261880" cy="79272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梅特卡夫法则</a:t>
              </a:r>
              <a:endParaRPr b="0" lang="en-US" sz="2000" spc="-1" strike="noStrike">
                <a:solidFill>
                  <a:srgbClr val="000000"/>
                </a:solidFill>
                <a:latin typeface="Arial"/>
              </a:endParaRPr>
            </a:p>
          </p:txBody>
        </p:sp>
        <p:sp>
          <p:nvSpPr>
            <p:cNvPr id="381" name="MH_Other_5"/>
            <p:cNvSpPr/>
            <p:nvPr/>
          </p:nvSpPr>
          <p:spPr>
            <a:xfrm flipH="1" rot="1805400">
              <a:off x="4866480" y="3122640"/>
              <a:ext cx="712440" cy="621000"/>
            </a:xfrm>
            <a:prstGeom prst="triangle">
              <a:avLst>
                <a:gd name="adj" fmla="val 50000"/>
              </a:avLst>
            </a:prstGeom>
            <a:solidFill>
              <a:srgbClr val="e6b9b8"/>
            </a:solidFill>
            <a:ln w="0">
              <a:noFill/>
            </a:ln>
          </p:spPr>
          <p:style>
            <a:lnRef idx="0"/>
            <a:fillRef idx="0"/>
            <a:effectRef idx="0"/>
            <a:fontRef idx="minor"/>
          </p:style>
          <p:txBody>
            <a:bodyPr lIns="90000" rIns="90000" tIns="46800" bIns="46800" anchor="ctr">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MH_Other_6"/>
            <p:cNvSpPr/>
            <p:nvPr/>
          </p:nvSpPr>
          <p:spPr>
            <a:xfrm>
              <a:off x="4306680" y="2803680"/>
              <a:ext cx="947520" cy="1104120"/>
            </a:xfrm>
            <a:prstGeom prst="pie">
              <a:avLst/>
            </a:prstGeom>
            <a:solidFill>
              <a:srgbClr val="c0504d"/>
            </a:solidFill>
            <a:ln w="0">
              <a:noFill/>
            </a:ln>
          </p:spPr>
          <p:style>
            <a:lnRef idx="0"/>
            <a:fillRef idx="0"/>
            <a:effectRef idx="0"/>
            <a:fontRef idx="minor"/>
          </p:style>
          <p:txBody>
            <a:bodyPr lIns="90000" rIns="432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幼圆"/>
                </a:rPr>
                <a:t>02</a:t>
              </a:r>
              <a:endParaRPr b="0" lang="en-US" sz="2800" spc="-1" strike="noStrike">
                <a:solidFill>
                  <a:srgbClr val="000000"/>
                </a:solidFill>
                <a:latin typeface="Arial"/>
              </a:endParaRPr>
            </a:p>
          </p:txBody>
        </p:sp>
        <p:sp>
          <p:nvSpPr>
            <p:cNvPr id="383" name="MH_SubTitle_2"/>
            <p:cNvSpPr/>
            <p:nvPr/>
          </p:nvSpPr>
          <p:spPr>
            <a:xfrm>
              <a:off x="5430600" y="3134160"/>
              <a:ext cx="2261880" cy="79128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达维多定律</a:t>
              </a:r>
              <a:endParaRPr b="0" lang="en-US" sz="2000" spc="-1" strike="noStrike">
                <a:solidFill>
                  <a:srgbClr val="000000"/>
                </a:solidFill>
                <a:latin typeface="Arial"/>
              </a:endParaRPr>
            </a:p>
          </p:txBody>
        </p:sp>
      </p:grpSp>
      <p:sp>
        <p:nvSpPr>
          <p:cNvPr id="384" name=""/>
          <p:cNvSpPr/>
          <p:nvPr/>
        </p:nvSpPr>
        <p:spPr>
          <a:xfrm>
            <a:off x="1007280" y="1268280"/>
            <a:ext cx="2006280" cy="368280"/>
          </a:xfrm>
          <a:prstGeom prst="rect">
            <a:avLst/>
          </a:prstGeom>
          <a:noFill/>
          <a:ln w="0">
            <a:noFill/>
          </a:ln>
          <a:effectLst>
            <a:outerShdw dist="17819" dir="2700000" blurRad="0" rotWithShape="0">
              <a:srgbClr val="2f4d7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t>
            </a:r>
            <a:r>
              <a:rPr b="1" lang="zh-CN" sz="1800" spc="-1" strike="noStrike">
                <a:solidFill>
                  <a:srgbClr val="333399"/>
                </a:solidFill>
                <a:latin typeface="Arial"/>
              </a:rPr>
              <a:t>四</a:t>
            </a:r>
            <a:r>
              <a:rPr b="1" lang="en-US" sz="1800" spc="-1" strike="noStrike">
                <a:solidFill>
                  <a:srgbClr val="333399"/>
                </a:solidFill>
                <a:latin typeface="Arial"/>
              </a:rPr>
              <a:t>)</a:t>
            </a:r>
            <a:r>
              <a:rPr b="1" lang="zh-CN" sz="1800" spc="-1" strike="noStrike">
                <a:solidFill>
                  <a:srgbClr val="333399"/>
                </a:solidFill>
                <a:latin typeface="Arial"/>
              </a:rPr>
              <a:t>网络外部性经济学分析</a:t>
            </a:r>
            <a:endParaRPr b="0" lang="en-US" sz="1800" spc="-1" strike="noStrike">
              <a:solidFill>
                <a:srgbClr val="000000"/>
              </a:solidFill>
              <a:latin typeface="Arial"/>
            </a:endParaRPr>
          </a:p>
        </p:txBody>
      </p:sp>
      <p:sp>
        <p:nvSpPr>
          <p:cNvPr id="385" name="标题 1"/>
          <p:cNvSpPr/>
          <p:nvPr/>
        </p:nvSpPr>
        <p:spPr>
          <a:xfrm>
            <a:off x="576360" y="297000"/>
            <a:ext cx="64800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0504d"/>
                </a:solidFill>
                <a:latin typeface="微软雅黑"/>
                <a:ea typeface="微软雅黑"/>
              </a:rPr>
              <a:t>第一节  网络外部性与正反馈</a:t>
            </a:r>
            <a:br>
              <a:rPr sz="2900"/>
            </a:b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6" name="Group 128"/>
          <p:cNvGrpSpPr/>
          <p:nvPr/>
        </p:nvGrpSpPr>
        <p:grpSpPr>
          <a:xfrm>
            <a:off x="7704000" y="2349360"/>
            <a:ext cx="648000" cy="453960"/>
            <a:chOff x="7704000" y="2349360"/>
            <a:chExt cx="648000" cy="453960"/>
          </a:xfrm>
        </p:grpSpPr>
        <p:sp>
          <p:nvSpPr>
            <p:cNvPr id="387"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9" name="组合 10"/>
          <p:cNvGrpSpPr/>
          <p:nvPr/>
        </p:nvGrpSpPr>
        <p:grpSpPr>
          <a:xfrm>
            <a:off x="1224000" y="944640"/>
            <a:ext cx="7128000" cy="647640"/>
            <a:chOff x="1224000" y="944640"/>
            <a:chExt cx="7128000" cy="647640"/>
          </a:xfrm>
        </p:grpSpPr>
        <p:sp>
          <p:nvSpPr>
            <p:cNvPr id="390" name="TextBox 11"/>
            <p:cNvSpPr/>
            <p:nvPr/>
          </p:nvSpPr>
          <p:spPr>
            <a:xfrm>
              <a:off x="1482480" y="944640"/>
              <a:ext cx="686952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正反馈</a:t>
              </a:r>
              <a:endParaRPr b="0" lang="en-US" sz="1800" spc="-1" strike="noStrike">
                <a:solidFill>
                  <a:srgbClr val="000000"/>
                </a:solidFill>
                <a:latin typeface="Arial"/>
              </a:endParaRPr>
            </a:p>
          </p:txBody>
        </p:sp>
        <p:sp>
          <p:nvSpPr>
            <p:cNvPr id="391"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流程图: 联系 13"/>
            <p:cNvSpPr/>
            <p:nvPr/>
          </p:nvSpPr>
          <p:spPr>
            <a:xfrm>
              <a:off x="1224000" y="121284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393"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4"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6" name="组合 127"/>
          <p:cNvGrpSpPr/>
          <p:nvPr/>
        </p:nvGrpSpPr>
        <p:grpSpPr>
          <a:xfrm>
            <a:off x="250920" y="324000"/>
            <a:ext cx="264960" cy="417240"/>
            <a:chOff x="250920" y="324000"/>
            <a:chExt cx="264960" cy="417240"/>
          </a:xfrm>
        </p:grpSpPr>
        <p:sp>
          <p:nvSpPr>
            <p:cNvPr id="397"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0" name="Rectangle 2"/>
          <p:cNvSpPr/>
          <p:nvPr/>
        </p:nvSpPr>
        <p:spPr>
          <a:xfrm>
            <a:off x="684360" y="1820520"/>
            <a:ext cx="7991280" cy="505440"/>
          </a:xfrm>
          <a:prstGeom prst="rect">
            <a:avLst/>
          </a:prstGeom>
          <a:solidFill>
            <a:srgbClr val="fdeada">
              <a:alpha val="41000"/>
            </a:srgbClr>
          </a:solidFill>
          <a:ln w="25560">
            <a:solidFill>
              <a:srgbClr val="4f81bd"/>
            </a:solidFill>
            <a:miter/>
          </a:ln>
        </p:spPr>
        <p:style>
          <a:lnRef idx="0"/>
          <a:fillRef idx="0"/>
          <a:effectRef idx="0"/>
          <a:fontRef idx="minor"/>
        </p:style>
        <p:txBody>
          <a:bodyPr lIns="90000" rIns="90000" tIns="46800" bIns="46800" anchor="ctr">
            <a:spAutoFit/>
          </a:bodyPr>
          <a:p>
            <a:pPr>
              <a:lnSpc>
                <a:spcPct val="150000"/>
              </a:lnSpc>
              <a:spcAft>
                <a:spcPts val="22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引例：减肥 冰箱原理</a:t>
            </a:r>
            <a:endParaRPr b="0" lang="en-US" sz="1800" spc="-1" strike="noStrike">
              <a:solidFill>
                <a:srgbClr val="000000"/>
              </a:solidFill>
              <a:latin typeface="Arial"/>
            </a:endParaRPr>
          </a:p>
        </p:txBody>
      </p:sp>
      <p:sp>
        <p:nvSpPr>
          <p:cNvPr id="401" name="MH_SubTitle_1"/>
          <p:cNvSpPr/>
          <p:nvPr/>
        </p:nvSpPr>
        <p:spPr>
          <a:xfrm>
            <a:off x="5041800" y="2274840"/>
            <a:ext cx="5108760" cy="49392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MH_Text_1"/>
          <p:cNvSpPr/>
          <p:nvPr/>
        </p:nvSpPr>
        <p:spPr>
          <a:xfrm>
            <a:off x="1116000" y="2781360"/>
            <a:ext cx="7343640" cy="1247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t>
            </a:r>
            <a:r>
              <a:rPr b="1" lang="zh-CN" sz="1800" spc="-1" strike="noStrike">
                <a:solidFill>
                  <a:srgbClr val="333399"/>
                </a:solidFill>
                <a:latin typeface="Arial"/>
              </a:rPr>
              <a:t>一</a:t>
            </a:r>
            <a:r>
              <a:rPr b="1" lang="en-US" sz="1800" spc="-1" strike="noStrike">
                <a:solidFill>
                  <a:srgbClr val="333399"/>
                </a:solidFill>
                <a:latin typeface="Arial"/>
              </a:rPr>
              <a:t>)</a:t>
            </a:r>
            <a:r>
              <a:rPr b="1" lang="zh-CN" sz="1800" spc="-1" strike="noStrike">
                <a:solidFill>
                  <a:srgbClr val="333399"/>
                </a:solidFill>
                <a:latin typeface="Arial"/>
              </a:rPr>
              <a:t>定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反馈（</a:t>
            </a:r>
            <a:r>
              <a:rPr b="0" lang="en-US" sz="1800" spc="-1" strike="noStrike">
                <a:solidFill>
                  <a:srgbClr val="333399"/>
                </a:solidFill>
                <a:latin typeface="Arial"/>
              </a:rPr>
              <a:t>feedback</a:t>
            </a:r>
            <a:r>
              <a:rPr b="0" lang="zh-CN" sz="1800" spc="-1" strike="noStrike">
                <a:solidFill>
                  <a:srgbClr val="333399"/>
                </a:solidFill>
                <a:latin typeface="Arial"/>
              </a:rPr>
              <a:t>）指受控对象对施控主体的反作用，是将有关系统实现状态的信息经过一定转换后输送回系统的输入端以增强或减弱输入信号效应的一个过程。 </a:t>
            </a:r>
            <a:endParaRPr b="0" lang="en-US" sz="1800" spc="-1" strike="noStrike">
              <a:solidFill>
                <a:srgbClr val="000000"/>
              </a:solidFill>
              <a:latin typeface="Arial"/>
            </a:endParaRPr>
          </a:p>
        </p:txBody>
      </p:sp>
      <p:sp>
        <p:nvSpPr>
          <p:cNvPr id="403"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标题 1"/>
          <p:cNvSpPr/>
          <p:nvPr/>
        </p:nvSpPr>
        <p:spPr>
          <a:xfrm>
            <a:off x="576360" y="297000"/>
            <a:ext cx="64800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0504d"/>
                </a:solidFill>
                <a:latin typeface="微软雅黑"/>
                <a:ea typeface="微软雅黑"/>
              </a:rPr>
              <a:t>第一节  网络外部性与正反馈</a:t>
            </a:r>
            <a:br>
              <a:rPr sz="2900"/>
            </a:br>
            <a:endParaRPr b="0" lang="en-US" sz="3300" spc="-1" strike="noStrike">
              <a:solidFill>
                <a:srgbClr val="000000"/>
              </a:solidFill>
              <a:latin typeface="Arial"/>
            </a:endParaRPr>
          </a:p>
        </p:txBody>
      </p:sp>
      <p:grpSp>
        <p:nvGrpSpPr>
          <p:cNvPr id="405" name=""/>
          <p:cNvGrpSpPr/>
          <p:nvPr/>
        </p:nvGrpSpPr>
        <p:grpSpPr>
          <a:xfrm>
            <a:off x="3276720" y="4292640"/>
            <a:ext cx="3959280" cy="1523520"/>
            <a:chOff x="3276720" y="4292640"/>
            <a:chExt cx="3959280" cy="1523520"/>
          </a:xfrm>
        </p:grpSpPr>
        <p:sp>
          <p:nvSpPr>
            <p:cNvPr id="406" name="MH_Other_6"/>
            <p:cNvSpPr/>
            <p:nvPr/>
          </p:nvSpPr>
          <p:spPr>
            <a:xfrm>
              <a:off x="4181760" y="4292640"/>
              <a:ext cx="396720" cy="39348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Rectangle 30"/>
            <p:cNvSpPr/>
            <p:nvPr/>
          </p:nvSpPr>
          <p:spPr>
            <a:xfrm>
              <a:off x="3346560" y="5167080"/>
              <a:ext cx="1582920" cy="649080"/>
            </a:xfrm>
            <a:prstGeom prst="rect">
              <a:avLst/>
            </a:prstGeom>
            <a:noFill/>
            <a:ln w="38160">
              <a:solidFill>
                <a:srgbClr val="ff00ff"/>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经济均衡</a:t>
              </a:r>
              <a:endParaRPr b="0" lang="en-US" sz="1800" spc="-1" strike="noStrike">
                <a:solidFill>
                  <a:srgbClr val="000000"/>
                </a:solidFill>
                <a:latin typeface="Arial"/>
              </a:endParaRPr>
            </a:p>
          </p:txBody>
        </p:sp>
        <p:sp>
          <p:nvSpPr>
            <p:cNvPr id="408" name="Rectangle 32"/>
            <p:cNvSpPr/>
            <p:nvPr/>
          </p:nvSpPr>
          <p:spPr>
            <a:xfrm>
              <a:off x="5580360" y="5167080"/>
              <a:ext cx="1582560" cy="649080"/>
            </a:xfrm>
            <a:prstGeom prst="rect">
              <a:avLst/>
            </a:prstGeom>
            <a:noFill/>
            <a:ln w="38160">
              <a:solidFill>
                <a:srgbClr val="ff00ff"/>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多态均衡</a:t>
              </a:r>
              <a:endParaRPr b="0" lang="en-US" sz="1800" spc="-1" strike="noStrike">
                <a:solidFill>
                  <a:srgbClr val="000000"/>
                </a:solidFill>
                <a:latin typeface="Arial"/>
              </a:endParaRPr>
            </a:p>
          </p:txBody>
        </p:sp>
        <p:sp>
          <p:nvSpPr>
            <p:cNvPr id="409" name="Oval 12"/>
            <p:cNvSpPr/>
            <p:nvPr/>
          </p:nvSpPr>
          <p:spPr>
            <a:xfrm>
              <a:off x="3276720" y="4303440"/>
              <a:ext cx="1727280" cy="576000"/>
            </a:xfrm>
            <a:prstGeom prst="ellipse">
              <a:avLst/>
            </a:prstGeom>
            <a:solidFill>
              <a:srgbClr val="4f81bd">
                <a:alpha val="20000"/>
              </a:srgbClr>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负反馈</a:t>
              </a:r>
              <a:endParaRPr b="0" lang="en-US" sz="1800" spc="-1" strike="noStrike">
                <a:solidFill>
                  <a:srgbClr val="000000"/>
                </a:solidFill>
                <a:latin typeface="Arial"/>
              </a:endParaRPr>
            </a:p>
          </p:txBody>
        </p:sp>
        <p:sp>
          <p:nvSpPr>
            <p:cNvPr id="410" name="Oval 13"/>
            <p:cNvSpPr/>
            <p:nvPr/>
          </p:nvSpPr>
          <p:spPr>
            <a:xfrm>
              <a:off x="5508720" y="4303440"/>
              <a:ext cx="1727280" cy="576000"/>
            </a:xfrm>
            <a:prstGeom prst="ellipse">
              <a:avLst/>
            </a:prstGeom>
            <a:solidFill>
              <a:srgbClr val="4f81bd">
                <a:alpha val="20000"/>
              </a:srgbClr>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正反馈</a:t>
              </a:r>
              <a:endParaRPr b="0" lang="en-US" sz="1800" spc="-1" strike="noStrike">
                <a:solidFill>
                  <a:srgbClr val="000000"/>
                </a:solidFill>
                <a:latin typeface="Arial"/>
              </a:endParaRPr>
            </a:p>
          </p:txBody>
        </p:sp>
      </p:gr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网络经济中强烈的正反馈效应</a:t>
            </a:r>
            <a:endParaRPr b="0" lang="en-US" sz="4000" spc="-1" strike="noStrike">
              <a:solidFill>
                <a:srgbClr val="000000"/>
              </a:solidFill>
              <a:latin typeface="Calibri"/>
            </a:endParaRPr>
          </a:p>
        </p:txBody>
      </p:sp>
      <p:grpSp>
        <p:nvGrpSpPr>
          <p:cNvPr id="412" name="Group 16"/>
          <p:cNvGrpSpPr/>
          <p:nvPr/>
        </p:nvGrpSpPr>
        <p:grpSpPr>
          <a:xfrm>
            <a:off x="1547640" y="1484280"/>
            <a:ext cx="3600000" cy="990360"/>
            <a:chOff x="1547640" y="1484280"/>
            <a:chExt cx="3600000" cy="990360"/>
          </a:xfrm>
        </p:grpSpPr>
        <p:grpSp>
          <p:nvGrpSpPr>
            <p:cNvPr id="413" name="Group 4"/>
            <p:cNvGrpSpPr/>
            <p:nvPr/>
          </p:nvGrpSpPr>
          <p:grpSpPr>
            <a:xfrm>
              <a:off x="1547640" y="1484280"/>
              <a:ext cx="3600000" cy="990360"/>
              <a:chOff x="1547640" y="1484280"/>
              <a:chExt cx="3600000" cy="990360"/>
            </a:xfrm>
          </p:grpSpPr>
          <p:grpSp>
            <p:nvGrpSpPr>
              <p:cNvPr id="414" name="AutoShape 5"/>
              <p:cNvGrpSpPr/>
              <p:nvPr/>
            </p:nvGrpSpPr>
            <p:grpSpPr>
              <a:xfrm>
                <a:off x="1547640" y="1484280"/>
                <a:ext cx="3600000" cy="990360"/>
                <a:chOff x="1547640" y="1484280"/>
                <a:chExt cx="3600000" cy="990360"/>
              </a:xfrm>
            </p:grpSpPr>
            <p:pic>
              <p:nvPicPr>
                <p:cNvPr id="415" name="AutoShape 5" descr=""/>
                <p:cNvPicPr/>
                <p:nvPr/>
              </p:nvPicPr>
              <p:blipFill>
                <a:blip r:embed="rId1"/>
                <a:stretch/>
              </p:blipFill>
              <p:spPr>
                <a:xfrm>
                  <a:off x="1547640" y="1484280"/>
                  <a:ext cx="3600000" cy="990360"/>
                </a:xfrm>
                <a:prstGeom prst="rect">
                  <a:avLst/>
                </a:prstGeom>
                <a:ln w="0">
                  <a:noFill/>
                </a:ln>
              </p:spPr>
            </p:pic>
            <p:sp>
              <p:nvSpPr>
                <p:cNvPr id="416" name=""/>
                <p:cNvSpPr/>
                <p:nvPr/>
              </p:nvSpPr>
              <p:spPr>
                <a:xfrm rot="5400000">
                  <a:off x="2925000" y="256320"/>
                  <a:ext cx="840960" cy="34477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7" name="Freeform 6"/>
              <p:cNvSpPr/>
              <p:nvPr/>
            </p:nvSpPr>
            <p:spPr>
              <a:xfrm>
                <a:off x="1573200" y="1504440"/>
                <a:ext cx="3500280" cy="195840"/>
              </a:xfrm>
              <a:custGeom>
                <a:avLst/>
                <a:gdLst>
                  <a:gd name="textAreaLeft" fmla="*/ 0 w 3500280"/>
                  <a:gd name="textAreaRight" fmla="*/ 3500640 w 3500280"/>
                  <a:gd name="textAreaTop" fmla="*/ 0 h 195840"/>
                  <a:gd name="textAreaBottom" fmla="*/ 196200 h 195840"/>
                </a:gdLst>
                <a:ahLst/>
                <a:rect l="textAreaLeft" t="textAreaTop" r="textAreaRight" b="textAreaBottom"/>
                <a:pathLst>
                  <a:path w="1270" h="303">
                    <a:moveTo>
                      <a:pt x="5" y="303"/>
                    </a:moveTo>
                    <a:cubicBezTo>
                      <a:pt x="5" y="303"/>
                      <a:pt x="0" y="253"/>
                      <a:pt x="21" y="177"/>
                    </a:cubicBezTo>
                    <a:cubicBezTo>
                      <a:pt x="48" y="130"/>
                      <a:pt x="69" y="44"/>
                      <a:pt x="172" y="22"/>
                    </a:cubicBezTo>
                    <a:cubicBezTo>
                      <a:pt x="275" y="0"/>
                      <a:pt x="235" y="13"/>
                      <a:pt x="361" y="11"/>
                    </a:cubicBezTo>
                    <a:cubicBezTo>
                      <a:pt x="487" y="9"/>
                      <a:pt x="813" y="12"/>
                      <a:pt x="932" y="12"/>
                    </a:cubicBezTo>
                    <a:cubicBezTo>
                      <a:pt x="1050" y="12"/>
                      <a:pt x="998" y="2"/>
                      <a:pt x="1070" y="14"/>
                    </a:cubicBezTo>
                    <a:cubicBezTo>
                      <a:pt x="1143" y="26"/>
                      <a:pt x="1215" y="84"/>
                      <a:pt x="1260" y="189"/>
                    </a:cubicBezTo>
                    <a:cubicBezTo>
                      <a:pt x="1270" y="262"/>
                      <a:pt x="1266" y="302"/>
                      <a:pt x="1266" y="302"/>
                    </a:cubicBezTo>
                    <a:lnTo>
                      <a:pt x="5" y="303"/>
                    </a:lnTo>
                    <a:close/>
                  </a:path>
                </a:pathLst>
              </a:custGeom>
              <a:solidFill>
                <a:srgbClr val="80008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Rectangle 7"/>
              <p:cNvSpPr/>
              <p:nvPr/>
            </p:nvSpPr>
            <p:spPr>
              <a:xfrm>
                <a:off x="1671840" y="1701720"/>
                <a:ext cx="3288600" cy="43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8"/>
              <p:cNvSpPr/>
              <p:nvPr/>
            </p:nvSpPr>
            <p:spPr>
              <a:xfrm rot="10800000">
                <a:off x="1572840" y="2260800"/>
                <a:ext cx="3500280" cy="195840"/>
              </a:xfrm>
              <a:custGeom>
                <a:avLst/>
                <a:gdLst>
                  <a:gd name="textAreaLeft" fmla="*/ 0 w 3500280"/>
                  <a:gd name="textAreaRight" fmla="*/ 3500640 w 3500280"/>
                  <a:gd name="textAreaTop" fmla="*/ 0 h 195840"/>
                  <a:gd name="textAreaBottom" fmla="*/ 196200 h 195840"/>
                </a:gdLst>
                <a:ahLst/>
                <a:rect l="textAreaLeft" t="textAreaTop" r="textAreaRight" b="textAreaBottom"/>
                <a:pathLst>
                  <a:path w="1270" h="303">
                    <a:moveTo>
                      <a:pt x="5" y="303"/>
                    </a:moveTo>
                    <a:cubicBezTo>
                      <a:pt x="5" y="303"/>
                      <a:pt x="0" y="253"/>
                      <a:pt x="21" y="177"/>
                    </a:cubicBezTo>
                    <a:cubicBezTo>
                      <a:pt x="48" y="130"/>
                      <a:pt x="69" y="44"/>
                      <a:pt x="172" y="22"/>
                    </a:cubicBezTo>
                    <a:cubicBezTo>
                      <a:pt x="275" y="0"/>
                      <a:pt x="235" y="13"/>
                      <a:pt x="361" y="11"/>
                    </a:cubicBezTo>
                    <a:cubicBezTo>
                      <a:pt x="487" y="9"/>
                      <a:pt x="813" y="12"/>
                      <a:pt x="932" y="12"/>
                    </a:cubicBezTo>
                    <a:cubicBezTo>
                      <a:pt x="1050" y="12"/>
                      <a:pt x="998" y="2"/>
                      <a:pt x="1070" y="14"/>
                    </a:cubicBezTo>
                    <a:cubicBezTo>
                      <a:pt x="1143" y="26"/>
                      <a:pt x="1215" y="84"/>
                      <a:pt x="1260" y="189"/>
                    </a:cubicBezTo>
                    <a:cubicBezTo>
                      <a:pt x="1270" y="262"/>
                      <a:pt x="1266" y="302"/>
                      <a:pt x="1266" y="302"/>
                    </a:cubicBezTo>
                    <a:lnTo>
                      <a:pt x="5" y="303"/>
                    </a:lnTo>
                    <a:close/>
                  </a:path>
                </a:pathLst>
              </a:custGeom>
              <a:solidFill>
                <a:srgbClr val="80008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0" name="Text Box 9"/>
            <p:cNvSpPr/>
            <p:nvPr/>
          </p:nvSpPr>
          <p:spPr>
            <a:xfrm>
              <a:off x="1633320" y="178596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网络经济中市场均衡的不稳定性</a:t>
              </a:r>
              <a:endParaRPr b="0" lang="en-US" sz="1800" spc="-1" strike="noStrike">
                <a:solidFill>
                  <a:srgbClr val="000000"/>
                </a:solidFill>
                <a:latin typeface="Arial"/>
              </a:endParaRPr>
            </a:p>
          </p:txBody>
        </p:sp>
      </p:grpSp>
      <p:sp>
        <p:nvSpPr>
          <p:cNvPr id="421" name="AutoShape 17"/>
          <p:cNvSpPr/>
          <p:nvPr/>
        </p:nvSpPr>
        <p:spPr>
          <a:xfrm>
            <a:off x="5940360" y="1557360"/>
            <a:ext cx="2087640" cy="2663640"/>
          </a:xfrm>
          <a:prstGeom prst="cloudCallout">
            <a:avLst>
              <a:gd name="adj1" fmla="val -40569"/>
              <a:gd name="adj2" fmla="val 50537"/>
            </a:avLst>
          </a:prstGeom>
          <a:solidFill>
            <a:srgbClr val="800080">
              <a:alpha val="2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网络经下，不是价格影响供求，而是供求对价格有更强大的影响力。</a:t>
            </a:r>
            <a:r>
              <a:rPr b="0" lang="zh-CN" sz="1800" spc="-1" strike="noStrike">
                <a:solidFill>
                  <a:srgbClr val="000000"/>
                </a:solidFill>
                <a:latin typeface="Arial"/>
                <a:ea typeface="楷体_GB2312"/>
              </a:rPr>
              <a:t> </a:t>
            </a:r>
            <a:endParaRPr b="0" lang="en-US" sz="1800" spc="-1" strike="noStrike">
              <a:solidFill>
                <a:srgbClr val="000000"/>
              </a:solidFill>
              <a:latin typeface="Arial"/>
            </a:endParaRPr>
          </a:p>
        </p:txBody>
      </p:sp>
      <p:grpSp>
        <p:nvGrpSpPr>
          <p:cNvPr id="422" name="Group 88"/>
          <p:cNvGrpSpPr/>
          <p:nvPr/>
        </p:nvGrpSpPr>
        <p:grpSpPr>
          <a:xfrm>
            <a:off x="1187280" y="2637000"/>
            <a:ext cx="4751640" cy="3752280"/>
            <a:chOff x="1187280" y="2637000"/>
            <a:chExt cx="4751640" cy="3752280"/>
          </a:xfrm>
        </p:grpSpPr>
        <p:pic>
          <p:nvPicPr>
            <p:cNvPr id="423" name="Picture 51" descr="未命名5"/>
            <p:cNvPicPr/>
            <p:nvPr/>
          </p:nvPicPr>
          <p:blipFill>
            <a:blip r:embed="rId2"/>
            <a:stretch/>
          </p:blipFill>
          <p:spPr>
            <a:xfrm>
              <a:off x="1187280" y="2637000"/>
              <a:ext cx="4751640" cy="3384360"/>
            </a:xfrm>
            <a:prstGeom prst="rect">
              <a:avLst/>
            </a:prstGeom>
            <a:ln w="0">
              <a:noFill/>
            </a:ln>
          </p:spPr>
        </p:pic>
        <p:grpSp>
          <p:nvGrpSpPr>
            <p:cNvPr id="424" name="Group 58"/>
            <p:cNvGrpSpPr/>
            <p:nvPr/>
          </p:nvGrpSpPr>
          <p:grpSpPr>
            <a:xfrm>
              <a:off x="1690560" y="5950080"/>
              <a:ext cx="3527640" cy="439200"/>
              <a:chOff x="1690560" y="5950080"/>
              <a:chExt cx="3527640" cy="439200"/>
            </a:xfrm>
          </p:grpSpPr>
          <p:sp>
            <p:nvSpPr>
              <p:cNvPr id="425" name="AutoShape 54"/>
              <p:cNvSpPr/>
              <p:nvPr/>
            </p:nvSpPr>
            <p:spPr>
              <a:xfrm>
                <a:off x="1690560" y="5950080"/>
                <a:ext cx="3527640" cy="417600"/>
              </a:xfrm>
              <a:prstGeom prst="roundRect">
                <a:avLst>
                  <a:gd name="adj" fmla="val 16667"/>
                </a:avLst>
              </a:prstGeom>
              <a:solidFill>
                <a:srgbClr val="ffff00">
                  <a:alpha val="4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52"/>
              <p:cNvSpPr/>
              <p:nvPr/>
            </p:nvSpPr>
            <p:spPr>
              <a:xfrm>
                <a:off x="3031920" y="6021000"/>
                <a:ext cx="1552320" cy="3682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网络经济中的正反馈</a:t>
                </a:r>
                <a:r>
                  <a:rPr b="0" lang="zh-CN" sz="1800" spc="-1" strike="noStrike">
                    <a:solidFill>
                      <a:srgbClr val="000000"/>
                    </a:solidFill>
                    <a:latin typeface="Arial"/>
                    <a:ea typeface="楷体_GB2312"/>
                  </a:rPr>
                  <a:t> </a:t>
                </a:r>
                <a:endParaRPr b="0" lang="en-US" sz="1800" spc="-1" strike="noStrike">
                  <a:solidFill>
                    <a:srgbClr val="000000"/>
                  </a:solidFill>
                  <a:latin typeface="Arial"/>
                </a:endParaRPr>
              </a:p>
            </p:txBody>
          </p:sp>
        </p:grpSp>
      </p:grpSp>
      <p:sp>
        <p:nvSpPr>
          <p:cNvPr id="427" name="Rectangle 89"/>
          <p:cNvSpPr/>
          <p:nvPr/>
        </p:nvSpPr>
        <p:spPr>
          <a:xfrm>
            <a:off x="5940360" y="4797360"/>
            <a:ext cx="2232000" cy="935280"/>
          </a:xfrm>
          <a:prstGeom prst="rect">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E</a:t>
            </a:r>
            <a:r>
              <a:rPr b="0" lang="zh-CN" sz="1800" spc="-1" strike="noStrike">
                <a:solidFill>
                  <a:srgbClr val="000000"/>
                </a:solidFill>
                <a:latin typeface="微软雅黑"/>
                <a:ea typeface="微软雅黑"/>
              </a:rPr>
              <a:t>点被称为临界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QE</a:t>
            </a:r>
            <a:r>
              <a:rPr b="0" lang="zh-CN" sz="1800" spc="-1" strike="noStrike">
                <a:solidFill>
                  <a:srgbClr val="000000"/>
                </a:solidFill>
                <a:latin typeface="微软雅黑"/>
                <a:ea typeface="微软雅黑"/>
              </a:rPr>
              <a:t>被称为临界产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安装基础。</a:t>
            </a:r>
            <a:r>
              <a:rPr b="0" lang="zh-CN" sz="1800" spc="-1" strike="noStrike">
                <a:solidFill>
                  <a:srgbClr val="000000"/>
                </a:solidFill>
                <a:latin typeface="Arial"/>
                <a:ea typeface="楷体_GB2312"/>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8" name="Group 16"/>
          <p:cNvGrpSpPr/>
          <p:nvPr/>
        </p:nvGrpSpPr>
        <p:grpSpPr>
          <a:xfrm>
            <a:off x="1332000" y="2133720"/>
            <a:ext cx="6410160" cy="3957120"/>
            <a:chOff x="1332000" y="2133720"/>
            <a:chExt cx="6410160" cy="3957120"/>
          </a:xfrm>
        </p:grpSpPr>
        <p:pic>
          <p:nvPicPr>
            <p:cNvPr id="429" name="Picture 5" descr="未命名8"/>
            <p:cNvPicPr/>
            <p:nvPr/>
          </p:nvPicPr>
          <p:blipFill>
            <a:blip r:embed="rId1"/>
            <a:stretch/>
          </p:blipFill>
          <p:spPr>
            <a:xfrm>
              <a:off x="1332000" y="2133720"/>
              <a:ext cx="6410160" cy="3454200"/>
            </a:xfrm>
            <a:prstGeom prst="rect">
              <a:avLst/>
            </a:prstGeom>
            <a:ln w="19080">
              <a:solidFill>
                <a:srgbClr val="ff0000"/>
              </a:solidFill>
              <a:prstDash val="dash"/>
              <a:miter/>
            </a:ln>
          </p:spPr>
        </p:pic>
        <p:grpSp>
          <p:nvGrpSpPr>
            <p:cNvPr id="430" name="Group 10"/>
            <p:cNvGrpSpPr/>
            <p:nvPr/>
          </p:nvGrpSpPr>
          <p:grpSpPr>
            <a:xfrm>
              <a:off x="1908000" y="5659200"/>
              <a:ext cx="5329440" cy="431640"/>
              <a:chOff x="1908000" y="5659200"/>
              <a:chExt cx="5329440" cy="431640"/>
            </a:xfrm>
          </p:grpSpPr>
          <p:sp>
            <p:nvSpPr>
              <p:cNvPr id="431" name="AutoShape 7"/>
              <p:cNvSpPr/>
              <p:nvPr/>
            </p:nvSpPr>
            <p:spPr>
              <a:xfrm>
                <a:off x="1908000" y="5659200"/>
                <a:ext cx="5329440" cy="431640"/>
              </a:xfrm>
              <a:prstGeom prst="roundRect">
                <a:avLst>
                  <a:gd name="adj" fmla="val 16667"/>
                </a:avLst>
              </a:prstGeom>
              <a:solidFill>
                <a:srgbClr val="ffff00">
                  <a:alpha val="4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6"/>
              <p:cNvSpPr/>
              <p:nvPr/>
            </p:nvSpPr>
            <p:spPr>
              <a:xfrm>
                <a:off x="3053160" y="5716800"/>
                <a:ext cx="2100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单个数字产品的正反馈发展过程</a:t>
                </a:r>
                <a:endParaRPr b="0" lang="en-US" sz="1800" spc="-1" strike="noStrike">
                  <a:solidFill>
                    <a:srgbClr val="000000"/>
                  </a:solidFill>
                  <a:latin typeface="Arial"/>
                </a:endParaRPr>
              </a:p>
            </p:txBody>
          </p:sp>
        </p:grpSp>
      </p:grpSp>
      <p:sp>
        <p:nvSpPr>
          <p:cNvPr id="4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正反馈理论</a:t>
            </a:r>
            <a:endParaRPr b="0" lang="en-US" sz="4000" spc="-1" strike="noStrike">
              <a:solidFill>
                <a:srgbClr val="000000"/>
              </a:solidFill>
              <a:latin typeface="Calibri"/>
            </a:endParaRPr>
          </a:p>
        </p:txBody>
      </p:sp>
      <p:sp>
        <p:nvSpPr>
          <p:cNvPr id="434" name="AutoShape 4"/>
          <p:cNvSpPr/>
          <p:nvPr/>
        </p:nvSpPr>
        <p:spPr>
          <a:xfrm>
            <a:off x="3708360" y="1268280"/>
            <a:ext cx="4176720" cy="863640"/>
          </a:xfrm>
          <a:prstGeom prst="wedgeRoundRectCallout">
            <a:avLst>
              <a:gd name="adj1" fmla="val -66000"/>
              <a:gd name="adj2" fmla="val 134189"/>
              <a:gd name="adj3" fmla="val 16667"/>
            </a:avLst>
          </a:prstGeom>
          <a:solidFill>
            <a:srgbClr val="800080">
              <a:alpha val="30000"/>
            </a:srgbClr>
          </a:solidFill>
          <a:ln w="9360">
            <a:solidFill>
              <a:srgbClr val="000000"/>
            </a:solidFill>
            <a:miter/>
          </a:ln>
        </p:spPr>
        <p:style>
          <a:lnRef idx="0"/>
          <a:fillRef idx="0"/>
          <a:effectRef idx="0"/>
          <a:fontRef idx="minor"/>
        </p:style>
        <p:txBody>
          <a:bodyPr lIns="90000" rIns="90000" tIns="46800" bIns="46800" anchor="t">
            <a:noAutofit/>
          </a:bodyPr>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单个数字产品的正反馈发展过程如图所示。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AutoShape 4"/>
          <p:cNvSpPr/>
          <p:nvPr/>
        </p:nvSpPr>
        <p:spPr>
          <a:xfrm>
            <a:off x="1258920" y="1268280"/>
            <a:ext cx="5545080" cy="865440"/>
          </a:xfrm>
          <a:prstGeom prst="rightArrow">
            <a:avLst>
              <a:gd name="adj1" fmla="val 67694"/>
              <a:gd name="adj2" fmla="val 153180"/>
            </a:avLst>
          </a:prstGeom>
          <a:gradFill rotWithShape="0">
            <a:gsLst>
              <a:gs pos="0">
                <a:srgbClr val="9c3ed0">
                  <a:alpha val="40000"/>
                </a:srgbClr>
              </a:gs>
              <a:gs pos="100000">
                <a:srgbClr val="4f81bd">
                  <a:alpha val="40000"/>
                </a:srgbClr>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3</a:t>
            </a:r>
            <a:r>
              <a:rPr b="0" lang="zh-CN" sz="2000" spc="-1" strike="noStrike">
                <a:solidFill>
                  <a:srgbClr val="000000"/>
                </a:solidFill>
                <a:latin typeface="Arial"/>
                <a:ea typeface="微软雅黑"/>
              </a:rPr>
              <a:t>网络经济正反馈效应产生的主要原因</a:t>
            </a:r>
            <a:r>
              <a:rPr b="0" lang="zh-CN" sz="1800" spc="-1" strike="noStrike">
                <a:solidFill>
                  <a:srgbClr val="000000"/>
                </a:solidFill>
                <a:latin typeface="Arial"/>
                <a:ea typeface="楷体_GB2312"/>
              </a:rPr>
              <a:t> </a:t>
            </a:r>
            <a:endParaRPr b="0" lang="en-US" sz="1800" spc="-1" strike="noStrike">
              <a:solidFill>
                <a:srgbClr val="000000"/>
              </a:solidFill>
              <a:latin typeface="Arial"/>
            </a:endParaRPr>
          </a:p>
        </p:txBody>
      </p:sp>
      <p:grpSp>
        <p:nvGrpSpPr>
          <p:cNvPr id="436" name="Group 18"/>
          <p:cNvGrpSpPr/>
          <p:nvPr/>
        </p:nvGrpSpPr>
        <p:grpSpPr>
          <a:xfrm>
            <a:off x="1619280" y="2708280"/>
            <a:ext cx="5471640" cy="3384360"/>
            <a:chOff x="1619280" y="2708280"/>
            <a:chExt cx="5471640" cy="3384360"/>
          </a:xfrm>
        </p:grpSpPr>
        <p:grpSp>
          <p:nvGrpSpPr>
            <p:cNvPr id="437" name="Group 6"/>
            <p:cNvGrpSpPr/>
            <p:nvPr/>
          </p:nvGrpSpPr>
          <p:grpSpPr>
            <a:xfrm>
              <a:off x="2525760" y="3372120"/>
              <a:ext cx="1730520" cy="1933200"/>
              <a:chOff x="2525760" y="3372120"/>
              <a:chExt cx="1730520" cy="1933200"/>
            </a:xfrm>
          </p:grpSpPr>
          <p:sp>
            <p:nvSpPr>
              <p:cNvPr id="438" name="Freeform 7"/>
              <p:cNvSpPr/>
              <p:nvPr/>
            </p:nvSpPr>
            <p:spPr>
              <a:xfrm>
                <a:off x="2594880" y="3450960"/>
                <a:ext cx="1661400" cy="1854360"/>
              </a:xfrm>
              <a:custGeom>
                <a:avLst/>
                <a:gdLst>
                  <a:gd name="textAreaLeft" fmla="*/ 0 w 1661400"/>
                  <a:gd name="textAreaRight" fmla="*/ 1661760 w 1661400"/>
                  <a:gd name="textAreaTop" fmla="*/ 0 h 1854360"/>
                  <a:gd name="textAreaBottom" fmla="*/ 1854720 h 1854360"/>
                </a:gdLst>
                <a:ahLst/>
                <a:rect l="textAreaLeft" t="textAreaTop" r="textAreaRight" b="textAreaBottom"/>
                <a:pathLst>
                  <a:path w="1018" h="1289">
                    <a:moveTo>
                      <a:pt x="0" y="1220"/>
                    </a:moveTo>
                    <a:lnTo>
                      <a:pt x="774" y="1289"/>
                    </a:lnTo>
                    <a:lnTo>
                      <a:pt x="966" y="866"/>
                    </a:lnTo>
                    <a:lnTo>
                      <a:pt x="733" y="935"/>
                    </a:lnTo>
                    <a:cubicBezTo>
                      <a:pt x="672" y="896"/>
                      <a:pt x="552" y="799"/>
                      <a:pt x="602" y="629"/>
                    </a:cubicBezTo>
                    <a:cubicBezTo>
                      <a:pt x="653" y="458"/>
                      <a:pt x="984" y="345"/>
                      <a:pt x="1018" y="346"/>
                    </a:cubicBezTo>
                    <a:lnTo>
                      <a:pt x="777" y="156"/>
                    </a:lnTo>
                    <a:lnTo>
                      <a:pt x="976" y="0"/>
                    </a:lnTo>
                    <a:cubicBezTo>
                      <a:pt x="727" y="41"/>
                      <a:pt x="502" y="123"/>
                      <a:pt x="346" y="233"/>
                    </a:cubicBezTo>
                    <a:cubicBezTo>
                      <a:pt x="189" y="343"/>
                      <a:pt x="44" y="517"/>
                      <a:pt x="21" y="669"/>
                    </a:cubicBezTo>
                    <a:cubicBezTo>
                      <a:pt x="7" y="814"/>
                      <a:pt x="62" y="1010"/>
                      <a:pt x="209" y="1139"/>
                    </a:cubicBezTo>
                    <a:lnTo>
                      <a:pt x="0" y="1220"/>
                    </a:lnTo>
                    <a:close/>
                  </a:path>
                </a:pathLst>
              </a:custGeom>
              <a:solidFill>
                <a:srgbClr val="c0c0c0">
                  <a:alpha val="58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Freeform 8"/>
              <p:cNvSpPr/>
              <p:nvPr/>
            </p:nvSpPr>
            <p:spPr>
              <a:xfrm>
                <a:off x="2525760" y="3372120"/>
                <a:ext cx="1685520" cy="1806480"/>
              </a:xfrm>
              <a:custGeom>
                <a:avLst/>
                <a:gdLst>
                  <a:gd name="textAreaLeft" fmla="*/ 0 w 1685520"/>
                  <a:gd name="textAreaRight" fmla="*/ 1685880 w 1685520"/>
                  <a:gd name="textAreaTop" fmla="*/ 0 h 1806480"/>
                  <a:gd name="textAreaBottom" fmla="*/ 1806840 h 1806480"/>
                </a:gdLst>
                <a:ahLst/>
                <a:rect l="textAreaLeft" t="textAreaTop" r="textAreaRight" b="textAreaBottom"/>
                <a:pathLst>
                  <a:path w="1018" h="1289">
                    <a:moveTo>
                      <a:pt x="0" y="1220"/>
                    </a:moveTo>
                    <a:lnTo>
                      <a:pt x="774" y="1289"/>
                    </a:lnTo>
                    <a:lnTo>
                      <a:pt x="966" y="866"/>
                    </a:lnTo>
                    <a:lnTo>
                      <a:pt x="733" y="935"/>
                    </a:lnTo>
                    <a:cubicBezTo>
                      <a:pt x="672" y="896"/>
                      <a:pt x="552" y="799"/>
                      <a:pt x="602" y="629"/>
                    </a:cubicBezTo>
                    <a:cubicBezTo>
                      <a:pt x="653" y="458"/>
                      <a:pt x="984" y="345"/>
                      <a:pt x="1018" y="346"/>
                    </a:cubicBezTo>
                    <a:lnTo>
                      <a:pt x="777" y="156"/>
                    </a:lnTo>
                    <a:lnTo>
                      <a:pt x="976" y="0"/>
                    </a:lnTo>
                    <a:cubicBezTo>
                      <a:pt x="727" y="41"/>
                      <a:pt x="502" y="123"/>
                      <a:pt x="346" y="233"/>
                    </a:cubicBezTo>
                    <a:cubicBezTo>
                      <a:pt x="189" y="343"/>
                      <a:pt x="44" y="517"/>
                      <a:pt x="21" y="669"/>
                    </a:cubicBezTo>
                    <a:cubicBezTo>
                      <a:pt x="7" y="814"/>
                      <a:pt x="62" y="1010"/>
                      <a:pt x="209" y="1139"/>
                    </a:cubicBezTo>
                    <a:lnTo>
                      <a:pt x="0" y="1220"/>
                    </a:lnTo>
                    <a:close/>
                  </a:path>
                </a:pathLst>
              </a:custGeom>
              <a:gradFill rotWithShape="0">
                <a:gsLst>
                  <a:gs pos="0">
                    <a:srgbClr val="ff9933"/>
                  </a:gs>
                  <a:gs pos="100000">
                    <a:srgbClr val="ffb5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Group 9"/>
            <p:cNvGrpSpPr/>
            <p:nvPr/>
          </p:nvGrpSpPr>
          <p:grpSpPr>
            <a:xfrm>
              <a:off x="3917160" y="3040200"/>
              <a:ext cx="3089520" cy="1713600"/>
              <a:chOff x="3917160" y="3040200"/>
              <a:chExt cx="3089520" cy="1713600"/>
            </a:xfrm>
          </p:grpSpPr>
          <p:sp>
            <p:nvSpPr>
              <p:cNvPr id="441" name="Freeform 10"/>
              <p:cNvSpPr/>
              <p:nvPr/>
            </p:nvSpPr>
            <p:spPr>
              <a:xfrm>
                <a:off x="3966120" y="3108600"/>
                <a:ext cx="3040560" cy="1645200"/>
              </a:xfrm>
              <a:custGeom>
                <a:avLst/>
                <a:gdLst>
                  <a:gd name="textAreaLeft" fmla="*/ 0 w 3040560"/>
                  <a:gd name="textAreaRight" fmla="*/ 3040920 w 3040560"/>
                  <a:gd name="textAreaTop" fmla="*/ 0 h 1645200"/>
                  <a:gd name="textAreaBottom" fmla="*/ 1645560 h 1645200"/>
                </a:gdLst>
                <a:ahLst/>
                <a:rect l="textAreaLeft" t="textAreaTop" r="textAreaRight" b="textAreaBottom"/>
                <a:pathLst>
                  <a:path w="1863" h="1144">
                    <a:moveTo>
                      <a:pt x="474" y="211"/>
                    </a:moveTo>
                    <a:lnTo>
                      <a:pt x="463" y="0"/>
                    </a:lnTo>
                    <a:lnTo>
                      <a:pt x="0" y="404"/>
                    </a:lnTo>
                    <a:lnTo>
                      <a:pt x="498" y="815"/>
                    </a:lnTo>
                    <a:lnTo>
                      <a:pt x="490" y="580"/>
                    </a:lnTo>
                    <a:cubicBezTo>
                      <a:pt x="577" y="555"/>
                      <a:pt x="902" y="596"/>
                      <a:pt x="1020" y="663"/>
                    </a:cubicBezTo>
                    <a:cubicBezTo>
                      <a:pt x="1239" y="776"/>
                      <a:pt x="1189" y="964"/>
                      <a:pt x="1200" y="982"/>
                    </a:cubicBezTo>
                    <a:lnTo>
                      <a:pt x="1608" y="911"/>
                    </a:lnTo>
                    <a:lnTo>
                      <a:pt x="1762" y="1144"/>
                    </a:lnTo>
                    <a:cubicBezTo>
                      <a:pt x="1783" y="1109"/>
                      <a:pt x="1863" y="914"/>
                      <a:pt x="1739" y="701"/>
                    </a:cubicBezTo>
                    <a:cubicBezTo>
                      <a:pt x="1615" y="488"/>
                      <a:pt x="1492" y="406"/>
                      <a:pt x="1196" y="296"/>
                    </a:cubicBezTo>
                    <a:cubicBezTo>
                      <a:pt x="900" y="186"/>
                      <a:pt x="474" y="211"/>
                      <a:pt x="474" y="211"/>
                    </a:cubicBezTo>
                    <a:close/>
                  </a:path>
                </a:pathLst>
              </a:custGeom>
              <a:solidFill>
                <a:srgbClr val="c0c0c0">
                  <a:alpha val="58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11"/>
              <p:cNvSpPr/>
              <p:nvPr/>
            </p:nvSpPr>
            <p:spPr>
              <a:xfrm>
                <a:off x="3917160" y="3040200"/>
                <a:ext cx="3084480" cy="1602720"/>
              </a:xfrm>
              <a:custGeom>
                <a:avLst/>
                <a:gdLst>
                  <a:gd name="textAreaLeft" fmla="*/ 0 w 3084480"/>
                  <a:gd name="textAreaRight" fmla="*/ 3084840 w 3084480"/>
                  <a:gd name="textAreaTop" fmla="*/ 0 h 1602720"/>
                  <a:gd name="textAreaBottom" fmla="*/ 1603080 h 1602720"/>
                </a:gdLst>
                <a:ahLst/>
                <a:rect l="textAreaLeft" t="textAreaTop" r="textAreaRight" b="textAreaBottom"/>
                <a:pathLst>
                  <a:path w="1863" h="1144">
                    <a:moveTo>
                      <a:pt x="474" y="211"/>
                    </a:moveTo>
                    <a:lnTo>
                      <a:pt x="463" y="0"/>
                    </a:lnTo>
                    <a:lnTo>
                      <a:pt x="0" y="404"/>
                    </a:lnTo>
                    <a:lnTo>
                      <a:pt x="498" y="815"/>
                    </a:lnTo>
                    <a:lnTo>
                      <a:pt x="490" y="580"/>
                    </a:lnTo>
                    <a:cubicBezTo>
                      <a:pt x="577" y="555"/>
                      <a:pt x="902" y="596"/>
                      <a:pt x="1020" y="663"/>
                    </a:cubicBezTo>
                    <a:cubicBezTo>
                      <a:pt x="1239" y="776"/>
                      <a:pt x="1189" y="964"/>
                      <a:pt x="1200" y="982"/>
                    </a:cubicBezTo>
                    <a:lnTo>
                      <a:pt x="1608" y="911"/>
                    </a:lnTo>
                    <a:lnTo>
                      <a:pt x="1762" y="1144"/>
                    </a:lnTo>
                    <a:cubicBezTo>
                      <a:pt x="1783" y="1109"/>
                      <a:pt x="1863" y="914"/>
                      <a:pt x="1739" y="701"/>
                    </a:cubicBezTo>
                    <a:cubicBezTo>
                      <a:pt x="1615" y="488"/>
                      <a:pt x="1492" y="406"/>
                      <a:pt x="1196" y="296"/>
                    </a:cubicBezTo>
                    <a:cubicBezTo>
                      <a:pt x="900" y="186"/>
                      <a:pt x="474" y="211"/>
                      <a:pt x="474" y="211"/>
                    </a:cubicBezTo>
                    <a:close/>
                  </a:path>
                </a:pathLst>
              </a:custGeom>
              <a:gradFill rotWithShape="0">
                <a:gsLst>
                  <a:gs pos="0">
                    <a:srgbClr val="93c052"/>
                  </a:gs>
                  <a:gs pos="100000">
                    <a:srgbClr val="4459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3" name="Group 12"/>
            <p:cNvGrpSpPr/>
            <p:nvPr/>
          </p:nvGrpSpPr>
          <p:grpSpPr>
            <a:xfrm>
              <a:off x="3191400" y="4366800"/>
              <a:ext cx="3809520" cy="1399320"/>
              <a:chOff x="3191400" y="4366800"/>
              <a:chExt cx="3809520" cy="1399320"/>
            </a:xfrm>
          </p:grpSpPr>
          <p:sp>
            <p:nvSpPr>
              <p:cNvPr id="444" name="Freeform 13"/>
              <p:cNvSpPr/>
              <p:nvPr/>
            </p:nvSpPr>
            <p:spPr>
              <a:xfrm>
                <a:off x="3249720" y="4471920"/>
                <a:ext cx="3751200" cy="1294200"/>
              </a:xfrm>
              <a:custGeom>
                <a:avLst/>
                <a:gdLst>
                  <a:gd name="textAreaLeft" fmla="*/ 0 w 3751200"/>
                  <a:gd name="textAreaRight" fmla="*/ 3751200 w 3751200"/>
                  <a:gd name="textAreaTop" fmla="*/ 0 h 1294200"/>
                  <a:gd name="textAreaBottom" fmla="*/ 1294560 h 1294200"/>
                </a:gdLst>
                <a:ahLst/>
                <a:rect l="textAreaLeft" t="textAreaTop" r="textAreaRight" b="textAreaBottom"/>
                <a:pathLst>
                  <a:path w="2298" h="900">
                    <a:moveTo>
                      <a:pt x="531" y="361"/>
                    </a:moveTo>
                    <a:cubicBezTo>
                      <a:pt x="623" y="386"/>
                      <a:pt x="670" y="427"/>
                      <a:pt x="999" y="406"/>
                    </a:cubicBezTo>
                    <a:cubicBezTo>
                      <a:pt x="1329" y="385"/>
                      <a:pt x="1493" y="233"/>
                      <a:pt x="1547" y="188"/>
                    </a:cubicBezTo>
                    <a:lnTo>
                      <a:pt x="1325" y="131"/>
                    </a:lnTo>
                    <a:lnTo>
                      <a:pt x="2005" y="0"/>
                    </a:lnTo>
                    <a:lnTo>
                      <a:pt x="2298" y="425"/>
                    </a:lnTo>
                    <a:lnTo>
                      <a:pt x="2054" y="340"/>
                    </a:lnTo>
                    <a:cubicBezTo>
                      <a:pt x="1934" y="456"/>
                      <a:pt x="1774" y="732"/>
                      <a:pt x="1120" y="816"/>
                    </a:cubicBezTo>
                    <a:cubicBezTo>
                      <a:pt x="466" y="900"/>
                      <a:pt x="119" y="633"/>
                      <a:pt x="0" y="608"/>
                    </a:cubicBezTo>
                    <a:lnTo>
                      <a:pt x="401" y="633"/>
                    </a:lnTo>
                    <a:lnTo>
                      <a:pt x="531" y="361"/>
                    </a:lnTo>
                    <a:close/>
                  </a:path>
                </a:pathLst>
              </a:custGeom>
              <a:solidFill>
                <a:srgbClr val="c0c0c0">
                  <a:alpha val="58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Freeform 14"/>
              <p:cNvSpPr/>
              <p:nvPr/>
            </p:nvSpPr>
            <p:spPr>
              <a:xfrm>
                <a:off x="3191400" y="4366800"/>
                <a:ext cx="3804480" cy="1260720"/>
              </a:xfrm>
              <a:custGeom>
                <a:avLst/>
                <a:gdLst>
                  <a:gd name="textAreaLeft" fmla="*/ 0 w 3804480"/>
                  <a:gd name="textAreaRight" fmla="*/ 3804840 w 3804480"/>
                  <a:gd name="textAreaTop" fmla="*/ 0 h 1260720"/>
                  <a:gd name="textAreaBottom" fmla="*/ 1261080 h 1260720"/>
                </a:gdLst>
                <a:ahLst/>
                <a:rect l="textAreaLeft" t="textAreaTop" r="textAreaRight" b="textAreaBottom"/>
                <a:pathLst>
                  <a:path w="2298" h="900">
                    <a:moveTo>
                      <a:pt x="531" y="361"/>
                    </a:moveTo>
                    <a:cubicBezTo>
                      <a:pt x="623" y="386"/>
                      <a:pt x="670" y="427"/>
                      <a:pt x="999" y="406"/>
                    </a:cubicBezTo>
                    <a:cubicBezTo>
                      <a:pt x="1329" y="385"/>
                      <a:pt x="1493" y="233"/>
                      <a:pt x="1547" y="188"/>
                    </a:cubicBezTo>
                    <a:lnTo>
                      <a:pt x="1325" y="131"/>
                    </a:lnTo>
                    <a:lnTo>
                      <a:pt x="2005" y="0"/>
                    </a:lnTo>
                    <a:lnTo>
                      <a:pt x="2298" y="425"/>
                    </a:lnTo>
                    <a:lnTo>
                      <a:pt x="2054" y="340"/>
                    </a:lnTo>
                    <a:cubicBezTo>
                      <a:pt x="1934" y="456"/>
                      <a:pt x="1774" y="732"/>
                      <a:pt x="1120" y="816"/>
                    </a:cubicBezTo>
                    <a:cubicBezTo>
                      <a:pt x="466" y="900"/>
                      <a:pt x="119" y="633"/>
                      <a:pt x="0" y="608"/>
                    </a:cubicBezTo>
                    <a:lnTo>
                      <a:pt x="401" y="633"/>
                    </a:lnTo>
                    <a:lnTo>
                      <a:pt x="531" y="361"/>
                    </a:lnTo>
                    <a:close/>
                  </a:path>
                </a:pathLst>
              </a:custGeom>
              <a:gradFill rotWithShape="0">
                <a:gsLst>
                  <a:gs pos="0">
                    <a:srgbClr val="2c4865"/>
                  </a:gs>
                  <a:gs pos="100000">
                    <a:srgbClr val="5e9cda"/>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6" name="AutoShape 15"/>
            <p:cNvSpPr/>
            <p:nvPr/>
          </p:nvSpPr>
          <p:spPr>
            <a:xfrm>
              <a:off x="1619280" y="2775600"/>
              <a:ext cx="1360080" cy="331920"/>
            </a:xfrm>
            <a:noFill/>
            <a:ln w="9360">
              <a:solidFill>
                <a:srgbClr val="003399"/>
              </a:solidFill>
              <a:miter/>
              <a:headEnd len="med" type="oval" w="med"/>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c3ed0"/>
                  </a:solidFill>
                  <a:latin typeface="Arial"/>
                  <a:ea typeface="微软雅黑"/>
                </a:rPr>
                <a:t>转移成本</a:t>
              </a:r>
              <a:endParaRPr b="0" lang="en-US" sz="1800" spc="-1" strike="noStrike">
                <a:solidFill>
                  <a:srgbClr val="000000"/>
                </a:solidFill>
                <a:latin typeface="Arial"/>
              </a:endParaRPr>
            </a:p>
          </p:txBody>
        </p:sp>
        <p:sp>
          <p:nvSpPr>
            <p:cNvPr id="447" name="AutoShape 16"/>
            <p:cNvSpPr/>
            <p:nvPr/>
          </p:nvSpPr>
          <p:spPr>
            <a:xfrm>
              <a:off x="5730840" y="2708280"/>
              <a:ext cx="1360080" cy="331920"/>
            </a:xfrm>
            <a:noFill/>
            <a:ln w="9360">
              <a:solidFill>
                <a:srgbClr val="c11594"/>
              </a:solidFill>
              <a:miter/>
              <a:headEnd len="med" type="oval" w="med"/>
              <a:tailEnd len="med" type="triangle"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c3ed0"/>
                  </a:solidFill>
                  <a:latin typeface="Arial"/>
                  <a:ea typeface="微软雅黑"/>
                </a:rPr>
                <a:t>经济系统中的锁定</a:t>
              </a:r>
              <a:endParaRPr b="0" lang="en-US" sz="1800" spc="-1" strike="noStrike">
                <a:solidFill>
                  <a:srgbClr val="000000"/>
                </a:solidFill>
                <a:latin typeface="Arial"/>
              </a:endParaRPr>
            </a:p>
          </p:txBody>
        </p:sp>
        <p:sp>
          <p:nvSpPr>
            <p:cNvPr id="448" name="AutoShape 17"/>
            <p:cNvSpPr/>
            <p:nvPr/>
          </p:nvSpPr>
          <p:spPr>
            <a:xfrm>
              <a:off x="4885200" y="5760720"/>
              <a:ext cx="1360080" cy="331920"/>
            </a:xfrm>
            <a:noFill/>
            <a:ln w="9360">
              <a:solidFill>
                <a:srgbClr val="5e9cda"/>
              </a:solidFill>
              <a:miter/>
              <a:headEnd len="med" type="oval" w="med"/>
              <a:tailEnd len="med" type="triangle"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c3ed0"/>
                  </a:solidFill>
                  <a:latin typeface="Arial"/>
                  <a:ea typeface="微软雅黑"/>
                </a:rPr>
                <a:t>路径依赖</a:t>
              </a:r>
              <a:endParaRPr b="0" lang="en-US" sz="1800" spc="-1" strike="noStrike">
                <a:solidFill>
                  <a:srgbClr val="000000"/>
                </a:solidFill>
                <a:latin typeface="Arial"/>
              </a:endParaRPr>
            </a:p>
          </p:txBody>
        </p:sp>
      </p:grpSp>
      <p:sp>
        <p:nvSpPr>
          <p:cNvPr id="449" name="标题 1"/>
          <p:cNvSpPr/>
          <p:nvPr/>
        </p:nvSpPr>
        <p:spPr>
          <a:xfrm>
            <a:off x="576360" y="297000"/>
            <a:ext cx="64800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0504d"/>
                </a:solidFill>
                <a:latin typeface="微软雅黑"/>
                <a:ea typeface="微软雅黑"/>
              </a:rPr>
              <a:t>第一节  网络外部性与正反馈</a:t>
            </a:r>
            <a:br>
              <a:rPr sz="2900"/>
            </a:b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AutoShape 4"/>
          <p:cNvSpPr/>
          <p:nvPr/>
        </p:nvSpPr>
        <p:spPr>
          <a:xfrm>
            <a:off x="1042920" y="1268280"/>
            <a:ext cx="4751280" cy="574920"/>
          </a:xfrm>
          <a:prstGeom prst="roundRect">
            <a:avLst>
              <a:gd name="adj" fmla="val 16667"/>
            </a:avLst>
          </a:prstGeom>
          <a:solidFill>
            <a:srgbClr val="0000ff">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4 </a:t>
            </a:r>
            <a:r>
              <a:rPr b="1" lang="zh-CN" sz="2000" spc="-1" strike="noStrike">
                <a:solidFill>
                  <a:srgbClr val="000000"/>
                </a:solidFill>
                <a:latin typeface="微软雅黑"/>
                <a:ea typeface="微软雅黑"/>
              </a:rPr>
              <a:t>网络经济正反馈效应的产生影响</a:t>
            </a:r>
            <a:endParaRPr b="0" lang="en-US" sz="2000" spc="-1" strike="noStrike">
              <a:solidFill>
                <a:srgbClr val="000000"/>
              </a:solidFill>
              <a:latin typeface="Arial"/>
            </a:endParaRPr>
          </a:p>
        </p:txBody>
      </p:sp>
      <p:grpSp>
        <p:nvGrpSpPr>
          <p:cNvPr id="451" name="Group 76"/>
          <p:cNvGrpSpPr/>
          <p:nvPr/>
        </p:nvGrpSpPr>
        <p:grpSpPr>
          <a:xfrm>
            <a:off x="1763640" y="2457360"/>
            <a:ext cx="6048000" cy="3382560"/>
            <a:chOff x="1763640" y="2457360"/>
            <a:chExt cx="6048000" cy="3382560"/>
          </a:xfrm>
        </p:grpSpPr>
        <p:sp>
          <p:nvSpPr>
            <p:cNvPr id="452" name="AutoShape 48"/>
            <p:cNvSpPr/>
            <p:nvPr/>
          </p:nvSpPr>
          <p:spPr>
            <a:xfrm>
              <a:off x="3414600" y="3105000"/>
              <a:ext cx="2777400" cy="2086920"/>
            </a:xfrm>
            <a:prstGeom prst="pie">
              <a:avLst/>
            </a:prstGeom>
            <a:solidFill>
              <a:srgbClr val="80008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正反馈自</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增强机制的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济系统具有四</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个影响 </a:t>
              </a:r>
              <a:endParaRPr b="0" lang="en-US" sz="1800" spc="-1" strike="noStrike">
                <a:solidFill>
                  <a:srgbClr val="000000"/>
                </a:solidFill>
                <a:latin typeface="Arial"/>
              </a:endParaRPr>
            </a:p>
          </p:txBody>
        </p:sp>
        <p:sp>
          <p:nvSpPr>
            <p:cNvPr id="453" name="AutoShape 49"/>
            <p:cNvSpPr/>
            <p:nvPr/>
          </p:nvSpPr>
          <p:spPr>
            <a:xfrm>
              <a:off x="4032360" y="2457360"/>
              <a:ext cx="1542600" cy="502920"/>
            </a:xfrm>
            <a:prstGeom prst="flowChartAlternateProcess">
              <a:avLst/>
            </a:prstGeom>
            <a:solidFill>
              <a:srgbClr val="4f81b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多态均衡</a:t>
              </a:r>
              <a:endParaRPr b="0" lang="en-US" sz="1800" spc="-1" strike="noStrike">
                <a:solidFill>
                  <a:srgbClr val="000000"/>
                </a:solidFill>
                <a:latin typeface="Arial"/>
              </a:endParaRPr>
            </a:p>
          </p:txBody>
        </p:sp>
        <p:sp>
          <p:nvSpPr>
            <p:cNvPr id="454" name="AutoShape 50"/>
            <p:cNvSpPr/>
            <p:nvPr/>
          </p:nvSpPr>
          <p:spPr>
            <a:xfrm>
              <a:off x="1763640" y="3897000"/>
              <a:ext cx="1542240" cy="502920"/>
            </a:xfrm>
            <a:prstGeom prst="flowChartAlternateProcess">
              <a:avLst/>
            </a:prstGeom>
            <a:solidFill>
              <a:srgbClr val="4f81b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次优技术获胜</a:t>
              </a:r>
              <a:endParaRPr b="0" lang="en-US" sz="1800" spc="-1" strike="noStrike">
                <a:solidFill>
                  <a:srgbClr val="000000"/>
                </a:solidFill>
                <a:latin typeface="Arial"/>
              </a:endParaRPr>
            </a:p>
          </p:txBody>
        </p:sp>
        <p:sp>
          <p:nvSpPr>
            <p:cNvPr id="455" name="AutoShape 51"/>
            <p:cNvSpPr/>
            <p:nvPr/>
          </p:nvSpPr>
          <p:spPr>
            <a:xfrm>
              <a:off x="6269040" y="3897000"/>
              <a:ext cx="1542600" cy="502920"/>
            </a:xfrm>
            <a:prstGeom prst="flowChartAlternateProcess">
              <a:avLst/>
            </a:prstGeom>
            <a:solidFill>
              <a:srgbClr val="4f81b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政府规制改变</a:t>
              </a:r>
              <a:endParaRPr b="0" lang="en-US" sz="1800" spc="-1" strike="noStrike">
                <a:solidFill>
                  <a:srgbClr val="000000"/>
                </a:solidFill>
                <a:latin typeface="Arial"/>
              </a:endParaRPr>
            </a:p>
          </p:txBody>
        </p:sp>
        <p:sp>
          <p:nvSpPr>
            <p:cNvPr id="456" name="AutoShape 52"/>
            <p:cNvSpPr/>
            <p:nvPr/>
          </p:nvSpPr>
          <p:spPr>
            <a:xfrm>
              <a:off x="4032360" y="5337000"/>
              <a:ext cx="1542600" cy="502920"/>
            </a:xfrm>
            <a:prstGeom prst="flowChartAlternateProcess">
              <a:avLst/>
            </a:prstGeom>
            <a:solidFill>
              <a:srgbClr val="4f81b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企业战略改变</a:t>
              </a:r>
              <a:endParaRPr b="0" lang="en-US" sz="1800" spc="-1" strike="noStrike">
                <a:solidFill>
                  <a:srgbClr val="000000"/>
                </a:solidFill>
                <a:latin typeface="Arial"/>
              </a:endParaRPr>
            </a:p>
          </p:txBody>
        </p:sp>
      </p:grpSp>
      <p:sp>
        <p:nvSpPr>
          <p:cNvPr id="457" name="标题 1"/>
          <p:cNvSpPr/>
          <p:nvPr/>
        </p:nvSpPr>
        <p:spPr>
          <a:xfrm>
            <a:off x="576360" y="297000"/>
            <a:ext cx="64800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0504d"/>
                </a:solidFill>
                <a:latin typeface="微软雅黑"/>
                <a:ea typeface="微软雅黑"/>
              </a:rPr>
              <a:t>第一节  网络外部性与正反馈</a:t>
            </a:r>
            <a:br>
              <a:rPr sz="2900"/>
            </a:b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76D4F-769D-4EC9-9DF4-078FB725611B}"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459" name="Group 128"/>
          <p:cNvGrpSpPr/>
          <p:nvPr/>
        </p:nvGrpSpPr>
        <p:grpSpPr>
          <a:xfrm>
            <a:off x="7704000" y="2349360"/>
            <a:ext cx="648000" cy="453960"/>
            <a:chOff x="7704000" y="2349360"/>
            <a:chExt cx="648000" cy="453960"/>
          </a:xfrm>
        </p:grpSpPr>
        <p:sp>
          <p:nvSpPr>
            <p:cNvPr id="460"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2" name="组合 10"/>
          <p:cNvGrpSpPr/>
          <p:nvPr/>
        </p:nvGrpSpPr>
        <p:grpSpPr>
          <a:xfrm>
            <a:off x="1871640" y="1387440"/>
            <a:ext cx="4537080" cy="647640"/>
            <a:chOff x="1871640" y="1387440"/>
            <a:chExt cx="4537080" cy="647640"/>
          </a:xfrm>
        </p:grpSpPr>
        <p:sp>
          <p:nvSpPr>
            <p:cNvPr id="463" name="TextBox 11"/>
            <p:cNvSpPr/>
            <p:nvPr/>
          </p:nvSpPr>
          <p:spPr>
            <a:xfrm>
              <a:off x="2036520" y="138744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数字产品的供给</a:t>
              </a:r>
              <a:endParaRPr b="0" lang="en-US" sz="1800" spc="-1" strike="noStrike">
                <a:solidFill>
                  <a:srgbClr val="000000"/>
                </a:solidFill>
                <a:latin typeface="Arial"/>
              </a:endParaRPr>
            </a:p>
          </p:txBody>
        </p:sp>
        <p:sp>
          <p:nvSpPr>
            <p:cNvPr id="464" name="直接连接符 12"/>
            <p:cNvSpPr/>
            <p:nvPr/>
          </p:nvSpPr>
          <p:spPr>
            <a:xfrm>
              <a:off x="2049120" y="17161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流程图: 联系 13"/>
            <p:cNvSpPr/>
            <p:nvPr/>
          </p:nvSpPr>
          <p:spPr>
            <a:xfrm>
              <a:off x="1871640" y="1701720"/>
              <a:ext cx="331560" cy="12852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44280" bIns="44280" anchor="ctr">
              <a:normAutofit fontScale="1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466" name="直接连接符 14"/>
            <p:cNvSpPr/>
            <p:nvPr/>
          </p:nvSpPr>
          <p:spPr>
            <a:xfrm>
              <a:off x="2060280" y="202572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7" name="组合 15"/>
          <p:cNvGrpSpPr/>
          <p:nvPr/>
        </p:nvGrpSpPr>
        <p:grpSpPr>
          <a:xfrm>
            <a:off x="1871640" y="2241720"/>
            <a:ext cx="4537080" cy="647640"/>
            <a:chOff x="1871640" y="2241720"/>
            <a:chExt cx="4537080" cy="647640"/>
          </a:xfrm>
        </p:grpSpPr>
        <p:sp>
          <p:nvSpPr>
            <p:cNvPr id="468" name="TextBox 16"/>
            <p:cNvSpPr/>
            <p:nvPr/>
          </p:nvSpPr>
          <p:spPr>
            <a:xfrm>
              <a:off x="2036520" y="224172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数字产品的需求分析</a:t>
              </a:r>
              <a:endParaRPr b="0" lang="en-US" sz="1800" spc="-1" strike="noStrike">
                <a:solidFill>
                  <a:srgbClr val="000000"/>
                </a:solidFill>
                <a:latin typeface="Arial"/>
              </a:endParaRPr>
            </a:p>
          </p:txBody>
        </p:sp>
        <p:sp>
          <p:nvSpPr>
            <p:cNvPr id="469" name="直接连接符 17"/>
            <p:cNvSpPr/>
            <p:nvPr/>
          </p:nvSpPr>
          <p:spPr>
            <a:xfrm>
              <a:off x="2049120" y="257040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流程图: 联系 18"/>
            <p:cNvSpPr/>
            <p:nvPr/>
          </p:nvSpPr>
          <p:spPr>
            <a:xfrm>
              <a:off x="1871640" y="2556000"/>
              <a:ext cx="331560" cy="126720"/>
            </a:xfrm>
            <a:prstGeom prst="flowChartConnector">
              <a:avLst/>
            </a:prstGeom>
            <a:solidFill>
              <a:srgbClr val="ffc000"/>
            </a:solidFill>
            <a:ln w="25560">
              <a:solidFill>
                <a:srgbClr val="d9d9d9"/>
              </a:solidFill>
              <a:miter/>
            </a:ln>
          </p:spPr>
          <p:style>
            <a:lnRef idx="0"/>
            <a:fillRef idx="0"/>
            <a:effectRef idx="0"/>
            <a:fontRef idx="minor"/>
          </p:style>
          <p:txBody>
            <a:bodyPr lIns="90000" rIns="90000" tIns="43200" bIns="4320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471" name="直接连接符 19"/>
            <p:cNvSpPr/>
            <p:nvPr/>
          </p:nvSpPr>
          <p:spPr>
            <a:xfrm>
              <a:off x="2060280" y="287676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2"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AutoShape 78"/>
          <p:cNvSpPr/>
          <p:nvPr/>
        </p:nvSpPr>
        <p:spPr>
          <a:xfrm>
            <a:off x="900000" y="5265720"/>
            <a:ext cx="360360" cy="311040"/>
          </a:xfrm>
          <a:prstGeom prst="hexagon">
            <a:avLst>
              <a:gd name="adj" fmla="val 28964"/>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PlaceHolder 1"/>
          <p:cNvSpPr>
            <a:spLocks noGrp="1"/>
          </p:cNvSpPr>
          <p:nvPr>
            <p:ph type="title"/>
          </p:nvPr>
        </p:nvSpPr>
        <p:spPr>
          <a:xfrm>
            <a:off x="576360" y="296640"/>
            <a:ext cx="702000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第二节 网络经济中的供给与需求</a:t>
            </a:r>
            <a:endParaRPr b="0" lang="en-US" sz="3200" spc="-1" strike="noStrike">
              <a:solidFill>
                <a:srgbClr val="000000"/>
              </a:solidFill>
              <a:latin typeface="Calibri"/>
            </a:endParaRPr>
          </a:p>
        </p:txBody>
      </p:sp>
      <p:grpSp>
        <p:nvGrpSpPr>
          <p:cNvPr id="475" name="组合 127"/>
          <p:cNvGrpSpPr/>
          <p:nvPr/>
        </p:nvGrpSpPr>
        <p:grpSpPr>
          <a:xfrm>
            <a:off x="250920" y="324000"/>
            <a:ext cx="264960" cy="417240"/>
            <a:chOff x="250920" y="324000"/>
            <a:chExt cx="264960" cy="417240"/>
          </a:xfrm>
        </p:grpSpPr>
        <p:sp>
          <p:nvSpPr>
            <p:cNvPr id="476"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F0723-B9DB-41CD-90D1-135C49A295D2}"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480" name="Group 128"/>
          <p:cNvGrpSpPr/>
          <p:nvPr/>
        </p:nvGrpSpPr>
        <p:grpSpPr>
          <a:xfrm>
            <a:off x="6762600" y="2451240"/>
            <a:ext cx="648000" cy="453960"/>
            <a:chOff x="6762600" y="2451240"/>
            <a:chExt cx="648000" cy="453960"/>
          </a:xfrm>
        </p:grpSpPr>
        <p:sp>
          <p:nvSpPr>
            <p:cNvPr id="481" name="AutoShape 129"/>
            <p:cNvSpPr/>
            <p:nvPr/>
          </p:nvSpPr>
          <p:spPr>
            <a:xfrm>
              <a:off x="7050240" y="259416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AutoShape 130"/>
            <p:cNvSpPr/>
            <p:nvPr/>
          </p:nvSpPr>
          <p:spPr>
            <a:xfrm>
              <a:off x="6762600" y="245124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3" name="AutoShape 26"/>
          <p:cNvSpPr/>
          <p:nvPr/>
        </p:nvSpPr>
        <p:spPr>
          <a:xfrm>
            <a:off x="79056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AutoShape 78"/>
          <p:cNvSpPr/>
          <p:nvPr/>
        </p:nvSpPr>
        <p:spPr>
          <a:xfrm>
            <a:off x="46656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6" name="组合 127"/>
          <p:cNvGrpSpPr/>
          <p:nvPr/>
        </p:nvGrpSpPr>
        <p:grpSpPr>
          <a:xfrm>
            <a:off x="250920" y="324000"/>
            <a:ext cx="264960" cy="417240"/>
            <a:chOff x="250920" y="324000"/>
            <a:chExt cx="264960" cy="417240"/>
          </a:xfrm>
        </p:grpSpPr>
        <p:sp>
          <p:nvSpPr>
            <p:cNvPr id="487"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组合 10"/>
          <p:cNvGrpSpPr/>
          <p:nvPr/>
        </p:nvGrpSpPr>
        <p:grpSpPr>
          <a:xfrm>
            <a:off x="1224000" y="944640"/>
            <a:ext cx="7128000" cy="647640"/>
            <a:chOff x="1224000" y="944640"/>
            <a:chExt cx="7128000" cy="647640"/>
          </a:xfrm>
        </p:grpSpPr>
        <p:sp>
          <p:nvSpPr>
            <p:cNvPr id="491" name="TextBox 11"/>
            <p:cNvSpPr/>
            <p:nvPr/>
          </p:nvSpPr>
          <p:spPr>
            <a:xfrm>
              <a:off x="1482480" y="944640"/>
              <a:ext cx="686952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数字产品的供给</a:t>
              </a:r>
              <a:endParaRPr b="0" lang="en-US" sz="1800" spc="-1" strike="noStrike">
                <a:solidFill>
                  <a:srgbClr val="000000"/>
                </a:solidFill>
                <a:latin typeface="Arial"/>
              </a:endParaRPr>
            </a:p>
          </p:txBody>
        </p:sp>
        <p:sp>
          <p:nvSpPr>
            <p:cNvPr id="492" name="直接连接符 3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流程图: 联系 13"/>
            <p:cNvSpPr/>
            <p:nvPr/>
          </p:nvSpPr>
          <p:spPr>
            <a:xfrm>
              <a:off x="1224000" y="121284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494" name="直接连接符 3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9"/>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21"/>
          <p:cNvSpPr/>
          <p:nvPr/>
        </p:nvSpPr>
        <p:spPr>
          <a:xfrm>
            <a:off x="0" y="-17136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0" name=""/>
          <p:cNvGrpSpPr/>
          <p:nvPr/>
        </p:nvGrpSpPr>
        <p:grpSpPr>
          <a:xfrm>
            <a:off x="1852560" y="2448000"/>
            <a:ext cx="2319480" cy="2219400"/>
            <a:chOff x="1852560" y="2448000"/>
            <a:chExt cx="2319480" cy="2219400"/>
          </a:xfrm>
        </p:grpSpPr>
        <p:sp>
          <p:nvSpPr>
            <p:cNvPr id="501" name="MH_Other_1"/>
            <p:cNvSpPr/>
            <p:nvPr/>
          </p:nvSpPr>
          <p:spPr>
            <a:xfrm>
              <a:off x="1852560" y="2448000"/>
              <a:ext cx="2319480" cy="2219400"/>
            </a:xfrm>
            <a:custGeom>
              <a:avLst/>
              <a:gdLst/>
              <a:ahLst/>
              <a:rect l="l" t="t" r="r" b="b"/>
              <a:pathLst>
                <a:path w="1844621" h="1765598">
                  <a:moveTo>
                    <a:pt x="961691" y="1643760"/>
                  </a:moveTo>
                  <a:lnTo>
                    <a:pt x="964657" y="1718060"/>
                  </a:lnTo>
                  <a:lnTo>
                    <a:pt x="948083" y="1717184"/>
                  </a:lnTo>
                  <a:lnTo>
                    <a:pt x="946614" y="1717353"/>
                  </a:lnTo>
                  <a:lnTo>
                    <a:pt x="943691" y="1644103"/>
                  </a:lnTo>
                  <a:lnTo>
                    <a:pt x="961691" y="1643760"/>
                  </a:lnTo>
                  <a:close/>
                  <a:moveTo>
                    <a:pt x="875350" y="1643169"/>
                  </a:moveTo>
                  <a:lnTo>
                    <a:pt x="893299" y="1644629"/>
                  </a:lnTo>
                  <a:lnTo>
                    <a:pt x="889341" y="1723945"/>
                  </a:lnTo>
                  <a:lnTo>
                    <a:pt x="871214" y="1726031"/>
                  </a:lnTo>
                  <a:lnTo>
                    <a:pt x="875350" y="1643169"/>
                  </a:lnTo>
                  <a:close/>
                  <a:moveTo>
                    <a:pt x="1029699" y="1636826"/>
                  </a:moveTo>
                  <a:lnTo>
                    <a:pt x="1040815" y="1722087"/>
                  </a:lnTo>
                  <a:lnTo>
                    <a:pt x="1022537" y="1721121"/>
                  </a:lnTo>
                  <a:lnTo>
                    <a:pt x="1011828" y="1638982"/>
                  </a:lnTo>
                  <a:lnTo>
                    <a:pt x="1029699" y="1636826"/>
                  </a:lnTo>
                  <a:close/>
                  <a:moveTo>
                    <a:pt x="807350" y="1636115"/>
                  </a:moveTo>
                  <a:lnTo>
                    <a:pt x="822430" y="1638864"/>
                  </a:lnTo>
                  <a:lnTo>
                    <a:pt x="825110" y="1639083"/>
                  </a:lnTo>
                  <a:lnTo>
                    <a:pt x="811751" y="1734136"/>
                  </a:lnTo>
                  <a:lnTo>
                    <a:pt x="792774" y="1739833"/>
                  </a:lnTo>
                  <a:lnTo>
                    <a:pt x="807350" y="1636115"/>
                  </a:lnTo>
                  <a:close/>
                  <a:moveTo>
                    <a:pt x="1096827" y="1624033"/>
                  </a:moveTo>
                  <a:lnTo>
                    <a:pt x="1121385" y="1734155"/>
                  </a:lnTo>
                  <a:lnTo>
                    <a:pt x="1101928" y="1729603"/>
                  </a:lnTo>
                  <a:lnTo>
                    <a:pt x="1079265" y="1627978"/>
                  </a:lnTo>
                  <a:lnTo>
                    <a:pt x="1096827" y="1624033"/>
                  </a:lnTo>
                  <a:close/>
                  <a:moveTo>
                    <a:pt x="740342" y="1622534"/>
                  </a:moveTo>
                  <a:lnTo>
                    <a:pt x="749046" y="1625484"/>
                  </a:lnTo>
                  <a:lnTo>
                    <a:pt x="757767" y="1627074"/>
                  </a:lnTo>
                  <a:lnTo>
                    <a:pt x="726815" y="1759631"/>
                  </a:lnTo>
                  <a:lnTo>
                    <a:pt x="706937" y="1765598"/>
                  </a:lnTo>
                  <a:lnTo>
                    <a:pt x="740342" y="1622534"/>
                  </a:lnTo>
                  <a:close/>
                  <a:moveTo>
                    <a:pt x="1162592" y="1605474"/>
                  </a:moveTo>
                  <a:lnTo>
                    <a:pt x="1211506" y="1758609"/>
                  </a:lnTo>
                  <a:lnTo>
                    <a:pt x="1193512" y="1751032"/>
                  </a:lnTo>
                  <a:lnTo>
                    <a:pt x="1189921" y="1750192"/>
                  </a:lnTo>
                  <a:lnTo>
                    <a:pt x="1145515" y="1611170"/>
                  </a:lnTo>
                  <a:lnTo>
                    <a:pt x="1162592" y="1605474"/>
                  </a:lnTo>
                  <a:close/>
                  <a:moveTo>
                    <a:pt x="675637" y="1600604"/>
                  </a:moveTo>
                  <a:lnTo>
                    <a:pt x="692686" y="1606382"/>
                  </a:lnTo>
                  <a:lnTo>
                    <a:pt x="641486" y="1761326"/>
                  </a:lnTo>
                  <a:lnTo>
                    <a:pt x="631383" y="1744623"/>
                  </a:lnTo>
                  <a:lnTo>
                    <a:pt x="628970" y="1741831"/>
                  </a:lnTo>
                  <a:lnTo>
                    <a:pt x="675637" y="1600604"/>
                  </a:lnTo>
                  <a:close/>
                  <a:moveTo>
                    <a:pt x="1225916" y="1579868"/>
                  </a:moveTo>
                  <a:lnTo>
                    <a:pt x="1279540" y="1707080"/>
                  </a:lnTo>
                  <a:lnTo>
                    <a:pt x="1266966" y="1723591"/>
                  </a:lnTo>
                  <a:lnTo>
                    <a:pt x="1209837" y="1588066"/>
                  </a:lnTo>
                  <a:lnTo>
                    <a:pt x="1225916" y="1579868"/>
                  </a:lnTo>
                  <a:close/>
                  <a:moveTo>
                    <a:pt x="610954" y="1578681"/>
                  </a:moveTo>
                  <a:lnTo>
                    <a:pt x="628059" y="1584478"/>
                  </a:lnTo>
                  <a:lnTo>
                    <a:pt x="582951" y="1688574"/>
                  </a:lnTo>
                  <a:lnTo>
                    <a:pt x="569886" y="1673454"/>
                  </a:lnTo>
                  <a:lnTo>
                    <a:pt x="610954" y="1578681"/>
                  </a:lnTo>
                  <a:close/>
                  <a:moveTo>
                    <a:pt x="1286670" y="1548893"/>
                  </a:moveTo>
                  <a:lnTo>
                    <a:pt x="1333269" y="1636531"/>
                  </a:lnTo>
                  <a:lnTo>
                    <a:pt x="1321264" y="1652294"/>
                  </a:lnTo>
                  <a:lnTo>
                    <a:pt x="1270632" y="1557070"/>
                  </a:lnTo>
                  <a:lnTo>
                    <a:pt x="1286670" y="1548893"/>
                  </a:lnTo>
                  <a:close/>
                  <a:moveTo>
                    <a:pt x="551444" y="1545001"/>
                  </a:moveTo>
                  <a:lnTo>
                    <a:pt x="567074" y="1553937"/>
                  </a:lnTo>
                  <a:lnTo>
                    <a:pt x="524862" y="1631452"/>
                  </a:lnTo>
                  <a:lnTo>
                    <a:pt x="510642" y="1619926"/>
                  </a:lnTo>
                  <a:lnTo>
                    <a:pt x="551444" y="1545001"/>
                  </a:lnTo>
                  <a:close/>
                  <a:moveTo>
                    <a:pt x="1346034" y="1515267"/>
                  </a:moveTo>
                  <a:lnTo>
                    <a:pt x="1390051" y="1582679"/>
                  </a:lnTo>
                  <a:lnTo>
                    <a:pt x="1376613" y="1595021"/>
                  </a:lnTo>
                  <a:lnTo>
                    <a:pt x="1331552" y="1526010"/>
                  </a:lnTo>
                  <a:lnTo>
                    <a:pt x="1333983" y="1524770"/>
                  </a:lnTo>
                  <a:lnTo>
                    <a:pt x="1346034" y="1515267"/>
                  </a:lnTo>
                  <a:close/>
                  <a:moveTo>
                    <a:pt x="492213" y="1511140"/>
                  </a:moveTo>
                  <a:lnTo>
                    <a:pt x="507877" y="1520095"/>
                  </a:lnTo>
                  <a:lnTo>
                    <a:pt x="465615" y="1583429"/>
                  </a:lnTo>
                  <a:lnTo>
                    <a:pt x="452723" y="1572979"/>
                  </a:lnTo>
                  <a:lnTo>
                    <a:pt x="451434" y="1572252"/>
                  </a:lnTo>
                  <a:lnTo>
                    <a:pt x="492213" y="1511140"/>
                  </a:lnTo>
                  <a:close/>
                  <a:moveTo>
                    <a:pt x="1399641" y="1472989"/>
                  </a:moveTo>
                  <a:lnTo>
                    <a:pt x="1447523" y="1533649"/>
                  </a:lnTo>
                  <a:lnTo>
                    <a:pt x="1433600" y="1542681"/>
                  </a:lnTo>
                  <a:lnTo>
                    <a:pt x="1432510" y="1543682"/>
                  </a:lnTo>
                  <a:lnTo>
                    <a:pt x="1385507" y="1484135"/>
                  </a:lnTo>
                  <a:lnTo>
                    <a:pt x="1399641" y="1472989"/>
                  </a:lnTo>
                  <a:close/>
                  <a:moveTo>
                    <a:pt x="439084" y="1468240"/>
                  </a:moveTo>
                  <a:lnTo>
                    <a:pt x="452737" y="1479985"/>
                  </a:lnTo>
                  <a:lnTo>
                    <a:pt x="401226" y="1543921"/>
                  </a:lnTo>
                  <a:lnTo>
                    <a:pt x="385335" y="1534955"/>
                  </a:lnTo>
                  <a:lnTo>
                    <a:pt x="439084" y="1468240"/>
                  </a:lnTo>
                  <a:close/>
                  <a:moveTo>
                    <a:pt x="1452700" y="1430017"/>
                  </a:moveTo>
                  <a:lnTo>
                    <a:pt x="1511505" y="1492141"/>
                  </a:lnTo>
                  <a:lnTo>
                    <a:pt x="1496150" y="1502102"/>
                  </a:lnTo>
                  <a:lnTo>
                    <a:pt x="1439119" y="1441854"/>
                  </a:lnTo>
                  <a:lnTo>
                    <a:pt x="1449687" y="1433519"/>
                  </a:lnTo>
                  <a:lnTo>
                    <a:pt x="1452700" y="1430017"/>
                  </a:lnTo>
                  <a:close/>
                  <a:moveTo>
                    <a:pt x="387391" y="1423768"/>
                  </a:moveTo>
                  <a:lnTo>
                    <a:pt x="401059" y="1435526"/>
                  </a:lnTo>
                  <a:lnTo>
                    <a:pt x="332463" y="1506560"/>
                  </a:lnTo>
                  <a:lnTo>
                    <a:pt x="313761" y="1500014"/>
                  </a:lnTo>
                  <a:lnTo>
                    <a:pt x="387391" y="1423768"/>
                  </a:lnTo>
                  <a:close/>
                  <a:moveTo>
                    <a:pt x="1497274" y="1378205"/>
                  </a:moveTo>
                  <a:lnTo>
                    <a:pt x="1583781" y="1454547"/>
                  </a:lnTo>
                  <a:lnTo>
                    <a:pt x="1565364" y="1462300"/>
                  </a:lnTo>
                  <a:lnTo>
                    <a:pt x="1485535" y="1391850"/>
                  </a:lnTo>
                  <a:lnTo>
                    <a:pt x="1497274" y="1378205"/>
                  </a:lnTo>
                  <a:close/>
                  <a:moveTo>
                    <a:pt x="342078" y="1372754"/>
                  </a:moveTo>
                  <a:lnTo>
                    <a:pt x="353236" y="1386902"/>
                  </a:lnTo>
                  <a:lnTo>
                    <a:pt x="248764" y="1477262"/>
                  </a:lnTo>
                  <a:lnTo>
                    <a:pt x="229175" y="1470405"/>
                  </a:lnTo>
                  <a:lnTo>
                    <a:pt x="342078" y="1372754"/>
                  </a:lnTo>
                  <a:close/>
                  <a:moveTo>
                    <a:pt x="1541797" y="1326453"/>
                  </a:moveTo>
                  <a:lnTo>
                    <a:pt x="1671063" y="1421359"/>
                  </a:lnTo>
                  <a:lnTo>
                    <a:pt x="1652052" y="1425806"/>
                  </a:lnTo>
                  <a:lnTo>
                    <a:pt x="1648653" y="1427237"/>
                  </a:lnTo>
                  <a:lnTo>
                    <a:pt x="1530022" y="1340139"/>
                  </a:lnTo>
                  <a:lnTo>
                    <a:pt x="1541797" y="1326453"/>
                  </a:lnTo>
                  <a:close/>
                  <a:moveTo>
                    <a:pt x="299862" y="1319225"/>
                  </a:moveTo>
                  <a:lnTo>
                    <a:pt x="311019" y="1333372"/>
                  </a:lnTo>
                  <a:lnTo>
                    <a:pt x="178732" y="1428480"/>
                  </a:lnTo>
                  <a:lnTo>
                    <a:pt x="180377" y="1409027"/>
                  </a:lnTo>
                  <a:lnTo>
                    <a:pt x="180067" y="1405352"/>
                  </a:lnTo>
                  <a:lnTo>
                    <a:pt x="299862" y="1319225"/>
                  </a:lnTo>
                  <a:close/>
                  <a:moveTo>
                    <a:pt x="1576542" y="1267609"/>
                  </a:moveTo>
                  <a:lnTo>
                    <a:pt x="1695816" y="1339681"/>
                  </a:lnTo>
                  <a:lnTo>
                    <a:pt x="1695348" y="1360430"/>
                  </a:lnTo>
                  <a:lnTo>
                    <a:pt x="1567606" y="1283241"/>
                  </a:lnTo>
                  <a:lnTo>
                    <a:pt x="1576542" y="1267609"/>
                  </a:lnTo>
                  <a:close/>
                  <a:moveTo>
                    <a:pt x="263531" y="1261503"/>
                  </a:moveTo>
                  <a:lnTo>
                    <a:pt x="271723" y="1277570"/>
                  </a:lnTo>
                  <a:lnTo>
                    <a:pt x="174140" y="1335215"/>
                  </a:lnTo>
                  <a:lnTo>
                    <a:pt x="172457" y="1315303"/>
                  </a:lnTo>
                  <a:lnTo>
                    <a:pt x="263531" y="1261503"/>
                  </a:lnTo>
                  <a:close/>
                  <a:moveTo>
                    <a:pt x="1610398" y="1208387"/>
                  </a:moveTo>
                  <a:lnTo>
                    <a:pt x="1697816" y="1251024"/>
                  </a:lnTo>
                  <a:lnTo>
                    <a:pt x="1697369" y="1270832"/>
                  </a:lnTo>
                  <a:lnTo>
                    <a:pt x="1601446" y="1224047"/>
                  </a:lnTo>
                  <a:lnTo>
                    <a:pt x="1610398" y="1208387"/>
                  </a:lnTo>
                  <a:close/>
                  <a:moveTo>
                    <a:pt x="232566" y="1200770"/>
                  </a:moveTo>
                  <a:lnTo>
                    <a:pt x="240745" y="1216812"/>
                  </a:lnTo>
                  <a:lnTo>
                    <a:pt x="160720" y="1254859"/>
                  </a:lnTo>
                  <a:lnTo>
                    <a:pt x="155991" y="1237178"/>
                  </a:lnTo>
                  <a:lnTo>
                    <a:pt x="232566" y="1200770"/>
                  </a:lnTo>
                  <a:close/>
                  <a:moveTo>
                    <a:pt x="1634958" y="1144690"/>
                  </a:moveTo>
                  <a:lnTo>
                    <a:pt x="1712099" y="1174082"/>
                  </a:lnTo>
                  <a:lnTo>
                    <a:pt x="1708482" y="1191966"/>
                  </a:lnTo>
                  <a:lnTo>
                    <a:pt x="1629176" y="1161750"/>
                  </a:lnTo>
                  <a:lnTo>
                    <a:pt x="1634958" y="1144690"/>
                  </a:lnTo>
                  <a:close/>
                  <a:moveTo>
                    <a:pt x="204756" y="1138431"/>
                  </a:moveTo>
                  <a:lnTo>
                    <a:pt x="210455" y="1155515"/>
                  </a:lnTo>
                  <a:lnTo>
                    <a:pt x="141015" y="1181182"/>
                  </a:lnTo>
                  <a:lnTo>
                    <a:pt x="136727" y="1165150"/>
                  </a:lnTo>
                  <a:lnTo>
                    <a:pt x="136112" y="1163804"/>
                  </a:lnTo>
                  <a:lnTo>
                    <a:pt x="204756" y="1138431"/>
                  </a:lnTo>
                  <a:close/>
                  <a:moveTo>
                    <a:pt x="1656844" y="1080115"/>
                  </a:moveTo>
                  <a:lnTo>
                    <a:pt x="1729776" y="1100634"/>
                  </a:lnTo>
                  <a:lnTo>
                    <a:pt x="1723821" y="1116126"/>
                  </a:lnTo>
                  <a:lnTo>
                    <a:pt x="1723528" y="1117576"/>
                  </a:lnTo>
                  <a:lnTo>
                    <a:pt x="1651058" y="1097186"/>
                  </a:lnTo>
                  <a:lnTo>
                    <a:pt x="1656844" y="1080115"/>
                  </a:lnTo>
                  <a:close/>
                  <a:moveTo>
                    <a:pt x="184625" y="1073110"/>
                  </a:moveTo>
                  <a:lnTo>
                    <a:pt x="188043" y="1088326"/>
                  </a:lnTo>
                  <a:lnTo>
                    <a:pt x="188810" y="1090624"/>
                  </a:lnTo>
                  <a:lnTo>
                    <a:pt x="112145" y="1111372"/>
                  </a:lnTo>
                  <a:lnTo>
                    <a:pt x="104560" y="1094778"/>
                  </a:lnTo>
                  <a:lnTo>
                    <a:pt x="184625" y="1073110"/>
                  </a:lnTo>
                  <a:close/>
                  <a:moveTo>
                    <a:pt x="1672722" y="1013691"/>
                  </a:moveTo>
                  <a:lnTo>
                    <a:pt x="1757141" y="1029446"/>
                  </a:lnTo>
                  <a:lnTo>
                    <a:pt x="1750574" y="1046531"/>
                  </a:lnTo>
                  <a:lnTo>
                    <a:pt x="1669493" y="1031399"/>
                  </a:lnTo>
                  <a:lnTo>
                    <a:pt x="1672722" y="1013691"/>
                  </a:lnTo>
                  <a:close/>
                  <a:moveTo>
                    <a:pt x="170225" y="1006273"/>
                  </a:moveTo>
                  <a:lnTo>
                    <a:pt x="170936" y="1012170"/>
                  </a:lnTo>
                  <a:lnTo>
                    <a:pt x="173584" y="1023958"/>
                  </a:lnTo>
                  <a:lnTo>
                    <a:pt x="78475" y="1040728"/>
                  </a:lnTo>
                  <a:lnTo>
                    <a:pt x="67193" y="1024440"/>
                  </a:lnTo>
                  <a:lnTo>
                    <a:pt x="170225" y="1006273"/>
                  </a:lnTo>
                  <a:close/>
                  <a:moveTo>
                    <a:pt x="1681368" y="945892"/>
                  </a:moveTo>
                  <a:lnTo>
                    <a:pt x="1793516" y="956550"/>
                  </a:lnTo>
                  <a:lnTo>
                    <a:pt x="1783173" y="973649"/>
                  </a:lnTo>
                  <a:lnTo>
                    <a:pt x="1679909" y="963835"/>
                  </a:lnTo>
                  <a:lnTo>
                    <a:pt x="1681368" y="945892"/>
                  </a:lnTo>
                  <a:close/>
                  <a:moveTo>
                    <a:pt x="162034" y="938372"/>
                  </a:moveTo>
                  <a:lnTo>
                    <a:pt x="164191" y="956254"/>
                  </a:lnTo>
                  <a:lnTo>
                    <a:pt x="27981" y="967828"/>
                  </a:lnTo>
                  <a:lnTo>
                    <a:pt x="16164" y="950767"/>
                  </a:lnTo>
                  <a:lnTo>
                    <a:pt x="162034" y="938372"/>
                  </a:lnTo>
                  <a:close/>
                  <a:moveTo>
                    <a:pt x="1683923" y="877596"/>
                  </a:moveTo>
                  <a:lnTo>
                    <a:pt x="1844621" y="878397"/>
                  </a:lnTo>
                  <a:lnTo>
                    <a:pt x="1831855" y="893168"/>
                  </a:lnTo>
                  <a:lnTo>
                    <a:pt x="1829946" y="896325"/>
                  </a:lnTo>
                  <a:lnTo>
                    <a:pt x="1684266" y="895598"/>
                  </a:lnTo>
                  <a:lnTo>
                    <a:pt x="1683923" y="877596"/>
                  </a:lnTo>
                  <a:close/>
                  <a:moveTo>
                    <a:pt x="14676" y="869273"/>
                  </a:moveTo>
                  <a:lnTo>
                    <a:pt x="160356" y="869999"/>
                  </a:lnTo>
                  <a:lnTo>
                    <a:pt x="160699" y="888001"/>
                  </a:lnTo>
                  <a:lnTo>
                    <a:pt x="0" y="887200"/>
                  </a:lnTo>
                  <a:lnTo>
                    <a:pt x="12766" y="872429"/>
                  </a:lnTo>
                  <a:lnTo>
                    <a:pt x="14676" y="869273"/>
                  </a:lnTo>
                  <a:close/>
                  <a:moveTo>
                    <a:pt x="1816638" y="797770"/>
                  </a:moveTo>
                  <a:lnTo>
                    <a:pt x="1828455" y="814831"/>
                  </a:lnTo>
                  <a:lnTo>
                    <a:pt x="1682588" y="827227"/>
                  </a:lnTo>
                  <a:lnTo>
                    <a:pt x="1680430" y="809345"/>
                  </a:lnTo>
                  <a:lnTo>
                    <a:pt x="1816638" y="797770"/>
                  </a:lnTo>
                  <a:close/>
                  <a:moveTo>
                    <a:pt x="61447" y="791950"/>
                  </a:moveTo>
                  <a:lnTo>
                    <a:pt x="164713" y="801763"/>
                  </a:lnTo>
                  <a:lnTo>
                    <a:pt x="163253" y="819705"/>
                  </a:lnTo>
                  <a:lnTo>
                    <a:pt x="51105" y="809048"/>
                  </a:lnTo>
                  <a:lnTo>
                    <a:pt x="61447" y="791950"/>
                  </a:lnTo>
                  <a:close/>
                  <a:moveTo>
                    <a:pt x="1766145" y="724870"/>
                  </a:moveTo>
                  <a:lnTo>
                    <a:pt x="1777427" y="741158"/>
                  </a:lnTo>
                  <a:lnTo>
                    <a:pt x="1674396" y="759325"/>
                  </a:lnTo>
                  <a:lnTo>
                    <a:pt x="1673685" y="753429"/>
                  </a:lnTo>
                  <a:lnTo>
                    <a:pt x="1670588" y="741719"/>
                  </a:lnTo>
                  <a:lnTo>
                    <a:pt x="1766145" y="724870"/>
                  </a:lnTo>
                  <a:close/>
                  <a:moveTo>
                    <a:pt x="94047" y="719066"/>
                  </a:moveTo>
                  <a:lnTo>
                    <a:pt x="175129" y="734198"/>
                  </a:lnTo>
                  <a:lnTo>
                    <a:pt x="171900" y="751906"/>
                  </a:lnTo>
                  <a:lnTo>
                    <a:pt x="87480" y="736151"/>
                  </a:lnTo>
                  <a:lnTo>
                    <a:pt x="94047" y="719066"/>
                  </a:lnTo>
                  <a:close/>
                  <a:moveTo>
                    <a:pt x="1732475" y="654227"/>
                  </a:moveTo>
                  <a:lnTo>
                    <a:pt x="1740061" y="670822"/>
                  </a:lnTo>
                  <a:lnTo>
                    <a:pt x="1657733" y="693102"/>
                  </a:lnTo>
                  <a:lnTo>
                    <a:pt x="1653131" y="675699"/>
                  </a:lnTo>
                  <a:lnTo>
                    <a:pt x="1732475" y="654227"/>
                  </a:lnTo>
                  <a:close/>
                  <a:moveTo>
                    <a:pt x="121093" y="648021"/>
                  </a:moveTo>
                  <a:lnTo>
                    <a:pt x="193564" y="668412"/>
                  </a:lnTo>
                  <a:lnTo>
                    <a:pt x="187778" y="685483"/>
                  </a:lnTo>
                  <a:lnTo>
                    <a:pt x="114844" y="664963"/>
                  </a:lnTo>
                  <a:lnTo>
                    <a:pt x="120799" y="649471"/>
                  </a:lnTo>
                  <a:lnTo>
                    <a:pt x="121093" y="648021"/>
                  </a:lnTo>
                  <a:close/>
                  <a:moveTo>
                    <a:pt x="1703605" y="584417"/>
                  </a:moveTo>
                  <a:lnTo>
                    <a:pt x="1707892" y="600448"/>
                  </a:lnTo>
                  <a:lnTo>
                    <a:pt x="1708508" y="601796"/>
                  </a:lnTo>
                  <a:lnTo>
                    <a:pt x="1640259" y="627022"/>
                  </a:lnTo>
                  <a:lnTo>
                    <a:pt x="1639049" y="622444"/>
                  </a:lnTo>
                  <a:lnTo>
                    <a:pt x="1633440" y="610352"/>
                  </a:lnTo>
                  <a:lnTo>
                    <a:pt x="1703605" y="584417"/>
                  </a:lnTo>
                  <a:close/>
                  <a:moveTo>
                    <a:pt x="136138" y="573632"/>
                  </a:moveTo>
                  <a:lnTo>
                    <a:pt x="215446" y="603848"/>
                  </a:lnTo>
                  <a:lnTo>
                    <a:pt x="209665" y="620908"/>
                  </a:lnTo>
                  <a:lnTo>
                    <a:pt x="132521" y="591516"/>
                  </a:lnTo>
                  <a:lnTo>
                    <a:pt x="136138" y="573632"/>
                  </a:lnTo>
                  <a:close/>
                  <a:moveTo>
                    <a:pt x="1683900" y="510741"/>
                  </a:moveTo>
                  <a:lnTo>
                    <a:pt x="1688629" y="528423"/>
                  </a:lnTo>
                  <a:lnTo>
                    <a:pt x="1612275" y="564725"/>
                  </a:lnTo>
                  <a:lnTo>
                    <a:pt x="1604700" y="548396"/>
                  </a:lnTo>
                  <a:lnTo>
                    <a:pt x="1683900" y="510741"/>
                  </a:lnTo>
                  <a:close/>
                  <a:moveTo>
                    <a:pt x="147252" y="494765"/>
                  </a:moveTo>
                  <a:lnTo>
                    <a:pt x="243177" y="541551"/>
                  </a:lnTo>
                  <a:lnTo>
                    <a:pt x="234224" y="557210"/>
                  </a:lnTo>
                  <a:lnTo>
                    <a:pt x="146805" y="514573"/>
                  </a:lnTo>
                  <a:lnTo>
                    <a:pt x="147252" y="494765"/>
                  </a:lnTo>
                  <a:close/>
                  <a:moveTo>
                    <a:pt x="1670480" y="430384"/>
                  </a:moveTo>
                  <a:lnTo>
                    <a:pt x="1672163" y="450296"/>
                  </a:lnTo>
                  <a:lnTo>
                    <a:pt x="1583450" y="502701"/>
                  </a:lnTo>
                  <a:lnTo>
                    <a:pt x="1573155" y="487877"/>
                  </a:lnTo>
                  <a:lnTo>
                    <a:pt x="1670480" y="430384"/>
                  </a:lnTo>
                  <a:close/>
                  <a:moveTo>
                    <a:pt x="149273" y="405169"/>
                  </a:moveTo>
                  <a:lnTo>
                    <a:pt x="277016" y="482359"/>
                  </a:lnTo>
                  <a:lnTo>
                    <a:pt x="268080" y="497989"/>
                  </a:lnTo>
                  <a:lnTo>
                    <a:pt x="148805" y="425916"/>
                  </a:lnTo>
                  <a:lnTo>
                    <a:pt x="149273" y="405169"/>
                  </a:lnTo>
                  <a:close/>
                  <a:moveTo>
                    <a:pt x="195968" y="338361"/>
                  </a:moveTo>
                  <a:lnTo>
                    <a:pt x="314600" y="425459"/>
                  </a:lnTo>
                  <a:lnTo>
                    <a:pt x="302826" y="439145"/>
                  </a:lnTo>
                  <a:lnTo>
                    <a:pt x="173559" y="344239"/>
                  </a:lnTo>
                  <a:lnTo>
                    <a:pt x="192568" y="339792"/>
                  </a:lnTo>
                  <a:lnTo>
                    <a:pt x="195968" y="338361"/>
                  </a:lnTo>
                  <a:close/>
                  <a:moveTo>
                    <a:pt x="1665887" y="337121"/>
                  </a:moveTo>
                  <a:lnTo>
                    <a:pt x="1664242" y="356571"/>
                  </a:lnTo>
                  <a:lnTo>
                    <a:pt x="1664553" y="360248"/>
                  </a:lnTo>
                  <a:lnTo>
                    <a:pt x="1544474" y="446578"/>
                  </a:lnTo>
                  <a:lnTo>
                    <a:pt x="1534206" y="431793"/>
                  </a:lnTo>
                  <a:lnTo>
                    <a:pt x="1665887" y="337121"/>
                  </a:lnTo>
                  <a:close/>
                  <a:moveTo>
                    <a:pt x="279257" y="303297"/>
                  </a:moveTo>
                  <a:lnTo>
                    <a:pt x="359087" y="373748"/>
                  </a:lnTo>
                  <a:lnTo>
                    <a:pt x="347347" y="387394"/>
                  </a:lnTo>
                  <a:lnTo>
                    <a:pt x="260839" y="311051"/>
                  </a:lnTo>
                  <a:lnTo>
                    <a:pt x="279257" y="303297"/>
                  </a:lnTo>
                  <a:close/>
                  <a:moveTo>
                    <a:pt x="1595859" y="288337"/>
                  </a:moveTo>
                  <a:lnTo>
                    <a:pt x="1615448" y="295194"/>
                  </a:lnTo>
                  <a:lnTo>
                    <a:pt x="1504459" y="391189"/>
                  </a:lnTo>
                  <a:lnTo>
                    <a:pt x="1491819" y="378322"/>
                  </a:lnTo>
                  <a:lnTo>
                    <a:pt x="1595859" y="288337"/>
                  </a:lnTo>
                  <a:close/>
                  <a:moveTo>
                    <a:pt x="348471" y="263494"/>
                  </a:moveTo>
                  <a:lnTo>
                    <a:pt x="405504" y="323744"/>
                  </a:lnTo>
                  <a:lnTo>
                    <a:pt x="394934" y="332080"/>
                  </a:lnTo>
                  <a:lnTo>
                    <a:pt x="391923" y="335581"/>
                  </a:lnTo>
                  <a:lnTo>
                    <a:pt x="333116" y="273456"/>
                  </a:lnTo>
                  <a:lnTo>
                    <a:pt x="348471" y="263494"/>
                  </a:lnTo>
                  <a:close/>
                  <a:moveTo>
                    <a:pt x="1512159" y="259039"/>
                  </a:moveTo>
                  <a:lnTo>
                    <a:pt x="1530860" y="265585"/>
                  </a:lnTo>
                  <a:lnTo>
                    <a:pt x="1456606" y="342477"/>
                  </a:lnTo>
                  <a:lnTo>
                    <a:pt x="1443988" y="329632"/>
                  </a:lnTo>
                  <a:lnTo>
                    <a:pt x="1512159" y="259039"/>
                  </a:lnTo>
                  <a:close/>
                  <a:moveTo>
                    <a:pt x="412110" y="221916"/>
                  </a:moveTo>
                  <a:lnTo>
                    <a:pt x="459114" y="281464"/>
                  </a:lnTo>
                  <a:lnTo>
                    <a:pt x="444980" y="292610"/>
                  </a:lnTo>
                  <a:lnTo>
                    <a:pt x="397097" y="231949"/>
                  </a:lnTo>
                  <a:lnTo>
                    <a:pt x="411019" y="222917"/>
                  </a:lnTo>
                  <a:lnTo>
                    <a:pt x="412110" y="221916"/>
                  </a:lnTo>
                  <a:close/>
                  <a:moveTo>
                    <a:pt x="1443396" y="221678"/>
                  </a:moveTo>
                  <a:lnTo>
                    <a:pt x="1459286" y="230644"/>
                  </a:lnTo>
                  <a:lnTo>
                    <a:pt x="1406897" y="295670"/>
                  </a:lnTo>
                  <a:lnTo>
                    <a:pt x="1392300" y="285098"/>
                  </a:lnTo>
                  <a:lnTo>
                    <a:pt x="1443396" y="221678"/>
                  </a:lnTo>
                  <a:close/>
                  <a:moveTo>
                    <a:pt x="1379005" y="182170"/>
                  </a:moveTo>
                  <a:lnTo>
                    <a:pt x="1391896" y="192619"/>
                  </a:lnTo>
                  <a:lnTo>
                    <a:pt x="1393186" y="193347"/>
                  </a:lnTo>
                  <a:lnTo>
                    <a:pt x="1351622" y="255636"/>
                  </a:lnTo>
                  <a:lnTo>
                    <a:pt x="1337034" y="245070"/>
                  </a:lnTo>
                  <a:lnTo>
                    <a:pt x="1379005" y="182170"/>
                  </a:lnTo>
                  <a:close/>
                  <a:moveTo>
                    <a:pt x="468008" y="170577"/>
                  </a:moveTo>
                  <a:lnTo>
                    <a:pt x="513069" y="239589"/>
                  </a:lnTo>
                  <a:lnTo>
                    <a:pt x="510638" y="240828"/>
                  </a:lnTo>
                  <a:lnTo>
                    <a:pt x="498586" y="250333"/>
                  </a:lnTo>
                  <a:lnTo>
                    <a:pt x="454568" y="182920"/>
                  </a:lnTo>
                  <a:lnTo>
                    <a:pt x="468008" y="170577"/>
                  </a:lnTo>
                  <a:close/>
                  <a:moveTo>
                    <a:pt x="1319759" y="134146"/>
                  </a:moveTo>
                  <a:lnTo>
                    <a:pt x="1333978" y="145672"/>
                  </a:lnTo>
                  <a:lnTo>
                    <a:pt x="1294036" y="219016"/>
                  </a:lnTo>
                  <a:lnTo>
                    <a:pt x="1277891" y="211027"/>
                  </a:lnTo>
                  <a:lnTo>
                    <a:pt x="1319759" y="134146"/>
                  </a:lnTo>
                  <a:close/>
                  <a:moveTo>
                    <a:pt x="523355" y="113305"/>
                  </a:moveTo>
                  <a:lnTo>
                    <a:pt x="573987" y="208530"/>
                  </a:lnTo>
                  <a:lnTo>
                    <a:pt x="557949" y="216707"/>
                  </a:lnTo>
                  <a:lnTo>
                    <a:pt x="511350" y="129068"/>
                  </a:lnTo>
                  <a:lnTo>
                    <a:pt x="523355" y="113305"/>
                  </a:lnTo>
                  <a:close/>
                  <a:moveTo>
                    <a:pt x="1261668" y="77024"/>
                  </a:moveTo>
                  <a:lnTo>
                    <a:pt x="1274734" y="92144"/>
                  </a:lnTo>
                  <a:lnTo>
                    <a:pt x="1232872" y="188750"/>
                  </a:lnTo>
                  <a:lnTo>
                    <a:pt x="1216718" y="180757"/>
                  </a:lnTo>
                  <a:lnTo>
                    <a:pt x="1261668" y="77024"/>
                  </a:lnTo>
                  <a:close/>
                  <a:moveTo>
                    <a:pt x="879964" y="47539"/>
                  </a:moveTo>
                  <a:lnTo>
                    <a:pt x="896536" y="48415"/>
                  </a:lnTo>
                  <a:lnTo>
                    <a:pt x="898006" y="48246"/>
                  </a:lnTo>
                  <a:lnTo>
                    <a:pt x="900930" y="121496"/>
                  </a:lnTo>
                  <a:lnTo>
                    <a:pt x="882930" y="121839"/>
                  </a:lnTo>
                  <a:lnTo>
                    <a:pt x="879964" y="47539"/>
                  </a:lnTo>
                  <a:close/>
                  <a:moveTo>
                    <a:pt x="803804" y="43511"/>
                  </a:moveTo>
                  <a:lnTo>
                    <a:pt x="822082" y="44478"/>
                  </a:lnTo>
                  <a:lnTo>
                    <a:pt x="832792" y="126618"/>
                  </a:lnTo>
                  <a:lnTo>
                    <a:pt x="814920" y="128774"/>
                  </a:lnTo>
                  <a:lnTo>
                    <a:pt x="803804" y="43511"/>
                  </a:lnTo>
                  <a:close/>
                  <a:moveTo>
                    <a:pt x="577653" y="42008"/>
                  </a:moveTo>
                  <a:lnTo>
                    <a:pt x="634782" y="177534"/>
                  </a:lnTo>
                  <a:lnTo>
                    <a:pt x="618704" y="185731"/>
                  </a:lnTo>
                  <a:lnTo>
                    <a:pt x="565079" y="58518"/>
                  </a:lnTo>
                  <a:lnTo>
                    <a:pt x="577653" y="42008"/>
                  </a:lnTo>
                  <a:close/>
                  <a:moveTo>
                    <a:pt x="973404" y="39567"/>
                  </a:moveTo>
                  <a:lnTo>
                    <a:pt x="969228" y="123258"/>
                  </a:lnTo>
                  <a:lnTo>
                    <a:pt x="951312" y="121130"/>
                  </a:lnTo>
                  <a:lnTo>
                    <a:pt x="955278" y="41654"/>
                  </a:lnTo>
                  <a:lnTo>
                    <a:pt x="973404" y="39567"/>
                  </a:lnTo>
                  <a:close/>
                  <a:moveTo>
                    <a:pt x="723233" y="31443"/>
                  </a:moveTo>
                  <a:lnTo>
                    <a:pt x="742691" y="35995"/>
                  </a:lnTo>
                  <a:lnTo>
                    <a:pt x="765354" y="137622"/>
                  </a:lnTo>
                  <a:lnTo>
                    <a:pt x="747791" y="141567"/>
                  </a:lnTo>
                  <a:lnTo>
                    <a:pt x="723233" y="31443"/>
                  </a:lnTo>
                  <a:close/>
                  <a:moveTo>
                    <a:pt x="1051847" y="25765"/>
                  </a:moveTo>
                  <a:lnTo>
                    <a:pt x="1037014" y="131308"/>
                  </a:lnTo>
                  <a:lnTo>
                    <a:pt x="1019135" y="129184"/>
                  </a:lnTo>
                  <a:lnTo>
                    <a:pt x="1032869" y="31462"/>
                  </a:lnTo>
                  <a:lnTo>
                    <a:pt x="1051847" y="25765"/>
                  </a:lnTo>
                  <a:close/>
                  <a:moveTo>
                    <a:pt x="633115" y="6990"/>
                  </a:moveTo>
                  <a:lnTo>
                    <a:pt x="651107" y="14566"/>
                  </a:lnTo>
                  <a:lnTo>
                    <a:pt x="654699" y="15406"/>
                  </a:lnTo>
                  <a:lnTo>
                    <a:pt x="699105" y="154429"/>
                  </a:lnTo>
                  <a:lnTo>
                    <a:pt x="682029" y="160125"/>
                  </a:lnTo>
                  <a:lnTo>
                    <a:pt x="633115" y="6990"/>
                  </a:lnTo>
                  <a:close/>
                  <a:moveTo>
                    <a:pt x="1203134" y="4273"/>
                  </a:moveTo>
                  <a:lnTo>
                    <a:pt x="1213236" y="20976"/>
                  </a:lnTo>
                  <a:lnTo>
                    <a:pt x="1215649" y="23769"/>
                  </a:lnTo>
                  <a:lnTo>
                    <a:pt x="1169442" y="163605"/>
                  </a:lnTo>
                  <a:lnTo>
                    <a:pt x="1152188" y="158449"/>
                  </a:lnTo>
                  <a:lnTo>
                    <a:pt x="1203134" y="4273"/>
                  </a:lnTo>
                  <a:close/>
                  <a:moveTo>
                    <a:pt x="1137683" y="0"/>
                  </a:moveTo>
                  <a:lnTo>
                    <a:pt x="1104046" y="144062"/>
                  </a:lnTo>
                  <a:lnTo>
                    <a:pt x="1086767" y="138898"/>
                  </a:lnTo>
                  <a:lnTo>
                    <a:pt x="1117806" y="5966"/>
                  </a:lnTo>
                  <a:lnTo>
                    <a:pt x="1137683" y="0"/>
                  </a:lnTo>
                  <a:close/>
                </a:path>
              </a:pathLst>
            </a:custGeom>
            <a:solidFill>
              <a:srgbClr val="b9cde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2" name="MH_SubTitle_1"/>
            <p:cNvSpPr/>
            <p:nvPr/>
          </p:nvSpPr>
          <p:spPr>
            <a:xfrm>
              <a:off x="2128680" y="2673360"/>
              <a:ext cx="1768680" cy="1768320"/>
            </a:xfrm>
            <a:prstGeom prst="pi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供给规律：网络产品价值取决于用户规模</a:t>
              </a:r>
              <a:endParaRPr b="0" lang="en-US" sz="1800" spc="-1" strike="noStrike">
                <a:solidFill>
                  <a:srgbClr val="000000"/>
                </a:solidFill>
                <a:latin typeface="Arial"/>
              </a:endParaRPr>
            </a:p>
          </p:txBody>
        </p:sp>
        <p:sp>
          <p:nvSpPr>
            <p:cNvPr id="503" name="MH_Other_2"/>
            <p:cNvSpPr/>
            <p:nvPr/>
          </p:nvSpPr>
          <p:spPr>
            <a:xfrm>
              <a:off x="2303640" y="2673360"/>
              <a:ext cx="1411200" cy="368280"/>
            </a:xfrm>
            <a:prstGeom prst="pi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01</a:t>
              </a:r>
              <a:endParaRPr b="0" lang="en-US" sz="2400" spc="-1" strike="noStrike">
                <a:solidFill>
                  <a:srgbClr val="000000"/>
                </a:solidFill>
                <a:latin typeface="Arial"/>
              </a:endParaRPr>
            </a:p>
          </p:txBody>
        </p:sp>
      </p:grpSp>
      <p:sp>
        <p:nvSpPr>
          <p:cNvPr id="504" name="MH_Other_3"/>
          <p:cNvSpPr/>
          <p:nvPr/>
        </p:nvSpPr>
        <p:spPr>
          <a:xfrm>
            <a:off x="5308560" y="2556000"/>
            <a:ext cx="2319480" cy="2219040"/>
          </a:xfrm>
          <a:custGeom>
            <a:avLst/>
            <a:gdLst/>
            <a:ahLst/>
            <a:rect l="l" t="t" r="r" b="b"/>
            <a:pathLst>
              <a:path w="1844621" h="1765598">
                <a:moveTo>
                  <a:pt x="961691" y="1643760"/>
                </a:moveTo>
                <a:lnTo>
                  <a:pt x="964657" y="1718060"/>
                </a:lnTo>
                <a:lnTo>
                  <a:pt x="948083" y="1717184"/>
                </a:lnTo>
                <a:lnTo>
                  <a:pt x="946614" y="1717353"/>
                </a:lnTo>
                <a:lnTo>
                  <a:pt x="943691" y="1644103"/>
                </a:lnTo>
                <a:lnTo>
                  <a:pt x="961691" y="1643760"/>
                </a:lnTo>
                <a:close/>
                <a:moveTo>
                  <a:pt x="875350" y="1643169"/>
                </a:moveTo>
                <a:lnTo>
                  <a:pt x="893299" y="1644629"/>
                </a:lnTo>
                <a:lnTo>
                  <a:pt x="889341" y="1723945"/>
                </a:lnTo>
                <a:lnTo>
                  <a:pt x="871214" y="1726031"/>
                </a:lnTo>
                <a:lnTo>
                  <a:pt x="875350" y="1643169"/>
                </a:lnTo>
                <a:close/>
                <a:moveTo>
                  <a:pt x="1029699" y="1636826"/>
                </a:moveTo>
                <a:lnTo>
                  <a:pt x="1040815" y="1722087"/>
                </a:lnTo>
                <a:lnTo>
                  <a:pt x="1022537" y="1721121"/>
                </a:lnTo>
                <a:lnTo>
                  <a:pt x="1011828" y="1638982"/>
                </a:lnTo>
                <a:lnTo>
                  <a:pt x="1029699" y="1636826"/>
                </a:lnTo>
                <a:close/>
                <a:moveTo>
                  <a:pt x="807350" y="1636115"/>
                </a:moveTo>
                <a:lnTo>
                  <a:pt x="822430" y="1638864"/>
                </a:lnTo>
                <a:lnTo>
                  <a:pt x="825110" y="1639083"/>
                </a:lnTo>
                <a:lnTo>
                  <a:pt x="811751" y="1734136"/>
                </a:lnTo>
                <a:lnTo>
                  <a:pt x="792774" y="1739833"/>
                </a:lnTo>
                <a:lnTo>
                  <a:pt x="807350" y="1636115"/>
                </a:lnTo>
                <a:close/>
                <a:moveTo>
                  <a:pt x="1096827" y="1624033"/>
                </a:moveTo>
                <a:lnTo>
                  <a:pt x="1121385" y="1734155"/>
                </a:lnTo>
                <a:lnTo>
                  <a:pt x="1101928" y="1729603"/>
                </a:lnTo>
                <a:lnTo>
                  <a:pt x="1079265" y="1627978"/>
                </a:lnTo>
                <a:lnTo>
                  <a:pt x="1096827" y="1624033"/>
                </a:lnTo>
                <a:close/>
                <a:moveTo>
                  <a:pt x="740342" y="1622534"/>
                </a:moveTo>
                <a:lnTo>
                  <a:pt x="749046" y="1625484"/>
                </a:lnTo>
                <a:lnTo>
                  <a:pt x="757767" y="1627074"/>
                </a:lnTo>
                <a:lnTo>
                  <a:pt x="726815" y="1759631"/>
                </a:lnTo>
                <a:lnTo>
                  <a:pt x="706937" y="1765598"/>
                </a:lnTo>
                <a:lnTo>
                  <a:pt x="740342" y="1622534"/>
                </a:lnTo>
                <a:close/>
                <a:moveTo>
                  <a:pt x="1162592" y="1605474"/>
                </a:moveTo>
                <a:lnTo>
                  <a:pt x="1211506" y="1758609"/>
                </a:lnTo>
                <a:lnTo>
                  <a:pt x="1193512" y="1751032"/>
                </a:lnTo>
                <a:lnTo>
                  <a:pt x="1189921" y="1750192"/>
                </a:lnTo>
                <a:lnTo>
                  <a:pt x="1145515" y="1611170"/>
                </a:lnTo>
                <a:lnTo>
                  <a:pt x="1162592" y="1605474"/>
                </a:lnTo>
                <a:close/>
                <a:moveTo>
                  <a:pt x="675637" y="1600604"/>
                </a:moveTo>
                <a:lnTo>
                  <a:pt x="692686" y="1606382"/>
                </a:lnTo>
                <a:lnTo>
                  <a:pt x="641486" y="1761326"/>
                </a:lnTo>
                <a:lnTo>
                  <a:pt x="631383" y="1744623"/>
                </a:lnTo>
                <a:lnTo>
                  <a:pt x="628970" y="1741831"/>
                </a:lnTo>
                <a:lnTo>
                  <a:pt x="675637" y="1600604"/>
                </a:lnTo>
                <a:close/>
                <a:moveTo>
                  <a:pt x="1225916" y="1579868"/>
                </a:moveTo>
                <a:lnTo>
                  <a:pt x="1279540" y="1707080"/>
                </a:lnTo>
                <a:lnTo>
                  <a:pt x="1266966" y="1723591"/>
                </a:lnTo>
                <a:lnTo>
                  <a:pt x="1209837" y="1588066"/>
                </a:lnTo>
                <a:lnTo>
                  <a:pt x="1225916" y="1579868"/>
                </a:lnTo>
                <a:close/>
                <a:moveTo>
                  <a:pt x="610954" y="1578681"/>
                </a:moveTo>
                <a:lnTo>
                  <a:pt x="628059" y="1584478"/>
                </a:lnTo>
                <a:lnTo>
                  <a:pt x="582951" y="1688574"/>
                </a:lnTo>
                <a:lnTo>
                  <a:pt x="569886" y="1673454"/>
                </a:lnTo>
                <a:lnTo>
                  <a:pt x="610954" y="1578681"/>
                </a:lnTo>
                <a:close/>
                <a:moveTo>
                  <a:pt x="1286670" y="1548893"/>
                </a:moveTo>
                <a:lnTo>
                  <a:pt x="1333269" y="1636531"/>
                </a:lnTo>
                <a:lnTo>
                  <a:pt x="1321264" y="1652294"/>
                </a:lnTo>
                <a:lnTo>
                  <a:pt x="1270632" y="1557070"/>
                </a:lnTo>
                <a:lnTo>
                  <a:pt x="1286670" y="1548893"/>
                </a:lnTo>
                <a:close/>
                <a:moveTo>
                  <a:pt x="551444" y="1545001"/>
                </a:moveTo>
                <a:lnTo>
                  <a:pt x="567074" y="1553937"/>
                </a:lnTo>
                <a:lnTo>
                  <a:pt x="524862" y="1631452"/>
                </a:lnTo>
                <a:lnTo>
                  <a:pt x="510642" y="1619926"/>
                </a:lnTo>
                <a:lnTo>
                  <a:pt x="551444" y="1545001"/>
                </a:lnTo>
                <a:close/>
                <a:moveTo>
                  <a:pt x="1346034" y="1515267"/>
                </a:moveTo>
                <a:lnTo>
                  <a:pt x="1390051" y="1582679"/>
                </a:lnTo>
                <a:lnTo>
                  <a:pt x="1376613" y="1595021"/>
                </a:lnTo>
                <a:lnTo>
                  <a:pt x="1331552" y="1526010"/>
                </a:lnTo>
                <a:lnTo>
                  <a:pt x="1333983" y="1524770"/>
                </a:lnTo>
                <a:lnTo>
                  <a:pt x="1346034" y="1515267"/>
                </a:lnTo>
                <a:close/>
                <a:moveTo>
                  <a:pt x="492213" y="1511140"/>
                </a:moveTo>
                <a:lnTo>
                  <a:pt x="507877" y="1520095"/>
                </a:lnTo>
                <a:lnTo>
                  <a:pt x="465615" y="1583429"/>
                </a:lnTo>
                <a:lnTo>
                  <a:pt x="452723" y="1572979"/>
                </a:lnTo>
                <a:lnTo>
                  <a:pt x="451434" y="1572252"/>
                </a:lnTo>
                <a:lnTo>
                  <a:pt x="492213" y="1511140"/>
                </a:lnTo>
                <a:close/>
                <a:moveTo>
                  <a:pt x="1399641" y="1472989"/>
                </a:moveTo>
                <a:lnTo>
                  <a:pt x="1447523" y="1533649"/>
                </a:lnTo>
                <a:lnTo>
                  <a:pt x="1433600" y="1542681"/>
                </a:lnTo>
                <a:lnTo>
                  <a:pt x="1432510" y="1543682"/>
                </a:lnTo>
                <a:lnTo>
                  <a:pt x="1385507" y="1484135"/>
                </a:lnTo>
                <a:lnTo>
                  <a:pt x="1399641" y="1472989"/>
                </a:lnTo>
                <a:close/>
                <a:moveTo>
                  <a:pt x="439084" y="1468240"/>
                </a:moveTo>
                <a:lnTo>
                  <a:pt x="452737" y="1479985"/>
                </a:lnTo>
                <a:lnTo>
                  <a:pt x="401226" y="1543921"/>
                </a:lnTo>
                <a:lnTo>
                  <a:pt x="385335" y="1534955"/>
                </a:lnTo>
                <a:lnTo>
                  <a:pt x="439084" y="1468240"/>
                </a:lnTo>
                <a:close/>
                <a:moveTo>
                  <a:pt x="1452700" y="1430017"/>
                </a:moveTo>
                <a:lnTo>
                  <a:pt x="1511505" y="1492141"/>
                </a:lnTo>
                <a:lnTo>
                  <a:pt x="1496150" y="1502102"/>
                </a:lnTo>
                <a:lnTo>
                  <a:pt x="1439119" y="1441854"/>
                </a:lnTo>
                <a:lnTo>
                  <a:pt x="1449687" y="1433519"/>
                </a:lnTo>
                <a:lnTo>
                  <a:pt x="1452700" y="1430017"/>
                </a:lnTo>
                <a:close/>
                <a:moveTo>
                  <a:pt x="387391" y="1423768"/>
                </a:moveTo>
                <a:lnTo>
                  <a:pt x="401059" y="1435526"/>
                </a:lnTo>
                <a:lnTo>
                  <a:pt x="332463" y="1506560"/>
                </a:lnTo>
                <a:lnTo>
                  <a:pt x="313761" y="1500014"/>
                </a:lnTo>
                <a:lnTo>
                  <a:pt x="387391" y="1423768"/>
                </a:lnTo>
                <a:close/>
                <a:moveTo>
                  <a:pt x="1497274" y="1378205"/>
                </a:moveTo>
                <a:lnTo>
                  <a:pt x="1583781" y="1454547"/>
                </a:lnTo>
                <a:lnTo>
                  <a:pt x="1565364" y="1462300"/>
                </a:lnTo>
                <a:lnTo>
                  <a:pt x="1485535" y="1391850"/>
                </a:lnTo>
                <a:lnTo>
                  <a:pt x="1497274" y="1378205"/>
                </a:lnTo>
                <a:close/>
                <a:moveTo>
                  <a:pt x="342078" y="1372754"/>
                </a:moveTo>
                <a:lnTo>
                  <a:pt x="353236" y="1386902"/>
                </a:lnTo>
                <a:lnTo>
                  <a:pt x="248764" y="1477262"/>
                </a:lnTo>
                <a:lnTo>
                  <a:pt x="229175" y="1470405"/>
                </a:lnTo>
                <a:lnTo>
                  <a:pt x="342078" y="1372754"/>
                </a:lnTo>
                <a:close/>
                <a:moveTo>
                  <a:pt x="1541797" y="1326453"/>
                </a:moveTo>
                <a:lnTo>
                  <a:pt x="1671063" y="1421359"/>
                </a:lnTo>
                <a:lnTo>
                  <a:pt x="1652052" y="1425806"/>
                </a:lnTo>
                <a:lnTo>
                  <a:pt x="1648653" y="1427237"/>
                </a:lnTo>
                <a:lnTo>
                  <a:pt x="1530022" y="1340139"/>
                </a:lnTo>
                <a:lnTo>
                  <a:pt x="1541797" y="1326453"/>
                </a:lnTo>
                <a:close/>
                <a:moveTo>
                  <a:pt x="299862" y="1319225"/>
                </a:moveTo>
                <a:lnTo>
                  <a:pt x="311019" y="1333372"/>
                </a:lnTo>
                <a:lnTo>
                  <a:pt x="178732" y="1428480"/>
                </a:lnTo>
                <a:lnTo>
                  <a:pt x="180377" y="1409027"/>
                </a:lnTo>
                <a:lnTo>
                  <a:pt x="180067" y="1405352"/>
                </a:lnTo>
                <a:lnTo>
                  <a:pt x="299862" y="1319225"/>
                </a:lnTo>
                <a:close/>
                <a:moveTo>
                  <a:pt x="1576542" y="1267609"/>
                </a:moveTo>
                <a:lnTo>
                  <a:pt x="1695816" y="1339681"/>
                </a:lnTo>
                <a:lnTo>
                  <a:pt x="1695348" y="1360430"/>
                </a:lnTo>
                <a:lnTo>
                  <a:pt x="1567606" y="1283241"/>
                </a:lnTo>
                <a:lnTo>
                  <a:pt x="1576542" y="1267609"/>
                </a:lnTo>
                <a:close/>
                <a:moveTo>
                  <a:pt x="263531" y="1261503"/>
                </a:moveTo>
                <a:lnTo>
                  <a:pt x="271723" y="1277570"/>
                </a:lnTo>
                <a:lnTo>
                  <a:pt x="174140" y="1335215"/>
                </a:lnTo>
                <a:lnTo>
                  <a:pt x="172457" y="1315303"/>
                </a:lnTo>
                <a:lnTo>
                  <a:pt x="263531" y="1261503"/>
                </a:lnTo>
                <a:close/>
                <a:moveTo>
                  <a:pt x="1610398" y="1208387"/>
                </a:moveTo>
                <a:lnTo>
                  <a:pt x="1697816" y="1251024"/>
                </a:lnTo>
                <a:lnTo>
                  <a:pt x="1697369" y="1270832"/>
                </a:lnTo>
                <a:lnTo>
                  <a:pt x="1601446" y="1224047"/>
                </a:lnTo>
                <a:lnTo>
                  <a:pt x="1610398" y="1208387"/>
                </a:lnTo>
                <a:close/>
                <a:moveTo>
                  <a:pt x="232566" y="1200770"/>
                </a:moveTo>
                <a:lnTo>
                  <a:pt x="240745" y="1216812"/>
                </a:lnTo>
                <a:lnTo>
                  <a:pt x="160720" y="1254859"/>
                </a:lnTo>
                <a:lnTo>
                  <a:pt x="155991" y="1237178"/>
                </a:lnTo>
                <a:lnTo>
                  <a:pt x="232566" y="1200770"/>
                </a:lnTo>
                <a:close/>
                <a:moveTo>
                  <a:pt x="1634958" y="1144690"/>
                </a:moveTo>
                <a:lnTo>
                  <a:pt x="1712099" y="1174082"/>
                </a:lnTo>
                <a:lnTo>
                  <a:pt x="1708482" y="1191966"/>
                </a:lnTo>
                <a:lnTo>
                  <a:pt x="1629176" y="1161750"/>
                </a:lnTo>
                <a:lnTo>
                  <a:pt x="1634958" y="1144690"/>
                </a:lnTo>
                <a:close/>
                <a:moveTo>
                  <a:pt x="204756" y="1138431"/>
                </a:moveTo>
                <a:lnTo>
                  <a:pt x="210455" y="1155515"/>
                </a:lnTo>
                <a:lnTo>
                  <a:pt x="141015" y="1181182"/>
                </a:lnTo>
                <a:lnTo>
                  <a:pt x="136727" y="1165150"/>
                </a:lnTo>
                <a:lnTo>
                  <a:pt x="136112" y="1163804"/>
                </a:lnTo>
                <a:lnTo>
                  <a:pt x="204756" y="1138431"/>
                </a:lnTo>
                <a:close/>
                <a:moveTo>
                  <a:pt x="1656844" y="1080115"/>
                </a:moveTo>
                <a:lnTo>
                  <a:pt x="1729776" y="1100634"/>
                </a:lnTo>
                <a:lnTo>
                  <a:pt x="1723821" y="1116126"/>
                </a:lnTo>
                <a:lnTo>
                  <a:pt x="1723528" y="1117576"/>
                </a:lnTo>
                <a:lnTo>
                  <a:pt x="1651058" y="1097186"/>
                </a:lnTo>
                <a:lnTo>
                  <a:pt x="1656844" y="1080115"/>
                </a:lnTo>
                <a:close/>
                <a:moveTo>
                  <a:pt x="184625" y="1073110"/>
                </a:moveTo>
                <a:lnTo>
                  <a:pt x="188043" y="1088326"/>
                </a:lnTo>
                <a:lnTo>
                  <a:pt x="188810" y="1090624"/>
                </a:lnTo>
                <a:lnTo>
                  <a:pt x="112145" y="1111372"/>
                </a:lnTo>
                <a:lnTo>
                  <a:pt x="104560" y="1094778"/>
                </a:lnTo>
                <a:lnTo>
                  <a:pt x="184625" y="1073110"/>
                </a:lnTo>
                <a:close/>
                <a:moveTo>
                  <a:pt x="1672722" y="1013691"/>
                </a:moveTo>
                <a:lnTo>
                  <a:pt x="1757141" y="1029446"/>
                </a:lnTo>
                <a:lnTo>
                  <a:pt x="1750574" y="1046531"/>
                </a:lnTo>
                <a:lnTo>
                  <a:pt x="1669493" y="1031399"/>
                </a:lnTo>
                <a:lnTo>
                  <a:pt x="1672722" y="1013691"/>
                </a:lnTo>
                <a:close/>
                <a:moveTo>
                  <a:pt x="170225" y="1006273"/>
                </a:moveTo>
                <a:lnTo>
                  <a:pt x="170936" y="1012170"/>
                </a:lnTo>
                <a:lnTo>
                  <a:pt x="173584" y="1023958"/>
                </a:lnTo>
                <a:lnTo>
                  <a:pt x="78475" y="1040728"/>
                </a:lnTo>
                <a:lnTo>
                  <a:pt x="67193" y="1024440"/>
                </a:lnTo>
                <a:lnTo>
                  <a:pt x="170225" y="1006273"/>
                </a:lnTo>
                <a:close/>
                <a:moveTo>
                  <a:pt x="1681368" y="945892"/>
                </a:moveTo>
                <a:lnTo>
                  <a:pt x="1793516" y="956550"/>
                </a:lnTo>
                <a:lnTo>
                  <a:pt x="1783173" y="973649"/>
                </a:lnTo>
                <a:lnTo>
                  <a:pt x="1679909" y="963835"/>
                </a:lnTo>
                <a:lnTo>
                  <a:pt x="1681368" y="945892"/>
                </a:lnTo>
                <a:close/>
                <a:moveTo>
                  <a:pt x="162034" y="938372"/>
                </a:moveTo>
                <a:lnTo>
                  <a:pt x="164191" y="956254"/>
                </a:lnTo>
                <a:lnTo>
                  <a:pt x="27981" y="967828"/>
                </a:lnTo>
                <a:lnTo>
                  <a:pt x="16164" y="950767"/>
                </a:lnTo>
                <a:lnTo>
                  <a:pt x="162034" y="938372"/>
                </a:lnTo>
                <a:close/>
                <a:moveTo>
                  <a:pt x="1683923" y="877596"/>
                </a:moveTo>
                <a:lnTo>
                  <a:pt x="1844621" y="878397"/>
                </a:lnTo>
                <a:lnTo>
                  <a:pt x="1831855" y="893168"/>
                </a:lnTo>
                <a:lnTo>
                  <a:pt x="1829946" y="896325"/>
                </a:lnTo>
                <a:lnTo>
                  <a:pt x="1684266" y="895598"/>
                </a:lnTo>
                <a:lnTo>
                  <a:pt x="1683923" y="877596"/>
                </a:lnTo>
                <a:close/>
                <a:moveTo>
                  <a:pt x="14676" y="869273"/>
                </a:moveTo>
                <a:lnTo>
                  <a:pt x="160356" y="869999"/>
                </a:lnTo>
                <a:lnTo>
                  <a:pt x="160699" y="888001"/>
                </a:lnTo>
                <a:lnTo>
                  <a:pt x="0" y="887200"/>
                </a:lnTo>
                <a:lnTo>
                  <a:pt x="12766" y="872429"/>
                </a:lnTo>
                <a:lnTo>
                  <a:pt x="14676" y="869273"/>
                </a:lnTo>
                <a:close/>
                <a:moveTo>
                  <a:pt x="1816638" y="797770"/>
                </a:moveTo>
                <a:lnTo>
                  <a:pt x="1828455" y="814831"/>
                </a:lnTo>
                <a:lnTo>
                  <a:pt x="1682588" y="827227"/>
                </a:lnTo>
                <a:lnTo>
                  <a:pt x="1680430" y="809345"/>
                </a:lnTo>
                <a:lnTo>
                  <a:pt x="1816638" y="797770"/>
                </a:lnTo>
                <a:close/>
                <a:moveTo>
                  <a:pt x="61447" y="791950"/>
                </a:moveTo>
                <a:lnTo>
                  <a:pt x="164713" y="801763"/>
                </a:lnTo>
                <a:lnTo>
                  <a:pt x="163253" y="819705"/>
                </a:lnTo>
                <a:lnTo>
                  <a:pt x="51105" y="809048"/>
                </a:lnTo>
                <a:lnTo>
                  <a:pt x="61447" y="791950"/>
                </a:lnTo>
                <a:close/>
                <a:moveTo>
                  <a:pt x="1766145" y="724870"/>
                </a:moveTo>
                <a:lnTo>
                  <a:pt x="1777427" y="741158"/>
                </a:lnTo>
                <a:lnTo>
                  <a:pt x="1674396" y="759325"/>
                </a:lnTo>
                <a:lnTo>
                  <a:pt x="1673685" y="753429"/>
                </a:lnTo>
                <a:lnTo>
                  <a:pt x="1670588" y="741719"/>
                </a:lnTo>
                <a:lnTo>
                  <a:pt x="1766145" y="724870"/>
                </a:lnTo>
                <a:close/>
                <a:moveTo>
                  <a:pt x="94047" y="719066"/>
                </a:moveTo>
                <a:lnTo>
                  <a:pt x="175129" y="734198"/>
                </a:lnTo>
                <a:lnTo>
                  <a:pt x="171900" y="751906"/>
                </a:lnTo>
                <a:lnTo>
                  <a:pt x="87480" y="736151"/>
                </a:lnTo>
                <a:lnTo>
                  <a:pt x="94047" y="719066"/>
                </a:lnTo>
                <a:close/>
                <a:moveTo>
                  <a:pt x="1732475" y="654227"/>
                </a:moveTo>
                <a:lnTo>
                  <a:pt x="1740061" y="670822"/>
                </a:lnTo>
                <a:lnTo>
                  <a:pt x="1657733" y="693102"/>
                </a:lnTo>
                <a:lnTo>
                  <a:pt x="1653131" y="675699"/>
                </a:lnTo>
                <a:lnTo>
                  <a:pt x="1732475" y="654227"/>
                </a:lnTo>
                <a:close/>
                <a:moveTo>
                  <a:pt x="121093" y="648021"/>
                </a:moveTo>
                <a:lnTo>
                  <a:pt x="193564" y="668412"/>
                </a:lnTo>
                <a:lnTo>
                  <a:pt x="187778" y="685483"/>
                </a:lnTo>
                <a:lnTo>
                  <a:pt x="114844" y="664963"/>
                </a:lnTo>
                <a:lnTo>
                  <a:pt x="120799" y="649471"/>
                </a:lnTo>
                <a:lnTo>
                  <a:pt x="121093" y="648021"/>
                </a:lnTo>
                <a:close/>
                <a:moveTo>
                  <a:pt x="1703605" y="584417"/>
                </a:moveTo>
                <a:lnTo>
                  <a:pt x="1707892" y="600448"/>
                </a:lnTo>
                <a:lnTo>
                  <a:pt x="1708508" y="601796"/>
                </a:lnTo>
                <a:lnTo>
                  <a:pt x="1640259" y="627022"/>
                </a:lnTo>
                <a:lnTo>
                  <a:pt x="1639049" y="622444"/>
                </a:lnTo>
                <a:lnTo>
                  <a:pt x="1633440" y="610352"/>
                </a:lnTo>
                <a:lnTo>
                  <a:pt x="1703605" y="584417"/>
                </a:lnTo>
                <a:close/>
                <a:moveTo>
                  <a:pt x="136138" y="573632"/>
                </a:moveTo>
                <a:lnTo>
                  <a:pt x="215446" y="603848"/>
                </a:lnTo>
                <a:lnTo>
                  <a:pt x="209665" y="620908"/>
                </a:lnTo>
                <a:lnTo>
                  <a:pt x="132521" y="591516"/>
                </a:lnTo>
                <a:lnTo>
                  <a:pt x="136138" y="573632"/>
                </a:lnTo>
                <a:close/>
                <a:moveTo>
                  <a:pt x="1683900" y="510741"/>
                </a:moveTo>
                <a:lnTo>
                  <a:pt x="1688629" y="528423"/>
                </a:lnTo>
                <a:lnTo>
                  <a:pt x="1612275" y="564725"/>
                </a:lnTo>
                <a:lnTo>
                  <a:pt x="1604700" y="548396"/>
                </a:lnTo>
                <a:lnTo>
                  <a:pt x="1683900" y="510741"/>
                </a:lnTo>
                <a:close/>
                <a:moveTo>
                  <a:pt x="147252" y="494765"/>
                </a:moveTo>
                <a:lnTo>
                  <a:pt x="243177" y="541551"/>
                </a:lnTo>
                <a:lnTo>
                  <a:pt x="234224" y="557210"/>
                </a:lnTo>
                <a:lnTo>
                  <a:pt x="146805" y="514573"/>
                </a:lnTo>
                <a:lnTo>
                  <a:pt x="147252" y="494765"/>
                </a:lnTo>
                <a:close/>
                <a:moveTo>
                  <a:pt x="1670480" y="430384"/>
                </a:moveTo>
                <a:lnTo>
                  <a:pt x="1672163" y="450296"/>
                </a:lnTo>
                <a:lnTo>
                  <a:pt x="1583450" y="502701"/>
                </a:lnTo>
                <a:lnTo>
                  <a:pt x="1573155" y="487877"/>
                </a:lnTo>
                <a:lnTo>
                  <a:pt x="1670480" y="430384"/>
                </a:lnTo>
                <a:close/>
                <a:moveTo>
                  <a:pt x="149273" y="405169"/>
                </a:moveTo>
                <a:lnTo>
                  <a:pt x="277016" y="482359"/>
                </a:lnTo>
                <a:lnTo>
                  <a:pt x="268080" y="497989"/>
                </a:lnTo>
                <a:lnTo>
                  <a:pt x="148805" y="425916"/>
                </a:lnTo>
                <a:lnTo>
                  <a:pt x="149273" y="405169"/>
                </a:lnTo>
                <a:close/>
                <a:moveTo>
                  <a:pt x="195968" y="338361"/>
                </a:moveTo>
                <a:lnTo>
                  <a:pt x="314600" y="425459"/>
                </a:lnTo>
                <a:lnTo>
                  <a:pt x="302826" y="439145"/>
                </a:lnTo>
                <a:lnTo>
                  <a:pt x="173559" y="344239"/>
                </a:lnTo>
                <a:lnTo>
                  <a:pt x="192568" y="339792"/>
                </a:lnTo>
                <a:lnTo>
                  <a:pt x="195968" y="338361"/>
                </a:lnTo>
                <a:close/>
                <a:moveTo>
                  <a:pt x="1665887" y="337121"/>
                </a:moveTo>
                <a:lnTo>
                  <a:pt x="1664242" y="356571"/>
                </a:lnTo>
                <a:lnTo>
                  <a:pt x="1664553" y="360248"/>
                </a:lnTo>
                <a:lnTo>
                  <a:pt x="1544474" y="446578"/>
                </a:lnTo>
                <a:lnTo>
                  <a:pt x="1534206" y="431793"/>
                </a:lnTo>
                <a:lnTo>
                  <a:pt x="1665887" y="337121"/>
                </a:lnTo>
                <a:close/>
                <a:moveTo>
                  <a:pt x="279257" y="303297"/>
                </a:moveTo>
                <a:lnTo>
                  <a:pt x="359087" y="373748"/>
                </a:lnTo>
                <a:lnTo>
                  <a:pt x="347347" y="387394"/>
                </a:lnTo>
                <a:lnTo>
                  <a:pt x="260839" y="311051"/>
                </a:lnTo>
                <a:lnTo>
                  <a:pt x="279257" y="303297"/>
                </a:lnTo>
                <a:close/>
                <a:moveTo>
                  <a:pt x="1595859" y="288337"/>
                </a:moveTo>
                <a:lnTo>
                  <a:pt x="1615448" y="295194"/>
                </a:lnTo>
                <a:lnTo>
                  <a:pt x="1504459" y="391189"/>
                </a:lnTo>
                <a:lnTo>
                  <a:pt x="1491819" y="378322"/>
                </a:lnTo>
                <a:lnTo>
                  <a:pt x="1595859" y="288337"/>
                </a:lnTo>
                <a:close/>
                <a:moveTo>
                  <a:pt x="348471" y="263494"/>
                </a:moveTo>
                <a:lnTo>
                  <a:pt x="405504" y="323744"/>
                </a:lnTo>
                <a:lnTo>
                  <a:pt x="394934" y="332080"/>
                </a:lnTo>
                <a:lnTo>
                  <a:pt x="391923" y="335581"/>
                </a:lnTo>
                <a:lnTo>
                  <a:pt x="333116" y="273456"/>
                </a:lnTo>
                <a:lnTo>
                  <a:pt x="348471" y="263494"/>
                </a:lnTo>
                <a:close/>
                <a:moveTo>
                  <a:pt x="1512159" y="259039"/>
                </a:moveTo>
                <a:lnTo>
                  <a:pt x="1530860" y="265585"/>
                </a:lnTo>
                <a:lnTo>
                  <a:pt x="1456606" y="342477"/>
                </a:lnTo>
                <a:lnTo>
                  <a:pt x="1443988" y="329632"/>
                </a:lnTo>
                <a:lnTo>
                  <a:pt x="1512159" y="259039"/>
                </a:lnTo>
                <a:close/>
                <a:moveTo>
                  <a:pt x="412110" y="221916"/>
                </a:moveTo>
                <a:lnTo>
                  <a:pt x="459114" y="281464"/>
                </a:lnTo>
                <a:lnTo>
                  <a:pt x="444980" y="292610"/>
                </a:lnTo>
                <a:lnTo>
                  <a:pt x="397097" y="231949"/>
                </a:lnTo>
                <a:lnTo>
                  <a:pt x="411019" y="222917"/>
                </a:lnTo>
                <a:lnTo>
                  <a:pt x="412110" y="221916"/>
                </a:lnTo>
                <a:close/>
                <a:moveTo>
                  <a:pt x="1443396" y="221678"/>
                </a:moveTo>
                <a:lnTo>
                  <a:pt x="1459286" y="230644"/>
                </a:lnTo>
                <a:lnTo>
                  <a:pt x="1406897" y="295670"/>
                </a:lnTo>
                <a:lnTo>
                  <a:pt x="1392300" y="285098"/>
                </a:lnTo>
                <a:lnTo>
                  <a:pt x="1443396" y="221678"/>
                </a:lnTo>
                <a:close/>
                <a:moveTo>
                  <a:pt x="1379005" y="182170"/>
                </a:moveTo>
                <a:lnTo>
                  <a:pt x="1391896" y="192619"/>
                </a:lnTo>
                <a:lnTo>
                  <a:pt x="1393186" y="193347"/>
                </a:lnTo>
                <a:lnTo>
                  <a:pt x="1351622" y="255636"/>
                </a:lnTo>
                <a:lnTo>
                  <a:pt x="1337034" y="245070"/>
                </a:lnTo>
                <a:lnTo>
                  <a:pt x="1379005" y="182170"/>
                </a:lnTo>
                <a:close/>
                <a:moveTo>
                  <a:pt x="468008" y="170577"/>
                </a:moveTo>
                <a:lnTo>
                  <a:pt x="513069" y="239589"/>
                </a:lnTo>
                <a:lnTo>
                  <a:pt x="510638" y="240828"/>
                </a:lnTo>
                <a:lnTo>
                  <a:pt x="498586" y="250333"/>
                </a:lnTo>
                <a:lnTo>
                  <a:pt x="454568" y="182920"/>
                </a:lnTo>
                <a:lnTo>
                  <a:pt x="468008" y="170577"/>
                </a:lnTo>
                <a:close/>
                <a:moveTo>
                  <a:pt x="1319759" y="134146"/>
                </a:moveTo>
                <a:lnTo>
                  <a:pt x="1333978" y="145672"/>
                </a:lnTo>
                <a:lnTo>
                  <a:pt x="1294036" y="219016"/>
                </a:lnTo>
                <a:lnTo>
                  <a:pt x="1277891" y="211027"/>
                </a:lnTo>
                <a:lnTo>
                  <a:pt x="1319759" y="134146"/>
                </a:lnTo>
                <a:close/>
                <a:moveTo>
                  <a:pt x="523355" y="113305"/>
                </a:moveTo>
                <a:lnTo>
                  <a:pt x="573987" y="208530"/>
                </a:lnTo>
                <a:lnTo>
                  <a:pt x="557949" y="216707"/>
                </a:lnTo>
                <a:lnTo>
                  <a:pt x="511350" y="129068"/>
                </a:lnTo>
                <a:lnTo>
                  <a:pt x="523355" y="113305"/>
                </a:lnTo>
                <a:close/>
                <a:moveTo>
                  <a:pt x="1261668" y="77024"/>
                </a:moveTo>
                <a:lnTo>
                  <a:pt x="1274734" y="92144"/>
                </a:lnTo>
                <a:lnTo>
                  <a:pt x="1232872" y="188750"/>
                </a:lnTo>
                <a:lnTo>
                  <a:pt x="1216718" y="180757"/>
                </a:lnTo>
                <a:lnTo>
                  <a:pt x="1261668" y="77024"/>
                </a:lnTo>
                <a:close/>
                <a:moveTo>
                  <a:pt x="879964" y="47539"/>
                </a:moveTo>
                <a:lnTo>
                  <a:pt x="896536" y="48415"/>
                </a:lnTo>
                <a:lnTo>
                  <a:pt x="898006" y="48246"/>
                </a:lnTo>
                <a:lnTo>
                  <a:pt x="900930" y="121496"/>
                </a:lnTo>
                <a:lnTo>
                  <a:pt x="882930" y="121839"/>
                </a:lnTo>
                <a:lnTo>
                  <a:pt x="879964" y="47539"/>
                </a:lnTo>
                <a:close/>
                <a:moveTo>
                  <a:pt x="803804" y="43511"/>
                </a:moveTo>
                <a:lnTo>
                  <a:pt x="822082" y="44478"/>
                </a:lnTo>
                <a:lnTo>
                  <a:pt x="832792" y="126618"/>
                </a:lnTo>
                <a:lnTo>
                  <a:pt x="814920" y="128774"/>
                </a:lnTo>
                <a:lnTo>
                  <a:pt x="803804" y="43511"/>
                </a:lnTo>
                <a:close/>
                <a:moveTo>
                  <a:pt x="577653" y="42008"/>
                </a:moveTo>
                <a:lnTo>
                  <a:pt x="634782" y="177534"/>
                </a:lnTo>
                <a:lnTo>
                  <a:pt x="618704" y="185731"/>
                </a:lnTo>
                <a:lnTo>
                  <a:pt x="565079" y="58518"/>
                </a:lnTo>
                <a:lnTo>
                  <a:pt x="577653" y="42008"/>
                </a:lnTo>
                <a:close/>
                <a:moveTo>
                  <a:pt x="973404" y="39567"/>
                </a:moveTo>
                <a:lnTo>
                  <a:pt x="969228" y="123258"/>
                </a:lnTo>
                <a:lnTo>
                  <a:pt x="951312" y="121130"/>
                </a:lnTo>
                <a:lnTo>
                  <a:pt x="955278" y="41654"/>
                </a:lnTo>
                <a:lnTo>
                  <a:pt x="973404" y="39567"/>
                </a:lnTo>
                <a:close/>
                <a:moveTo>
                  <a:pt x="723233" y="31443"/>
                </a:moveTo>
                <a:lnTo>
                  <a:pt x="742691" y="35995"/>
                </a:lnTo>
                <a:lnTo>
                  <a:pt x="765354" y="137622"/>
                </a:lnTo>
                <a:lnTo>
                  <a:pt x="747791" y="141567"/>
                </a:lnTo>
                <a:lnTo>
                  <a:pt x="723233" y="31443"/>
                </a:lnTo>
                <a:close/>
                <a:moveTo>
                  <a:pt x="1051847" y="25765"/>
                </a:moveTo>
                <a:lnTo>
                  <a:pt x="1037014" y="131308"/>
                </a:lnTo>
                <a:lnTo>
                  <a:pt x="1019135" y="129184"/>
                </a:lnTo>
                <a:lnTo>
                  <a:pt x="1032869" y="31462"/>
                </a:lnTo>
                <a:lnTo>
                  <a:pt x="1051847" y="25765"/>
                </a:lnTo>
                <a:close/>
                <a:moveTo>
                  <a:pt x="633115" y="6990"/>
                </a:moveTo>
                <a:lnTo>
                  <a:pt x="651107" y="14566"/>
                </a:lnTo>
                <a:lnTo>
                  <a:pt x="654699" y="15406"/>
                </a:lnTo>
                <a:lnTo>
                  <a:pt x="699105" y="154429"/>
                </a:lnTo>
                <a:lnTo>
                  <a:pt x="682029" y="160125"/>
                </a:lnTo>
                <a:lnTo>
                  <a:pt x="633115" y="6990"/>
                </a:lnTo>
                <a:close/>
                <a:moveTo>
                  <a:pt x="1203134" y="4273"/>
                </a:moveTo>
                <a:lnTo>
                  <a:pt x="1213236" y="20976"/>
                </a:lnTo>
                <a:lnTo>
                  <a:pt x="1215649" y="23769"/>
                </a:lnTo>
                <a:lnTo>
                  <a:pt x="1169442" y="163605"/>
                </a:lnTo>
                <a:lnTo>
                  <a:pt x="1152188" y="158449"/>
                </a:lnTo>
                <a:lnTo>
                  <a:pt x="1203134" y="4273"/>
                </a:lnTo>
                <a:close/>
                <a:moveTo>
                  <a:pt x="1137683" y="0"/>
                </a:moveTo>
                <a:lnTo>
                  <a:pt x="1104046" y="144062"/>
                </a:lnTo>
                <a:lnTo>
                  <a:pt x="1086767" y="138898"/>
                </a:lnTo>
                <a:lnTo>
                  <a:pt x="1117806" y="5966"/>
                </a:lnTo>
                <a:lnTo>
                  <a:pt x="1137683" y="0"/>
                </a:lnTo>
                <a:close/>
              </a:path>
            </a:pathLst>
          </a:custGeom>
          <a:solidFill>
            <a:srgbClr val="b9cde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5" name="MH_SubTitle_2"/>
          <p:cNvSpPr/>
          <p:nvPr/>
        </p:nvSpPr>
        <p:spPr>
          <a:xfrm>
            <a:off x="5584680" y="2781360"/>
            <a:ext cx="1766880" cy="1768320"/>
          </a:xfrm>
          <a:prstGeom prst="pi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供给曲线与长尾效应</a:t>
            </a:r>
            <a:endParaRPr b="0" lang="en-US" sz="1800" spc="-1" strike="noStrike">
              <a:solidFill>
                <a:srgbClr val="000000"/>
              </a:solidFill>
              <a:latin typeface="Arial"/>
            </a:endParaRPr>
          </a:p>
        </p:txBody>
      </p:sp>
      <p:sp>
        <p:nvSpPr>
          <p:cNvPr id="506" name="MH_Other_4"/>
          <p:cNvSpPr/>
          <p:nvPr/>
        </p:nvSpPr>
        <p:spPr>
          <a:xfrm>
            <a:off x="5759280" y="2781360"/>
            <a:ext cx="1411560" cy="368280"/>
          </a:xfrm>
          <a:prstGeom prst="pi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02</a:t>
            </a:r>
            <a:endParaRPr b="0" lang="en-US" sz="2400" spc="-1" strike="noStrike">
              <a:solidFill>
                <a:srgbClr val="000000"/>
              </a:solidFill>
              <a:latin typeface="Arial"/>
            </a:endParaRPr>
          </a:p>
        </p:txBody>
      </p:sp>
      <p:sp>
        <p:nvSpPr>
          <p:cNvPr id="507" name="标题 1"/>
          <p:cNvSpPr/>
          <p:nvPr/>
        </p:nvSpPr>
        <p:spPr>
          <a:xfrm>
            <a:off x="576360" y="297000"/>
            <a:ext cx="70200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第二节 网络经济中的供给与需求</a:t>
            </a:r>
            <a:endParaRPr b="0" lang="en-US" sz="32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E978D-53F2-4CA9-B886-65AB5A56794A}"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9"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0" name="组合 127"/>
          <p:cNvGrpSpPr/>
          <p:nvPr/>
        </p:nvGrpSpPr>
        <p:grpSpPr>
          <a:xfrm>
            <a:off x="250920" y="324000"/>
            <a:ext cx="264960" cy="417240"/>
            <a:chOff x="250920" y="324000"/>
            <a:chExt cx="264960" cy="417240"/>
          </a:xfrm>
        </p:grpSpPr>
        <p:sp>
          <p:nvSpPr>
            <p:cNvPr id="511"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4" name="组合 10"/>
          <p:cNvGrpSpPr/>
          <p:nvPr/>
        </p:nvGrpSpPr>
        <p:grpSpPr>
          <a:xfrm>
            <a:off x="1224000" y="944640"/>
            <a:ext cx="7128000" cy="647640"/>
            <a:chOff x="1224000" y="944640"/>
            <a:chExt cx="7128000" cy="647640"/>
          </a:xfrm>
        </p:grpSpPr>
        <p:sp>
          <p:nvSpPr>
            <p:cNvPr id="515" name="TextBox 11"/>
            <p:cNvSpPr/>
            <p:nvPr/>
          </p:nvSpPr>
          <p:spPr>
            <a:xfrm>
              <a:off x="1482480" y="944640"/>
              <a:ext cx="686952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需求分析</a:t>
              </a:r>
              <a:endParaRPr b="0" lang="en-US" sz="1800" spc="-1" strike="noStrike">
                <a:solidFill>
                  <a:srgbClr val="000000"/>
                </a:solidFill>
                <a:latin typeface="Arial"/>
              </a:endParaRPr>
            </a:p>
          </p:txBody>
        </p:sp>
        <p:sp>
          <p:nvSpPr>
            <p:cNvPr id="516" name="直接连接符 3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流程图: 联系 13"/>
            <p:cNvSpPr/>
            <p:nvPr/>
          </p:nvSpPr>
          <p:spPr>
            <a:xfrm>
              <a:off x="1224000" y="121284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518" name="直接连接符 3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9"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20"/>
          <p:cNvSpPr/>
          <p:nvPr/>
        </p:nvSpPr>
        <p:spPr>
          <a:xfrm>
            <a:off x="142920" y="6480"/>
            <a:ext cx="18396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1" name=""/>
          <p:cNvGrpSpPr/>
          <p:nvPr/>
        </p:nvGrpSpPr>
        <p:grpSpPr>
          <a:xfrm>
            <a:off x="900000" y="2023920"/>
            <a:ext cx="7452000" cy="3337200"/>
            <a:chOff x="900000" y="2023920"/>
            <a:chExt cx="7452000" cy="3337200"/>
          </a:xfrm>
        </p:grpSpPr>
        <p:grpSp>
          <p:nvGrpSpPr>
            <p:cNvPr id="522" name="Group 128"/>
            <p:cNvGrpSpPr/>
            <p:nvPr/>
          </p:nvGrpSpPr>
          <p:grpSpPr>
            <a:xfrm>
              <a:off x="7704000" y="2349360"/>
              <a:ext cx="648000" cy="453960"/>
              <a:chOff x="7704000" y="2349360"/>
              <a:chExt cx="648000" cy="453960"/>
            </a:xfrm>
          </p:grpSpPr>
          <p:sp>
            <p:nvSpPr>
              <p:cNvPr id="523"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5"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MH_Other_1"/>
            <p:cNvSpPr/>
            <p:nvPr/>
          </p:nvSpPr>
          <p:spPr>
            <a:xfrm flipH="1" rot="1805400">
              <a:off x="1546920" y="2349000"/>
              <a:ext cx="712800" cy="614520"/>
            </a:xfrm>
            <a:prstGeom prst="triangle">
              <a:avLst>
                <a:gd name="adj" fmla="val 50000"/>
              </a:avLst>
            </a:prstGeom>
            <a:solidFill>
              <a:srgbClr val="b9cde5"/>
            </a:solidFill>
            <a:ln w="0">
              <a:noFill/>
            </a:ln>
          </p:spPr>
          <p:style>
            <a:lnRef idx="0"/>
            <a:fillRef idx="0"/>
            <a:effectRef idx="0"/>
            <a:fontRef idx="minor"/>
          </p:style>
          <p:txBody>
            <a:bodyPr lIns="90000" rIns="90000" tIns="46800" bIns="46800" anchor="ctr">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MH_Other_2"/>
            <p:cNvSpPr/>
            <p:nvPr/>
          </p:nvSpPr>
          <p:spPr>
            <a:xfrm>
              <a:off x="1008000" y="2023920"/>
              <a:ext cx="947880" cy="1092240"/>
            </a:xfrm>
            <a:prstGeom prst="pie">
              <a:avLst/>
            </a:prstGeom>
            <a:solidFill>
              <a:srgbClr val="4f81bd"/>
            </a:solidFill>
            <a:ln w="0">
              <a:noFill/>
            </a:ln>
          </p:spPr>
          <p:style>
            <a:lnRef idx="0"/>
            <a:fillRef idx="0"/>
            <a:effectRef idx="0"/>
            <a:fontRef idx="minor"/>
          </p:style>
          <p:txBody>
            <a:bodyPr lIns="90000" rIns="432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幼圆"/>
                </a:rPr>
                <a:t>01</a:t>
              </a:r>
              <a:endParaRPr b="0" lang="en-US" sz="2800" spc="-1" strike="noStrike">
                <a:solidFill>
                  <a:srgbClr val="000000"/>
                </a:solidFill>
                <a:latin typeface="Arial"/>
              </a:endParaRPr>
            </a:p>
          </p:txBody>
        </p:sp>
        <p:sp>
          <p:nvSpPr>
            <p:cNvPr id="529" name="MH_SubTitle_1"/>
            <p:cNvSpPr/>
            <p:nvPr/>
          </p:nvSpPr>
          <p:spPr>
            <a:xfrm>
              <a:off x="2095560" y="2241720"/>
              <a:ext cx="2262240" cy="99036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个人需求曲线：价格</a:t>
              </a:r>
              <a:endParaRPr b="0" lang="en-US" sz="2000" spc="-1" strike="noStrike">
                <a:solidFill>
                  <a:srgbClr val="000000"/>
                </a:solidFill>
                <a:latin typeface="Arial"/>
              </a:endParaRPr>
            </a:p>
          </p:txBody>
        </p:sp>
        <p:sp>
          <p:nvSpPr>
            <p:cNvPr id="530" name="MH_Other_3"/>
            <p:cNvSpPr/>
            <p:nvPr/>
          </p:nvSpPr>
          <p:spPr>
            <a:xfrm flipH="1" rot="1805400">
              <a:off x="1847160" y="3919320"/>
              <a:ext cx="712800" cy="614160"/>
            </a:xfrm>
            <a:prstGeom prst="triangle">
              <a:avLst>
                <a:gd name="adj" fmla="val 50000"/>
              </a:avLst>
            </a:prstGeom>
            <a:solidFill>
              <a:srgbClr val="d7e4bd"/>
            </a:solidFill>
            <a:ln w="0">
              <a:noFill/>
            </a:ln>
          </p:spPr>
          <p:style>
            <a:lnRef idx="0"/>
            <a:fillRef idx="0"/>
            <a:effectRef idx="0"/>
            <a:fontRef idx="minor"/>
          </p:style>
          <p:txBody>
            <a:bodyPr lIns="90000" rIns="90000" tIns="46800" bIns="46800" anchor="ctr">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MH_Other_4"/>
            <p:cNvSpPr/>
            <p:nvPr/>
          </p:nvSpPr>
          <p:spPr>
            <a:xfrm>
              <a:off x="1285920" y="3603600"/>
              <a:ext cx="947520" cy="1090800"/>
            </a:xfrm>
            <a:prstGeom prst="pie">
              <a:avLst/>
            </a:prstGeom>
            <a:solidFill>
              <a:srgbClr val="9bbb59"/>
            </a:solidFill>
            <a:ln w="0">
              <a:noFill/>
            </a:ln>
          </p:spPr>
          <p:style>
            <a:lnRef idx="0"/>
            <a:fillRef idx="0"/>
            <a:effectRef idx="0"/>
            <a:fontRef idx="minor"/>
          </p:style>
          <p:txBody>
            <a:bodyPr lIns="90000" rIns="432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幼圆"/>
                </a:rPr>
                <a:t>03</a:t>
              </a:r>
              <a:endParaRPr b="0" lang="en-US" sz="2800" spc="-1" strike="noStrike">
                <a:solidFill>
                  <a:srgbClr val="000000"/>
                </a:solidFill>
                <a:latin typeface="Arial"/>
              </a:endParaRPr>
            </a:p>
          </p:txBody>
        </p:sp>
        <p:sp>
          <p:nvSpPr>
            <p:cNvPr id="532" name="MH_SubTitle_3"/>
            <p:cNvSpPr/>
            <p:nvPr/>
          </p:nvSpPr>
          <p:spPr>
            <a:xfrm>
              <a:off x="2411280" y="3929040"/>
              <a:ext cx="2262240" cy="78408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需求曲线：先上升后下降</a:t>
              </a:r>
              <a:endParaRPr b="0" lang="en-US" sz="2000" spc="-1" strike="noStrike">
                <a:solidFill>
                  <a:srgbClr val="000000"/>
                </a:solidFill>
                <a:latin typeface="Arial"/>
              </a:endParaRPr>
            </a:p>
          </p:txBody>
        </p:sp>
        <p:sp>
          <p:nvSpPr>
            <p:cNvPr id="533" name="MH_Other_5"/>
            <p:cNvSpPr/>
            <p:nvPr/>
          </p:nvSpPr>
          <p:spPr>
            <a:xfrm flipH="1" rot="1805400">
              <a:off x="5190480" y="3147480"/>
              <a:ext cx="712800" cy="614520"/>
            </a:xfrm>
            <a:prstGeom prst="triangle">
              <a:avLst>
                <a:gd name="adj" fmla="val 50000"/>
              </a:avLst>
            </a:prstGeom>
            <a:solidFill>
              <a:srgbClr val="e6b9b8"/>
            </a:solidFill>
            <a:ln w="0">
              <a:noFill/>
            </a:ln>
          </p:spPr>
          <p:style>
            <a:lnRef idx="0"/>
            <a:fillRef idx="0"/>
            <a:effectRef idx="0"/>
            <a:fontRef idx="minor"/>
          </p:style>
          <p:txBody>
            <a:bodyPr lIns="90000" rIns="90000" tIns="46800" bIns="46800" anchor="ctr">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MH_Other_6"/>
            <p:cNvSpPr/>
            <p:nvPr/>
          </p:nvSpPr>
          <p:spPr>
            <a:xfrm>
              <a:off x="4630680" y="2832120"/>
              <a:ext cx="947880" cy="1092240"/>
            </a:xfrm>
            <a:prstGeom prst="pie">
              <a:avLst/>
            </a:prstGeom>
            <a:solidFill>
              <a:srgbClr val="c0504d"/>
            </a:solidFill>
            <a:ln w="0">
              <a:noFill/>
            </a:ln>
          </p:spPr>
          <p:style>
            <a:lnRef idx="0"/>
            <a:fillRef idx="0"/>
            <a:effectRef idx="0"/>
            <a:fontRef idx="minor"/>
          </p:style>
          <p:txBody>
            <a:bodyPr lIns="90000" rIns="432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幼圆"/>
                </a:rPr>
                <a:t>02</a:t>
              </a:r>
              <a:endParaRPr b="0" lang="en-US" sz="2800" spc="-1" strike="noStrike">
                <a:solidFill>
                  <a:srgbClr val="000000"/>
                </a:solidFill>
                <a:latin typeface="Arial"/>
              </a:endParaRPr>
            </a:p>
          </p:txBody>
        </p:sp>
        <p:sp>
          <p:nvSpPr>
            <p:cNvPr id="535" name="MH_SubTitle_2"/>
            <p:cNvSpPr/>
            <p:nvPr/>
          </p:nvSpPr>
          <p:spPr>
            <a:xfrm>
              <a:off x="5754600" y="3159000"/>
              <a:ext cx="2262240" cy="78264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影响数字产品需求的两种力量：价格和规模</a:t>
              </a:r>
              <a:endParaRPr b="0" lang="en-US" sz="2000" spc="-1" strike="noStrike">
                <a:solidFill>
                  <a:srgbClr val="000000"/>
                </a:solidFill>
                <a:latin typeface="Arial"/>
              </a:endParaRPr>
            </a:p>
          </p:txBody>
        </p:sp>
      </p:grpSp>
      <p:sp>
        <p:nvSpPr>
          <p:cNvPr id="536" name="标题 1"/>
          <p:cNvSpPr/>
          <p:nvPr/>
        </p:nvSpPr>
        <p:spPr>
          <a:xfrm>
            <a:off x="576360" y="297000"/>
            <a:ext cx="70200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第二节 网络经济中的供给与需求</a:t>
            </a:r>
            <a:endParaRPr b="0" lang="en-US" sz="32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A516F-928E-470F-9345-85DD2A912D00}"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538" name="Group 128"/>
          <p:cNvGrpSpPr/>
          <p:nvPr/>
        </p:nvGrpSpPr>
        <p:grpSpPr>
          <a:xfrm>
            <a:off x="7704000" y="2349360"/>
            <a:ext cx="648000" cy="453960"/>
            <a:chOff x="7704000" y="2349360"/>
            <a:chExt cx="648000" cy="453960"/>
          </a:xfrm>
        </p:grpSpPr>
        <p:sp>
          <p:nvSpPr>
            <p:cNvPr id="539"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1" name="组合 10"/>
          <p:cNvGrpSpPr/>
          <p:nvPr/>
        </p:nvGrpSpPr>
        <p:grpSpPr>
          <a:xfrm>
            <a:off x="1871640" y="1387440"/>
            <a:ext cx="4537080" cy="647640"/>
            <a:chOff x="1871640" y="1387440"/>
            <a:chExt cx="4537080" cy="647640"/>
          </a:xfrm>
        </p:grpSpPr>
        <p:sp>
          <p:nvSpPr>
            <p:cNvPr id="542" name="TextBox 11"/>
            <p:cNvSpPr/>
            <p:nvPr/>
          </p:nvSpPr>
          <p:spPr>
            <a:xfrm>
              <a:off x="2036520" y="138744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内涵</a:t>
              </a:r>
              <a:endParaRPr b="0" lang="en-US" sz="1800" spc="-1" strike="noStrike">
                <a:solidFill>
                  <a:srgbClr val="000000"/>
                </a:solidFill>
                <a:latin typeface="Arial"/>
              </a:endParaRPr>
            </a:p>
          </p:txBody>
        </p:sp>
        <p:sp>
          <p:nvSpPr>
            <p:cNvPr id="543" name="直接连接符 12"/>
            <p:cNvSpPr/>
            <p:nvPr/>
          </p:nvSpPr>
          <p:spPr>
            <a:xfrm>
              <a:off x="2049120" y="17161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流程图: 联系 13"/>
            <p:cNvSpPr/>
            <p:nvPr/>
          </p:nvSpPr>
          <p:spPr>
            <a:xfrm>
              <a:off x="1871640" y="1701720"/>
              <a:ext cx="331560" cy="12852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44280" bIns="44280" anchor="ctr">
              <a:normAutofit fontScale="1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545" name="直接连接符 14"/>
            <p:cNvSpPr/>
            <p:nvPr/>
          </p:nvSpPr>
          <p:spPr>
            <a:xfrm>
              <a:off x="2060280" y="202572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6" name="组合 15"/>
          <p:cNvGrpSpPr/>
          <p:nvPr/>
        </p:nvGrpSpPr>
        <p:grpSpPr>
          <a:xfrm>
            <a:off x="1871640" y="2241720"/>
            <a:ext cx="4537080" cy="647640"/>
            <a:chOff x="1871640" y="2241720"/>
            <a:chExt cx="4537080" cy="647640"/>
          </a:xfrm>
        </p:grpSpPr>
        <p:sp>
          <p:nvSpPr>
            <p:cNvPr id="547" name="TextBox 16"/>
            <p:cNvSpPr/>
            <p:nvPr/>
          </p:nvSpPr>
          <p:spPr>
            <a:xfrm>
              <a:off x="2036520" y="224172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特征</a:t>
              </a:r>
              <a:endParaRPr b="0" lang="en-US" sz="1800" spc="-1" strike="noStrike">
                <a:solidFill>
                  <a:srgbClr val="000000"/>
                </a:solidFill>
                <a:latin typeface="Arial"/>
              </a:endParaRPr>
            </a:p>
          </p:txBody>
        </p:sp>
        <p:sp>
          <p:nvSpPr>
            <p:cNvPr id="548" name="直接连接符 17"/>
            <p:cNvSpPr/>
            <p:nvPr/>
          </p:nvSpPr>
          <p:spPr>
            <a:xfrm>
              <a:off x="2049120" y="257040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流程图: 联系 18"/>
            <p:cNvSpPr/>
            <p:nvPr/>
          </p:nvSpPr>
          <p:spPr>
            <a:xfrm>
              <a:off x="1871640" y="2556000"/>
              <a:ext cx="331560" cy="126720"/>
            </a:xfrm>
            <a:prstGeom prst="flowChartConnector">
              <a:avLst/>
            </a:prstGeom>
            <a:solidFill>
              <a:srgbClr val="ffc000"/>
            </a:solidFill>
            <a:ln w="25560">
              <a:solidFill>
                <a:srgbClr val="d9d9d9"/>
              </a:solidFill>
              <a:miter/>
            </a:ln>
          </p:spPr>
          <p:style>
            <a:lnRef idx="0"/>
            <a:fillRef idx="0"/>
            <a:effectRef idx="0"/>
            <a:fontRef idx="minor"/>
          </p:style>
          <p:txBody>
            <a:bodyPr lIns="90000" rIns="90000" tIns="43200" bIns="4320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550" name="直接连接符 19"/>
            <p:cNvSpPr/>
            <p:nvPr/>
          </p:nvSpPr>
          <p:spPr>
            <a:xfrm>
              <a:off x="2060280" y="287676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1"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AutoShape 78"/>
          <p:cNvSpPr/>
          <p:nvPr/>
        </p:nvSpPr>
        <p:spPr>
          <a:xfrm>
            <a:off x="900000" y="5265720"/>
            <a:ext cx="360360" cy="311040"/>
          </a:xfrm>
          <a:prstGeom prst="hexagon">
            <a:avLst>
              <a:gd name="adj" fmla="val 28964"/>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PlaceHolder 1"/>
          <p:cNvSpPr>
            <a:spLocks noGrp="1"/>
          </p:cNvSpPr>
          <p:nvPr>
            <p:ph type="title"/>
          </p:nvPr>
        </p:nvSpPr>
        <p:spPr>
          <a:xfrm>
            <a:off x="576360" y="296640"/>
            <a:ext cx="702000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第三节 双边市场</a:t>
            </a:r>
            <a:endParaRPr b="0" lang="en-US" sz="3200" spc="-1" strike="noStrike">
              <a:solidFill>
                <a:srgbClr val="000000"/>
              </a:solidFill>
              <a:latin typeface="Calibri"/>
            </a:endParaRPr>
          </a:p>
        </p:txBody>
      </p:sp>
      <p:grpSp>
        <p:nvGrpSpPr>
          <p:cNvPr id="554" name="组合 127"/>
          <p:cNvGrpSpPr/>
          <p:nvPr/>
        </p:nvGrpSpPr>
        <p:grpSpPr>
          <a:xfrm>
            <a:off x="250920" y="324000"/>
            <a:ext cx="264960" cy="417240"/>
            <a:chOff x="250920" y="324000"/>
            <a:chExt cx="264960" cy="417240"/>
          </a:xfrm>
        </p:grpSpPr>
        <p:sp>
          <p:nvSpPr>
            <p:cNvPr id="555"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8" name="组合 15"/>
          <p:cNvGrpSpPr/>
          <p:nvPr/>
        </p:nvGrpSpPr>
        <p:grpSpPr>
          <a:xfrm>
            <a:off x="1871640" y="3429000"/>
            <a:ext cx="4537080" cy="647640"/>
            <a:chOff x="1871640" y="3429000"/>
            <a:chExt cx="4537080" cy="647640"/>
          </a:xfrm>
        </p:grpSpPr>
        <p:sp>
          <p:nvSpPr>
            <p:cNvPr id="559" name="TextBox 16"/>
            <p:cNvSpPr/>
            <p:nvPr/>
          </p:nvSpPr>
          <p:spPr>
            <a:xfrm>
              <a:off x="2036520" y="342900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价值获取模式</a:t>
              </a:r>
              <a:endParaRPr b="0" lang="en-US" sz="1800" spc="-1" strike="noStrike">
                <a:solidFill>
                  <a:srgbClr val="000000"/>
                </a:solidFill>
                <a:latin typeface="Arial"/>
              </a:endParaRPr>
            </a:p>
          </p:txBody>
        </p:sp>
        <p:sp>
          <p:nvSpPr>
            <p:cNvPr id="560" name="直接连接符 17"/>
            <p:cNvSpPr/>
            <p:nvPr/>
          </p:nvSpPr>
          <p:spPr>
            <a:xfrm>
              <a:off x="2049120" y="375768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流程图: 联系 18"/>
            <p:cNvSpPr/>
            <p:nvPr/>
          </p:nvSpPr>
          <p:spPr>
            <a:xfrm>
              <a:off x="1871640" y="3743280"/>
              <a:ext cx="331560" cy="126720"/>
            </a:xfrm>
            <a:prstGeom prst="flowChartConnector">
              <a:avLst/>
            </a:prstGeom>
            <a:solidFill>
              <a:srgbClr val="33cccc"/>
            </a:solidFill>
            <a:ln w="25560">
              <a:solidFill>
                <a:srgbClr val="d9d9d9"/>
              </a:solidFill>
              <a:miter/>
            </a:ln>
          </p:spPr>
          <p:style>
            <a:lnRef idx="0"/>
            <a:fillRef idx="0"/>
            <a:effectRef idx="0"/>
            <a:fontRef idx="minor"/>
          </p:style>
          <p:txBody>
            <a:bodyPr lIns="90000" rIns="90000" tIns="43200" bIns="4320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3</a:t>
              </a:r>
              <a:endParaRPr b="0" lang="en-US" sz="1800" spc="-1" strike="noStrike">
                <a:solidFill>
                  <a:srgbClr val="000000"/>
                </a:solidFill>
                <a:latin typeface="Arial"/>
              </a:endParaRPr>
            </a:p>
          </p:txBody>
        </p:sp>
        <p:sp>
          <p:nvSpPr>
            <p:cNvPr id="562" name="直接连接符 19"/>
            <p:cNvSpPr/>
            <p:nvPr/>
          </p:nvSpPr>
          <p:spPr>
            <a:xfrm>
              <a:off x="2060280" y="406404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3"/>
          <p:cNvSpPr/>
          <p:nvPr/>
        </p:nvSpPr>
        <p:spPr>
          <a:xfrm>
            <a:off x="466560" y="428760"/>
            <a:ext cx="545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504d"/>
                </a:solidFill>
                <a:latin typeface="微软雅黑"/>
                <a:ea typeface="微软雅黑"/>
              </a:rPr>
              <a:t>教学目标</a:t>
            </a:r>
            <a:endParaRPr b="0" lang="en-US" sz="4000" spc="-1" strike="noStrike">
              <a:solidFill>
                <a:srgbClr val="000000"/>
              </a:solidFill>
              <a:latin typeface="Arial"/>
            </a:endParaRPr>
          </a:p>
        </p:txBody>
      </p:sp>
      <p:pic>
        <p:nvPicPr>
          <p:cNvPr id="219" name="Freeform 62" descr=""/>
          <p:cNvPicPr/>
          <p:nvPr/>
        </p:nvPicPr>
        <p:blipFill>
          <a:blip r:embed="rId1"/>
          <a:stretch/>
        </p:blipFill>
        <p:spPr>
          <a:xfrm>
            <a:off x="1224000" y="3753000"/>
            <a:ext cx="6675480" cy="1060200"/>
          </a:xfrm>
          <a:prstGeom prst="rect">
            <a:avLst/>
          </a:prstGeom>
          <a:ln w="0">
            <a:noFill/>
          </a:ln>
        </p:spPr>
      </p:pic>
      <p:pic>
        <p:nvPicPr>
          <p:cNvPr id="220" name="Freeform 67" descr=""/>
          <p:cNvPicPr/>
          <p:nvPr/>
        </p:nvPicPr>
        <p:blipFill>
          <a:blip r:embed="rId2"/>
          <a:stretch/>
        </p:blipFill>
        <p:spPr>
          <a:xfrm>
            <a:off x="1224000" y="2673360"/>
            <a:ext cx="6669000" cy="1025640"/>
          </a:xfrm>
          <a:prstGeom prst="rect">
            <a:avLst/>
          </a:prstGeom>
          <a:ln w="0">
            <a:noFill/>
          </a:ln>
        </p:spPr>
      </p:pic>
      <p:pic>
        <p:nvPicPr>
          <p:cNvPr id="221" name="Freeform 70" descr=""/>
          <p:cNvPicPr/>
          <p:nvPr/>
        </p:nvPicPr>
        <p:blipFill>
          <a:blip r:embed="rId3"/>
          <a:stretch/>
        </p:blipFill>
        <p:spPr>
          <a:xfrm>
            <a:off x="1249200" y="1682640"/>
            <a:ext cx="6662880" cy="957240"/>
          </a:xfrm>
          <a:prstGeom prst="rect">
            <a:avLst/>
          </a:prstGeom>
          <a:ln w="0">
            <a:noFill/>
          </a:ln>
        </p:spPr>
      </p:pic>
      <p:sp>
        <p:nvSpPr>
          <p:cNvPr id="222" name="Rectangle 15"/>
          <p:cNvSpPr/>
          <p:nvPr/>
        </p:nvSpPr>
        <p:spPr>
          <a:xfrm>
            <a:off x="2049480" y="4087440"/>
            <a:ext cx="565164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掌握网络经济下数字产品的供给、需求曲线 </a:t>
            </a:r>
            <a:endParaRPr b="0" lang="en-US" sz="2000" spc="-1" strike="noStrike">
              <a:solidFill>
                <a:srgbClr val="000000"/>
              </a:solidFill>
              <a:latin typeface="Arial"/>
            </a:endParaRPr>
          </a:p>
        </p:txBody>
      </p:sp>
      <p:sp>
        <p:nvSpPr>
          <p:cNvPr id="223" name="Rectangle 18"/>
          <p:cNvSpPr/>
          <p:nvPr/>
        </p:nvSpPr>
        <p:spPr>
          <a:xfrm>
            <a:off x="1976400" y="2712960"/>
            <a:ext cx="6558120" cy="803520"/>
          </a:xfrm>
          <a:prstGeom prst="rect">
            <a:avLst/>
          </a:prstGeom>
          <a:noFill/>
          <a:ln w="0">
            <a:noFill/>
          </a:ln>
        </p:spPr>
        <p:style>
          <a:lnRef idx="0"/>
          <a:fillRef idx="0"/>
          <a:effectRef idx="0"/>
          <a:fontRef idx="minor"/>
        </p:style>
        <p:txBody>
          <a:bodyPr lIns="0" rIns="0" tIns="0" bIns="0" anchor="ctr">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掌握正反馈的定义及网络经济正反馈产生原因、影响</a:t>
            </a:r>
            <a:r>
              <a:rPr b="0" lang="zh-CN" sz="3200" spc="-1" strike="noStrike">
                <a:solidFill>
                  <a:srgbClr val="000000"/>
                </a:solidFill>
                <a:latin typeface="Calibri"/>
              </a:rPr>
              <a:t> </a:t>
            </a:r>
            <a:endParaRPr b="0" lang="en-US" sz="3200" spc="-1" strike="noStrike">
              <a:solidFill>
                <a:srgbClr val="000000"/>
              </a:solidFill>
              <a:latin typeface="Arial"/>
            </a:endParaRPr>
          </a:p>
        </p:txBody>
      </p:sp>
      <p:sp>
        <p:nvSpPr>
          <p:cNvPr id="224" name="Rectangle 21"/>
          <p:cNvSpPr/>
          <p:nvPr/>
        </p:nvSpPr>
        <p:spPr>
          <a:xfrm>
            <a:off x="1976400" y="1931760"/>
            <a:ext cx="540072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掌握网络外部性的概念、分类和原因 </a:t>
            </a:r>
            <a:endParaRPr b="0" lang="en-US" sz="2000" spc="-1" strike="noStrike">
              <a:solidFill>
                <a:srgbClr val="000000"/>
              </a:solidFill>
              <a:latin typeface="Arial"/>
            </a:endParaRPr>
          </a:p>
        </p:txBody>
      </p:sp>
      <p:pic>
        <p:nvPicPr>
          <p:cNvPr id="225" name="圆角矩形 21" descr=""/>
          <p:cNvPicPr/>
          <p:nvPr/>
        </p:nvPicPr>
        <p:blipFill>
          <a:blip r:embed="rId4"/>
          <a:stretch/>
        </p:blipFill>
        <p:spPr>
          <a:xfrm>
            <a:off x="1243080" y="1841400"/>
            <a:ext cx="561960" cy="773280"/>
          </a:xfrm>
          <a:prstGeom prst="rect">
            <a:avLst/>
          </a:prstGeom>
          <a:ln w="0">
            <a:noFill/>
          </a:ln>
        </p:spPr>
      </p:pic>
      <p:pic>
        <p:nvPicPr>
          <p:cNvPr id="226" name="圆角矩形 26" descr=""/>
          <p:cNvPicPr/>
          <p:nvPr/>
        </p:nvPicPr>
        <p:blipFill>
          <a:blip r:embed="rId5"/>
          <a:stretch/>
        </p:blipFill>
        <p:spPr>
          <a:xfrm>
            <a:off x="1305000" y="2895480"/>
            <a:ext cx="560160" cy="768600"/>
          </a:xfrm>
          <a:prstGeom prst="rect">
            <a:avLst/>
          </a:prstGeom>
          <a:ln w="0">
            <a:noFill/>
          </a:ln>
        </p:spPr>
      </p:pic>
      <p:pic>
        <p:nvPicPr>
          <p:cNvPr id="227" name="圆角矩形 21" descr=""/>
          <p:cNvPicPr/>
          <p:nvPr/>
        </p:nvPicPr>
        <p:blipFill>
          <a:blip r:embed="rId6"/>
          <a:stretch/>
        </p:blipFill>
        <p:spPr>
          <a:xfrm>
            <a:off x="1298520" y="4005360"/>
            <a:ext cx="560520" cy="768240"/>
          </a:xfrm>
          <a:prstGeom prst="rect">
            <a:avLst/>
          </a:prstGeom>
          <a:ln w="0">
            <a:noFill/>
          </a:ln>
        </p:spPr>
      </p:pic>
      <p:pic>
        <p:nvPicPr>
          <p:cNvPr id="228" name="Freeform 70" descr=""/>
          <p:cNvPicPr/>
          <p:nvPr/>
        </p:nvPicPr>
        <p:blipFill>
          <a:blip r:embed="rId7"/>
          <a:stretch/>
        </p:blipFill>
        <p:spPr>
          <a:xfrm>
            <a:off x="1243080" y="4816440"/>
            <a:ext cx="6662520" cy="951120"/>
          </a:xfrm>
          <a:prstGeom prst="rect">
            <a:avLst/>
          </a:prstGeom>
          <a:ln w="0">
            <a:noFill/>
          </a:ln>
        </p:spPr>
      </p:pic>
      <p:sp>
        <p:nvSpPr>
          <p:cNvPr id="229" name="Rectangle 21"/>
          <p:cNvSpPr/>
          <p:nvPr/>
        </p:nvSpPr>
        <p:spPr>
          <a:xfrm>
            <a:off x="2084400" y="5119200"/>
            <a:ext cx="585324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了解双边市场的内涵 </a:t>
            </a:r>
            <a:endParaRPr b="0" lang="en-US" sz="2000" spc="-1" strike="noStrike">
              <a:solidFill>
                <a:srgbClr val="000000"/>
              </a:solidFill>
              <a:latin typeface="Arial"/>
            </a:endParaRPr>
          </a:p>
        </p:txBody>
      </p:sp>
      <p:pic>
        <p:nvPicPr>
          <p:cNvPr id="230" name="圆角矩形 26" descr=""/>
          <p:cNvPicPr/>
          <p:nvPr/>
        </p:nvPicPr>
        <p:blipFill>
          <a:blip r:embed="rId8"/>
          <a:stretch/>
        </p:blipFill>
        <p:spPr>
          <a:xfrm>
            <a:off x="1305000" y="4932360"/>
            <a:ext cx="560160" cy="7668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61595-9C67-4C33-8394-7FCF184B1808}"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564" name="Group 128"/>
          <p:cNvGrpSpPr/>
          <p:nvPr/>
        </p:nvGrpSpPr>
        <p:grpSpPr>
          <a:xfrm>
            <a:off x="6762600" y="2451240"/>
            <a:ext cx="648000" cy="453960"/>
            <a:chOff x="6762600" y="2451240"/>
            <a:chExt cx="648000" cy="453960"/>
          </a:xfrm>
        </p:grpSpPr>
        <p:sp>
          <p:nvSpPr>
            <p:cNvPr id="565" name="AutoShape 129"/>
            <p:cNvSpPr/>
            <p:nvPr/>
          </p:nvSpPr>
          <p:spPr>
            <a:xfrm>
              <a:off x="7050240" y="259416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30"/>
            <p:cNvSpPr/>
            <p:nvPr/>
          </p:nvSpPr>
          <p:spPr>
            <a:xfrm>
              <a:off x="6762600" y="245124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7" name="AutoShape 26"/>
          <p:cNvSpPr/>
          <p:nvPr/>
        </p:nvSpPr>
        <p:spPr>
          <a:xfrm>
            <a:off x="79056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AutoShape 78"/>
          <p:cNvSpPr/>
          <p:nvPr/>
        </p:nvSpPr>
        <p:spPr>
          <a:xfrm>
            <a:off x="46656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0" name="组合 127"/>
          <p:cNvGrpSpPr/>
          <p:nvPr/>
        </p:nvGrpSpPr>
        <p:grpSpPr>
          <a:xfrm>
            <a:off x="250920" y="324000"/>
            <a:ext cx="264960" cy="417240"/>
            <a:chOff x="250920" y="324000"/>
            <a:chExt cx="264960" cy="417240"/>
          </a:xfrm>
        </p:grpSpPr>
        <p:sp>
          <p:nvSpPr>
            <p:cNvPr id="571"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组合 10"/>
          <p:cNvGrpSpPr/>
          <p:nvPr/>
        </p:nvGrpSpPr>
        <p:grpSpPr>
          <a:xfrm>
            <a:off x="1224000" y="944640"/>
            <a:ext cx="7128000" cy="647640"/>
            <a:chOff x="1224000" y="944640"/>
            <a:chExt cx="7128000" cy="647640"/>
          </a:xfrm>
        </p:grpSpPr>
        <p:sp>
          <p:nvSpPr>
            <p:cNvPr id="575" name="TextBox 11"/>
            <p:cNvSpPr/>
            <p:nvPr/>
          </p:nvSpPr>
          <p:spPr>
            <a:xfrm>
              <a:off x="1482480" y="944640"/>
              <a:ext cx="686952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定义</a:t>
              </a:r>
              <a:endParaRPr b="0" lang="en-US" sz="1800" spc="-1" strike="noStrike">
                <a:solidFill>
                  <a:srgbClr val="000000"/>
                </a:solidFill>
                <a:latin typeface="Arial"/>
              </a:endParaRPr>
            </a:p>
          </p:txBody>
        </p:sp>
        <p:sp>
          <p:nvSpPr>
            <p:cNvPr id="576" name="直接连接符 3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流程图: 联系 13"/>
            <p:cNvSpPr/>
            <p:nvPr/>
          </p:nvSpPr>
          <p:spPr>
            <a:xfrm>
              <a:off x="1224000" y="121284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578" name="直接连接符 3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9"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9"/>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21"/>
          <p:cNvSpPr/>
          <p:nvPr/>
        </p:nvSpPr>
        <p:spPr>
          <a:xfrm>
            <a:off x="0" y="-17136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4" name=""/>
          <p:cNvGrpSpPr/>
          <p:nvPr/>
        </p:nvGrpSpPr>
        <p:grpSpPr>
          <a:xfrm>
            <a:off x="1852560" y="2448000"/>
            <a:ext cx="2319480" cy="2219400"/>
            <a:chOff x="1852560" y="2448000"/>
            <a:chExt cx="2319480" cy="2219400"/>
          </a:xfrm>
        </p:grpSpPr>
        <p:sp>
          <p:nvSpPr>
            <p:cNvPr id="585" name="MH_Other_1"/>
            <p:cNvSpPr/>
            <p:nvPr/>
          </p:nvSpPr>
          <p:spPr>
            <a:xfrm>
              <a:off x="1852560" y="2448000"/>
              <a:ext cx="2319480" cy="2219400"/>
            </a:xfrm>
            <a:custGeom>
              <a:avLst/>
              <a:gdLst/>
              <a:ahLst/>
              <a:rect l="l" t="t" r="r" b="b"/>
              <a:pathLst>
                <a:path w="1844621" h="1765598">
                  <a:moveTo>
                    <a:pt x="961691" y="1643760"/>
                  </a:moveTo>
                  <a:lnTo>
                    <a:pt x="964657" y="1718060"/>
                  </a:lnTo>
                  <a:lnTo>
                    <a:pt x="948083" y="1717184"/>
                  </a:lnTo>
                  <a:lnTo>
                    <a:pt x="946614" y="1717353"/>
                  </a:lnTo>
                  <a:lnTo>
                    <a:pt x="943691" y="1644103"/>
                  </a:lnTo>
                  <a:lnTo>
                    <a:pt x="961691" y="1643760"/>
                  </a:lnTo>
                  <a:close/>
                  <a:moveTo>
                    <a:pt x="875350" y="1643169"/>
                  </a:moveTo>
                  <a:lnTo>
                    <a:pt x="893299" y="1644629"/>
                  </a:lnTo>
                  <a:lnTo>
                    <a:pt x="889341" y="1723945"/>
                  </a:lnTo>
                  <a:lnTo>
                    <a:pt x="871214" y="1726031"/>
                  </a:lnTo>
                  <a:lnTo>
                    <a:pt x="875350" y="1643169"/>
                  </a:lnTo>
                  <a:close/>
                  <a:moveTo>
                    <a:pt x="1029699" y="1636826"/>
                  </a:moveTo>
                  <a:lnTo>
                    <a:pt x="1040815" y="1722087"/>
                  </a:lnTo>
                  <a:lnTo>
                    <a:pt x="1022537" y="1721121"/>
                  </a:lnTo>
                  <a:lnTo>
                    <a:pt x="1011828" y="1638982"/>
                  </a:lnTo>
                  <a:lnTo>
                    <a:pt x="1029699" y="1636826"/>
                  </a:lnTo>
                  <a:close/>
                  <a:moveTo>
                    <a:pt x="807350" y="1636115"/>
                  </a:moveTo>
                  <a:lnTo>
                    <a:pt x="822430" y="1638864"/>
                  </a:lnTo>
                  <a:lnTo>
                    <a:pt x="825110" y="1639083"/>
                  </a:lnTo>
                  <a:lnTo>
                    <a:pt x="811751" y="1734136"/>
                  </a:lnTo>
                  <a:lnTo>
                    <a:pt x="792774" y="1739833"/>
                  </a:lnTo>
                  <a:lnTo>
                    <a:pt x="807350" y="1636115"/>
                  </a:lnTo>
                  <a:close/>
                  <a:moveTo>
                    <a:pt x="1096827" y="1624033"/>
                  </a:moveTo>
                  <a:lnTo>
                    <a:pt x="1121385" y="1734155"/>
                  </a:lnTo>
                  <a:lnTo>
                    <a:pt x="1101928" y="1729603"/>
                  </a:lnTo>
                  <a:lnTo>
                    <a:pt x="1079265" y="1627978"/>
                  </a:lnTo>
                  <a:lnTo>
                    <a:pt x="1096827" y="1624033"/>
                  </a:lnTo>
                  <a:close/>
                  <a:moveTo>
                    <a:pt x="740342" y="1622534"/>
                  </a:moveTo>
                  <a:lnTo>
                    <a:pt x="749046" y="1625484"/>
                  </a:lnTo>
                  <a:lnTo>
                    <a:pt x="757767" y="1627074"/>
                  </a:lnTo>
                  <a:lnTo>
                    <a:pt x="726815" y="1759631"/>
                  </a:lnTo>
                  <a:lnTo>
                    <a:pt x="706937" y="1765598"/>
                  </a:lnTo>
                  <a:lnTo>
                    <a:pt x="740342" y="1622534"/>
                  </a:lnTo>
                  <a:close/>
                  <a:moveTo>
                    <a:pt x="1162592" y="1605474"/>
                  </a:moveTo>
                  <a:lnTo>
                    <a:pt x="1211506" y="1758609"/>
                  </a:lnTo>
                  <a:lnTo>
                    <a:pt x="1193512" y="1751032"/>
                  </a:lnTo>
                  <a:lnTo>
                    <a:pt x="1189921" y="1750192"/>
                  </a:lnTo>
                  <a:lnTo>
                    <a:pt x="1145515" y="1611170"/>
                  </a:lnTo>
                  <a:lnTo>
                    <a:pt x="1162592" y="1605474"/>
                  </a:lnTo>
                  <a:close/>
                  <a:moveTo>
                    <a:pt x="675637" y="1600604"/>
                  </a:moveTo>
                  <a:lnTo>
                    <a:pt x="692686" y="1606382"/>
                  </a:lnTo>
                  <a:lnTo>
                    <a:pt x="641486" y="1761326"/>
                  </a:lnTo>
                  <a:lnTo>
                    <a:pt x="631383" y="1744623"/>
                  </a:lnTo>
                  <a:lnTo>
                    <a:pt x="628970" y="1741831"/>
                  </a:lnTo>
                  <a:lnTo>
                    <a:pt x="675637" y="1600604"/>
                  </a:lnTo>
                  <a:close/>
                  <a:moveTo>
                    <a:pt x="1225916" y="1579868"/>
                  </a:moveTo>
                  <a:lnTo>
                    <a:pt x="1279540" y="1707080"/>
                  </a:lnTo>
                  <a:lnTo>
                    <a:pt x="1266966" y="1723591"/>
                  </a:lnTo>
                  <a:lnTo>
                    <a:pt x="1209837" y="1588066"/>
                  </a:lnTo>
                  <a:lnTo>
                    <a:pt x="1225916" y="1579868"/>
                  </a:lnTo>
                  <a:close/>
                  <a:moveTo>
                    <a:pt x="610954" y="1578681"/>
                  </a:moveTo>
                  <a:lnTo>
                    <a:pt x="628059" y="1584478"/>
                  </a:lnTo>
                  <a:lnTo>
                    <a:pt x="582951" y="1688574"/>
                  </a:lnTo>
                  <a:lnTo>
                    <a:pt x="569886" y="1673454"/>
                  </a:lnTo>
                  <a:lnTo>
                    <a:pt x="610954" y="1578681"/>
                  </a:lnTo>
                  <a:close/>
                  <a:moveTo>
                    <a:pt x="1286670" y="1548893"/>
                  </a:moveTo>
                  <a:lnTo>
                    <a:pt x="1333269" y="1636531"/>
                  </a:lnTo>
                  <a:lnTo>
                    <a:pt x="1321264" y="1652294"/>
                  </a:lnTo>
                  <a:lnTo>
                    <a:pt x="1270632" y="1557070"/>
                  </a:lnTo>
                  <a:lnTo>
                    <a:pt x="1286670" y="1548893"/>
                  </a:lnTo>
                  <a:close/>
                  <a:moveTo>
                    <a:pt x="551444" y="1545001"/>
                  </a:moveTo>
                  <a:lnTo>
                    <a:pt x="567074" y="1553937"/>
                  </a:lnTo>
                  <a:lnTo>
                    <a:pt x="524862" y="1631452"/>
                  </a:lnTo>
                  <a:lnTo>
                    <a:pt x="510642" y="1619926"/>
                  </a:lnTo>
                  <a:lnTo>
                    <a:pt x="551444" y="1545001"/>
                  </a:lnTo>
                  <a:close/>
                  <a:moveTo>
                    <a:pt x="1346034" y="1515267"/>
                  </a:moveTo>
                  <a:lnTo>
                    <a:pt x="1390051" y="1582679"/>
                  </a:lnTo>
                  <a:lnTo>
                    <a:pt x="1376613" y="1595021"/>
                  </a:lnTo>
                  <a:lnTo>
                    <a:pt x="1331552" y="1526010"/>
                  </a:lnTo>
                  <a:lnTo>
                    <a:pt x="1333983" y="1524770"/>
                  </a:lnTo>
                  <a:lnTo>
                    <a:pt x="1346034" y="1515267"/>
                  </a:lnTo>
                  <a:close/>
                  <a:moveTo>
                    <a:pt x="492213" y="1511140"/>
                  </a:moveTo>
                  <a:lnTo>
                    <a:pt x="507877" y="1520095"/>
                  </a:lnTo>
                  <a:lnTo>
                    <a:pt x="465615" y="1583429"/>
                  </a:lnTo>
                  <a:lnTo>
                    <a:pt x="452723" y="1572979"/>
                  </a:lnTo>
                  <a:lnTo>
                    <a:pt x="451434" y="1572252"/>
                  </a:lnTo>
                  <a:lnTo>
                    <a:pt x="492213" y="1511140"/>
                  </a:lnTo>
                  <a:close/>
                  <a:moveTo>
                    <a:pt x="1399641" y="1472989"/>
                  </a:moveTo>
                  <a:lnTo>
                    <a:pt x="1447523" y="1533649"/>
                  </a:lnTo>
                  <a:lnTo>
                    <a:pt x="1433600" y="1542681"/>
                  </a:lnTo>
                  <a:lnTo>
                    <a:pt x="1432510" y="1543682"/>
                  </a:lnTo>
                  <a:lnTo>
                    <a:pt x="1385507" y="1484135"/>
                  </a:lnTo>
                  <a:lnTo>
                    <a:pt x="1399641" y="1472989"/>
                  </a:lnTo>
                  <a:close/>
                  <a:moveTo>
                    <a:pt x="439084" y="1468240"/>
                  </a:moveTo>
                  <a:lnTo>
                    <a:pt x="452737" y="1479985"/>
                  </a:lnTo>
                  <a:lnTo>
                    <a:pt x="401226" y="1543921"/>
                  </a:lnTo>
                  <a:lnTo>
                    <a:pt x="385335" y="1534955"/>
                  </a:lnTo>
                  <a:lnTo>
                    <a:pt x="439084" y="1468240"/>
                  </a:lnTo>
                  <a:close/>
                  <a:moveTo>
                    <a:pt x="1452700" y="1430017"/>
                  </a:moveTo>
                  <a:lnTo>
                    <a:pt x="1511505" y="1492141"/>
                  </a:lnTo>
                  <a:lnTo>
                    <a:pt x="1496150" y="1502102"/>
                  </a:lnTo>
                  <a:lnTo>
                    <a:pt x="1439119" y="1441854"/>
                  </a:lnTo>
                  <a:lnTo>
                    <a:pt x="1449687" y="1433519"/>
                  </a:lnTo>
                  <a:lnTo>
                    <a:pt x="1452700" y="1430017"/>
                  </a:lnTo>
                  <a:close/>
                  <a:moveTo>
                    <a:pt x="387391" y="1423768"/>
                  </a:moveTo>
                  <a:lnTo>
                    <a:pt x="401059" y="1435526"/>
                  </a:lnTo>
                  <a:lnTo>
                    <a:pt x="332463" y="1506560"/>
                  </a:lnTo>
                  <a:lnTo>
                    <a:pt x="313761" y="1500014"/>
                  </a:lnTo>
                  <a:lnTo>
                    <a:pt x="387391" y="1423768"/>
                  </a:lnTo>
                  <a:close/>
                  <a:moveTo>
                    <a:pt x="1497274" y="1378205"/>
                  </a:moveTo>
                  <a:lnTo>
                    <a:pt x="1583781" y="1454547"/>
                  </a:lnTo>
                  <a:lnTo>
                    <a:pt x="1565364" y="1462300"/>
                  </a:lnTo>
                  <a:lnTo>
                    <a:pt x="1485535" y="1391850"/>
                  </a:lnTo>
                  <a:lnTo>
                    <a:pt x="1497274" y="1378205"/>
                  </a:lnTo>
                  <a:close/>
                  <a:moveTo>
                    <a:pt x="342078" y="1372754"/>
                  </a:moveTo>
                  <a:lnTo>
                    <a:pt x="353236" y="1386902"/>
                  </a:lnTo>
                  <a:lnTo>
                    <a:pt x="248764" y="1477262"/>
                  </a:lnTo>
                  <a:lnTo>
                    <a:pt x="229175" y="1470405"/>
                  </a:lnTo>
                  <a:lnTo>
                    <a:pt x="342078" y="1372754"/>
                  </a:lnTo>
                  <a:close/>
                  <a:moveTo>
                    <a:pt x="1541797" y="1326453"/>
                  </a:moveTo>
                  <a:lnTo>
                    <a:pt x="1671063" y="1421359"/>
                  </a:lnTo>
                  <a:lnTo>
                    <a:pt x="1652052" y="1425806"/>
                  </a:lnTo>
                  <a:lnTo>
                    <a:pt x="1648653" y="1427237"/>
                  </a:lnTo>
                  <a:lnTo>
                    <a:pt x="1530022" y="1340139"/>
                  </a:lnTo>
                  <a:lnTo>
                    <a:pt x="1541797" y="1326453"/>
                  </a:lnTo>
                  <a:close/>
                  <a:moveTo>
                    <a:pt x="299862" y="1319225"/>
                  </a:moveTo>
                  <a:lnTo>
                    <a:pt x="311019" y="1333372"/>
                  </a:lnTo>
                  <a:lnTo>
                    <a:pt x="178732" y="1428480"/>
                  </a:lnTo>
                  <a:lnTo>
                    <a:pt x="180377" y="1409027"/>
                  </a:lnTo>
                  <a:lnTo>
                    <a:pt x="180067" y="1405352"/>
                  </a:lnTo>
                  <a:lnTo>
                    <a:pt x="299862" y="1319225"/>
                  </a:lnTo>
                  <a:close/>
                  <a:moveTo>
                    <a:pt x="1576542" y="1267609"/>
                  </a:moveTo>
                  <a:lnTo>
                    <a:pt x="1695816" y="1339681"/>
                  </a:lnTo>
                  <a:lnTo>
                    <a:pt x="1695348" y="1360430"/>
                  </a:lnTo>
                  <a:lnTo>
                    <a:pt x="1567606" y="1283241"/>
                  </a:lnTo>
                  <a:lnTo>
                    <a:pt x="1576542" y="1267609"/>
                  </a:lnTo>
                  <a:close/>
                  <a:moveTo>
                    <a:pt x="263531" y="1261503"/>
                  </a:moveTo>
                  <a:lnTo>
                    <a:pt x="271723" y="1277570"/>
                  </a:lnTo>
                  <a:lnTo>
                    <a:pt x="174140" y="1335215"/>
                  </a:lnTo>
                  <a:lnTo>
                    <a:pt x="172457" y="1315303"/>
                  </a:lnTo>
                  <a:lnTo>
                    <a:pt x="263531" y="1261503"/>
                  </a:lnTo>
                  <a:close/>
                  <a:moveTo>
                    <a:pt x="1610398" y="1208387"/>
                  </a:moveTo>
                  <a:lnTo>
                    <a:pt x="1697816" y="1251024"/>
                  </a:lnTo>
                  <a:lnTo>
                    <a:pt x="1697369" y="1270832"/>
                  </a:lnTo>
                  <a:lnTo>
                    <a:pt x="1601446" y="1224047"/>
                  </a:lnTo>
                  <a:lnTo>
                    <a:pt x="1610398" y="1208387"/>
                  </a:lnTo>
                  <a:close/>
                  <a:moveTo>
                    <a:pt x="232566" y="1200770"/>
                  </a:moveTo>
                  <a:lnTo>
                    <a:pt x="240745" y="1216812"/>
                  </a:lnTo>
                  <a:lnTo>
                    <a:pt x="160720" y="1254859"/>
                  </a:lnTo>
                  <a:lnTo>
                    <a:pt x="155991" y="1237178"/>
                  </a:lnTo>
                  <a:lnTo>
                    <a:pt x="232566" y="1200770"/>
                  </a:lnTo>
                  <a:close/>
                  <a:moveTo>
                    <a:pt x="1634958" y="1144690"/>
                  </a:moveTo>
                  <a:lnTo>
                    <a:pt x="1712099" y="1174082"/>
                  </a:lnTo>
                  <a:lnTo>
                    <a:pt x="1708482" y="1191966"/>
                  </a:lnTo>
                  <a:lnTo>
                    <a:pt x="1629176" y="1161750"/>
                  </a:lnTo>
                  <a:lnTo>
                    <a:pt x="1634958" y="1144690"/>
                  </a:lnTo>
                  <a:close/>
                  <a:moveTo>
                    <a:pt x="204756" y="1138431"/>
                  </a:moveTo>
                  <a:lnTo>
                    <a:pt x="210455" y="1155515"/>
                  </a:lnTo>
                  <a:lnTo>
                    <a:pt x="141015" y="1181182"/>
                  </a:lnTo>
                  <a:lnTo>
                    <a:pt x="136727" y="1165150"/>
                  </a:lnTo>
                  <a:lnTo>
                    <a:pt x="136112" y="1163804"/>
                  </a:lnTo>
                  <a:lnTo>
                    <a:pt x="204756" y="1138431"/>
                  </a:lnTo>
                  <a:close/>
                  <a:moveTo>
                    <a:pt x="1656844" y="1080115"/>
                  </a:moveTo>
                  <a:lnTo>
                    <a:pt x="1729776" y="1100634"/>
                  </a:lnTo>
                  <a:lnTo>
                    <a:pt x="1723821" y="1116126"/>
                  </a:lnTo>
                  <a:lnTo>
                    <a:pt x="1723528" y="1117576"/>
                  </a:lnTo>
                  <a:lnTo>
                    <a:pt x="1651058" y="1097186"/>
                  </a:lnTo>
                  <a:lnTo>
                    <a:pt x="1656844" y="1080115"/>
                  </a:lnTo>
                  <a:close/>
                  <a:moveTo>
                    <a:pt x="184625" y="1073110"/>
                  </a:moveTo>
                  <a:lnTo>
                    <a:pt x="188043" y="1088326"/>
                  </a:lnTo>
                  <a:lnTo>
                    <a:pt x="188810" y="1090624"/>
                  </a:lnTo>
                  <a:lnTo>
                    <a:pt x="112145" y="1111372"/>
                  </a:lnTo>
                  <a:lnTo>
                    <a:pt x="104560" y="1094778"/>
                  </a:lnTo>
                  <a:lnTo>
                    <a:pt x="184625" y="1073110"/>
                  </a:lnTo>
                  <a:close/>
                  <a:moveTo>
                    <a:pt x="1672722" y="1013691"/>
                  </a:moveTo>
                  <a:lnTo>
                    <a:pt x="1757141" y="1029446"/>
                  </a:lnTo>
                  <a:lnTo>
                    <a:pt x="1750574" y="1046531"/>
                  </a:lnTo>
                  <a:lnTo>
                    <a:pt x="1669493" y="1031399"/>
                  </a:lnTo>
                  <a:lnTo>
                    <a:pt x="1672722" y="1013691"/>
                  </a:lnTo>
                  <a:close/>
                  <a:moveTo>
                    <a:pt x="170225" y="1006273"/>
                  </a:moveTo>
                  <a:lnTo>
                    <a:pt x="170936" y="1012170"/>
                  </a:lnTo>
                  <a:lnTo>
                    <a:pt x="173584" y="1023958"/>
                  </a:lnTo>
                  <a:lnTo>
                    <a:pt x="78475" y="1040728"/>
                  </a:lnTo>
                  <a:lnTo>
                    <a:pt x="67193" y="1024440"/>
                  </a:lnTo>
                  <a:lnTo>
                    <a:pt x="170225" y="1006273"/>
                  </a:lnTo>
                  <a:close/>
                  <a:moveTo>
                    <a:pt x="1681368" y="945892"/>
                  </a:moveTo>
                  <a:lnTo>
                    <a:pt x="1793516" y="956550"/>
                  </a:lnTo>
                  <a:lnTo>
                    <a:pt x="1783173" y="973649"/>
                  </a:lnTo>
                  <a:lnTo>
                    <a:pt x="1679909" y="963835"/>
                  </a:lnTo>
                  <a:lnTo>
                    <a:pt x="1681368" y="945892"/>
                  </a:lnTo>
                  <a:close/>
                  <a:moveTo>
                    <a:pt x="162034" y="938372"/>
                  </a:moveTo>
                  <a:lnTo>
                    <a:pt x="164191" y="956254"/>
                  </a:lnTo>
                  <a:lnTo>
                    <a:pt x="27981" y="967828"/>
                  </a:lnTo>
                  <a:lnTo>
                    <a:pt x="16164" y="950767"/>
                  </a:lnTo>
                  <a:lnTo>
                    <a:pt x="162034" y="938372"/>
                  </a:lnTo>
                  <a:close/>
                  <a:moveTo>
                    <a:pt x="1683923" y="877596"/>
                  </a:moveTo>
                  <a:lnTo>
                    <a:pt x="1844621" y="878397"/>
                  </a:lnTo>
                  <a:lnTo>
                    <a:pt x="1831855" y="893168"/>
                  </a:lnTo>
                  <a:lnTo>
                    <a:pt x="1829946" y="896325"/>
                  </a:lnTo>
                  <a:lnTo>
                    <a:pt x="1684266" y="895598"/>
                  </a:lnTo>
                  <a:lnTo>
                    <a:pt x="1683923" y="877596"/>
                  </a:lnTo>
                  <a:close/>
                  <a:moveTo>
                    <a:pt x="14676" y="869273"/>
                  </a:moveTo>
                  <a:lnTo>
                    <a:pt x="160356" y="869999"/>
                  </a:lnTo>
                  <a:lnTo>
                    <a:pt x="160699" y="888001"/>
                  </a:lnTo>
                  <a:lnTo>
                    <a:pt x="0" y="887200"/>
                  </a:lnTo>
                  <a:lnTo>
                    <a:pt x="12766" y="872429"/>
                  </a:lnTo>
                  <a:lnTo>
                    <a:pt x="14676" y="869273"/>
                  </a:lnTo>
                  <a:close/>
                  <a:moveTo>
                    <a:pt x="1816638" y="797770"/>
                  </a:moveTo>
                  <a:lnTo>
                    <a:pt x="1828455" y="814831"/>
                  </a:lnTo>
                  <a:lnTo>
                    <a:pt x="1682588" y="827227"/>
                  </a:lnTo>
                  <a:lnTo>
                    <a:pt x="1680430" y="809345"/>
                  </a:lnTo>
                  <a:lnTo>
                    <a:pt x="1816638" y="797770"/>
                  </a:lnTo>
                  <a:close/>
                  <a:moveTo>
                    <a:pt x="61447" y="791950"/>
                  </a:moveTo>
                  <a:lnTo>
                    <a:pt x="164713" y="801763"/>
                  </a:lnTo>
                  <a:lnTo>
                    <a:pt x="163253" y="819705"/>
                  </a:lnTo>
                  <a:lnTo>
                    <a:pt x="51105" y="809048"/>
                  </a:lnTo>
                  <a:lnTo>
                    <a:pt x="61447" y="791950"/>
                  </a:lnTo>
                  <a:close/>
                  <a:moveTo>
                    <a:pt x="1766145" y="724870"/>
                  </a:moveTo>
                  <a:lnTo>
                    <a:pt x="1777427" y="741158"/>
                  </a:lnTo>
                  <a:lnTo>
                    <a:pt x="1674396" y="759325"/>
                  </a:lnTo>
                  <a:lnTo>
                    <a:pt x="1673685" y="753429"/>
                  </a:lnTo>
                  <a:lnTo>
                    <a:pt x="1670588" y="741719"/>
                  </a:lnTo>
                  <a:lnTo>
                    <a:pt x="1766145" y="724870"/>
                  </a:lnTo>
                  <a:close/>
                  <a:moveTo>
                    <a:pt x="94047" y="719066"/>
                  </a:moveTo>
                  <a:lnTo>
                    <a:pt x="175129" y="734198"/>
                  </a:lnTo>
                  <a:lnTo>
                    <a:pt x="171900" y="751906"/>
                  </a:lnTo>
                  <a:lnTo>
                    <a:pt x="87480" y="736151"/>
                  </a:lnTo>
                  <a:lnTo>
                    <a:pt x="94047" y="719066"/>
                  </a:lnTo>
                  <a:close/>
                  <a:moveTo>
                    <a:pt x="1732475" y="654227"/>
                  </a:moveTo>
                  <a:lnTo>
                    <a:pt x="1740061" y="670822"/>
                  </a:lnTo>
                  <a:lnTo>
                    <a:pt x="1657733" y="693102"/>
                  </a:lnTo>
                  <a:lnTo>
                    <a:pt x="1653131" y="675699"/>
                  </a:lnTo>
                  <a:lnTo>
                    <a:pt x="1732475" y="654227"/>
                  </a:lnTo>
                  <a:close/>
                  <a:moveTo>
                    <a:pt x="121093" y="648021"/>
                  </a:moveTo>
                  <a:lnTo>
                    <a:pt x="193564" y="668412"/>
                  </a:lnTo>
                  <a:lnTo>
                    <a:pt x="187778" y="685483"/>
                  </a:lnTo>
                  <a:lnTo>
                    <a:pt x="114844" y="664963"/>
                  </a:lnTo>
                  <a:lnTo>
                    <a:pt x="120799" y="649471"/>
                  </a:lnTo>
                  <a:lnTo>
                    <a:pt x="121093" y="648021"/>
                  </a:lnTo>
                  <a:close/>
                  <a:moveTo>
                    <a:pt x="1703605" y="584417"/>
                  </a:moveTo>
                  <a:lnTo>
                    <a:pt x="1707892" y="600448"/>
                  </a:lnTo>
                  <a:lnTo>
                    <a:pt x="1708508" y="601796"/>
                  </a:lnTo>
                  <a:lnTo>
                    <a:pt x="1640259" y="627022"/>
                  </a:lnTo>
                  <a:lnTo>
                    <a:pt x="1639049" y="622444"/>
                  </a:lnTo>
                  <a:lnTo>
                    <a:pt x="1633440" y="610352"/>
                  </a:lnTo>
                  <a:lnTo>
                    <a:pt x="1703605" y="584417"/>
                  </a:lnTo>
                  <a:close/>
                  <a:moveTo>
                    <a:pt x="136138" y="573632"/>
                  </a:moveTo>
                  <a:lnTo>
                    <a:pt x="215446" y="603848"/>
                  </a:lnTo>
                  <a:lnTo>
                    <a:pt x="209665" y="620908"/>
                  </a:lnTo>
                  <a:lnTo>
                    <a:pt x="132521" y="591516"/>
                  </a:lnTo>
                  <a:lnTo>
                    <a:pt x="136138" y="573632"/>
                  </a:lnTo>
                  <a:close/>
                  <a:moveTo>
                    <a:pt x="1683900" y="510741"/>
                  </a:moveTo>
                  <a:lnTo>
                    <a:pt x="1688629" y="528423"/>
                  </a:lnTo>
                  <a:lnTo>
                    <a:pt x="1612275" y="564725"/>
                  </a:lnTo>
                  <a:lnTo>
                    <a:pt x="1604700" y="548396"/>
                  </a:lnTo>
                  <a:lnTo>
                    <a:pt x="1683900" y="510741"/>
                  </a:lnTo>
                  <a:close/>
                  <a:moveTo>
                    <a:pt x="147252" y="494765"/>
                  </a:moveTo>
                  <a:lnTo>
                    <a:pt x="243177" y="541551"/>
                  </a:lnTo>
                  <a:lnTo>
                    <a:pt x="234224" y="557210"/>
                  </a:lnTo>
                  <a:lnTo>
                    <a:pt x="146805" y="514573"/>
                  </a:lnTo>
                  <a:lnTo>
                    <a:pt x="147252" y="494765"/>
                  </a:lnTo>
                  <a:close/>
                  <a:moveTo>
                    <a:pt x="1670480" y="430384"/>
                  </a:moveTo>
                  <a:lnTo>
                    <a:pt x="1672163" y="450296"/>
                  </a:lnTo>
                  <a:lnTo>
                    <a:pt x="1583450" y="502701"/>
                  </a:lnTo>
                  <a:lnTo>
                    <a:pt x="1573155" y="487877"/>
                  </a:lnTo>
                  <a:lnTo>
                    <a:pt x="1670480" y="430384"/>
                  </a:lnTo>
                  <a:close/>
                  <a:moveTo>
                    <a:pt x="149273" y="405169"/>
                  </a:moveTo>
                  <a:lnTo>
                    <a:pt x="277016" y="482359"/>
                  </a:lnTo>
                  <a:lnTo>
                    <a:pt x="268080" y="497989"/>
                  </a:lnTo>
                  <a:lnTo>
                    <a:pt x="148805" y="425916"/>
                  </a:lnTo>
                  <a:lnTo>
                    <a:pt x="149273" y="405169"/>
                  </a:lnTo>
                  <a:close/>
                  <a:moveTo>
                    <a:pt x="195968" y="338361"/>
                  </a:moveTo>
                  <a:lnTo>
                    <a:pt x="314600" y="425459"/>
                  </a:lnTo>
                  <a:lnTo>
                    <a:pt x="302826" y="439145"/>
                  </a:lnTo>
                  <a:lnTo>
                    <a:pt x="173559" y="344239"/>
                  </a:lnTo>
                  <a:lnTo>
                    <a:pt x="192568" y="339792"/>
                  </a:lnTo>
                  <a:lnTo>
                    <a:pt x="195968" y="338361"/>
                  </a:lnTo>
                  <a:close/>
                  <a:moveTo>
                    <a:pt x="1665887" y="337121"/>
                  </a:moveTo>
                  <a:lnTo>
                    <a:pt x="1664242" y="356571"/>
                  </a:lnTo>
                  <a:lnTo>
                    <a:pt x="1664553" y="360248"/>
                  </a:lnTo>
                  <a:lnTo>
                    <a:pt x="1544474" y="446578"/>
                  </a:lnTo>
                  <a:lnTo>
                    <a:pt x="1534206" y="431793"/>
                  </a:lnTo>
                  <a:lnTo>
                    <a:pt x="1665887" y="337121"/>
                  </a:lnTo>
                  <a:close/>
                  <a:moveTo>
                    <a:pt x="279257" y="303297"/>
                  </a:moveTo>
                  <a:lnTo>
                    <a:pt x="359087" y="373748"/>
                  </a:lnTo>
                  <a:lnTo>
                    <a:pt x="347347" y="387394"/>
                  </a:lnTo>
                  <a:lnTo>
                    <a:pt x="260839" y="311051"/>
                  </a:lnTo>
                  <a:lnTo>
                    <a:pt x="279257" y="303297"/>
                  </a:lnTo>
                  <a:close/>
                  <a:moveTo>
                    <a:pt x="1595859" y="288337"/>
                  </a:moveTo>
                  <a:lnTo>
                    <a:pt x="1615448" y="295194"/>
                  </a:lnTo>
                  <a:lnTo>
                    <a:pt x="1504459" y="391189"/>
                  </a:lnTo>
                  <a:lnTo>
                    <a:pt x="1491819" y="378322"/>
                  </a:lnTo>
                  <a:lnTo>
                    <a:pt x="1595859" y="288337"/>
                  </a:lnTo>
                  <a:close/>
                  <a:moveTo>
                    <a:pt x="348471" y="263494"/>
                  </a:moveTo>
                  <a:lnTo>
                    <a:pt x="405504" y="323744"/>
                  </a:lnTo>
                  <a:lnTo>
                    <a:pt x="394934" y="332080"/>
                  </a:lnTo>
                  <a:lnTo>
                    <a:pt x="391923" y="335581"/>
                  </a:lnTo>
                  <a:lnTo>
                    <a:pt x="333116" y="273456"/>
                  </a:lnTo>
                  <a:lnTo>
                    <a:pt x="348471" y="263494"/>
                  </a:lnTo>
                  <a:close/>
                  <a:moveTo>
                    <a:pt x="1512159" y="259039"/>
                  </a:moveTo>
                  <a:lnTo>
                    <a:pt x="1530860" y="265585"/>
                  </a:lnTo>
                  <a:lnTo>
                    <a:pt x="1456606" y="342477"/>
                  </a:lnTo>
                  <a:lnTo>
                    <a:pt x="1443988" y="329632"/>
                  </a:lnTo>
                  <a:lnTo>
                    <a:pt x="1512159" y="259039"/>
                  </a:lnTo>
                  <a:close/>
                  <a:moveTo>
                    <a:pt x="412110" y="221916"/>
                  </a:moveTo>
                  <a:lnTo>
                    <a:pt x="459114" y="281464"/>
                  </a:lnTo>
                  <a:lnTo>
                    <a:pt x="444980" y="292610"/>
                  </a:lnTo>
                  <a:lnTo>
                    <a:pt x="397097" y="231949"/>
                  </a:lnTo>
                  <a:lnTo>
                    <a:pt x="411019" y="222917"/>
                  </a:lnTo>
                  <a:lnTo>
                    <a:pt x="412110" y="221916"/>
                  </a:lnTo>
                  <a:close/>
                  <a:moveTo>
                    <a:pt x="1443396" y="221678"/>
                  </a:moveTo>
                  <a:lnTo>
                    <a:pt x="1459286" y="230644"/>
                  </a:lnTo>
                  <a:lnTo>
                    <a:pt x="1406897" y="295670"/>
                  </a:lnTo>
                  <a:lnTo>
                    <a:pt x="1392300" y="285098"/>
                  </a:lnTo>
                  <a:lnTo>
                    <a:pt x="1443396" y="221678"/>
                  </a:lnTo>
                  <a:close/>
                  <a:moveTo>
                    <a:pt x="1379005" y="182170"/>
                  </a:moveTo>
                  <a:lnTo>
                    <a:pt x="1391896" y="192619"/>
                  </a:lnTo>
                  <a:lnTo>
                    <a:pt x="1393186" y="193347"/>
                  </a:lnTo>
                  <a:lnTo>
                    <a:pt x="1351622" y="255636"/>
                  </a:lnTo>
                  <a:lnTo>
                    <a:pt x="1337034" y="245070"/>
                  </a:lnTo>
                  <a:lnTo>
                    <a:pt x="1379005" y="182170"/>
                  </a:lnTo>
                  <a:close/>
                  <a:moveTo>
                    <a:pt x="468008" y="170577"/>
                  </a:moveTo>
                  <a:lnTo>
                    <a:pt x="513069" y="239589"/>
                  </a:lnTo>
                  <a:lnTo>
                    <a:pt x="510638" y="240828"/>
                  </a:lnTo>
                  <a:lnTo>
                    <a:pt x="498586" y="250333"/>
                  </a:lnTo>
                  <a:lnTo>
                    <a:pt x="454568" y="182920"/>
                  </a:lnTo>
                  <a:lnTo>
                    <a:pt x="468008" y="170577"/>
                  </a:lnTo>
                  <a:close/>
                  <a:moveTo>
                    <a:pt x="1319759" y="134146"/>
                  </a:moveTo>
                  <a:lnTo>
                    <a:pt x="1333978" y="145672"/>
                  </a:lnTo>
                  <a:lnTo>
                    <a:pt x="1294036" y="219016"/>
                  </a:lnTo>
                  <a:lnTo>
                    <a:pt x="1277891" y="211027"/>
                  </a:lnTo>
                  <a:lnTo>
                    <a:pt x="1319759" y="134146"/>
                  </a:lnTo>
                  <a:close/>
                  <a:moveTo>
                    <a:pt x="523355" y="113305"/>
                  </a:moveTo>
                  <a:lnTo>
                    <a:pt x="573987" y="208530"/>
                  </a:lnTo>
                  <a:lnTo>
                    <a:pt x="557949" y="216707"/>
                  </a:lnTo>
                  <a:lnTo>
                    <a:pt x="511350" y="129068"/>
                  </a:lnTo>
                  <a:lnTo>
                    <a:pt x="523355" y="113305"/>
                  </a:lnTo>
                  <a:close/>
                  <a:moveTo>
                    <a:pt x="1261668" y="77024"/>
                  </a:moveTo>
                  <a:lnTo>
                    <a:pt x="1274734" y="92144"/>
                  </a:lnTo>
                  <a:lnTo>
                    <a:pt x="1232872" y="188750"/>
                  </a:lnTo>
                  <a:lnTo>
                    <a:pt x="1216718" y="180757"/>
                  </a:lnTo>
                  <a:lnTo>
                    <a:pt x="1261668" y="77024"/>
                  </a:lnTo>
                  <a:close/>
                  <a:moveTo>
                    <a:pt x="879964" y="47539"/>
                  </a:moveTo>
                  <a:lnTo>
                    <a:pt x="896536" y="48415"/>
                  </a:lnTo>
                  <a:lnTo>
                    <a:pt x="898006" y="48246"/>
                  </a:lnTo>
                  <a:lnTo>
                    <a:pt x="900930" y="121496"/>
                  </a:lnTo>
                  <a:lnTo>
                    <a:pt x="882930" y="121839"/>
                  </a:lnTo>
                  <a:lnTo>
                    <a:pt x="879964" y="47539"/>
                  </a:lnTo>
                  <a:close/>
                  <a:moveTo>
                    <a:pt x="803804" y="43511"/>
                  </a:moveTo>
                  <a:lnTo>
                    <a:pt x="822082" y="44478"/>
                  </a:lnTo>
                  <a:lnTo>
                    <a:pt x="832792" y="126618"/>
                  </a:lnTo>
                  <a:lnTo>
                    <a:pt x="814920" y="128774"/>
                  </a:lnTo>
                  <a:lnTo>
                    <a:pt x="803804" y="43511"/>
                  </a:lnTo>
                  <a:close/>
                  <a:moveTo>
                    <a:pt x="577653" y="42008"/>
                  </a:moveTo>
                  <a:lnTo>
                    <a:pt x="634782" y="177534"/>
                  </a:lnTo>
                  <a:lnTo>
                    <a:pt x="618704" y="185731"/>
                  </a:lnTo>
                  <a:lnTo>
                    <a:pt x="565079" y="58518"/>
                  </a:lnTo>
                  <a:lnTo>
                    <a:pt x="577653" y="42008"/>
                  </a:lnTo>
                  <a:close/>
                  <a:moveTo>
                    <a:pt x="973404" y="39567"/>
                  </a:moveTo>
                  <a:lnTo>
                    <a:pt x="969228" y="123258"/>
                  </a:lnTo>
                  <a:lnTo>
                    <a:pt x="951312" y="121130"/>
                  </a:lnTo>
                  <a:lnTo>
                    <a:pt x="955278" y="41654"/>
                  </a:lnTo>
                  <a:lnTo>
                    <a:pt x="973404" y="39567"/>
                  </a:lnTo>
                  <a:close/>
                  <a:moveTo>
                    <a:pt x="723233" y="31443"/>
                  </a:moveTo>
                  <a:lnTo>
                    <a:pt x="742691" y="35995"/>
                  </a:lnTo>
                  <a:lnTo>
                    <a:pt x="765354" y="137622"/>
                  </a:lnTo>
                  <a:lnTo>
                    <a:pt x="747791" y="141567"/>
                  </a:lnTo>
                  <a:lnTo>
                    <a:pt x="723233" y="31443"/>
                  </a:lnTo>
                  <a:close/>
                  <a:moveTo>
                    <a:pt x="1051847" y="25765"/>
                  </a:moveTo>
                  <a:lnTo>
                    <a:pt x="1037014" y="131308"/>
                  </a:lnTo>
                  <a:lnTo>
                    <a:pt x="1019135" y="129184"/>
                  </a:lnTo>
                  <a:lnTo>
                    <a:pt x="1032869" y="31462"/>
                  </a:lnTo>
                  <a:lnTo>
                    <a:pt x="1051847" y="25765"/>
                  </a:lnTo>
                  <a:close/>
                  <a:moveTo>
                    <a:pt x="633115" y="6990"/>
                  </a:moveTo>
                  <a:lnTo>
                    <a:pt x="651107" y="14566"/>
                  </a:lnTo>
                  <a:lnTo>
                    <a:pt x="654699" y="15406"/>
                  </a:lnTo>
                  <a:lnTo>
                    <a:pt x="699105" y="154429"/>
                  </a:lnTo>
                  <a:lnTo>
                    <a:pt x="682029" y="160125"/>
                  </a:lnTo>
                  <a:lnTo>
                    <a:pt x="633115" y="6990"/>
                  </a:lnTo>
                  <a:close/>
                  <a:moveTo>
                    <a:pt x="1203134" y="4273"/>
                  </a:moveTo>
                  <a:lnTo>
                    <a:pt x="1213236" y="20976"/>
                  </a:lnTo>
                  <a:lnTo>
                    <a:pt x="1215649" y="23769"/>
                  </a:lnTo>
                  <a:lnTo>
                    <a:pt x="1169442" y="163605"/>
                  </a:lnTo>
                  <a:lnTo>
                    <a:pt x="1152188" y="158449"/>
                  </a:lnTo>
                  <a:lnTo>
                    <a:pt x="1203134" y="4273"/>
                  </a:lnTo>
                  <a:close/>
                  <a:moveTo>
                    <a:pt x="1137683" y="0"/>
                  </a:moveTo>
                  <a:lnTo>
                    <a:pt x="1104046" y="144062"/>
                  </a:lnTo>
                  <a:lnTo>
                    <a:pt x="1086767" y="138898"/>
                  </a:lnTo>
                  <a:lnTo>
                    <a:pt x="1117806" y="5966"/>
                  </a:lnTo>
                  <a:lnTo>
                    <a:pt x="1137683" y="0"/>
                  </a:lnTo>
                  <a:close/>
                </a:path>
              </a:pathLst>
            </a:custGeom>
            <a:solidFill>
              <a:srgbClr val="b9cde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6" name="MH_SubTitle_1"/>
            <p:cNvSpPr/>
            <p:nvPr/>
          </p:nvSpPr>
          <p:spPr>
            <a:xfrm>
              <a:off x="2128680" y="2673360"/>
              <a:ext cx="1768680" cy="1768320"/>
            </a:xfrm>
            <a:prstGeom prst="pi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一般市场构成：买卖双方直接交易</a:t>
              </a:r>
              <a:endParaRPr b="0" lang="en-US" sz="1800" spc="-1" strike="noStrike">
                <a:solidFill>
                  <a:srgbClr val="000000"/>
                </a:solidFill>
                <a:latin typeface="Arial"/>
              </a:endParaRPr>
            </a:p>
          </p:txBody>
        </p:sp>
        <p:sp>
          <p:nvSpPr>
            <p:cNvPr id="587" name="MH_Other_2"/>
            <p:cNvSpPr/>
            <p:nvPr/>
          </p:nvSpPr>
          <p:spPr>
            <a:xfrm>
              <a:off x="2303640" y="2673360"/>
              <a:ext cx="1411200" cy="368280"/>
            </a:xfrm>
            <a:prstGeom prst="pi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01</a:t>
              </a:r>
              <a:endParaRPr b="0" lang="en-US" sz="2400" spc="-1" strike="noStrike">
                <a:solidFill>
                  <a:srgbClr val="000000"/>
                </a:solidFill>
                <a:latin typeface="Arial"/>
              </a:endParaRPr>
            </a:p>
          </p:txBody>
        </p:sp>
      </p:grpSp>
      <p:sp>
        <p:nvSpPr>
          <p:cNvPr id="588" name="MH_Other_3"/>
          <p:cNvSpPr/>
          <p:nvPr/>
        </p:nvSpPr>
        <p:spPr>
          <a:xfrm>
            <a:off x="5308560" y="2556000"/>
            <a:ext cx="2319480" cy="2219040"/>
          </a:xfrm>
          <a:custGeom>
            <a:avLst/>
            <a:gdLst/>
            <a:ahLst/>
            <a:rect l="l" t="t" r="r" b="b"/>
            <a:pathLst>
              <a:path w="1844621" h="1765598">
                <a:moveTo>
                  <a:pt x="961691" y="1643760"/>
                </a:moveTo>
                <a:lnTo>
                  <a:pt x="964657" y="1718060"/>
                </a:lnTo>
                <a:lnTo>
                  <a:pt x="948083" y="1717184"/>
                </a:lnTo>
                <a:lnTo>
                  <a:pt x="946614" y="1717353"/>
                </a:lnTo>
                <a:lnTo>
                  <a:pt x="943691" y="1644103"/>
                </a:lnTo>
                <a:lnTo>
                  <a:pt x="961691" y="1643760"/>
                </a:lnTo>
                <a:close/>
                <a:moveTo>
                  <a:pt x="875350" y="1643169"/>
                </a:moveTo>
                <a:lnTo>
                  <a:pt x="893299" y="1644629"/>
                </a:lnTo>
                <a:lnTo>
                  <a:pt x="889341" y="1723945"/>
                </a:lnTo>
                <a:lnTo>
                  <a:pt x="871214" y="1726031"/>
                </a:lnTo>
                <a:lnTo>
                  <a:pt x="875350" y="1643169"/>
                </a:lnTo>
                <a:close/>
                <a:moveTo>
                  <a:pt x="1029699" y="1636826"/>
                </a:moveTo>
                <a:lnTo>
                  <a:pt x="1040815" y="1722087"/>
                </a:lnTo>
                <a:lnTo>
                  <a:pt x="1022537" y="1721121"/>
                </a:lnTo>
                <a:lnTo>
                  <a:pt x="1011828" y="1638982"/>
                </a:lnTo>
                <a:lnTo>
                  <a:pt x="1029699" y="1636826"/>
                </a:lnTo>
                <a:close/>
                <a:moveTo>
                  <a:pt x="807350" y="1636115"/>
                </a:moveTo>
                <a:lnTo>
                  <a:pt x="822430" y="1638864"/>
                </a:lnTo>
                <a:lnTo>
                  <a:pt x="825110" y="1639083"/>
                </a:lnTo>
                <a:lnTo>
                  <a:pt x="811751" y="1734136"/>
                </a:lnTo>
                <a:lnTo>
                  <a:pt x="792774" y="1739833"/>
                </a:lnTo>
                <a:lnTo>
                  <a:pt x="807350" y="1636115"/>
                </a:lnTo>
                <a:close/>
                <a:moveTo>
                  <a:pt x="1096827" y="1624033"/>
                </a:moveTo>
                <a:lnTo>
                  <a:pt x="1121385" y="1734155"/>
                </a:lnTo>
                <a:lnTo>
                  <a:pt x="1101928" y="1729603"/>
                </a:lnTo>
                <a:lnTo>
                  <a:pt x="1079265" y="1627978"/>
                </a:lnTo>
                <a:lnTo>
                  <a:pt x="1096827" y="1624033"/>
                </a:lnTo>
                <a:close/>
                <a:moveTo>
                  <a:pt x="740342" y="1622534"/>
                </a:moveTo>
                <a:lnTo>
                  <a:pt x="749046" y="1625484"/>
                </a:lnTo>
                <a:lnTo>
                  <a:pt x="757767" y="1627074"/>
                </a:lnTo>
                <a:lnTo>
                  <a:pt x="726815" y="1759631"/>
                </a:lnTo>
                <a:lnTo>
                  <a:pt x="706937" y="1765598"/>
                </a:lnTo>
                <a:lnTo>
                  <a:pt x="740342" y="1622534"/>
                </a:lnTo>
                <a:close/>
                <a:moveTo>
                  <a:pt x="1162592" y="1605474"/>
                </a:moveTo>
                <a:lnTo>
                  <a:pt x="1211506" y="1758609"/>
                </a:lnTo>
                <a:lnTo>
                  <a:pt x="1193512" y="1751032"/>
                </a:lnTo>
                <a:lnTo>
                  <a:pt x="1189921" y="1750192"/>
                </a:lnTo>
                <a:lnTo>
                  <a:pt x="1145515" y="1611170"/>
                </a:lnTo>
                <a:lnTo>
                  <a:pt x="1162592" y="1605474"/>
                </a:lnTo>
                <a:close/>
                <a:moveTo>
                  <a:pt x="675637" y="1600604"/>
                </a:moveTo>
                <a:lnTo>
                  <a:pt x="692686" y="1606382"/>
                </a:lnTo>
                <a:lnTo>
                  <a:pt x="641486" y="1761326"/>
                </a:lnTo>
                <a:lnTo>
                  <a:pt x="631383" y="1744623"/>
                </a:lnTo>
                <a:lnTo>
                  <a:pt x="628970" y="1741831"/>
                </a:lnTo>
                <a:lnTo>
                  <a:pt x="675637" y="1600604"/>
                </a:lnTo>
                <a:close/>
                <a:moveTo>
                  <a:pt x="1225916" y="1579868"/>
                </a:moveTo>
                <a:lnTo>
                  <a:pt x="1279540" y="1707080"/>
                </a:lnTo>
                <a:lnTo>
                  <a:pt x="1266966" y="1723591"/>
                </a:lnTo>
                <a:lnTo>
                  <a:pt x="1209837" y="1588066"/>
                </a:lnTo>
                <a:lnTo>
                  <a:pt x="1225916" y="1579868"/>
                </a:lnTo>
                <a:close/>
                <a:moveTo>
                  <a:pt x="610954" y="1578681"/>
                </a:moveTo>
                <a:lnTo>
                  <a:pt x="628059" y="1584478"/>
                </a:lnTo>
                <a:lnTo>
                  <a:pt x="582951" y="1688574"/>
                </a:lnTo>
                <a:lnTo>
                  <a:pt x="569886" y="1673454"/>
                </a:lnTo>
                <a:lnTo>
                  <a:pt x="610954" y="1578681"/>
                </a:lnTo>
                <a:close/>
                <a:moveTo>
                  <a:pt x="1286670" y="1548893"/>
                </a:moveTo>
                <a:lnTo>
                  <a:pt x="1333269" y="1636531"/>
                </a:lnTo>
                <a:lnTo>
                  <a:pt x="1321264" y="1652294"/>
                </a:lnTo>
                <a:lnTo>
                  <a:pt x="1270632" y="1557070"/>
                </a:lnTo>
                <a:lnTo>
                  <a:pt x="1286670" y="1548893"/>
                </a:lnTo>
                <a:close/>
                <a:moveTo>
                  <a:pt x="551444" y="1545001"/>
                </a:moveTo>
                <a:lnTo>
                  <a:pt x="567074" y="1553937"/>
                </a:lnTo>
                <a:lnTo>
                  <a:pt x="524862" y="1631452"/>
                </a:lnTo>
                <a:lnTo>
                  <a:pt x="510642" y="1619926"/>
                </a:lnTo>
                <a:lnTo>
                  <a:pt x="551444" y="1545001"/>
                </a:lnTo>
                <a:close/>
                <a:moveTo>
                  <a:pt x="1346034" y="1515267"/>
                </a:moveTo>
                <a:lnTo>
                  <a:pt x="1390051" y="1582679"/>
                </a:lnTo>
                <a:lnTo>
                  <a:pt x="1376613" y="1595021"/>
                </a:lnTo>
                <a:lnTo>
                  <a:pt x="1331552" y="1526010"/>
                </a:lnTo>
                <a:lnTo>
                  <a:pt x="1333983" y="1524770"/>
                </a:lnTo>
                <a:lnTo>
                  <a:pt x="1346034" y="1515267"/>
                </a:lnTo>
                <a:close/>
                <a:moveTo>
                  <a:pt x="492213" y="1511140"/>
                </a:moveTo>
                <a:lnTo>
                  <a:pt x="507877" y="1520095"/>
                </a:lnTo>
                <a:lnTo>
                  <a:pt x="465615" y="1583429"/>
                </a:lnTo>
                <a:lnTo>
                  <a:pt x="452723" y="1572979"/>
                </a:lnTo>
                <a:lnTo>
                  <a:pt x="451434" y="1572252"/>
                </a:lnTo>
                <a:lnTo>
                  <a:pt x="492213" y="1511140"/>
                </a:lnTo>
                <a:close/>
                <a:moveTo>
                  <a:pt x="1399641" y="1472989"/>
                </a:moveTo>
                <a:lnTo>
                  <a:pt x="1447523" y="1533649"/>
                </a:lnTo>
                <a:lnTo>
                  <a:pt x="1433600" y="1542681"/>
                </a:lnTo>
                <a:lnTo>
                  <a:pt x="1432510" y="1543682"/>
                </a:lnTo>
                <a:lnTo>
                  <a:pt x="1385507" y="1484135"/>
                </a:lnTo>
                <a:lnTo>
                  <a:pt x="1399641" y="1472989"/>
                </a:lnTo>
                <a:close/>
                <a:moveTo>
                  <a:pt x="439084" y="1468240"/>
                </a:moveTo>
                <a:lnTo>
                  <a:pt x="452737" y="1479985"/>
                </a:lnTo>
                <a:lnTo>
                  <a:pt x="401226" y="1543921"/>
                </a:lnTo>
                <a:lnTo>
                  <a:pt x="385335" y="1534955"/>
                </a:lnTo>
                <a:lnTo>
                  <a:pt x="439084" y="1468240"/>
                </a:lnTo>
                <a:close/>
                <a:moveTo>
                  <a:pt x="1452700" y="1430017"/>
                </a:moveTo>
                <a:lnTo>
                  <a:pt x="1511505" y="1492141"/>
                </a:lnTo>
                <a:lnTo>
                  <a:pt x="1496150" y="1502102"/>
                </a:lnTo>
                <a:lnTo>
                  <a:pt x="1439119" y="1441854"/>
                </a:lnTo>
                <a:lnTo>
                  <a:pt x="1449687" y="1433519"/>
                </a:lnTo>
                <a:lnTo>
                  <a:pt x="1452700" y="1430017"/>
                </a:lnTo>
                <a:close/>
                <a:moveTo>
                  <a:pt x="387391" y="1423768"/>
                </a:moveTo>
                <a:lnTo>
                  <a:pt x="401059" y="1435526"/>
                </a:lnTo>
                <a:lnTo>
                  <a:pt x="332463" y="1506560"/>
                </a:lnTo>
                <a:lnTo>
                  <a:pt x="313761" y="1500014"/>
                </a:lnTo>
                <a:lnTo>
                  <a:pt x="387391" y="1423768"/>
                </a:lnTo>
                <a:close/>
                <a:moveTo>
                  <a:pt x="1497274" y="1378205"/>
                </a:moveTo>
                <a:lnTo>
                  <a:pt x="1583781" y="1454547"/>
                </a:lnTo>
                <a:lnTo>
                  <a:pt x="1565364" y="1462300"/>
                </a:lnTo>
                <a:lnTo>
                  <a:pt x="1485535" y="1391850"/>
                </a:lnTo>
                <a:lnTo>
                  <a:pt x="1497274" y="1378205"/>
                </a:lnTo>
                <a:close/>
                <a:moveTo>
                  <a:pt x="342078" y="1372754"/>
                </a:moveTo>
                <a:lnTo>
                  <a:pt x="353236" y="1386902"/>
                </a:lnTo>
                <a:lnTo>
                  <a:pt x="248764" y="1477262"/>
                </a:lnTo>
                <a:lnTo>
                  <a:pt x="229175" y="1470405"/>
                </a:lnTo>
                <a:lnTo>
                  <a:pt x="342078" y="1372754"/>
                </a:lnTo>
                <a:close/>
                <a:moveTo>
                  <a:pt x="1541797" y="1326453"/>
                </a:moveTo>
                <a:lnTo>
                  <a:pt x="1671063" y="1421359"/>
                </a:lnTo>
                <a:lnTo>
                  <a:pt x="1652052" y="1425806"/>
                </a:lnTo>
                <a:lnTo>
                  <a:pt x="1648653" y="1427237"/>
                </a:lnTo>
                <a:lnTo>
                  <a:pt x="1530022" y="1340139"/>
                </a:lnTo>
                <a:lnTo>
                  <a:pt x="1541797" y="1326453"/>
                </a:lnTo>
                <a:close/>
                <a:moveTo>
                  <a:pt x="299862" y="1319225"/>
                </a:moveTo>
                <a:lnTo>
                  <a:pt x="311019" y="1333372"/>
                </a:lnTo>
                <a:lnTo>
                  <a:pt x="178732" y="1428480"/>
                </a:lnTo>
                <a:lnTo>
                  <a:pt x="180377" y="1409027"/>
                </a:lnTo>
                <a:lnTo>
                  <a:pt x="180067" y="1405352"/>
                </a:lnTo>
                <a:lnTo>
                  <a:pt x="299862" y="1319225"/>
                </a:lnTo>
                <a:close/>
                <a:moveTo>
                  <a:pt x="1576542" y="1267609"/>
                </a:moveTo>
                <a:lnTo>
                  <a:pt x="1695816" y="1339681"/>
                </a:lnTo>
                <a:lnTo>
                  <a:pt x="1695348" y="1360430"/>
                </a:lnTo>
                <a:lnTo>
                  <a:pt x="1567606" y="1283241"/>
                </a:lnTo>
                <a:lnTo>
                  <a:pt x="1576542" y="1267609"/>
                </a:lnTo>
                <a:close/>
                <a:moveTo>
                  <a:pt x="263531" y="1261503"/>
                </a:moveTo>
                <a:lnTo>
                  <a:pt x="271723" y="1277570"/>
                </a:lnTo>
                <a:lnTo>
                  <a:pt x="174140" y="1335215"/>
                </a:lnTo>
                <a:lnTo>
                  <a:pt x="172457" y="1315303"/>
                </a:lnTo>
                <a:lnTo>
                  <a:pt x="263531" y="1261503"/>
                </a:lnTo>
                <a:close/>
                <a:moveTo>
                  <a:pt x="1610398" y="1208387"/>
                </a:moveTo>
                <a:lnTo>
                  <a:pt x="1697816" y="1251024"/>
                </a:lnTo>
                <a:lnTo>
                  <a:pt x="1697369" y="1270832"/>
                </a:lnTo>
                <a:lnTo>
                  <a:pt x="1601446" y="1224047"/>
                </a:lnTo>
                <a:lnTo>
                  <a:pt x="1610398" y="1208387"/>
                </a:lnTo>
                <a:close/>
                <a:moveTo>
                  <a:pt x="232566" y="1200770"/>
                </a:moveTo>
                <a:lnTo>
                  <a:pt x="240745" y="1216812"/>
                </a:lnTo>
                <a:lnTo>
                  <a:pt x="160720" y="1254859"/>
                </a:lnTo>
                <a:lnTo>
                  <a:pt x="155991" y="1237178"/>
                </a:lnTo>
                <a:lnTo>
                  <a:pt x="232566" y="1200770"/>
                </a:lnTo>
                <a:close/>
                <a:moveTo>
                  <a:pt x="1634958" y="1144690"/>
                </a:moveTo>
                <a:lnTo>
                  <a:pt x="1712099" y="1174082"/>
                </a:lnTo>
                <a:lnTo>
                  <a:pt x="1708482" y="1191966"/>
                </a:lnTo>
                <a:lnTo>
                  <a:pt x="1629176" y="1161750"/>
                </a:lnTo>
                <a:lnTo>
                  <a:pt x="1634958" y="1144690"/>
                </a:lnTo>
                <a:close/>
                <a:moveTo>
                  <a:pt x="204756" y="1138431"/>
                </a:moveTo>
                <a:lnTo>
                  <a:pt x="210455" y="1155515"/>
                </a:lnTo>
                <a:lnTo>
                  <a:pt x="141015" y="1181182"/>
                </a:lnTo>
                <a:lnTo>
                  <a:pt x="136727" y="1165150"/>
                </a:lnTo>
                <a:lnTo>
                  <a:pt x="136112" y="1163804"/>
                </a:lnTo>
                <a:lnTo>
                  <a:pt x="204756" y="1138431"/>
                </a:lnTo>
                <a:close/>
                <a:moveTo>
                  <a:pt x="1656844" y="1080115"/>
                </a:moveTo>
                <a:lnTo>
                  <a:pt x="1729776" y="1100634"/>
                </a:lnTo>
                <a:lnTo>
                  <a:pt x="1723821" y="1116126"/>
                </a:lnTo>
                <a:lnTo>
                  <a:pt x="1723528" y="1117576"/>
                </a:lnTo>
                <a:lnTo>
                  <a:pt x="1651058" y="1097186"/>
                </a:lnTo>
                <a:lnTo>
                  <a:pt x="1656844" y="1080115"/>
                </a:lnTo>
                <a:close/>
                <a:moveTo>
                  <a:pt x="184625" y="1073110"/>
                </a:moveTo>
                <a:lnTo>
                  <a:pt x="188043" y="1088326"/>
                </a:lnTo>
                <a:lnTo>
                  <a:pt x="188810" y="1090624"/>
                </a:lnTo>
                <a:lnTo>
                  <a:pt x="112145" y="1111372"/>
                </a:lnTo>
                <a:lnTo>
                  <a:pt x="104560" y="1094778"/>
                </a:lnTo>
                <a:lnTo>
                  <a:pt x="184625" y="1073110"/>
                </a:lnTo>
                <a:close/>
                <a:moveTo>
                  <a:pt x="1672722" y="1013691"/>
                </a:moveTo>
                <a:lnTo>
                  <a:pt x="1757141" y="1029446"/>
                </a:lnTo>
                <a:lnTo>
                  <a:pt x="1750574" y="1046531"/>
                </a:lnTo>
                <a:lnTo>
                  <a:pt x="1669493" y="1031399"/>
                </a:lnTo>
                <a:lnTo>
                  <a:pt x="1672722" y="1013691"/>
                </a:lnTo>
                <a:close/>
                <a:moveTo>
                  <a:pt x="170225" y="1006273"/>
                </a:moveTo>
                <a:lnTo>
                  <a:pt x="170936" y="1012170"/>
                </a:lnTo>
                <a:lnTo>
                  <a:pt x="173584" y="1023958"/>
                </a:lnTo>
                <a:lnTo>
                  <a:pt x="78475" y="1040728"/>
                </a:lnTo>
                <a:lnTo>
                  <a:pt x="67193" y="1024440"/>
                </a:lnTo>
                <a:lnTo>
                  <a:pt x="170225" y="1006273"/>
                </a:lnTo>
                <a:close/>
                <a:moveTo>
                  <a:pt x="1681368" y="945892"/>
                </a:moveTo>
                <a:lnTo>
                  <a:pt x="1793516" y="956550"/>
                </a:lnTo>
                <a:lnTo>
                  <a:pt x="1783173" y="973649"/>
                </a:lnTo>
                <a:lnTo>
                  <a:pt x="1679909" y="963835"/>
                </a:lnTo>
                <a:lnTo>
                  <a:pt x="1681368" y="945892"/>
                </a:lnTo>
                <a:close/>
                <a:moveTo>
                  <a:pt x="162034" y="938372"/>
                </a:moveTo>
                <a:lnTo>
                  <a:pt x="164191" y="956254"/>
                </a:lnTo>
                <a:lnTo>
                  <a:pt x="27981" y="967828"/>
                </a:lnTo>
                <a:lnTo>
                  <a:pt x="16164" y="950767"/>
                </a:lnTo>
                <a:lnTo>
                  <a:pt x="162034" y="938372"/>
                </a:lnTo>
                <a:close/>
                <a:moveTo>
                  <a:pt x="1683923" y="877596"/>
                </a:moveTo>
                <a:lnTo>
                  <a:pt x="1844621" y="878397"/>
                </a:lnTo>
                <a:lnTo>
                  <a:pt x="1831855" y="893168"/>
                </a:lnTo>
                <a:lnTo>
                  <a:pt x="1829946" y="896325"/>
                </a:lnTo>
                <a:lnTo>
                  <a:pt x="1684266" y="895598"/>
                </a:lnTo>
                <a:lnTo>
                  <a:pt x="1683923" y="877596"/>
                </a:lnTo>
                <a:close/>
                <a:moveTo>
                  <a:pt x="14676" y="869273"/>
                </a:moveTo>
                <a:lnTo>
                  <a:pt x="160356" y="869999"/>
                </a:lnTo>
                <a:lnTo>
                  <a:pt x="160699" y="888001"/>
                </a:lnTo>
                <a:lnTo>
                  <a:pt x="0" y="887200"/>
                </a:lnTo>
                <a:lnTo>
                  <a:pt x="12766" y="872429"/>
                </a:lnTo>
                <a:lnTo>
                  <a:pt x="14676" y="869273"/>
                </a:lnTo>
                <a:close/>
                <a:moveTo>
                  <a:pt x="1816638" y="797770"/>
                </a:moveTo>
                <a:lnTo>
                  <a:pt x="1828455" y="814831"/>
                </a:lnTo>
                <a:lnTo>
                  <a:pt x="1682588" y="827227"/>
                </a:lnTo>
                <a:lnTo>
                  <a:pt x="1680430" y="809345"/>
                </a:lnTo>
                <a:lnTo>
                  <a:pt x="1816638" y="797770"/>
                </a:lnTo>
                <a:close/>
                <a:moveTo>
                  <a:pt x="61447" y="791950"/>
                </a:moveTo>
                <a:lnTo>
                  <a:pt x="164713" y="801763"/>
                </a:lnTo>
                <a:lnTo>
                  <a:pt x="163253" y="819705"/>
                </a:lnTo>
                <a:lnTo>
                  <a:pt x="51105" y="809048"/>
                </a:lnTo>
                <a:lnTo>
                  <a:pt x="61447" y="791950"/>
                </a:lnTo>
                <a:close/>
                <a:moveTo>
                  <a:pt x="1766145" y="724870"/>
                </a:moveTo>
                <a:lnTo>
                  <a:pt x="1777427" y="741158"/>
                </a:lnTo>
                <a:lnTo>
                  <a:pt x="1674396" y="759325"/>
                </a:lnTo>
                <a:lnTo>
                  <a:pt x="1673685" y="753429"/>
                </a:lnTo>
                <a:lnTo>
                  <a:pt x="1670588" y="741719"/>
                </a:lnTo>
                <a:lnTo>
                  <a:pt x="1766145" y="724870"/>
                </a:lnTo>
                <a:close/>
                <a:moveTo>
                  <a:pt x="94047" y="719066"/>
                </a:moveTo>
                <a:lnTo>
                  <a:pt x="175129" y="734198"/>
                </a:lnTo>
                <a:lnTo>
                  <a:pt x="171900" y="751906"/>
                </a:lnTo>
                <a:lnTo>
                  <a:pt x="87480" y="736151"/>
                </a:lnTo>
                <a:lnTo>
                  <a:pt x="94047" y="719066"/>
                </a:lnTo>
                <a:close/>
                <a:moveTo>
                  <a:pt x="1732475" y="654227"/>
                </a:moveTo>
                <a:lnTo>
                  <a:pt x="1740061" y="670822"/>
                </a:lnTo>
                <a:lnTo>
                  <a:pt x="1657733" y="693102"/>
                </a:lnTo>
                <a:lnTo>
                  <a:pt x="1653131" y="675699"/>
                </a:lnTo>
                <a:lnTo>
                  <a:pt x="1732475" y="654227"/>
                </a:lnTo>
                <a:close/>
                <a:moveTo>
                  <a:pt x="121093" y="648021"/>
                </a:moveTo>
                <a:lnTo>
                  <a:pt x="193564" y="668412"/>
                </a:lnTo>
                <a:lnTo>
                  <a:pt x="187778" y="685483"/>
                </a:lnTo>
                <a:lnTo>
                  <a:pt x="114844" y="664963"/>
                </a:lnTo>
                <a:lnTo>
                  <a:pt x="120799" y="649471"/>
                </a:lnTo>
                <a:lnTo>
                  <a:pt x="121093" y="648021"/>
                </a:lnTo>
                <a:close/>
                <a:moveTo>
                  <a:pt x="1703605" y="584417"/>
                </a:moveTo>
                <a:lnTo>
                  <a:pt x="1707892" y="600448"/>
                </a:lnTo>
                <a:lnTo>
                  <a:pt x="1708508" y="601796"/>
                </a:lnTo>
                <a:lnTo>
                  <a:pt x="1640259" y="627022"/>
                </a:lnTo>
                <a:lnTo>
                  <a:pt x="1639049" y="622444"/>
                </a:lnTo>
                <a:lnTo>
                  <a:pt x="1633440" y="610352"/>
                </a:lnTo>
                <a:lnTo>
                  <a:pt x="1703605" y="584417"/>
                </a:lnTo>
                <a:close/>
                <a:moveTo>
                  <a:pt x="136138" y="573632"/>
                </a:moveTo>
                <a:lnTo>
                  <a:pt x="215446" y="603848"/>
                </a:lnTo>
                <a:lnTo>
                  <a:pt x="209665" y="620908"/>
                </a:lnTo>
                <a:lnTo>
                  <a:pt x="132521" y="591516"/>
                </a:lnTo>
                <a:lnTo>
                  <a:pt x="136138" y="573632"/>
                </a:lnTo>
                <a:close/>
                <a:moveTo>
                  <a:pt x="1683900" y="510741"/>
                </a:moveTo>
                <a:lnTo>
                  <a:pt x="1688629" y="528423"/>
                </a:lnTo>
                <a:lnTo>
                  <a:pt x="1612275" y="564725"/>
                </a:lnTo>
                <a:lnTo>
                  <a:pt x="1604700" y="548396"/>
                </a:lnTo>
                <a:lnTo>
                  <a:pt x="1683900" y="510741"/>
                </a:lnTo>
                <a:close/>
                <a:moveTo>
                  <a:pt x="147252" y="494765"/>
                </a:moveTo>
                <a:lnTo>
                  <a:pt x="243177" y="541551"/>
                </a:lnTo>
                <a:lnTo>
                  <a:pt x="234224" y="557210"/>
                </a:lnTo>
                <a:lnTo>
                  <a:pt x="146805" y="514573"/>
                </a:lnTo>
                <a:lnTo>
                  <a:pt x="147252" y="494765"/>
                </a:lnTo>
                <a:close/>
                <a:moveTo>
                  <a:pt x="1670480" y="430384"/>
                </a:moveTo>
                <a:lnTo>
                  <a:pt x="1672163" y="450296"/>
                </a:lnTo>
                <a:lnTo>
                  <a:pt x="1583450" y="502701"/>
                </a:lnTo>
                <a:lnTo>
                  <a:pt x="1573155" y="487877"/>
                </a:lnTo>
                <a:lnTo>
                  <a:pt x="1670480" y="430384"/>
                </a:lnTo>
                <a:close/>
                <a:moveTo>
                  <a:pt x="149273" y="405169"/>
                </a:moveTo>
                <a:lnTo>
                  <a:pt x="277016" y="482359"/>
                </a:lnTo>
                <a:lnTo>
                  <a:pt x="268080" y="497989"/>
                </a:lnTo>
                <a:lnTo>
                  <a:pt x="148805" y="425916"/>
                </a:lnTo>
                <a:lnTo>
                  <a:pt x="149273" y="405169"/>
                </a:lnTo>
                <a:close/>
                <a:moveTo>
                  <a:pt x="195968" y="338361"/>
                </a:moveTo>
                <a:lnTo>
                  <a:pt x="314600" y="425459"/>
                </a:lnTo>
                <a:lnTo>
                  <a:pt x="302826" y="439145"/>
                </a:lnTo>
                <a:lnTo>
                  <a:pt x="173559" y="344239"/>
                </a:lnTo>
                <a:lnTo>
                  <a:pt x="192568" y="339792"/>
                </a:lnTo>
                <a:lnTo>
                  <a:pt x="195968" y="338361"/>
                </a:lnTo>
                <a:close/>
                <a:moveTo>
                  <a:pt x="1665887" y="337121"/>
                </a:moveTo>
                <a:lnTo>
                  <a:pt x="1664242" y="356571"/>
                </a:lnTo>
                <a:lnTo>
                  <a:pt x="1664553" y="360248"/>
                </a:lnTo>
                <a:lnTo>
                  <a:pt x="1544474" y="446578"/>
                </a:lnTo>
                <a:lnTo>
                  <a:pt x="1534206" y="431793"/>
                </a:lnTo>
                <a:lnTo>
                  <a:pt x="1665887" y="337121"/>
                </a:lnTo>
                <a:close/>
                <a:moveTo>
                  <a:pt x="279257" y="303297"/>
                </a:moveTo>
                <a:lnTo>
                  <a:pt x="359087" y="373748"/>
                </a:lnTo>
                <a:lnTo>
                  <a:pt x="347347" y="387394"/>
                </a:lnTo>
                <a:lnTo>
                  <a:pt x="260839" y="311051"/>
                </a:lnTo>
                <a:lnTo>
                  <a:pt x="279257" y="303297"/>
                </a:lnTo>
                <a:close/>
                <a:moveTo>
                  <a:pt x="1595859" y="288337"/>
                </a:moveTo>
                <a:lnTo>
                  <a:pt x="1615448" y="295194"/>
                </a:lnTo>
                <a:lnTo>
                  <a:pt x="1504459" y="391189"/>
                </a:lnTo>
                <a:lnTo>
                  <a:pt x="1491819" y="378322"/>
                </a:lnTo>
                <a:lnTo>
                  <a:pt x="1595859" y="288337"/>
                </a:lnTo>
                <a:close/>
                <a:moveTo>
                  <a:pt x="348471" y="263494"/>
                </a:moveTo>
                <a:lnTo>
                  <a:pt x="405504" y="323744"/>
                </a:lnTo>
                <a:lnTo>
                  <a:pt x="394934" y="332080"/>
                </a:lnTo>
                <a:lnTo>
                  <a:pt x="391923" y="335581"/>
                </a:lnTo>
                <a:lnTo>
                  <a:pt x="333116" y="273456"/>
                </a:lnTo>
                <a:lnTo>
                  <a:pt x="348471" y="263494"/>
                </a:lnTo>
                <a:close/>
                <a:moveTo>
                  <a:pt x="1512159" y="259039"/>
                </a:moveTo>
                <a:lnTo>
                  <a:pt x="1530860" y="265585"/>
                </a:lnTo>
                <a:lnTo>
                  <a:pt x="1456606" y="342477"/>
                </a:lnTo>
                <a:lnTo>
                  <a:pt x="1443988" y="329632"/>
                </a:lnTo>
                <a:lnTo>
                  <a:pt x="1512159" y="259039"/>
                </a:lnTo>
                <a:close/>
                <a:moveTo>
                  <a:pt x="412110" y="221916"/>
                </a:moveTo>
                <a:lnTo>
                  <a:pt x="459114" y="281464"/>
                </a:lnTo>
                <a:lnTo>
                  <a:pt x="444980" y="292610"/>
                </a:lnTo>
                <a:lnTo>
                  <a:pt x="397097" y="231949"/>
                </a:lnTo>
                <a:lnTo>
                  <a:pt x="411019" y="222917"/>
                </a:lnTo>
                <a:lnTo>
                  <a:pt x="412110" y="221916"/>
                </a:lnTo>
                <a:close/>
                <a:moveTo>
                  <a:pt x="1443396" y="221678"/>
                </a:moveTo>
                <a:lnTo>
                  <a:pt x="1459286" y="230644"/>
                </a:lnTo>
                <a:lnTo>
                  <a:pt x="1406897" y="295670"/>
                </a:lnTo>
                <a:lnTo>
                  <a:pt x="1392300" y="285098"/>
                </a:lnTo>
                <a:lnTo>
                  <a:pt x="1443396" y="221678"/>
                </a:lnTo>
                <a:close/>
                <a:moveTo>
                  <a:pt x="1379005" y="182170"/>
                </a:moveTo>
                <a:lnTo>
                  <a:pt x="1391896" y="192619"/>
                </a:lnTo>
                <a:lnTo>
                  <a:pt x="1393186" y="193347"/>
                </a:lnTo>
                <a:lnTo>
                  <a:pt x="1351622" y="255636"/>
                </a:lnTo>
                <a:lnTo>
                  <a:pt x="1337034" y="245070"/>
                </a:lnTo>
                <a:lnTo>
                  <a:pt x="1379005" y="182170"/>
                </a:lnTo>
                <a:close/>
                <a:moveTo>
                  <a:pt x="468008" y="170577"/>
                </a:moveTo>
                <a:lnTo>
                  <a:pt x="513069" y="239589"/>
                </a:lnTo>
                <a:lnTo>
                  <a:pt x="510638" y="240828"/>
                </a:lnTo>
                <a:lnTo>
                  <a:pt x="498586" y="250333"/>
                </a:lnTo>
                <a:lnTo>
                  <a:pt x="454568" y="182920"/>
                </a:lnTo>
                <a:lnTo>
                  <a:pt x="468008" y="170577"/>
                </a:lnTo>
                <a:close/>
                <a:moveTo>
                  <a:pt x="1319759" y="134146"/>
                </a:moveTo>
                <a:lnTo>
                  <a:pt x="1333978" y="145672"/>
                </a:lnTo>
                <a:lnTo>
                  <a:pt x="1294036" y="219016"/>
                </a:lnTo>
                <a:lnTo>
                  <a:pt x="1277891" y="211027"/>
                </a:lnTo>
                <a:lnTo>
                  <a:pt x="1319759" y="134146"/>
                </a:lnTo>
                <a:close/>
                <a:moveTo>
                  <a:pt x="523355" y="113305"/>
                </a:moveTo>
                <a:lnTo>
                  <a:pt x="573987" y="208530"/>
                </a:lnTo>
                <a:lnTo>
                  <a:pt x="557949" y="216707"/>
                </a:lnTo>
                <a:lnTo>
                  <a:pt x="511350" y="129068"/>
                </a:lnTo>
                <a:lnTo>
                  <a:pt x="523355" y="113305"/>
                </a:lnTo>
                <a:close/>
                <a:moveTo>
                  <a:pt x="1261668" y="77024"/>
                </a:moveTo>
                <a:lnTo>
                  <a:pt x="1274734" y="92144"/>
                </a:lnTo>
                <a:lnTo>
                  <a:pt x="1232872" y="188750"/>
                </a:lnTo>
                <a:lnTo>
                  <a:pt x="1216718" y="180757"/>
                </a:lnTo>
                <a:lnTo>
                  <a:pt x="1261668" y="77024"/>
                </a:lnTo>
                <a:close/>
                <a:moveTo>
                  <a:pt x="879964" y="47539"/>
                </a:moveTo>
                <a:lnTo>
                  <a:pt x="896536" y="48415"/>
                </a:lnTo>
                <a:lnTo>
                  <a:pt x="898006" y="48246"/>
                </a:lnTo>
                <a:lnTo>
                  <a:pt x="900930" y="121496"/>
                </a:lnTo>
                <a:lnTo>
                  <a:pt x="882930" y="121839"/>
                </a:lnTo>
                <a:lnTo>
                  <a:pt x="879964" y="47539"/>
                </a:lnTo>
                <a:close/>
                <a:moveTo>
                  <a:pt x="803804" y="43511"/>
                </a:moveTo>
                <a:lnTo>
                  <a:pt x="822082" y="44478"/>
                </a:lnTo>
                <a:lnTo>
                  <a:pt x="832792" y="126618"/>
                </a:lnTo>
                <a:lnTo>
                  <a:pt x="814920" y="128774"/>
                </a:lnTo>
                <a:lnTo>
                  <a:pt x="803804" y="43511"/>
                </a:lnTo>
                <a:close/>
                <a:moveTo>
                  <a:pt x="577653" y="42008"/>
                </a:moveTo>
                <a:lnTo>
                  <a:pt x="634782" y="177534"/>
                </a:lnTo>
                <a:lnTo>
                  <a:pt x="618704" y="185731"/>
                </a:lnTo>
                <a:lnTo>
                  <a:pt x="565079" y="58518"/>
                </a:lnTo>
                <a:lnTo>
                  <a:pt x="577653" y="42008"/>
                </a:lnTo>
                <a:close/>
                <a:moveTo>
                  <a:pt x="973404" y="39567"/>
                </a:moveTo>
                <a:lnTo>
                  <a:pt x="969228" y="123258"/>
                </a:lnTo>
                <a:lnTo>
                  <a:pt x="951312" y="121130"/>
                </a:lnTo>
                <a:lnTo>
                  <a:pt x="955278" y="41654"/>
                </a:lnTo>
                <a:lnTo>
                  <a:pt x="973404" y="39567"/>
                </a:lnTo>
                <a:close/>
                <a:moveTo>
                  <a:pt x="723233" y="31443"/>
                </a:moveTo>
                <a:lnTo>
                  <a:pt x="742691" y="35995"/>
                </a:lnTo>
                <a:lnTo>
                  <a:pt x="765354" y="137622"/>
                </a:lnTo>
                <a:lnTo>
                  <a:pt x="747791" y="141567"/>
                </a:lnTo>
                <a:lnTo>
                  <a:pt x="723233" y="31443"/>
                </a:lnTo>
                <a:close/>
                <a:moveTo>
                  <a:pt x="1051847" y="25765"/>
                </a:moveTo>
                <a:lnTo>
                  <a:pt x="1037014" y="131308"/>
                </a:lnTo>
                <a:lnTo>
                  <a:pt x="1019135" y="129184"/>
                </a:lnTo>
                <a:lnTo>
                  <a:pt x="1032869" y="31462"/>
                </a:lnTo>
                <a:lnTo>
                  <a:pt x="1051847" y="25765"/>
                </a:lnTo>
                <a:close/>
                <a:moveTo>
                  <a:pt x="633115" y="6990"/>
                </a:moveTo>
                <a:lnTo>
                  <a:pt x="651107" y="14566"/>
                </a:lnTo>
                <a:lnTo>
                  <a:pt x="654699" y="15406"/>
                </a:lnTo>
                <a:lnTo>
                  <a:pt x="699105" y="154429"/>
                </a:lnTo>
                <a:lnTo>
                  <a:pt x="682029" y="160125"/>
                </a:lnTo>
                <a:lnTo>
                  <a:pt x="633115" y="6990"/>
                </a:lnTo>
                <a:close/>
                <a:moveTo>
                  <a:pt x="1203134" y="4273"/>
                </a:moveTo>
                <a:lnTo>
                  <a:pt x="1213236" y="20976"/>
                </a:lnTo>
                <a:lnTo>
                  <a:pt x="1215649" y="23769"/>
                </a:lnTo>
                <a:lnTo>
                  <a:pt x="1169442" y="163605"/>
                </a:lnTo>
                <a:lnTo>
                  <a:pt x="1152188" y="158449"/>
                </a:lnTo>
                <a:lnTo>
                  <a:pt x="1203134" y="4273"/>
                </a:lnTo>
                <a:close/>
                <a:moveTo>
                  <a:pt x="1137683" y="0"/>
                </a:moveTo>
                <a:lnTo>
                  <a:pt x="1104046" y="144062"/>
                </a:lnTo>
                <a:lnTo>
                  <a:pt x="1086767" y="138898"/>
                </a:lnTo>
                <a:lnTo>
                  <a:pt x="1117806" y="5966"/>
                </a:lnTo>
                <a:lnTo>
                  <a:pt x="1137683" y="0"/>
                </a:lnTo>
                <a:close/>
              </a:path>
            </a:pathLst>
          </a:custGeom>
          <a:solidFill>
            <a:srgbClr val="b9cde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 name="MH_SubTitle_2"/>
          <p:cNvSpPr/>
          <p:nvPr/>
        </p:nvSpPr>
        <p:spPr>
          <a:xfrm>
            <a:off x="5584680" y="2781360"/>
            <a:ext cx="1766880" cy="1768320"/>
          </a:xfrm>
          <a:prstGeom prst="pi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双边市场：</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价格结构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跨边网络外部性观</a:t>
            </a:r>
            <a:endParaRPr b="0" lang="en-US" sz="1800" spc="-1" strike="noStrike">
              <a:solidFill>
                <a:srgbClr val="000000"/>
              </a:solidFill>
              <a:latin typeface="Arial"/>
            </a:endParaRPr>
          </a:p>
        </p:txBody>
      </p:sp>
      <p:sp>
        <p:nvSpPr>
          <p:cNvPr id="590" name="MH_Other_4"/>
          <p:cNvSpPr/>
          <p:nvPr/>
        </p:nvSpPr>
        <p:spPr>
          <a:xfrm>
            <a:off x="5759280" y="2781360"/>
            <a:ext cx="1411560" cy="368280"/>
          </a:xfrm>
          <a:prstGeom prst="pi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02</a:t>
            </a:r>
            <a:endParaRPr b="0" lang="en-US" sz="2400" spc="-1" strike="noStrike">
              <a:solidFill>
                <a:srgbClr val="000000"/>
              </a:solidFill>
              <a:latin typeface="Arial"/>
            </a:endParaRPr>
          </a:p>
        </p:txBody>
      </p:sp>
      <p:sp>
        <p:nvSpPr>
          <p:cNvPr id="591" name="标题 1"/>
          <p:cNvSpPr/>
          <p:nvPr/>
        </p:nvSpPr>
        <p:spPr>
          <a:xfrm>
            <a:off x="576360" y="297000"/>
            <a:ext cx="70200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第三节 双边市场</a:t>
            </a:r>
            <a:endParaRPr b="0" lang="en-US" sz="3200" spc="-1" strike="noStrike">
              <a:solidFill>
                <a:srgbClr val="000000"/>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F9E33-E050-492D-AE15-444047F52390}"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593" name="Group 128"/>
          <p:cNvGrpSpPr/>
          <p:nvPr/>
        </p:nvGrpSpPr>
        <p:grpSpPr>
          <a:xfrm>
            <a:off x="6762600" y="2451240"/>
            <a:ext cx="648000" cy="453960"/>
            <a:chOff x="6762600" y="2451240"/>
            <a:chExt cx="648000" cy="453960"/>
          </a:xfrm>
        </p:grpSpPr>
        <p:sp>
          <p:nvSpPr>
            <p:cNvPr id="594" name="AutoShape 129"/>
            <p:cNvSpPr/>
            <p:nvPr/>
          </p:nvSpPr>
          <p:spPr>
            <a:xfrm>
              <a:off x="7050240" y="259416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AutoShape 130"/>
            <p:cNvSpPr/>
            <p:nvPr/>
          </p:nvSpPr>
          <p:spPr>
            <a:xfrm>
              <a:off x="6762600" y="245124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6" name="AutoShape 26"/>
          <p:cNvSpPr/>
          <p:nvPr/>
        </p:nvSpPr>
        <p:spPr>
          <a:xfrm>
            <a:off x="79056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AutoShape 78"/>
          <p:cNvSpPr/>
          <p:nvPr/>
        </p:nvSpPr>
        <p:spPr>
          <a:xfrm>
            <a:off x="46656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9" name="组合 127"/>
          <p:cNvGrpSpPr/>
          <p:nvPr/>
        </p:nvGrpSpPr>
        <p:grpSpPr>
          <a:xfrm>
            <a:off x="250920" y="324000"/>
            <a:ext cx="264960" cy="417240"/>
            <a:chOff x="250920" y="324000"/>
            <a:chExt cx="264960" cy="417240"/>
          </a:xfrm>
        </p:grpSpPr>
        <p:sp>
          <p:nvSpPr>
            <p:cNvPr id="600"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3" name="组合 10"/>
          <p:cNvGrpSpPr/>
          <p:nvPr/>
        </p:nvGrpSpPr>
        <p:grpSpPr>
          <a:xfrm>
            <a:off x="1224000" y="944640"/>
            <a:ext cx="7128000" cy="647640"/>
            <a:chOff x="1224000" y="944640"/>
            <a:chExt cx="7128000" cy="647640"/>
          </a:xfrm>
        </p:grpSpPr>
        <p:sp>
          <p:nvSpPr>
            <p:cNvPr id="604" name="TextBox 11"/>
            <p:cNvSpPr/>
            <p:nvPr/>
          </p:nvSpPr>
          <p:spPr>
            <a:xfrm>
              <a:off x="1482480" y="944640"/>
              <a:ext cx="686952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特征</a:t>
              </a:r>
              <a:endParaRPr b="0" lang="en-US" sz="1800" spc="-1" strike="noStrike">
                <a:solidFill>
                  <a:srgbClr val="000000"/>
                </a:solidFill>
                <a:latin typeface="Arial"/>
              </a:endParaRPr>
            </a:p>
          </p:txBody>
        </p:sp>
        <p:sp>
          <p:nvSpPr>
            <p:cNvPr id="605" name="直接连接符 3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流程图: 联系 13"/>
            <p:cNvSpPr/>
            <p:nvPr/>
          </p:nvSpPr>
          <p:spPr>
            <a:xfrm>
              <a:off x="1224000" y="121284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607" name="直接连接符 3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8"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9"/>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21"/>
          <p:cNvSpPr/>
          <p:nvPr/>
        </p:nvSpPr>
        <p:spPr>
          <a:xfrm>
            <a:off x="0" y="-17136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标题 1"/>
          <p:cNvSpPr/>
          <p:nvPr/>
        </p:nvSpPr>
        <p:spPr>
          <a:xfrm>
            <a:off x="576360" y="297000"/>
            <a:ext cx="70200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第三节 双边市场</a:t>
            </a:r>
            <a:endParaRPr b="0" lang="en-US" sz="3200" spc="-1" strike="noStrike">
              <a:solidFill>
                <a:srgbClr val="000000"/>
              </a:solidFill>
              <a:latin typeface="Arial"/>
            </a:endParaRPr>
          </a:p>
        </p:txBody>
      </p:sp>
      <p:sp>
        <p:nvSpPr>
          <p:cNvPr id="614" name="MH_Other_1"/>
          <p:cNvSpPr/>
          <p:nvPr/>
        </p:nvSpPr>
        <p:spPr>
          <a:xfrm>
            <a:off x="1979640" y="2241720"/>
            <a:ext cx="2251080" cy="334800"/>
          </a:xfrm>
          <a:prstGeom prst="pie">
            <a:avLst/>
          </a:prstGeom>
          <a:solidFill>
            <a:srgbClr val="4f81bd"/>
          </a:solidFill>
          <a:ln w="0">
            <a:noFill/>
          </a:ln>
        </p:spPr>
        <p:style>
          <a:lnRef idx="0"/>
          <a:fillRef idx="0"/>
          <a:effectRef idx="0"/>
          <a:fontRef idx="minor"/>
        </p:style>
        <p:txBody>
          <a:bodyPr lIns="36000" rIns="90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01</a:t>
            </a:r>
            <a:endParaRPr b="0" lang="en-US" sz="1800" spc="-1" strike="noStrike">
              <a:solidFill>
                <a:srgbClr val="000000"/>
              </a:solidFill>
              <a:latin typeface="Arial"/>
            </a:endParaRPr>
          </a:p>
        </p:txBody>
      </p:sp>
      <p:sp>
        <p:nvSpPr>
          <p:cNvPr id="615" name="MH_SubTitle_1"/>
          <p:cNvSpPr/>
          <p:nvPr/>
        </p:nvSpPr>
        <p:spPr>
          <a:xfrm>
            <a:off x="2303640" y="1916280"/>
            <a:ext cx="4829040" cy="59040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76092"/>
                </a:solidFill>
                <a:latin typeface="Calibri"/>
              </a:rPr>
              <a:t>双边用户对平台需求具有互动性</a:t>
            </a:r>
            <a:endParaRPr b="0" lang="en-US" sz="1800" spc="-1" strike="noStrike">
              <a:solidFill>
                <a:srgbClr val="000000"/>
              </a:solidFill>
              <a:latin typeface="Arial"/>
            </a:endParaRPr>
          </a:p>
        </p:txBody>
      </p:sp>
      <p:sp>
        <p:nvSpPr>
          <p:cNvPr id="616" name="MH_Other_2"/>
          <p:cNvSpPr/>
          <p:nvPr/>
        </p:nvSpPr>
        <p:spPr>
          <a:xfrm>
            <a:off x="1979640" y="3968640"/>
            <a:ext cx="2251080" cy="335160"/>
          </a:xfrm>
          <a:prstGeom prst="pie">
            <a:avLst/>
          </a:prstGeom>
          <a:solidFill>
            <a:srgbClr val="9bbb59"/>
          </a:solidFill>
          <a:ln w="0">
            <a:noFill/>
          </a:ln>
        </p:spPr>
        <p:style>
          <a:lnRef idx="0"/>
          <a:fillRef idx="0"/>
          <a:effectRef idx="0"/>
          <a:fontRef idx="minor"/>
        </p:style>
        <p:txBody>
          <a:bodyPr lIns="36000" rIns="90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03</a:t>
            </a:r>
            <a:endParaRPr b="0" lang="en-US" sz="1800" spc="-1" strike="noStrike">
              <a:solidFill>
                <a:srgbClr val="000000"/>
              </a:solidFill>
              <a:latin typeface="Arial"/>
            </a:endParaRPr>
          </a:p>
        </p:txBody>
      </p:sp>
      <p:sp>
        <p:nvSpPr>
          <p:cNvPr id="617" name="MH_SubTitle_3"/>
          <p:cNvSpPr/>
          <p:nvPr/>
        </p:nvSpPr>
        <p:spPr>
          <a:xfrm>
            <a:off x="2411280" y="3537000"/>
            <a:ext cx="4829400" cy="59040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7933c"/>
                </a:solidFill>
                <a:latin typeface="Calibri"/>
              </a:rPr>
              <a:t>顾双边用户归属复杂</a:t>
            </a:r>
            <a:endParaRPr b="0" lang="en-US" sz="1800" spc="-1" strike="noStrike">
              <a:solidFill>
                <a:srgbClr val="000000"/>
              </a:solidFill>
              <a:latin typeface="Arial"/>
            </a:endParaRPr>
          </a:p>
        </p:txBody>
      </p:sp>
      <p:sp>
        <p:nvSpPr>
          <p:cNvPr id="618" name="MH_Other_4"/>
          <p:cNvSpPr/>
          <p:nvPr/>
        </p:nvSpPr>
        <p:spPr>
          <a:xfrm>
            <a:off x="5283360" y="3152880"/>
            <a:ext cx="2249280" cy="336600"/>
          </a:xfrm>
          <a:prstGeom prst="pie">
            <a:avLst/>
          </a:prstGeom>
          <a:solidFill>
            <a:srgbClr val="c0504d"/>
          </a:solidFill>
          <a:ln w="0">
            <a:noFill/>
          </a:ln>
        </p:spPr>
        <p:style>
          <a:lnRef idx="0"/>
          <a:fillRef idx="0"/>
          <a:effectRef idx="0"/>
          <a:fontRef idx="minor"/>
        </p:style>
        <p:txBody>
          <a:bodyPr lIns="90000" rIns="36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02</a:t>
            </a:r>
            <a:endParaRPr b="0" lang="en-US" sz="1800" spc="-1" strike="noStrike">
              <a:solidFill>
                <a:srgbClr val="000000"/>
              </a:solidFill>
              <a:latin typeface="Arial"/>
            </a:endParaRPr>
          </a:p>
        </p:txBody>
      </p:sp>
      <p:sp>
        <p:nvSpPr>
          <p:cNvPr id="619" name="MH_SubTitle_2"/>
          <p:cNvSpPr/>
          <p:nvPr/>
        </p:nvSpPr>
        <p:spPr>
          <a:xfrm>
            <a:off x="2411280" y="2781360"/>
            <a:ext cx="4829400" cy="59040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76092"/>
                </a:solidFill>
                <a:latin typeface="Calibri"/>
              </a:rPr>
              <a:t>双边用户之间存在跨边网络外部性</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0" name="Group 128"/>
          <p:cNvGrpSpPr/>
          <p:nvPr/>
        </p:nvGrpSpPr>
        <p:grpSpPr>
          <a:xfrm>
            <a:off x="6870600" y="4827600"/>
            <a:ext cx="647280" cy="453960"/>
            <a:chOff x="6870600" y="4827600"/>
            <a:chExt cx="647280" cy="453960"/>
          </a:xfrm>
        </p:grpSpPr>
        <p:sp>
          <p:nvSpPr>
            <p:cNvPr id="621" name="AutoShape 129"/>
            <p:cNvSpPr/>
            <p:nvPr/>
          </p:nvSpPr>
          <p:spPr>
            <a:xfrm>
              <a:off x="7157880" y="4970520"/>
              <a:ext cx="360000" cy="311040"/>
            </a:xfrm>
            <a:prstGeom prst="hexagon">
              <a:avLst>
                <a:gd name="adj" fmla="val 28935"/>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AutoShape 130"/>
            <p:cNvSpPr/>
            <p:nvPr/>
          </p:nvSpPr>
          <p:spPr>
            <a:xfrm>
              <a:off x="6870600" y="4827600"/>
              <a:ext cx="360000" cy="311040"/>
            </a:xfrm>
            <a:prstGeom prst="hexagon">
              <a:avLst>
                <a:gd name="adj" fmla="val 28935"/>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3" name="MH_Other_1"/>
          <p:cNvSpPr/>
          <p:nvPr/>
        </p:nvSpPr>
        <p:spPr>
          <a:xfrm>
            <a:off x="2087640" y="4618080"/>
            <a:ext cx="2251080" cy="334800"/>
          </a:xfrm>
          <a:prstGeom prst="pie">
            <a:avLst/>
          </a:prstGeom>
          <a:solidFill>
            <a:srgbClr val="ff00ff"/>
          </a:solidFill>
          <a:ln w="0">
            <a:noFill/>
          </a:ln>
        </p:spPr>
        <p:style>
          <a:lnRef idx="0"/>
          <a:fillRef idx="0"/>
          <a:effectRef idx="0"/>
          <a:fontRef idx="minor"/>
        </p:style>
        <p:txBody>
          <a:bodyPr lIns="36000" rIns="90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04</a:t>
            </a:r>
            <a:endParaRPr b="0" lang="en-US" sz="1800" spc="-1" strike="noStrike">
              <a:solidFill>
                <a:srgbClr val="000000"/>
              </a:solidFill>
              <a:latin typeface="Arial"/>
            </a:endParaRPr>
          </a:p>
        </p:txBody>
      </p:sp>
      <p:sp>
        <p:nvSpPr>
          <p:cNvPr id="624" name="MH_SubTitle_1"/>
          <p:cNvSpPr/>
          <p:nvPr/>
        </p:nvSpPr>
        <p:spPr>
          <a:xfrm>
            <a:off x="2411280" y="4292640"/>
            <a:ext cx="4829400" cy="59040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76092"/>
                </a:solidFill>
                <a:latin typeface="Calibri"/>
              </a:rPr>
              <a:t>竞争的多维性</a:t>
            </a:r>
            <a:endParaRPr b="0" lang="en-US" sz="1800" spc="-1" strike="noStrike">
              <a:solidFill>
                <a:srgbClr val="000000"/>
              </a:solidFill>
              <a:latin typeface="Arial"/>
            </a:endParaRPr>
          </a:p>
        </p:txBody>
      </p:sp>
      <p:sp>
        <p:nvSpPr>
          <p:cNvPr id="625" name="MH_Other_4"/>
          <p:cNvSpPr/>
          <p:nvPr/>
        </p:nvSpPr>
        <p:spPr>
          <a:xfrm>
            <a:off x="5391000" y="5529240"/>
            <a:ext cx="2249640" cy="336600"/>
          </a:xfrm>
          <a:prstGeom prst="pie">
            <a:avLst/>
          </a:prstGeom>
          <a:solidFill>
            <a:srgbClr val="ff0000"/>
          </a:solidFill>
          <a:ln w="0">
            <a:noFill/>
          </a:ln>
        </p:spPr>
        <p:style>
          <a:lnRef idx="0"/>
          <a:fillRef idx="0"/>
          <a:effectRef idx="0"/>
          <a:fontRef idx="minor"/>
        </p:style>
        <p:txBody>
          <a:bodyPr lIns="90000" rIns="36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05</a:t>
            </a:r>
            <a:endParaRPr b="0" lang="en-US" sz="1800" spc="-1" strike="noStrike">
              <a:solidFill>
                <a:srgbClr val="000000"/>
              </a:solidFill>
              <a:latin typeface="Arial"/>
            </a:endParaRPr>
          </a:p>
        </p:txBody>
      </p:sp>
      <p:sp>
        <p:nvSpPr>
          <p:cNvPr id="626" name="MH_SubTitle_2"/>
          <p:cNvSpPr/>
          <p:nvPr/>
        </p:nvSpPr>
        <p:spPr>
          <a:xfrm>
            <a:off x="2519280" y="5157720"/>
            <a:ext cx="4829400" cy="59076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76092"/>
                </a:solidFill>
                <a:latin typeface="Calibri"/>
              </a:rPr>
              <a:t>明显的中间组织特性</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7624B-2A81-457B-B452-D2A3295EA297}"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sp>
        <p:nvSpPr>
          <p:cNvPr id="628" name="AutoShape 26"/>
          <p:cNvSpPr/>
          <p:nvPr/>
        </p:nvSpPr>
        <p:spPr>
          <a:xfrm>
            <a:off x="79056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AutoShape 78"/>
          <p:cNvSpPr/>
          <p:nvPr/>
        </p:nvSpPr>
        <p:spPr>
          <a:xfrm>
            <a:off x="46656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1" name="组合 127"/>
          <p:cNvGrpSpPr/>
          <p:nvPr/>
        </p:nvGrpSpPr>
        <p:grpSpPr>
          <a:xfrm>
            <a:off x="250920" y="324000"/>
            <a:ext cx="264960" cy="417240"/>
            <a:chOff x="250920" y="324000"/>
            <a:chExt cx="264960" cy="417240"/>
          </a:xfrm>
        </p:grpSpPr>
        <p:sp>
          <p:nvSpPr>
            <p:cNvPr id="632"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5" name="组合 10"/>
          <p:cNvGrpSpPr/>
          <p:nvPr/>
        </p:nvGrpSpPr>
        <p:grpSpPr>
          <a:xfrm>
            <a:off x="1224000" y="944640"/>
            <a:ext cx="7128000" cy="647640"/>
            <a:chOff x="1224000" y="944640"/>
            <a:chExt cx="7128000" cy="647640"/>
          </a:xfrm>
        </p:grpSpPr>
        <p:sp>
          <p:nvSpPr>
            <p:cNvPr id="636" name="TextBox 11"/>
            <p:cNvSpPr/>
            <p:nvPr/>
          </p:nvSpPr>
          <p:spPr>
            <a:xfrm>
              <a:off x="1482480" y="944640"/>
              <a:ext cx="686952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价值获取模式</a:t>
              </a:r>
              <a:endParaRPr b="0" lang="en-US" sz="1800" spc="-1" strike="noStrike">
                <a:solidFill>
                  <a:srgbClr val="000000"/>
                </a:solidFill>
                <a:latin typeface="Arial"/>
              </a:endParaRPr>
            </a:p>
          </p:txBody>
        </p:sp>
        <p:sp>
          <p:nvSpPr>
            <p:cNvPr id="637" name="直接连接符 3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流程图: 联系 13"/>
            <p:cNvSpPr/>
            <p:nvPr/>
          </p:nvSpPr>
          <p:spPr>
            <a:xfrm>
              <a:off x="1224000" y="121284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3</a:t>
              </a:r>
              <a:endParaRPr b="0" lang="en-US" sz="1800" spc="-1" strike="noStrike">
                <a:solidFill>
                  <a:srgbClr val="000000"/>
                </a:solidFill>
                <a:latin typeface="Arial"/>
              </a:endParaRPr>
            </a:p>
          </p:txBody>
        </p:sp>
        <p:sp>
          <p:nvSpPr>
            <p:cNvPr id="639" name="直接连接符 3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0"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Rectangle 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9"/>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21"/>
          <p:cNvSpPr/>
          <p:nvPr/>
        </p:nvSpPr>
        <p:spPr>
          <a:xfrm>
            <a:off x="0" y="-17136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标题 1"/>
          <p:cNvSpPr/>
          <p:nvPr/>
        </p:nvSpPr>
        <p:spPr>
          <a:xfrm>
            <a:off x="576360" y="297000"/>
            <a:ext cx="70200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第三节 双边市场</a:t>
            </a:r>
            <a:endParaRPr b="0" lang="en-US" sz="3200" spc="-1" strike="noStrike">
              <a:solidFill>
                <a:srgbClr val="000000"/>
              </a:solidFill>
              <a:latin typeface="Arial"/>
            </a:endParaRPr>
          </a:p>
        </p:txBody>
      </p:sp>
      <p:grpSp>
        <p:nvGrpSpPr>
          <p:cNvPr id="646" name="组合 10"/>
          <p:cNvGrpSpPr/>
          <p:nvPr/>
        </p:nvGrpSpPr>
        <p:grpSpPr>
          <a:xfrm>
            <a:off x="2195640" y="1592280"/>
            <a:ext cx="4537080" cy="444600"/>
            <a:chOff x="2195640" y="1592280"/>
            <a:chExt cx="4537080" cy="444600"/>
          </a:xfrm>
        </p:grpSpPr>
        <p:sp>
          <p:nvSpPr>
            <p:cNvPr id="647" name="TextBox 41"/>
            <p:cNvSpPr/>
            <p:nvPr/>
          </p:nvSpPr>
          <p:spPr>
            <a:xfrm>
              <a:off x="2360520" y="1592280"/>
              <a:ext cx="4372200" cy="4392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向谁收费</a:t>
              </a:r>
              <a:endParaRPr b="0" lang="en-US" sz="1800" spc="-1" strike="noStrike">
                <a:solidFill>
                  <a:srgbClr val="000000"/>
                </a:solidFill>
                <a:latin typeface="Arial"/>
              </a:endParaRPr>
            </a:p>
          </p:txBody>
        </p:sp>
        <p:sp>
          <p:nvSpPr>
            <p:cNvPr id="648" name="直接连接符 42"/>
            <p:cNvSpPr/>
            <p:nvPr/>
          </p:nvSpPr>
          <p:spPr>
            <a:xfrm>
              <a:off x="2373120" y="1818000"/>
              <a:ext cx="0" cy="218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流程图: 联系 44"/>
            <p:cNvSpPr/>
            <p:nvPr/>
          </p:nvSpPr>
          <p:spPr>
            <a:xfrm>
              <a:off x="2195640" y="1807920"/>
              <a:ext cx="331560" cy="8820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15480" bIns="154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650" name="直接连接符 45"/>
            <p:cNvSpPr/>
            <p:nvPr/>
          </p:nvSpPr>
          <p:spPr>
            <a:xfrm>
              <a:off x="2384280" y="20304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组合 15"/>
          <p:cNvGrpSpPr/>
          <p:nvPr/>
        </p:nvGrpSpPr>
        <p:grpSpPr>
          <a:xfrm>
            <a:off x="2195640" y="2349360"/>
            <a:ext cx="4537080" cy="444600"/>
            <a:chOff x="2195640" y="2349360"/>
            <a:chExt cx="4537080" cy="444600"/>
          </a:xfrm>
        </p:grpSpPr>
        <p:sp>
          <p:nvSpPr>
            <p:cNvPr id="652" name="TextBox 47"/>
            <p:cNvSpPr/>
            <p:nvPr/>
          </p:nvSpPr>
          <p:spPr>
            <a:xfrm>
              <a:off x="2360520" y="2349360"/>
              <a:ext cx="4372200" cy="4392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用户的可观测性</a:t>
              </a:r>
              <a:endParaRPr b="0" lang="en-US" sz="1800" spc="-1" strike="noStrike">
                <a:solidFill>
                  <a:srgbClr val="000000"/>
                </a:solidFill>
                <a:latin typeface="Arial"/>
              </a:endParaRPr>
            </a:p>
          </p:txBody>
        </p:sp>
        <p:sp>
          <p:nvSpPr>
            <p:cNvPr id="653" name="直接连接符 48"/>
            <p:cNvSpPr/>
            <p:nvPr/>
          </p:nvSpPr>
          <p:spPr>
            <a:xfrm>
              <a:off x="2373120" y="2575080"/>
              <a:ext cx="0" cy="21888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流程图: 联系 49"/>
            <p:cNvSpPr/>
            <p:nvPr/>
          </p:nvSpPr>
          <p:spPr>
            <a:xfrm>
              <a:off x="2195640" y="2565000"/>
              <a:ext cx="331560" cy="87120"/>
            </a:xfrm>
            <a:prstGeom prst="flowChartConnector">
              <a:avLst/>
            </a:prstGeom>
            <a:solidFill>
              <a:srgbClr val="ffc000"/>
            </a:solidFill>
            <a:ln w="25560">
              <a:solidFill>
                <a:srgbClr val="d9d9d9"/>
              </a:solidFill>
              <a:miter/>
            </a:ln>
          </p:spPr>
          <p:style>
            <a:lnRef idx="0"/>
            <a:fillRef idx="0"/>
            <a:effectRef idx="0"/>
            <a:fontRef idx="minor"/>
          </p:style>
          <p:txBody>
            <a:bodyPr lIns="90000" rIns="90000" tIns="15120" bIns="1512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655" name="直接连接符 50"/>
            <p:cNvSpPr/>
            <p:nvPr/>
          </p:nvSpPr>
          <p:spPr>
            <a:xfrm>
              <a:off x="2384280" y="278532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6" name="组合 20"/>
          <p:cNvGrpSpPr/>
          <p:nvPr/>
        </p:nvGrpSpPr>
        <p:grpSpPr>
          <a:xfrm>
            <a:off x="2195640" y="3105000"/>
            <a:ext cx="4537080" cy="444600"/>
            <a:chOff x="2195640" y="3105000"/>
            <a:chExt cx="4537080" cy="444600"/>
          </a:xfrm>
        </p:grpSpPr>
        <p:sp>
          <p:nvSpPr>
            <p:cNvPr id="657" name="TextBox 52"/>
            <p:cNvSpPr/>
            <p:nvPr/>
          </p:nvSpPr>
          <p:spPr>
            <a:xfrm>
              <a:off x="2360520" y="3105000"/>
              <a:ext cx="4372200" cy="439200"/>
            </a:xfrm>
            <a:prstGeom prst="roundRect">
              <a:avLst>
                <a:gd name="adj" fmla="val 8176"/>
              </a:avLst>
            </a:prstGeom>
            <a:solidFill>
              <a:srgbClr val="ffffff"/>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边际用户的服务成本</a:t>
              </a:r>
              <a:endParaRPr b="0" lang="en-US" sz="1800" spc="-1" strike="noStrike">
                <a:solidFill>
                  <a:srgbClr val="000000"/>
                </a:solidFill>
                <a:latin typeface="Arial"/>
              </a:endParaRPr>
            </a:p>
          </p:txBody>
        </p:sp>
        <p:sp>
          <p:nvSpPr>
            <p:cNvPr id="658" name="直接连接符 53"/>
            <p:cNvSpPr/>
            <p:nvPr/>
          </p:nvSpPr>
          <p:spPr>
            <a:xfrm>
              <a:off x="2373120" y="3330720"/>
              <a:ext cx="0" cy="21888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流程图: 联系 54"/>
            <p:cNvSpPr/>
            <p:nvPr/>
          </p:nvSpPr>
          <p:spPr>
            <a:xfrm>
              <a:off x="2195640" y="3320640"/>
              <a:ext cx="331560" cy="87120"/>
            </a:xfrm>
            <a:prstGeom prst="flowChartConnector">
              <a:avLst/>
            </a:prstGeom>
            <a:solidFill>
              <a:srgbClr val="92d050"/>
            </a:solidFill>
            <a:ln w="25560">
              <a:solidFill>
                <a:srgbClr val="d9d9d9"/>
              </a:solidFill>
              <a:miter/>
            </a:ln>
          </p:spPr>
          <p:style>
            <a:lnRef idx="0"/>
            <a:fillRef idx="0"/>
            <a:effectRef idx="0"/>
            <a:fontRef idx="minor"/>
          </p:style>
          <p:txBody>
            <a:bodyPr lIns="90000" rIns="90000" tIns="15120" bIns="1512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3</a:t>
              </a:r>
              <a:endParaRPr b="0" lang="en-US" sz="1800" spc="-1" strike="noStrike">
                <a:solidFill>
                  <a:srgbClr val="000000"/>
                </a:solidFill>
                <a:latin typeface="Arial"/>
              </a:endParaRPr>
            </a:p>
          </p:txBody>
        </p:sp>
        <p:sp>
          <p:nvSpPr>
            <p:cNvPr id="660" name="直接连接符 55"/>
            <p:cNvSpPr/>
            <p:nvPr/>
          </p:nvSpPr>
          <p:spPr>
            <a:xfrm>
              <a:off x="2384280" y="354096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1" name="组合 20"/>
          <p:cNvGrpSpPr/>
          <p:nvPr/>
        </p:nvGrpSpPr>
        <p:grpSpPr>
          <a:xfrm>
            <a:off x="2195640" y="3860640"/>
            <a:ext cx="4537080" cy="444600"/>
            <a:chOff x="2195640" y="3860640"/>
            <a:chExt cx="4537080" cy="444600"/>
          </a:xfrm>
        </p:grpSpPr>
        <p:sp>
          <p:nvSpPr>
            <p:cNvPr id="662" name="TextBox 57"/>
            <p:cNvSpPr/>
            <p:nvPr/>
          </p:nvSpPr>
          <p:spPr>
            <a:xfrm>
              <a:off x="2360520" y="3860640"/>
              <a:ext cx="4372200" cy="439200"/>
            </a:xfrm>
            <a:prstGeom prst="roundRect">
              <a:avLst>
                <a:gd name="adj" fmla="val 8176"/>
              </a:avLst>
            </a:prstGeom>
            <a:solidFill>
              <a:srgbClr val="ffffff"/>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用户对价格的敏感程度</a:t>
              </a:r>
              <a:endParaRPr b="0" lang="en-US" sz="1800" spc="-1" strike="noStrike">
                <a:solidFill>
                  <a:srgbClr val="000000"/>
                </a:solidFill>
                <a:latin typeface="Arial"/>
              </a:endParaRPr>
            </a:p>
          </p:txBody>
        </p:sp>
        <p:sp>
          <p:nvSpPr>
            <p:cNvPr id="663" name="直接连接符 58"/>
            <p:cNvSpPr/>
            <p:nvPr/>
          </p:nvSpPr>
          <p:spPr>
            <a:xfrm>
              <a:off x="2373120" y="4086360"/>
              <a:ext cx="0" cy="21888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流程图: 联系 59"/>
            <p:cNvSpPr/>
            <p:nvPr/>
          </p:nvSpPr>
          <p:spPr>
            <a:xfrm>
              <a:off x="2195640" y="4076280"/>
              <a:ext cx="331560" cy="87120"/>
            </a:xfrm>
            <a:prstGeom prst="flowChartConnector">
              <a:avLst/>
            </a:prstGeom>
            <a:solidFill>
              <a:srgbClr val="df8be5"/>
            </a:solidFill>
            <a:ln w="25560">
              <a:solidFill>
                <a:srgbClr val="d9d9d9"/>
              </a:solidFill>
              <a:miter/>
            </a:ln>
          </p:spPr>
          <p:style>
            <a:lnRef idx="0"/>
            <a:fillRef idx="0"/>
            <a:effectRef idx="0"/>
            <a:fontRef idx="minor"/>
          </p:style>
          <p:txBody>
            <a:bodyPr lIns="90000" rIns="90000" tIns="15120" bIns="1512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4</a:t>
              </a:r>
              <a:endParaRPr b="0" lang="en-US" sz="1800" spc="-1" strike="noStrike">
                <a:solidFill>
                  <a:srgbClr val="000000"/>
                </a:solidFill>
                <a:latin typeface="Arial"/>
              </a:endParaRPr>
            </a:p>
          </p:txBody>
        </p:sp>
        <p:sp>
          <p:nvSpPr>
            <p:cNvPr id="665" name="直接连接符 60"/>
            <p:cNvSpPr/>
            <p:nvPr/>
          </p:nvSpPr>
          <p:spPr>
            <a:xfrm>
              <a:off x="2384280" y="42966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6" name="组合 20"/>
          <p:cNvGrpSpPr/>
          <p:nvPr/>
        </p:nvGrpSpPr>
        <p:grpSpPr>
          <a:xfrm>
            <a:off x="2195640" y="4616280"/>
            <a:ext cx="4537080" cy="444600"/>
            <a:chOff x="2195640" y="4616280"/>
            <a:chExt cx="4537080" cy="444600"/>
          </a:xfrm>
        </p:grpSpPr>
        <p:sp>
          <p:nvSpPr>
            <p:cNvPr id="667" name="TextBox 62"/>
            <p:cNvSpPr/>
            <p:nvPr/>
          </p:nvSpPr>
          <p:spPr>
            <a:xfrm>
              <a:off x="2360520" y="4616280"/>
              <a:ext cx="4372200" cy="439200"/>
            </a:xfrm>
            <a:prstGeom prst="roundRect">
              <a:avLst>
                <a:gd name="adj" fmla="val 8176"/>
              </a:avLst>
            </a:prstGeom>
            <a:solidFill>
              <a:srgbClr val="ffffff"/>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用户对质量的敏感性</a:t>
              </a:r>
              <a:endParaRPr b="0" lang="en-US" sz="1800" spc="-1" strike="noStrike">
                <a:solidFill>
                  <a:srgbClr val="000000"/>
                </a:solidFill>
                <a:latin typeface="Arial"/>
              </a:endParaRPr>
            </a:p>
          </p:txBody>
        </p:sp>
        <p:sp>
          <p:nvSpPr>
            <p:cNvPr id="668" name="直接连接符 63"/>
            <p:cNvSpPr/>
            <p:nvPr/>
          </p:nvSpPr>
          <p:spPr>
            <a:xfrm>
              <a:off x="2373120" y="4842000"/>
              <a:ext cx="0" cy="21888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流程图: 联系 64"/>
            <p:cNvSpPr/>
            <p:nvPr/>
          </p:nvSpPr>
          <p:spPr>
            <a:xfrm>
              <a:off x="2195640" y="4831920"/>
              <a:ext cx="331560" cy="87120"/>
            </a:xfrm>
            <a:prstGeom prst="flowChartConnector">
              <a:avLst/>
            </a:prstGeom>
            <a:solidFill>
              <a:srgbClr val="ffffcc"/>
            </a:solidFill>
            <a:ln w="25560">
              <a:solidFill>
                <a:srgbClr val="d9d9d9"/>
              </a:solidFill>
              <a:miter/>
            </a:ln>
          </p:spPr>
          <p:style>
            <a:lnRef idx="0"/>
            <a:fillRef idx="0"/>
            <a:effectRef idx="0"/>
            <a:fontRef idx="minor"/>
          </p:style>
          <p:txBody>
            <a:bodyPr lIns="90000" rIns="90000" tIns="15120" bIns="1512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5</a:t>
              </a:r>
              <a:endParaRPr b="0" lang="en-US" sz="1800" spc="-1" strike="noStrike">
                <a:solidFill>
                  <a:srgbClr val="000000"/>
                </a:solidFill>
                <a:latin typeface="Arial"/>
              </a:endParaRPr>
            </a:p>
          </p:txBody>
        </p:sp>
        <p:sp>
          <p:nvSpPr>
            <p:cNvPr id="670" name="直接连接符 65"/>
            <p:cNvSpPr/>
            <p:nvPr/>
          </p:nvSpPr>
          <p:spPr>
            <a:xfrm>
              <a:off x="2384280" y="505224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1" name="组合 10"/>
          <p:cNvGrpSpPr/>
          <p:nvPr/>
        </p:nvGrpSpPr>
        <p:grpSpPr>
          <a:xfrm>
            <a:off x="2195640" y="5373720"/>
            <a:ext cx="4537080" cy="444600"/>
            <a:chOff x="2195640" y="5373720"/>
            <a:chExt cx="4537080" cy="444600"/>
          </a:xfrm>
        </p:grpSpPr>
        <p:sp>
          <p:nvSpPr>
            <p:cNvPr id="672" name="TextBox 41"/>
            <p:cNvSpPr/>
            <p:nvPr/>
          </p:nvSpPr>
          <p:spPr>
            <a:xfrm>
              <a:off x="2360520" y="5373720"/>
              <a:ext cx="4372200" cy="4392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用户的品牌效应</a:t>
              </a:r>
              <a:endParaRPr b="0" lang="en-US" sz="1800" spc="-1" strike="noStrike">
                <a:solidFill>
                  <a:srgbClr val="000000"/>
                </a:solidFill>
                <a:latin typeface="Arial"/>
              </a:endParaRPr>
            </a:p>
          </p:txBody>
        </p:sp>
        <p:sp>
          <p:nvSpPr>
            <p:cNvPr id="673" name="直接连接符 42"/>
            <p:cNvSpPr/>
            <p:nvPr/>
          </p:nvSpPr>
          <p:spPr>
            <a:xfrm>
              <a:off x="2373120" y="5599440"/>
              <a:ext cx="0" cy="218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流程图: 联系 44"/>
            <p:cNvSpPr/>
            <p:nvPr/>
          </p:nvSpPr>
          <p:spPr>
            <a:xfrm>
              <a:off x="2195640" y="5589360"/>
              <a:ext cx="331560" cy="8820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15480" bIns="154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6</a:t>
              </a:r>
              <a:endParaRPr b="0" lang="en-US" sz="1800" spc="-1" strike="noStrike">
                <a:solidFill>
                  <a:srgbClr val="000000"/>
                </a:solidFill>
                <a:latin typeface="Arial"/>
              </a:endParaRPr>
            </a:p>
          </p:txBody>
        </p:sp>
        <p:sp>
          <p:nvSpPr>
            <p:cNvPr id="675" name="直接连接符 45"/>
            <p:cNvSpPr/>
            <p:nvPr/>
          </p:nvSpPr>
          <p:spPr>
            <a:xfrm>
              <a:off x="2384280" y="581184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6" name=""/>
          <p:cNvSpPr/>
          <p:nvPr/>
        </p:nvSpPr>
        <p:spPr>
          <a:xfrm>
            <a:off x="1142640" y="2241720"/>
            <a:ext cx="729000" cy="2700000"/>
          </a:xfrm>
          <a:prstGeom prst="rect">
            <a:avLst/>
          </a:prstGeom>
          <a:solidFill>
            <a:srgbClr val="99ccff"/>
          </a:solidFill>
          <a:ln w="9360">
            <a:solidFill>
              <a:srgbClr val="ff0000"/>
            </a:solidFill>
            <a:miter/>
          </a:ln>
          <a:effectLst>
            <a:outerShdw dist="17819" dir="2700000" blurRad="0" rotWithShape="0">
              <a:srgbClr val="980000"/>
            </a:outerShdw>
          </a:effectLst>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收费对象</a:t>
            </a:r>
            <a:endParaRPr b="0" lang="en-US" sz="3600" spc="-1" strike="noStrike">
              <a:solidFill>
                <a:srgbClr val="000000"/>
              </a:solidFill>
              <a:latin typeface="Arial"/>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336A1-6BFD-46CD-BDCB-F864044EA48D}"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sp>
        <p:nvSpPr>
          <p:cNvPr id="678" name="AutoShape 26"/>
          <p:cNvSpPr/>
          <p:nvPr/>
        </p:nvSpPr>
        <p:spPr>
          <a:xfrm>
            <a:off x="79056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AutoShape 78"/>
          <p:cNvSpPr/>
          <p:nvPr/>
        </p:nvSpPr>
        <p:spPr>
          <a:xfrm>
            <a:off x="46656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1" name="组合 127"/>
          <p:cNvGrpSpPr/>
          <p:nvPr/>
        </p:nvGrpSpPr>
        <p:grpSpPr>
          <a:xfrm>
            <a:off x="250920" y="324000"/>
            <a:ext cx="264960" cy="417240"/>
            <a:chOff x="250920" y="324000"/>
            <a:chExt cx="264960" cy="417240"/>
          </a:xfrm>
        </p:grpSpPr>
        <p:sp>
          <p:nvSpPr>
            <p:cNvPr id="682"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5" name="组合 10"/>
          <p:cNvGrpSpPr/>
          <p:nvPr/>
        </p:nvGrpSpPr>
        <p:grpSpPr>
          <a:xfrm>
            <a:off x="1224000" y="944640"/>
            <a:ext cx="7128000" cy="647640"/>
            <a:chOff x="1224000" y="944640"/>
            <a:chExt cx="7128000" cy="647640"/>
          </a:xfrm>
        </p:grpSpPr>
        <p:sp>
          <p:nvSpPr>
            <p:cNvPr id="686" name="TextBox 11"/>
            <p:cNvSpPr/>
            <p:nvPr/>
          </p:nvSpPr>
          <p:spPr>
            <a:xfrm>
              <a:off x="1482480" y="944640"/>
              <a:ext cx="686952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价值获取模式</a:t>
              </a:r>
              <a:endParaRPr b="0" lang="en-US" sz="1800" spc="-1" strike="noStrike">
                <a:solidFill>
                  <a:srgbClr val="000000"/>
                </a:solidFill>
                <a:latin typeface="Arial"/>
              </a:endParaRPr>
            </a:p>
          </p:txBody>
        </p:sp>
        <p:sp>
          <p:nvSpPr>
            <p:cNvPr id="687" name="直接连接符 3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流程图: 联系 13"/>
            <p:cNvSpPr/>
            <p:nvPr/>
          </p:nvSpPr>
          <p:spPr>
            <a:xfrm>
              <a:off x="1224000" y="121284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3</a:t>
              </a:r>
              <a:endParaRPr b="0" lang="en-US" sz="1800" spc="-1" strike="noStrike">
                <a:solidFill>
                  <a:srgbClr val="000000"/>
                </a:solidFill>
                <a:latin typeface="Arial"/>
              </a:endParaRPr>
            </a:p>
          </p:txBody>
        </p:sp>
        <p:sp>
          <p:nvSpPr>
            <p:cNvPr id="689" name="直接连接符 3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0"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9"/>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21"/>
          <p:cNvSpPr/>
          <p:nvPr/>
        </p:nvSpPr>
        <p:spPr>
          <a:xfrm>
            <a:off x="0" y="-17136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标题 1"/>
          <p:cNvSpPr/>
          <p:nvPr/>
        </p:nvSpPr>
        <p:spPr>
          <a:xfrm>
            <a:off x="576360" y="297000"/>
            <a:ext cx="70200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第三节 双边市场</a:t>
            </a:r>
            <a:endParaRPr b="0" lang="en-US" sz="3200" spc="-1" strike="noStrike">
              <a:solidFill>
                <a:srgbClr val="000000"/>
              </a:solidFill>
              <a:latin typeface="Arial"/>
            </a:endParaRPr>
          </a:p>
        </p:txBody>
      </p:sp>
      <p:graphicFrame>
        <p:nvGraphicFramePr>
          <p:cNvPr id="696" name=""/>
          <p:cNvGraphicFramePr/>
          <p:nvPr/>
        </p:nvGraphicFramePr>
        <p:xfrm>
          <a:off x="1116000" y="2023920"/>
          <a:ext cx="6696000" cy="3948120"/>
        </p:xfrm>
        <a:graphic>
          <a:graphicData uri="http://schemas.openxmlformats.org/drawingml/2006/table">
            <a:tbl>
              <a:tblPr/>
              <a:tblGrid>
                <a:gridCol w="1359000"/>
                <a:gridCol w="5337000"/>
              </a:tblGrid>
              <a:tr h="473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Calibri"/>
                        </a:rPr>
                        <a:t>收费项目</a:t>
                      </a: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Calibri"/>
                        </a:rPr>
                        <a:t>收费依据</a:t>
                      </a: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64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Calibri"/>
                        </a:rPr>
                        <a:t>广告费</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Calibri"/>
                        </a:rPr>
                        <a:t>向广告客户收取的资助最终用户，维持企业运营的费用</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7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Calibri"/>
                        </a:rPr>
                        <a:t>生产费</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Calibri"/>
                        </a:rPr>
                        <a:t>生产者增加的价值</a:t>
                      </a:r>
                      <a:endParaRPr b="0" lang="en-US" sz="1800" spc="-1" strike="noStrike">
                        <a:solidFill>
                          <a:srgbClr val="000000"/>
                        </a:solidFill>
                        <a:latin typeface="Arial"/>
                      </a:endParaRPr>
                    </a:p>
                  </a:txBody>
                  <a:tcPr anchor="t" marL="90000" marR="90000">
                    <a:lnL>
                      <a:noFill/>
                    </a:lnL>
                    <a:lnR>
                      <a:noFill/>
                    </a:lnR>
                    <a:lnT>
                      <a:noFill/>
                    </a:lnT>
                    <a:lnB>
                      <a:noFill/>
                    </a:lnB>
                    <a:noFill/>
                  </a:tcPr>
                </a:tc>
              </a:tr>
              <a:tr h="473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Calibri"/>
                        </a:rPr>
                        <a:t>佣金</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Calibri"/>
                        </a:rPr>
                        <a:t>基于交易规模对交易征收的费用</a:t>
                      </a:r>
                      <a:endParaRPr b="0" lang="en-US" sz="1800" spc="-1" strike="noStrike">
                        <a:solidFill>
                          <a:srgbClr val="000000"/>
                        </a:solidFill>
                        <a:latin typeface="Arial"/>
                      </a:endParaRPr>
                    </a:p>
                  </a:txBody>
                  <a:tcPr anchor="t" marL="90000" marR="90000">
                    <a:lnL>
                      <a:noFill/>
                    </a:lnL>
                    <a:lnR>
                      <a:noFill/>
                    </a:lnR>
                    <a:lnT>
                      <a:noFill/>
                    </a:lnT>
                    <a:lnB>
                      <a:noFill/>
                    </a:lnB>
                    <a:noFill/>
                  </a:tcPr>
                </a:tc>
              </a:tr>
              <a:tr h="473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Calibri"/>
                        </a:rPr>
                        <a:t>加成费</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Calibri"/>
                        </a:rPr>
                        <a:t>销售中增加的价值</a:t>
                      </a:r>
                      <a:endParaRPr b="0" lang="en-US" sz="1800" spc="-1" strike="noStrike">
                        <a:solidFill>
                          <a:srgbClr val="000000"/>
                        </a:solidFill>
                        <a:latin typeface="Arial"/>
                      </a:endParaRPr>
                    </a:p>
                  </a:txBody>
                  <a:tcPr anchor="t" marL="90000" marR="90000">
                    <a:lnL>
                      <a:noFill/>
                    </a:lnL>
                    <a:lnR>
                      <a:noFill/>
                    </a:lnR>
                    <a:lnT>
                      <a:noFill/>
                    </a:lnT>
                    <a:lnB>
                      <a:noFill/>
                    </a:lnB>
                    <a:noFill/>
                  </a:tcPr>
                </a:tc>
              </a:tr>
              <a:tr h="473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Calibri"/>
                        </a:rPr>
                        <a:t>推介费</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Calibri"/>
                        </a:rPr>
                        <a:t>向一个企业推介顾客的费用</a:t>
                      </a:r>
                      <a:endParaRPr b="0" lang="en-US" sz="1800" spc="-1" strike="noStrike">
                        <a:solidFill>
                          <a:srgbClr val="000000"/>
                        </a:solidFill>
                        <a:latin typeface="Arial"/>
                      </a:endParaRPr>
                    </a:p>
                  </a:txBody>
                  <a:tcPr anchor="t" marL="90000" marR="90000">
                    <a:lnL>
                      <a:noFill/>
                    </a:lnL>
                    <a:lnR>
                      <a:noFill/>
                    </a:lnR>
                    <a:lnT>
                      <a:noFill/>
                    </a:lnT>
                    <a:lnB>
                      <a:noFill/>
                    </a:lnB>
                    <a:noFill/>
                  </a:tcPr>
                </a:tc>
              </a:tr>
              <a:tr h="47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Calibri"/>
                        </a:rPr>
                        <a:t>订阅费</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Calibri"/>
                        </a:rPr>
                        <a:t>无限制的使用产品或服务的一次性收费</a:t>
                      </a:r>
                      <a:endParaRPr b="0" lang="en-US" sz="1800" spc="-1" strike="noStrike">
                        <a:solidFill>
                          <a:srgbClr val="000000"/>
                        </a:solidFill>
                        <a:latin typeface="Arial"/>
                      </a:endParaRPr>
                    </a:p>
                  </a:txBody>
                  <a:tcPr anchor="t" marL="90000" marR="90000">
                    <a:lnL>
                      <a:noFill/>
                    </a:lnL>
                    <a:lnR>
                      <a:noFill/>
                    </a:lnR>
                    <a:lnT>
                      <a:noFill/>
                    </a:lnT>
                    <a:lnB>
                      <a:noFill/>
                    </a:lnB>
                    <a:noFill/>
                  </a:tcPr>
                </a:tc>
              </a:tr>
              <a:tr h="473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Calibri"/>
                        </a:rPr>
                        <a:t>服务费</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Calibri"/>
                        </a:rPr>
                        <a:t>根据服务内容和服务量收费</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5C366-50DE-418C-B58E-E139390A72B1}"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sp>
        <p:nvSpPr>
          <p:cNvPr id="698" name="AutoShape 26"/>
          <p:cNvSpPr/>
          <p:nvPr/>
        </p:nvSpPr>
        <p:spPr>
          <a:xfrm>
            <a:off x="79056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AutoShape 78"/>
          <p:cNvSpPr/>
          <p:nvPr/>
        </p:nvSpPr>
        <p:spPr>
          <a:xfrm>
            <a:off x="46656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1" name="组合 127"/>
          <p:cNvGrpSpPr/>
          <p:nvPr/>
        </p:nvGrpSpPr>
        <p:grpSpPr>
          <a:xfrm>
            <a:off x="250920" y="324000"/>
            <a:ext cx="264960" cy="417240"/>
            <a:chOff x="250920" y="324000"/>
            <a:chExt cx="264960" cy="417240"/>
          </a:xfrm>
        </p:grpSpPr>
        <p:sp>
          <p:nvSpPr>
            <p:cNvPr id="702"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5" name="组合 10"/>
          <p:cNvGrpSpPr/>
          <p:nvPr/>
        </p:nvGrpSpPr>
        <p:grpSpPr>
          <a:xfrm>
            <a:off x="1224000" y="944640"/>
            <a:ext cx="7128000" cy="647640"/>
            <a:chOff x="1224000" y="944640"/>
            <a:chExt cx="7128000" cy="647640"/>
          </a:xfrm>
        </p:grpSpPr>
        <p:sp>
          <p:nvSpPr>
            <p:cNvPr id="706" name="TextBox 11"/>
            <p:cNvSpPr/>
            <p:nvPr/>
          </p:nvSpPr>
          <p:spPr>
            <a:xfrm>
              <a:off x="1482480" y="944640"/>
              <a:ext cx="686952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价值获取模式</a:t>
              </a:r>
              <a:endParaRPr b="0" lang="en-US" sz="1800" spc="-1" strike="noStrike">
                <a:solidFill>
                  <a:srgbClr val="000000"/>
                </a:solidFill>
                <a:latin typeface="Arial"/>
              </a:endParaRPr>
            </a:p>
          </p:txBody>
        </p:sp>
        <p:sp>
          <p:nvSpPr>
            <p:cNvPr id="707" name="直接连接符 3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流程图: 联系 13"/>
            <p:cNvSpPr/>
            <p:nvPr/>
          </p:nvSpPr>
          <p:spPr>
            <a:xfrm>
              <a:off x="1224000" y="121284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3</a:t>
              </a:r>
              <a:endParaRPr b="0" lang="en-US" sz="1800" spc="-1" strike="noStrike">
                <a:solidFill>
                  <a:srgbClr val="000000"/>
                </a:solidFill>
                <a:latin typeface="Arial"/>
              </a:endParaRPr>
            </a:p>
          </p:txBody>
        </p:sp>
        <p:sp>
          <p:nvSpPr>
            <p:cNvPr id="709" name="直接连接符 3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0"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Rectangle 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Rectangle 9"/>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Rectangle 21"/>
          <p:cNvSpPr/>
          <p:nvPr/>
        </p:nvSpPr>
        <p:spPr>
          <a:xfrm>
            <a:off x="0" y="-17136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标题 1"/>
          <p:cNvSpPr/>
          <p:nvPr/>
        </p:nvSpPr>
        <p:spPr>
          <a:xfrm>
            <a:off x="576360" y="297000"/>
            <a:ext cx="70200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第三节 双边市场</a:t>
            </a:r>
            <a:endParaRPr b="0" lang="en-US" sz="3200" spc="-1" strike="noStrike">
              <a:solidFill>
                <a:srgbClr val="000000"/>
              </a:solidFill>
              <a:latin typeface="Arial"/>
            </a:endParaRPr>
          </a:p>
        </p:txBody>
      </p:sp>
      <p:grpSp>
        <p:nvGrpSpPr>
          <p:cNvPr id="716" name="组合 10"/>
          <p:cNvGrpSpPr/>
          <p:nvPr/>
        </p:nvGrpSpPr>
        <p:grpSpPr>
          <a:xfrm>
            <a:off x="2195640" y="1592280"/>
            <a:ext cx="4537080" cy="444600"/>
            <a:chOff x="2195640" y="1592280"/>
            <a:chExt cx="4537080" cy="444600"/>
          </a:xfrm>
        </p:grpSpPr>
        <p:sp>
          <p:nvSpPr>
            <p:cNvPr id="717" name="TextBox 41"/>
            <p:cNvSpPr/>
            <p:nvPr/>
          </p:nvSpPr>
          <p:spPr>
            <a:xfrm>
              <a:off x="2360520" y="1592280"/>
              <a:ext cx="4372200" cy="4392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平台企业所处市场结构</a:t>
              </a:r>
              <a:endParaRPr b="0" lang="en-US" sz="1800" spc="-1" strike="noStrike">
                <a:solidFill>
                  <a:srgbClr val="000000"/>
                </a:solidFill>
                <a:latin typeface="Arial"/>
              </a:endParaRPr>
            </a:p>
          </p:txBody>
        </p:sp>
        <p:sp>
          <p:nvSpPr>
            <p:cNvPr id="718" name="直接连接符 42"/>
            <p:cNvSpPr/>
            <p:nvPr/>
          </p:nvSpPr>
          <p:spPr>
            <a:xfrm>
              <a:off x="2373120" y="1818000"/>
              <a:ext cx="0" cy="218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流程图: 联系 44"/>
            <p:cNvSpPr/>
            <p:nvPr/>
          </p:nvSpPr>
          <p:spPr>
            <a:xfrm>
              <a:off x="2195640" y="1807920"/>
              <a:ext cx="331560" cy="8820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15480" bIns="154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720" name="直接连接符 45"/>
            <p:cNvSpPr/>
            <p:nvPr/>
          </p:nvSpPr>
          <p:spPr>
            <a:xfrm>
              <a:off x="2384280" y="20304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组合 15"/>
          <p:cNvGrpSpPr/>
          <p:nvPr/>
        </p:nvGrpSpPr>
        <p:grpSpPr>
          <a:xfrm>
            <a:off x="2195640" y="2349360"/>
            <a:ext cx="4537080" cy="444600"/>
            <a:chOff x="2195640" y="2349360"/>
            <a:chExt cx="4537080" cy="444600"/>
          </a:xfrm>
        </p:grpSpPr>
        <p:sp>
          <p:nvSpPr>
            <p:cNvPr id="722" name="TextBox 47"/>
            <p:cNvSpPr/>
            <p:nvPr/>
          </p:nvSpPr>
          <p:spPr>
            <a:xfrm>
              <a:off x="2360520" y="2349360"/>
              <a:ext cx="4372200" cy="4392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平台企业的收费方式</a:t>
              </a:r>
              <a:endParaRPr b="0" lang="en-US" sz="1800" spc="-1" strike="noStrike">
                <a:solidFill>
                  <a:srgbClr val="000000"/>
                </a:solidFill>
                <a:latin typeface="Arial"/>
              </a:endParaRPr>
            </a:p>
          </p:txBody>
        </p:sp>
        <p:sp>
          <p:nvSpPr>
            <p:cNvPr id="723" name="直接连接符 48"/>
            <p:cNvSpPr/>
            <p:nvPr/>
          </p:nvSpPr>
          <p:spPr>
            <a:xfrm>
              <a:off x="2373120" y="2575080"/>
              <a:ext cx="0" cy="21888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流程图: 联系 49"/>
            <p:cNvSpPr/>
            <p:nvPr/>
          </p:nvSpPr>
          <p:spPr>
            <a:xfrm>
              <a:off x="2195640" y="2565000"/>
              <a:ext cx="331560" cy="87120"/>
            </a:xfrm>
            <a:prstGeom prst="flowChartConnector">
              <a:avLst/>
            </a:prstGeom>
            <a:solidFill>
              <a:srgbClr val="ffc000"/>
            </a:solidFill>
            <a:ln w="25560">
              <a:solidFill>
                <a:srgbClr val="d9d9d9"/>
              </a:solidFill>
              <a:miter/>
            </a:ln>
          </p:spPr>
          <p:style>
            <a:lnRef idx="0"/>
            <a:fillRef idx="0"/>
            <a:effectRef idx="0"/>
            <a:fontRef idx="minor"/>
          </p:style>
          <p:txBody>
            <a:bodyPr lIns="90000" rIns="90000" tIns="15120" bIns="1512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725" name="直接连接符 50"/>
            <p:cNvSpPr/>
            <p:nvPr/>
          </p:nvSpPr>
          <p:spPr>
            <a:xfrm>
              <a:off x="2384280" y="278532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6" name="组合 20"/>
          <p:cNvGrpSpPr/>
          <p:nvPr/>
        </p:nvGrpSpPr>
        <p:grpSpPr>
          <a:xfrm>
            <a:off x="2195640" y="3105000"/>
            <a:ext cx="4537080" cy="444600"/>
            <a:chOff x="2195640" y="3105000"/>
            <a:chExt cx="4537080" cy="444600"/>
          </a:xfrm>
        </p:grpSpPr>
        <p:sp>
          <p:nvSpPr>
            <p:cNvPr id="727" name="TextBox 52"/>
            <p:cNvSpPr/>
            <p:nvPr/>
          </p:nvSpPr>
          <p:spPr>
            <a:xfrm>
              <a:off x="2360520" y="3105000"/>
              <a:ext cx="4372200" cy="439200"/>
            </a:xfrm>
            <a:prstGeom prst="roundRect">
              <a:avLst>
                <a:gd name="adj" fmla="val 8176"/>
              </a:avLst>
            </a:prstGeom>
            <a:solidFill>
              <a:srgbClr val="ffffff"/>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平台差异化程度</a:t>
              </a:r>
              <a:endParaRPr b="0" lang="en-US" sz="1800" spc="-1" strike="noStrike">
                <a:solidFill>
                  <a:srgbClr val="000000"/>
                </a:solidFill>
                <a:latin typeface="Arial"/>
              </a:endParaRPr>
            </a:p>
          </p:txBody>
        </p:sp>
        <p:sp>
          <p:nvSpPr>
            <p:cNvPr id="728" name="直接连接符 53"/>
            <p:cNvSpPr/>
            <p:nvPr/>
          </p:nvSpPr>
          <p:spPr>
            <a:xfrm>
              <a:off x="2373120" y="3330720"/>
              <a:ext cx="0" cy="21888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流程图: 联系 54"/>
            <p:cNvSpPr/>
            <p:nvPr/>
          </p:nvSpPr>
          <p:spPr>
            <a:xfrm>
              <a:off x="2195640" y="3320640"/>
              <a:ext cx="331560" cy="87120"/>
            </a:xfrm>
            <a:prstGeom prst="flowChartConnector">
              <a:avLst/>
            </a:prstGeom>
            <a:solidFill>
              <a:srgbClr val="92d050"/>
            </a:solidFill>
            <a:ln w="25560">
              <a:solidFill>
                <a:srgbClr val="d9d9d9"/>
              </a:solidFill>
              <a:miter/>
            </a:ln>
          </p:spPr>
          <p:style>
            <a:lnRef idx="0"/>
            <a:fillRef idx="0"/>
            <a:effectRef idx="0"/>
            <a:fontRef idx="minor"/>
          </p:style>
          <p:txBody>
            <a:bodyPr lIns="90000" rIns="90000" tIns="15120" bIns="1512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3</a:t>
              </a:r>
              <a:endParaRPr b="0" lang="en-US" sz="1800" spc="-1" strike="noStrike">
                <a:solidFill>
                  <a:srgbClr val="000000"/>
                </a:solidFill>
                <a:latin typeface="Arial"/>
              </a:endParaRPr>
            </a:p>
          </p:txBody>
        </p:sp>
        <p:sp>
          <p:nvSpPr>
            <p:cNvPr id="730" name="直接连接符 55"/>
            <p:cNvSpPr/>
            <p:nvPr/>
          </p:nvSpPr>
          <p:spPr>
            <a:xfrm>
              <a:off x="2384280" y="354096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组合 20"/>
          <p:cNvGrpSpPr/>
          <p:nvPr/>
        </p:nvGrpSpPr>
        <p:grpSpPr>
          <a:xfrm>
            <a:off x="2195640" y="3860640"/>
            <a:ext cx="4537080" cy="444600"/>
            <a:chOff x="2195640" y="3860640"/>
            <a:chExt cx="4537080" cy="444600"/>
          </a:xfrm>
        </p:grpSpPr>
        <p:sp>
          <p:nvSpPr>
            <p:cNvPr id="732" name="TextBox 57"/>
            <p:cNvSpPr/>
            <p:nvPr/>
          </p:nvSpPr>
          <p:spPr>
            <a:xfrm>
              <a:off x="2360520" y="3860640"/>
              <a:ext cx="4372200" cy="439200"/>
            </a:xfrm>
            <a:prstGeom prst="roundRect">
              <a:avLst>
                <a:gd name="adj" fmla="val 8176"/>
              </a:avLst>
            </a:prstGeom>
            <a:solidFill>
              <a:srgbClr val="ffffff"/>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跨边网络外部性的相对大小</a:t>
              </a:r>
              <a:endParaRPr b="0" lang="en-US" sz="1800" spc="-1" strike="noStrike">
                <a:solidFill>
                  <a:srgbClr val="000000"/>
                </a:solidFill>
                <a:latin typeface="Arial"/>
              </a:endParaRPr>
            </a:p>
          </p:txBody>
        </p:sp>
        <p:sp>
          <p:nvSpPr>
            <p:cNvPr id="733" name="直接连接符 58"/>
            <p:cNvSpPr/>
            <p:nvPr/>
          </p:nvSpPr>
          <p:spPr>
            <a:xfrm>
              <a:off x="2373120" y="4086360"/>
              <a:ext cx="0" cy="21888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流程图: 联系 59"/>
            <p:cNvSpPr/>
            <p:nvPr/>
          </p:nvSpPr>
          <p:spPr>
            <a:xfrm>
              <a:off x="2195640" y="4076280"/>
              <a:ext cx="331560" cy="87120"/>
            </a:xfrm>
            <a:prstGeom prst="flowChartConnector">
              <a:avLst/>
            </a:prstGeom>
            <a:solidFill>
              <a:srgbClr val="df8be5"/>
            </a:solidFill>
            <a:ln w="25560">
              <a:solidFill>
                <a:srgbClr val="d9d9d9"/>
              </a:solidFill>
              <a:miter/>
            </a:ln>
          </p:spPr>
          <p:style>
            <a:lnRef idx="0"/>
            <a:fillRef idx="0"/>
            <a:effectRef idx="0"/>
            <a:fontRef idx="minor"/>
          </p:style>
          <p:txBody>
            <a:bodyPr lIns="90000" rIns="90000" tIns="15120" bIns="1512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4</a:t>
              </a:r>
              <a:endParaRPr b="0" lang="en-US" sz="1800" spc="-1" strike="noStrike">
                <a:solidFill>
                  <a:srgbClr val="000000"/>
                </a:solidFill>
                <a:latin typeface="Arial"/>
              </a:endParaRPr>
            </a:p>
          </p:txBody>
        </p:sp>
        <p:sp>
          <p:nvSpPr>
            <p:cNvPr id="735" name="直接连接符 60"/>
            <p:cNvSpPr/>
            <p:nvPr/>
          </p:nvSpPr>
          <p:spPr>
            <a:xfrm>
              <a:off x="2384280" y="42966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6" name="组合 20"/>
          <p:cNvGrpSpPr/>
          <p:nvPr/>
        </p:nvGrpSpPr>
        <p:grpSpPr>
          <a:xfrm>
            <a:off x="2195640" y="4616280"/>
            <a:ext cx="4537080" cy="444600"/>
            <a:chOff x="2195640" y="4616280"/>
            <a:chExt cx="4537080" cy="444600"/>
          </a:xfrm>
        </p:grpSpPr>
        <p:sp>
          <p:nvSpPr>
            <p:cNvPr id="737" name="TextBox 62"/>
            <p:cNvSpPr/>
            <p:nvPr/>
          </p:nvSpPr>
          <p:spPr>
            <a:xfrm>
              <a:off x="2360520" y="4616280"/>
              <a:ext cx="4372200" cy="439200"/>
            </a:xfrm>
            <a:prstGeom prst="roundRect">
              <a:avLst>
                <a:gd name="adj" fmla="val 8176"/>
              </a:avLst>
            </a:prstGeom>
            <a:solidFill>
              <a:srgbClr val="ffffff"/>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平台用户的归属特点</a:t>
              </a:r>
              <a:endParaRPr b="0" lang="en-US" sz="1800" spc="-1" strike="noStrike">
                <a:solidFill>
                  <a:srgbClr val="000000"/>
                </a:solidFill>
                <a:latin typeface="Arial"/>
              </a:endParaRPr>
            </a:p>
          </p:txBody>
        </p:sp>
        <p:sp>
          <p:nvSpPr>
            <p:cNvPr id="738" name="直接连接符 63"/>
            <p:cNvSpPr/>
            <p:nvPr/>
          </p:nvSpPr>
          <p:spPr>
            <a:xfrm>
              <a:off x="2373120" y="4842000"/>
              <a:ext cx="0" cy="21888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流程图: 联系 64"/>
            <p:cNvSpPr/>
            <p:nvPr/>
          </p:nvSpPr>
          <p:spPr>
            <a:xfrm>
              <a:off x="2195640" y="4831920"/>
              <a:ext cx="331560" cy="87120"/>
            </a:xfrm>
            <a:prstGeom prst="flowChartConnector">
              <a:avLst/>
            </a:prstGeom>
            <a:solidFill>
              <a:srgbClr val="ffffcc"/>
            </a:solidFill>
            <a:ln w="25560">
              <a:solidFill>
                <a:srgbClr val="d9d9d9"/>
              </a:solidFill>
              <a:miter/>
            </a:ln>
          </p:spPr>
          <p:style>
            <a:lnRef idx="0"/>
            <a:fillRef idx="0"/>
            <a:effectRef idx="0"/>
            <a:fontRef idx="minor"/>
          </p:style>
          <p:txBody>
            <a:bodyPr lIns="90000" rIns="90000" tIns="15120" bIns="1512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5</a:t>
              </a:r>
              <a:endParaRPr b="0" lang="en-US" sz="1800" spc="-1" strike="noStrike">
                <a:solidFill>
                  <a:srgbClr val="000000"/>
                </a:solidFill>
                <a:latin typeface="Arial"/>
              </a:endParaRPr>
            </a:p>
          </p:txBody>
        </p:sp>
        <p:sp>
          <p:nvSpPr>
            <p:cNvPr id="740" name="直接连接符 65"/>
            <p:cNvSpPr/>
            <p:nvPr/>
          </p:nvSpPr>
          <p:spPr>
            <a:xfrm>
              <a:off x="2384280" y="505224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组合 10"/>
          <p:cNvGrpSpPr/>
          <p:nvPr/>
        </p:nvGrpSpPr>
        <p:grpSpPr>
          <a:xfrm>
            <a:off x="2195640" y="5373720"/>
            <a:ext cx="4537080" cy="444600"/>
            <a:chOff x="2195640" y="5373720"/>
            <a:chExt cx="4537080" cy="444600"/>
          </a:xfrm>
        </p:grpSpPr>
        <p:sp>
          <p:nvSpPr>
            <p:cNvPr id="742" name="TextBox 41"/>
            <p:cNvSpPr/>
            <p:nvPr/>
          </p:nvSpPr>
          <p:spPr>
            <a:xfrm>
              <a:off x="2360520" y="5373720"/>
              <a:ext cx="4372200" cy="4392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平台需求的价格特点</a:t>
              </a:r>
              <a:endParaRPr b="0" lang="en-US" sz="1800" spc="-1" strike="noStrike">
                <a:solidFill>
                  <a:srgbClr val="000000"/>
                </a:solidFill>
                <a:latin typeface="Arial"/>
              </a:endParaRPr>
            </a:p>
          </p:txBody>
        </p:sp>
        <p:sp>
          <p:nvSpPr>
            <p:cNvPr id="743" name="直接连接符 42"/>
            <p:cNvSpPr/>
            <p:nvPr/>
          </p:nvSpPr>
          <p:spPr>
            <a:xfrm>
              <a:off x="2373120" y="5599440"/>
              <a:ext cx="0" cy="218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流程图: 联系 44"/>
            <p:cNvSpPr/>
            <p:nvPr/>
          </p:nvSpPr>
          <p:spPr>
            <a:xfrm>
              <a:off x="2195640" y="5589360"/>
              <a:ext cx="331560" cy="8820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15480" bIns="154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6</a:t>
              </a:r>
              <a:endParaRPr b="0" lang="en-US" sz="1800" spc="-1" strike="noStrike">
                <a:solidFill>
                  <a:srgbClr val="000000"/>
                </a:solidFill>
                <a:latin typeface="Arial"/>
              </a:endParaRPr>
            </a:p>
          </p:txBody>
        </p:sp>
        <p:sp>
          <p:nvSpPr>
            <p:cNvPr id="745" name="直接连接符 45"/>
            <p:cNvSpPr/>
            <p:nvPr/>
          </p:nvSpPr>
          <p:spPr>
            <a:xfrm>
              <a:off x="2384280" y="581184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6" name=""/>
          <p:cNvSpPr/>
          <p:nvPr/>
        </p:nvSpPr>
        <p:spPr>
          <a:xfrm>
            <a:off x="473400" y="1916280"/>
            <a:ext cx="1277640" cy="3779640"/>
          </a:xfrm>
          <a:prstGeom prst="rect">
            <a:avLst/>
          </a:prstGeom>
          <a:solidFill>
            <a:srgbClr val="99ccff"/>
          </a:solidFill>
          <a:ln w="9360">
            <a:solidFill>
              <a:srgbClr val="ff0000"/>
            </a:solidFill>
            <a:miter/>
          </a:ln>
          <a:effectLst>
            <a:outerShdw dist="17819" dir="2700000" blurRad="0" rotWithShape="0">
              <a:srgbClr val="980000"/>
            </a:outerShdw>
          </a:effectLst>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影响平台定价因素</a:t>
            </a:r>
            <a:endParaRPr b="0" lang="en-US" sz="3600" spc="-1" strike="noStrike">
              <a:solidFill>
                <a:srgbClr val="000000"/>
              </a:solidFill>
              <a:latin typeface="Arial"/>
            </a:endParaRPr>
          </a:p>
        </p:txBody>
      </p:sp>
      <p:sp>
        <p:nvSpPr>
          <p:cNvPr id="747" name=""/>
          <p:cNvSpPr/>
          <p:nvPr/>
        </p:nvSpPr>
        <p:spPr>
          <a:xfrm>
            <a:off x="6840360" y="1808280"/>
            <a:ext cx="216000" cy="1620720"/>
          </a:xfrm>
          <a:custGeom>
            <a:avLst/>
            <a:gdLst>
              <a:gd name="textAreaLeft" fmla="*/ 0 w 216000"/>
              <a:gd name="textAreaRight" fmla="*/ 78120 w 216000"/>
              <a:gd name="textAreaTop" fmla="*/ 42120 h 1620720"/>
              <a:gd name="textAreaBottom" fmla="*/ 1578600 h 16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6840360" y="4076640"/>
            <a:ext cx="216000" cy="1620720"/>
          </a:xfrm>
          <a:custGeom>
            <a:avLst/>
            <a:gdLst>
              <a:gd name="textAreaLeft" fmla="*/ 0 w 216000"/>
              <a:gd name="textAreaRight" fmla="*/ 78120 w 216000"/>
              <a:gd name="textAreaTop" fmla="*/ 42120 h 1620720"/>
              <a:gd name="textAreaBottom" fmla="*/ 1578600 h 16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7272360" y="2457360"/>
            <a:ext cx="1079640" cy="642600"/>
          </a:xfrm>
          <a:prstGeom prst="rect">
            <a:avLst/>
          </a:prstGeom>
          <a:noFill/>
          <a:ln w="0">
            <a:noFill/>
          </a:ln>
          <a:effectLst>
            <a:outerShdw dist="17819" dir="2700000" blurRad="0" rotWithShape="0">
              <a:srgbClr val="2f4d7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与平台企业有关</a:t>
            </a:r>
            <a:endParaRPr b="0" lang="en-US" sz="1800" spc="-1" strike="noStrike">
              <a:solidFill>
                <a:srgbClr val="000000"/>
              </a:solidFill>
              <a:latin typeface="Arial"/>
            </a:endParaRPr>
          </a:p>
        </p:txBody>
      </p:sp>
      <p:sp>
        <p:nvSpPr>
          <p:cNvPr id="750" name=""/>
          <p:cNvSpPr/>
          <p:nvPr/>
        </p:nvSpPr>
        <p:spPr>
          <a:xfrm>
            <a:off x="7164360" y="4508640"/>
            <a:ext cx="1079640" cy="642600"/>
          </a:xfrm>
          <a:prstGeom prst="rect">
            <a:avLst/>
          </a:prstGeom>
          <a:noFill/>
          <a:ln w="0">
            <a:noFill/>
          </a:ln>
          <a:effectLst>
            <a:outerShdw dist="17819" dir="2700000" blurRad="0" rotWithShape="0">
              <a:srgbClr val="2f4d7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与平台用户有关</a:t>
            </a:r>
            <a:endParaRPr b="0" lang="en-US" sz="1800" spc="-1" strike="noStrike">
              <a:solidFill>
                <a:srgbClr val="000000"/>
              </a:solidFill>
              <a:latin typeface="Arial"/>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D59E4-12D1-4011-94EC-B467C859781C}"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sp>
        <p:nvSpPr>
          <p:cNvPr id="752" name="PlaceHolder 1"/>
          <p:cNvSpPr>
            <a:spLocks noGrp="1"/>
          </p:cNvSpPr>
          <p:nvPr>
            <p:ph type="title"/>
          </p:nvPr>
        </p:nvSpPr>
        <p:spPr>
          <a:xfrm>
            <a:off x="-1584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0504d"/>
                </a:solidFill>
                <a:latin typeface="Calibri"/>
                <a:ea typeface="微软雅黑"/>
              </a:rPr>
              <a:t>思考与练习</a:t>
            </a:r>
            <a:endParaRPr b="0" lang="en-US" sz="5400" spc="-1" strike="noStrike">
              <a:solidFill>
                <a:srgbClr val="000000"/>
              </a:solidFill>
              <a:latin typeface="Calibri"/>
            </a:endParaRPr>
          </a:p>
        </p:txBody>
      </p:sp>
      <p:pic>
        <p:nvPicPr>
          <p:cNvPr id="753" name="图片 2" descr=""/>
          <p:cNvPicPr/>
          <p:nvPr/>
        </p:nvPicPr>
        <p:blipFill>
          <a:blip r:embed="rId1"/>
          <a:stretch/>
        </p:blipFill>
        <p:spPr>
          <a:xfrm>
            <a:off x="4606920" y="404640"/>
            <a:ext cx="4178160" cy="2679840"/>
          </a:xfrm>
          <a:prstGeom prst="rect">
            <a:avLst/>
          </a:prstGeom>
          <a:ln w="0">
            <a:noFill/>
          </a:ln>
        </p:spPr>
      </p:pic>
      <p:sp>
        <p:nvSpPr>
          <p:cNvPr id="754" name="Rectangle 2"/>
          <p:cNvSpPr/>
          <p:nvPr/>
        </p:nvSpPr>
        <p:spPr>
          <a:xfrm>
            <a:off x="358920" y="3323880"/>
            <a:ext cx="8100720" cy="1465560"/>
          </a:xfrm>
          <a:prstGeom prst="rect">
            <a:avLst/>
          </a:prstGeom>
          <a:solidFill>
            <a:srgbClr val="ffff00">
              <a:alpha val="14000"/>
            </a:srgbClr>
          </a:solidFill>
          <a:ln w="25560">
            <a:solidFill>
              <a:srgbClr val="4f81bd"/>
            </a:solidFill>
            <a:miter/>
          </a:ln>
        </p:spPr>
        <p:style>
          <a:lnRef idx="0"/>
          <a:fillRef idx="0"/>
          <a:effectRef idx="0"/>
          <a:fontRef idx="minor"/>
        </p:style>
        <p:txBody>
          <a:bodyPr lIns="90000" rIns="90000" tIns="46800" bIns="46800" anchor="ctr">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什么是外部性和网络外部性，网络外部性使经济出现了什么特征</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结合某一行业，分析其用户转移成本与企业锁定策略</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举出网络经济中正反馈和负反馈的例子</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网络经济中供给需求曲线和传统经济有什么不同</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zh-CN" sz="1800" spc="-1" strike="noStrike">
                <a:solidFill>
                  <a:srgbClr val="000000"/>
                </a:solidFill>
                <a:latin typeface="Arial"/>
              </a:rPr>
              <a:t>举出网络经济中双边市场的例子，并说明平台企业的定价方式</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7DC4C-97F6-4363-A1DF-B7AFDE0905D2}"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756" name="Picture 4" descr=""/>
          <p:cNvPicPr/>
          <p:nvPr/>
        </p:nvPicPr>
        <p:blipFill>
          <a:blip r:embed="rId1"/>
          <a:stretch/>
        </p:blipFill>
        <p:spPr>
          <a:xfrm>
            <a:off x="576360" y="836640"/>
            <a:ext cx="4998960" cy="3676680"/>
          </a:xfrm>
          <a:prstGeom prst="rect">
            <a:avLst/>
          </a:prstGeom>
          <a:ln w="0">
            <a:noFill/>
          </a:ln>
        </p:spPr>
      </p:pic>
      <p:sp>
        <p:nvSpPr>
          <p:cNvPr id="757" name="TextBox 27"/>
          <p:cNvSpPr/>
          <p:nvPr/>
        </p:nvSpPr>
        <p:spPr>
          <a:xfrm>
            <a:off x="5003640" y="2997360"/>
            <a:ext cx="302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微软雅黑"/>
                <a:ea typeface="微软雅黑"/>
              </a:rPr>
              <a:t>谢谢</a:t>
            </a:r>
            <a:endParaRPr b="0" lang="en-US" sz="96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F9C6F-01BA-464A-8F79-708738A2D1C1}"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1008000" y="728640"/>
            <a:ext cx="3014640" cy="432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504d"/>
                </a:solidFill>
                <a:latin typeface="微软雅黑"/>
                <a:ea typeface="微软雅黑"/>
              </a:rPr>
              <a:t>本章目录</a:t>
            </a:r>
            <a:br>
              <a:rPr sz="3600"/>
            </a:br>
            <a:endParaRPr b="0" lang="en-US" sz="3600" spc="-1" strike="noStrike">
              <a:solidFill>
                <a:srgbClr val="000000"/>
              </a:solidFill>
              <a:latin typeface="Calibri"/>
            </a:endParaRPr>
          </a:p>
        </p:txBody>
      </p:sp>
      <p:grpSp>
        <p:nvGrpSpPr>
          <p:cNvPr id="233" name="组合 127"/>
          <p:cNvGrpSpPr/>
          <p:nvPr/>
        </p:nvGrpSpPr>
        <p:grpSpPr>
          <a:xfrm>
            <a:off x="250920" y="324000"/>
            <a:ext cx="264960" cy="417240"/>
            <a:chOff x="250920" y="324000"/>
            <a:chExt cx="264960" cy="417240"/>
          </a:xfrm>
        </p:grpSpPr>
        <p:sp>
          <p:nvSpPr>
            <p:cNvPr id="234"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7" name="TextBox 26"/>
          <p:cNvSpPr/>
          <p:nvPr/>
        </p:nvSpPr>
        <p:spPr>
          <a:xfrm>
            <a:off x="2408400" y="2282760"/>
            <a:ext cx="3568680" cy="4428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网络外部性与正反馈略</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椭圆 27"/>
          <p:cNvSpPr/>
          <p:nvPr/>
        </p:nvSpPr>
        <p:spPr>
          <a:xfrm>
            <a:off x="2195640" y="2131920"/>
            <a:ext cx="393480" cy="316080"/>
          </a:xfrm>
          <a:prstGeom prst="ellipse">
            <a:avLst/>
          </a:prstGeom>
          <a:solidFill>
            <a:srgbClr val="e46c0a"/>
          </a:solidFill>
          <a:ln w="76320">
            <a:solidFill>
              <a:srgbClr val="d9d9d9">
                <a:alpha val="64000"/>
              </a:srgbClr>
            </a:solidFill>
            <a:miter/>
          </a:ln>
          <a:effectLst>
            <a:outerShdw dist="153753" dir="27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Arial Black"/>
                <a:ea typeface="Arial"/>
              </a:rPr>
              <a:t>1</a:t>
            </a:r>
            <a:endParaRPr b="0" lang="en-US" sz="2000" spc="-1" strike="noStrike">
              <a:solidFill>
                <a:srgbClr val="000000"/>
              </a:solidFill>
              <a:latin typeface="Arial"/>
            </a:endParaRPr>
          </a:p>
        </p:txBody>
      </p:sp>
      <p:sp>
        <p:nvSpPr>
          <p:cNvPr id="239" name="TextBox 50"/>
          <p:cNvSpPr/>
          <p:nvPr/>
        </p:nvSpPr>
        <p:spPr>
          <a:xfrm>
            <a:off x="2408400" y="2984400"/>
            <a:ext cx="3619440" cy="4446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网络经济中的供给与需求</a:t>
            </a:r>
            <a:endParaRPr b="0" lang="en-US" sz="1800" spc="-1" strike="noStrike">
              <a:solidFill>
                <a:srgbClr val="000000"/>
              </a:solidFill>
              <a:latin typeface="Arial"/>
            </a:endParaRPr>
          </a:p>
        </p:txBody>
      </p:sp>
      <p:sp>
        <p:nvSpPr>
          <p:cNvPr id="240" name="椭圆 51"/>
          <p:cNvSpPr/>
          <p:nvPr/>
        </p:nvSpPr>
        <p:spPr>
          <a:xfrm>
            <a:off x="2195640" y="2833560"/>
            <a:ext cx="393480" cy="317520"/>
          </a:xfrm>
          <a:prstGeom prst="ellipse">
            <a:avLst/>
          </a:prstGeom>
          <a:solidFill>
            <a:srgbClr val="604a7b"/>
          </a:solidFill>
          <a:ln w="76320">
            <a:solidFill>
              <a:srgbClr val="d9d9d9">
                <a:alpha val="64000"/>
              </a:srgbClr>
            </a:solidFill>
            <a:miter/>
          </a:ln>
          <a:effectLst>
            <a:outerShdw dist="153753" dir="27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Arial Black"/>
                <a:ea typeface="Arial"/>
              </a:rPr>
              <a:t>2</a:t>
            </a:r>
            <a:endParaRPr b="0" lang="en-US" sz="2000" spc="-1" strike="noStrike">
              <a:solidFill>
                <a:srgbClr val="000000"/>
              </a:solidFill>
              <a:latin typeface="Arial"/>
            </a:endParaRPr>
          </a:p>
        </p:txBody>
      </p:sp>
      <p:sp>
        <p:nvSpPr>
          <p:cNvPr id="241" name="TextBox 53"/>
          <p:cNvSpPr/>
          <p:nvPr/>
        </p:nvSpPr>
        <p:spPr>
          <a:xfrm>
            <a:off x="2408400" y="3633840"/>
            <a:ext cx="3619440" cy="4428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双边市场</a:t>
            </a:r>
            <a:endParaRPr b="0" lang="en-US" sz="1800" spc="-1" strike="noStrike">
              <a:solidFill>
                <a:srgbClr val="000000"/>
              </a:solidFill>
              <a:latin typeface="Arial"/>
            </a:endParaRPr>
          </a:p>
        </p:txBody>
      </p:sp>
      <p:sp>
        <p:nvSpPr>
          <p:cNvPr id="242" name="椭圆 54"/>
          <p:cNvSpPr/>
          <p:nvPr/>
        </p:nvSpPr>
        <p:spPr>
          <a:xfrm>
            <a:off x="2195640" y="3483000"/>
            <a:ext cx="393480" cy="315720"/>
          </a:xfrm>
          <a:prstGeom prst="ellipse">
            <a:avLst/>
          </a:prstGeom>
          <a:solidFill>
            <a:srgbClr val="0070c0"/>
          </a:solidFill>
          <a:ln w="76320">
            <a:solidFill>
              <a:srgbClr val="d9d9d9">
                <a:alpha val="64000"/>
              </a:srgbClr>
            </a:solidFill>
            <a:miter/>
          </a:ln>
          <a:effectLst>
            <a:outerShdw dist="153753" dir="27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Arial Black"/>
                <a:ea typeface="Arial"/>
              </a:rPr>
              <a:t>3</a:t>
            </a:r>
            <a:endParaRPr b="0" lang="en-US" sz="20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FBE9D-D66B-4CCA-9B46-E1F2E51AC534}"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244" name="Group 128"/>
          <p:cNvGrpSpPr/>
          <p:nvPr/>
        </p:nvGrpSpPr>
        <p:grpSpPr>
          <a:xfrm>
            <a:off x="7704000" y="2349360"/>
            <a:ext cx="648000" cy="453960"/>
            <a:chOff x="7704000" y="2349360"/>
            <a:chExt cx="648000" cy="453960"/>
          </a:xfrm>
        </p:grpSpPr>
        <p:sp>
          <p:nvSpPr>
            <p:cNvPr id="245"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7" name="组合 10"/>
          <p:cNvGrpSpPr/>
          <p:nvPr/>
        </p:nvGrpSpPr>
        <p:grpSpPr>
          <a:xfrm>
            <a:off x="1871640" y="1387440"/>
            <a:ext cx="4537080" cy="647640"/>
            <a:chOff x="1871640" y="1387440"/>
            <a:chExt cx="4537080" cy="647640"/>
          </a:xfrm>
        </p:grpSpPr>
        <p:sp>
          <p:nvSpPr>
            <p:cNvPr id="248" name="TextBox 11"/>
            <p:cNvSpPr/>
            <p:nvPr/>
          </p:nvSpPr>
          <p:spPr>
            <a:xfrm>
              <a:off x="2036520" y="138744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网络外部性</a:t>
              </a:r>
              <a:endParaRPr b="0" lang="en-US" sz="1800" spc="-1" strike="noStrike">
                <a:solidFill>
                  <a:srgbClr val="000000"/>
                </a:solidFill>
                <a:latin typeface="Arial"/>
              </a:endParaRPr>
            </a:p>
          </p:txBody>
        </p:sp>
        <p:sp>
          <p:nvSpPr>
            <p:cNvPr id="249" name="直接连接符 12"/>
            <p:cNvSpPr/>
            <p:nvPr/>
          </p:nvSpPr>
          <p:spPr>
            <a:xfrm>
              <a:off x="2049120" y="17161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流程图: 联系 13"/>
            <p:cNvSpPr/>
            <p:nvPr/>
          </p:nvSpPr>
          <p:spPr>
            <a:xfrm>
              <a:off x="1871640" y="1701720"/>
              <a:ext cx="331560" cy="12852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44280" bIns="44280" anchor="ctr">
              <a:normAutofit fontScale="1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251" name="直接连接符 14"/>
            <p:cNvSpPr/>
            <p:nvPr/>
          </p:nvSpPr>
          <p:spPr>
            <a:xfrm>
              <a:off x="2060280" y="202572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2" name="组合 15"/>
          <p:cNvGrpSpPr/>
          <p:nvPr/>
        </p:nvGrpSpPr>
        <p:grpSpPr>
          <a:xfrm>
            <a:off x="1871640" y="2241720"/>
            <a:ext cx="4537080" cy="647640"/>
            <a:chOff x="1871640" y="2241720"/>
            <a:chExt cx="4537080" cy="647640"/>
          </a:xfrm>
        </p:grpSpPr>
        <p:sp>
          <p:nvSpPr>
            <p:cNvPr id="253" name="TextBox 16"/>
            <p:cNvSpPr/>
            <p:nvPr/>
          </p:nvSpPr>
          <p:spPr>
            <a:xfrm>
              <a:off x="2036520" y="224172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正反馈</a:t>
              </a:r>
              <a:endParaRPr b="0" lang="en-US" sz="1800" spc="-1" strike="noStrike">
                <a:solidFill>
                  <a:srgbClr val="000000"/>
                </a:solidFill>
                <a:latin typeface="Arial"/>
              </a:endParaRPr>
            </a:p>
          </p:txBody>
        </p:sp>
        <p:sp>
          <p:nvSpPr>
            <p:cNvPr id="254" name="直接连接符 17"/>
            <p:cNvSpPr/>
            <p:nvPr/>
          </p:nvSpPr>
          <p:spPr>
            <a:xfrm>
              <a:off x="2049120" y="257040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流程图: 联系 18"/>
            <p:cNvSpPr/>
            <p:nvPr/>
          </p:nvSpPr>
          <p:spPr>
            <a:xfrm>
              <a:off x="1871640" y="2556000"/>
              <a:ext cx="331560" cy="126720"/>
            </a:xfrm>
            <a:prstGeom prst="flowChartConnector">
              <a:avLst/>
            </a:prstGeom>
            <a:solidFill>
              <a:srgbClr val="ffc000"/>
            </a:solidFill>
            <a:ln w="25560">
              <a:solidFill>
                <a:srgbClr val="d9d9d9"/>
              </a:solidFill>
              <a:miter/>
            </a:ln>
          </p:spPr>
          <p:style>
            <a:lnRef idx="0"/>
            <a:fillRef idx="0"/>
            <a:effectRef idx="0"/>
            <a:fontRef idx="minor"/>
          </p:style>
          <p:txBody>
            <a:bodyPr lIns="90000" rIns="90000" tIns="43200" bIns="4320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256" name="直接连接符 19"/>
            <p:cNvSpPr/>
            <p:nvPr/>
          </p:nvSpPr>
          <p:spPr>
            <a:xfrm>
              <a:off x="2060280" y="287676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AutoShape 78"/>
          <p:cNvSpPr/>
          <p:nvPr/>
        </p:nvSpPr>
        <p:spPr>
          <a:xfrm>
            <a:off x="900000" y="5265720"/>
            <a:ext cx="360360" cy="311040"/>
          </a:xfrm>
          <a:prstGeom prst="hexagon">
            <a:avLst>
              <a:gd name="adj" fmla="val 28964"/>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1"/>
          <p:cNvSpPr>
            <a:spLocks noGrp="1"/>
          </p:cNvSpPr>
          <p:nvPr>
            <p:ph type="title"/>
          </p:nvPr>
        </p:nvSpPr>
        <p:spPr>
          <a:xfrm>
            <a:off x="576000" y="296640"/>
            <a:ext cx="60483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c0504d"/>
                </a:solidFill>
                <a:latin typeface="微软雅黑"/>
                <a:ea typeface="微软雅黑"/>
              </a:rPr>
              <a:t>第一节  网络外部性与正反馈</a:t>
            </a:r>
            <a:endParaRPr b="0" lang="en-US" sz="2900" spc="-1" strike="noStrike">
              <a:solidFill>
                <a:srgbClr val="000000"/>
              </a:solidFill>
              <a:latin typeface="Calibri"/>
            </a:endParaRPr>
          </a:p>
        </p:txBody>
      </p:sp>
      <p:grpSp>
        <p:nvGrpSpPr>
          <p:cNvPr id="261" name="组合 127"/>
          <p:cNvGrpSpPr/>
          <p:nvPr/>
        </p:nvGrpSpPr>
        <p:grpSpPr>
          <a:xfrm>
            <a:off x="250920" y="324000"/>
            <a:ext cx="264960" cy="417240"/>
            <a:chOff x="250920" y="324000"/>
            <a:chExt cx="264960" cy="417240"/>
          </a:xfrm>
        </p:grpSpPr>
        <p:sp>
          <p:nvSpPr>
            <p:cNvPr id="262"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5" name="直接连接符 26"/>
          <p:cNvSpPr/>
          <p:nvPr/>
        </p:nvSpPr>
        <p:spPr>
          <a:xfrm>
            <a:off x="2049480" y="344340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直接连接符 28"/>
          <p:cNvSpPr/>
          <p:nvPr/>
        </p:nvSpPr>
        <p:spPr>
          <a:xfrm>
            <a:off x="2060640" y="37530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7" name="Group 128"/>
          <p:cNvGrpSpPr/>
          <p:nvPr/>
        </p:nvGrpSpPr>
        <p:grpSpPr>
          <a:xfrm>
            <a:off x="7704000" y="2349360"/>
            <a:ext cx="648000" cy="453960"/>
            <a:chOff x="7704000" y="2349360"/>
            <a:chExt cx="648000" cy="453960"/>
          </a:xfrm>
        </p:grpSpPr>
        <p:sp>
          <p:nvSpPr>
            <p:cNvPr id="268"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0" name="组合 10"/>
          <p:cNvGrpSpPr/>
          <p:nvPr/>
        </p:nvGrpSpPr>
        <p:grpSpPr>
          <a:xfrm>
            <a:off x="1224000" y="944640"/>
            <a:ext cx="7128000" cy="647640"/>
            <a:chOff x="1224000" y="944640"/>
            <a:chExt cx="7128000" cy="647640"/>
          </a:xfrm>
        </p:grpSpPr>
        <p:sp>
          <p:nvSpPr>
            <p:cNvPr id="271" name="TextBox 11"/>
            <p:cNvSpPr/>
            <p:nvPr/>
          </p:nvSpPr>
          <p:spPr>
            <a:xfrm>
              <a:off x="1482480" y="944640"/>
              <a:ext cx="686952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外部性</a:t>
              </a:r>
              <a:endParaRPr b="0" lang="en-US" sz="1800" spc="-1" strike="noStrike">
                <a:solidFill>
                  <a:srgbClr val="000000"/>
                </a:solidFill>
                <a:latin typeface="Arial"/>
              </a:endParaRPr>
            </a:p>
          </p:txBody>
        </p:sp>
        <p:sp>
          <p:nvSpPr>
            <p:cNvPr id="272"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流程图: 联系 13"/>
            <p:cNvSpPr/>
            <p:nvPr/>
          </p:nvSpPr>
          <p:spPr>
            <a:xfrm>
              <a:off x="1224000" y="121284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274"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7" name="组合 127"/>
          <p:cNvGrpSpPr/>
          <p:nvPr/>
        </p:nvGrpSpPr>
        <p:grpSpPr>
          <a:xfrm>
            <a:off x="250920" y="324000"/>
            <a:ext cx="264960" cy="417240"/>
            <a:chOff x="250920" y="324000"/>
            <a:chExt cx="264960" cy="417240"/>
          </a:xfrm>
        </p:grpSpPr>
        <p:sp>
          <p:nvSpPr>
            <p:cNvPr id="278"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1" name="Rectangle 2"/>
          <p:cNvSpPr/>
          <p:nvPr/>
        </p:nvSpPr>
        <p:spPr>
          <a:xfrm>
            <a:off x="684360" y="1820520"/>
            <a:ext cx="7991280" cy="505440"/>
          </a:xfrm>
          <a:prstGeom prst="rect">
            <a:avLst/>
          </a:prstGeom>
          <a:solidFill>
            <a:srgbClr val="fdeada">
              <a:alpha val="41000"/>
            </a:srgbClr>
          </a:solidFill>
          <a:ln w="25560">
            <a:solidFill>
              <a:srgbClr val="4f81bd"/>
            </a:solidFill>
            <a:miter/>
          </a:ln>
        </p:spPr>
        <p:style>
          <a:lnRef idx="0"/>
          <a:fillRef idx="0"/>
          <a:effectRef idx="0"/>
          <a:fontRef idx="minor"/>
        </p:style>
        <p:txBody>
          <a:bodyPr lIns="90000" rIns="90000" tIns="46800" bIns="46800" anchor="ctr">
            <a:spAutoFit/>
          </a:bodyPr>
          <a:p>
            <a:pPr>
              <a:lnSpc>
                <a:spcPct val="150000"/>
              </a:lnSpc>
              <a:spcAft>
                <a:spcPts val="22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外部性引例：汽车废气、花园蜜蜂</a:t>
            </a:r>
            <a:endParaRPr b="0" lang="en-US" sz="1800" spc="-1" strike="noStrike">
              <a:solidFill>
                <a:srgbClr val="000000"/>
              </a:solidFill>
              <a:latin typeface="Arial"/>
            </a:endParaRPr>
          </a:p>
        </p:txBody>
      </p:sp>
      <p:sp>
        <p:nvSpPr>
          <p:cNvPr id="282" name="MH_SubTitle_1"/>
          <p:cNvSpPr/>
          <p:nvPr/>
        </p:nvSpPr>
        <p:spPr>
          <a:xfrm>
            <a:off x="5041800" y="2274840"/>
            <a:ext cx="5108760" cy="49392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MH_Text_1"/>
          <p:cNvSpPr/>
          <p:nvPr/>
        </p:nvSpPr>
        <p:spPr>
          <a:xfrm>
            <a:off x="1116000" y="2781360"/>
            <a:ext cx="7343640" cy="1247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t>
            </a:r>
            <a:r>
              <a:rPr b="1" lang="zh-CN" sz="1800" spc="-1" strike="noStrike">
                <a:solidFill>
                  <a:srgbClr val="333399"/>
                </a:solidFill>
                <a:latin typeface="Arial"/>
              </a:rPr>
              <a:t>一</a:t>
            </a:r>
            <a:r>
              <a:rPr b="1" lang="en-US" sz="1800" spc="-1" strike="noStrike">
                <a:solidFill>
                  <a:srgbClr val="333399"/>
                </a:solidFill>
                <a:latin typeface="Arial"/>
              </a:rPr>
              <a:t>)</a:t>
            </a:r>
            <a:r>
              <a:rPr b="1" lang="zh-CN" sz="1800" spc="-1" strike="noStrike">
                <a:solidFill>
                  <a:srgbClr val="333399"/>
                </a:solidFill>
                <a:latin typeface="Arial"/>
              </a:rPr>
              <a:t>定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最早论述外部性问题的是</a:t>
            </a:r>
            <a:r>
              <a:rPr b="1" lang="zh-CN" sz="1800" spc="-1" strike="noStrike">
                <a:solidFill>
                  <a:srgbClr val="ff0000"/>
                </a:solidFill>
                <a:latin typeface="Arial"/>
              </a:rPr>
              <a:t>马歇尔</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0" lang="zh-CN" sz="1800" spc="-1" strike="noStrike">
                <a:solidFill>
                  <a:srgbClr val="000000"/>
                </a:solidFill>
                <a:latin typeface="Arial"/>
              </a:rPr>
              <a:t>他在</a:t>
            </a:r>
            <a:r>
              <a:rPr b="0" lang="en-US" sz="1800" spc="-1" strike="noStrike">
                <a:solidFill>
                  <a:srgbClr val="000000"/>
                </a:solidFill>
                <a:latin typeface="Arial"/>
              </a:rPr>
              <a:t>1890</a:t>
            </a:r>
            <a:r>
              <a:rPr b="0" lang="zh-CN" sz="1800" spc="-1" strike="noStrike">
                <a:solidFill>
                  <a:srgbClr val="000000"/>
                </a:solidFill>
                <a:latin typeface="Arial"/>
              </a:rPr>
              <a:t>年出版的</a:t>
            </a:r>
            <a:r>
              <a:rPr b="0" lang="en-US" sz="1800" spc="-1" strike="noStrike">
                <a:solidFill>
                  <a:srgbClr val="000000"/>
                </a:solidFill>
                <a:latin typeface="Arial"/>
              </a:rPr>
              <a:t>《</a:t>
            </a:r>
            <a:r>
              <a:rPr b="0" lang="zh-CN" sz="1800" spc="-1" strike="noStrike">
                <a:solidFill>
                  <a:srgbClr val="000000"/>
                </a:solidFill>
                <a:latin typeface="Arial"/>
              </a:rPr>
              <a:t>经济学原理</a:t>
            </a:r>
            <a:r>
              <a:rPr b="0" lang="en-US" sz="1800" spc="-1" strike="noStrike">
                <a:solidFill>
                  <a:srgbClr val="000000"/>
                </a:solidFill>
                <a:latin typeface="Arial"/>
              </a:rPr>
              <a:t>》</a:t>
            </a:r>
            <a:r>
              <a:rPr b="0" lang="zh-CN" sz="1800" spc="-1" strike="noStrike">
                <a:solidFill>
                  <a:srgbClr val="000000"/>
                </a:solidFill>
                <a:latin typeface="Arial"/>
              </a:rPr>
              <a:t>中提到“外部经济”这一术语，用来定义经济中企业外在因素变化对企业的有利影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标题 1"/>
          <p:cNvSpPr/>
          <p:nvPr/>
        </p:nvSpPr>
        <p:spPr>
          <a:xfrm>
            <a:off x="576360" y="297000"/>
            <a:ext cx="64800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0504d"/>
                </a:solidFill>
                <a:latin typeface="微软雅黑"/>
                <a:ea typeface="微软雅黑"/>
              </a:rPr>
              <a:t>第一节  网络外部性与正反馈</a:t>
            </a:r>
            <a:br>
              <a:rPr sz="2900"/>
            </a:br>
            <a:endParaRPr b="0" lang="en-US" sz="3300" spc="-1" strike="noStrike">
              <a:solidFill>
                <a:srgbClr val="000000"/>
              </a:solidFill>
              <a:latin typeface="Arial"/>
            </a:endParaRPr>
          </a:p>
        </p:txBody>
      </p:sp>
      <p:sp>
        <p:nvSpPr>
          <p:cNvPr id="287" name=""/>
          <p:cNvSpPr/>
          <p:nvPr/>
        </p:nvSpPr>
        <p:spPr>
          <a:xfrm>
            <a:off x="1008000" y="4076640"/>
            <a:ext cx="6804000" cy="642600"/>
          </a:xfrm>
          <a:prstGeom prst="rect">
            <a:avLst/>
          </a:prstGeom>
          <a:noFill/>
          <a:ln w="0">
            <a:noFill/>
          </a:ln>
          <a:effectLst>
            <a:outerShdw dist="17819" dir="2700000" blurRad="0" rotWithShape="0">
              <a:srgbClr val="2f4d7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t>
            </a:r>
            <a:r>
              <a:rPr b="1" lang="zh-CN" sz="1800" spc="-1" strike="noStrike">
                <a:solidFill>
                  <a:srgbClr val="333399"/>
                </a:solidFill>
                <a:latin typeface="Arial"/>
              </a:rPr>
              <a:t>美国经济学家萨缪尔森</a:t>
            </a:r>
            <a:r>
              <a:rPr b="0" lang="zh-CN" sz="1800" spc="-1" strike="noStrike">
                <a:solidFill>
                  <a:srgbClr val="333399"/>
                </a:solidFill>
                <a:latin typeface="Arial"/>
              </a:rPr>
              <a:t>的“外部性”定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zh-CN" sz="1800" spc="-1" strike="noStrike">
                <a:solidFill>
                  <a:srgbClr val="333399"/>
                </a:solidFill>
                <a:latin typeface="Arial"/>
              </a:rPr>
              <a:t>“</a:t>
            </a:r>
            <a:r>
              <a:rPr b="0" lang="zh-CN" sz="1800" spc="-1" strike="noStrike">
                <a:solidFill>
                  <a:srgbClr val="333399"/>
                </a:solidFill>
                <a:latin typeface="Arial"/>
              </a:rPr>
              <a:t>在生产和消费的过程中给他人带来</a:t>
            </a:r>
            <a:r>
              <a:rPr b="0" lang="zh-CN" sz="1800" spc="-1" strike="noStrike">
                <a:solidFill>
                  <a:srgbClr val="ff0000"/>
                </a:solidFill>
                <a:latin typeface="Arial"/>
              </a:rPr>
              <a:t>非自愿的成本或收益</a:t>
            </a:r>
            <a:r>
              <a:rPr b="0" lang="zh-CN" sz="1800" spc="-1" strike="noStrike">
                <a:solidFill>
                  <a:srgbClr val="333399"/>
                </a:solidFill>
                <a:latin typeface="Arial"/>
              </a:rPr>
              <a:t>，即成本或收益被强加于他人身上，而这种成本或收益并未引起增加成本或由接受收益的人加以偿付。”</a:t>
            </a:r>
            <a:endParaRPr b="0" lang="en-US" sz="18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8" name="Group 128"/>
          <p:cNvGrpSpPr/>
          <p:nvPr/>
        </p:nvGrpSpPr>
        <p:grpSpPr>
          <a:xfrm>
            <a:off x="7704000" y="2349360"/>
            <a:ext cx="648000" cy="453960"/>
            <a:chOff x="7704000" y="2349360"/>
            <a:chExt cx="648000" cy="453960"/>
          </a:xfrm>
        </p:grpSpPr>
        <p:sp>
          <p:nvSpPr>
            <p:cNvPr id="289"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1"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3" name="组合 127"/>
          <p:cNvGrpSpPr/>
          <p:nvPr/>
        </p:nvGrpSpPr>
        <p:grpSpPr>
          <a:xfrm>
            <a:off x="250920" y="324000"/>
            <a:ext cx="264960" cy="417240"/>
            <a:chOff x="250920" y="324000"/>
            <a:chExt cx="264960" cy="417240"/>
          </a:xfrm>
        </p:grpSpPr>
        <p:sp>
          <p:nvSpPr>
            <p:cNvPr id="294"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7" name="MH_SubTitle_1"/>
          <p:cNvSpPr/>
          <p:nvPr/>
        </p:nvSpPr>
        <p:spPr>
          <a:xfrm>
            <a:off x="5041800" y="2274840"/>
            <a:ext cx="5108760" cy="49392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标题 1"/>
          <p:cNvSpPr/>
          <p:nvPr/>
        </p:nvSpPr>
        <p:spPr>
          <a:xfrm>
            <a:off x="576360" y="297000"/>
            <a:ext cx="64800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0504d"/>
                </a:solidFill>
                <a:latin typeface="微软雅黑"/>
                <a:ea typeface="微软雅黑"/>
              </a:rPr>
              <a:t>第一节  网络外部性与正反馈</a:t>
            </a:r>
            <a:br>
              <a:rPr sz="2900"/>
            </a:br>
            <a:endParaRPr b="0" lang="en-US" sz="3300" spc="-1" strike="noStrike">
              <a:solidFill>
                <a:srgbClr val="000000"/>
              </a:solidFill>
              <a:latin typeface="Arial"/>
            </a:endParaRPr>
          </a:p>
        </p:txBody>
      </p:sp>
      <p:grpSp>
        <p:nvGrpSpPr>
          <p:cNvPr id="301" name=""/>
          <p:cNvGrpSpPr/>
          <p:nvPr/>
        </p:nvGrpSpPr>
        <p:grpSpPr>
          <a:xfrm>
            <a:off x="576360" y="1808280"/>
            <a:ext cx="7866000" cy="4144320"/>
            <a:chOff x="576360" y="1808280"/>
            <a:chExt cx="7866000" cy="4144320"/>
          </a:xfrm>
        </p:grpSpPr>
        <p:pic>
          <p:nvPicPr>
            <p:cNvPr id="302" name="Picture 23" descr="p_12_1"/>
            <p:cNvPicPr/>
            <p:nvPr/>
          </p:nvPicPr>
          <p:blipFill>
            <a:blip r:embed="rId1"/>
            <a:stretch/>
          </p:blipFill>
          <p:spPr>
            <a:xfrm>
              <a:off x="1288800" y="2020680"/>
              <a:ext cx="3144600" cy="645840"/>
            </a:xfrm>
            <a:prstGeom prst="rect">
              <a:avLst/>
            </a:prstGeom>
            <a:ln w="0">
              <a:noFill/>
            </a:ln>
          </p:spPr>
        </p:pic>
        <p:pic>
          <p:nvPicPr>
            <p:cNvPr id="303" name="Picture 25" descr=""/>
            <p:cNvPicPr/>
            <p:nvPr/>
          </p:nvPicPr>
          <p:blipFill>
            <a:blip r:embed="rId2"/>
            <a:stretch/>
          </p:blipFill>
          <p:spPr>
            <a:xfrm>
              <a:off x="576360" y="2307960"/>
              <a:ext cx="7866000" cy="2785680"/>
            </a:xfrm>
            <a:prstGeom prst="rect">
              <a:avLst/>
            </a:prstGeom>
            <a:ln w="0">
              <a:noFill/>
            </a:ln>
          </p:spPr>
        </p:pic>
        <p:sp>
          <p:nvSpPr>
            <p:cNvPr id="304" name="Text Box 26"/>
            <p:cNvSpPr/>
            <p:nvPr/>
          </p:nvSpPr>
          <p:spPr>
            <a:xfrm>
              <a:off x="1433520" y="2736720"/>
              <a:ext cx="221400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正外部性与负外部性</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5" name="Text Box 27"/>
            <p:cNvSpPr/>
            <p:nvPr/>
          </p:nvSpPr>
          <p:spPr>
            <a:xfrm>
              <a:off x="5976000" y="2665440"/>
              <a:ext cx="152172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公共外部性与私人外部性</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6" name="Text Box 28"/>
            <p:cNvSpPr/>
            <p:nvPr/>
          </p:nvSpPr>
          <p:spPr>
            <a:xfrm>
              <a:off x="5719680" y="4165560"/>
              <a:ext cx="2534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货币外部性与技术外部性</a:t>
              </a:r>
              <a:endParaRPr b="0" lang="en-US" sz="1600" spc="-1" strike="noStrike">
                <a:solidFill>
                  <a:srgbClr val="000000"/>
                </a:solidFill>
                <a:latin typeface="Arial"/>
              </a:endParaRPr>
            </a:p>
          </p:txBody>
        </p:sp>
        <p:sp>
          <p:nvSpPr>
            <p:cNvPr id="307" name="Text Box 29"/>
            <p:cNvSpPr/>
            <p:nvPr/>
          </p:nvSpPr>
          <p:spPr>
            <a:xfrm>
              <a:off x="1279800" y="4165560"/>
              <a:ext cx="1643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网络外部性和非网络外部性</a:t>
              </a:r>
              <a:endParaRPr b="0" lang="en-US" sz="1600" spc="-1" strike="noStrike">
                <a:solidFill>
                  <a:srgbClr val="000000"/>
                </a:solidFill>
                <a:latin typeface="Arial"/>
              </a:endParaRPr>
            </a:p>
          </p:txBody>
        </p:sp>
        <p:pic>
          <p:nvPicPr>
            <p:cNvPr id="308" name="Picture 23" descr="p_12_1"/>
            <p:cNvPicPr/>
            <p:nvPr/>
          </p:nvPicPr>
          <p:blipFill>
            <a:blip r:embed="rId3"/>
            <a:stretch/>
          </p:blipFill>
          <p:spPr>
            <a:xfrm>
              <a:off x="1074600" y="1954080"/>
              <a:ext cx="3146040" cy="639360"/>
            </a:xfrm>
            <a:prstGeom prst="rect">
              <a:avLst/>
            </a:prstGeom>
            <a:ln w="0">
              <a:noFill/>
            </a:ln>
          </p:spPr>
        </p:pic>
        <p:sp>
          <p:nvSpPr>
            <p:cNvPr id="309" name="矩形 9"/>
            <p:cNvSpPr/>
            <p:nvPr/>
          </p:nvSpPr>
          <p:spPr>
            <a:xfrm>
              <a:off x="1004760" y="2022480"/>
              <a:ext cx="292860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依据外部性的作用效果</a:t>
              </a:r>
              <a:endParaRPr b="0" lang="en-US" sz="1800" spc="-1" strike="noStrike">
                <a:solidFill>
                  <a:srgbClr val="000000"/>
                </a:solidFill>
                <a:latin typeface="Arial"/>
              </a:endParaRPr>
            </a:p>
          </p:txBody>
        </p:sp>
        <p:pic>
          <p:nvPicPr>
            <p:cNvPr id="310" name="Picture 23" descr="p_12_1"/>
            <p:cNvPicPr/>
            <p:nvPr/>
          </p:nvPicPr>
          <p:blipFill>
            <a:blip r:embed="rId4"/>
            <a:stretch/>
          </p:blipFill>
          <p:spPr>
            <a:xfrm>
              <a:off x="4794120" y="1808280"/>
              <a:ext cx="3138120" cy="785520"/>
            </a:xfrm>
            <a:prstGeom prst="rect">
              <a:avLst/>
            </a:prstGeom>
            <a:ln w="0">
              <a:noFill/>
            </a:ln>
          </p:spPr>
        </p:pic>
        <p:sp>
          <p:nvSpPr>
            <p:cNvPr id="311" name="矩形 11"/>
            <p:cNvSpPr/>
            <p:nvPr/>
          </p:nvSpPr>
          <p:spPr>
            <a:xfrm>
              <a:off x="5362560" y="1950840"/>
              <a:ext cx="235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按照外部性影响是否具有公共产品的性质</a:t>
              </a:r>
              <a:endParaRPr b="0" lang="en-US" sz="1800" spc="-1" strike="noStrike">
                <a:solidFill>
                  <a:srgbClr val="000000"/>
                </a:solidFill>
                <a:latin typeface="Arial"/>
              </a:endParaRPr>
            </a:p>
          </p:txBody>
        </p:sp>
        <p:pic>
          <p:nvPicPr>
            <p:cNvPr id="312" name="Picture 23" descr="p_12_1"/>
            <p:cNvPicPr/>
            <p:nvPr/>
          </p:nvPicPr>
          <p:blipFill>
            <a:blip r:embed="rId5"/>
            <a:stretch/>
          </p:blipFill>
          <p:spPr>
            <a:xfrm>
              <a:off x="788760" y="4665600"/>
              <a:ext cx="3571560" cy="1287000"/>
            </a:xfrm>
            <a:prstGeom prst="rect">
              <a:avLst/>
            </a:prstGeom>
            <a:ln w="0">
              <a:noFill/>
            </a:ln>
          </p:spPr>
        </p:pic>
        <p:sp>
          <p:nvSpPr>
            <p:cNvPr id="313" name="矩形 13"/>
            <p:cNvSpPr/>
            <p:nvPr/>
          </p:nvSpPr>
          <p:spPr>
            <a:xfrm>
              <a:off x="1147680" y="4879800"/>
              <a:ext cx="2999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根据外部性影响的大小是否同参与某项活动的经济主体的数量正相关</a:t>
              </a:r>
              <a:endParaRPr b="0" lang="en-US" sz="1600" spc="-1" strike="noStrike">
                <a:solidFill>
                  <a:srgbClr val="000000"/>
                </a:solidFill>
                <a:latin typeface="Arial"/>
              </a:endParaRPr>
            </a:p>
          </p:txBody>
        </p:sp>
        <p:pic>
          <p:nvPicPr>
            <p:cNvPr id="314" name="Picture 23" descr="p_12_1"/>
            <p:cNvPicPr/>
            <p:nvPr/>
          </p:nvPicPr>
          <p:blipFill>
            <a:blip r:embed="rId6"/>
            <a:stretch/>
          </p:blipFill>
          <p:spPr>
            <a:xfrm>
              <a:off x="4933800" y="4806720"/>
              <a:ext cx="3144600" cy="999720"/>
            </a:xfrm>
            <a:prstGeom prst="rect">
              <a:avLst/>
            </a:prstGeom>
            <a:ln w="0">
              <a:noFill/>
            </a:ln>
          </p:spPr>
        </p:pic>
        <p:sp>
          <p:nvSpPr>
            <p:cNvPr id="315" name="矩形 17"/>
            <p:cNvSpPr/>
            <p:nvPr/>
          </p:nvSpPr>
          <p:spPr>
            <a:xfrm>
              <a:off x="6056280" y="502272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依照来源</a:t>
              </a:r>
              <a:endParaRPr b="0" lang="en-US" sz="1800" spc="-1" strike="noStrike">
                <a:solidFill>
                  <a:srgbClr val="000000"/>
                </a:solidFill>
                <a:latin typeface="Arial"/>
              </a:endParaRPr>
            </a:p>
          </p:txBody>
        </p:sp>
      </p:grpSp>
      <p:sp>
        <p:nvSpPr>
          <p:cNvPr id="316" name=""/>
          <p:cNvSpPr/>
          <p:nvPr/>
        </p:nvSpPr>
        <p:spPr>
          <a:xfrm>
            <a:off x="774720" y="1268280"/>
            <a:ext cx="1320480" cy="368280"/>
          </a:xfrm>
          <a:prstGeom prst="rect">
            <a:avLst/>
          </a:prstGeom>
          <a:noFill/>
          <a:ln w="0">
            <a:noFill/>
          </a:ln>
          <a:effectLst>
            <a:outerShdw dist="17819" dir="2700000" blurRad="0" rotWithShape="0">
              <a:srgbClr val="2f4d7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t>
            </a:r>
            <a:r>
              <a:rPr b="1" lang="zh-CN" sz="1800" spc="-1" strike="noStrike">
                <a:solidFill>
                  <a:srgbClr val="333399"/>
                </a:solidFill>
                <a:latin typeface="Arial"/>
              </a:rPr>
              <a:t>二</a:t>
            </a:r>
            <a:r>
              <a:rPr b="1" lang="en-US" sz="1800" spc="-1" strike="noStrike">
                <a:solidFill>
                  <a:srgbClr val="333399"/>
                </a:solidFill>
                <a:latin typeface="Arial"/>
              </a:rPr>
              <a:t>)</a:t>
            </a:r>
            <a:r>
              <a:rPr b="1" lang="zh-CN" sz="1800" spc="-1" strike="noStrike">
                <a:solidFill>
                  <a:srgbClr val="333399"/>
                </a:solidFill>
                <a:latin typeface="Arial"/>
              </a:rPr>
              <a:t>外部性分类</a:t>
            </a:r>
            <a:endParaRPr b="0" lang="en-US" sz="18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295ED-4263-4BB7-BF90-0236C72FE887}"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318" name="Group 128"/>
          <p:cNvGrpSpPr/>
          <p:nvPr/>
        </p:nvGrpSpPr>
        <p:grpSpPr>
          <a:xfrm>
            <a:off x="7704000" y="2349360"/>
            <a:ext cx="648000" cy="453960"/>
            <a:chOff x="7704000" y="2349360"/>
            <a:chExt cx="648000" cy="453960"/>
          </a:xfrm>
        </p:grpSpPr>
        <p:sp>
          <p:nvSpPr>
            <p:cNvPr id="319"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1"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AutoShape 78"/>
          <p:cNvSpPr/>
          <p:nvPr/>
        </p:nvSpPr>
        <p:spPr>
          <a:xfrm>
            <a:off x="900000" y="5265720"/>
            <a:ext cx="360360" cy="311040"/>
          </a:xfrm>
          <a:prstGeom prst="hexagon">
            <a:avLst>
              <a:gd name="adj" fmla="val 28964"/>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4" name="组合 127"/>
          <p:cNvGrpSpPr/>
          <p:nvPr/>
        </p:nvGrpSpPr>
        <p:grpSpPr>
          <a:xfrm>
            <a:off x="250920" y="324000"/>
            <a:ext cx="264960" cy="417240"/>
            <a:chOff x="250920" y="324000"/>
            <a:chExt cx="264960" cy="417240"/>
          </a:xfrm>
        </p:grpSpPr>
        <p:sp>
          <p:nvSpPr>
            <p:cNvPr id="325"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8" name="Rectangle 2"/>
          <p:cNvSpPr/>
          <p:nvPr/>
        </p:nvSpPr>
        <p:spPr>
          <a:xfrm>
            <a:off x="792000" y="2665800"/>
            <a:ext cx="7883640" cy="2029320"/>
          </a:xfrm>
          <a:prstGeom prst="rect">
            <a:avLst/>
          </a:prstGeom>
          <a:solidFill>
            <a:srgbClr val="fdeada">
              <a:alpha val="41000"/>
            </a:srgbClr>
          </a:solidFill>
          <a:ln w="25560">
            <a:solidFill>
              <a:srgbClr val="4f81bd"/>
            </a:solidFill>
            <a:miter/>
          </a:ln>
        </p:spPr>
        <p:style>
          <a:lnRef idx="0"/>
          <a:fillRef idx="0"/>
          <a:effectRef idx="0"/>
          <a:fontRef idx="minor"/>
        </p:style>
        <p:txBody>
          <a:bodyPr lIns="90000" rIns="90000" tIns="46800" bIns="4680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zh-CN" sz="2400" spc="-1" strike="noStrike">
                <a:solidFill>
                  <a:srgbClr val="007eea"/>
                </a:solidFill>
                <a:latin typeface="Calibri"/>
              </a:rPr>
              <a:t>网络效应</a:t>
            </a:r>
            <a:r>
              <a:rPr b="0" lang="zh-CN" sz="2400" spc="-1" strike="noStrike">
                <a:solidFill>
                  <a:srgbClr val="000000"/>
                </a:solidFill>
                <a:latin typeface="Calibri"/>
              </a:rPr>
              <a:t>：</a:t>
            </a:r>
            <a:r>
              <a:rPr b="0" lang="zh-CN" sz="2400" spc="-1" strike="noStrike">
                <a:solidFill>
                  <a:srgbClr val="333399"/>
                </a:solidFill>
                <a:latin typeface="Calibri"/>
              </a:rPr>
              <a:t>网络效应的雏形是网络价值，其产生的根本原因在于网络自身的系统性、网络内部信息流的交互性和网络基础设施长期垄断性</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r>
              <a:rPr b="0" lang="zh-CN" sz="2400" spc="-1" strike="noStrike">
                <a:solidFill>
                  <a:srgbClr val="007eea"/>
                </a:solidFill>
                <a:latin typeface="Calibri"/>
              </a:rPr>
              <a:t>网络外部性</a:t>
            </a:r>
            <a:r>
              <a:rPr b="0" lang="zh-CN" sz="2400" spc="-1" strike="noStrike">
                <a:solidFill>
                  <a:srgbClr val="000000"/>
                </a:solidFill>
                <a:latin typeface="Calibri"/>
              </a:rPr>
              <a:t>：</a:t>
            </a:r>
            <a:r>
              <a:rPr b="0" lang="zh-CN" sz="2400" spc="-1" strike="noStrike">
                <a:solidFill>
                  <a:srgbClr val="333399"/>
                </a:solidFill>
                <a:latin typeface="Calibri"/>
              </a:rPr>
              <a:t>当一种产品对用户的价值随着采用相同产品或可兼容产品的用户增加而增大时，就出现了网络外部性。</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CN" sz="2400" spc="-1" strike="noStrike">
                <a:solidFill>
                  <a:srgbClr val="ff0000"/>
                </a:solidFill>
                <a:latin typeface="Calibri"/>
              </a:rPr>
              <a:t>注：</a:t>
            </a:r>
            <a:r>
              <a:rPr b="0" lang="zh-CN" sz="2400" spc="-1" strike="noStrike">
                <a:solidFill>
                  <a:srgbClr val="333399"/>
                </a:solidFill>
                <a:latin typeface="Calibri"/>
              </a:rPr>
              <a:t>只有当市场参与者不能把网络效应内化</a:t>
            </a:r>
            <a:r>
              <a:rPr b="0" lang="en-US" sz="2400" spc="-1" strike="noStrike">
                <a:solidFill>
                  <a:srgbClr val="333399"/>
                </a:solidFill>
                <a:latin typeface="Calibri"/>
              </a:rPr>
              <a:t>(Internalization)</a:t>
            </a:r>
            <a:r>
              <a:rPr b="0" lang="zh-CN" sz="2400" spc="-1" strike="noStrike">
                <a:solidFill>
                  <a:srgbClr val="333399"/>
                </a:solidFill>
                <a:latin typeface="Calibri"/>
              </a:rPr>
              <a:t>，网络效应才可以被称为网络外部性。</a:t>
            </a:r>
            <a:endParaRPr b="0" lang="en-US" sz="2400" spc="-1" strike="noStrike">
              <a:solidFill>
                <a:srgbClr val="000000"/>
              </a:solidFill>
              <a:latin typeface="Arial"/>
            </a:endParaRPr>
          </a:p>
        </p:txBody>
      </p:sp>
      <p:sp>
        <p:nvSpPr>
          <p:cNvPr id="329" name=""/>
          <p:cNvSpPr/>
          <p:nvPr/>
        </p:nvSpPr>
        <p:spPr>
          <a:xfrm>
            <a:off x="867960" y="1268280"/>
            <a:ext cx="1594800" cy="368280"/>
          </a:xfrm>
          <a:prstGeom prst="rect">
            <a:avLst/>
          </a:prstGeom>
          <a:noFill/>
          <a:ln w="0">
            <a:noFill/>
          </a:ln>
          <a:effectLst>
            <a:outerShdw dist="17819" dir="2700000" blurRad="0" rotWithShape="0">
              <a:srgbClr val="2f4d7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t>
            </a:r>
            <a:r>
              <a:rPr b="1" lang="zh-CN" sz="1800" spc="-1" strike="noStrike">
                <a:solidFill>
                  <a:srgbClr val="333399"/>
                </a:solidFill>
                <a:latin typeface="Arial"/>
              </a:rPr>
              <a:t>三</a:t>
            </a:r>
            <a:r>
              <a:rPr b="1" lang="en-US" sz="1800" spc="-1" strike="noStrike">
                <a:solidFill>
                  <a:srgbClr val="333399"/>
                </a:solidFill>
                <a:latin typeface="Arial"/>
              </a:rPr>
              <a:t>)</a:t>
            </a:r>
            <a:r>
              <a:rPr b="1" lang="zh-CN" sz="1800" spc="-1" strike="noStrike">
                <a:solidFill>
                  <a:srgbClr val="333399"/>
                </a:solidFill>
                <a:latin typeface="Arial"/>
              </a:rPr>
              <a:t>网络外部性内涵</a:t>
            </a:r>
            <a:endParaRPr b="0" lang="en-US" sz="1800" spc="-1" strike="noStrike">
              <a:solidFill>
                <a:srgbClr val="000000"/>
              </a:solidFill>
              <a:latin typeface="Arial"/>
            </a:endParaRPr>
          </a:p>
        </p:txBody>
      </p:sp>
      <p:sp>
        <p:nvSpPr>
          <p:cNvPr id="330" name="标题 1"/>
          <p:cNvSpPr/>
          <p:nvPr/>
        </p:nvSpPr>
        <p:spPr>
          <a:xfrm>
            <a:off x="576360" y="297000"/>
            <a:ext cx="64800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0504d"/>
                </a:solidFill>
                <a:latin typeface="微软雅黑"/>
                <a:ea typeface="微软雅黑"/>
              </a:rPr>
              <a:t>第一节  网络外部性与正反馈</a:t>
            </a:r>
            <a:br>
              <a:rPr sz="2900"/>
            </a:br>
            <a:endParaRPr b="0" lang="en-US" sz="33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0FC70-07A1-46FB-A1BC-037A3B6C0203}"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332" name="Group 128"/>
          <p:cNvGrpSpPr/>
          <p:nvPr/>
        </p:nvGrpSpPr>
        <p:grpSpPr>
          <a:xfrm>
            <a:off x="7704000" y="2349360"/>
            <a:ext cx="648000" cy="210960"/>
            <a:chOff x="7704000" y="2349360"/>
            <a:chExt cx="648000" cy="210960"/>
          </a:xfrm>
        </p:grpSpPr>
        <p:sp>
          <p:nvSpPr>
            <p:cNvPr id="333" name="AutoShape 129"/>
            <p:cNvSpPr/>
            <p:nvPr/>
          </p:nvSpPr>
          <p:spPr>
            <a:xfrm>
              <a:off x="7991640" y="2415600"/>
              <a:ext cx="360360" cy="144720"/>
            </a:xfrm>
            <a:prstGeom prst="hexagon">
              <a:avLst>
                <a:gd name="adj" fmla="val 62251"/>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4640" bIns="44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AutoShape 130"/>
            <p:cNvSpPr/>
            <p:nvPr/>
          </p:nvSpPr>
          <p:spPr>
            <a:xfrm>
              <a:off x="7704000" y="2349360"/>
              <a:ext cx="360360" cy="144720"/>
            </a:xfrm>
            <a:prstGeom prst="hexagon">
              <a:avLst>
                <a:gd name="adj" fmla="val 62251"/>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4640" bIns="44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5" name="AutoShape 26"/>
          <p:cNvSpPr/>
          <p:nvPr/>
        </p:nvSpPr>
        <p:spPr>
          <a:xfrm>
            <a:off x="1224000" y="4076640"/>
            <a:ext cx="360360" cy="144360"/>
          </a:xfrm>
          <a:prstGeom prst="hexagon">
            <a:avLst>
              <a:gd name="adj" fmla="val 62406"/>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8" name="组合 127"/>
          <p:cNvGrpSpPr/>
          <p:nvPr/>
        </p:nvGrpSpPr>
        <p:grpSpPr>
          <a:xfrm>
            <a:off x="250920" y="324000"/>
            <a:ext cx="264960" cy="417240"/>
            <a:chOff x="250920" y="324000"/>
            <a:chExt cx="264960" cy="417240"/>
          </a:xfrm>
        </p:grpSpPr>
        <p:sp>
          <p:nvSpPr>
            <p:cNvPr id="339"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2"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MH_Other_1"/>
          <p:cNvSpPr/>
          <p:nvPr/>
        </p:nvSpPr>
        <p:spPr>
          <a:xfrm>
            <a:off x="1332000" y="2133720"/>
            <a:ext cx="1058760" cy="371520"/>
          </a:xfrm>
          <a:prstGeom prst="pi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ency FB"/>
                <a:ea typeface="微软雅黑"/>
              </a:rPr>
              <a:t>01</a:t>
            </a:r>
            <a:endParaRPr b="0" lang="en-US" sz="3200" spc="-1" strike="noStrike">
              <a:solidFill>
                <a:srgbClr val="000000"/>
              </a:solidFill>
              <a:latin typeface="Arial"/>
            </a:endParaRPr>
          </a:p>
        </p:txBody>
      </p:sp>
      <p:sp>
        <p:nvSpPr>
          <p:cNvPr id="344" name="MH_SubTitle_1"/>
          <p:cNvSpPr/>
          <p:nvPr/>
        </p:nvSpPr>
        <p:spPr>
          <a:xfrm>
            <a:off x="2303640" y="1916280"/>
            <a:ext cx="6264000" cy="588960"/>
          </a:xfrm>
          <a:prstGeom prst="pie">
            <a:avLst/>
          </a:prstGeom>
          <a:solidFill>
            <a:srgbClr val="dce6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正网络外部性与负网络外部性</a:t>
            </a:r>
            <a:endParaRPr b="0" lang="en-US" sz="2400" spc="-1" strike="noStrike">
              <a:solidFill>
                <a:srgbClr val="000000"/>
              </a:solidFill>
              <a:latin typeface="Arial"/>
            </a:endParaRPr>
          </a:p>
        </p:txBody>
      </p:sp>
      <p:grpSp>
        <p:nvGrpSpPr>
          <p:cNvPr id="345" name=""/>
          <p:cNvGrpSpPr/>
          <p:nvPr/>
        </p:nvGrpSpPr>
        <p:grpSpPr>
          <a:xfrm>
            <a:off x="1008000" y="4076640"/>
            <a:ext cx="7126200" cy="371520"/>
            <a:chOff x="1008000" y="4076640"/>
            <a:chExt cx="7126200" cy="371520"/>
          </a:xfrm>
        </p:grpSpPr>
        <p:sp>
          <p:nvSpPr>
            <p:cNvPr id="346" name="MH_Other_2"/>
            <p:cNvSpPr/>
            <p:nvPr/>
          </p:nvSpPr>
          <p:spPr>
            <a:xfrm>
              <a:off x="1008000" y="4076640"/>
              <a:ext cx="1058760" cy="371520"/>
            </a:xfrm>
            <a:prstGeom prst="pie">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ency FB"/>
                  <a:ea typeface="微软雅黑"/>
                </a:rPr>
                <a:t>02</a:t>
              </a:r>
              <a:endParaRPr b="0" lang="en-US" sz="3200" spc="-1" strike="noStrike">
                <a:solidFill>
                  <a:srgbClr val="000000"/>
                </a:solidFill>
                <a:latin typeface="Arial"/>
              </a:endParaRPr>
            </a:p>
          </p:txBody>
        </p:sp>
        <p:sp>
          <p:nvSpPr>
            <p:cNvPr id="347" name="MH_SubTitle_2"/>
            <p:cNvSpPr/>
            <p:nvPr/>
          </p:nvSpPr>
          <p:spPr>
            <a:xfrm>
              <a:off x="1936800" y="4076640"/>
              <a:ext cx="6197400" cy="371520"/>
            </a:xfrm>
            <a:prstGeom prst="pie">
              <a:avLst/>
            </a:prstGeom>
            <a:solidFill>
              <a:srgbClr val="f2dc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直接网络外部性与间接网络外部性</a:t>
              </a:r>
              <a:endParaRPr b="0" lang="en-US" sz="2400" spc="-1" strike="noStrike">
                <a:solidFill>
                  <a:srgbClr val="000000"/>
                </a:solidFill>
                <a:latin typeface="Arial"/>
              </a:endParaRPr>
            </a:p>
          </p:txBody>
        </p:sp>
      </p:grpSp>
      <p:sp>
        <p:nvSpPr>
          <p:cNvPr id="348" name=""/>
          <p:cNvSpPr/>
          <p:nvPr/>
        </p:nvSpPr>
        <p:spPr>
          <a:xfrm>
            <a:off x="867960" y="1268280"/>
            <a:ext cx="1594800" cy="368280"/>
          </a:xfrm>
          <a:prstGeom prst="rect">
            <a:avLst/>
          </a:prstGeom>
          <a:noFill/>
          <a:ln w="0">
            <a:noFill/>
          </a:ln>
          <a:effectLst>
            <a:outerShdw dist="17819" dir="2700000" blurRad="0" rotWithShape="0">
              <a:srgbClr val="2f4d7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t>
            </a:r>
            <a:r>
              <a:rPr b="1" lang="zh-CN" sz="1800" spc="-1" strike="noStrike">
                <a:solidFill>
                  <a:srgbClr val="333399"/>
                </a:solidFill>
                <a:latin typeface="Arial"/>
              </a:rPr>
              <a:t>三</a:t>
            </a:r>
            <a:r>
              <a:rPr b="1" lang="en-US" sz="1800" spc="-1" strike="noStrike">
                <a:solidFill>
                  <a:srgbClr val="333399"/>
                </a:solidFill>
                <a:latin typeface="Arial"/>
              </a:rPr>
              <a:t>)</a:t>
            </a:r>
            <a:r>
              <a:rPr b="1" lang="zh-CN" sz="1800" spc="-1" strike="noStrike">
                <a:solidFill>
                  <a:srgbClr val="333399"/>
                </a:solidFill>
                <a:latin typeface="Arial"/>
              </a:rPr>
              <a:t>网络外部性分类</a:t>
            </a:r>
            <a:endParaRPr b="0" lang="en-US" sz="1800" spc="-1" strike="noStrike">
              <a:solidFill>
                <a:srgbClr val="000000"/>
              </a:solidFill>
              <a:latin typeface="Arial"/>
            </a:endParaRPr>
          </a:p>
        </p:txBody>
      </p:sp>
      <p:sp>
        <p:nvSpPr>
          <p:cNvPr id="349" name="标题 1"/>
          <p:cNvSpPr/>
          <p:nvPr/>
        </p:nvSpPr>
        <p:spPr>
          <a:xfrm>
            <a:off x="576360" y="297000"/>
            <a:ext cx="64800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0504d"/>
                </a:solidFill>
                <a:latin typeface="微软雅黑"/>
                <a:ea typeface="微软雅黑"/>
              </a:rPr>
              <a:t>第一节  网络外部性与正反馈</a:t>
            </a:r>
            <a:br>
              <a:rPr sz="2900"/>
            </a:br>
            <a:endParaRPr b="0" lang="en-US" sz="33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C31B9-731C-4411-88B6-320555E50359}"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351" name="Group 128"/>
          <p:cNvGrpSpPr/>
          <p:nvPr/>
        </p:nvGrpSpPr>
        <p:grpSpPr>
          <a:xfrm>
            <a:off x="7704000" y="2349360"/>
            <a:ext cx="648000" cy="210960"/>
            <a:chOff x="7704000" y="2349360"/>
            <a:chExt cx="648000" cy="210960"/>
          </a:xfrm>
        </p:grpSpPr>
        <p:sp>
          <p:nvSpPr>
            <p:cNvPr id="352" name="AutoShape 129"/>
            <p:cNvSpPr/>
            <p:nvPr/>
          </p:nvSpPr>
          <p:spPr>
            <a:xfrm>
              <a:off x="7991640" y="2415600"/>
              <a:ext cx="360360" cy="144720"/>
            </a:xfrm>
            <a:prstGeom prst="hexagon">
              <a:avLst>
                <a:gd name="adj" fmla="val 62251"/>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4640" bIns="44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AutoShape 130"/>
            <p:cNvSpPr/>
            <p:nvPr/>
          </p:nvSpPr>
          <p:spPr>
            <a:xfrm>
              <a:off x="7704000" y="2349360"/>
              <a:ext cx="360360" cy="144720"/>
            </a:xfrm>
            <a:prstGeom prst="hexagon">
              <a:avLst>
                <a:gd name="adj" fmla="val 62251"/>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4640" bIns="44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4" name="AutoShape 26"/>
          <p:cNvSpPr/>
          <p:nvPr/>
        </p:nvSpPr>
        <p:spPr>
          <a:xfrm>
            <a:off x="1224000" y="4076640"/>
            <a:ext cx="360360" cy="144360"/>
          </a:xfrm>
          <a:prstGeom prst="hexagon">
            <a:avLst>
              <a:gd name="adj" fmla="val 62406"/>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7" name="组合 127"/>
          <p:cNvGrpSpPr/>
          <p:nvPr/>
        </p:nvGrpSpPr>
        <p:grpSpPr>
          <a:xfrm>
            <a:off x="250920" y="324000"/>
            <a:ext cx="264960" cy="417240"/>
            <a:chOff x="250920" y="324000"/>
            <a:chExt cx="264960" cy="417240"/>
          </a:xfrm>
        </p:grpSpPr>
        <p:sp>
          <p:nvSpPr>
            <p:cNvPr id="358"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1"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MH_Other_1"/>
          <p:cNvSpPr/>
          <p:nvPr/>
        </p:nvSpPr>
        <p:spPr>
          <a:xfrm>
            <a:off x="1332000" y="2133720"/>
            <a:ext cx="1058760" cy="371520"/>
          </a:xfrm>
          <a:prstGeom prst="pi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ency FB"/>
                <a:ea typeface="微软雅黑"/>
              </a:rPr>
              <a:t>01</a:t>
            </a:r>
            <a:endParaRPr b="0" lang="en-US" sz="3200" spc="-1" strike="noStrike">
              <a:solidFill>
                <a:srgbClr val="000000"/>
              </a:solidFill>
              <a:latin typeface="Arial"/>
            </a:endParaRPr>
          </a:p>
        </p:txBody>
      </p:sp>
      <p:sp>
        <p:nvSpPr>
          <p:cNvPr id="363" name="MH_SubTitle_1"/>
          <p:cNvSpPr/>
          <p:nvPr/>
        </p:nvSpPr>
        <p:spPr>
          <a:xfrm>
            <a:off x="2303640" y="1916280"/>
            <a:ext cx="6264000" cy="588960"/>
          </a:xfrm>
          <a:prstGeom prst="pie">
            <a:avLst/>
          </a:prstGeom>
          <a:solidFill>
            <a:srgbClr val="dce6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用户互联性与成本非补偿性</a:t>
            </a:r>
            <a:endParaRPr b="0" lang="en-US" sz="2400" spc="-1" strike="noStrike">
              <a:solidFill>
                <a:srgbClr val="000000"/>
              </a:solidFill>
              <a:latin typeface="Arial"/>
            </a:endParaRPr>
          </a:p>
        </p:txBody>
      </p:sp>
      <p:grpSp>
        <p:nvGrpSpPr>
          <p:cNvPr id="364" name=""/>
          <p:cNvGrpSpPr/>
          <p:nvPr/>
        </p:nvGrpSpPr>
        <p:grpSpPr>
          <a:xfrm>
            <a:off x="1116000" y="3321000"/>
            <a:ext cx="7126200" cy="371520"/>
            <a:chOff x="1116000" y="3321000"/>
            <a:chExt cx="7126200" cy="371520"/>
          </a:xfrm>
        </p:grpSpPr>
        <p:sp>
          <p:nvSpPr>
            <p:cNvPr id="365" name="MH_Other_2"/>
            <p:cNvSpPr/>
            <p:nvPr/>
          </p:nvSpPr>
          <p:spPr>
            <a:xfrm>
              <a:off x="1116000" y="3321000"/>
              <a:ext cx="1058760" cy="371520"/>
            </a:xfrm>
            <a:prstGeom prst="pie">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ency FB"/>
                  <a:ea typeface="微软雅黑"/>
                </a:rPr>
                <a:t>02</a:t>
              </a:r>
              <a:endParaRPr b="0" lang="en-US" sz="3200" spc="-1" strike="noStrike">
                <a:solidFill>
                  <a:srgbClr val="000000"/>
                </a:solidFill>
                <a:latin typeface="Arial"/>
              </a:endParaRPr>
            </a:p>
          </p:txBody>
        </p:sp>
        <p:sp>
          <p:nvSpPr>
            <p:cNvPr id="366" name="MH_SubTitle_2"/>
            <p:cNvSpPr/>
            <p:nvPr/>
          </p:nvSpPr>
          <p:spPr>
            <a:xfrm>
              <a:off x="2044800" y="3321000"/>
              <a:ext cx="6197400" cy="371520"/>
            </a:xfrm>
            <a:prstGeom prst="pie">
              <a:avLst/>
            </a:prstGeom>
            <a:solidFill>
              <a:srgbClr val="f2dc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供给方规模经济与需求方规模经济</a:t>
              </a:r>
              <a:endParaRPr b="0" lang="en-US" sz="2400" spc="-1" strike="noStrike">
                <a:solidFill>
                  <a:srgbClr val="000000"/>
                </a:solidFill>
                <a:latin typeface="Arial"/>
              </a:endParaRPr>
            </a:p>
          </p:txBody>
        </p:sp>
      </p:grpSp>
      <p:sp>
        <p:nvSpPr>
          <p:cNvPr id="367" name=""/>
          <p:cNvSpPr/>
          <p:nvPr/>
        </p:nvSpPr>
        <p:spPr>
          <a:xfrm>
            <a:off x="1007280" y="1268280"/>
            <a:ext cx="2006280" cy="368280"/>
          </a:xfrm>
          <a:prstGeom prst="rect">
            <a:avLst/>
          </a:prstGeom>
          <a:noFill/>
          <a:ln w="0">
            <a:noFill/>
          </a:ln>
          <a:effectLst>
            <a:outerShdw dist="17819" dir="2700000" blurRad="0" rotWithShape="0">
              <a:srgbClr val="2f4d7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t>
            </a:r>
            <a:r>
              <a:rPr b="1" lang="zh-CN" sz="1800" spc="-1" strike="noStrike">
                <a:solidFill>
                  <a:srgbClr val="333399"/>
                </a:solidFill>
                <a:latin typeface="Arial"/>
              </a:rPr>
              <a:t>四</a:t>
            </a:r>
            <a:r>
              <a:rPr b="1" lang="en-US" sz="1800" spc="-1" strike="noStrike">
                <a:solidFill>
                  <a:srgbClr val="333399"/>
                </a:solidFill>
                <a:latin typeface="Arial"/>
              </a:rPr>
              <a:t>)</a:t>
            </a:r>
            <a:r>
              <a:rPr b="1" lang="zh-CN" sz="1800" spc="-1" strike="noStrike">
                <a:solidFill>
                  <a:srgbClr val="333399"/>
                </a:solidFill>
                <a:latin typeface="Arial"/>
              </a:rPr>
              <a:t>网络外部性经济学分析</a:t>
            </a:r>
            <a:endParaRPr b="0" lang="en-US" sz="1800" spc="-1" strike="noStrike">
              <a:solidFill>
                <a:srgbClr val="000000"/>
              </a:solidFill>
              <a:latin typeface="Arial"/>
            </a:endParaRPr>
          </a:p>
        </p:txBody>
      </p:sp>
      <p:sp>
        <p:nvSpPr>
          <p:cNvPr id="368" name="标题 1"/>
          <p:cNvSpPr/>
          <p:nvPr/>
        </p:nvSpPr>
        <p:spPr>
          <a:xfrm>
            <a:off x="576360" y="297000"/>
            <a:ext cx="64800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0504d"/>
                </a:solidFill>
                <a:latin typeface="微软雅黑"/>
                <a:ea typeface="微软雅黑"/>
              </a:rPr>
              <a:t>第一节  网络外部性与正反馈</a:t>
            </a:r>
            <a:br>
              <a:rPr sz="2900"/>
            </a:br>
            <a:endParaRPr b="0" lang="en-US" sz="33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sy</dc:creator>
  <dc:description/>
  <dc:language>en-US</dc:language>
  <cp:lastModifiedBy>AutoBVT</cp:lastModifiedBy>
  <dcterms:modified xsi:type="dcterms:W3CDTF">2018-09-01T02:17:36Z</dcterms:modified>
  <cp:revision>199</cp:revision>
  <dc:subject/>
  <dc:title>ch01</dc:title>
</cp:coreProperties>
</file>