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7103-5743-45AC-9E8A-F1D2F9DEAD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A22F-5B2F-4A44-8498-4602336EA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82720" y="1055520"/>
            <a:ext cx="5051520" cy="3789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7640" y="4971960"/>
            <a:ext cx="5022720" cy="34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1D5-3567-4997-BB3C-F3468DE5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0E1-5DB1-4860-818B-EC1401E6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EE0-DA1E-41D8-AD41-976E453B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A42-F0A7-43DE-A8E9-0B479FAD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81B2-6A31-4633-B6BE-094E1952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E09D-3F61-4176-888D-626BFDE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7638-3550-4D07-96D5-F09C2C0C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DED3-452C-4C7E-8DF7-678A3A2F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FFB2-8B12-4507-9CE1-A8BF16F8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05F4-5013-4682-9DD2-65C8EF8F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CA9A-698F-43E4-8C63-08AD7510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268-26C5-4804-A389-711AB88C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03C8-CC85-4206-BEE2-A7DE64B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1E86-7171-4D57-B56B-DFDAE4FF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3B7E-DFD4-4878-89F9-8D846090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136F-B570-47C8-A1DE-F3E1BE54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CC89-327B-4927-9FB0-06E5FF38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AEAA-6577-4014-B106-504B72E3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48BF-3F69-4044-A987-FA901488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B5E0-E545-40FE-85FD-621FCDE3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F7C69-7073-4E16-AB5A-1F549788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5E1A-F999-4F90-B83E-90CD2947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B6D-195D-45BE-8634-F1C2C0E7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DEDC1-0297-4400-96A5-7AA2182A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90AF-3307-4DE5-9E2E-85386BD9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FC83-C1D9-4109-A5E0-000A86B2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E8F7-6501-45EF-80D4-8BCED28B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001F-24FC-4C14-82CB-D4EFC685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6005-16B2-43B6-9B72-171B87A5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27F0-C584-4F1E-A6C1-123AD556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EA1D-C188-4053-8B6C-43CB9D47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8DEDF-3907-43D6-B8A3-44A02909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BED7F-5FD0-47EF-9FD2-595C8530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DBB-D912-4DF6-A4E9-DA686AD7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EDA0C-99BA-4315-AA9C-509DED60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0FC46-00F1-40AE-AB86-BAAD34B0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A5D8E-84FD-498A-9FB0-B06F380F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A2779-C5F5-488F-B89B-3D7F9BDB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59B13-1233-4DE6-A889-F659E7C4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5A93-1FF4-4037-BEAB-A6BBD31F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672BF-0D2E-4D48-A220-B7B05393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6ADA2-2738-4B4A-B46E-8467C46A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2FB0-4213-4C91-9D7A-E1580463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338BD-9A56-4054-A079-0E04EEE9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01B-9F88-4DF2-A54A-1B09C9C0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16114-A35A-4B60-B0D7-AF976AAD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BC53-956C-4EDB-9FDC-02239C0C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5601F-8C11-488B-AC0F-8D673B26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E859C-8866-4CC7-8CF2-DF2FF2A1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E97E1-6DB7-4767-A5ED-245E8E10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CC94E-8026-45FF-80D7-638B2583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C91CE-F4BB-49B1-8DE7-1B8C2574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E7682-E962-491E-B343-CC92C0D5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3799C-EFA5-43BE-86A2-63056FA0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F0D1E-C59A-4CD3-8BB2-60907AB4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2B8-71D7-47E0-9159-17295321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41122-E7EC-49BA-A5E0-B5D746E7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E8B-57A1-4353-B269-4FA1C371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F11-476D-4CBC-B431-5A1D7EC8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57E-374D-4F2A-906D-23FAA56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7DB-84BA-4A16-81A5-F023212DB15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0D7B-455A-4106-AC61-46E8B43A13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图片1修改.jpg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872F-22EA-4C88-BDEF-C22AB3B7CCB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6A7E-F2ED-4729-816C-E066C2D8CB13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图片13.jpg"/>
          <p:cNvPicPr/>
          <p:nvPr/>
        </p:nvPicPr>
        <p:blipFill>
          <a:blip r:embed="rId2"/>
          <a:stretch/>
        </p:blipFill>
        <p:spPr>
          <a:xfrm>
            <a:off x="0" y="87480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D7B4-0106-4ED2-A81A-EE7FC89EDE4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68C6-E722-4896-993A-1ABF27496FD6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图片14.jpg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4E74-C100-4C5A-8BC5-D45095B427E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30036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F756-EC08-44BC-8DC8-2E1F24F4B52A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7" descr="图片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1039-15B9-4A30-88CB-6B6B8997ECC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8D47-6915-4E2F-BE03-8CD850C220FB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2023560"/>
            <a:ext cx="65880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 数字产品及其特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4"/>
          <p:cNvSpPr/>
          <p:nvPr/>
        </p:nvSpPr>
        <p:spPr>
          <a:xfrm>
            <a:off x="1440000" y="2889360"/>
            <a:ext cx="5940360" cy="0"/>
          </a:xfrm>
          <a:prstGeom prst="line">
            <a:avLst/>
          </a:prstGeom>
          <a:ln w="34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6657-7ACD-4294-A5E5-B0B5013B38F6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323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二节 数字产品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3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31"/>
          <p:cNvSpPr/>
          <p:nvPr/>
        </p:nvSpPr>
        <p:spPr>
          <a:xfrm>
            <a:off x="2049480" y="4297320"/>
            <a:ext cx="0" cy="3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33"/>
          <p:cNvSpPr/>
          <p:nvPr/>
        </p:nvSpPr>
        <p:spPr>
          <a:xfrm>
            <a:off x="2060640" y="460368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6360" y="1052640"/>
            <a:ext cx="799308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2b2f"/>
                </a:solidFill>
                <a:latin typeface="Arial"/>
              </a:rPr>
              <a:t>信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广义：具备传递一定信息功能的产品就是信息产品，由信息及其物质载体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狭义：信息产品是基于信息的交换物 （本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字化产品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ized produc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是指包含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字化格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交换物，包括所有被数字化的商品或服务。数字化产品包括有形 数字产品和无形数字产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字产品是被数字化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信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产品，信息内容基于数字格式的交换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数字产品实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．信息和娱乐产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纸上信息产品：报纸、杂志、期刊、书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产品信息：产品说明、用户手册、销售培训手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形图像：照片、卡片、日历、地图、海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音频产品：音乐唱片、语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频产品：电影、电视节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．象征、符号和概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定票：航班、旅馆、音乐会、体育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财务工具：支票、电子货币、信用卡、有价证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．过程和服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政府服务：表格、税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电子消费：信件、传真、电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商业价值创造过程：订货、簿记、盘点、签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拍卖和电子化市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远程教育、远程医疗和其他交互式服务、交互式娱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8D53-9A82-4605-A1B7-C310778BA69B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342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345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经济学特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350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物理本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643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三节 数字产品的性质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59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25"/>
          <p:cNvSpPr/>
          <p:nvPr/>
        </p:nvSpPr>
        <p:spPr>
          <a:xfrm>
            <a:off x="2087640" y="3105000"/>
            <a:ext cx="4371840" cy="64008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本质和经济学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流程图: 联系 27"/>
          <p:cNvSpPr/>
          <p:nvPr/>
        </p:nvSpPr>
        <p:spPr>
          <a:xfrm>
            <a:off x="1871640" y="3429000"/>
            <a:ext cx="331920" cy="128520"/>
          </a:xfrm>
          <a:prstGeom prst="flowChartConnector">
            <a:avLst/>
          </a:prstGeom>
          <a:solidFill>
            <a:srgbClr val="b3a2c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6DB5-149C-41B2-8F52-902231F03938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三节 数字产品的性质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7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0" y="836640"/>
            <a:ext cx="777564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一、数字产品的经济学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92000" y="1700280"/>
            <a:ext cx="7560000" cy="3876480"/>
            <a:chOff x="792000" y="1700280"/>
            <a:chExt cx="7560000" cy="3876480"/>
          </a:xfrm>
        </p:grpSpPr>
        <p:grpSp>
          <p:nvGrpSpPr>
            <p:cNvPr id="375" name="Group 128"/>
            <p:cNvGrpSpPr/>
            <p:nvPr/>
          </p:nvGrpSpPr>
          <p:grpSpPr>
            <a:xfrm>
              <a:off x="7704000" y="2349360"/>
              <a:ext cx="648000" cy="453960"/>
              <a:chOff x="7704000" y="2349360"/>
              <a:chExt cx="648000" cy="453960"/>
            </a:xfrm>
          </p:grpSpPr>
          <p:sp>
            <p:nvSpPr>
              <p:cNvPr id="376" name="AutoShape 129"/>
              <p:cNvSpPr/>
              <p:nvPr/>
            </p:nvSpPr>
            <p:spPr>
              <a:xfrm>
                <a:off x="7991640" y="24922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30"/>
              <p:cNvSpPr/>
              <p:nvPr/>
            </p:nvSpPr>
            <p:spPr>
              <a:xfrm>
                <a:off x="7704000" y="23493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5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AutoShape 26"/>
            <p:cNvSpPr/>
            <p:nvPr/>
          </p:nvSpPr>
          <p:spPr>
            <a:xfrm>
              <a:off x="1224000" y="4292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bfbfbf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8"/>
            <p:cNvSpPr/>
            <p:nvPr/>
          </p:nvSpPr>
          <p:spPr>
            <a:xfrm>
              <a:off x="900000" y="5265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aae600">
                <a:alpha val="3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26"/>
            <p:cNvSpPr/>
            <p:nvPr/>
          </p:nvSpPr>
          <p:spPr>
            <a:xfrm>
              <a:off x="2049480" y="344340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直接连接符 28"/>
            <p:cNvSpPr/>
            <p:nvPr/>
          </p:nvSpPr>
          <p:spPr>
            <a:xfrm>
              <a:off x="2060640" y="375300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直接连接符 31"/>
            <p:cNvSpPr/>
            <p:nvPr/>
          </p:nvSpPr>
          <p:spPr>
            <a:xfrm>
              <a:off x="2049480" y="429732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 33"/>
            <p:cNvSpPr/>
            <p:nvPr/>
          </p:nvSpPr>
          <p:spPr>
            <a:xfrm>
              <a:off x="2060640" y="460368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28"/>
            <p:cNvGrpSpPr/>
            <p:nvPr/>
          </p:nvGrpSpPr>
          <p:grpSpPr>
            <a:xfrm>
              <a:off x="7596360" y="2025720"/>
              <a:ext cx="647280" cy="453960"/>
              <a:chOff x="7596360" y="2025720"/>
              <a:chExt cx="647280" cy="453960"/>
            </a:xfrm>
          </p:grpSpPr>
          <p:sp>
            <p:nvSpPr>
              <p:cNvPr id="385" name="AutoShape 129"/>
              <p:cNvSpPr/>
              <p:nvPr/>
            </p:nvSpPr>
            <p:spPr>
              <a:xfrm>
                <a:off x="7883640" y="216864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utoShape 130"/>
              <p:cNvSpPr/>
              <p:nvPr/>
            </p:nvSpPr>
            <p:spPr>
              <a:xfrm>
                <a:off x="7596360" y="20257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66ff">
                  <a:alpha val="5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AutoShape 26"/>
            <p:cNvSpPr/>
            <p:nvPr/>
          </p:nvSpPr>
          <p:spPr>
            <a:xfrm>
              <a:off x="1116000" y="375300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bfbfbf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78"/>
            <p:cNvSpPr/>
            <p:nvPr/>
          </p:nvSpPr>
          <p:spPr>
            <a:xfrm>
              <a:off x="792000" y="47260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aae600">
                <a:alpha val="3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MH_Other_1"/>
            <p:cNvSpPr/>
            <p:nvPr/>
          </p:nvSpPr>
          <p:spPr>
            <a:xfrm flipH="1" rot="1805400">
              <a:off x="1439280" y="2025360"/>
              <a:ext cx="712800" cy="614160"/>
            </a:xfrm>
            <a:prstGeom prst="triangle">
              <a:avLst>
                <a:gd name="adj" fmla="val 50000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MH_Other_2"/>
            <p:cNvSpPr/>
            <p:nvPr/>
          </p:nvSpPr>
          <p:spPr>
            <a:xfrm>
              <a:off x="900000" y="1700280"/>
              <a:ext cx="947880" cy="109224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32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  <a:ea typeface="幼圆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MH_SubTitle_1"/>
            <p:cNvSpPr/>
            <p:nvPr/>
          </p:nvSpPr>
          <p:spPr>
            <a:xfrm>
              <a:off x="1987560" y="1917720"/>
              <a:ext cx="2262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各人偏好依赖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MH_Other_3"/>
            <p:cNvSpPr/>
            <p:nvPr/>
          </p:nvSpPr>
          <p:spPr>
            <a:xfrm flipH="1" rot="1805400">
              <a:off x="1739160" y="3595320"/>
              <a:ext cx="712800" cy="614520"/>
            </a:xfrm>
            <a:prstGeom prst="triangle">
              <a:avLst>
                <a:gd name="adj" fmla="val 50000"/>
              </a:avLst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MH_Other_4"/>
            <p:cNvSpPr/>
            <p:nvPr/>
          </p:nvSpPr>
          <p:spPr>
            <a:xfrm>
              <a:off x="1177920" y="3279600"/>
              <a:ext cx="947880" cy="109080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32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  <a:ea typeface="幼圆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MH_SubTitle_3"/>
            <p:cNvSpPr/>
            <p:nvPr/>
          </p:nvSpPr>
          <p:spPr>
            <a:xfrm>
              <a:off x="2303640" y="3605040"/>
              <a:ext cx="226188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数字产品外部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MH_Other_5"/>
            <p:cNvSpPr/>
            <p:nvPr/>
          </p:nvSpPr>
          <p:spPr>
            <a:xfrm flipH="1" rot="1805400">
              <a:off x="5110920" y="2781000"/>
              <a:ext cx="712800" cy="614160"/>
            </a:xfrm>
            <a:prstGeom prst="triangle">
              <a:avLst>
                <a:gd name="adj" fmla="val 50000"/>
              </a:avLst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MH_Other_6"/>
            <p:cNvSpPr/>
            <p:nvPr/>
          </p:nvSpPr>
          <p:spPr>
            <a:xfrm>
              <a:off x="4572000" y="3968640"/>
              <a:ext cx="947880" cy="1092240"/>
            </a:xfrm>
            <a:prstGeom prst="pi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32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  <a:ea typeface="幼圆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MH_SubTitle_2"/>
            <p:cNvSpPr/>
            <p:nvPr/>
          </p:nvSpPr>
          <p:spPr>
            <a:xfrm>
              <a:off x="5651640" y="4346640"/>
              <a:ext cx="2261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数字产品物理价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572000" y="2565360"/>
              <a:ext cx="3341520" cy="1160640"/>
              <a:chOff x="4572000" y="2565360"/>
              <a:chExt cx="3341520" cy="1160640"/>
            </a:xfrm>
          </p:grpSpPr>
          <p:sp>
            <p:nvSpPr>
              <p:cNvPr id="399" name="MH_Other_6"/>
              <p:cNvSpPr/>
              <p:nvPr/>
            </p:nvSpPr>
            <p:spPr>
              <a:xfrm>
                <a:off x="4572000" y="2565360"/>
                <a:ext cx="947880" cy="1092240"/>
              </a:xfrm>
              <a:prstGeom prst="pi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432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Impact"/>
                    <a:ea typeface="幼圆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MH_SubTitle_2"/>
              <p:cNvSpPr/>
              <p:nvPr/>
            </p:nvSpPr>
            <p:spPr>
              <a:xfrm>
                <a:off x="5651640" y="2943360"/>
                <a:ext cx="2261880" cy="78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Calibri"/>
                  </a:rPr>
                  <a:t>效用递增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MH_Other_5"/>
            <p:cNvSpPr/>
            <p:nvPr/>
          </p:nvSpPr>
          <p:spPr>
            <a:xfrm flipH="1" rot="1805400">
              <a:off x="5218920" y="4292280"/>
              <a:ext cx="712800" cy="614160"/>
            </a:xfrm>
            <a:prstGeom prst="triangle">
              <a:avLst>
                <a:gd name="adj" fmla="val 50000"/>
              </a:avLst>
            </a:prstGeom>
            <a:solidFill>
              <a:srgbClr val="800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二、数字产品的物理本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1332000" y="1268280"/>
            <a:ext cx="6595560" cy="604800"/>
            <a:chOff x="1332000" y="1268280"/>
            <a:chExt cx="6595560" cy="604800"/>
          </a:xfrm>
        </p:grpSpPr>
        <p:sp>
          <p:nvSpPr>
            <p:cNvPr id="404" name="圆角矩形 32"/>
            <p:cNvSpPr/>
            <p:nvPr/>
          </p:nvSpPr>
          <p:spPr>
            <a:xfrm>
              <a:off x="1332000" y="1278000"/>
              <a:ext cx="1655640" cy="59508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不灭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圆角矩形 34"/>
            <p:cNvSpPr/>
            <p:nvPr/>
          </p:nvSpPr>
          <p:spPr>
            <a:xfrm>
              <a:off x="3809880" y="1268280"/>
              <a:ext cx="1655280" cy="59544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可变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圆角矩形 34"/>
            <p:cNvSpPr/>
            <p:nvPr/>
          </p:nvSpPr>
          <p:spPr>
            <a:xfrm>
              <a:off x="6271920" y="1268280"/>
              <a:ext cx="1655640" cy="59544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可生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11"/>
            <p:cNvSpPr/>
            <p:nvPr/>
          </p:nvSpPr>
          <p:spPr>
            <a:xfrm>
              <a:off x="3046320" y="1469880"/>
              <a:ext cx="720360" cy="216000"/>
            </a:xfrm>
            <a:custGeom>
              <a:avLst/>
              <a:gdLst>
                <a:gd name="textAreaLeft" fmla="*/ 90000 w 720360"/>
                <a:gd name="textAreaRight" fmla="*/ 630360 w 720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12"/>
            <p:cNvSpPr/>
            <p:nvPr/>
          </p:nvSpPr>
          <p:spPr>
            <a:xfrm>
              <a:off x="5508360" y="1484280"/>
              <a:ext cx="720360" cy="216000"/>
            </a:xfrm>
            <a:custGeom>
              <a:avLst/>
              <a:gdLst>
                <a:gd name="textAreaLeft" fmla="*/ 90000 w 720360"/>
                <a:gd name="textAreaRight" fmla="*/ 630360 w 720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28"/>
          <p:cNvSpPr/>
          <p:nvPr/>
        </p:nvSpPr>
        <p:spPr>
          <a:xfrm>
            <a:off x="1289160" y="2039760"/>
            <a:ext cx="1800000" cy="39610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9"/>
          <p:cNvSpPr/>
          <p:nvPr/>
        </p:nvSpPr>
        <p:spPr>
          <a:xfrm>
            <a:off x="3743280" y="2039760"/>
            <a:ext cx="1800360" cy="39610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0"/>
          <p:cNvSpPr/>
          <p:nvPr/>
        </p:nvSpPr>
        <p:spPr>
          <a:xfrm>
            <a:off x="5897520" y="2039760"/>
            <a:ext cx="2309760" cy="4129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1"/>
          <p:cNvSpPr/>
          <p:nvPr/>
        </p:nvSpPr>
        <p:spPr>
          <a:xfrm>
            <a:off x="1332000" y="2073240"/>
            <a:ext cx="171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字产品一经生产出来，就能永久保持其存在形式，永不变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频繁升级和许可使用是应对此的常用策略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"/>
          <p:cNvSpPr/>
          <p:nvPr/>
        </p:nvSpPr>
        <p:spPr>
          <a:xfrm>
            <a:off x="3876840" y="2333520"/>
            <a:ext cx="163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字产品的内容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可变，它们很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被制定或随时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修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3"/>
          <p:cNvSpPr/>
          <p:nvPr/>
        </p:nvSpPr>
        <p:spPr>
          <a:xfrm>
            <a:off x="5897520" y="2014560"/>
            <a:ext cx="23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数字产品能够方便地复制、储存或传输，并且复制成本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一方面可复制，边际成本低，可以带来丰厚的利润。另一方面，可复制导致盗版盛行，盗版侵蚀市场，给生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商带来巨大损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三、物理本质和经济学问题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可破坏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耐用性对市场份额和产品选择产生了不良的影响，耐用品生产商必须加以克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一销售原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允许买方转让或出借自己买的产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可能会把市场全毁掉，除非信息的销售商可以阻止顾客的转让行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可变性导致了产品的差异化和定制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D9B7-4428-4654-8106-67575A88731B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419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422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成本特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427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效用特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6000" y="296640"/>
            <a:ext cx="6156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四节 数字产品的成本和效用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436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881D-5188-4F8C-902D-90B2673C1BB6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443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四节 数字产品的成本及效用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45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31"/>
          <p:cNvSpPr/>
          <p:nvPr/>
        </p:nvSpPr>
        <p:spPr>
          <a:xfrm>
            <a:off x="2049480" y="4297320"/>
            <a:ext cx="0" cy="3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33"/>
          <p:cNvSpPr/>
          <p:nvPr/>
        </p:nvSpPr>
        <p:spPr>
          <a:xfrm>
            <a:off x="2060640" y="460368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6360" y="944640"/>
            <a:ext cx="799308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一、成本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标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平均成本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数字产品的成本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440000" y="2565360"/>
            <a:ext cx="6587640" cy="3347640"/>
            <a:chOff x="1440000" y="2565360"/>
            <a:chExt cx="6587640" cy="3347640"/>
          </a:xfrm>
        </p:grpSpPr>
        <p:grpSp>
          <p:nvGrpSpPr>
            <p:cNvPr id="459" name="Group 30"/>
            <p:cNvGrpSpPr/>
            <p:nvPr/>
          </p:nvGrpSpPr>
          <p:grpSpPr>
            <a:xfrm>
              <a:off x="1511280" y="2565360"/>
              <a:ext cx="4462560" cy="603720"/>
              <a:chOff x="1511280" y="2565360"/>
              <a:chExt cx="4462560" cy="603720"/>
            </a:xfrm>
          </p:grpSpPr>
          <p:grpSp>
            <p:nvGrpSpPr>
              <p:cNvPr id="460" name="Group 15"/>
              <p:cNvGrpSpPr/>
              <p:nvPr/>
            </p:nvGrpSpPr>
            <p:grpSpPr>
              <a:xfrm>
                <a:off x="1511280" y="2565360"/>
                <a:ext cx="991440" cy="603720"/>
                <a:chOff x="1511280" y="2565360"/>
                <a:chExt cx="991440" cy="603720"/>
              </a:xfrm>
            </p:grpSpPr>
            <p:grpSp>
              <p:nvGrpSpPr>
                <p:cNvPr id="461" name="Group 9"/>
                <p:cNvGrpSpPr/>
                <p:nvPr/>
              </p:nvGrpSpPr>
              <p:grpSpPr>
                <a:xfrm>
                  <a:off x="1511280" y="2565360"/>
                  <a:ext cx="991440" cy="603720"/>
                  <a:chOff x="1511280" y="2565360"/>
                  <a:chExt cx="991440" cy="603720"/>
                </a:xfrm>
              </p:grpSpPr>
              <p:sp>
                <p:nvSpPr>
                  <p:cNvPr id="462" name="Oval 6"/>
                  <p:cNvSpPr/>
                  <p:nvPr/>
                </p:nvSpPr>
                <p:spPr>
                  <a:xfrm>
                    <a:off x="1511280" y="2565360"/>
                    <a:ext cx="991440" cy="60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b3b00"/>
                      </a:gs>
                      <a:gs pos="100000">
                        <a:srgbClr val="808000">
                          <a:alpha val="30196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5"/>
                  <p:cNvSpPr/>
                  <p:nvPr/>
                </p:nvSpPr>
                <p:spPr>
                  <a:xfrm>
                    <a:off x="1654560" y="2646720"/>
                    <a:ext cx="713160" cy="43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b3b00"/>
                      </a:gs>
                      <a:gs pos="100000">
                        <a:srgbClr val="808000">
                          <a:alpha val="2000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4" name="Text Box 10"/>
                <p:cNvSpPr/>
                <p:nvPr/>
              </p:nvSpPr>
              <p:spPr>
                <a:xfrm>
                  <a:off x="1774080" y="2716200"/>
                  <a:ext cx="377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AutoShape 16"/>
              <p:cNvSpPr/>
              <p:nvPr/>
            </p:nvSpPr>
            <p:spPr>
              <a:xfrm>
                <a:off x="2787120" y="2565360"/>
                <a:ext cx="3186720" cy="6037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数字产品的成本结构特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44"/>
            <p:cNvGrpSpPr/>
            <p:nvPr/>
          </p:nvGrpSpPr>
          <p:grpSpPr>
            <a:xfrm>
              <a:off x="1440000" y="3502440"/>
              <a:ext cx="6587640" cy="1473120"/>
              <a:chOff x="1440000" y="3502440"/>
              <a:chExt cx="6587640" cy="1473120"/>
            </a:xfrm>
          </p:grpSpPr>
          <p:sp>
            <p:nvSpPr>
              <p:cNvPr id="467" name="AutoShape 31"/>
              <p:cNvSpPr/>
              <p:nvPr/>
            </p:nvSpPr>
            <p:spPr>
              <a:xfrm>
                <a:off x="1440000" y="3502440"/>
                <a:ext cx="1700280" cy="1473120"/>
              </a:xfrm>
              <a:custGeom>
                <a:avLst/>
                <a:gdLst>
                  <a:gd name="textAreaLeft" fmla="*/ 0 w 1700280"/>
                  <a:gd name="textAreaRight" fmla="*/ 1700640 w 170028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研究与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发成本高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生产制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成本低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32"/>
              <p:cNvSpPr/>
              <p:nvPr/>
            </p:nvSpPr>
            <p:spPr>
              <a:xfrm>
                <a:off x="6327000" y="3502440"/>
                <a:ext cx="1700640" cy="1473120"/>
              </a:xfrm>
              <a:custGeom>
                <a:avLst/>
                <a:gdLst>
                  <a:gd name="textAreaLeft" fmla="*/ 0 w 1700640"/>
                  <a:gd name="textAreaRight" fmla="*/ 1701000 w 170064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销售过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生产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低，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售成本高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33"/>
              <p:cNvSpPr/>
              <p:nvPr/>
            </p:nvSpPr>
            <p:spPr>
              <a:xfrm>
                <a:off x="4697280" y="3502440"/>
                <a:ext cx="1700280" cy="1473120"/>
              </a:xfrm>
              <a:custGeom>
                <a:avLst/>
                <a:gdLst>
                  <a:gd name="textAreaLeft" fmla="*/ 0 w 1700280"/>
                  <a:gd name="textAreaRight" fmla="*/ 1700640 w 170028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数字产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的固定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绝大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数表现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沉没成本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34"/>
              <p:cNvSpPr/>
              <p:nvPr/>
            </p:nvSpPr>
            <p:spPr>
              <a:xfrm>
                <a:off x="3068280" y="3502440"/>
                <a:ext cx="1700640" cy="1473120"/>
              </a:xfrm>
              <a:custGeom>
                <a:avLst/>
                <a:gdLst>
                  <a:gd name="textAreaLeft" fmla="*/ 0 w 1700640"/>
                  <a:gd name="textAreaRight" fmla="*/ 1701000 w 170064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8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生产过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固定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高，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动成本低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45"/>
            <p:cNvGrpSpPr/>
            <p:nvPr/>
          </p:nvGrpSpPr>
          <p:grpSpPr>
            <a:xfrm>
              <a:off x="1511280" y="5309280"/>
              <a:ext cx="4461120" cy="603720"/>
              <a:chOff x="1511280" y="5309280"/>
              <a:chExt cx="4461120" cy="603720"/>
            </a:xfrm>
          </p:grpSpPr>
          <p:grpSp>
            <p:nvGrpSpPr>
              <p:cNvPr id="472" name="Group 46"/>
              <p:cNvGrpSpPr/>
              <p:nvPr/>
            </p:nvGrpSpPr>
            <p:grpSpPr>
              <a:xfrm>
                <a:off x="1511280" y="5309280"/>
                <a:ext cx="991080" cy="603720"/>
                <a:chOff x="1511280" y="5309280"/>
                <a:chExt cx="991080" cy="603720"/>
              </a:xfrm>
            </p:grpSpPr>
            <p:grpSp>
              <p:nvGrpSpPr>
                <p:cNvPr id="473" name="Group 47"/>
                <p:cNvGrpSpPr/>
                <p:nvPr/>
              </p:nvGrpSpPr>
              <p:grpSpPr>
                <a:xfrm>
                  <a:off x="1511280" y="5309280"/>
                  <a:ext cx="991080" cy="603720"/>
                  <a:chOff x="1511280" y="5309280"/>
                  <a:chExt cx="991080" cy="603720"/>
                </a:xfrm>
              </p:grpSpPr>
              <p:sp>
                <p:nvSpPr>
                  <p:cNvPr id="474" name="Oval 48"/>
                  <p:cNvSpPr/>
                  <p:nvPr/>
                </p:nvSpPr>
                <p:spPr>
                  <a:xfrm>
                    <a:off x="1511280" y="5309280"/>
                    <a:ext cx="991080" cy="60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6185e"/>
                      </a:gs>
                      <a:gs pos="100000">
                        <a:srgbClr val="ff33cc">
                          <a:alpha val="2000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49"/>
                  <p:cNvSpPr/>
                  <p:nvPr/>
                </p:nvSpPr>
                <p:spPr>
                  <a:xfrm>
                    <a:off x="1654560" y="5390640"/>
                    <a:ext cx="712800" cy="43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6185e"/>
                      </a:gs>
                      <a:gs pos="100000">
                        <a:srgbClr val="ff33cc">
                          <a:alpha val="2000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6" name="Text Box 50"/>
                <p:cNvSpPr/>
                <p:nvPr/>
              </p:nvSpPr>
              <p:spPr>
                <a:xfrm>
                  <a:off x="1774800" y="5459400"/>
                  <a:ext cx="376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AutoShape 51"/>
              <p:cNvSpPr/>
              <p:nvPr/>
            </p:nvSpPr>
            <p:spPr>
              <a:xfrm>
                <a:off x="2785320" y="5309280"/>
                <a:ext cx="3187080" cy="6037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数字产品成本共享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转移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选择新产品或新厂商所必须付出的代价为转移成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大多数情况下，网络经济使转移成本增大，从而产生锁定现象。厂商若要吸引新客户，必须补偿他们在抛弃旧产品时，由转移成本带来的损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市场上占有优势的厂商，往往选择增加客户转移成本的策略。市场上的后起之秀，与现有的技术相兼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类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一种类型，是客户因抛弃旧的软硬件而产生，如耐用品购买、针对品牌的培训、信息和数据库、搜索成本等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种类型，是客户因抛弃旧的关系网而产生的转移成本，如合同义务、专门供应商和忠诚顾客计划等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三种类型是客户因对旧产品信任和依赖而产生的心理成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转移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466560" y="428760"/>
            <a:ext cx="545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Freeform 62" descr=""/>
          <p:cNvPicPr/>
          <p:nvPr/>
        </p:nvPicPr>
        <p:blipFill>
          <a:blip r:embed="rId1"/>
          <a:stretch/>
        </p:blipFill>
        <p:spPr>
          <a:xfrm>
            <a:off x="1243080" y="3736800"/>
            <a:ext cx="6675480" cy="1060560"/>
          </a:xfrm>
          <a:prstGeom prst="rect">
            <a:avLst/>
          </a:prstGeom>
          <a:ln w="0">
            <a:noFill/>
          </a:ln>
        </p:spPr>
      </p:pic>
      <p:pic>
        <p:nvPicPr>
          <p:cNvPr id="220" name="Freeform 67" descr=""/>
          <p:cNvPicPr/>
          <p:nvPr/>
        </p:nvPicPr>
        <p:blipFill>
          <a:blip r:embed="rId2"/>
          <a:stretch/>
        </p:blipFill>
        <p:spPr>
          <a:xfrm>
            <a:off x="1243080" y="2651040"/>
            <a:ext cx="6669000" cy="1025640"/>
          </a:xfrm>
          <a:prstGeom prst="rect">
            <a:avLst/>
          </a:prstGeom>
          <a:ln w="0">
            <a:noFill/>
          </a:ln>
        </p:spPr>
      </p:pic>
      <p:pic>
        <p:nvPicPr>
          <p:cNvPr id="221" name="Freeform 70" descr=""/>
          <p:cNvPicPr/>
          <p:nvPr/>
        </p:nvPicPr>
        <p:blipFill>
          <a:blip r:embed="rId3"/>
          <a:stretch/>
        </p:blipFill>
        <p:spPr>
          <a:xfrm>
            <a:off x="1249200" y="1682640"/>
            <a:ext cx="6662880" cy="9572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5"/>
          <p:cNvSpPr/>
          <p:nvPr/>
        </p:nvSpPr>
        <p:spPr>
          <a:xfrm>
            <a:off x="2049480" y="4087440"/>
            <a:ext cx="565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数字产品的成本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1976400" y="2712960"/>
            <a:ext cx="655812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数字产品的经济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1979640" y="1915920"/>
            <a:ext cx="540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掌握信息产品和数字产品的含义及基本特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圆角矩形 21" descr=""/>
          <p:cNvPicPr/>
          <p:nvPr/>
        </p:nvPicPr>
        <p:blipFill>
          <a:blip r:embed="rId4"/>
          <a:stretch/>
        </p:blipFill>
        <p:spPr>
          <a:xfrm>
            <a:off x="1243080" y="1841400"/>
            <a:ext cx="561960" cy="773280"/>
          </a:xfrm>
          <a:prstGeom prst="rect">
            <a:avLst/>
          </a:prstGeom>
          <a:ln w="0">
            <a:noFill/>
          </a:ln>
        </p:spPr>
      </p:pic>
      <p:pic>
        <p:nvPicPr>
          <p:cNvPr id="226" name="圆角矩形 26" descr=""/>
          <p:cNvPicPr/>
          <p:nvPr/>
        </p:nvPicPr>
        <p:blipFill>
          <a:blip r:embed="rId5"/>
          <a:stretch/>
        </p:blipFill>
        <p:spPr>
          <a:xfrm>
            <a:off x="1305000" y="2895480"/>
            <a:ext cx="560160" cy="768600"/>
          </a:xfrm>
          <a:prstGeom prst="rect">
            <a:avLst/>
          </a:prstGeom>
          <a:ln w="0">
            <a:noFill/>
          </a:ln>
        </p:spPr>
      </p:pic>
      <p:pic>
        <p:nvPicPr>
          <p:cNvPr id="227" name="圆角矩形 21" descr=""/>
          <p:cNvPicPr/>
          <p:nvPr/>
        </p:nvPicPr>
        <p:blipFill>
          <a:blip r:embed="rId6"/>
          <a:stretch/>
        </p:blipFill>
        <p:spPr>
          <a:xfrm>
            <a:off x="1298520" y="4005360"/>
            <a:ext cx="560520" cy="768240"/>
          </a:xfrm>
          <a:prstGeom prst="rect">
            <a:avLst/>
          </a:prstGeom>
          <a:ln w="0">
            <a:noFill/>
          </a:ln>
        </p:spPr>
      </p:pic>
      <p:pic>
        <p:nvPicPr>
          <p:cNvPr id="228" name="圆角矩形 26" descr=""/>
          <p:cNvPicPr/>
          <p:nvPr/>
        </p:nvPicPr>
        <p:blipFill>
          <a:blip r:embed="rId7"/>
          <a:stretch/>
        </p:blipFill>
        <p:spPr>
          <a:xfrm>
            <a:off x="1305000" y="4932360"/>
            <a:ext cx="560160" cy="7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转换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58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企业进行新决策或选择新技术时必须付出的代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转换成本一般与以下改变相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观念与心理的改变：观念或价值观是一个组织在决策过程中的取舍标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制度的改变：建立和巩固旧制度时，曾经付出过巨大的代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知识的改变：企业采用新技术或新的生产经营方式时，可能需要新的知识、新的人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基础设施的改变：由于网络经济中技术的快速变化，企业在基础设施上的投入，可能大多数为沉没成本。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交易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8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定义：为了使市场交易活动顺利进行，用于搜索、协调和监督的成本，称为交易成本。交易成本是商品价格的组成部分之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内容：市场信息成本、合同谈判成本、合同履行成本和运输成本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交易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网络经济的显著特征之一，是交易成本大幅度下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与市场规模成反向关系：市场规模越大，单位产品承担的交易成本越小，反之则越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与交易环节的多少成正向关系：交易环节越多，交易成本就越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与信息传递速度及信息的对称性成反向关系：信息传递速度越快，信息的对称性越强，各项交易成本就越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数字产品的经济特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22"/>
          <p:cNvGrpSpPr/>
          <p:nvPr/>
        </p:nvGrpSpPr>
        <p:grpSpPr>
          <a:xfrm>
            <a:off x="1403280" y="1413000"/>
            <a:ext cx="4537080" cy="649080"/>
            <a:chOff x="1403280" y="1413000"/>
            <a:chExt cx="4537080" cy="649080"/>
          </a:xfrm>
        </p:grpSpPr>
        <p:grpSp>
          <p:nvGrpSpPr>
            <p:cNvPr id="490" name="Group 15"/>
            <p:cNvGrpSpPr/>
            <p:nvPr/>
          </p:nvGrpSpPr>
          <p:grpSpPr>
            <a:xfrm>
              <a:off x="1403280" y="1413000"/>
              <a:ext cx="1007640" cy="648720"/>
              <a:chOff x="1403280" y="1413000"/>
              <a:chExt cx="1007640" cy="648720"/>
            </a:xfrm>
          </p:grpSpPr>
          <p:grpSp>
            <p:nvGrpSpPr>
              <p:cNvPr id="491" name="Group 6"/>
              <p:cNvGrpSpPr/>
              <p:nvPr/>
            </p:nvGrpSpPr>
            <p:grpSpPr>
              <a:xfrm>
                <a:off x="1403280" y="1413000"/>
                <a:ext cx="1007640" cy="648720"/>
                <a:chOff x="1403280" y="1413000"/>
                <a:chExt cx="1007640" cy="648720"/>
              </a:xfrm>
            </p:grpSpPr>
            <p:sp>
              <p:nvSpPr>
                <p:cNvPr id="492" name="Oval 7"/>
                <p:cNvSpPr/>
                <p:nvPr/>
              </p:nvSpPr>
              <p:spPr>
                <a:xfrm>
                  <a:off x="1403280" y="1413000"/>
                  <a:ext cx="100764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7618"/>
                    </a:gs>
                    <a:gs pos="100000">
                      <a:srgbClr val="66ff33">
                        <a:alpha val="2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Oval 8"/>
                <p:cNvSpPr/>
                <p:nvPr/>
              </p:nvSpPr>
              <p:spPr>
                <a:xfrm>
                  <a:off x="1549080" y="1500480"/>
                  <a:ext cx="724680" cy="46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7618"/>
                    </a:gs>
                    <a:gs pos="100000">
                      <a:srgbClr val="66ff33">
                        <a:alpha val="2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Text Box 9"/>
              <p:cNvSpPr/>
              <p:nvPr/>
            </p:nvSpPr>
            <p:spPr>
              <a:xfrm>
                <a:off x="1692360" y="1555560"/>
                <a:ext cx="382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AutoShape 10"/>
            <p:cNvSpPr/>
            <p:nvPr/>
          </p:nvSpPr>
          <p:spPr>
            <a:xfrm>
              <a:off x="2700360" y="1413000"/>
              <a:ext cx="3240000" cy="6490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数字产品的效用特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AutoShape 25"/>
          <p:cNvSpPr/>
          <p:nvPr/>
        </p:nvSpPr>
        <p:spPr>
          <a:xfrm>
            <a:off x="2268360" y="2492280"/>
            <a:ext cx="4535640" cy="1440000"/>
          </a:xfrm>
          <a:prstGeom prst="bevel">
            <a:avLst>
              <a:gd name="adj" fmla="val 12500"/>
            </a:avLst>
          </a:prstGeom>
          <a:solidFill>
            <a:srgbClr val="9933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信息与数字产品的效用：指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占有，使用或者消费某种数字信息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品时所得到的快乐和满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34"/>
          <p:cNvGrpSpPr/>
          <p:nvPr/>
        </p:nvGrpSpPr>
        <p:grpSpPr>
          <a:xfrm>
            <a:off x="1044720" y="4292640"/>
            <a:ext cx="7199280" cy="1942920"/>
            <a:chOff x="1044720" y="4292640"/>
            <a:chExt cx="7199280" cy="1942920"/>
          </a:xfrm>
        </p:grpSpPr>
        <p:sp>
          <p:nvSpPr>
            <p:cNvPr id="498" name="AutoShape 24"/>
            <p:cNvSpPr/>
            <p:nvPr/>
          </p:nvSpPr>
          <p:spPr>
            <a:xfrm>
              <a:off x="3995640" y="4292640"/>
              <a:ext cx="1152720" cy="1368360"/>
            </a:xfrm>
            <a:prstGeom prst="upArrowCallout">
              <a:avLst>
                <a:gd name="adj1" fmla="val 25002"/>
                <a:gd name="adj2" fmla="val 25000"/>
                <a:gd name="adj3" fmla="val 19785"/>
                <a:gd name="adj4" fmla="val 66660"/>
              </a:avLst>
            </a:prstGeom>
            <a:solidFill>
              <a:srgbClr val="4f81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数字产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的效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6"/>
            <p:cNvSpPr/>
            <p:nvPr/>
          </p:nvSpPr>
          <p:spPr>
            <a:xfrm>
              <a:off x="1044720" y="4292640"/>
              <a:ext cx="2879640" cy="1942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消费者消费商品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随着消费数量的增加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效用增大，但到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的极限值以后，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费数量增加，将导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效用减少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8"/>
            <p:cNvSpPr/>
            <p:nvPr/>
          </p:nvSpPr>
          <p:spPr>
            <a:xfrm>
              <a:off x="5364000" y="4292640"/>
              <a:ext cx="2880000" cy="1942920"/>
            </a:xfrm>
            <a:custGeom>
              <a:avLst/>
              <a:gdLst>
                <a:gd name="textAreaLeft" fmla="*/ 0 w 2880000"/>
                <a:gd name="textAreaRight" fmla="*/ 2880360 w 288000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但边际效用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减规律对数字产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并不适用。数字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所带来的效用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量无关，而与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次数相关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F198-7CAF-478A-9F98-FC26D489131F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15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Calibri"/>
                <a:ea typeface="微软雅黑"/>
              </a:rPr>
              <a:t>思考与练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图片 2" descr=""/>
          <p:cNvPicPr/>
          <p:nvPr/>
        </p:nvPicPr>
        <p:blipFill>
          <a:blip r:embed="rId1"/>
          <a:stretch/>
        </p:blipFill>
        <p:spPr>
          <a:xfrm>
            <a:off x="4606920" y="404640"/>
            <a:ext cx="4178160" cy="26798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2"/>
          <p:cNvSpPr/>
          <p:nvPr/>
        </p:nvSpPr>
        <p:spPr>
          <a:xfrm>
            <a:off x="358920" y="3187440"/>
            <a:ext cx="8100720" cy="1739880"/>
          </a:xfrm>
          <a:prstGeom prst="rect">
            <a:avLst/>
          </a:prstGeom>
          <a:solidFill>
            <a:srgbClr val="ffff00">
              <a:alpha val="14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产品和数字产品的概念及区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产品的经济学特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产品的成本构成与一般产品有何不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B64D-D0DE-4542-BB1C-49C5F54B6A62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576360" y="836640"/>
            <a:ext cx="4998960" cy="3676680"/>
          </a:xfrm>
          <a:prstGeom prst="rect">
            <a:avLst/>
          </a:prstGeom>
          <a:ln w="0">
            <a:noFill/>
          </a:ln>
        </p:spPr>
      </p:pic>
      <p:sp>
        <p:nvSpPr>
          <p:cNvPr id="507" name="TextBox 27"/>
          <p:cNvSpPr/>
          <p:nvPr/>
        </p:nvSpPr>
        <p:spPr>
          <a:xfrm>
            <a:off x="5003640" y="299736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A74C-EE01-4B54-9EE1-1620762727F4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3"/>
          <p:cNvSpPr/>
          <p:nvPr/>
        </p:nvSpPr>
        <p:spPr>
          <a:xfrm>
            <a:off x="2411280" y="4284720"/>
            <a:ext cx="3619800" cy="442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8000" y="728640"/>
            <a:ext cx="3014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本章目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33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6"/>
          <p:cNvSpPr/>
          <p:nvPr/>
        </p:nvSpPr>
        <p:spPr>
          <a:xfrm>
            <a:off x="2408400" y="2282760"/>
            <a:ext cx="3568680" cy="442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息与信息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27"/>
          <p:cNvSpPr/>
          <p:nvPr/>
        </p:nvSpPr>
        <p:spPr>
          <a:xfrm>
            <a:off x="2195640" y="2131920"/>
            <a:ext cx="393480" cy="316080"/>
          </a:xfrm>
          <a:prstGeom prst="ellipse">
            <a:avLst/>
          </a:prstGeom>
          <a:solidFill>
            <a:srgbClr val="e46c0a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0"/>
          <p:cNvSpPr/>
          <p:nvPr/>
        </p:nvSpPr>
        <p:spPr>
          <a:xfrm>
            <a:off x="2408400" y="2984400"/>
            <a:ext cx="3619440" cy="4446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字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51"/>
          <p:cNvSpPr/>
          <p:nvPr/>
        </p:nvSpPr>
        <p:spPr>
          <a:xfrm>
            <a:off x="2195640" y="2833560"/>
            <a:ext cx="393480" cy="317520"/>
          </a:xfrm>
          <a:prstGeom prst="ellipse">
            <a:avLst/>
          </a:prstGeom>
          <a:solidFill>
            <a:srgbClr val="604a7b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3"/>
          <p:cNvSpPr/>
          <p:nvPr/>
        </p:nvSpPr>
        <p:spPr>
          <a:xfrm>
            <a:off x="2408400" y="3633840"/>
            <a:ext cx="3619440" cy="442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字产品的性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4"/>
          <p:cNvSpPr/>
          <p:nvPr/>
        </p:nvSpPr>
        <p:spPr>
          <a:xfrm>
            <a:off x="2195640" y="3483000"/>
            <a:ext cx="393480" cy="315720"/>
          </a:xfrm>
          <a:prstGeom prst="ellipse">
            <a:avLst/>
          </a:prstGeom>
          <a:solidFill>
            <a:srgbClr val="0070c0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27"/>
          <p:cNvSpPr/>
          <p:nvPr/>
        </p:nvSpPr>
        <p:spPr>
          <a:xfrm>
            <a:off x="2195640" y="4076640"/>
            <a:ext cx="393480" cy="316080"/>
          </a:xfrm>
          <a:prstGeom prst="ellipse">
            <a:avLst/>
          </a:prstGeom>
          <a:solidFill>
            <a:srgbClr val="ff99cc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2411280" y="4292640"/>
            <a:ext cx="36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字产品的成本及效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FD9F-3485-40CE-9BBC-5363AA20E7DB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246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249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信息的定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254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信息的表现形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643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一节 信息与信息商品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63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25"/>
          <p:cNvSpPr/>
          <p:nvPr/>
        </p:nvSpPr>
        <p:spPr>
          <a:xfrm>
            <a:off x="2087640" y="3105000"/>
            <a:ext cx="4371840" cy="64008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息的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流程图: 联系 27"/>
          <p:cNvSpPr/>
          <p:nvPr/>
        </p:nvSpPr>
        <p:spPr>
          <a:xfrm>
            <a:off x="1871640" y="3429000"/>
            <a:ext cx="331920" cy="128520"/>
          </a:xfrm>
          <a:prstGeom prst="flowChartConnector">
            <a:avLst/>
          </a:prstGeom>
          <a:solidFill>
            <a:srgbClr val="b3a2c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5"/>
          <p:cNvSpPr/>
          <p:nvPr/>
        </p:nvSpPr>
        <p:spPr>
          <a:xfrm>
            <a:off x="2195640" y="4184640"/>
            <a:ext cx="4371840" cy="6397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息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流程图: 联系 27"/>
          <p:cNvSpPr/>
          <p:nvPr/>
        </p:nvSpPr>
        <p:spPr>
          <a:xfrm>
            <a:off x="1979640" y="4400640"/>
            <a:ext cx="331920" cy="128520"/>
          </a:xfrm>
          <a:prstGeom prst="flowChartConnector">
            <a:avLst/>
          </a:prstGeom>
          <a:solidFill>
            <a:srgbClr val="00cc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C86C-1C7B-490B-A347-8099F834DCC5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274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一节 信息与信息商品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81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1"/>
          <p:cNvSpPr/>
          <p:nvPr/>
        </p:nvSpPr>
        <p:spPr>
          <a:xfrm>
            <a:off x="2049480" y="4297320"/>
            <a:ext cx="0" cy="3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33"/>
          <p:cNvSpPr/>
          <p:nvPr/>
        </p:nvSpPr>
        <p:spPr>
          <a:xfrm>
            <a:off x="2060640" y="460368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6360" y="1052640"/>
            <a:ext cx="79930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信息定义的五种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信息是区别与物质、能量的另一个构成世界的重要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信息是客观世界各种事物变化和特征的反映，信息是事物运动的状态和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从接受信息的认识主题来定义，说明认识主体由于得到了信息而增进了对客观对象的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从传输中信息所依附的载体来定义。说明信息作为内容有它外在的表现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从信息的发送、传输、接收的统一中客体和主体之间的相互作用来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信息的特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6560" y="1592280"/>
            <a:ext cx="2810160" cy="39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客观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价值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分享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扩散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再现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积累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开发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4788000" y="1592280"/>
            <a:ext cx="3779640" cy="37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不可分割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时效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传递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传递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加工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存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延续性和继承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6560" y="5589720"/>
            <a:ext cx="66978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再生性和可增值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6560" y="126828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）信息商品脱胎于物质商品，在历史上后于物质商品发挥商品的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）任何一种物质商品本身都包含着一定的信息成分，一种商品本身是作为物质商品，还是作为信息商品进入市场，主要取决于该类商品中两种成分的比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2b2f"/>
                </a:solidFill>
                <a:latin typeface="Calibri"/>
              </a:rPr>
              <a:t>间接性、重复使用性、对象性、效益性、时效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信息商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信息商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价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df2b2f"/>
                </a:solidFill>
                <a:latin typeface="Calibri"/>
              </a:rPr>
              <a:t>信息商品的使用价值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是指信息商品所包含的信息内容的自然属性，即能够为消费者带来一定的效用或满足程度的性质。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df2b2f"/>
                </a:solidFill>
                <a:latin typeface="Calibri"/>
              </a:rPr>
              <a:t>信息商品的价值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是指凝结在信息产品中的人类劳动，它是信息商品的社会属性，体现出信息生产者和信息需求者之间的联系，亦即他们之间交换劳动的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7124-6EB9-48A4-85FD-5EFA209C18F8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299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302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定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307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643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二节 数字产品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16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sy</dc:creator>
  <dc:description/>
  <dc:language>en-US</dc:language>
  <cp:lastModifiedBy>AutoBVT</cp:lastModifiedBy>
  <dcterms:modified xsi:type="dcterms:W3CDTF">2018-09-01T01:09:40Z</dcterms:modified>
  <cp:revision>191</cp:revision>
  <dc:subject/>
  <dc:title>ch01</dc:title>
</cp:coreProperties>
</file>