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BD71-32BB-4123-8B4E-B26373E7B8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4324-E273-42C2-A2BD-F53ED4C6C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882720" y="1055520"/>
            <a:ext cx="5051520" cy="3789360"/>
          </a:xfrm>
          <a:prstGeom prst="rect">
            <a:avLst/>
          </a:prstGeom>
          <a:ln w="0">
            <a:noFill/>
          </a:ln>
        </p:spPr>
      </p:sp>
      <p:sp>
        <p:nvSpPr>
          <p:cNvPr id="74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50D03-36C0-4929-A35C-99A9C748C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0009-9B65-4A5F-84C4-D4AC51F0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1A20B-7A2A-424C-8588-34AF3458C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CC1CF-0D27-46E4-812B-A526A36EF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98DC8-7D6C-4EB3-90C4-331080CF6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0B17F-85D6-4CA3-9B93-D8185CAE9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0E033-94C9-480B-BCA2-F45CC71B6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B11E8-F141-4801-BD94-207C2CE79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0F397-2BC5-4AB2-A0C4-E5BD56077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76E32-808C-4118-9561-76320723F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B16F-521B-462E-B073-DA5EB8605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619F3-0AAF-452F-822C-2301D58A5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3FC63-E3F5-4F8B-BB2F-DA6824517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8BC09-2429-494A-B385-481E7A5B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A9716-CFA9-48C7-B38C-1A845A5F9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0181C-5388-4F73-B53D-46D06C278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901AF-B9D7-49B5-9045-53416062C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88AAA-6570-4FAA-ACEB-BB15212E8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BA929-18C2-486A-9CAB-34FC1D100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50BF4-0680-43C9-8FE1-B3D853FB4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1ED41-20ED-4EF2-AEA3-4A730F2C8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10C76-7B78-462C-8ABE-49567808A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1C64-3993-4BBC-B129-9C7B4B28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555B5-F0CA-4002-AFBA-8073E6E1F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7F49A-B656-4FAB-AC74-9A52DB807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1E271-BBA5-4D90-A096-F4426F912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BE57-443C-43D7-9B14-10725A39D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11A69-5B51-4DBD-95CC-A4D48FF43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041C1-87EA-4631-B10D-DE95FE58F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75D41-550F-43EC-9FD9-BC75CB3610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BFCE6-C28E-4763-8095-36E50A85F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1E801-A635-4432-BB37-55E08BE2C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00553-C972-4460-B325-4E9916816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050ED-D8C9-4F94-92C9-42D61D2A7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32A82-4CE4-4220-862B-EAF09B2C4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7F02A-6860-4D83-A298-03602C5DB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41CB8-71FC-4D5D-BEB3-82B2A40D8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A143F-6E69-49A0-A337-510B07131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B7B22-8055-46B4-AB54-886214592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1C0DD-73CB-4394-9B4B-840F2F9D3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8D207-17A7-484E-9445-9D2606C93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187E9-B7F1-4B77-856B-46209DD925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19717D-5511-4169-B113-72D7CECF47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29396A-FD97-4B0E-8A2D-4583DA6B6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260F-8A52-4013-9E42-E1D79086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3C655-EEB9-45B7-A25E-493CC31E65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D96EF-A0A6-4F14-BD55-CC0B08A60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37068-7D08-4B10-9BBE-622B5BA84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F918B-C73E-40F3-A224-3C19D4BAD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0A627-9B39-4627-B45A-A7387CAB6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B05BA-5A44-4674-81AF-C57A087B5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EC433-1DCE-4DC8-87DC-C2033E3ED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CDCCF-26FA-46A8-8C8C-10AF39990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151F2F-29E9-440B-A12D-992A0A27E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06CD25-2168-42B7-83AF-696A622E13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95073-3BB1-4072-986E-5DC931176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AC02F-C568-49F9-8068-5CA1115DFA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86B4-2D6C-4D8C-95CC-CEA06B57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7FD0-9D00-4E45-9963-ED8B91CF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19A6-9C21-4AC3-A35B-D50B008B3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CEC0-319F-44CF-A1A9-FEEEE3B5FE4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2A3D-944A-4E80-A91B-77FAA7EC119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E967-A9AD-426C-BCAF-C017813EDD6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DD1C-95DE-4C85-A17E-78ADC01E75AC}"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0370-4DDA-4843-A20F-846745AF778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5805-2C40-4253-805A-7A76FB8A431B}"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2C57-130E-4FE8-8A8E-E0C806C5A3C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1057-0C44-4F64-9D47-90EE2EAC913D}"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0EFD-EC23-4709-8C13-BFB9E061603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D8B8-6295-410B-B539-8601339BCE60}"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章 信息与质量不确定</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128"/>
          <p:cNvGrpSpPr/>
          <p:nvPr/>
        </p:nvGrpSpPr>
        <p:grpSpPr>
          <a:xfrm>
            <a:off x="7704000" y="2349360"/>
            <a:ext cx="648000" cy="453960"/>
            <a:chOff x="7704000" y="2349360"/>
            <a:chExt cx="648000" cy="453960"/>
          </a:xfrm>
        </p:grpSpPr>
        <p:sp>
          <p:nvSpPr>
            <p:cNvPr id="3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10"/>
          <p:cNvGrpSpPr/>
          <p:nvPr/>
        </p:nvGrpSpPr>
        <p:grpSpPr>
          <a:xfrm>
            <a:off x="1224000" y="946080"/>
            <a:ext cx="6870600" cy="646200"/>
            <a:chOff x="1224000" y="946080"/>
            <a:chExt cx="6870600" cy="646200"/>
          </a:xfrm>
        </p:grpSpPr>
        <p:sp>
          <p:nvSpPr>
            <p:cNvPr id="38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作为质量信号的价格</a:t>
              </a:r>
              <a:endParaRPr b="0" lang="en-US" sz="1800" spc="-1" strike="noStrike">
                <a:solidFill>
                  <a:srgbClr val="000000"/>
                </a:solidFill>
                <a:latin typeface="Arial"/>
              </a:endParaRPr>
            </a:p>
          </p:txBody>
        </p:sp>
        <p:sp>
          <p:nvSpPr>
            <p:cNvPr id="38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387" name="组合 127"/>
          <p:cNvGrpSpPr/>
          <p:nvPr/>
        </p:nvGrpSpPr>
        <p:grpSpPr>
          <a:xfrm>
            <a:off x="250920" y="324000"/>
            <a:ext cx="264960" cy="417240"/>
            <a:chOff x="250920" y="324000"/>
            <a:chExt cx="264960" cy="417240"/>
          </a:xfrm>
        </p:grpSpPr>
        <p:sp>
          <p:nvSpPr>
            <p:cNvPr id="38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产品的价格传递了有关质量的信息，但价格所传递的质量信息有时会受到局限，例如低质量的产品索要高价格。一般来说，价格可以传递产品的一部分信息，但不是全部。</a:t>
            </a:r>
            <a:endParaRPr b="0" lang="en-US" sz="1800" spc="-1" strike="noStrike">
              <a:solidFill>
                <a:srgbClr val="000000"/>
              </a:solidFill>
              <a:latin typeface="Arial"/>
            </a:endParaRPr>
          </a:p>
        </p:txBody>
      </p:sp>
      <p:sp>
        <p:nvSpPr>
          <p:cNvPr id="392"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两个因素会阻止那些没有信誉的公司进入市场。第一个因素是对产品比较了解的顾客相对于不了解的顾客的比例。第二个因素是产品的成本。当越来越多的公司进入市场时，每一家公司的产品的市场占有率将下降。如果产品的成本较高，而价格较低，不诚实的公司就会发现进入市场无利可图。</a:t>
            </a: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128"/>
          <p:cNvGrpSpPr/>
          <p:nvPr/>
        </p:nvGrpSpPr>
        <p:grpSpPr>
          <a:xfrm>
            <a:off x="7704000" y="2349360"/>
            <a:ext cx="648000" cy="453960"/>
            <a:chOff x="7704000" y="2349360"/>
            <a:chExt cx="648000" cy="453960"/>
          </a:xfrm>
        </p:grpSpPr>
        <p:sp>
          <p:nvSpPr>
            <p:cNvPr id="39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组合 10"/>
          <p:cNvGrpSpPr/>
          <p:nvPr/>
        </p:nvGrpSpPr>
        <p:grpSpPr>
          <a:xfrm>
            <a:off x="1224000" y="946080"/>
            <a:ext cx="6870600" cy="646200"/>
            <a:chOff x="1224000" y="946080"/>
            <a:chExt cx="6870600" cy="646200"/>
          </a:xfrm>
        </p:grpSpPr>
        <p:sp>
          <p:nvSpPr>
            <p:cNvPr id="39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39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0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05" name="组合 127"/>
          <p:cNvGrpSpPr/>
          <p:nvPr/>
        </p:nvGrpSpPr>
        <p:grpSpPr>
          <a:xfrm>
            <a:off x="250920" y="324000"/>
            <a:ext cx="264960" cy="417240"/>
            <a:chOff x="250920" y="324000"/>
            <a:chExt cx="264960" cy="417240"/>
          </a:xfrm>
        </p:grpSpPr>
        <p:sp>
          <p:nvSpPr>
            <p:cNvPr id="4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柠檬市场也称次品市场，是指信息不对称的市场，即在市场中，产品的卖方对产品的质量拥有比买方更多的信息。在极端情况下，市场会止步萎缩和不存在，这就是经济学中的逆向选择。 </a:t>
            </a:r>
            <a:endParaRPr b="0" lang="en-US" sz="1800" spc="-1" strike="noStrike">
              <a:solidFill>
                <a:srgbClr val="000000"/>
              </a:solidFill>
              <a:latin typeface="Arial"/>
            </a:endParaRPr>
          </a:p>
        </p:txBody>
      </p:sp>
      <p:sp>
        <p:nvSpPr>
          <p:cNvPr id="410"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中，</a:t>
            </a:r>
            <a:r>
              <a:rPr b="1" lang="en-US" sz="1800" spc="-1" strike="noStrike">
                <a:solidFill>
                  <a:srgbClr val="595959"/>
                </a:solidFill>
                <a:latin typeface="Calibri"/>
              </a:rPr>
              <a:t>Internet</a:t>
            </a:r>
            <a:r>
              <a:rPr b="1" lang="zh-CN" sz="1800" spc="-1" strike="noStrike">
                <a:solidFill>
                  <a:srgbClr val="595959"/>
                </a:solidFill>
                <a:latin typeface="Calibri"/>
              </a:rPr>
              <a:t>互联网上产品信息的真实度很难于识别，除非我们能通过网页进行实地考察。其实，即使能做到这一步，在电子化市场中，销售者的身份也并不容易识别。一家电子商店</a:t>
            </a:r>
            <a:r>
              <a:rPr b="1" lang="en-US" sz="1800" spc="-1" strike="noStrike">
                <a:solidFill>
                  <a:srgbClr val="595959"/>
                </a:solidFill>
                <a:latin typeface="Calibri"/>
              </a:rPr>
              <a:t>——</a:t>
            </a:r>
            <a:r>
              <a:rPr b="1" lang="zh-CN" sz="1800" spc="-1" strike="noStrike">
                <a:solidFill>
                  <a:srgbClr val="595959"/>
                </a:solidFill>
                <a:latin typeface="Calibri"/>
              </a:rPr>
              <a:t>网上商店，可以在一天内建立起来，而第二天即消失。鉴别及确认</a:t>
            </a:r>
            <a:r>
              <a:rPr b="1" lang="en-US" sz="1800" spc="-1" strike="noStrike">
                <a:solidFill>
                  <a:srgbClr val="595959"/>
                </a:solidFill>
                <a:latin typeface="Calibri"/>
              </a:rPr>
              <a:t>Internet</a:t>
            </a:r>
            <a:r>
              <a:rPr b="1" lang="zh-CN" sz="1800" spc="-1" strike="noStrike">
                <a:solidFill>
                  <a:srgbClr val="595959"/>
                </a:solidFill>
                <a:latin typeface="Calibri"/>
              </a:rPr>
              <a:t>互联网上销售商的身份的技术有助于降低欺骗行为和无信誉经营的发生率，但是，对产品本身不了解的事实仍然存在。</a:t>
            </a:r>
            <a:endParaRPr b="0" lang="en-US" sz="1800" spc="-1" strike="noStrike">
              <a:solidFill>
                <a:srgbClr val="000000"/>
              </a:solidFill>
              <a:latin typeface="Arial"/>
            </a:endParaRPr>
          </a:p>
        </p:txBody>
      </p:sp>
      <p:sp>
        <p:nvSpPr>
          <p:cNvPr id="41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28"/>
          <p:cNvGrpSpPr/>
          <p:nvPr/>
        </p:nvGrpSpPr>
        <p:grpSpPr>
          <a:xfrm>
            <a:off x="7704000" y="2349360"/>
            <a:ext cx="648000" cy="453960"/>
            <a:chOff x="7704000" y="2349360"/>
            <a:chExt cx="648000" cy="453960"/>
          </a:xfrm>
        </p:grpSpPr>
        <p:sp>
          <p:nvSpPr>
            <p:cNvPr id="41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10"/>
          <p:cNvGrpSpPr/>
          <p:nvPr/>
        </p:nvGrpSpPr>
        <p:grpSpPr>
          <a:xfrm>
            <a:off x="1224000" y="946080"/>
            <a:ext cx="6870600" cy="646200"/>
            <a:chOff x="1224000" y="946080"/>
            <a:chExt cx="6870600" cy="646200"/>
          </a:xfrm>
        </p:grpSpPr>
        <p:sp>
          <p:nvSpPr>
            <p:cNvPr id="41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41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23" name="组合 127"/>
          <p:cNvGrpSpPr/>
          <p:nvPr/>
        </p:nvGrpSpPr>
        <p:grpSpPr>
          <a:xfrm>
            <a:off x="250920" y="324000"/>
            <a:ext cx="264960" cy="417240"/>
            <a:chOff x="250920" y="324000"/>
            <a:chExt cx="264960" cy="417240"/>
          </a:xfrm>
        </p:grpSpPr>
        <p:sp>
          <p:nvSpPr>
            <p:cNvPr id="42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果顾客了解了产品的质量并且每次都愿意购买这种产品，这个问题将变得不那么严重，厂家可以利用这种信誉经营下去，但由于受到生活空间的限制，或者销售商并不打算长期经营下去，信誉的作用将十分弱小。</a:t>
            </a:r>
            <a:endParaRPr b="0" lang="en-US" sz="1800" spc="-1" strike="noStrike">
              <a:solidFill>
                <a:srgbClr val="000000"/>
              </a:solidFill>
              <a:latin typeface="Arial"/>
            </a:endParaRPr>
          </a:p>
        </p:txBody>
      </p:sp>
      <p:sp>
        <p:nvSpPr>
          <p:cNvPr id="428"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今，一些厂家想在网上出售产品，客户也有心到网上购买，但双方往往在价格上难以达成一致。因为这种不确定性的存在，市场的运作效率将十分低下，甚至根本就无法运作，</a:t>
            </a:r>
            <a:endParaRPr b="0" lang="en-US" sz="1800" spc="-1" strike="noStrike">
              <a:solidFill>
                <a:srgbClr val="000000"/>
              </a:solidFill>
              <a:latin typeface="Arial"/>
            </a:endParaRPr>
          </a:p>
        </p:txBody>
      </p:sp>
      <p:sp>
        <p:nvSpPr>
          <p:cNvPr id="42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28"/>
          <p:cNvGrpSpPr/>
          <p:nvPr/>
        </p:nvGrpSpPr>
        <p:grpSpPr>
          <a:xfrm>
            <a:off x="7704000" y="2349360"/>
            <a:ext cx="648000" cy="453960"/>
            <a:chOff x="7704000" y="2349360"/>
            <a:chExt cx="648000" cy="453960"/>
          </a:xfrm>
        </p:grpSpPr>
        <p:sp>
          <p:nvSpPr>
            <p:cNvPr id="4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10"/>
          <p:cNvGrpSpPr/>
          <p:nvPr/>
        </p:nvGrpSpPr>
        <p:grpSpPr>
          <a:xfrm>
            <a:off x="1224000" y="946080"/>
            <a:ext cx="6870600" cy="646200"/>
            <a:chOff x="1224000" y="946080"/>
            <a:chExt cx="6870600" cy="646200"/>
          </a:xfrm>
        </p:grpSpPr>
        <p:sp>
          <p:nvSpPr>
            <p:cNvPr id="43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3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3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41" name="组合 127"/>
          <p:cNvGrpSpPr/>
          <p:nvPr/>
        </p:nvGrpSpPr>
        <p:grpSpPr>
          <a:xfrm>
            <a:off x="250920" y="324000"/>
            <a:ext cx="264960" cy="417240"/>
            <a:chOff x="250920" y="324000"/>
            <a:chExt cx="264960" cy="417240"/>
          </a:xfrm>
        </p:grpSpPr>
        <p:sp>
          <p:nvSpPr>
            <p:cNvPr id="44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因为柠檬问题起源于信息的不对称性，即买方和卖方不拥有相同的信息，显而易见，问题的解决就是要告知消费者，让他对产品的质量有把握，许多机制都是基于此目的的。</a:t>
            </a:r>
            <a:endParaRPr b="0" lang="en-US" sz="1800" spc="-1" strike="noStrike">
              <a:solidFill>
                <a:srgbClr val="000000"/>
              </a:solidFill>
              <a:latin typeface="Arial"/>
            </a:endParaRPr>
          </a:p>
        </p:txBody>
      </p:sp>
      <p:sp>
        <p:nvSpPr>
          <p:cNvPr id="446"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首先，厂家可通过发布广告，建立信誉或提供保证等方式，把这些信息传递给消费者，这些方法能否生效，将依赖于广告、信誉。保证的可信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其次，政府、消费者协会等可以建立质量合格标准来保证产品质量。然而，第三方所要求的标准通常是对产品的最低要求，实际上它只能表明产品能否使用，而不是一种质量标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第三，可信赖的第三方，它们通过比较各种品牌提供详细的产品质量信息（如消费者协会发布的</a:t>
            </a:r>
            <a:r>
              <a:rPr b="1" lang="en-US" sz="1700" spc="-1" strike="noStrike">
                <a:solidFill>
                  <a:srgbClr val="595959"/>
                </a:solidFill>
                <a:latin typeface="Calibri"/>
              </a:rPr>
              <a:t>《</a:t>
            </a:r>
            <a:r>
              <a:rPr b="1" lang="zh-CN" sz="1700" spc="-1" strike="noStrike">
                <a:solidFill>
                  <a:srgbClr val="595959"/>
                </a:solidFill>
                <a:latin typeface="Calibri"/>
              </a:rPr>
              <a:t>消费者报告</a:t>
            </a:r>
            <a:r>
              <a:rPr b="1" lang="en-US" sz="1700" spc="-1" strike="noStrike">
                <a:solidFill>
                  <a:srgbClr val="595959"/>
                </a:solidFill>
                <a:latin typeface="Calibri"/>
              </a:rPr>
              <a:t>》</a:t>
            </a:r>
            <a:r>
              <a:rPr b="1" lang="zh-CN" sz="1700" spc="-1" strike="noStrike">
                <a:solidFill>
                  <a:srgbClr val="595959"/>
                </a:solidFill>
                <a:latin typeface="Calibri"/>
              </a:rPr>
              <a:t>，而不是设立质量标准。要求第三方必须是中立的、可信任的，并配有能够测试产品的必要的设备。消费者协会便是这样一个面向公众的非营利性组织。</a:t>
            </a:r>
            <a:endParaRPr b="0" lang="en-US" sz="1700" spc="-1" strike="noStrike">
              <a:solidFill>
                <a:srgbClr val="000000"/>
              </a:solidFill>
              <a:latin typeface="Arial"/>
            </a:endParaRPr>
          </a:p>
        </p:txBody>
      </p:sp>
      <p:sp>
        <p:nvSpPr>
          <p:cNvPr id="44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Group 128"/>
          <p:cNvGrpSpPr/>
          <p:nvPr/>
        </p:nvGrpSpPr>
        <p:grpSpPr>
          <a:xfrm>
            <a:off x="7704000" y="2349360"/>
            <a:ext cx="648000" cy="453960"/>
            <a:chOff x="7704000" y="2349360"/>
            <a:chExt cx="648000" cy="453960"/>
          </a:xfrm>
        </p:grpSpPr>
        <p:sp>
          <p:nvSpPr>
            <p:cNvPr id="4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组合 10"/>
          <p:cNvGrpSpPr/>
          <p:nvPr/>
        </p:nvGrpSpPr>
        <p:grpSpPr>
          <a:xfrm>
            <a:off x="1224000" y="946080"/>
            <a:ext cx="6870600" cy="646200"/>
            <a:chOff x="1224000" y="946080"/>
            <a:chExt cx="6870600" cy="646200"/>
          </a:xfrm>
        </p:grpSpPr>
        <p:sp>
          <p:nvSpPr>
            <p:cNvPr id="45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5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5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59" name="组合 127"/>
          <p:cNvGrpSpPr/>
          <p:nvPr/>
        </p:nvGrpSpPr>
        <p:grpSpPr>
          <a:xfrm>
            <a:off x="250920" y="324000"/>
            <a:ext cx="264960" cy="417240"/>
            <a:chOff x="250920" y="324000"/>
            <a:chExt cx="264960" cy="417240"/>
          </a:xfrm>
        </p:grpSpPr>
        <p:sp>
          <p:nvSpPr>
            <p:cNvPr id="46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另一种类型的中介</a:t>
            </a:r>
            <a:r>
              <a:rPr b="1" lang="en-US" sz="1800" spc="-1" strike="noStrike">
                <a:solidFill>
                  <a:srgbClr val="595959"/>
                </a:solidFill>
                <a:latin typeface="Calibri"/>
              </a:rPr>
              <a:t>——</a:t>
            </a:r>
            <a:r>
              <a:rPr b="1" lang="zh-CN" sz="1800" spc="-1" strike="noStrike">
                <a:solidFill>
                  <a:srgbClr val="595959"/>
                </a:solidFill>
                <a:latin typeface="Calibri"/>
              </a:rPr>
              <a:t>转卖市场（如 </a:t>
            </a:r>
            <a:r>
              <a:rPr b="1" lang="en-US" sz="1800" spc="-1" strike="noStrike">
                <a:solidFill>
                  <a:srgbClr val="595959"/>
                </a:solidFill>
                <a:latin typeface="Calibri"/>
              </a:rPr>
              <a:t>UseNet</a:t>
            </a:r>
            <a:r>
              <a:rPr b="1" lang="zh-CN" sz="1800" spc="-1" strike="noStrike">
                <a:solidFill>
                  <a:srgbClr val="595959"/>
                </a:solidFill>
                <a:latin typeface="Calibri"/>
              </a:rPr>
              <a:t>信息组织或公众公告牌），也可以起到转售商的作用。受托的第三方不是直接把质量信息告诉消费者，而是通过转卖市场，在这里，对产品不满意的顾客可以把‘特檬”重新卖掉或者互相交流质量信息。</a:t>
            </a:r>
            <a:endParaRPr b="0" lang="en-US" sz="1800" spc="-1" strike="noStrike">
              <a:solidFill>
                <a:srgbClr val="000000"/>
              </a:solidFill>
              <a:latin typeface="Arial"/>
            </a:endParaRPr>
          </a:p>
        </p:txBody>
      </p:sp>
      <p:sp>
        <p:nvSpPr>
          <p:cNvPr id="46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FD9C-E368-4184-8614-E7724357389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66" name="Group 128"/>
          <p:cNvGrpSpPr/>
          <p:nvPr/>
        </p:nvGrpSpPr>
        <p:grpSpPr>
          <a:xfrm>
            <a:off x="7704000" y="2349360"/>
            <a:ext cx="648000" cy="453960"/>
            <a:chOff x="7704000" y="2349360"/>
            <a:chExt cx="648000" cy="453960"/>
          </a:xfrm>
        </p:grpSpPr>
        <p:sp>
          <p:nvSpPr>
            <p:cNvPr id="46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组合 127"/>
          <p:cNvGrpSpPr/>
          <p:nvPr/>
        </p:nvGrpSpPr>
        <p:grpSpPr>
          <a:xfrm>
            <a:off x="250920" y="324000"/>
            <a:ext cx="264960" cy="417240"/>
            <a:chOff x="250920" y="324000"/>
            <a:chExt cx="264960" cy="417240"/>
          </a:xfrm>
        </p:grpSpPr>
        <p:sp>
          <p:nvSpPr>
            <p:cNvPr id="47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endParaRPr b="0" lang="en-US" sz="3200" spc="-1" strike="noStrike">
              <a:solidFill>
                <a:srgbClr val="000000"/>
              </a:solidFill>
              <a:latin typeface="Calibri"/>
            </a:endParaRPr>
          </a:p>
        </p:txBody>
      </p:sp>
      <p:sp>
        <p:nvSpPr>
          <p:cNvPr id="47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0"/>
          <p:cNvGrpSpPr/>
          <p:nvPr/>
        </p:nvGrpSpPr>
        <p:grpSpPr>
          <a:xfrm>
            <a:off x="1871640" y="1387440"/>
            <a:ext cx="4537080" cy="647640"/>
            <a:chOff x="1871640" y="1387440"/>
            <a:chExt cx="4537080" cy="647640"/>
          </a:xfrm>
        </p:grpSpPr>
        <p:sp>
          <p:nvSpPr>
            <p:cNvPr id="48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厂商提供产品信息</a:t>
              </a:r>
              <a:endParaRPr b="0" lang="en-US" sz="1800" spc="-1" strike="noStrike">
                <a:solidFill>
                  <a:srgbClr val="000000"/>
                </a:solidFill>
                <a:latin typeface="Arial"/>
              </a:endParaRPr>
            </a:p>
          </p:txBody>
        </p:sp>
        <p:sp>
          <p:nvSpPr>
            <p:cNvPr id="48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8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5"/>
          <p:cNvGrpSpPr/>
          <p:nvPr/>
        </p:nvGrpSpPr>
        <p:grpSpPr>
          <a:xfrm>
            <a:off x="1871640" y="2241720"/>
            <a:ext cx="4537080" cy="647640"/>
            <a:chOff x="1871640" y="2241720"/>
            <a:chExt cx="4537080" cy="647640"/>
          </a:xfrm>
        </p:grpSpPr>
        <p:sp>
          <p:nvSpPr>
            <p:cNvPr id="48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免费软件、共享软件的信息传递</a:t>
              </a:r>
              <a:endParaRPr b="0" lang="en-US" sz="1800" spc="-1" strike="noStrike">
                <a:solidFill>
                  <a:srgbClr val="000000"/>
                </a:solidFill>
                <a:latin typeface="Arial"/>
              </a:endParaRPr>
            </a:p>
          </p:txBody>
        </p:sp>
        <p:sp>
          <p:nvSpPr>
            <p:cNvPr id="48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8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组合 20"/>
          <p:cNvGrpSpPr/>
          <p:nvPr/>
        </p:nvGrpSpPr>
        <p:grpSpPr>
          <a:xfrm>
            <a:off x="1871640" y="3105000"/>
            <a:ext cx="4537080" cy="648000"/>
            <a:chOff x="1871640" y="3105000"/>
            <a:chExt cx="4537080" cy="648000"/>
          </a:xfrm>
        </p:grpSpPr>
        <p:sp>
          <p:nvSpPr>
            <p:cNvPr id="49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三方信息提供与认证</a:t>
              </a:r>
              <a:endParaRPr b="0" lang="en-US" sz="1800" spc="-1" strike="noStrike">
                <a:solidFill>
                  <a:srgbClr val="000000"/>
                </a:solidFill>
                <a:latin typeface="Arial"/>
              </a:endParaRPr>
            </a:p>
          </p:txBody>
        </p:sp>
        <p:sp>
          <p:nvSpPr>
            <p:cNvPr id="49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9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组合 20"/>
          <p:cNvGrpSpPr/>
          <p:nvPr/>
        </p:nvGrpSpPr>
        <p:grpSpPr>
          <a:xfrm>
            <a:off x="1871640" y="3992400"/>
            <a:ext cx="4537080" cy="648000"/>
            <a:chOff x="1871640" y="3992400"/>
            <a:chExt cx="4537080" cy="648000"/>
          </a:xfrm>
        </p:grpSpPr>
        <p:sp>
          <p:nvSpPr>
            <p:cNvPr id="49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零售商和经纪商提供信息</a:t>
              </a:r>
              <a:endParaRPr b="0" lang="en-US" sz="1800" spc="-1" strike="noStrike">
                <a:solidFill>
                  <a:srgbClr val="000000"/>
                </a:solidFill>
                <a:latin typeface="Arial"/>
              </a:endParaRPr>
            </a:p>
          </p:txBody>
        </p:sp>
        <p:sp>
          <p:nvSpPr>
            <p:cNvPr id="49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9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厂商提供产品信息</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卖方主要是通过网负网络向他们的潜在顾客提供产品信息的，网上商店融合了传统的广告、市场营销和销售功能，具有传统广告和市场营销媒介所不具有的优点。</a:t>
            </a:r>
            <a:endParaRPr b="0" lang="en-US" sz="1800" spc="-1" strike="noStrike">
              <a:solidFill>
                <a:srgbClr val="000000"/>
              </a:solidFill>
              <a:latin typeface="Arial"/>
            </a:endParaRPr>
          </a:p>
        </p:txBody>
      </p:sp>
      <p:sp>
        <p:nvSpPr>
          <p:cNvPr id="51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质量可靠性问题时，销售商提供的产品信息的最后一个问题是消费者是否相信供应商。对于消费者会多次购买的商品，公司可以建立一种质量及可靠性的信誉，提供免费样品或者允许试用便是一种方法。但是对于仅会购买一次的产品，就像经久耐用的商品，公司便要采用其他的措施，以便使消费者信任它们产品的质量，一种方法便是提供试用品来赢得消费者的信任。</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免费软件、共享软件的信息传递</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对许多标有“试用商品”的产品用描述性的语言或者图片去评价并不合适。对于这类产品，消费者可以亲自试用一下，以便了解其产品质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    </a:t>
            </a:r>
            <a:r>
              <a:rPr b="1" lang="zh-CN" sz="1800" spc="-1" strike="noStrike">
                <a:solidFill>
                  <a:srgbClr val="595959"/>
                </a:solidFill>
                <a:latin typeface="Calibri"/>
              </a:rPr>
              <a:t>软件开发商目前普遍提供几种形式的试验产品，如免费软件、试用软件便是软件开发商免费提供的产品。测试版软件是软件开发商提供给喜欢该产品的顾客在决定购买之前的某一特定时段内免费使用的软件。通常，商用软件总是把去掉了关键部分的演示版本免费提供给用户使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公司提供试用产品的动机是将市场分开，以便获取最大利润。在这里，关键性的问题是产品的成本。如果产品的成本比低类型消费者的期望价格高，公司便不应该考虑这些低类型消费者，而应把目光盯在高类型消费者身上，要使高价格能够被接受，公司就要允许顾客在购买之前试用。</a:t>
            </a: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第三方信息提供与认证</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产品质量问题方面，除了买卖双方之间直接的信息渠道外，第三方也是必须的。对某些产品，要了解产品各方面的详细信息需要一定的技术知识。尽管一个设计得较好的网页也可以给读者提供产品的详细技术说明，但是并不是所有的人都会相信上面的资料。所以，往往需要有一定技术的人员来提供客观的测试信息。作为对产品的客观评价，这里常常包括各产品之间的对比，这时第三方所提供的信息通常比卖方和买方的信息更受欢迎。</a:t>
            </a:r>
            <a:endParaRPr b="0" lang="en-US" sz="1800" spc="-1" strike="noStrike">
              <a:solidFill>
                <a:srgbClr val="000000"/>
              </a:solidFill>
              <a:latin typeface="Arial"/>
            </a:endParaRPr>
          </a:p>
        </p:txBody>
      </p:sp>
      <p:sp>
        <p:nvSpPr>
          <p:cNvPr id="551"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第三方中介可分为两类：公共的和私人的。公共第三方没有盈利动机，要靠公有资金支持。而私人的第三方，提供信息并收取一定的费用，并将此作为它们的工作。</a:t>
            </a: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零售商和经纪商提供信息</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经济学上，一个人必须关心所提供信息的级别，即，是否有效、太多或太少。这些问题可通过分析决定这些中介提供的服务级别的市场来回答。</a:t>
            </a:r>
            <a:endParaRPr b="0" lang="en-US" sz="1800" spc="-1" strike="noStrike">
              <a:solidFill>
                <a:srgbClr val="000000"/>
              </a:solidFill>
              <a:latin typeface="Arial"/>
            </a:endParaRPr>
          </a:p>
        </p:txBody>
      </p:sp>
      <p:sp>
        <p:nvSpPr>
          <p:cNvPr id="569"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私人第三方被定义为中介，它们就像零售商一样，不是生产者，但是它们把向消费者传送质量信息作为他们的商业活动的一部分。它们提供直接和间接的质量信息。当它们为其分销的产品提供质量担保时，它们就传送了直接的信息。</a:t>
            </a:r>
            <a:endParaRPr b="0" lang="en-US" sz="1800" spc="-1" strike="noStrike">
              <a:solidFill>
                <a:srgbClr val="000000"/>
              </a:solidFill>
              <a:latin typeface="Arial"/>
            </a:endParaRPr>
          </a:p>
        </p:txBody>
      </p:sp>
      <p:sp>
        <p:nvSpPr>
          <p:cNvPr id="57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相关内容</a:t>
            </a:r>
            <a:endParaRPr b="0" lang="en-US" sz="2000" spc="-1" strike="noStrike">
              <a:solidFill>
                <a:srgbClr val="000000"/>
              </a:solidFill>
              <a:latin typeface="Arial"/>
            </a:endParaRPr>
          </a:p>
        </p:txBody>
      </p:sp>
      <p:sp>
        <p:nvSpPr>
          <p:cNvPr id="224"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基本概念，如掌握柠檬市场的经济学含义</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现实经济中交易费用的含义</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F97D-1247-42A3-9134-9A3AF37F04B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72" name="Group 128"/>
          <p:cNvGrpSpPr/>
          <p:nvPr/>
        </p:nvGrpSpPr>
        <p:grpSpPr>
          <a:xfrm>
            <a:off x="7704000" y="2349360"/>
            <a:ext cx="648000" cy="453960"/>
            <a:chOff x="7704000" y="2349360"/>
            <a:chExt cx="648000" cy="453960"/>
          </a:xfrm>
        </p:grpSpPr>
        <p:sp>
          <p:nvSpPr>
            <p:cNvPr id="57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127"/>
          <p:cNvGrpSpPr/>
          <p:nvPr/>
        </p:nvGrpSpPr>
        <p:grpSpPr>
          <a:xfrm>
            <a:off x="250920" y="324000"/>
            <a:ext cx="264960" cy="417240"/>
            <a:chOff x="250920" y="324000"/>
            <a:chExt cx="264960" cy="417240"/>
          </a:xfrm>
        </p:grpSpPr>
        <p:sp>
          <p:nvSpPr>
            <p:cNvPr id="5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endParaRPr b="0" lang="en-US" sz="3200" spc="-1" strike="noStrike">
              <a:solidFill>
                <a:srgbClr val="000000"/>
              </a:solidFill>
              <a:latin typeface="Calibri"/>
            </a:endParaRPr>
          </a:p>
        </p:txBody>
      </p:sp>
      <p:sp>
        <p:nvSpPr>
          <p:cNvPr id="58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组合 10"/>
          <p:cNvGrpSpPr/>
          <p:nvPr/>
        </p:nvGrpSpPr>
        <p:grpSpPr>
          <a:xfrm>
            <a:off x="1871640" y="1387440"/>
            <a:ext cx="4537080" cy="647640"/>
            <a:chOff x="1871640" y="1387440"/>
            <a:chExt cx="4537080" cy="647640"/>
          </a:xfrm>
        </p:grpSpPr>
        <p:sp>
          <p:nvSpPr>
            <p:cNvPr id="586"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交易效率经济学</a:t>
              </a:r>
              <a:endParaRPr b="0" lang="en-US" sz="1800" spc="-1" strike="noStrike">
                <a:solidFill>
                  <a:srgbClr val="000000"/>
                </a:solidFill>
                <a:latin typeface="Arial"/>
              </a:endParaRPr>
            </a:p>
          </p:txBody>
        </p:sp>
        <p:sp>
          <p:nvSpPr>
            <p:cNvPr id="587"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89"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0" name="组合 15"/>
          <p:cNvGrpSpPr/>
          <p:nvPr/>
        </p:nvGrpSpPr>
        <p:grpSpPr>
          <a:xfrm>
            <a:off x="1871640" y="2241720"/>
            <a:ext cx="4537080" cy="647640"/>
            <a:chOff x="1871640" y="2241720"/>
            <a:chExt cx="4537080" cy="647640"/>
          </a:xfrm>
        </p:grpSpPr>
        <p:sp>
          <p:nvSpPr>
            <p:cNvPr id="591"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专家的中间商</a:t>
              </a:r>
              <a:endParaRPr b="0" lang="en-US" sz="1800" spc="-1" strike="noStrike">
                <a:solidFill>
                  <a:srgbClr val="000000"/>
                </a:solidFill>
                <a:latin typeface="Arial"/>
              </a:endParaRPr>
            </a:p>
          </p:txBody>
        </p:sp>
        <p:sp>
          <p:nvSpPr>
            <p:cNvPr id="592"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94"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组合 20"/>
          <p:cNvGrpSpPr/>
          <p:nvPr/>
        </p:nvGrpSpPr>
        <p:grpSpPr>
          <a:xfrm>
            <a:off x="1871640" y="3105000"/>
            <a:ext cx="4537080" cy="648000"/>
            <a:chOff x="1871640" y="3105000"/>
            <a:chExt cx="4537080" cy="648000"/>
          </a:xfrm>
        </p:grpSpPr>
        <p:sp>
          <p:nvSpPr>
            <p:cNvPr id="596"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信息源的中间商</a:t>
              </a:r>
              <a:endParaRPr b="0" lang="en-US" sz="1800" spc="-1" strike="noStrike">
                <a:solidFill>
                  <a:srgbClr val="000000"/>
                </a:solidFill>
                <a:latin typeface="Arial"/>
              </a:endParaRPr>
            </a:p>
          </p:txBody>
        </p:sp>
        <p:sp>
          <p:nvSpPr>
            <p:cNvPr id="597"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99"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组合 20"/>
          <p:cNvGrpSpPr/>
          <p:nvPr/>
        </p:nvGrpSpPr>
        <p:grpSpPr>
          <a:xfrm>
            <a:off x="1871640" y="3992400"/>
            <a:ext cx="4537080" cy="648000"/>
            <a:chOff x="1871640" y="3992400"/>
            <a:chExt cx="4537080" cy="648000"/>
          </a:xfrm>
        </p:grpSpPr>
        <p:sp>
          <p:nvSpPr>
            <p:cNvPr id="601"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制作者的中间商</a:t>
              </a:r>
              <a:endParaRPr b="0" lang="en-US" sz="1800" spc="-1" strike="noStrike">
                <a:solidFill>
                  <a:srgbClr val="000000"/>
                </a:solidFill>
                <a:latin typeface="Arial"/>
              </a:endParaRPr>
            </a:p>
          </p:txBody>
        </p:sp>
        <p:sp>
          <p:nvSpPr>
            <p:cNvPr id="602"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04"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128"/>
          <p:cNvGrpSpPr/>
          <p:nvPr/>
        </p:nvGrpSpPr>
        <p:grpSpPr>
          <a:xfrm>
            <a:off x="7704000" y="2349360"/>
            <a:ext cx="648000" cy="453960"/>
            <a:chOff x="7704000" y="2349360"/>
            <a:chExt cx="648000" cy="453960"/>
          </a:xfrm>
        </p:grpSpPr>
        <p:sp>
          <p:nvSpPr>
            <p:cNvPr id="60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10"/>
          <p:cNvGrpSpPr/>
          <p:nvPr/>
        </p:nvGrpSpPr>
        <p:grpSpPr>
          <a:xfrm>
            <a:off x="1224000" y="946080"/>
            <a:ext cx="6870600" cy="646200"/>
            <a:chOff x="1224000" y="946080"/>
            <a:chExt cx="6870600" cy="646200"/>
          </a:xfrm>
        </p:grpSpPr>
        <p:sp>
          <p:nvSpPr>
            <p:cNvPr id="60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交易效率经济学</a:t>
              </a:r>
              <a:endParaRPr b="0" lang="en-US" sz="1800" spc="-1" strike="noStrike">
                <a:solidFill>
                  <a:srgbClr val="000000"/>
                </a:solidFill>
                <a:latin typeface="Arial"/>
              </a:endParaRPr>
            </a:p>
          </p:txBody>
        </p:sp>
        <p:sp>
          <p:nvSpPr>
            <p:cNvPr id="61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1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16" name="组合 127"/>
          <p:cNvGrpSpPr/>
          <p:nvPr/>
        </p:nvGrpSpPr>
        <p:grpSpPr>
          <a:xfrm>
            <a:off x="250920" y="324000"/>
            <a:ext cx="264960" cy="417240"/>
            <a:chOff x="250920" y="324000"/>
            <a:chExt cx="264960" cy="417240"/>
          </a:xfrm>
        </p:grpSpPr>
        <p:sp>
          <p:nvSpPr>
            <p:cNvPr id="61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了使公司或市场的运作更有效，产品成本和交易成本必须最小化。因此，我们认为，交易成本低的市场运作效率比较高。中介以第三方的身份提供产品的质量信息，从而消除了市场由于质量不确定问题而失灵的可能。电子商务中，质量不确定问题愈严重，对有效中介的需要就愈强烈。</a:t>
            </a:r>
            <a:endParaRPr b="0" lang="en-US" sz="1700" spc="-1" strike="noStrike">
              <a:solidFill>
                <a:srgbClr val="000000"/>
              </a:solidFill>
              <a:latin typeface="Arial"/>
            </a:endParaRPr>
          </a:p>
        </p:txBody>
      </p:sp>
      <p:sp>
        <p:nvSpPr>
          <p:cNvPr id="621"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尽管中介的参与提高了交易成本，但它也提高了市场效率，因为市场不再是封闭的</a:t>
            </a:r>
            <a:r>
              <a:rPr b="1" lang="en-US" sz="1800" spc="-1" strike="noStrike">
                <a:solidFill>
                  <a:srgbClr val="595959"/>
                </a:solidFill>
                <a:latin typeface="Calibri"/>
              </a:rPr>
              <a:t>——</a:t>
            </a:r>
            <a:r>
              <a:rPr b="1" lang="zh-CN" sz="1800" spc="-1" strike="noStrike">
                <a:solidFill>
                  <a:srgbClr val="595959"/>
                </a:solidFill>
                <a:latin typeface="Calibri"/>
              </a:rPr>
              <a:t>货物对顾客来说是可见的。即使中介不一定具备测试产品的专业知识，但靠其在市场中长期与供应商打交道，也可以保证产品的质量。</a:t>
            </a:r>
            <a:endParaRPr b="0" lang="en-US" sz="1800" spc="-1" strike="noStrike">
              <a:solidFill>
                <a:srgbClr val="000000"/>
              </a:solidFill>
              <a:latin typeface="Arial"/>
            </a:endParaRPr>
          </a:p>
        </p:txBody>
      </p:sp>
      <p:sp>
        <p:nvSpPr>
          <p:cNvPr id="62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28"/>
          <p:cNvGrpSpPr/>
          <p:nvPr/>
        </p:nvGrpSpPr>
        <p:grpSpPr>
          <a:xfrm>
            <a:off x="7704000" y="2349360"/>
            <a:ext cx="648000" cy="453960"/>
            <a:chOff x="7704000" y="2349360"/>
            <a:chExt cx="648000" cy="453960"/>
          </a:xfrm>
        </p:grpSpPr>
        <p:sp>
          <p:nvSpPr>
            <p:cNvPr id="6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0"/>
          <p:cNvGrpSpPr/>
          <p:nvPr/>
        </p:nvGrpSpPr>
        <p:grpSpPr>
          <a:xfrm>
            <a:off x="1224000" y="946080"/>
            <a:ext cx="6870600" cy="646200"/>
            <a:chOff x="1224000" y="946080"/>
            <a:chExt cx="6870600" cy="646200"/>
          </a:xfrm>
        </p:grpSpPr>
        <p:sp>
          <p:nvSpPr>
            <p:cNvPr id="62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专家的中间商</a:t>
              </a:r>
              <a:endParaRPr b="0" lang="en-US" sz="1800" spc="-1" strike="noStrike">
                <a:solidFill>
                  <a:srgbClr val="000000"/>
                </a:solidFill>
                <a:latin typeface="Arial"/>
              </a:endParaRPr>
            </a:p>
          </p:txBody>
        </p:sp>
        <p:sp>
          <p:nvSpPr>
            <p:cNvPr id="62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3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34" name="组合 127"/>
          <p:cNvGrpSpPr/>
          <p:nvPr/>
        </p:nvGrpSpPr>
        <p:grpSpPr>
          <a:xfrm>
            <a:off x="250920" y="324000"/>
            <a:ext cx="264960" cy="417240"/>
            <a:chOff x="250920" y="324000"/>
            <a:chExt cx="264960" cy="417240"/>
          </a:xfrm>
        </p:grpSpPr>
        <p:sp>
          <p:nvSpPr>
            <p:cNvPr id="6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MH_Text_1"/>
          <p:cNvSpPr/>
          <p:nvPr/>
        </p:nvSpPr>
        <p:spPr>
          <a:xfrm>
            <a:off x="1117440" y="2025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具有专家身份的中介在特定类型的市场中的作用更大。在低质量产品与高质量产品差别比较明显的情况下，中介的存在将更普遍，因为这两种期望价格间有较大的边际利润。还有，如果低质量的产品多于高质量产品，搜寻高质量产品的成本就表明了专家型中介的作用；相反，如果产品质量普遍较高，专家的作用将减小。例如二手车市场上的产品尽管质量较高，但买主担心‘柠檬问题”，因此成功的中介必须使顾客相信产品的质量。</a:t>
            </a:r>
            <a:endParaRPr b="0" lang="en-US" sz="1800" spc="-1" strike="noStrike">
              <a:solidFill>
                <a:srgbClr val="000000"/>
              </a:solidFill>
              <a:latin typeface="Arial"/>
            </a:endParaRPr>
          </a:p>
        </p:txBody>
      </p:sp>
      <p:sp>
        <p:nvSpPr>
          <p:cNvPr id="63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oup 128"/>
          <p:cNvGrpSpPr/>
          <p:nvPr/>
        </p:nvGrpSpPr>
        <p:grpSpPr>
          <a:xfrm>
            <a:off x="7704000" y="2349360"/>
            <a:ext cx="648000" cy="453960"/>
            <a:chOff x="7704000" y="2349360"/>
            <a:chExt cx="648000" cy="453960"/>
          </a:xfrm>
        </p:grpSpPr>
        <p:sp>
          <p:nvSpPr>
            <p:cNvPr id="6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组合 10"/>
          <p:cNvGrpSpPr/>
          <p:nvPr/>
        </p:nvGrpSpPr>
        <p:grpSpPr>
          <a:xfrm>
            <a:off x="1224000" y="946080"/>
            <a:ext cx="6870600" cy="646200"/>
            <a:chOff x="1224000" y="946080"/>
            <a:chExt cx="6870600" cy="646200"/>
          </a:xfrm>
        </p:grpSpPr>
        <p:sp>
          <p:nvSpPr>
            <p:cNvPr id="64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信息源的中间商</a:t>
              </a:r>
              <a:endParaRPr b="0" lang="en-US" sz="1800" spc="-1" strike="noStrike">
                <a:solidFill>
                  <a:srgbClr val="000000"/>
                </a:solidFill>
                <a:latin typeface="Arial"/>
              </a:endParaRPr>
            </a:p>
          </p:txBody>
        </p:sp>
        <p:sp>
          <p:nvSpPr>
            <p:cNvPr id="64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4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51" name="组合 127"/>
          <p:cNvGrpSpPr/>
          <p:nvPr/>
        </p:nvGrpSpPr>
        <p:grpSpPr>
          <a:xfrm>
            <a:off x="250920" y="324000"/>
            <a:ext cx="264960" cy="417240"/>
            <a:chOff x="250920" y="324000"/>
            <a:chExt cx="264960" cy="417240"/>
          </a:xfrm>
        </p:grpSpPr>
        <p:sp>
          <p:nvSpPr>
            <p:cNvPr id="65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MH_Text_1"/>
          <p:cNvSpPr/>
          <p:nvPr/>
        </p:nvSpPr>
        <p:spPr>
          <a:xfrm>
            <a:off x="1117440" y="2025720"/>
            <a:ext cx="7124760" cy="41022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可通过提供质量信息解决“柠檬”问题的一个决定性原因是中介可以出售许多厂家的产品。单个产品的中介可能会与生产商勾结，共享利润，而不顾消费者的抱怨继续销售；然而，多个产品的中介如果与某个“作假”的供应商勾结，并且继续卖有问题的产品，它将会有麻烦，因为消费者会同时停止购买这个中介的其他商品。这被称作“信誉溢出”的机制会促使中介停止销售“作假”的供应商的产品，并对其进行惩罚，从而鼓励生产商维持生产高质量的产品。这种简单的惩罚机制在动态市场中非常有效，比如，</a:t>
            </a:r>
            <a:r>
              <a:rPr b="1" lang="en-US" sz="1800" spc="-1" strike="noStrike">
                <a:solidFill>
                  <a:srgbClr val="595959"/>
                </a:solidFill>
                <a:latin typeface="Calibri"/>
              </a:rPr>
              <a:t>Internet</a:t>
            </a:r>
            <a:r>
              <a:rPr b="1" lang="zh-CN" sz="1800" spc="-1" strike="noStrike">
                <a:solidFill>
                  <a:srgbClr val="595959"/>
                </a:solidFill>
                <a:latin typeface="Calibri"/>
              </a:rPr>
              <a:t>互联网只需要保持供应者和购买者（中介）之间短期的、简单的合同。</a:t>
            </a:r>
            <a:endParaRPr b="0" lang="en-US" sz="1800" spc="-1" strike="noStrike">
              <a:solidFill>
                <a:srgbClr val="000000"/>
              </a:solidFill>
              <a:latin typeface="Arial"/>
            </a:endParaRPr>
          </a:p>
        </p:txBody>
      </p:sp>
      <p:sp>
        <p:nvSpPr>
          <p:cNvPr id="65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组合 10"/>
          <p:cNvGrpSpPr/>
          <p:nvPr/>
        </p:nvGrpSpPr>
        <p:grpSpPr>
          <a:xfrm>
            <a:off x="1224000" y="946080"/>
            <a:ext cx="6870600" cy="646200"/>
            <a:chOff x="1224000" y="946080"/>
            <a:chExt cx="6870600" cy="646200"/>
          </a:xfrm>
        </p:grpSpPr>
        <p:sp>
          <p:nvSpPr>
            <p:cNvPr id="66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制作者的中间商</a:t>
              </a:r>
              <a:endParaRPr b="0" lang="en-US" sz="1800" spc="-1" strike="noStrike">
                <a:solidFill>
                  <a:srgbClr val="000000"/>
                </a:solidFill>
                <a:latin typeface="Arial"/>
              </a:endParaRPr>
            </a:p>
          </p:txBody>
        </p:sp>
        <p:sp>
          <p:nvSpPr>
            <p:cNvPr id="66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6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68" name="组合 127"/>
          <p:cNvGrpSpPr/>
          <p:nvPr/>
        </p:nvGrpSpPr>
        <p:grpSpPr>
          <a:xfrm>
            <a:off x="250920" y="324000"/>
            <a:ext cx="264960" cy="417240"/>
            <a:chOff x="250920" y="324000"/>
            <a:chExt cx="264960" cy="417240"/>
          </a:xfrm>
        </p:grpSpPr>
        <p:sp>
          <p:nvSpPr>
            <p:cNvPr id="66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MH_Text_1"/>
          <p:cNvSpPr/>
          <p:nvPr/>
        </p:nvSpPr>
        <p:spPr>
          <a:xfrm>
            <a:off x="1117440" y="2025720"/>
            <a:ext cx="7124760" cy="1619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往往在实物市场中经常合并或装配几个产品，使之成为一个新的产品。零售商的这一活动实际上是通过打包和处理已有商品来迎合消费者需要，而这种需要是单个生产商不能满足的。因此，中介不仅仅是一个分销商，它们是从生产到销售整个价值链的一个集成部分。</a:t>
            </a:r>
            <a:endParaRPr b="0" lang="en-US" sz="1800" spc="-1" strike="noStrike">
              <a:solidFill>
                <a:srgbClr val="000000"/>
              </a:solidFill>
              <a:latin typeface="Arial"/>
            </a:endParaRPr>
          </a:p>
        </p:txBody>
      </p:sp>
      <p:sp>
        <p:nvSpPr>
          <p:cNvPr id="673" name="MH_Text_2"/>
          <p:cNvSpPr/>
          <p:nvPr/>
        </p:nvSpPr>
        <p:spPr>
          <a:xfrm>
            <a:off x="1009800" y="3753000"/>
            <a:ext cx="734040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67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5639-A1D0-4F74-88A4-1F85CDC1BD2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76" name="Group 128"/>
          <p:cNvGrpSpPr/>
          <p:nvPr/>
        </p:nvGrpSpPr>
        <p:grpSpPr>
          <a:xfrm>
            <a:off x="7704000" y="2349360"/>
            <a:ext cx="648000" cy="453960"/>
            <a:chOff x="7704000" y="2349360"/>
            <a:chExt cx="648000" cy="453960"/>
          </a:xfrm>
        </p:grpSpPr>
        <p:sp>
          <p:nvSpPr>
            <p:cNvPr id="6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127"/>
          <p:cNvGrpSpPr/>
          <p:nvPr/>
        </p:nvGrpSpPr>
        <p:grpSpPr>
          <a:xfrm>
            <a:off x="250920" y="324000"/>
            <a:ext cx="264960" cy="417240"/>
            <a:chOff x="250920" y="324000"/>
            <a:chExt cx="264960" cy="417240"/>
          </a:xfrm>
        </p:grpSpPr>
        <p:sp>
          <p:nvSpPr>
            <p:cNvPr id="68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endParaRPr b="0" lang="en-US" sz="3200" spc="-1" strike="noStrike">
              <a:solidFill>
                <a:srgbClr val="000000"/>
              </a:solidFill>
              <a:latin typeface="Calibri"/>
            </a:endParaRPr>
          </a:p>
        </p:txBody>
      </p:sp>
      <p:sp>
        <p:nvSpPr>
          <p:cNvPr id="68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组合 10"/>
          <p:cNvGrpSpPr/>
          <p:nvPr/>
        </p:nvGrpSpPr>
        <p:grpSpPr>
          <a:xfrm>
            <a:off x="1871640" y="1387440"/>
            <a:ext cx="4537080" cy="647640"/>
            <a:chOff x="1871640" y="1387440"/>
            <a:chExt cx="4537080" cy="647640"/>
          </a:xfrm>
        </p:grpSpPr>
        <p:sp>
          <p:nvSpPr>
            <p:cNvPr id="69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转包合同体系分析</a:t>
              </a:r>
              <a:endParaRPr b="0" lang="en-US" sz="1800" spc="-1" strike="noStrike">
                <a:solidFill>
                  <a:srgbClr val="000000"/>
                </a:solidFill>
                <a:latin typeface="Arial"/>
              </a:endParaRPr>
            </a:p>
          </p:txBody>
        </p:sp>
        <p:sp>
          <p:nvSpPr>
            <p:cNvPr id="69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9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组合 15"/>
          <p:cNvGrpSpPr/>
          <p:nvPr/>
        </p:nvGrpSpPr>
        <p:grpSpPr>
          <a:xfrm>
            <a:off x="1871640" y="2241720"/>
            <a:ext cx="4537080" cy="647640"/>
            <a:chOff x="1871640" y="2241720"/>
            <a:chExt cx="4537080" cy="647640"/>
          </a:xfrm>
        </p:grpSpPr>
        <p:sp>
          <p:nvSpPr>
            <p:cNvPr id="69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不完整合同分析</a:t>
              </a:r>
              <a:endParaRPr b="0" lang="en-US" sz="1800" spc="-1" strike="noStrike">
                <a:solidFill>
                  <a:srgbClr val="000000"/>
                </a:solidFill>
                <a:latin typeface="Arial"/>
              </a:endParaRPr>
            </a:p>
          </p:txBody>
        </p:sp>
        <p:sp>
          <p:nvSpPr>
            <p:cNvPr id="69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9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28"/>
          <p:cNvGrpSpPr/>
          <p:nvPr/>
        </p:nvGrpSpPr>
        <p:grpSpPr>
          <a:xfrm>
            <a:off x="7704000" y="2349360"/>
            <a:ext cx="648000" cy="453960"/>
            <a:chOff x="7704000" y="2349360"/>
            <a:chExt cx="648000" cy="453960"/>
          </a:xfrm>
        </p:grpSpPr>
        <p:sp>
          <p:nvSpPr>
            <p:cNvPr id="7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10"/>
          <p:cNvGrpSpPr/>
          <p:nvPr/>
        </p:nvGrpSpPr>
        <p:grpSpPr>
          <a:xfrm>
            <a:off x="1224000" y="946080"/>
            <a:ext cx="6870600" cy="646200"/>
            <a:chOff x="1224000" y="946080"/>
            <a:chExt cx="6870600" cy="646200"/>
          </a:xfrm>
        </p:grpSpPr>
        <p:sp>
          <p:nvSpPr>
            <p:cNvPr id="7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转包合同体系分析</a:t>
              </a:r>
              <a:endParaRPr b="0" lang="en-US" sz="1800" spc="-1" strike="noStrike">
                <a:solidFill>
                  <a:srgbClr val="000000"/>
                </a:solidFill>
                <a:latin typeface="Arial"/>
              </a:endParaRPr>
            </a:p>
          </p:txBody>
        </p:sp>
        <p:sp>
          <p:nvSpPr>
            <p:cNvPr id="7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10" name="组合 127"/>
          <p:cNvGrpSpPr/>
          <p:nvPr/>
        </p:nvGrpSpPr>
        <p:grpSpPr>
          <a:xfrm>
            <a:off x="250920" y="324000"/>
            <a:ext cx="264960" cy="417240"/>
            <a:chOff x="250920" y="324000"/>
            <a:chExt cx="264960" cy="417240"/>
          </a:xfrm>
        </p:grpSpPr>
        <p:sp>
          <p:nvSpPr>
            <p:cNvPr id="7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MH_Text_1"/>
          <p:cNvSpPr/>
          <p:nvPr/>
        </p:nvSpPr>
        <p:spPr>
          <a:xfrm>
            <a:off x="1117440" y="1809720"/>
            <a:ext cx="7124760" cy="1835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解决质量问题，常采用两种转包合同体系：竞标和现场交易。买主向许多转包商抛出一份合同，由这些转包商通过投标竞争赢得合同。通过这种竞争激烈的投标，顾客可以选择价格较低的转包者。合同签署以后，它的有效期会延续到指定的数量的产品全部交易完毕为止。每次交易时都要进行质量检查，不合格产品可以退回，但货物运输将继续，直到合同失效为止。</a:t>
            </a:r>
            <a:endParaRPr b="0" lang="en-US" sz="1700" spc="-1" strike="noStrike">
              <a:solidFill>
                <a:srgbClr val="000000"/>
              </a:solidFill>
              <a:latin typeface="Arial"/>
            </a:endParaRPr>
          </a:p>
        </p:txBody>
      </p:sp>
      <p:sp>
        <p:nvSpPr>
          <p:cNvPr id="715" name="MH_Text_2"/>
          <p:cNvSpPr/>
          <p:nvPr/>
        </p:nvSpPr>
        <p:spPr>
          <a:xfrm>
            <a:off x="1009800" y="3753000"/>
            <a:ext cx="7340400" cy="22669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现场交易，就是交易要通过买方和转包者之间的谈判，它们之间签署合同多是基于过去的交易情况，而不是通过激烈的竞标方式。在现场交易中，交付产品的数目较少，买方也很少检查，合同中的产品数目不大，合同也没有固定的截止日期，只要客户对产品满意，合同将一直有效。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7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28"/>
          <p:cNvGrpSpPr/>
          <p:nvPr/>
        </p:nvGrpSpPr>
        <p:grpSpPr>
          <a:xfrm>
            <a:off x="7704000" y="2349360"/>
            <a:ext cx="648000" cy="453960"/>
            <a:chOff x="7704000" y="2349360"/>
            <a:chExt cx="648000" cy="453960"/>
          </a:xfrm>
        </p:grpSpPr>
        <p:sp>
          <p:nvSpPr>
            <p:cNvPr id="7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组合 10"/>
          <p:cNvGrpSpPr/>
          <p:nvPr/>
        </p:nvGrpSpPr>
        <p:grpSpPr>
          <a:xfrm>
            <a:off x="1224000" y="946080"/>
            <a:ext cx="6870600" cy="646200"/>
            <a:chOff x="1224000" y="946080"/>
            <a:chExt cx="6870600" cy="646200"/>
          </a:xfrm>
        </p:grpSpPr>
        <p:sp>
          <p:nvSpPr>
            <p:cNvPr id="7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不完整合同分析</a:t>
              </a:r>
              <a:endParaRPr b="0" lang="en-US" sz="1800" spc="-1" strike="noStrike">
                <a:solidFill>
                  <a:srgbClr val="000000"/>
                </a:solidFill>
                <a:latin typeface="Arial"/>
              </a:endParaRPr>
            </a:p>
          </p:txBody>
        </p:sp>
        <p:sp>
          <p:nvSpPr>
            <p:cNvPr id="7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28" name="组合 127"/>
          <p:cNvGrpSpPr/>
          <p:nvPr/>
        </p:nvGrpSpPr>
        <p:grpSpPr>
          <a:xfrm>
            <a:off x="250920" y="324000"/>
            <a:ext cx="264960" cy="417240"/>
            <a:chOff x="250920" y="324000"/>
            <a:chExt cx="264960" cy="417240"/>
          </a:xfrm>
        </p:grpSpPr>
        <p:sp>
          <p:nvSpPr>
            <p:cNvPr id="7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MH_Text_1"/>
          <p:cNvSpPr/>
          <p:nvPr/>
        </p:nvSpPr>
        <p:spPr>
          <a:xfrm>
            <a:off x="1117440" y="1809720"/>
            <a:ext cx="7124760" cy="194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份不完整合同略去了某些具体条款，如工作标准和具体义务，但往往能带来好的收效。这种不完整合同在工资协议中被广泛采用：额外的酬金是公司对员工工作满意的奖赏。在这个的例子中，由于有了不完全合同，我们的目标不再是如何用最少的精力去达到合同上所写的明确结果目标，因为合同只是对他努力过程的回报，</a:t>
            </a:r>
            <a:endParaRPr b="0" lang="en-US" sz="1800" spc="-1" strike="noStrike">
              <a:solidFill>
                <a:srgbClr val="000000"/>
              </a:solidFill>
              <a:latin typeface="Arial"/>
            </a:endParaRPr>
          </a:p>
        </p:txBody>
      </p:sp>
      <p:sp>
        <p:nvSpPr>
          <p:cNvPr id="733" name="MH_Text_2"/>
          <p:cNvSpPr/>
          <p:nvPr/>
        </p:nvSpPr>
        <p:spPr>
          <a:xfrm>
            <a:off x="1009800" y="3753000"/>
            <a:ext cx="7340400" cy="2698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供应商和中介之间经常采用这种不完整合同，因为高质量的产品保证了长期的贸易关系，对双方都有利。不完整合同的例子还有选择性合同：中介不必每次都检查产品的质量，但是有权随时终止合同，任何没有信誉的厂家将被驱逐到市场之外。很容易理解，</a:t>
            </a:r>
            <a:r>
              <a:rPr b="1" lang="en-US" sz="1800" spc="-1" strike="noStrike">
                <a:solidFill>
                  <a:srgbClr val="595959"/>
                </a:solidFill>
                <a:latin typeface="Calibri"/>
              </a:rPr>
              <a:t>Internet</a:t>
            </a:r>
            <a:r>
              <a:rPr b="1" lang="zh-CN" sz="1800" spc="-1" strike="noStrike">
                <a:solidFill>
                  <a:srgbClr val="595959"/>
                </a:solidFill>
                <a:latin typeface="Calibri"/>
              </a:rPr>
              <a:t>互联网提供了一个可以减少交易成本的好途径，但它将来的发展将主要依赖于经济问题（如柠檬问题）而非技术问题的解决方法。电子化市场不可能用传统的方式去评估产品的质量。</a:t>
            </a:r>
            <a:endParaRPr b="0" lang="en-US" sz="1800" spc="-1" strike="noStrike">
              <a:solidFill>
                <a:srgbClr val="000000"/>
              </a:solidFill>
              <a:latin typeface="Arial"/>
            </a:endParaRPr>
          </a:p>
        </p:txBody>
      </p:sp>
      <p:sp>
        <p:nvSpPr>
          <p:cNvPr id="7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5B4E-A497-46E1-AE36-0DE512BEF8E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37" name="图片 2" descr=""/>
          <p:cNvPicPr/>
          <p:nvPr/>
        </p:nvPicPr>
        <p:blipFill>
          <a:blip r:embed="rId1"/>
          <a:stretch/>
        </p:blipFill>
        <p:spPr>
          <a:xfrm>
            <a:off x="4606920" y="404640"/>
            <a:ext cx="4178160" cy="2679840"/>
          </a:xfrm>
          <a:prstGeom prst="rect">
            <a:avLst/>
          </a:prstGeom>
          <a:ln w="0">
            <a:noFill/>
          </a:ln>
        </p:spPr>
      </p:pic>
      <p:sp>
        <p:nvSpPr>
          <p:cNvPr id="738"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柠檬市场产生的经济学原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如何防范网络经济中出现的信息不对称现象？</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信息传递的模式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现实经济中，交易费用是什么？生活中有哪些交易费用的例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3EF5-F357-4487-84CE-C072FE7FA20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0" name="Picture 4" descr=""/>
          <p:cNvPicPr/>
          <p:nvPr/>
        </p:nvPicPr>
        <p:blipFill>
          <a:blip r:embed="rId1"/>
          <a:stretch/>
        </p:blipFill>
        <p:spPr>
          <a:xfrm>
            <a:off x="576360" y="836640"/>
            <a:ext cx="4998960" cy="3676680"/>
          </a:xfrm>
          <a:prstGeom prst="rect">
            <a:avLst/>
          </a:prstGeom>
          <a:ln w="0">
            <a:noFill/>
          </a:ln>
        </p:spPr>
      </p:pic>
      <p:sp>
        <p:nvSpPr>
          <p:cNvPr id="74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B4B0-F733-4854-BF70-F0809B00DFA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4" name="组合 127"/>
          <p:cNvGrpSpPr/>
          <p:nvPr/>
        </p:nvGrpSpPr>
        <p:grpSpPr>
          <a:xfrm>
            <a:off x="250920" y="324000"/>
            <a:ext cx="264960" cy="417240"/>
            <a:chOff x="250920" y="324000"/>
            <a:chExt cx="264960" cy="417240"/>
          </a:xfrm>
        </p:grpSpPr>
        <p:sp>
          <p:nvSpPr>
            <p:cNvPr id="2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信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40"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柠檬”市场经济学</a:t>
            </a:r>
            <a:endParaRPr b="0" lang="en-US" sz="1800" spc="-1" strike="noStrike">
              <a:solidFill>
                <a:srgbClr val="000000"/>
              </a:solidFill>
              <a:latin typeface="Arial"/>
            </a:endParaRPr>
          </a:p>
        </p:txBody>
      </p:sp>
      <p:sp>
        <p:nvSpPr>
          <p:cNvPr id="241"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2"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信息传递模式</a:t>
            </a:r>
            <a:endParaRPr b="0" lang="en-US" sz="1800" spc="-1" strike="noStrike">
              <a:solidFill>
                <a:srgbClr val="000000"/>
              </a:solidFill>
              <a:latin typeface="Arial"/>
            </a:endParaRPr>
          </a:p>
        </p:txBody>
      </p:sp>
      <p:sp>
        <p:nvSpPr>
          <p:cNvPr id="243"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244"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4</a:t>
            </a:r>
            <a:endParaRPr b="0" lang="en-US" sz="2000" spc="-1" strike="noStrike">
              <a:solidFill>
                <a:srgbClr val="000000"/>
              </a:solidFill>
              <a:latin typeface="Arial"/>
            </a:endParaRPr>
          </a:p>
        </p:txBody>
      </p:sp>
      <p:sp>
        <p:nvSpPr>
          <p:cNvPr id="245"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质量与中间商</a:t>
            </a:r>
            <a:endParaRPr b="0" lang="en-US" sz="1800" spc="-1" strike="noStrike">
              <a:solidFill>
                <a:srgbClr val="000000"/>
              </a:solidFill>
              <a:latin typeface="Arial"/>
            </a:endParaRPr>
          </a:p>
        </p:txBody>
      </p:sp>
      <p:sp>
        <p:nvSpPr>
          <p:cNvPr id="246" name="Rectangle 30"/>
          <p:cNvSpPr/>
          <p:nvPr/>
        </p:nvSpPr>
        <p:spPr>
          <a:xfrm>
            <a:off x="2413080" y="5048280"/>
            <a:ext cx="361944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介与合同</a:t>
            </a:r>
            <a:endParaRPr b="0" lang="en-US" sz="1800" spc="-1" strike="noStrike">
              <a:solidFill>
                <a:srgbClr val="000000"/>
              </a:solidFill>
              <a:latin typeface="Arial"/>
            </a:endParaRPr>
          </a:p>
        </p:txBody>
      </p:sp>
      <p:sp>
        <p:nvSpPr>
          <p:cNvPr id="247" name="椭圆 27"/>
          <p:cNvSpPr/>
          <p:nvPr/>
        </p:nvSpPr>
        <p:spPr>
          <a:xfrm>
            <a:off x="2089080" y="4832280"/>
            <a:ext cx="39384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5</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44FA-D94B-4723-8F5C-8F9315F09F5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9" name="Group 128"/>
          <p:cNvGrpSpPr/>
          <p:nvPr/>
        </p:nvGrpSpPr>
        <p:grpSpPr>
          <a:xfrm>
            <a:off x="7704000" y="2349360"/>
            <a:ext cx="648000" cy="453960"/>
            <a:chOff x="7704000" y="2349360"/>
            <a:chExt cx="648000" cy="453960"/>
          </a:xfrm>
        </p:grpSpPr>
        <p:sp>
          <p:nvSpPr>
            <p:cNvPr id="2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组合 10"/>
          <p:cNvGrpSpPr/>
          <p:nvPr/>
        </p:nvGrpSpPr>
        <p:grpSpPr>
          <a:xfrm>
            <a:off x="1871640" y="1387440"/>
            <a:ext cx="4537080" cy="647640"/>
            <a:chOff x="1871640" y="1387440"/>
            <a:chExt cx="4537080" cy="647640"/>
          </a:xfrm>
        </p:grpSpPr>
        <p:sp>
          <p:nvSpPr>
            <p:cNvPr id="25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商品质量不确定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组合 15"/>
          <p:cNvGrpSpPr/>
          <p:nvPr/>
        </p:nvGrpSpPr>
        <p:grpSpPr>
          <a:xfrm>
            <a:off x="1871640" y="2241720"/>
            <a:ext cx="4537080" cy="647640"/>
            <a:chOff x="1871640" y="2241720"/>
            <a:chExt cx="4537080" cy="647640"/>
          </a:xfrm>
        </p:grpSpPr>
        <p:sp>
          <p:nvSpPr>
            <p:cNvPr id="25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号制造</a:t>
              </a:r>
              <a:endParaRPr b="0" lang="en-US" sz="1800" spc="-1" strike="noStrike">
                <a:solidFill>
                  <a:srgbClr val="000000"/>
                </a:solidFill>
                <a:latin typeface="Arial"/>
              </a:endParaRPr>
            </a:p>
          </p:txBody>
        </p:sp>
        <p:sp>
          <p:nvSpPr>
            <p:cNvPr id="25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  </a:t>
              </a:r>
              <a:endParaRPr b="0" lang="en-US" sz="1800" spc="-1" strike="noStrike">
                <a:solidFill>
                  <a:srgbClr val="000000"/>
                </a:solidFill>
                <a:latin typeface="Arial"/>
              </a:endParaRPr>
            </a:p>
          </p:txBody>
        </p:sp>
        <p:sp>
          <p:nvSpPr>
            <p:cNvPr id="26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2.1  </a:t>
            </a:r>
            <a:r>
              <a:rPr b="1" lang="zh-CN" sz="2900" spc="-1" strike="noStrike">
                <a:solidFill>
                  <a:srgbClr val="c0504d"/>
                </a:solidFill>
                <a:latin typeface="微软雅黑"/>
                <a:ea typeface="微软雅黑"/>
              </a:rPr>
              <a:t>市场信号</a:t>
            </a:r>
            <a:br>
              <a:rPr sz="2900"/>
            </a:br>
            <a:endParaRPr b="0" lang="en-US" sz="2900" spc="-1" strike="noStrike">
              <a:solidFill>
                <a:srgbClr val="000000"/>
              </a:solidFill>
              <a:latin typeface="Calibri"/>
            </a:endParaRPr>
          </a:p>
        </p:txBody>
      </p:sp>
      <p:grpSp>
        <p:nvGrpSpPr>
          <p:cNvPr id="266" name="组合 127"/>
          <p:cNvGrpSpPr/>
          <p:nvPr/>
        </p:nvGrpSpPr>
        <p:grpSpPr>
          <a:xfrm>
            <a:off x="250920" y="324000"/>
            <a:ext cx="264960" cy="417240"/>
            <a:chOff x="250920" y="324000"/>
            <a:chExt cx="264960" cy="417240"/>
          </a:xfrm>
        </p:grpSpPr>
        <p:sp>
          <p:nvSpPr>
            <p:cNvPr id="26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28"/>
          <p:cNvGrpSpPr/>
          <p:nvPr/>
        </p:nvGrpSpPr>
        <p:grpSpPr>
          <a:xfrm>
            <a:off x="7704000" y="2349360"/>
            <a:ext cx="648000" cy="453960"/>
            <a:chOff x="7704000" y="2349360"/>
            <a:chExt cx="648000" cy="453960"/>
          </a:xfrm>
        </p:grpSpPr>
        <p:sp>
          <p:nvSpPr>
            <p:cNvPr id="2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224000" y="946080"/>
            <a:ext cx="6870600" cy="646200"/>
            <a:chOff x="1224000" y="946080"/>
            <a:chExt cx="6870600" cy="646200"/>
          </a:xfrm>
        </p:grpSpPr>
        <p:sp>
          <p:nvSpPr>
            <p:cNvPr id="2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Rectangle 2"/>
          <p:cNvSpPr/>
          <p:nvPr/>
        </p:nvSpPr>
        <p:spPr>
          <a:xfrm>
            <a:off x="684360" y="180936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引例：保险市场</a:t>
            </a:r>
            <a:endParaRPr b="0" lang="en-US" sz="1800" spc="-1" strike="noStrike">
              <a:solidFill>
                <a:srgbClr val="000000"/>
              </a:solidFill>
              <a:latin typeface="Arial"/>
            </a:endParaRPr>
          </a:p>
        </p:txBody>
      </p:sp>
      <p:sp>
        <p:nvSpPr>
          <p:cNvPr id="290"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或信号可以是一种概率分布，也可以是一项具体行动。信号本身并没有什么重要的经济意义，但它有助于人们在观察和预测经济活动过程中降低不确定性。</a:t>
            </a:r>
            <a:endParaRPr b="0" lang="en-US" sz="1800" spc="-1" strike="noStrike">
              <a:solidFill>
                <a:srgbClr val="000000"/>
              </a:solidFill>
              <a:latin typeface="Arial"/>
            </a:endParaRPr>
          </a:p>
        </p:txBody>
      </p:sp>
      <p:sp>
        <p:nvSpPr>
          <p:cNvPr id="291"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的分析是从产品质量或劳动力质量（统称为市场质量）的不确定性入手。由市场不确定性原理可知，买主在购买商品时并不能观察到每种商品的具体质量，但是，买主最终能够了解到他们所购买商品的平均质量。</a:t>
            </a:r>
            <a:endParaRPr b="0" lang="en-US" sz="1800" spc="-1" strike="noStrike">
              <a:solidFill>
                <a:srgbClr val="000000"/>
              </a:solidFill>
              <a:latin typeface="Arial"/>
            </a:endParaRPr>
          </a:p>
        </p:txBody>
      </p:sp>
      <p:sp>
        <p:nvSpPr>
          <p:cNvPr id="29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8"/>
          <p:cNvGrpSpPr/>
          <p:nvPr/>
        </p:nvGrpSpPr>
        <p:grpSpPr>
          <a:xfrm>
            <a:off x="7704000" y="2349360"/>
            <a:ext cx="648000" cy="453960"/>
            <a:chOff x="7704000" y="2349360"/>
            <a:chExt cx="648000" cy="453960"/>
          </a:xfrm>
        </p:grpSpPr>
        <p:sp>
          <p:nvSpPr>
            <p:cNvPr id="29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0"/>
          <p:cNvGrpSpPr/>
          <p:nvPr/>
        </p:nvGrpSpPr>
        <p:grpSpPr>
          <a:xfrm>
            <a:off x="1224000" y="946080"/>
            <a:ext cx="6870600" cy="646200"/>
            <a:chOff x="1224000" y="946080"/>
            <a:chExt cx="6870600" cy="646200"/>
          </a:xfrm>
        </p:grpSpPr>
        <p:sp>
          <p:nvSpPr>
            <p:cNvPr id="29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0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04" name="组合 127"/>
          <p:cNvGrpSpPr/>
          <p:nvPr/>
        </p:nvGrpSpPr>
        <p:grpSpPr>
          <a:xfrm>
            <a:off x="250920" y="324000"/>
            <a:ext cx="264960" cy="417240"/>
            <a:chOff x="250920" y="324000"/>
            <a:chExt cx="264960" cy="417240"/>
          </a:xfrm>
        </p:grpSpPr>
        <p:sp>
          <p:nvSpPr>
            <p:cNvPr id="30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可以将市场质量的不确定性看成是某种经济变量，这样，信号可以看做是影响这种经济变量的另外一种经济变量。显然，产品现货价格，期货价格，风险水平，劳动力工资率等，都可以认为是经济变量的内容。</a:t>
            </a:r>
            <a:endParaRPr b="0" lang="en-US" sz="1800" spc="-1" strike="noStrike">
              <a:solidFill>
                <a:srgbClr val="000000"/>
              </a:solidFill>
              <a:latin typeface="Arial"/>
            </a:endParaRPr>
          </a:p>
        </p:txBody>
      </p:sp>
      <p:sp>
        <p:nvSpPr>
          <p:cNvPr id="309"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决策需要了解经济变量的分布，经济变量的分布又需要根据所获的信息来调整，然而，任何经济变量的调整又将给出一个新的信号。所以，经济决策不仅依赖于经济变量的分布，而且还取决于某些相关信号，这些相关信号降低了决策的不确定性。</a:t>
            </a:r>
            <a:endParaRPr b="0" lang="en-US" sz="1800" spc="-1" strike="noStrike">
              <a:solidFill>
                <a:srgbClr val="000000"/>
              </a:solidFill>
              <a:latin typeface="Arial"/>
            </a:endParaRPr>
          </a:p>
        </p:txBody>
      </p:sp>
      <p:sp>
        <p:nvSpPr>
          <p:cNvPr id="31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128"/>
          <p:cNvGrpSpPr/>
          <p:nvPr/>
        </p:nvGrpSpPr>
        <p:grpSpPr>
          <a:xfrm>
            <a:off x="7704000" y="2349360"/>
            <a:ext cx="648000" cy="453960"/>
            <a:chOff x="7704000" y="2349360"/>
            <a:chExt cx="648000" cy="453960"/>
          </a:xfrm>
        </p:grpSpPr>
        <p:sp>
          <p:nvSpPr>
            <p:cNvPr id="31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组合 10"/>
          <p:cNvGrpSpPr/>
          <p:nvPr/>
        </p:nvGrpSpPr>
        <p:grpSpPr>
          <a:xfrm>
            <a:off x="1224000" y="946080"/>
            <a:ext cx="6870600" cy="646200"/>
            <a:chOff x="1224000" y="946080"/>
            <a:chExt cx="6870600" cy="646200"/>
          </a:xfrm>
        </p:grpSpPr>
        <p:sp>
          <p:nvSpPr>
            <p:cNvPr id="31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1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22" name="组合 127"/>
          <p:cNvGrpSpPr/>
          <p:nvPr/>
        </p:nvGrpSpPr>
        <p:grpSpPr>
          <a:xfrm>
            <a:off x="250920" y="324000"/>
            <a:ext cx="264960" cy="417240"/>
            <a:chOff x="250920" y="324000"/>
            <a:chExt cx="264960" cy="417240"/>
          </a:xfrm>
        </p:grpSpPr>
        <p:sp>
          <p:nvSpPr>
            <p:cNvPr id="32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造与传播信号是最为重要的手段，而名牌与文凭是两种典型的市场信号。不难理解，正的市场信号是对信息不完备、非对称状况的补充。</a:t>
            </a:r>
            <a:endParaRPr b="0" lang="en-US" sz="1800" spc="-1" strike="noStrike">
              <a:solidFill>
                <a:srgbClr val="000000"/>
              </a:solidFill>
              <a:latin typeface="Arial"/>
            </a:endParaRPr>
          </a:p>
        </p:txBody>
      </p:sp>
      <p:sp>
        <p:nvSpPr>
          <p:cNvPr id="327" name="MH_Text_2"/>
          <p:cNvSpPr/>
          <p:nvPr/>
        </p:nvSpPr>
        <p:spPr>
          <a:xfrm>
            <a:off x="1009800" y="2997360"/>
            <a:ext cx="7340400" cy="2482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质量产品的卖主通过向消费者提供一系列保证：质量保证书、包退、包换、包修理，以及保证质量的退一赔二等，向消费者发出产品质量信号。此外，产品长期形成的优质名牌，或著名商品牌号，如佐丹奴（服装），松下（电器）等牌号，更属于生产者努力向消费者发送的市场信号。高质量产品通过市场信号，使其与伪造产品或“柠檬”（低质量）产品相区别。</a:t>
            </a:r>
            <a:endParaRPr b="0" lang="en-US" sz="1800" spc="-1" strike="noStrike">
              <a:solidFill>
                <a:srgbClr val="000000"/>
              </a:solidFill>
              <a:latin typeface="Arial"/>
            </a:endParaRPr>
          </a:p>
        </p:txBody>
      </p:sp>
      <p:sp>
        <p:nvSpPr>
          <p:cNvPr id="32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28"/>
          <p:cNvGrpSpPr/>
          <p:nvPr/>
        </p:nvGrpSpPr>
        <p:grpSpPr>
          <a:xfrm>
            <a:off x="7704000" y="2349360"/>
            <a:ext cx="648000" cy="453960"/>
            <a:chOff x="7704000" y="2349360"/>
            <a:chExt cx="648000" cy="453960"/>
          </a:xfrm>
        </p:grpSpPr>
        <p:sp>
          <p:nvSpPr>
            <p:cNvPr id="33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组合 10"/>
          <p:cNvGrpSpPr/>
          <p:nvPr/>
        </p:nvGrpSpPr>
        <p:grpSpPr>
          <a:xfrm>
            <a:off x="1224000" y="946080"/>
            <a:ext cx="6870600" cy="646200"/>
            <a:chOff x="1224000" y="946080"/>
            <a:chExt cx="6870600" cy="646200"/>
          </a:xfrm>
        </p:grpSpPr>
        <p:sp>
          <p:nvSpPr>
            <p:cNvPr id="33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3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40" name="组合 127"/>
          <p:cNvGrpSpPr/>
          <p:nvPr/>
        </p:nvGrpSpPr>
        <p:grpSpPr>
          <a:xfrm>
            <a:off x="250920" y="324000"/>
            <a:ext cx="264960" cy="417240"/>
            <a:chOff x="250920" y="324000"/>
            <a:chExt cx="264960" cy="417240"/>
          </a:xfrm>
        </p:grpSpPr>
        <p:sp>
          <p:nvSpPr>
            <p:cNvPr id="34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产品质量不确定的市场上，市场中间商或经纪人的出现，也使非对称信息导致的市场失灵状况得到一定程度的扭转。虽然中间商或经纪人本身并不能成为产品质量的信号，但他们能够使市场信号得到强化或具体化。</a:t>
            </a:r>
            <a:endParaRPr b="0" lang="en-US" sz="1800" spc="-1" strike="noStrike">
              <a:solidFill>
                <a:srgbClr val="000000"/>
              </a:solidFill>
              <a:latin typeface="Arial"/>
            </a:endParaRPr>
          </a:p>
        </p:txBody>
      </p:sp>
      <p:sp>
        <p:nvSpPr>
          <p:cNvPr id="34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方面高质量产品的卖主可以通过经纪人按合理价格出售其产品，且为此而支付给经纪人的佣金低于卖主在非对称市场上直接出售该产品蒙受的效用损失；另一方面，希望购买高质量产品的买主，通过经纪人以可接受价格买到高质量产品，且为此而支付给经纪人的佣金也低于买主在非对称市场上搜寻高质量产品的成本。</a:t>
            </a:r>
            <a:endParaRPr b="0" lang="en-US" sz="1800" spc="-1" strike="noStrike">
              <a:solidFill>
                <a:srgbClr val="000000"/>
              </a:solidFill>
              <a:latin typeface="Arial"/>
            </a:endParaRPr>
          </a:p>
        </p:txBody>
      </p:sp>
      <p:sp>
        <p:nvSpPr>
          <p:cNvPr id="34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1FB9-5E94-468C-BD12-827F8724925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48" name="Group 128"/>
          <p:cNvGrpSpPr/>
          <p:nvPr/>
        </p:nvGrpSpPr>
        <p:grpSpPr>
          <a:xfrm>
            <a:off x="7704000" y="2349360"/>
            <a:ext cx="648000" cy="453960"/>
            <a:chOff x="7704000" y="2349360"/>
            <a:chExt cx="648000" cy="453960"/>
          </a:xfrm>
        </p:grpSpPr>
        <p:sp>
          <p:nvSpPr>
            <p:cNvPr id="3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endParaRPr b="0" lang="en-US" sz="3200" spc="-1" strike="noStrike">
              <a:solidFill>
                <a:srgbClr val="000000"/>
              </a:solidFill>
              <a:latin typeface="Calibri"/>
            </a:endParaRPr>
          </a:p>
        </p:txBody>
      </p:sp>
      <p:sp>
        <p:nvSpPr>
          <p:cNvPr id="36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组合 10"/>
          <p:cNvGrpSpPr/>
          <p:nvPr/>
        </p:nvGrpSpPr>
        <p:grpSpPr>
          <a:xfrm>
            <a:off x="1871640" y="1387440"/>
            <a:ext cx="4537080" cy="647640"/>
            <a:chOff x="1871640" y="1387440"/>
            <a:chExt cx="4537080" cy="647640"/>
          </a:xfrm>
        </p:grpSpPr>
        <p:sp>
          <p:nvSpPr>
            <p:cNvPr id="362"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质量信号的价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65"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组合 15"/>
          <p:cNvGrpSpPr/>
          <p:nvPr/>
        </p:nvGrpSpPr>
        <p:grpSpPr>
          <a:xfrm>
            <a:off x="1871640" y="2241720"/>
            <a:ext cx="4537080" cy="647640"/>
            <a:chOff x="1871640" y="2241720"/>
            <a:chExt cx="4537080" cy="647640"/>
          </a:xfrm>
        </p:grpSpPr>
        <p:sp>
          <p:nvSpPr>
            <p:cNvPr id="367"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柠檬市场</a:t>
              </a:r>
              <a:endParaRPr b="0" lang="en-US" sz="1800" spc="-1" strike="noStrike">
                <a:solidFill>
                  <a:srgbClr val="000000"/>
                </a:solidFill>
                <a:latin typeface="Arial"/>
              </a:endParaRPr>
            </a:p>
          </p:txBody>
        </p:sp>
        <p:sp>
          <p:nvSpPr>
            <p:cNvPr id="368"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70"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组合 20"/>
          <p:cNvGrpSpPr/>
          <p:nvPr/>
        </p:nvGrpSpPr>
        <p:grpSpPr>
          <a:xfrm>
            <a:off x="1871640" y="3105000"/>
            <a:ext cx="4537080" cy="648000"/>
            <a:chOff x="1871640" y="3105000"/>
            <a:chExt cx="4537080" cy="648000"/>
          </a:xfrm>
        </p:grpSpPr>
        <p:sp>
          <p:nvSpPr>
            <p:cNvPr id="372"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柠檬市场的解决方法</a:t>
              </a:r>
              <a:endParaRPr b="0" lang="en-US" sz="1800" spc="-1" strike="noStrike">
                <a:solidFill>
                  <a:srgbClr val="000000"/>
                </a:solidFill>
                <a:latin typeface="Arial"/>
              </a:endParaRPr>
            </a:p>
          </p:txBody>
        </p:sp>
        <p:sp>
          <p:nvSpPr>
            <p:cNvPr id="373"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75"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3:00Z</dcterms:modified>
  <cp:revision>206</cp:revision>
  <dc:subject/>
  <dc:title>ch01</dc:title>
</cp:coreProperties>
</file>