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CD0-2B21-42D8-BB15-AAE53E45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70-F900-4430-B5A3-488D4DE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0B2-EA02-4F39-82EE-3832BF7B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0DA-838F-4EB9-9F93-6E2A57B3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C6F3-8213-46A0-9CE4-2838EEA1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35FF-A133-460B-932A-BCE7ED3A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EB3-75A2-4C3A-B234-2D30FD96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D083-4A6B-495D-BF69-F594A8C4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ADCF-BE03-4EA5-8C03-E8D3434D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577-2D68-4448-92A2-A7971E2E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E827-AF4E-4BC6-B78D-3FD2605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E97-1B60-4011-9531-DAED5594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AE41-6889-418F-99EC-5126FFA2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B04A-22C8-4B5B-8E41-0366588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11A4-9F98-4F2A-92FB-52D79B54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F1C3-51F2-4538-9A1D-6AA40D35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68D-CD9D-4373-9756-23997E0B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F2E-FC19-48CD-8ED8-1A8FB24B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207-8EB9-4D7F-82E5-D9AD64C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81C-9F79-4431-B68A-B34BFC13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75D-5D6F-421D-9A52-835D96E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21E-5F3E-409F-AFED-8E7080E6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104-F6CD-4191-BF71-8B84524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FB9E-63D2-4E99-9604-57A6B642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48A1-2EDF-4DC6-BBA5-6FB3786100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133C-F104-4840-B4FA-82643422A9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项目二  统计数据的图表描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7777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目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研究目的进行数据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利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数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Verdana"/>
                <a:ea typeface="华文新魏"/>
              </a:rPr>
              <a:t>任务引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企业人事部门为了制定各类管理、技术人员的职业发展计划和调整员工的薪酬待遇，造就一支业务精干的高素质、高境界、具有高度凝聚力和团队精神的人才队伍，并形成以绩效考核为核心导向的人才管理机制。对全体员工作了全面调查。其中，利用调查表取得以下统计数据，如表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如果你是这个企业的管理人员，现在需要对这些数据进行分组整理并用统计图表予以展示，以便分析揭示企业员工的性别构成，年龄结构，文化素质、专业技术构成以及各变量之间的内在关系，应从何入手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一    用图表展示定性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1752480"/>
            <a:ext cx="78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性数据的图形展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条形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定量数据的分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计算全距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数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距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d=R/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量数据的图形展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直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三）线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四）散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三   用图表展示相关联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相关联数据的判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变量因果关系的确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7:51:28Z</dcterms:created>
  <dc:creator>雨林木风</dc:creator>
  <dc:description/>
  <dc:language>en-US</dc:language>
  <cp:lastModifiedBy>hl</cp:lastModifiedBy>
  <dcterms:modified xsi:type="dcterms:W3CDTF">2013-10-13T16:31:03Z</dcterms:modified>
  <cp:revision>10</cp:revision>
  <dc:subject/>
  <dc:title>项目二  统计数据整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