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2FA1-A597-4B41-9F76-E2669233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0D4-9F3B-44DF-AD50-1E31AAEA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AA9-AB7E-4047-A6AF-403D4457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E6B-382D-4234-ADA1-3E75002C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9966-1FE5-4859-8B64-F15CC574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35D4-FF69-4117-A3B7-43A07248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154D-47B2-4D25-8DB9-F7FE0AF6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4661-8836-4D88-9A36-4D71C382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A93B-4BB5-4FE4-BEBD-E087A783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47A1-01E6-4048-B193-E58A8C3F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F9AD-FA28-430F-A410-89DB2E9D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AD6-23A5-40BB-8E85-15C93109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0E5A-A190-425C-B1C5-8D55984F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12E4-B43F-4F38-91C0-D3270D5C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D769-077A-4771-8B29-347E8219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7FB7-3411-4482-9337-D958F652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E92B-47B8-4457-8EF3-5301242A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08B-3968-4F28-89E5-5F2EB1D1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D06-A2C8-403B-9A31-68C2FC86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59E-4F51-4A2A-88E9-23D1DEA1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475-4F1E-4B08-9A2C-372BEC70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CCF-D1A5-4939-9670-575D9D94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97B-0C6D-41CA-8191-82321F11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DEA-418B-4E15-8961-7BBE6F85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D5F4-B4B9-4F46-8CA3-E156741C6D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3A6B-186F-4790-8C37-3319F249AC3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三章  跨国公司对外直接投资理论（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直接投资综合动因模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直接投资综合动因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模型的提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上述理论从某一个侧面探讨了跨国公司对外直接投资的动因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”特定优势”理论主要是静态分析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”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品生命周期理论”主要是动态规范分析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缺乏一个融合多种因素的综合性动态模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197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理查德森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J.D.Richardson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把各种理论所强调的因素结合起来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建立了包含一系列关键变量的综合性动态模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被称为”理查德森综合动因模型”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文献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J.D.Richardson,”On Going Abroad: The Firm’s Initial foreign Investment Decision”, Quarterly Review of Economics and Business,1971,pp7—22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2  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空间偏好”（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Spatial Preference, SP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）模型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概念的引入：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理查德森认为，企业的跨国投资不能完全用经济变量（特有优势、管理技能与专长、东道国成本低、进入壁垒等）来解释，因为，有投资机会未必导致国外企业的直接投资。在企业的决策变量中，非经济因素常常起到重要作用，于是，他用“空间偏好”概念表示各种非经济因素的投资效应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空间偏好”是企业管理者基于主观上对国外政治制度、社会环境、法律体系、语言文化的了解估计，而对于国外市场具有的一种”心理距离“，它决定了企业对国外投资期望利润的估计，构成海外直接投资的前提条件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因此，跨国公司对国外市场投资机会的评价主要基于两个变量：经济因素和“空间偏好”。从而预期投资收益函数得以构造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预期投资收益函数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这里，     表示管理者基于空间偏好率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ate of SP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的预期投资收益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表示管理者空间偏好或抵触惯性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ertial Resistance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的主观变量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表示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个市场投资项目的预期收益（利润）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5580000" y="2781360"/>
          <a:ext cx="19447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781360"/>
                    <a:ext cx="1944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5651640" y="4005360"/>
          <a:ext cx="190440" cy="20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4005360"/>
                    <a:ext cx="1904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5292720" y="4941720"/>
          <a:ext cx="330120" cy="25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4941720"/>
                    <a:ext cx="33012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8"/>
          <p:cNvGraphicFramePr/>
          <p:nvPr/>
        </p:nvGraphicFramePr>
        <p:xfrm>
          <a:off x="6156360" y="3573360"/>
          <a:ext cx="144000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3573360"/>
                    <a:ext cx="14400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空间偏好”（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Spatial Preference, SP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）模型对东道国的政策含义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约束条件的含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=1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已经实施了跨国经营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V&lt;1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有可能或拟进入一个新市场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V     0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某市场完全处于企业对外投资计划区之外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增大空间偏好，东道国政府可以作为。具体方法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东道国高质量市场信息发布（贸易洽谈展览会、国际商务信息发布会等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实施改善市场环境的政策措施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创造条件促进先入企业的经营业绩，形成”跟随效应“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1332000" y="2852640"/>
          <a:ext cx="21603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852640"/>
                    <a:ext cx="2160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Line 11"/>
          <p:cNvSpPr/>
          <p:nvPr/>
        </p:nvSpPr>
        <p:spPr>
          <a:xfrm>
            <a:off x="1692360" y="479736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投资的经济因素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利润方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表示国外市场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对外直接投资的两个特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大规模寡头厂商实施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寡头市场结构传导到东道国的目标行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因此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的定价策略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Pd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母国售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 EC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出口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关税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在母国的价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平均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9" name="Object 7"/>
          <p:cNvGraphicFramePr/>
          <p:nvPr/>
        </p:nvGraphicFramePr>
        <p:xfrm>
          <a:off x="1187280" y="2924280"/>
          <a:ext cx="1994040" cy="25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199404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1187280" y="3429000"/>
          <a:ext cx="360360" cy="2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429000"/>
                    <a:ext cx="36036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1476360" y="5157720"/>
          <a:ext cx="2232000" cy="3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5157720"/>
                    <a:ext cx="22320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3"/>
          <p:cNvGraphicFramePr/>
          <p:nvPr/>
        </p:nvGraphicFramePr>
        <p:xfrm>
          <a:off x="5651640" y="2997360"/>
          <a:ext cx="92700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2997360"/>
                    <a:ext cx="927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4"/>
          <p:cNvGraphicFramePr/>
          <p:nvPr/>
        </p:nvGraphicFramePr>
        <p:xfrm>
          <a:off x="5219640" y="3789360"/>
          <a:ext cx="3529080" cy="86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3789360"/>
                    <a:ext cx="35290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厂商直接投资决策综合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综合以上经济与非经济因素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包含空间偏好率的外部市场投资利润函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对外直接投资决策三阶段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预期投资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估计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公司决策层的偏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投资目标利润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*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设定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企业自身特定优势和直接竞争对手的市场行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的实施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投资机会边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=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&gt;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实施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&lt;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无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1187280" y="3645000"/>
          <a:ext cx="3313440" cy="12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645000"/>
                    <a:ext cx="331344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4:45:31Z</dcterms:created>
  <dc:creator>YPL</dc:creator>
  <dc:description/>
  <dc:language>en-US</dc:language>
  <cp:lastModifiedBy>Administrator</cp:lastModifiedBy>
  <dcterms:modified xsi:type="dcterms:W3CDTF">2020-12-30T07:26:09Z</dcterms:modified>
  <cp:revision>21</cp:revision>
  <dc:subject/>
  <dc:title>5.跨国公司对外直接投资模型</dc:title>
</cp:coreProperties>
</file>