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2F2-36FD-4871-AB96-D4023C8A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1D2-2509-40C9-9CFC-A8F832D2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817-BD8E-4126-B282-C4A6B667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397-8772-4EDF-8986-6AC767D1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B98F-213F-44D9-AD66-A13BB311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7AC2-FAB4-42EE-B2FA-16152525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0F30-D122-4A93-810E-290C3442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3398-D24F-4808-B876-FC60AB1E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8060-9E53-410A-96EA-F8F9C765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98DD-EC36-4BC2-B5B8-787F428F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2309-BA14-4973-9FAE-281C8C1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0AE-9EFB-4400-8AA2-B9ED5D6E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72CA-72A9-4A52-8481-060E57C5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34FA-66D3-4ACE-8C1F-DF020458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46B7-4D34-44A1-9E60-4D8861A6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A32B-30A3-47D9-BDB1-14A2286E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CF7A-92CE-4D5E-B0F6-07D40126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949-9FA4-45A3-A9FD-F9420622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B76-83E0-490A-8F4B-89719D74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836-2DC0-428C-9C3E-6B94F338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259-CC31-4479-86B0-EBCC7EF4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244-E89E-44A9-82EF-E02C528A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003-EA00-4E80-966F-C5738F6C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5D3-BA39-4161-B14F-F6097F5C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346C-BC82-46D4-8644-CD6601F4FD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5D64-E2A7-436D-BF21-0BA503B461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五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跨国并购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含义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充分与必要条件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企业的并购行为决定于并购动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进入东道国市场的速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获得所有权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寻求新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同效应提高效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扩大规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样化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风险分散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人动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层管理者的个人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实施受影响于外部环境刺激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市场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8080" y="2362320"/>
          <a:ext cx="7693200" cy="3763800"/>
        </p:xfrm>
        <a:graphic>
          <a:graphicData uri="http://schemas.openxmlformats.org/drawingml/2006/table">
            <a:tbl>
              <a:tblPr/>
              <a:tblGrid>
                <a:gridCol w="997200"/>
                <a:gridCol w="2952720"/>
                <a:gridCol w="3743280"/>
              </a:tblGrid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短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长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金融资源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DI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以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&amp;A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形式进入东道国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虽然带来金融资源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但不会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没有理由相信会比”绿地投资”带来更新的技术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会带来先进的生产技术和经营管理方法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不能指望立即增加就业量和提高就业水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能够增加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结构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可能增加行业集中度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抑制竞争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市场结构的影响具有不确定性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含义与类型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与跨国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reen Investment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新建投资或创建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ross-border Mergers &amp;Acquisition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指涉及两个以上国家或地区的企业间的合并和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国企业与境内企业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境内企业的股权达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%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使境内企业的资产与经营的控制权转移到外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述两种对外投资进入方式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9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后者占对外投资量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%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跨国并购示意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V="1">
            <a:off x="493236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4932360" y="39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529272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4932360" y="47242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4860720" y="400536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跨国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并购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5292720" y="4292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5580000" y="3429000"/>
            <a:ext cx="0" cy="1944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5580000" y="350028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580000" y="537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5796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5796000" y="306864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6804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5796000" y="364500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5867280" y="5084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5867280" y="5013360"/>
            <a:ext cx="1009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5867280" y="566100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6804000" y="5013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6104160" y="314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兼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032880" y="509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35"/>
          <p:cNvSpPr/>
          <p:nvPr/>
        </p:nvSpPr>
        <p:spPr>
          <a:xfrm>
            <a:off x="6804000" y="3357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7093080" y="2852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7093080" y="2997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553160" y="2800440"/>
            <a:ext cx="13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等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39"/>
          <p:cNvSpPr/>
          <p:nvPr/>
        </p:nvSpPr>
        <p:spPr>
          <a:xfrm>
            <a:off x="7093080" y="3860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7544160" y="3578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法定合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41"/>
          <p:cNvSpPr/>
          <p:nvPr/>
        </p:nvSpPr>
        <p:spPr>
          <a:xfrm>
            <a:off x="6804000" y="5300640"/>
            <a:ext cx="28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42"/>
          <p:cNvSpPr/>
          <p:nvPr/>
        </p:nvSpPr>
        <p:spPr>
          <a:xfrm>
            <a:off x="7093080" y="472428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>
            <a:off x="7093080" y="4724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7610040" y="4441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外国子公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>
            <a:off x="7093080" y="5805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7452360" y="55497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收购一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当地企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并购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跨国并购的产业方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横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orizont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纵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tic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地域市场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eographic Marke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纯粹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ure 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企业并购中企业法人变更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吸收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solidat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创立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atutory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2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是否经由中介实施并购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或称为协议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Negotiated Acquisiti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友好接管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iendly Takeover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可以是并购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quir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，也可以是目标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arget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间接并购。委托投资银行或其他中介机构在市场上收购目标企业的股票，从而达到并购目的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跨国并购中的支付方式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票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债券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现金收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Leverage Buyou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资产剥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Asset-stripping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，包括将子公司出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ivestmen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权分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Equity Carve-ou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管理层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nagement Leverage Buyout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境内并购与跨国并购的区别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跨国收购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结果不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而是改变目标企业的产权关系和治理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兼并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不是”射手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是”靶子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境内并购与跨国并购的诱发因素差异很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诱发因素涉及宏观上的资本跨国流动性、国家政策、市场结构等，微观上的进入障碍、货币可兑换性、企业当地化程度、资源可得性以及竞争环境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境内并购改变的是国内行业市场份额和集中程度，而跨国并购改变的是国际市场份额或国际市场势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ket Powe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，对东道国或母国国内的市场结构影响较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成为对外直接投资的主要方式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个并购的规模不断扩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收购在在跨国并购中占绝大部分比重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横向并购的比重不断增加，成为跨国并购的主流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股票互换在跨国并购的融资方式中比重越来越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的战略动机（寻求效率和经济收益）明显，善意收购成为主流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达国家企业是跨国并购的主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中欧美公司是最活跃的参与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展中国家企业在跨国并购中比重不大且非常不平衡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部门与行业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三产业比重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二产业比重下降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一产业微不足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并购活动密集行业的市场集中度正在加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汽车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银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制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并购效率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购收益权衡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企业产品成本降低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G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市场实力增强使价格提高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Y     OX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控制力提高使产量变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并购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F=GAEF-GABF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产量减少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-BEF&gt;0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净收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图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219640" y="2923920"/>
            <a:ext cx="0" cy="2881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219640" y="58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5702400" y="3137040"/>
            <a:ext cx="2031840" cy="182376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823760"/>
              <a:gd name="textAreaBottom" fmla="*/ 1824120 h 1823760"/>
            </a:gdLst>
            <a:ahLst/>
            <a:rect l="textAreaLeft" t="textAreaTop" r="textAreaRight" b="textAreaBottom"/>
            <a:pathLst>
              <a:path w="1280" h="1149">
                <a:moveTo>
                  <a:pt x="0" y="0"/>
                </a:moveTo>
                <a:cubicBezTo>
                  <a:pt x="6" y="71"/>
                  <a:pt x="15" y="195"/>
                  <a:pt x="56" y="256"/>
                </a:cubicBezTo>
                <a:cubicBezTo>
                  <a:pt x="70" y="343"/>
                  <a:pt x="106" y="441"/>
                  <a:pt x="160" y="512"/>
                </a:cubicBezTo>
                <a:cubicBezTo>
                  <a:pt x="169" y="524"/>
                  <a:pt x="183" y="532"/>
                  <a:pt x="192" y="544"/>
                </a:cubicBezTo>
                <a:cubicBezTo>
                  <a:pt x="214" y="574"/>
                  <a:pt x="228" y="609"/>
                  <a:pt x="248" y="640"/>
                </a:cubicBezTo>
                <a:cubicBezTo>
                  <a:pt x="279" y="689"/>
                  <a:pt x="332" y="717"/>
                  <a:pt x="368" y="760"/>
                </a:cubicBezTo>
                <a:cubicBezTo>
                  <a:pt x="405" y="804"/>
                  <a:pt x="439" y="847"/>
                  <a:pt x="480" y="888"/>
                </a:cubicBezTo>
                <a:cubicBezTo>
                  <a:pt x="488" y="896"/>
                  <a:pt x="502" y="898"/>
                  <a:pt x="512" y="904"/>
                </a:cubicBezTo>
                <a:cubicBezTo>
                  <a:pt x="537" y="918"/>
                  <a:pt x="559" y="938"/>
                  <a:pt x="584" y="952"/>
                </a:cubicBezTo>
                <a:cubicBezTo>
                  <a:pt x="702" y="1016"/>
                  <a:pt x="570" y="925"/>
                  <a:pt x="736" y="1008"/>
                </a:cubicBezTo>
                <a:cubicBezTo>
                  <a:pt x="782" y="1031"/>
                  <a:pt x="824" y="1041"/>
                  <a:pt x="872" y="1056"/>
                </a:cubicBezTo>
                <a:cubicBezTo>
                  <a:pt x="934" y="1075"/>
                  <a:pt x="994" y="1099"/>
                  <a:pt x="1056" y="1120"/>
                </a:cubicBezTo>
                <a:cubicBezTo>
                  <a:pt x="1112" y="1139"/>
                  <a:pt x="1173" y="1132"/>
                  <a:pt x="1232" y="1136"/>
                </a:cubicBezTo>
                <a:cubicBezTo>
                  <a:pt x="1270" y="1145"/>
                  <a:pt x="1254" y="1149"/>
                  <a:pt x="1280" y="113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5219640" y="494172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7451640" y="4941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219640" y="537372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5219640" y="4653000"/>
            <a:ext cx="151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659640" y="4653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5292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5651640" y="5013360"/>
            <a:ext cx="72720" cy="28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5940000" y="4941720"/>
            <a:ext cx="14436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6300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H="1">
            <a:off x="6732720" y="4724280"/>
            <a:ext cx="71280" cy="217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6876720" y="4797360"/>
            <a:ext cx="14292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7164360" y="4869000"/>
            <a:ext cx="0" cy="7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4842000" y="27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8081640" y="560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98636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426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64236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498672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7434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664200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4986360" y="424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6497640" y="575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736128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>
            <a:off x="1763640" y="4292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1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托宾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obin Q Rati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通过市场收购上市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权衡的是目标企业的股票市值与企业重置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此托宾提出著名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=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目标企业股票市场价格总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企业重置成本总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g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小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l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大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IL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该理论把邓宁关于新建投资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IL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运用于并购分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具体内容如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42920" y="2781360"/>
          <a:ext cx="7416720" cy="4309920"/>
        </p:xfrm>
        <a:graphic>
          <a:graphicData uri="http://schemas.openxmlformats.org/drawingml/2006/table">
            <a:tbl>
              <a:tblPr/>
              <a:tblGrid>
                <a:gridCol w="741600"/>
                <a:gridCol w="2747880"/>
                <a:gridCol w="1949400"/>
                <a:gridCol w="197784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横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纵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混合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5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拥有在规模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或市场势力方面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双方都拥有生产链各个工序互补性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在不相关领域均拥有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存在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并购双方生产体系区位无关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基于合并双方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共同优势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联合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获得规模经济效应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想获得安全信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与市场势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降低交易成本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比被收购者具有更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或寻求特定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所有权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 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13:43:55Z</dcterms:created>
  <dc:creator>YPL</dc:creator>
  <dc:description/>
  <dc:language>en-US</dc:language>
  <cp:lastModifiedBy>Microsoft 帐户</cp:lastModifiedBy>
  <dcterms:modified xsi:type="dcterms:W3CDTF">2025-10-10T06:48:46Z</dcterms:modified>
  <cp:revision>22</cp:revision>
  <dc:subject/>
  <dc:title>跨国公司经营战略(2)—跨国并购</dc:title>
</cp:coreProperties>
</file>