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1F0B-4E0F-4D9B-8EAB-441671D5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384D-8632-43B6-B671-986D0702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007-53A3-41D1-9562-89EA80E1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A076-18AC-4B8C-8AD1-C75BC630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DD8D-56BE-49B6-82B8-D2028617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C290-7DE7-4568-8AAB-CD8247A0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2999-8763-4855-9606-A48861B4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017B-3C2B-4707-8234-1B478348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39B3-745D-4EEE-9827-8D4FD4BF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1416-61B9-419E-BF5E-294D1A37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A146-24C7-4526-9141-3E80B04A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8BE-DC4D-4A5A-9726-0063A901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4FB0-E098-4685-A853-E14D02C0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7564-4CF2-4193-94B5-7181D981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2567-5539-4092-AD78-52259133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9A5D-0EAF-4D02-B80C-3534FF1F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9BB2-286A-4A7F-866A-24C6579D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EA5C-EF0B-42D4-ADFD-7CCEEC68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823-54DD-4A44-A452-39C41464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172-B3E5-4C85-99C4-BB591EBE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BA9-872C-4BBC-846E-5D0DD87D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113-F85D-44B1-AD88-E932530F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03DB-B742-40EC-9AFF-6A51272B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870A-4309-4FC8-A355-01797B02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1660-E779-4DB8-91FF-5AD09E8B984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9E5F-5881-4866-BED2-08FEDFF098C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七章  跨国公司经营战略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4)—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技术转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43280" y="29242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技术与技术转移及其相关概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技术转移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技术转移的内容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影响因素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效应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技术转让策略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3.3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直接投资途径的技术转移效应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正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激励与示范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节约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溢出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负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获得与使用的高成本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依赖与技术不适用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当地企业成长的制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技术转让与技术转让策略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技术贸易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许可证贸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咨询服务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协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补偿贸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工程承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6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特许经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7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生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8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研发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9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设备租赁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让内容选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让方式选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 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让时间选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技术与技术转移及其相关概念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定义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界知识产权组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WIPO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定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”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是指制造一种产品或提供一项服务的系统的知识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有两种表现形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有形形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Tangible Form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语言、文字、数据、公式、图表、配方等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无形形态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angible Form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技术，如专门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Know-how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、实验操作、操作工艺、思维观念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特征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有形性与无形性相统一，本质上是无形的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系统性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商品属性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技术转移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829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移的定义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技术转移行动守则草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中定义：“关于制造产品、应用生产方法或提供服务的系统知识的转移，但不包括货物的单纯买卖或租赁。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移的方式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移有两种主要方式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跨国公司对其所拥有和控制的子公司实行内部化转移，主要采取对外直接投资方式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跨国公司对其他公司实行外部市场化转移。形式多样，主要有特许经营、许可证交易、技术援助、分包或委托制造安排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与技术转移相关的几个概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Transfer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与技术转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Assignmen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前者包括技术的地点转移与权利转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后者则只是技术权利的转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与技术扩散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前者是有明确的经济目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后者是技术通过市场或非市场渠道的传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与技术引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与国际技术转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国际技术转移理论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差距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早由克拉弗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I.Klarvas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和波斯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M.A.Posne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之后克鲁格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aul Krugman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、多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Mochel Dolla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、詹森和菲斯比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ensen &amp; Thursby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、西莫利和萨特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imoli &amp;Soete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等相继发展了这个理论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模型见右图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图示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V="1">
            <a:off x="5148360" y="2924280"/>
            <a:ext cx="0" cy="2665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5148360" y="558972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Freeform 8"/>
          <p:cNvSpPr/>
          <p:nvPr/>
        </p:nvSpPr>
        <p:spPr>
          <a:xfrm>
            <a:off x="6149880" y="4008600"/>
            <a:ext cx="2171880" cy="1552320"/>
          </a:xfrm>
          <a:custGeom>
            <a:avLst/>
            <a:gdLst>
              <a:gd name="textAreaLeft" fmla="*/ 0 w 2171880"/>
              <a:gd name="textAreaRight" fmla="*/ 2172240 w 2171880"/>
              <a:gd name="textAreaTop" fmla="*/ 0 h 1552320"/>
              <a:gd name="textAreaBottom" fmla="*/ 1552680 h 1552320"/>
            </a:gdLst>
            <a:ahLst/>
            <a:rect l="textAreaLeft" t="textAreaTop" r="textAreaRight" b="textAreaBottom"/>
            <a:pathLst>
              <a:path w="1368" h="978">
                <a:moveTo>
                  <a:pt x="0" y="978"/>
                </a:moveTo>
                <a:cubicBezTo>
                  <a:pt x="53" y="975"/>
                  <a:pt x="106" y="976"/>
                  <a:pt x="158" y="970"/>
                </a:cubicBezTo>
                <a:cubicBezTo>
                  <a:pt x="172" y="968"/>
                  <a:pt x="184" y="960"/>
                  <a:pt x="197" y="955"/>
                </a:cubicBezTo>
                <a:cubicBezTo>
                  <a:pt x="274" y="927"/>
                  <a:pt x="354" y="892"/>
                  <a:pt x="434" y="876"/>
                </a:cubicBezTo>
                <a:cubicBezTo>
                  <a:pt x="467" y="854"/>
                  <a:pt x="503" y="858"/>
                  <a:pt x="537" y="836"/>
                </a:cubicBezTo>
                <a:cubicBezTo>
                  <a:pt x="623" y="779"/>
                  <a:pt x="706" y="704"/>
                  <a:pt x="805" y="671"/>
                </a:cubicBezTo>
                <a:cubicBezTo>
                  <a:pt x="828" y="637"/>
                  <a:pt x="865" y="625"/>
                  <a:pt x="900" y="600"/>
                </a:cubicBezTo>
                <a:cubicBezTo>
                  <a:pt x="928" y="580"/>
                  <a:pt x="946" y="563"/>
                  <a:pt x="979" y="552"/>
                </a:cubicBezTo>
                <a:cubicBezTo>
                  <a:pt x="1012" y="501"/>
                  <a:pt x="973" y="551"/>
                  <a:pt x="1018" y="521"/>
                </a:cubicBezTo>
                <a:cubicBezTo>
                  <a:pt x="1052" y="499"/>
                  <a:pt x="1079" y="465"/>
                  <a:pt x="1113" y="442"/>
                </a:cubicBezTo>
                <a:cubicBezTo>
                  <a:pt x="1133" y="414"/>
                  <a:pt x="1156" y="399"/>
                  <a:pt x="1176" y="371"/>
                </a:cubicBezTo>
                <a:cubicBezTo>
                  <a:pt x="1185" y="344"/>
                  <a:pt x="1200" y="317"/>
                  <a:pt x="1215" y="292"/>
                </a:cubicBezTo>
                <a:cubicBezTo>
                  <a:pt x="1225" y="276"/>
                  <a:pt x="1247" y="245"/>
                  <a:pt x="1247" y="245"/>
                </a:cubicBezTo>
                <a:cubicBezTo>
                  <a:pt x="1262" y="200"/>
                  <a:pt x="1285" y="151"/>
                  <a:pt x="1318" y="118"/>
                </a:cubicBezTo>
                <a:cubicBezTo>
                  <a:pt x="1331" y="82"/>
                  <a:pt x="1368" y="38"/>
                  <a:pt x="1349" y="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 flipV="1">
            <a:off x="5219640" y="4149360"/>
            <a:ext cx="3600360" cy="1368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Freeform 11"/>
          <p:cNvSpPr/>
          <p:nvPr/>
        </p:nvSpPr>
        <p:spPr>
          <a:xfrm>
            <a:off x="5148360" y="4365720"/>
            <a:ext cx="3360600" cy="1265040"/>
          </a:xfrm>
          <a:custGeom>
            <a:avLst/>
            <a:gdLst>
              <a:gd name="textAreaLeft" fmla="*/ 0 w 3360600"/>
              <a:gd name="textAreaRight" fmla="*/ 3360960 w 3360600"/>
              <a:gd name="textAreaTop" fmla="*/ 0 h 1265040"/>
              <a:gd name="textAreaBottom" fmla="*/ 1265040 h 1265040"/>
            </a:gdLst>
            <a:ahLst/>
            <a:rect l="textAreaLeft" t="textAreaTop" r="textAreaRight" b="textAreaBottom"/>
            <a:pathLst>
              <a:path w="2117" h="797">
                <a:moveTo>
                  <a:pt x="3" y="797"/>
                </a:moveTo>
                <a:cubicBezTo>
                  <a:pt x="64" y="736"/>
                  <a:pt x="0" y="790"/>
                  <a:pt x="169" y="766"/>
                </a:cubicBezTo>
                <a:cubicBezTo>
                  <a:pt x="186" y="764"/>
                  <a:pt x="199" y="748"/>
                  <a:pt x="216" y="742"/>
                </a:cubicBezTo>
                <a:cubicBezTo>
                  <a:pt x="246" y="712"/>
                  <a:pt x="275" y="694"/>
                  <a:pt x="311" y="671"/>
                </a:cubicBezTo>
                <a:cubicBezTo>
                  <a:pt x="328" y="660"/>
                  <a:pt x="341" y="642"/>
                  <a:pt x="358" y="631"/>
                </a:cubicBezTo>
                <a:cubicBezTo>
                  <a:pt x="380" y="599"/>
                  <a:pt x="398" y="590"/>
                  <a:pt x="429" y="568"/>
                </a:cubicBezTo>
                <a:cubicBezTo>
                  <a:pt x="474" y="537"/>
                  <a:pt x="509" y="498"/>
                  <a:pt x="563" y="482"/>
                </a:cubicBezTo>
                <a:cubicBezTo>
                  <a:pt x="589" y="443"/>
                  <a:pt x="633" y="440"/>
                  <a:pt x="666" y="410"/>
                </a:cubicBezTo>
                <a:cubicBezTo>
                  <a:pt x="738" y="345"/>
                  <a:pt x="693" y="364"/>
                  <a:pt x="745" y="347"/>
                </a:cubicBezTo>
                <a:cubicBezTo>
                  <a:pt x="784" y="287"/>
                  <a:pt x="733" y="359"/>
                  <a:pt x="784" y="308"/>
                </a:cubicBezTo>
                <a:cubicBezTo>
                  <a:pt x="818" y="274"/>
                  <a:pt x="841" y="221"/>
                  <a:pt x="879" y="190"/>
                </a:cubicBezTo>
                <a:cubicBezTo>
                  <a:pt x="888" y="183"/>
                  <a:pt x="900" y="180"/>
                  <a:pt x="910" y="174"/>
                </a:cubicBezTo>
                <a:cubicBezTo>
                  <a:pt x="918" y="169"/>
                  <a:pt x="927" y="164"/>
                  <a:pt x="934" y="158"/>
                </a:cubicBezTo>
                <a:cubicBezTo>
                  <a:pt x="973" y="125"/>
                  <a:pt x="1014" y="102"/>
                  <a:pt x="1060" y="79"/>
                </a:cubicBezTo>
                <a:cubicBezTo>
                  <a:pt x="1101" y="58"/>
                  <a:pt x="1144" y="35"/>
                  <a:pt x="1186" y="16"/>
                </a:cubicBezTo>
                <a:cubicBezTo>
                  <a:pt x="1201" y="9"/>
                  <a:pt x="1234" y="0"/>
                  <a:pt x="1234" y="0"/>
                </a:cubicBezTo>
                <a:cubicBezTo>
                  <a:pt x="1460" y="7"/>
                  <a:pt x="1685" y="18"/>
                  <a:pt x="1912" y="24"/>
                </a:cubicBezTo>
                <a:cubicBezTo>
                  <a:pt x="1928" y="29"/>
                  <a:pt x="1944" y="35"/>
                  <a:pt x="1960" y="40"/>
                </a:cubicBezTo>
                <a:cubicBezTo>
                  <a:pt x="1968" y="43"/>
                  <a:pt x="1983" y="48"/>
                  <a:pt x="1983" y="48"/>
                </a:cubicBezTo>
                <a:cubicBezTo>
                  <a:pt x="2005" y="110"/>
                  <a:pt x="1972" y="36"/>
                  <a:pt x="2015" y="79"/>
                </a:cubicBezTo>
                <a:cubicBezTo>
                  <a:pt x="2048" y="112"/>
                  <a:pt x="2049" y="141"/>
                  <a:pt x="2086" y="166"/>
                </a:cubicBezTo>
                <a:cubicBezTo>
                  <a:pt x="2104" y="218"/>
                  <a:pt x="2085" y="213"/>
                  <a:pt x="2117" y="213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 flipV="1">
            <a:off x="6156360" y="4365720"/>
            <a:ext cx="244800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7956720" y="472428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8101080" y="4365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 flipV="1">
            <a:off x="6227640" y="3789000"/>
            <a:ext cx="0" cy="18003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 flipV="1">
            <a:off x="5796000" y="3789000"/>
            <a:ext cx="0" cy="18003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8369280" y="5392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5522400" y="27860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演进与出口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8408520" y="4508640"/>
            <a:ext cx="5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8245080" y="3665520"/>
            <a:ext cx="5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垄断优势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海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Hyme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和金德尔伯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Kindleberge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垄断优势理论解释跨国公司对外直接投资原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在此基础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赫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Hirsch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从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收益分析的角度提出了选择模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出口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直接投资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许可证贸易方式三者间的选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赫奇提出跨国公司国际经营成本分为两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本生产成本和特别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成本与利润的关系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销售收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本生产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特别成本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设出口成本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x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直接投资成本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d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许可证贸易成本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f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x&lt; Cd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且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x&lt; Cf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选择出口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d &lt; Cx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且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d &lt; Cf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选择对外直接投资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f &lt; Cx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且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f &lt; Cd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选择许可证贸易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技术转移的周期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弗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Vernon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产品生命周期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国一项产品技术的导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衰退周期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初期采用出口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熟期采用对外直接投资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用东道国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衰退期采用许可证贸易形式转让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小岛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Kojima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产业转移周期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直接投资从本国已经处于或即将处于比较劣势的产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也称边际产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依次进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斋藤优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制约论与技术转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斋藤优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lt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移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中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制约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N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民需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national need),R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Resources)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劳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原材料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机器设备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关系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不能够满足国民需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会产生技术创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创新后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会把原有技术转移到其他国家的企业中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这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瓶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创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 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再瓶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再创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了技术创新与转移的循环向上的趋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4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内部化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理论的主要代表人物有巴克利和卡森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uckley &amp; Casson,1976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、克鲁格曼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ugman,198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他们基于科斯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ase,1937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和威廉姆森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illiamson,1975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创立的交易成本理论，提出内部化理论（如果企业内部交易成本小于市场交易成本，从而企业自己进行交易，实现内部化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巴克利和卡森的内部化原因分析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巴克利和卡森认为两种产业内部化的动力最强：一是收益递增的产业或资本密集产业；另一个产业是信息产业（包括一切基于知识资产的产业）。原因是：研发的成本与收益关系、信息产业的垄断性决定了最优策略为差别定价、外部市场的不完全性导致买卖双方的垄断地位使交易成本增加、技术泄露以及被模仿风险、知识难以定价故内部化为转移价格提供了条件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鲁格曼的选择模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476360" y="5300640"/>
          <a:ext cx="6095880" cy="10065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出口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直接投资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转让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贸易壁垒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内部化优势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专利制度不完善形成的成本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技术转移的内容、影响因素与效应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移的内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工业产权的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专利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无形的财产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包括发明专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用新型专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观设计专利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商标专利权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非工业产权的技术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专有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诀窍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包括设计方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设计图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说明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示范和技术指导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供技术服务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影响跨国公司技术转移的因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母国政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特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东道国政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输入国的资源条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0:06:51Z</dcterms:created>
  <dc:creator>YPL</dc:creator>
  <dc:description/>
  <dc:language>en-US</dc:language>
  <cp:lastModifiedBy>Administrator</cp:lastModifiedBy>
  <dcterms:modified xsi:type="dcterms:W3CDTF">2020-12-30T07:27:37Z</dcterms:modified>
  <cp:revision>20</cp:revision>
  <dc:subject/>
  <dc:title>9.跨国公司经营战略(4)—技术转移</dc:title>
</cp:coreProperties>
</file>