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E9E-5D73-4841-8C26-E2EFECBD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99B-F061-44FB-8A38-3F33B6C1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1A4-5101-4D18-90E3-91F0582E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8B4-783D-4C06-A805-3B220EF3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1226-7C04-4B93-9BA9-C2F6F0D8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A935-02DC-4E77-9BC1-9081EF7C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C455-B122-41FD-9BCD-47C402A1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4A04-3E85-4648-BEDB-7C3960B2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3162-649B-4701-84FF-0D4513E6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0393-F9C1-4DEB-A1AA-C9FF7714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1F00-21CA-451E-9389-EB9BE98E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F82-0F00-4D62-87DC-92938863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3660-70FB-45B5-9686-1FADA2BE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953-7CFC-4409-9535-624297CD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ECCA-AA1D-4DBE-AFA5-E152D0FA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AB68-2CCE-4EFD-8F5F-467FEAB9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EC99-A915-43CF-8DC4-EF04F1E8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A8B-F105-4A0E-8DAD-A6A81329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2B2-868C-4667-8ADC-F5A37BA1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042-D0E7-4322-B62D-3F70A153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AF4-2772-441D-ADBD-79D3E898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085-389A-4EA9-BF98-A9CA34B7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E09-4C4F-4855-A368-6BDB34B9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829-19DC-40E2-95B4-D22B59C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CF96-AE1D-4AD6-8567-1791B113CC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D58E-D784-4B9A-80B5-87FEDC4559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三章  跨国公司国际直接投资理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的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展中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对外直接投资综合动因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5 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折中理论的动态发展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投资发展周期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发展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型发展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邓宁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国家的人均国民生产总值和人均对外直接投资的关系进行考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动态地解释了国际投资的发展变化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要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把分析的国家分成四个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应地提出了投资发展周期四个阶段的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一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下的国家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极小规模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为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二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-15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多数发展中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模不断扩大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额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三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500-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兴工业化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大幅度上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仍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走上了国际生产专业化道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四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上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以及国外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正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折中理论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优势模型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OIL Paradigm”)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投资发展周期理论的关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流出流入与经济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87280" y="2708280"/>
          <a:ext cx="7345440" cy="438948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发展阶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入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一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二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较少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劣势和专业化程度低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开始出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三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仍受限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四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.H.Dunning, International Production and the Multinational Enterprises,George Allen and Vnwin, LTD. 1981,p.11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或特定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m-specific Advantag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196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美国经济学家海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在博士论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国企业的国际经营：对外直接投资研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首先提出垄断优势论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金德尔伯格修正发展成为跨国公司理论的基础，开国际直接投资理论研究先河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市场的不完全竞争是跨国公司进行国际直接投资的根本原因，而跨国公司的垄断与寡占优势是对外直接投资的条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不完全性的表现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产品和要素市场的不完全竞争性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规模经济引起的市场不完全，垄断存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府干预导致的市场不完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关税引起的市场不完全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的表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先进的管理经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雄厚的资金实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相对全面且灵通的信息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性的销售网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理论的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H.G.Johnson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来源于对知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、管理、销售技能）资产的控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R.E.Caves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产品差异性（同其他生产者的差异）的角度加以补充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F.T.Knickerbocker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寡占反应论的角度加以补充。他把对外直接投资分两类：其一，进攻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外建立第一家子公司的投资，由产品生命周期引起；其二，防御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行业的其他跟进在同一地点的投资，由寡占反应引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产品生命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965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哈佛大学教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.Vernon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International Investment and International Trade in the Product Cycle,Quarterly Journal of Economics,Vol.80,196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文中运用动态方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贸易与投资结合的角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产品生命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cycle Hypothesis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411280" y="4005000"/>
            <a:ext cx="0" cy="8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411280" y="486900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2411280" y="5084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411280" y="630864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419640" y="3933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419640" y="5157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4859280" y="3860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4859280" y="522936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3859200" y="5237280"/>
            <a:ext cx="2138400" cy="110628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1347" h="697">
                <a:moveTo>
                  <a:pt x="0" y="666"/>
                </a:moveTo>
                <a:cubicBezTo>
                  <a:pt x="77" y="678"/>
                  <a:pt x="170" y="697"/>
                  <a:pt x="240" y="658"/>
                </a:cubicBezTo>
                <a:cubicBezTo>
                  <a:pt x="273" y="639"/>
                  <a:pt x="294" y="617"/>
                  <a:pt x="329" y="606"/>
                </a:cubicBezTo>
                <a:cubicBezTo>
                  <a:pt x="384" y="569"/>
                  <a:pt x="444" y="536"/>
                  <a:pt x="509" y="524"/>
                </a:cubicBezTo>
                <a:cubicBezTo>
                  <a:pt x="545" y="506"/>
                  <a:pt x="584" y="502"/>
                  <a:pt x="621" y="486"/>
                </a:cubicBezTo>
                <a:cubicBezTo>
                  <a:pt x="655" y="471"/>
                  <a:pt x="684" y="436"/>
                  <a:pt x="718" y="426"/>
                </a:cubicBezTo>
                <a:cubicBezTo>
                  <a:pt x="774" y="409"/>
                  <a:pt x="825" y="385"/>
                  <a:pt x="883" y="374"/>
                </a:cubicBezTo>
                <a:cubicBezTo>
                  <a:pt x="918" y="350"/>
                  <a:pt x="963" y="345"/>
                  <a:pt x="1003" y="329"/>
                </a:cubicBezTo>
                <a:cubicBezTo>
                  <a:pt x="1045" y="312"/>
                  <a:pt x="1086" y="290"/>
                  <a:pt x="1130" y="277"/>
                </a:cubicBezTo>
                <a:cubicBezTo>
                  <a:pt x="1137" y="272"/>
                  <a:pt x="1144" y="266"/>
                  <a:pt x="1152" y="262"/>
                </a:cubicBezTo>
                <a:cubicBezTo>
                  <a:pt x="1159" y="258"/>
                  <a:pt x="1168" y="258"/>
                  <a:pt x="1175" y="254"/>
                </a:cubicBezTo>
                <a:cubicBezTo>
                  <a:pt x="1193" y="243"/>
                  <a:pt x="1227" y="217"/>
                  <a:pt x="1227" y="217"/>
                </a:cubicBezTo>
                <a:cubicBezTo>
                  <a:pt x="1242" y="167"/>
                  <a:pt x="1221" y="219"/>
                  <a:pt x="1257" y="179"/>
                </a:cubicBezTo>
                <a:cubicBezTo>
                  <a:pt x="1286" y="147"/>
                  <a:pt x="1290" y="120"/>
                  <a:pt x="1324" y="97"/>
                </a:cubicBezTo>
                <a:cubicBezTo>
                  <a:pt x="1336" y="64"/>
                  <a:pt x="1347" y="35"/>
                  <a:pt x="1347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5"/>
          <p:cNvSpPr/>
          <p:nvPr/>
        </p:nvSpPr>
        <p:spPr>
          <a:xfrm>
            <a:off x="2494080" y="5337000"/>
            <a:ext cx="3941640" cy="957600"/>
          </a:xfrm>
          <a:custGeom>
            <a:avLst/>
            <a:gdLst>
              <a:gd name="textAreaLeft" fmla="*/ 0 w 3941640"/>
              <a:gd name="textAreaRight" fmla="*/ 3942000 w 3941640"/>
              <a:gd name="textAreaTop" fmla="*/ 0 h 957600"/>
              <a:gd name="textAreaBottom" fmla="*/ 957960 h 957600"/>
            </a:gdLst>
            <a:ahLst/>
            <a:rect l="textAreaLeft" t="textAreaTop" r="textAreaRight" b="textAreaBottom"/>
            <a:pathLst>
              <a:path w="2483" h="603">
                <a:moveTo>
                  <a:pt x="0" y="603"/>
                </a:moveTo>
                <a:cubicBezTo>
                  <a:pt x="5" y="595"/>
                  <a:pt x="9" y="587"/>
                  <a:pt x="15" y="580"/>
                </a:cubicBezTo>
                <a:cubicBezTo>
                  <a:pt x="21" y="574"/>
                  <a:pt x="31" y="572"/>
                  <a:pt x="37" y="565"/>
                </a:cubicBezTo>
                <a:cubicBezTo>
                  <a:pt x="51" y="549"/>
                  <a:pt x="76" y="490"/>
                  <a:pt x="97" y="476"/>
                </a:cubicBezTo>
                <a:cubicBezTo>
                  <a:pt x="122" y="460"/>
                  <a:pt x="140" y="440"/>
                  <a:pt x="164" y="423"/>
                </a:cubicBezTo>
                <a:cubicBezTo>
                  <a:pt x="212" y="353"/>
                  <a:pt x="327" y="288"/>
                  <a:pt x="411" y="266"/>
                </a:cubicBezTo>
                <a:cubicBezTo>
                  <a:pt x="463" y="232"/>
                  <a:pt x="439" y="241"/>
                  <a:pt x="479" y="229"/>
                </a:cubicBezTo>
                <a:cubicBezTo>
                  <a:pt x="506" y="211"/>
                  <a:pt x="530" y="206"/>
                  <a:pt x="561" y="199"/>
                </a:cubicBezTo>
                <a:cubicBezTo>
                  <a:pt x="588" y="185"/>
                  <a:pt x="614" y="178"/>
                  <a:pt x="643" y="169"/>
                </a:cubicBezTo>
                <a:cubicBezTo>
                  <a:pt x="706" y="128"/>
                  <a:pt x="841" y="141"/>
                  <a:pt x="898" y="139"/>
                </a:cubicBezTo>
                <a:cubicBezTo>
                  <a:pt x="1400" y="0"/>
                  <a:pt x="1940" y="129"/>
                  <a:pt x="2461" y="124"/>
                </a:cubicBezTo>
                <a:cubicBezTo>
                  <a:pt x="2469" y="124"/>
                  <a:pt x="2483" y="116"/>
                  <a:pt x="2483" y="11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65164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Freeform 22"/>
          <p:cNvSpPr/>
          <p:nvPr/>
        </p:nvSpPr>
        <p:spPr>
          <a:xfrm>
            <a:off x="2422440" y="3787920"/>
            <a:ext cx="3919680" cy="108108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2469" h="681">
                <a:moveTo>
                  <a:pt x="0" y="681"/>
                </a:moveTo>
                <a:cubicBezTo>
                  <a:pt x="15" y="641"/>
                  <a:pt x="39" y="630"/>
                  <a:pt x="75" y="606"/>
                </a:cubicBezTo>
                <a:cubicBezTo>
                  <a:pt x="91" y="595"/>
                  <a:pt x="104" y="580"/>
                  <a:pt x="120" y="569"/>
                </a:cubicBezTo>
                <a:cubicBezTo>
                  <a:pt x="176" y="531"/>
                  <a:pt x="263" y="504"/>
                  <a:pt x="329" y="494"/>
                </a:cubicBezTo>
                <a:cubicBezTo>
                  <a:pt x="408" y="463"/>
                  <a:pt x="489" y="438"/>
                  <a:pt x="569" y="412"/>
                </a:cubicBezTo>
                <a:cubicBezTo>
                  <a:pt x="605" y="400"/>
                  <a:pt x="629" y="389"/>
                  <a:pt x="666" y="382"/>
                </a:cubicBezTo>
                <a:cubicBezTo>
                  <a:pt x="697" y="370"/>
                  <a:pt x="724" y="359"/>
                  <a:pt x="756" y="352"/>
                </a:cubicBezTo>
                <a:cubicBezTo>
                  <a:pt x="802" y="321"/>
                  <a:pt x="750" y="351"/>
                  <a:pt x="830" y="329"/>
                </a:cubicBezTo>
                <a:cubicBezTo>
                  <a:pt x="872" y="317"/>
                  <a:pt x="906" y="293"/>
                  <a:pt x="950" y="285"/>
                </a:cubicBezTo>
                <a:cubicBezTo>
                  <a:pt x="1078" y="233"/>
                  <a:pt x="1217" y="206"/>
                  <a:pt x="1347" y="157"/>
                </a:cubicBezTo>
                <a:cubicBezTo>
                  <a:pt x="1449" y="119"/>
                  <a:pt x="1539" y="81"/>
                  <a:pt x="1646" y="60"/>
                </a:cubicBezTo>
                <a:cubicBezTo>
                  <a:pt x="1716" y="31"/>
                  <a:pt x="1788" y="8"/>
                  <a:pt x="1863" y="0"/>
                </a:cubicBezTo>
                <a:cubicBezTo>
                  <a:pt x="2082" y="4"/>
                  <a:pt x="2197" y="6"/>
                  <a:pt x="2379" y="30"/>
                </a:cubicBezTo>
                <a:cubicBezTo>
                  <a:pt x="2407" y="40"/>
                  <a:pt x="2439" y="53"/>
                  <a:pt x="2469" y="5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Freeform 24"/>
          <p:cNvSpPr/>
          <p:nvPr/>
        </p:nvSpPr>
        <p:spPr>
          <a:xfrm>
            <a:off x="5803920" y="3824280"/>
            <a:ext cx="195120" cy="2560680"/>
          </a:xfrm>
          <a:custGeom>
            <a:avLst/>
            <a:gdLst>
              <a:gd name="textAreaLeft" fmla="*/ 0 w 195120"/>
              <a:gd name="textAreaRight" fmla="*/ 195480 w 19512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123" h="1613">
                <a:moveTo>
                  <a:pt x="32" y="0"/>
                </a:moveTo>
                <a:cubicBezTo>
                  <a:pt x="41" y="29"/>
                  <a:pt x="49" y="45"/>
                  <a:pt x="39" y="75"/>
                </a:cubicBezTo>
                <a:cubicBezTo>
                  <a:pt x="74" y="301"/>
                  <a:pt x="60" y="576"/>
                  <a:pt x="17" y="808"/>
                </a:cubicBezTo>
                <a:cubicBezTo>
                  <a:pt x="13" y="938"/>
                  <a:pt x="0" y="1067"/>
                  <a:pt x="2" y="1197"/>
                </a:cubicBezTo>
                <a:cubicBezTo>
                  <a:pt x="8" y="1557"/>
                  <a:pt x="123" y="1613"/>
                  <a:pt x="2" y="1548"/>
                </a:cubicBezTo>
              </a:path>
            </a:pathLst>
          </a:custGeom>
          <a:noFill/>
          <a:ln cap="rnd" w="936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Freeform 25"/>
          <p:cNvSpPr/>
          <p:nvPr/>
        </p:nvSpPr>
        <p:spPr>
          <a:xfrm>
            <a:off x="2422440" y="3538440"/>
            <a:ext cx="3657600" cy="13305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1330560"/>
              <a:gd name="textAreaBottom" fmla="*/ 1330560 h 1330560"/>
            </a:gdLst>
            <a:ahLst/>
            <a:rect l="textAreaLeft" t="textAreaTop" r="textAreaRight" b="textAreaBottom"/>
            <a:pathLst>
              <a:path w="2304" h="838">
                <a:moveTo>
                  <a:pt x="0" y="838"/>
                </a:moveTo>
                <a:cubicBezTo>
                  <a:pt x="135" y="836"/>
                  <a:pt x="269" y="836"/>
                  <a:pt x="404" y="831"/>
                </a:cubicBezTo>
                <a:cubicBezTo>
                  <a:pt x="430" y="830"/>
                  <a:pt x="459" y="810"/>
                  <a:pt x="486" y="808"/>
                </a:cubicBezTo>
                <a:cubicBezTo>
                  <a:pt x="531" y="804"/>
                  <a:pt x="576" y="803"/>
                  <a:pt x="621" y="801"/>
                </a:cubicBezTo>
                <a:cubicBezTo>
                  <a:pt x="686" y="784"/>
                  <a:pt x="756" y="778"/>
                  <a:pt x="823" y="771"/>
                </a:cubicBezTo>
                <a:cubicBezTo>
                  <a:pt x="898" y="744"/>
                  <a:pt x="984" y="729"/>
                  <a:pt x="1062" y="711"/>
                </a:cubicBezTo>
                <a:cubicBezTo>
                  <a:pt x="1135" y="675"/>
                  <a:pt x="1216" y="651"/>
                  <a:pt x="1294" y="629"/>
                </a:cubicBezTo>
                <a:cubicBezTo>
                  <a:pt x="1323" y="621"/>
                  <a:pt x="1347" y="606"/>
                  <a:pt x="1376" y="599"/>
                </a:cubicBezTo>
                <a:cubicBezTo>
                  <a:pt x="1449" y="550"/>
                  <a:pt x="1534" y="516"/>
                  <a:pt x="1616" y="486"/>
                </a:cubicBezTo>
                <a:cubicBezTo>
                  <a:pt x="1652" y="473"/>
                  <a:pt x="1638" y="486"/>
                  <a:pt x="1668" y="471"/>
                </a:cubicBezTo>
                <a:cubicBezTo>
                  <a:pt x="1733" y="439"/>
                  <a:pt x="1794" y="418"/>
                  <a:pt x="1863" y="397"/>
                </a:cubicBezTo>
                <a:cubicBezTo>
                  <a:pt x="1930" y="351"/>
                  <a:pt x="2007" y="362"/>
                  <a:pt x="2080" y="314"/>
                </a:cubicBezTo>
                <a:cubicBezTo>
                  <a:pt x="2115" y="262"/>
                  <a:pt x="2095" y="279"/>
                  <a:pt x="2132" y="255"/>
                </a:cubicBezTo>
                <a:cubicBezTo>
                  <a:pt x="2148" y="201"/>
                  <a:pt x="2157" y="152"/>
                  <a:pt x="2207" y="120"/>
                </a:cubicBezTo>
                <a:cubicBezTo>
                  <a:pt x="2216" y="89"/>
                  <a:pt x="2228" y="78"/>
                  <a:pt x="2259" y="68"/>
                </a:cubicBezTo>
                <a:cubicBezTo>
                  <a:pt x="2284" y="52"/>
                  <a:pt x="2304" y="33"/>
                  <a:pt x="2304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-Vernon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对产品生命周期模型的修正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:PCM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生命周期模型的不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弗农认为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厂商一旦取得新产品、新工艺为载体的”特定优势“，便开始进入生命周期：本国生产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成熟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直接投资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海外投资阶段。然而，不足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发达国家间横向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创新技术的同步转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颁发许可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多极化市场下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llow-me Hypothesis”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不再具有严格的说服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严格呈现出口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投资的交替进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对产品生命周期模型的修正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:PCM‖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第一阶段多国厂商”创新垄断优势“共存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在周期的后两个阶段，来自各国的厂商相互共存，竞争主要发生在创新阶段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直接投资的目标从东道国目标市场转向全球市场，区位选择具有全球性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厂商更重视投入产出稳定性和资产的流动性，因此产业内贸易与产业内投资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ntra-industrial investment)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上升，这是纵向直接投资的主要原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小岛清比较优势投资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日本一桥大学教授小岛清根据比较优势理论和日本对外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中小企业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现实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比较优势投资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he Theory of Comparative Advantage to investment)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也称边际产业扩张论或边际比较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与主要内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700360" y="4365720"/>
            <a:ext cx="417672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 flipV="1">
            <a:off x="2627280" y="4076280"/>
            <a:ext cx="3960720" cy="201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709320" y="3867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460960" y="5883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9720" y="4083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975360" y="5594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2987640" y="4365720"/>
            <a:ext cx="7164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3348000" y="4436640"/>
            <a:ext cx="14436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V="1">
            <a:off x="3851280" y="4581000"/>
            <a:ext cx="14436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5435640" y="5157360"/>
            <a:ext cx="14436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5940360" y="5300280"/>
            <a:ext cx="21600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 flipV="1">
            <a:off x="6588000" y="5516280"/>
            <a:ext cx="14472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96892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545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976560" y="431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560920" y="488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81640" y="5032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786360" y="524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 flipV="1">
            <a:off x="2987640" y="5733720"/>
            <a:ext cx="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 flipV="1">
            <a:off x="3635280" y="537372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 flipH="1" flipV="1">
            <a:off x="4066920" y="5084640"/>
            <a:ext cx="730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V="1">
            <a:off x="5435640" y="443700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 flipV="1">
            <a:off x="5867280" y="429228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 flipH="1" flipV="1">
            <a:off x="6300360" y="3933720"/>
            <a:ext cx="7164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2863440" y="5392800"/>
            <a:ext cx="16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.8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3473640" y="5032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977280" y="48164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5202360" y="416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5705640" y="3952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319080" y="3592440"/>
            <a:ext cx="14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4917600" y="467352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比率相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00JPY=1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7221600" y="55371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a-z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日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 flipV="1">
            <a:off x="1763640" y="4292280"/>
            <a:ext cx="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1744920" y="46735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PY: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 flipV="1">
            <a:off x="2411280" y="3716280"/>
            <a:ext cx="3529080" cy="165744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图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日本的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所有商品成本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 ‖-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东道国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低到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,M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商品成本比率相等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00JPY=1USD)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当美圆汇率上涨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会整体向左上方移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\b\c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成为边际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向东道国进行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可以使在东道国生产的成本降低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’\B’\C’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本国进口这些产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从而创造和扩大了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对外直接投资就是这种顺贸易导向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Pro-trade oriented or Trade-creating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从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,y,z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具有绝对优势的产业开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是逆比较优势进行的对外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美国式的投资就是这种逆贸易导向的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虽低于东道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但高于本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结果是用在国外生产替代本国的出口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没有达到节约成本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卡森（）、拉格曼（）等提出内部化理论（）。基于跨国公司内部贸易增长的现象，对国际直接投资动机决定因素的解释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建立在公司内部的过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内部市场取代原来的外部市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克服外部市场的不完全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转移价格机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降低交易成本和交易风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前提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部市场的不完全性导致的市场失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交易成本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信息扩散会使所有者失去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及其影响因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是指企业克服外部市场的交易障碍所付出的代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影响因素主要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产品特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别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东道国的政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法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政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理位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文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结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控制协调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内部化的动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知识产品为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知识产品具有”共享性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容易被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使投入巨大的所有者丧失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形成内部市场体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可以保持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大限度地实现增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实现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市场交易成本小于外部市场交易成本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生产折中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英国经济学家邓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John Dunning)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各种跨国公司理论比较、综合，形成了国际生产的折中理论，详见于他的代表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、经济活动的区位与多国企业：折中理论探索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与跨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产生的背景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理论发展的背景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，国际直接投资理论有了不同方向的发展，主要有产业组织理论（海默的垄断优势理论、金德尔伯格）、动态分析（弗农的周期理论）、区位选择理论（戈登、巴克利、卡森）、基于厂商理论强调内部化（巴克利、卡森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直接投资格局变化。表现：主体多元化、部门分散化、投资流向多样化（纵向、横向、逆向）、形式多样化（独资、合资、合作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400" spc="-1" strike="noStrike">
                <a:solidFill>
                  <a:srgbClr val="006666"/>
                </a:solidFill>
                <a:latin typeface="Arial"/>
              </a:rPr>
              <a:t>续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主要内容：三个核心优势共同决定了对外直接投资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厂商优势、竞争优势、垄断优势）。一国企业拥有或获得其他企业所没有或无法获得的资产及其所有权。包括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企业规模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组织管理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金融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优势的内部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共同战略目标配置技术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克服市场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发挥垄断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的要素禀赋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某些有利条件形成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广阔的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优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低廉的要素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裕的原材料和投入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对于母国的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商品出口运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保护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投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5:09:26Z</dcterms:created>
  <dc:creator>YPL</dc:creator>
  <dc:description/>
  <dc:language>en-US</dc:language>
  <cp:lastModifiedBy>Administrator</cp:lastModifiedBy>
  <dcterms:modified xsi:type="dcterms:W3CDTF">2020-12-30T07:27:13Z</dcterms:modified>
  <cp:revision>46</cp:revision>
  <dc:subject/>
  <dc:title>跨国公司专题(3):理论综述</dc:title>
</cp:coreProperties>
</file>