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2F84-6191-45A0-98D1-0A03C4261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44AD-4879-4EDD-8FB2-ECF8DA576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9F4D-AC46-4696-834D-21FCEBF31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FE37-F345-4E35-BD73-9FF976174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25548-2C34-4CBC-B60A-7EB8A6404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6674D-5CA6-4CC9-A804-1A56B81F5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0B36E-1705-41FF-A974-1DB4F8C34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1448F-BC68-4EDF-9B1F-0776390A3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22AD9-808B-42A6-BAF3-0A955A151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3FB78-E42A-4CDF-9EDD-BABB2737A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1D4D5-117D-4FDA-9908-B87D01D9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9228-8CD4-4243-A240-5A044105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E9A1D-C89A-4D2C-A302-A4F16BC1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AE0A8-C1F2-4D96-9627-061DE631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11BF9-1772-4A43-B23C-124B660A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FC685-105D-44D6-9870-9A9AA81D1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EA812-CBA4-4740-8A8A-A90619583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95B5-4BD6-4521-BC9D-877B16FF7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771E-B7E2-4D16-8CE4-7EF4C483B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7836-4077-4FE7-84A0-0DCF82C46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1729-F501-4333-BC84-5E858A601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FB5A-929E-43BF-84D4-E475DEF5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DEF8-A671-4F4B-AB98-5E18D295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7F3A-F4EB-450D-A6BB-58546C0D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45E30-18A7-4AF2-B7AE-E919CCFCD3F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AD1B3-874B-4959-866C-5C9AD331BFE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第三章  跨国公司对外直接投资理论（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66"/>
                </a:solidFill>
                <a:latin typeface="Arial"/>
              </a:rPr>
              <a:t>直接投资综合动因模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直接投资综合动因模型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模型的提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上述理论从某一个侧面探讨了跨国公司对外直接投资的动因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如”特定优势”理论主要是静态分析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”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产品生命周期理论”主要是动态规范分析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缺乏一个融合多种因素的综合性动态模型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1971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年理查德森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J.D.Richardson)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把各种理论所强调的因素结合起来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建立了包含一系列关键变量的综合性动态模型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被称为”理查德森综合动因模型”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文献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J.D.Richardson,”On Going Abroad: The Firm’s Initial foreign Investment Decision”, Quarterly Review of Economics and Business,1971,pp7—22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2  “</a:t>
            </a: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空间偏好”（</a:t>
            </a: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Spatial Preference, SP</a:t>
            </a: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）模型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Arial"/>
              </a:rPr>
              <a:t>概念的引入：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理查德森认为，企业的跨国投资不能完全用经济变量（特有优势、管理技能与专长、东道国成本低、进入壁垒等）来解释，因为，有投资机会未必导致国外企业的直接投资。在企业的决策变量中，非经济因素常常起到重要作用，于是，他用“空间偏好”概念表示各种非经济因素的投资效应。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空间偏好”是企业管理者基于主观上对国外政治制度、社会环境、法律体系、语言文化的了解估计，而对于国外市场具有的一种”心理距离“，它决定了企业对国外投资期望利润的估计，构成海外直接投资的前提条件。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因此，跨国公司对国外市场投资机会的评价主要基于两个变量：经济因素和“空间偏好”。从而预期投资收益函数得以构造。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预期投资收益函数：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这里，     表示管理者基于空间偏好率（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rate of SP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）的预期投资收益；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V 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表示管理者空间偏好或抵触惯性（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Inertial Resistance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）的主观变量；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           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表示第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j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个市场投资项目的预期收益（利润）。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2" name="Object 5"/>
          <p:cNvGraphicFramePr/>
          <p:nvPr/>
        </p:nvGraphicFramePr>
        <p:xfrm>
          <a:off x="5580000" y="2781360"/>
          <a:ext cx="194472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0000" y="2781360"/>
                    <a:ext cx="19447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Object 6"/>
          <p:cNvGraphicFramePr/>
          <p:nvPr/>
        </p:nvGraphicFramePr>
        <p:xfrm>
          <a:off x="5651640" y="4005360"/>
          <a:ext cx="190440" cy="20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51640" y="4005360"/>
                    <a:ext cx="190440" cy="20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7"/>
          <p:cNvGraphicFramePr/>
          <p:nvPr/>
        </p:nvGraphicFramePr>
        <p:xfrm>
          <a:off x="5292720" y="4941720"/>
          <a:ext cx="330120" cy="254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7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92720" y="4941720"/>
                    <a:ext cx="330120" cy="2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8"/>
          <p:cNvGraphicFramePr/>
          <p:nvPr/>
        </p:nvGraphicFramePr>
        <p:xfrm>
          <a:off x="6156360" y="3573360"/>
          <a:ext cx="1440000" cy="287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9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56360" y="3573360"/>
                    <a:ext cx="144000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空间偏好”（</a:t>
            </a: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Spatial Preference, SP</a:t>
            </a: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）模型对东道国的政策含义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约束条件的含义：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V=1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企业已经实施了跨国经营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V&lt;1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企业有可能或拟进入一个新市场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3)V     0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某市场完全处于企业对外投资计划区之外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增大空间偏好，东道国政府可以作为。具体方法：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东道国高质量市场信息发布（贸易洽谈展览会、国际商务信息发布会等）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实施改善市场环境的政策措施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创造条件促进先入企业的经营业绩，形成”跟随效应“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3" name="Object 6"/>
          <p:cNvGraphicFramePr/>
          <p:nvPr/>
        </p:nvGraphicFramePr>
        <p:xfrm>
          <a:off x="1332000" y="2852640"/>
          <a:ext cx="2160360" cy="5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852640"/>
                    <a:ext cx="21603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Line 11"/>
          <p:cNvSpPr/>
          <p:nvPr/>
        </p:nvSpPr>
        <p:spPr>
          <a:xfrm>
            <a:off x="1692360" y="4797360"/>
            <a:ext cx="2872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跨国投资的经济因素模型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经济利润方程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表示国外市场利润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基于对外直接投资的两个特征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大规模寡头厂商实施对外直接投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寡头市场结构传导到东道国的目标行业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因此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跨国公司的定价策略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其中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Pd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为母国售价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 EC 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为出口成本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T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为关税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厂商在母国的价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平均成本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利润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则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9" name="Object 7"/>
          <p:cNvGraphicFramePr/>
          <p:nvPr/>
        </p:nvGraphicFramePr>
        <p:xfrm>
          <a:off x="1187280" y="2924280"/>
          <a:ext cx="1994040" cy="25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924280"/>
                    <a:ext cx="1994040" cy="25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9"/>
          <p:cNvGraphicFramePr/>
          <p:nvPr/>
        </p:nvGraphicFramePr>
        <p:xfrm>
          <a:off x="1187280" y="3429000"/>
          <a:ext cx="360360" cy="28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3429000"/>
                    <a:ext cx="36036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11"/>
          <p:cNvGraphicFramePr/>
          <p:nvPr/>
        </p:nvGraphicFramePr>
        <p:xfrm>
          <a:off x="1476360" y="5157720"/>
          <a:ext cx="2232000" cy="358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76360" y="5157720"/>
                    <a:ext cx="223200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13"/>
          <p:cNvGraphicFramePr/>
          <p:nvPr/>
        </p:nvGraphicFramePr>
        <p:xfrm>
          <a:off x="5651640" y="2997360"/>
          <a:ext cx="927000" cy="228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6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651640" y="2997360"/>
                    <a:ext cx="92700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Object 14"/>
          <p:cNvGraphicFramePr/>
          <p:nvPr/>
        </p:nvGraphicFramePr>
        <p:xfrm>
          <a:off x="5219640" y="3789360"/>
          <a:ext cx="3529080" cy="868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8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219640" y="3789360"/>
                    <a:ext cx="352908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厂商直接投资决策综合模型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综合以上经济与非经济因素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包含空间偏好率的外部市场投资利润函数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厂商对外直接投资决策三阶段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预期投资利润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 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的估计阶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决定于公司决策层的偏好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投资目标利润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*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的设定阶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决定于企业自身特定优势和直接竞争对手的市场行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对外直接投资的实施阶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决定于投资机会边界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=U*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如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&gt;U*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则实施对外直接投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如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&lt;U*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则无对外直接投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32" name="Object 6"/>
          <p:cNvGraphicFramePr/>
          <p:nvPr/>
        </p:nvGraphicFramePr>
        <p:xfrm>
          <a:off x="1187280" y="3645000"/>
          <a:ext cx="3313440" cy="124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645000"/>
                    <a:ext cx="3313440" cy="12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3T14:45:31Z</dcterms:created>
  <dc:creator>YPL</dc:creator>
  <dc:description/>
  <dc:language>en-US</dc:language>
  <cp:lastModifiedBy>Administrator</cp:lastModifiedBy>
  <dcterms:modified xsi:type="dcterms:W3CDTF">2020-12-30T07:26:09Z</dcterms:modified>
  <cp:revision>21</cp:revision>
  <dc:subject/>
  <dc:title>5.跨国公司对外直接投资模型</dc:title>
</cp:coreProperties>
</file>