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61BA-3D19-4B49-AA93-90C2A9A07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57A9-D25F-4DA2-A0CE-9730E399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13C9-5FC2-470C-86D4-BE0159BF5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801E-E9F0-4E74-802D-05C6EB9BF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59F7-43DF-4FF1-AC20-ED2452B1B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C28E-27CC-44E4-A470-C05B714A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83CB-E5B4-45F0-9017-65D854BB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D0ED-BB3D-436C-BB1B-7E5D10EA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3588-6B1D-4E91-AD57-1C43C9B0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CEB6-2BDE-4317-893B-FD044B0F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B33D2-053B-426C-9901-E1B2B590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8F30-204B-4397-ADE8-D5FB0750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8908-BBDA-48CD-845E-6AFD1DDB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0EEF-3A62-464D-8FBE-6CA8F0D7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3A10-BC70-4B3D-B566-A8318D5A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1CF8-7089-4823-854E-3AD024149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7950-0566-4ABC-BD8A-664CDEA1F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ED91-8214-49F2-B461-6AAA4ECF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CB7C-2848-47E6-8307-75D8F800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16F1-C1CD-4BEF-BD89-DCF1C67F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CCF3-B46B-4D39-ACC5-832A3589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2D7C-BC57-450A-A7A2-B2B9E03B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C7C8-3638-41A4-A11F-5CFDFD3E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8367-9166-4030-AC2C-EF4E5203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6849-B8B0-4A11-85FA-A901812181D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B6FF-4790-4414-8A7A-9C5287D50EB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第三章  跨国公司国际直接投资理论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发达国家跨国公司对外直接投资理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发达国家跨国公司对外直接投资理论的发展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发展中国家跨国公司对外直接投资理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跨国公司对外直接投资综合动因模型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1.5 </a:t>
            </a:r>
            <a:r>
              <a:rPr b="1" lang="zh-CN" sz="2400" spc="-1" strike="noStrike">
                <a:solidFill>
                  <a:srgbClr val="006666"/>
                </a:solidFill>
                <a:latin typeface="Arial"/>
              </a:rPr>
              <a:t>折中理论的动态发展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6666"/>
                </a:solidFill>
                <a:latin typeface="Arial"/>
              </a:rPr>
              <a:t>投资发展周期理论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投资发展周期理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也称对外直接投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型发展理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邓宁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对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6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个国家的人均国民生产总值和人均对外直接投资的关系进行考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动态地解释了国际投资的发展变化的原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主要内容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把分析的国家分成四个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相应地提出了投资发展周期四个阶段的理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第一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人均国民生产总值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0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美元以下的国家的直接投资所在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极小规模的外来投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外投资为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第二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人均国民生产总值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00-150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美元之间的国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大多数发展中国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直接投资所在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规模不断扩大的外来投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外投资额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净对外直接投资额为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第三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人均国民生产总值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500-400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美元之间的国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新兴工业化国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直接投资所在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基于所有权又是和内部化能力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外投资大幅度上升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净对外直接投资额仍为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走上了国际生产专业化道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(4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第四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人均国民生产总值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00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美元以上的国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发达国家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直接投资所在阶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基于所有权又是和内部化能力以及国外区位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净对外直接投资额为正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1.5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折中理论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(“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三优势模型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--OIL Paradigm”)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与投资发展周期理论的关系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直接投资流出流入与经济发展阶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187280" y="2708280"/>
          <a:ext cx="7345440" cy="4389480"/>
        </p:xfrm>
        <a:graphic>
          <a:graphicData uri="http://schemas.openxmlformats.org/drawingml/2006/table">
            <a:tbl>
              <a:tblPr/>
              <a:tblGrid>
                <a:gridCol w="2448000"/>
                <a:gridCol w="2449440"/>
                <a:gridCol w="244800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发展阶段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投资流入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投资流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第一阶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所有权优势显著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内部化优势显著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区位劣势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所有权劣势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内部化优势不适应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区位优势不适应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第二阶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所有权优势显著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内部化优势可能下降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区位优势上升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所有权优势较少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内部化优势劣势和专业化程度低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区位优势开始出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2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第三阶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所有权优势下降和更专业化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内部化优势可能上升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区位优势下降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所有权优势上升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内部化优势仍受限制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区位优势上升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第四阶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外国所有权优势下降和更专业化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本国所有权优势上升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J.H.Dunning, International Production and the Multinational Enterprises,George Allen and Vnwin, LTD. 1981,p.11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6666"/>
                </a:solidFill>
                <a:latin typeface="Arial"/>
              </a:rPr>
              <a:t>发达国家跨国公司对外直接投资理论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垄断优势理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或特定优势理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rm-specific Advantag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提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1960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年美国经济学家海默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在博士论文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一国企业的国际经营：对外直接投资研究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》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中首先提出垄断优势论，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70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年代中期金德尔伯格修正发展成为跨国公司理论的基础，开国际直接投资理论研究先河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主要内容：市场的不完全竞争是跨国公司进行国际直接投资的根本原因，而跨国公司的垄断与寡占优势是对外直接投资的条件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市场不完全性的表现： 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产品和要素市场的不完全竞争性；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由规模经济引起的市场不完全，垄断存在；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政府干预导致的市场不完全；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由关税引起的市场不完全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垄断优势的表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 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技术优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 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先进的管理经验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 (3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雄厚的资金实力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(4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相对全面且灵通的信息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(5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规模经济优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(6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全球性的销售网络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垄断优势理论的发展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H.G.Johnson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垄断优势来源于对知识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技术、管理、销售技能）资产的控制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R.E.Caves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从产品差异性（同其他生产者的差异）的角度加以补充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3)F.T.Knickerbocker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从寡占反应论的角度加以补充。他把对外直接投资分两类：其一，进攻性投资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外建立第一家子公司的投资，由产品生命周期引起；其二，防御性投资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同行业的其他跟进在同一地点的投资，由寡占反应引起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2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产品生命周期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理论的提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1965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哈佛大学教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.Vernon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&lt;International Investment and International Trade in the Product Cycle,Quarterly Journal of Economics,Vol.80,1965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文中运用动态方法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从贸易与投资结合的角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提出产品生命周期理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Product-cycle Hypothesis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理论内容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Line 4"/>
          <p:cNvSpPr/>
          <p:nvPr/>
        </p:nvSpPr>
        <p:spPr>
          <a:xfrm flipV="1">
            <a:off x="2411280" y="4005000"/>
            <a:ext cx="0" cy="863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2411280" y="4869000"/>
            <a:ext cx="39610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 flipV="1">
            <a:off x="2411280" y="508464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2411280" y="6308640"/>
            <a:ext cx="39610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>
            <a:off x="3419640" y="3933720"/>
            <a:ext cx="0" cy="935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3419640" y="5157720"/>
            <a:ext cx="0" cy="1150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10"/>
          <p:cNvSpPr/>
          <p:nvPr/>
        </p:nvSpPr>
        <p:spPr>
          <a:xfrm>
            <a:off x="4859280" y="3860640"/>
            <a:ext cx="0" cy="1081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>
            <a:off x="4859280" y="5229360"/>
            <a:ext cx="0" cy="1079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Freeform 13"/>
          <p:cNvSpPr/>
          <p:nvPr/>
        </p:nvSpPr>
        <p:spPr>
          <a:xfrm>
            <a:off x="3859200" y="5237280"/>
            <a:ext cx="2138400" cy="1106280"/>
          </a:xfrm>
          <a:custGeom>
            <a:avLst/>
            <a:gdLst>
              <a:gd name="textAreaLeft" fmla="*/ 0 w 2138400"/>
              <a:gd name="textAreaRight" fmla="*/ 2138760 w 2138400"/>
              <a:gd name="textAreaTop" fmla="*/ 0 h 1106280"/>
              <a:gd name="textAreaBottom" fmla="*/ 1106640 h 1106280"/>
            </a:gdLst>
            <a:ahLst/>
            <a:rect l="textAreaLeft" t="textAreaTop" r="textAreaRight" b="textAreaBottom"/>
            <a:pathLst>
              <a:path w="1347" h="697">
                <a:moveTo>
                  <a:pt x="0" y="666"/>
                </a:moveTo>
                <a:cubicBezTo>
                  <a:pt x="77" y="678"/>
                  <a:pt x="170" y="697"/>
                  <a:pt x="240" y="658"/>
                </a:cubicBezTo>
                <a:cubicBezTo>
                  <a:pt x="273" y="639"/>
                  <a:pt x="294" y="617"/>
                  <a:pt x="329" y="606"/>
                </a:cubicBezTo>
                <a:cubicBezTo>
                  <a:pt x="384" y="569"/>
                  <a:pt x="444" y="536"/>
                  <a:pt x="509" y="524"/>
                </a:cubicBezTo>
                <a:cubicBezTo>
                  <a:pt x="545" y="506"/>
                  <a:pt x="584" y="502"/>
                  <a:pt x="621" y="486"/>
                </a:cubicBezTo>
                <a:cubicBezTo>
                  <a:pt x="655" y="471"/>
                  <a:pt x="684" y="436"/>
                  <a:pt x="718" y="426"/>
                </a:cubicBezTo>
                <a:cubicBezTo>
                  <a:pt x="774" y="409"/>
                  <a:pt x="825" y="385"/>
                  <a:pt x="883" y="374"/>
                </a:cubicBezTo>
                <a:cubicBezTo>
                  <a:pt x="918" y="350"/>
                  <a:pt x="963" y="345"/>
                  <a:pt x="1003" y="329"/>
                </a:cubicBezTo>
                <a:cubicBezTo>
                  <a:pt x="1045" y="312"/>
                  <a:pt x="1086" y="290"/>
                  <a:pt x="1130" y="277"/>
                </a:cubicBezTo>
                <a:cubicBezTo>
                  <a:pt x="1137" y="272"/>
                  <a:pt x="1144" y="266"/>
                  <a:pt x="1152" y="262"/>
                </a:cubicBezTo>
                <a:cubicBezTo>
                  <a:pt x="1159" y="258"/>
                  <a:pt x="1168" y="258"/>
                  <a:pt x="1175" y="254"/>
                </a:cubicBezTo>
                <a:cubicBezTo>
                  <a:pt x="1193" y="243"/>
                  <a:pt x="1227" y="217"/>
                  <a:pt x="1227" y="217"/>
                </a:cubicBezTo>
                <a:cubicBezTo>
                  <a:pt x="1242" y="167"/>
                  <a:pt x="1221" y="219"/>
                  <a:pt x="1257" y="179"/>
                </a:cubicBezTo>
                <a:cubicBezTo>
                  <a:pt x="1286" y="147"/>
                  <a:pt x="1290" y="120"/>
                  <a:pt x="1324" y="97"/>
                </a:cubicBezTo>
                <a:cubicBezTo>
                  <a:pt x="1336" y="64"/>
                  <a:pt x="1347" y="35"/>
                  <a:pt x="1347" y="0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Freeform 15"/>
          <p:cNvSpPr/>
          <p:nvPr/>
        </p:nvSpPr>
        <p:spPr>
          <a:xfrm>
            <a:off x="2494080" y="5337000"/>
            <a:ext cx="3941640" cy="957600"/>
          </a:xfrm>
          <a:custGeom>
            <a:avLst/>
            <a:gdLst>
              <a:gd name="textAreaLeft" fmla="*/ 0 w 3941640"/>
              <a:gd name="textAreaRight" fmla="*/ 3942000 w 3941640"/>
              <a:gd name="textAreaTop" fmla="*/ 0 h 957600"/>
              <a:gd name="textAreaBottom" fmla="*/ 957960 h 957600"/>
            </a:gdLst>
            <a:ahLst/>
            <a:rect l="textAreaLeft" t="textAreaTop" r="textAreaRight" b="textAreaBottom"/>
            <a:pathLst>
              <a:path w="2483" h="603">
                <a:moveTo>
                  <a:pt x="0" y="603"/>
                </a:moveTo>
                <a:cubicBezTo>
                  <a:pt x="5" y="595"/>
                  <a:pt x="9" y="587"/>
                  <a:pt x="15" y="580"/>
                </a:cubicBezTo>
                <a:cubicBezTo>
                  <a:pt x="21" y="574"/>
                  <a:pt x="31" y="572"/>
                  <a:pt x="37" y="565"/>
                </a:cubicBezTo>
                <a:cubicBezTo>
                  <a:pt x="51" y="549"/>
                  <a:pt x="76" y="490"/>
                  <a:pt x="97" y="476"/>
                </a:cubicBezTo>
                <a:cubicBezTo>
                  <a:pt x="122" y="460"/>
                  <a:pt x="140" y="440"/>
                  <a:pt x="164" y="423"/>
                </a:cubicBezTo>
                <a:cubicBezTo>
                  <a:pt x="212" y="353"/>
                  <a:pt x="327" y="288"/>
                  <a:pt x="411" y="266"/>
                </a:cubicBezTo>
                <a:cubicBezTo>
                  <a:pt x="463" y="232"/>
                  <a:pt x="439" y="241"/>
                  <a:pt x="479" y="229"/>
                </a:cubicBezTo>
                <a:cubicBezTo>
                  <a:pt x="506" y="211"/>
                  <a:pt x="530" y="206"/>
                  <a:pt x="561" y="199"/>
                </a:cubicBezTo>
                <a:cubicBezTo>
                  <a:pt x="588" y="185"/>
                  <a:pt x="614" y="178"/>
                  <a:pt x="643" y="169"/>
                </a:cubicBezTo>
                <a:cubicBezTo>
                  <a:pt x="706" y="128"/>
                  <a:pt x="841" y="141"/>
                  <a:pt x="898" y="139"/>
                </a:cubicBezTo>
                <a:cubicBezTo>
                  <a:pt x="1400" y="0"/>
                  <a:pt x="1940" y="129"/>
                  <a:pt x="2461" y="124"/>
                </a:cubicBezTo>
                <a:cubicBezTo>
                  <a:pt x="2469" y="124"/>
                  <a:pt x="2483" y="116"/>
                  <a:pt x="2483" y="116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5651640" y="4149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Freeform 22"/>
          <p:cNvSpPr/>
          <p:nvPr/>
        </p:nvSpPr>
        <p:spPr>
          <a:xfrm>
            <a:off x="2422440" y="3787920"/>
            <a:ext cx="3919680" cy="1081080"/>
          </a:xfrm>
          <a:custGeom>
            <a:avLst/>
            <a:gdLst>
              <a:gd name="textAreaLeft" fmla="*/ 0 w 3919680"/>
              <a:gd name="textAreaRight" fmla="*/ 3920040 w 3919680"/>
              <a:gd name="textAreaTop" fmla="*/ 0 h 1081080"/>
              <a:gd name="textAreaBottom" fmla="*/ 1081080 h 1081080"/>
            </a:gdLst>
            <a:ahLst/>
            <a:rect l="textAreaLeft" t="textAreaTop" r="textAreaRight" b="textAreaBottom"/>
            <a:pathLst>
              <a:path w="2469" h="681">
                <a:moveTo>
                  <a:pt x="0" y="681"/>
                </a:moveTo>
                <a:cubicBezTo>
                  <a:pt x="15" y="641"/>
                  <a:pt x="39" y="630"/>
                  <a:pt x="75" y="606"/>
                </a:cubicBezTo>
                <a:cubicBezTo>
                  <a:pt x="91" y="595"/>
                  <a:pt x="104" y="580"/>
                  <a:pt x="120" y="569"/>
                </a:cubicBezTo>
                <a:cubicBezTo>
                  <a:pt x="176" y="531"/>
                  <a:pt x="263" y="504"/>
                  <a:pt x="329" y="494"/>
                </a:cubicBezTo>
                <a:cubicBezTo>
                  <a:pt x="408" y="463"/>
                  <a:pt x="489" y="438"/>
                  <a:pt x="569" y="412"/>
                </a:cubicBezTo>
                <a:cubicBezTo>
                  <a:pt x="605" y="400"/>
                  <a:pt x="629" y="389"/>
                  <a:pt x="666" y="382"/>
                </a:cubicBezTo>
                <a:cubicBezTo>
                  <a:pt x="697" y="370"/>
                  <a:pt x="724" y="359"/>
                  <a:pt x="756" y="352"/>
                </a:cubicBezTo>
                <a:cubicBezTo>
                  <a:pt x="802" y="321"/>
                  <a:pt x="750" y="351"/>
                  <a:pt x="830" y="329"/>
                </a:cubicBezTo>
                <a:cubicBezTo>
                  <a:pt x="872" y="317"/>
                  <a:pt x="906" y="293"/>
                  <a:pt x="950" y="285"/>
                </a:cubicBezTo>
                <a:cubicBezTo>
                  <a:pt x="1078" y="233"/>
                  <a:pt x="1217" y="206"/>
                  <a:pt x="1347" y="157"/>
                </a:cubicBezTo>
                <a:cubicBezTo>
                  <a:pt x="1449" y="119"/>
                  <a:pt x="1539" y="81"/>
                  <a:pt x="1646" y="60"/>
                </a:cubicBezTo>
                <a:cubicBezTo>
                  <a:pt x="1716" y="31"/>
                  <a:pt x="1788" y="8"/>
                  <a:pt x="1863" y="0"/>
                </a:cubicBezTo>
                <a:cubicBezTo>
                  <a:pt x="2082" y="4"/>
                  <a:pt x="2197" y="6"/>
                  <a:pt x="2379" y="30"/>
                </a:cubicBezTo>
                <a:cubicBezTo>
                  <a:pt x="2407" y="40"/>
                  <a:pt x="2439" y="53"/>
                  <a:pt x="2469" y="53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Freeform 24"/>
          <p:cNvSpPr/>
          <p:nvPr/>
        </p:nvSpPr>
        <p:spPr>
          <a:xfrm>
            <a:off x="5803920" y="3824280"/>
            <a:ext cx="195120" cy="2560680"/>
          </a:xfrm>
          <a:custGeom>
            <a:avLst/>
            <a:gdLst>
              <a:gd name="textAreaLeft" fmla="*/ 0 w 195120"/>
              <a:gd name="textAreaRight" fmla="*/ 195480 w 195120"/>
              <a:gd name="textAreaTop" fmla="*/ 0 h 2560680"/>
              <a:gd name="textAreaBottom" fmla="*/ 2561040 h 2560680"/>
            </a:gdLst>
            <a:ahLst/>
            <a:rect l="textAreaLeft" t="textAreaTop" r="textAreaRight" b="textAreaBottom"/>
            <a:pathLst>
              <a:path w="123" h="1613">
                <a:moveTo>
                  <a:pt x="32" y="0"/>
                </a:moveTo>
                <a:cubicBezTo>
                  <a:pt x="41" y="29"/>
                  <a:pt x="49" y="45"/>
                  <a:pt x="39" y="75"/>
                </a:cubicBezTo>
                <a:cubicBezTo>
                  <a:pt x="74" y="301"/>
                  <a:pt x="60" y="576"/>
                  <a:pt x="17" y="808"/>
                </a:cubicBezTo>
                <a:cubicBezTo>
                  <a:pt x="13" y="938"/>
                  <a:pt x="0" y="1067"/>
                  <a:pt x="2" y="1197"/>
                </a:cubicBezTo>
                <a:cubicBezTo>
                  <a:pt x="8" y="1557"/>
                  <a:pt x="123" y="1613"/>
                  <a:pt x="2" y="1548"/>
                </a:cubicBezTo>
              </a:path>
            </a:pathLst>
          </a:custGeom>
          <a:noFill/>
          <a:ln cap="rnd" w="9360">
            <a:solidFill>
              <a:srgbClr val="003366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Freeform 25"/>
          <p:cNvSpPr/>
          <p:nvPr/>
        </p:nvSpPr>
        <p:spPr>
          <a:xfrm>
            <a:off x="2422440" y="3538440"/>
            <a:ext cx="3657600" cy="133056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1330560"/>
              <a:gd name="textAreaBottom" fmla="*/ 1330560 h 1330560"/>
            </a:gdLst>
            <a:ahLst/>
            <a:rect l="textAreaLeft" t="textAreaTop" r="textAreaRight" b="textAreaBottom"/>
            <a:pathLst>
              <a:path w="2304" h="838">
                <a:moveTo>
                  <a:pt x="0" y="838"/>
                </a:moveTo>
                <a:cubicBezTo>
                  <a:pt x="135" y="836"/>
                  <a:pt x="269" y="836"/>
                  <a:pt x="404" y="831"/>
                </a:cubicBezTo>
                <a:cubicBezTo>
                  <a:pt x="430" y="830"/>
                  <a:pt x="459" y="810"/>
                  <a:pt x="486" y="808"/>
                </a:cubicBezTo>
                <a:cubicBezTo>
                  <a:pt x="531" y="804"/>
                  <a:pt x="576" y="803"/>
                  <a:pt x="621" y="801"/>
                </a:cubicBezTo>
                <a:cubicBezTo>
                  <a:pt x="686" y="784"/>
                  <a:pt x="756" y="778"/>
                  <a:pt x="823" y="771"/>
                </a:cubicBezTo>
                <a:cubicBezTo>
                  <a:pt x="898" y="744"/>
                  <a:pt x="984" y="729"/>
                  <a:pt x="1062" y="711"/>
                </a:cubicBezTo>
                <a:cubicBezTo>
                  <a:pt x="1135" y="675"/>
                  <a:pt x="1216" y="651"/>
                  <a:pt x="1294" y="629"/>
                </a:cubicBezTo>
                <a:cubicBezTo>
                  <a:pt x="1323" y="621"/>
                  <a:pt x="1347" y="606"/>
                  <a:pt x="1376" y="599"/>
                </a:cubicBezTo>
                <a:cubicBezTo>
                  <a:pt x="1449" y="550"/>
                  <a:pt x="1534" y="516"/>
                  <a:pt x="1616" y="486"/>
                </a:cubicBezTo>
                <a:cubicBezTo>
                  <a:pt x="1652" y="473"/>
                  <a:pt x="1638" y="486"/>
                  <a:pt x="1668" y="471"/>
                </a:cubicBezTo>
                <a:cubicBezTo>
                  <a:pt x="1733" y="439"/>
                  <a:pt x="1794" y="418"/>
                  <a:pt x="1863" y="397"/>
                </a:cubicBezTo>
                <a:cubicBezTo>
                  <a:pt x="1930" y="351"/>
                  <a:pt x="2007" y="362"/>
                  <a:pt x="2080" y="314"/>
                </a:cubicBezTo>
                <a:cubicBezTo>
                  <a:pt x="2115" y="262"/>
                  <a:pt x="2095" y="279"/>
                  <a:pt x="2132" y="255"/>
                </a:cubicBezTo>
                <a:cubicBezTo>
                  <a:pt x="2148" y="201"/>
                  <a:pt x="2157" y="152"/>
                  <a:pt x="2207" y="120"/>
                </a:cubicBezTo>
                <a:cubicBezTo>
                  <a:pt x="2216" y="89"/>
                  <a:pt x="2228" y="78"/>
                  <a:pt x="2259" y="68"/>
                </a:cubicBezTo>
                <a:cubicBezTo>
                  <a:pt x="2284" y="52"/>
                  <a:pt x="2304" y="33"/>
                  <a:pt x="2304" y="0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---Vernon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对产品生命周期模型的修正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:PCM‖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-----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产品生命周期模型的不足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弗农认为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厂商一旦取得新产品、新工艺为载体的”特定优势“，便开始进入生命周期：本国生产阶段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产品成熟阶段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直接投资阶段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</a:rPr>
              <a:t>海外投资阶段。然而，不足：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无法解释发达国家间横向投资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无法解释创新技术的同步转移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颁发许可证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多极化市场下“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ollow-me Hypothesis”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不再具有严格的说服力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很难严格呈现出口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直接投资的交替进程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-----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对产品生命周期模型的修正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:PCM‖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）第一阶段多国厂商”创新垄断优势“共存；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）在周期的后两个阶段，来自各国的厂商相互共存，竞争主要发生在创新阶段；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）直接投资的目标从东道国目标市场转向全球市场，区位选择具有全球性；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）厂商更重视投入产出稳定性和资产的流动性，因此产业内贸易与产业内投资（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Intra-industrial investment)</a:t>
            </a: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上升，这是纵向直接投资的主要原因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3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小岛清比较优势投资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-----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提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20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70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年代日本一桥大学教授小岛清根据比较优势理论和日本对外投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中小企业投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现实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提出比较优势投资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The Theory of Comparative Advantage to investment)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也称边际产业扩张论或边际比较优势理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-----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模型与主要内容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4"/>
          <p:cNvSpPr/>
          <p:nvPr/>
        </p:nvSpPr>
        <p:spPr>
          <a:xfrm>
            <a:off x="2700360" y="4365720"/>
            <a:ext cx="4176720" cy="1368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5"/>
          <p:cNvSpPr/>
          <p:nvPr/>
        </p:nvSpPr>
        <p:spPr>
          <a:xfrm flipV="1">
            <a:off x="2627280" y="4076280"/>
            <a:ext cx="3960720" cy="2016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6709320" y="386712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2460960" y="588312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2439720" y="40831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︱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6975360" y="5594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︱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Line 10"/>
          <p:cNvSpPr/>
          <p:nvPr/>
        </p:nvSpPr>
        <p:spPr>
          <a:xfrm flipV="1">
            <a:off x="2987640" y="4365720"/>
            <a:ext cx="71640" cy="71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3348000" y="4436640"/>
            <a:ext cx="144360" cy="144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 flipV="1">
            <a:off x="3851280" y="4581000"/>
            <a:ext cx="144360" cy="142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 flipV="1">
            <a:off x="5435640" y="5157360"/>
            <a:ext cx="144360" cy="71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 flipV="1">
            <a:off x="5940360" y="5300280"/>
            <a:ext cx="216000" cy="144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Line 15"/>
          <p:cNvSpPr/>
          <p:nvPr/>
        </p:nvSpPr>
        <p:spPr>
          <a:xfrm flipV="1">
            <a:off x="6588000" y="5516280"/>
            <a:ext cx="144720" cy="144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2968920" y="4097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3545280" y="416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3976560" y="4313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Text Box 20"/>
          <p:cNvSpPr/>
          <p:nvPr/>
        </p:nvSpPr>
        <p:spPr>
          <a:xfrm>
            <a:off x="5560920" y="488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6281640" y="5032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6786360" y="5248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Line 23"/>
          <p:cNvSpPr/>
          <p:nvPr/>
        </p:nvSpPr>
        <p:spPr>
          <a:xfrm flipV="1">
            <a:off x="2987640" y="5733720"/>
            <a:ext cx="0" cy="142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Line 24"/>
          <p:cNvSpPr/>
          <p:nvPr/>
        </p:nvSpPr>
        <p:spPr>
          <a:xfrm flipV="1">
            <a:off x="3635280" y="5373720"/>
            <a:ext cx="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Line 25"/>
          <p:cNvSpPr/>
          <p:nvPr/>
        </p:nvSpPr>
        <p:spPr>
          <a:xfrm flipH="1" flipV="1">
            <a:off x="4066920" y="5084640"/>
            <a:ext cx="7308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Line 26"/>
          <p:cNvSpPr/>
          <p:nvPr/>
        </p:nvSpPr>
        <p:spPr>
          <a:xfrm flipV="1">
            <a:off x="5435640" y="4437000"/>
            <a:ext cx="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Line 27"/>
          <p:cNvSpPr/>
          <p:nvPr/>
        </p:nvSpPr>
        <p:spPr>
          <a:xfrm flipV="1">
            <a:off x="5867280" y="4292280"/>
            <a:ext cx="0" cy="144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Line 28"/>
          <p:cNvSpPr/>
          <p:nvPr/>
        </p:nvSpPr>
        <p:spPr>
          <a:xfrm flipH="1" flipV="1">
            <a:off x="6300360" y="3933720"/>
            <a:ext cx="7164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Text Box 29"/>
          <p:cNvSpPr/>
          <p:nvPr/>
        </p:nvSpPr>
        <p:spPr>
          <a:xfrm>
            <a:off x="2863440" y="5392800"/>
            <a:ext cx="16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’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0.8US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Text Box 30"/>
          <p:cNvSpPr/>
          <p:nvPr/>
        </p:nvSpPr>
        <p:spPr>
          <a:xfrm>
            <a:off x="3473640" y="50324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Text Box 31"/>
          <p:cNvSpPr/>
          <p:nvPr/>
        </p:nvSpPr>
        <p:spPr>
          <a:xfrm>
            <a:off x="3977280" y="481644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ext Box 32"/>
          <p:cNvSpPr/>
          <p:nvPr/>
        </p:nvSpPr>
        <p:spPr>
          <a:xfrm>
            <a:off x="5202360" y="41688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 Box 33"/>
          <p:cNvSpPr/>
          <p:nvPr/>
        </p:nvSpPr>
        <p:spPr>
          <a:xfrm>
            <a:off x="5705640" y="39528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Text Box 34"/>
          <p:cNvSpPr/>
          <p:nvPr/>
        </p:nvSpPr>
        <p:spPr>
          <a:xfrm>
            <a:off x="6319080" y="3592440"/>
            <a:ext cx="14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Z’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US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35"/>
          <p:cNvSpPr/>
          <p:nvPr/>
        </p:nvSpPr>
        <p:spPr>
          <a:xfrm>
            <a:off x="4917600" y="4673520"/>
            <a:ext cx="29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成本比率相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100JPY=1US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Text Box 36"/>
          <p:cNvSpPr/>
          <p:nvPr/>
        </p:nvSpPr>
        <p:spPr>
          <a:xfrm>
            <a:off x="7221600" y="5537160"/>
            <a:ext cx="18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a-z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成本均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0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日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Line 37"/>
          <p:cNvSpPr/>
          <p:nvPr/>
        </p:nvSpPr>
        <p:spPr>
          <a:xfrm flipV="1">
            <a:off x="1763640" y="4292280"/>
            <a:ext cx="0" cy="1873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38"/>
          <p:cNvSpPr/>
          <p:nvPr/>
        </p:nvSpPr>
        <p:spPr>
          <a:xfrm>
            <a:off x="1744920" y="46735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PY:US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Line 39"/>
          <p:cNvSpPr/>
          <p:nvPr/>
        </p:nvSpPr>
        <p:spPr>
          <a:xfrm flipV="1">
            <a:off x="2411280" y="3716280"/>
            <a:ext cx="3529080" cy="1657440"/>
          </a:xfrm>
          <a:prstGeom prst="line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图中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︱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︱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线是日本的商品成本曲线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所有商品成本均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00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日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 ‖- ‖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线是东道国商品成本曲线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由低到高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,M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商品成本比率相等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100JPY=1USD)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当美圆汇率上涨时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‖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线会整体向左上方移动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日本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\b\c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产业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被成为边际产业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向东道国进行直接投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可以使在东道国生产的成本降低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’\B’\C’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本国进口这些产品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从而创造和扩大了贸易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日本的对外直接投资就是这种顺贸易导向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Pro-trade oriented or Trade-creating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如果从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x,y,z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具有绝对优势的产业开始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就是逆比较优势进行的对外直接投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美国式的投资就是这种逆贸易导向的投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成本虽低于东道国成本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但高于本国成本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结果是用在国外生产替代本国的出口贸易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并没有达到节约成本目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4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内部化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理论的提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20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70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年代中期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巴克利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、卡森（）、拉格曼（）等提出内部化理论（）。基于跨国公司内部贸易增长的现象，对国际直接投资动机决定因素的解释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主要内容：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内部化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市场建立在公司内部的过程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以内部市场取代原来的外部市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克服外部市场的不完全性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通过转移价格机制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降低交易成本和交易风险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前提条件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外部市场的不完全性导致的市场失败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交易成本增加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如信息扩散会使所有者失去垄断优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内部化的交易成本及其影响因素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内部化的交易成本是指企业克服外部市场的交易障碍所付出的代价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影响因素主要有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 (1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行业因素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产品特性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规模经济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;(2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别因素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东道国的政治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法律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政策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;(3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地区因素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地理位置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文化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;(3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企业因素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组织结构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控制协调能力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市场内部化的动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以知识产品为例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知识产品具有”共享性”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容易被模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使投入巨大的所有者丧失垄断优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形成内部市场体系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可以保持优势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最大限度地实现增殖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内部化的实现条件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内部市场交易成本小于外部市场交易成本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5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国际生产折中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理论的提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英国经济学家邓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John Dunning)2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7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对各种跨国公司理论比较、综合，形成了国际生产的折中理论，详见于他的代表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贸易、经济活动的区位与多国企业：折中理论探索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和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生产与跨国企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8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理论产生的背景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理论发展的背景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后，国际直接投资理论有了不同方向的发展，主要有产业组织理论（海默的垄断优势理论、金德尔伯格）、动态分析（弗农的周期理论）、区位选择理论（戈登、巴克利、卡森）、基于厂商理论强调内部化（巴克利、卡森）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国际直接投资格局变化。表现：主体多元化、部门分散化、投资流向多样化（纵向、横向、逆向）、形式多样化（独资、合资、合作）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1.5</a:t>
            </a:r>
            <a:r>
              <a:rPr b="1" lang="zh-CN" sz="1400" spc="-1" strike="noStrike">
                <a:solidFill>
                  <a:srgbClr val="006666"/>
                </a:solidFill>
                <a:latin typeface="Arial"/>
              </a:rPr>
              <a:t>续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理论的主要内容：三个核心优势共同决定了对外直接投资优势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所有权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或厂商优势、竞争优势、垄断优势）。一国企业拥有或获得其他企业所没有或无法获得的资产及其所有权。包括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技术优势；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企业规模优势；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组织管理优势；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金融优势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内部化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优势的内部化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按照共同战略目标配置技术资源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克服市场不完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结构性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知识性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充分发挥垄断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区位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东道国的要素禀赋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包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直接区位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东道国某些有利条件形成的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广阔的市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政策优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低廉的要素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充裕的原材料和投入品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间接区位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相对于母国的区位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商品出口运费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贸易保护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投资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所有权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内部化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内部化优势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5:09:26Z</dcterms:created>
  <dc:creator>YPL</dc:creator>
  <dc:description/>
  <dc:language>en-US</dc:language>
  <cp:lastModifiedBy>Administrator</cp:lastModifiedBy>
  <dcterms:modified xsi:type="dcterms:W3CDTF">2020-12-30T07:27:13Z</dcterms:modified>
  <cp:revision>46</cp:revision>
  <dc:subject/>
  <dc:title>跨国公司专题(3):理论综述</dc:title>
</cp:coreProperties>
</file>