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CAMERA.WAV" ContentType="audio/x-wav"/>
  <Override PartName="/ppt/media/image3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42.jpeg" ContentType="image/jpeg"/>
  <Override PartName="/ppt/media/image51.png" ContentType="image/png"/>
  <Override PartName="/ppt/media/image40.jpeg" ContentType="image/jpeg"/>
  <Override PartName="/ppt/media/image44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37.jpeg" ContentType="image/jpeg"/>
  <Override PartName="/ppt/media/image45.jpeg" ContentType="image/jpeg"/>
  <Override PartName="/ppt/media/image55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53.png" ContentType="image/png"/>
  <Override PartName="/ppt/media/image56.png" ContentType="image/png"/>
  <Override PartName="/ppt/media/image31.png" ContentType="image/png"/>
  <Override PartName="/ppt/media/image29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ABB-E20B-4740-8D27-05DEAE83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F41-DD1D-4AAD-95CE-AC54271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5425-8AD7-40C8-9B69-023B57F6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6141D-BDB7-40F0-B813-A91CE827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1DCF1-5675-4407-A220-1B741CA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BAFF0-22D1-4EFE-AB3A-7BB5985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9669-E0C1-4290-B55B-13F7616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8C40-DC9D-4E01-BAE9-548B4C7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43F1F-CF2D-4C8E-9353-076D3CD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256E8-9342-49BF-8A95-964A8C19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DD331-39C0-422F-B00B-15750EF1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D8C19-E1DA-481F-8E57-1CDDB9E7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BC5-4AF1-4DFF-AA05-F43B0310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8764D-7AB5-487C-B0A8-D452DEF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D7875-E27C-4EDA-B61E-E67BDD92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1CD75-5F49-41E8-ABC7-35118BF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037D3-8A45-422C-9230-78B5992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5F37-30E8-45DD-B310-BC8CAEC2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4DFEF-C9C0-4AAA-9526-2F93D7E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20A20-9D5E-46D4-B2E9-4AEFFB3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7FBCF-6789-49BA-A46E-6F1C74D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48167-2795-4C77-801F-A154D4F6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CB28-33A8-4C1B-952A-79712E1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186-99E6-46DA-9388-575632D0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F6E56-F6E2-40E6-A1E3-DD3E3E05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5C6AD-3B88-4C7A-A5F3-680A0CC8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65BEC-733E-40FE-81CC-B3F9DFCB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38872-28CF-4BE0-B138-A26A750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8A496-4E56-4D59-9F3A-EFBA6BE9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8CA7E-1F8E-4C16-B170-D902402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3A0CA-07F9-43D2-99C1-5CFD579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40933-7A66-4AC1-B7CB-095B5F1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7B1F-3338-4EC8-B210-A99ACE6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A2548-64E3-4A12-8718-0820352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0BF-98C2-4067-9243-0ABEA739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6657C-1E1A-456A-97EC-1C0FAF6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1628-DE8E-4CD2-AF31-AD7A6B2F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3965C-4A09-445D-AACC-4BB4425C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B2578-46BF-420D-AE0E-51C14C59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9CB82-D325-45ED-A3B9-01E5D53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E8F02-BBDC-4D85-82E2-61F2C18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869AE-F87E-479D-9916-01928AB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7CEC-B935-4F95-9B33-340BCEFE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441E3-C1AD-4824-B2F8-477CFA9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7CEAF-D7E9-47C2-867A-8C98A5C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A016-BDB4-41B1-A43A-F0B8A2D3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AECF1-29CA-4D6C-8BE7-3962AF8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AC8BA-45F5-48C7-AC9A-9A0A501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A0431-D687-4C58-BA6E-D601BD8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7A24C-DD74-4A15-92A2-0F579950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59082-3418-4703-B831-2165307E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08738-A136-49BE-90F6-27193CE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3125E-F5A3-4EC0-B186-51A2653C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7D008-AFA0-4181-AC55-EE2E0297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80212-CACD-4CDD-85FC-DBB0C383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62648-5C58-4F0B-905D-39AA378C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F2B-1CEA-41E7-B1AF-A12D428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3D239-F6E2-4583-91FC-0B7F7BFD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E92E3-544E-48E3-8A1A-E5DC760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C50FC-7C32-4690-81FC-061AD09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8FB3E-87B5-4F1B-A5A9-6CB0BE8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3B0DD-86AD-4EAE-91E4-5339F45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16FD7-02FD-48A7-A70B-8DC6E1D6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DDE77-2721-4ECD-8B50-ACF43015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75CB4-85CA-4F18-B618-3FD9F776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E2AEB-3C7A-4E62-A6C8-BD3A3FCD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52767-CD75-4170-A168-7C659465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8120-62F2-4085-BA45-678A2CB5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0B19F-9C78-41F8-8DBE-2541B7D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AF429-3A4F-46DD-841D-F7DEFA2C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875A7-45B2-4127-9341-9BA2DD3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7746C-1AF6-4AA2-93DB-E6A3B95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54C7F-4E7A-4787-9DC1-018A07F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D0E7C-2369-461D-948A-47C5A1B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8F61E-8FF2-4C13-A2C3-6A6FB7B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A19B6-7824-4FE2-89D5-C63BEC5D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CAF4A-3C5E-4BAA-82F6-C020950D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4D6C3-9CEC-4A6D-92CF-A9DA6699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98A4-01DE-4AAD-8C5C-9963C913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66656-0B2D-4FB4-B4E1-2B5472D5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68A98-0E8F-4418-B30B-EE6D9E3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36C77-1485-4678-9EAF-9CA8A04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0918B-4B88-4943-B42C-D3A521D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0368F-AE6F-4B56-A0CC-486A10C6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BBC7D-E6F3-438E-8A7F-645298B8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1515A-0795-4D6F-857F-2B76669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A3A31-B83A-4100-8065-D84CD5C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192DB-4203-4291-B583-23CD880E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F84FB-9C63-45BD-91E5-59D87563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500-579A-442A-86A7-26A8B04C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3A869-0CA2-4B7D-9724-E7F9A62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1E414-B5FD-4789-95B2-9AF9CEF4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C64D6-A509-4BE7-84F6-5AFF4D8D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AD5B3-2308-443F-A2AA-5EE58751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DBD54-E559-4D92-96FA-482358F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2DF56-831C-42C1-91E8-9A9EA8E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F92E7-3B9B-466C-8497-FE2715A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A137B-1502-4433-AC37-17A9CD6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00C61-41FF-4724-A651-2F8EBEC9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21F1C-A1C8-449C-8398-F776586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C61-C770-4E39-82BD-67DD132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FE566-5FB3-458C-B295-4B17967D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F2857-06C7-4CA3-9252-1C7575B0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A92AB-E419-4CD8-82D6-6E267FBE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B9F-2DA4-4569-A615-61D3DA3E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1B7-E184-428C-AB70-D154436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214-DE65-4DB3-B76B-1063109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E35D-85C8-468A-AD41-D39FEE1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EB9-DF42-472C-B149-EC94AB28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E0E0-5407-4B05-ADB7-03AA936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2AA9-ED4E-4A61-97A1-B06573C2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176C-9328-4003-982E-3135C93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28CA-62F9-4FD9-A41E-E5A46CAD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F04B-445F-4C9E-B427-DA3057F6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DFB2-11B8-4666-B335-7CB42762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197-03C1-4DA9-8047-F6910A1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BCF3-72FB-4C52-83FB-9C849C1F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7C1A-BC3F-4614-9BD5-CAD4329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AB2C-E462-4B13-8321-6671581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D0DD-16BD-4824-8B5E-32F1603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CBCB-30E6-4AA9-8391-CF9B7592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9A6D-961A-4A9F-97A3-E936815A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0676-7022-4771-8C67-13B9B96E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18E3C-19C6-4DA3-AC2B-2C4876E7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0E82-B84B-42DC-AF6E-F265A2D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60B2-B803-41BC-938B-3E841D6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695-3F12-4745-A83C-3AEE3141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01DE-9BD0-4D0D-833D-348BD53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5229-FCCC-4680-B066-67E433D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45F4-8BAD-4FC3-B808-DE70521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B41C-2717-412C-8F0B-DB69130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BCF2-4F19-45C4-B2C7-1D40A2B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7271-F182-4F3D-ADF4-3BDADC8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DEC2-4E9C-4459-83EB-A2786F9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E2C5-BA94-46F5-9695-5BD52DF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E772-5C44-4BD2-8729-00368B3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E9A0-43DA-4718-98D5-63E800D5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E62-017C-4EF1-9D02-D823A66F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59DA-E250-48D6-90E4-CD6C0D7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BA74-A3BD-4AB2-A029-BC6B66E1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086A-3C3B-468A-B55F-9DC1497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F887-5389-4E88-84E7-53E61F0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E016-8338-44FF-8AF3-BF1A413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7FFA-1729-4624-AEB1-D1B1CB3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3ECB-038C-420F-8C99-33290BE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7F6B-DE7D-4BFB-8AD7-2BE82C5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D958-91D9-4C7A-A768-1E7998E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5213-E3F5-4750-99EC-FFC16818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C5C-EF42-45B1-AEAA-240A404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5C8B-A13C-4387-8E15-11481CC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EB42-B40B-459A-B34F-F4CD6C46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308D-5B9D-4050-BCA9-E0F40756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1DF9-5FD7-4D07-910E-F59C0DD0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62E3-A015-4F5B-BCC7-BCF73EBB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0E18-0AEC-48F9-9578-4FCDFA8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79F3-E37C-4056-916F-7F1392C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5575-371E-44CC-AA4D-5F64716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3005-80AE-4992-AFF3-3305C58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05C5-031C-408F-9BD1-11132A0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712-FDCB-460E-AC97-08E9E82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E5BB7-362C-4A83-9E3B-D9B647A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E792-3FDE-4178-BC48-47FBA56A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148E-F738-4CC2-8967-7FFDAE6C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AAF3-8705-4B66-8C3E-6F19FFC5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C576-5879-460E-94DF-5B25499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9BE9-1EDE-4447-80FF-207E431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48ADF-5AD2-4B60-A399-AF94BEAC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5BC3-2B62-473E-A2DE-607D8B7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CFDE-9D14-4496-B886-DF31461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EDC86-29BC-4F57-8CD5-A6C1391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97E-3CA4-4993-8FE8-F4D0A91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47FE-128F-4AC7-99F6-17E1CEA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C26B-EB47-4504-ADC9-3E08E48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F634-4B1D-4E51-9491-CF2AD2C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95151-3DCC-4CB3-A518-5A7E721C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ED958-4D34-44C9-A092-8E2A81F1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C0AA-2F15-4C27-840B-8F4A1E55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9A9D9-5E5A-4505-82A9-DDA3387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C95E-950C-4425-8C6F-7C2C6B5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2655-008F-4092-A1BB-F8A40358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42E5-6A92-4EB2-BE2A-EA6DE398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C43-BBB6-4C1E-90EF-7114EB3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DFF3-130F-47D6-A1C6-37607B4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0FBC1-7676-4EAF-BABB-9244778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CEC19-E2E1-43F6-B49A-91846AB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AD52-5716-4DE1-A331-4FADDE1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8200E-AC7B-4987-BC81-6DC1754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DEBC-50B6-4004-A4C5-65B18EB9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D1D2-9D97-441E-8441-678396C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99921-E1C3-4C42-8882-E9613B97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932F6-48B3-4E82-928F-89536E0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88FD-7B71-44E2-BEAB-DC358DC9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A42-28E3-45E8-A1BF-063B1526C6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任意多边形 48"/>
          <p:cNvSpPr/>
          <p:nvPr/>
        </p:nvSpPr>
        <p:spPr>
          <a:xfrm>
            <a:off x="6480" y="2462040"/>
            <a:ext cx="2685960" cy="297000"/>
          </a:xfrm>
          <a:custGeom>
            <a:avLst/>
            <a:gdLst/>
            <a:ahLst/>
            <a:rect l="l" t="t" r="r" b="b"/>
            <a:pathLst>
              <a:path w="3578469" h="395654">
                <a:moveTo>
                  <a:pt x="0" y="0"/>
                </a:moveTo>
                <a:lnTo>
                  <a:pt x="1230923" y="140677"/>
                </a:lnTo>
                <a:lnTo>
                  <a:pt x="2224454" y="246185"/>
                </a:lnTo>
                <a:lnTo>
                  <a:pt x="3543300" y="386862"/>
                </a:lnTo>
                <a:lnTo>
                  <a:pt x="3543300" y="386862"/>
                </a:lnTo>
                <a:lnTo>
                  <a:pt x="3578469" y="39565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9"/>
          <p:cNvSpPr/>
          <p:nvPr/>
        </p:nvSpPr>
        <p:spPr>
          <a:xfrm>
            <a:off x="0" y="2535120"/>
            <a:ext cx="2658960" cy="219240"/>
          </a:xfrm>
          <a:custGeom>
            <a:avLst/>
            <a:gdLst/>
            <a:ahLst/>
            <a:rect l="l" t="t" r="r" b="b"/>
            <a:pathLst>
              <a:path w="3543300" h="292539">
                <a:moveTo>
                  <a:pt x="0" y="0"/>
                </a:moveTo>
                <a:cubicBezTo>
                  <a:pt x="471853" y="77665"/>
                  <a:pt x="943707" y="155331"/>
                  <a:pt x="1336430" y="202223"/>
                </a:cubicBezTo>
                <a:cubicBezTo>
                  <a:pt x="1729153" y="249115"/>
                  <a:pt x="1988526" y="266700"/>
                  <a:pt x="2356338" y="281354"/>
                </a:cubicBezTo>
                <a:cubicBezTo>
                  <a:pt x="2724150" y="296008"/>
                  <a:pt x="3133725" y="293077"/>
                  <a:pt x="3543300" y="290147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50"/>
          <p:cNvSpPr/>
          <p:nvPr/>
        </p:nvSpPr>
        <p:spPr>
          <a:xfrm>
            <a:off x="0" y="2336760"/>
            <a:ext cx="9156600" cy="1511280"/>
          </a:xfrm>
          <a:custGeom>
            <a:avLst/>
            <a:gdLst/>
            <a:ahLst/>
            <a:rect l="l" t="t" r="r" b="b"/>
            <a:pathLst>
              <a:path w="12221307" h="2013439">
                <a:moveTo>
                  <a:pt x="0" y="2013439"/>
                </a:moveTo>
                <a:lnTo>
                  <a:pt x="1907930" y="1696916"/>
                </a:lnTo>
                <a:lnTo>
                  <a:pt x="3006969" y="1521069"/>
                </a:lnTo>
                <a:lnTo>
                  <a:pt x="4246684" y="1310054"/>
                </a:lnTo>
                <a:lnTo>
                  <a:pt x="6348046" y="975946"/>
                </a:lnTo>
                <a:lnTo>
                  <a:pt x="9460523" y="483577"/>
                </a:lnTo>
                <a:lnTo>
                  <a:pt x="11517923" y="140677"/>
                </a:lnTo>
                <a:cubicBezTo>
                  <a:pt x="11978054" y="60081"/>
                  <a:pt x="12099680" y="30040"/>
                  <a:pt x="12221307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51"/>
          <p:cNvSpPr/>
          <p:nvPr/>
        </p:nvSpPr>
        <p:spPr>
          <a:xfrm>
            <a:off x="-6480" y="2192400"/>
            <a:ext cx="9164880" cy="1747800"/>
          </a:xfrm>
          <a:custGeom>
            <a:avLst/>
            <a:gdLst/>
            <a:ahLst/>
            <a:rect l="l" t="t" r="r" b="b"/>
            <a:pathLst>
              <a:path w="12212516" h="2329709">
                <a:moveTo>
                  <a:pt x="0" y="2329709"/>
                </a:moveTo>
                <a:cubicBezTo>
                  <a:pt x="392723" y="2301866"/>
                  <a:pt x="785446" y="2274024"/>
                  <a:pt x="1222131" y="2197824"/>
                </a:cubicBezTo>
                <a:cubicBezTo>
                  <a:pt x="1658816" y="2121624"/>
                  <a:pt x="2140927" y="2016117"/>
                  <a:pt x="2620108" y="1872509"/>
                </a:cubicBezTo>
                <a:cubicBezTo>
                  <a:pt x="3099289" y="1728901"/>
                  <a:pt x="4097216" y="1336178"/>
                  <a:pt x="4097216" y="1336178"/>
                </a:cubicBezTo>
                <a:cubicBezTo>
                  <a:pt x="4736124" y="1109043"/>
                  <a:pt x="5832231" y="695805"/>
                  <a:pt x="6453554" y="509701"/>
                </a:cubicBezTo>
                <a:cubicBezTo>
                  <a:pt x="7074877" y="323597"/>
                  <a:pt x="7181850" y="303082"/>
                  <a:pt x="7825154" y="219555"/>
                </a:cubicBezTo>
                <a:cubicBezTo>
                  <a:pt x="8468458" y="136028"/>
                  <a:pt x="9582150" y="34917"/>
                  <a:pt x="10313377" y="8540"/>
                </a:cubicBezTo>
                <a:cubicBezTo>
                  <a:pt x="11044604" y="-17837"/>
                  <a:pt x="11628560" y="21728"/>
                  <a:pt x="12212516" y="6129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52"/>
          <p:cNvSpPr/>
          <p:nvPr/>
        </p:nvSpPr>
        <p:spPr>
          <a:xfrm>
            <a:off x="0" y="2349360"/>
            <a:ext cx="9156600" cy="1920960"/>
          </a:xfrm>
          <a:custGeom>
            <a:avLst/>
            <a:gdLst/>
            <a:ahLst/>
            <a:rect l="l" t="t" r="r" b="b"/>
            <a:pathLst>
              <a:path w="12212515" h="2558561">
                <a:moveTo>
                  <a:pt x="0" y="2558561"/>
                </a:moveTo>
                <a:lnTo>
                  <a:pt x="1274884" y="2286000"/>
                </a:lnTo>
                <a:lnTo>
                  <a:pt x="2778369" y="1969477"/>
                </a:lnTo>
                <a:lnTo>
                  <a:pt x="4765430" y="1582615"/>
                </a:lnTo>
                <a:lnTo>
                  <a:pt x="7877907" y="931984"/>
                </a:lnTo>
                <a:lnTo>
                  <a:pt x="10612315" y="369277"/>
                </a:lnTo>
                <a:cubicBezTo>
                  <a:pt x="11334750" y="213946"/>
                  <a:pt x="11773632" y="106973"/>
                  <a:pt x="12212515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53"/>
          <p:cNvSpPr/>
          <p:nvPr/>
        </p:nvSpPr>
        <p:spPr>
          <a:xfrm>
            <a:off x="0" y="2284560"/>
            <a:ext cx="9156600" cy="2044440"/>
          </a:xfrm>
          <a:custGeom>
            <a:avLst/>
            <a:gdLst/>
            <a:ahLst/>
            <a:rect l="l" t="t" r="r" b="b"/>
            <a:pathLst>
              <a:path w="12212515" h="2725914">
                <a:moveTo>
                  <a:pt x="0" y="2725914"/>
                </a:moveTo>
                <a:cubicBezTo>
                  <a:pt x="400050" y="2676823"/>
                  <a:pt x="800100" y="2627733"/>
                  <a:pt x="1160584" y="2558860"/>
                </a:cubicBezTo>
                <a:cubicBezTo>
                  <a:pt x="1521069" y="2489987"/>
                  <a:pt x="1841988" y="2407926"/>
                  <a:pt x="2162907" y="2312676"/>
                </a:cubicBezTo>
                <a:cubicBezTo>
                  <a:pt x="2483826" y="2217426"/>
                  <a:pt x="2790092" y="2101660"/>
                  <a:pt x="3086100" y="1987360"/>
                </a:cubicBezTo>
                <a:cubicBezTo>
                  <a:pt x="3382108" y="1873060"/>
                  <a:pt x="3610708" y="1758760"/>
                  <a:pt x="3938954" y="1626876"/>
                </a:cubicBezTo>
                <a:cubicBezTo>
                  <a:pt x="4267200" y="1494991"/>
                  <a:pt x="4602773" y="1361641"/>
                  <a:pt x="5055577" y="1196053"/>
                </a:cubicBezTo>
                <a:cubicBezTo>
                  <a:pt x="5508381" y="1030465"/>
                  <a:pt x="6169269" y="782814"/>
                  <a:pt x="6655777" y="633345"/>
                </a:cubicBezTo>
                <a:cubicBezTo>
                  <a:pt x="7142285" y="483876"/>
                  <a:pt x="7419242" y="395952"/>
                  <a:pt x="7974623" y="299237"/>
                </a:cubicBezTo>
                <a:cubicBezTo>
                  <a:pt x="8530004" y="202522"/>
                  <a:pt x="9385788" y="102876"/>
                  <a:pt x="9988061" y="53053"/>
                </a:cubicBezTo>
                <a:cubicBezTo>
                  <a:pt x="10590334" y="3230"/>
                  <a:pt x="11217519" y="3230"/>
                  <a:pt x="11588261" y="299"/>
                </a:cubicBezTo>
                <a:cubicBezTo>
                  <a:pt x="11959003" y="-2632"/>
                  <a:pt x="12085759" y="16418"/>
                  <a:pt x="12212515" y="354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54"/>
          <p:cNvSpPr/>
          <p:nvPr/>
        </p:nvSpPr>
        <p:spPr>
          <a:xfrm>
            <a:off x="0" y="3070080"/>
            <a:ext cx="2346480" cy="47880"/>
          </a:xfrm>
          <a:custGeom>
            <a:avLst/>
            <a:gdLst/>
            <a:ahLst/>
            <a:rect l="l" t="t" r="r" b="b"/>
            <a:pathLst>
              <a:path w="3127248" h="64008">
                <a:moveTo>
                  <a:pt x="0" y="64008"/>
                </a:moveTo>
                <a:lnTo>
                  <a:pt x="3127248" y="0"/>
                </a:lnTo>
                <a:lnTo>
                  <a:pt x="3127248" y="0"/>
                </a:lnTo>
                <a:lnTo>
                  <a:pt x="3127248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55"/>
          <p:cNvSpPr/>
          <p:nvPr/>
        </p:nvSpPr>
        <p:spPr>
          <a:xfrm>
            <a:off x="-7920" y="3070080"/>
            <a:ext cx="2327400" cy="101880"/>
          </a:xfrm>
          <a:custGeom>
            <a:avLst/>
            <a:gdLst/>
            <a:ahLst/>
            <a:rect l="l" t="t" r="r" b="b"/>
            <a:pathLst>
              <a:path w="3099816" h="137160">
                <a:moveTo>
                  <a:pt x="0" y="137160"/>
                </a:moveTo>
                <a:lnTo>
                  <a:pt x="1024128" y="128016"/>
                </a:lnTo>
                <a:cubicBezTo>
                  <a:pt x="1417320" y="117348"/>
                  <a:pt x="2013204" y="94488"/>
                  <a:pt x="2359152" y="73152"/>
                </a:cubicBezTo>
                <a:cubicBezTo>
                  <a:pt x="2705100" y="51816"/>
                  <a:pt x="2902458" y="25908"/>
                  <a:pt x="3099816" y="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4056120" y="2252520"/>
            <a:ext cx="39348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228600" y="4098960"/>
            <a:ext cx="415800" cy="42048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11"/>
          <p:cNvSpPr/>
          <p:nvPr/>
        </p:nvSpPr>
        <p:spPr>
          <a:xfrm>
            <a:off x="0" y="3024360"/>
            <a:ext cx="162000" cy="260280"/>
          </a:xfrm>
          <a:custGeom>
            <a:avLst/>
            <a:gdLst/>
            <a:ahLst/>
            <a:rect l="l" t="t" r="r" b="b"/>
            <a:pathLst>
              <a:path w="217145" h="345695">
                <a:moveTo>
                  <a:pt x="56118" y="0"/>
                </a:moveTo>
                <a:cubicBezTo>
                  <a:pt x="149242" y="8520"/>
                  <a:pt x="221201" y="89457"/>
                  <a:pt x="216968" y="183174"/>
                </a:cubicBezTo>
                <a:cubicBezTo>
                  <a:pt x="212735" y="276891"/>
                  <a:pt x="132310" y="353568"/>
                  <a:pt x="34953" y="345048"/>
                </a:cubicBezTo>
                <a:lnTo>
                  <a:pt x="0" y="336138"/>
                </a:lnTo>
                <a:lnTo>
                  <a:pt x="0" y="868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9"/>
          <p:cNvSpPr/>
          <p:nvPr/>
        </p:nvSpPr>
        <p:spPr>
          <a:xfrm>
            <a:off x="1227240" y="3816360"/>
            <a:ext cx="4143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0"/>
          <p:cNvSpPr/>
          <p:nvPr/>
        </p:nvSpPr>
        <p:spPr>
          <a:xfrm>
            <a:off x="4637160" y="4272120"/>
            <a:ext cx="309600" cy="30456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5213520" y="4414680"/>
            <a:ext cx="722160" cy="7192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3" y="119"/>
                </a:moveTo>
                <a:cubicBezTo>
                  <a:pt x="220" y="180"/>
                  <a:pt x="168" y="226"/>
                  <a:pt x="107" y="223"/>
                </a:cubicBezTo>
                <a:cubicBezTo>
                  <a:pt x="47" y="220"/>
                  <a:pt x="0" y="168"/>
                  <a:pt x="3" y="107"/>
                </a:cubicBezTo>
                <a:cubicBezTo>
                  <a:pt x="7" y="46"/>
                  <a:pt x="59" y="0"/>
                  <a:pt x="119" y="3"/>
                </a:cubicBezTo>
                <a:cubicBezTo>
                  <a:pt x="180" y="7"/>
                  <a:pt x="227" y="58"/>
                  <a:pt x="223" y="11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2"/>
          <p:cNvSpPr/>
          <p:nvPr/>
        </p:nvSpPr>
        <p:spPr>
          <a:xfrm>
            <a:off x="6964200" y="3059280"/>
            <a:ext cx="839880" cy="84276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8034480" y="285588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4"/>
          <p:cNvSpPr/>
          <p:nvPr/>
        </p:nvSpPr>
        <p:spPr>
          <a:xfrm>
            <a:off x="6535800" y="2120760"/>
            <a:ext cx="25380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5"/>
          <p:cNvSpPr/>
          <p:nvPr/>
        </p:nvSpPr>
        <p:spPr>
          <a:xfrm>
            <a:off x="8370720" y="246384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19"/>
          <p:cNvSpPr/>
          <p:nvPr/>
        </p:nvSpPr>
        <p:spPr>
          <a:xfrm>
            <a:off x="8926560" y="2048040"/>
            <a:ext cx="231840" cy="419040"/>
          </a:xfrm>
          <a:custGeom>
            <a:avLst/>
            <a:gdLst/>
            <a:ahLst/>
            <a:rect l="l" t="t" r="r" b="b"/>
            <a:pathLst>
              <a:path w="308862" h="559399">
                <a:moveTo>
                  <a:pt x="297821" y="427"/>
                </a:moveTo>
                <a:lnTo>
                  <a:pt x="308862" y="3305"/>
                </a:lnTo>
                <a:lnTo>
                  <a:pt x="308862" y="552938"/>
                </a:lnTo>
                <a:lnTo>
                  <a:pt x="263833" y="559399"/>
                </a:lnTo>
                <a:cubicBezTo>
                  <a:pt x="110889" y="550930"/>
                  <a:pt x="-8068" y="419656"/>
                  <a:pt x="429" y="262975"/>
                </a:cubicBezTo>
                <a:cubicBezTo>
                  <a:pt x="8926" y="110528"/>
                  <a:pt x="140628" y="-8042"/>
                  <a:pt x="297821" y="42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7"/>
          <p:cNvSpPr/>
          <p:nvPr/>
        </p:nvSpPr>
        <p:spPr>
          <a:xfrm>
            <a:off x="8459640" y="212400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8"/>
          <p:cNvSpPr/>
          <p:nvPr/>
        </p:nvSpPr>
        <p:spPr>
          <a:xfrm>
            <a:off x="7264440" y="252576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9"/>
          <p:cNvSpPr/>
          <p:nvPr/>
        </p:nvSpPr>
        <p:spPr>
          <a:xfrm>
            <a:off x="8008920" y="1738440"/>
            <a:ext cx="168120" cy="16812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4226040" y="2092320"/>
            <a:ext cx="1398600" cy="1401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21"/>
          <p:cNvSpPr/>
          <p:nvPr/>
        </p:nvSpPr>
        <p:spPr>
          <a:xfrm>
            <a:off x="1046160" y="296064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1370160" y="2944800"/>
            <a:ext cx="2682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1778040" y="4249800"/>
            <a:ext cx="11412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919080" y="3727440"/>
            <a:ext cx="98640" cy="9828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5"/>
          <p:cNvSpPr/>
          <p:nvPr/>
        </p:nvSpPr>
        <p:spPr>
          <a:xfrm>
            <a:off x="85680" y="4890960"/>
            <a:ext cx="27000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6"/>
          <p:cNvSpPr/>
          <p:nvPr/>
        </p:nvSpPr>
        <p:spPr>
          <a:xfrm>
            <a:off x="928800" y="430704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7"/>
          <p:cNvSpPr/>
          <p:nvPr/>
        </p:nvSpPr>
        <p:spPr>
          <a:xfrm>
            <a:off x="446040" y="2314440"/>
            <a:ext cx="10800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8"/>
          <p:cNvSpPr/>
          <p:nvPr/>
        </p:nvSpPr>
        <p:spPr>
          <a:xfrm>
            <a:off x="722160" y="1739880"/>
            <a:ext cx="1179720" cy="118584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9"/>
          <p:cNvSpPr/>
          <p:nvPr/>
        </p:nvSpPr>
        <p:spPr>
          <a:xfrm>
            <a:off x="763560" y="1803240"/>
            <a:ext cx="1096920" cy="109728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2"/>
          <p:cNvGrpSpPr/>
          <p:nvPr/>
        </p:nvGrpSpPr>
        <p:grpSpPr>
          <a:xfrm>
            <a:off x="3390840" y="4386240"/>
            <a:ext cx="263520" cy="264960"/>
            <a:chOff x="3390840" y="4386240"/>
            <a:chExt cx="263520" cy="264960"/>
          </a:xfrm>
        </p:grpSpPr>
        <p:sp>
          <p:nvSpPr>
            <p:cNvPr id="514" name="Freeform 33"/>
            <p:cNvSpPr/>
            <p:nvPr/>
          </p:nvSpPr>
          <p:spPr>
            <a:xfrm>
              <a:off x="3390840" y="4386240"/>
              <a:ext cx="263520" cy="2649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>
              <a:off x="3495600" y="447660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5"/>
          <p:cNvGrpSpPr/>
          <p:nvPr/>
        </p:nvGrpSpPr>
        <p:grpSpPr>
          <a:xfrm>
            <a:off x="4324320" y="2744640"/>
            <a:ext cx="263520" cy="263520"/>
            <a:chOff x="4324320" y="2744640"/>
            <a:chExt cx="263520" cy="263520"/>
          </a:xfrm>
        </p:grpSpPr>
        <p:sp>
          <p:nvSpPr>
            <p:cNvPr id="517" name="Freeform 36"/>
            <p:cNvSpPr/>
            <p:nvPr/>
          </p:nvSpPr>
          <p:spPr>
            <a:xfrm>
              <a:off x="4324320" y="2744640"/>
              <a:ext cx="26352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7"/>
            <p:cNvSpPr/>
            <p:nvPr/>
          </p:nvSpPr>
          <p:spPr>
            <a:xfrm>
              <a:off x="4429080" y="283356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8"/>
          <p:cNvGrpSpPr/>
          <p:nvPr/>
        </p:nvGrpSpPr>
        <p:grpSpPr>
          <a:xfrm>
            <a:off x="1060560" y="3708360"/>
            <a:ext cx="264960" cy="263520"/>
            <a:chOff x="1060560" y="3708360"/>
            <a:chExt cx="264960" cy="263520"/>
          </a:xfrm>
        </p:grpSpPr>
        <p:sp>
          <p:nvSpPr>
            <p:cNvPr id="520" name="Freeform 39"/>
            <p:cNvSpPr/>
            <p:nvPr/>
          </p:nvSpPr>
          <p:spPr>
            <a:xfrm>
              <a:off x="1060560" y="3708360"/>
              <a:ext cx="26496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>
              <a:off x="1149480" y="37908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Freeform 30"/>
          <p:cNvSpPr/>
          <p:nvPr/>
        </p:nvSpPr>
        <p:spPr>
          <a:xfrm>
            <a:off x="1266840" y="1695600"/>
            <a:ext cx="3262320" cy="3268440"/>
          </a:xfrm>
          <a:custGeom>
            <a:avLst/>
            <a:gdLst/>
            <a:ahLst/>
            <a:rect l="l" t="t" r="r" b="b"/>
            <a:pathLst>
              <a:path w="1063" h="1063">
                <a:moveTo>
                  <a:pt x="1048" y="560"/>
                </a:moveTo>
                <a:cubicBezTo>
                  <a:pt x="1032" y="844"/>
                  <a:pt x="789" y="1063"/>
                  <a:pt x="504" y="1047"/>
                </a:cubicBezTo>
                <a:cubicBezTo>
                  <a:pt x="219" y="1032"/>
                  <a:pt x="0" y="788"/>
                  <a:pt x="16" y="503"/>
                </a:cubicBezTo>
                <a:cubicBezTo>
                  <a:pt x="31" y="219"/>
                  <a:pt x="275" y="0"/>
                  <a:pt x="560" y="16"/>
                </a:cubicBezTo>
                <a:cubicBezTo>
                  <a:pt x="845" y="31"/>
                  <a:pt x="1063" y="275"/>
                  <a:pt x="1048" y="56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1"/>
          <p:cNvSpPr/>
          <p:nvPr/>
        </p:nvSpPr>
        <p:spPr>
          <a:xfrm>
            <a:off x="1376280" y="1859040"/>
            <a:ext cx="3052800" cy="3056040"/>
          </a:xfrm>
          <a:custGeom>
            <a:avLst/>
            <a:gdLst/>
            <a:ahLst/>
            <a:rect l="l" t="t" r="r" b="b"/>
            <a:pathLst>
              <a:path w="987" h="986">
                <a:moveTo>
                  <a:pt x="972" y="519"/>
                </a:moveTo>
                <a:cubicBezTo>
                  <a:pt x="958" y="783"/>
                  <a:pt x="732" y="986"/>
                  <a:pt x="467" y="972"/>
                </a:cubicBezTo>
                <a:cubicBezTo>
                  <a:pt x="203" y="957"/>
                  <a:pt x="0" y="731"/>
                  <a:pt x="15" y="467"/>
                </a:cubicBezTo>
                <a:cubicBezTo>
                  <a:pt x="29" y="203"/>
                  <a:pt x="255" y="0"/>
                  <a:pt x="519" y="14"/>
                </a:cubicBezTo>
                <a:cubicBezTo>
                  <a:pt x="784" y="29"/>
                  <a:pt x="987" y="255"/>
                  <a:pt x="972" y="519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42"/>
          <p:cNvSpPr/>
          <p:nvPr/>
        </p:nvSpPr>
        <p:spPr>
          <a:xfrm>
            <a:off x="-7920" y="0"/>
            <a:ext cx="915336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3"/>
          <p:cNvSpPr/>
          <p:nvPr/>
        </p:nvSpPr>
        <p:spPr>
          <a:xfrm>
            <a:off x="-7920" y="6640560"/>
            <a:ext cx="915336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E06-4E6F-4B52-AD20-EFA0CD59AA6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388800" y="1501920"/>
            <a:ext cx="8317080" cy="417492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388800" y="5627520"/>
            <a:ext cx="831708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14040" bIns="140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750F-3DA6-4B03-B0BC-041C0E4BD91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2973240" y="2843280"/>
            <a:ext cx="5154840" cy="1154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3"/>
          <p:cNvSpPr/>
          <p:nvPr/>
        </p:nvSpPr>
        <p:spPr>
          <a:xfrm>
            <a:off x="2049480" y="-9360"/>
            <a:ext cx="458640" cy="6867360"/>
          </a:xfrm>
          <a:custGeom>
            <a:avLst/>
            <a:gdLst/>
            <a:ahLst/>
            <a:rect l="l" t="t" r="r" b="b"/>
            <a:pathLst>
              <a:path w="459157" h="6839712">
                <a:moveTo>
                  <a:pt x="365760" y="0"/>
                </a:moveTo>
                <a:cubicBezTo>
                  <a:pt x="371856" y="292608"/>
                  <a:pt x="377952" y="585216"/>
                  <a:pt x="384048" y="896112"/>
                </a:cubicBezTo>
                <a:cubicBezTo>
                  <a:pt x="390144" y="1207008"/>
                  <a:pt x="391668" y="1508760"/>
                  <a:pt x="402336" y="1865376"/>
                </a:cubicBezTo>
                <a:cubicBezTo>
                  <a:pt x="413004" y="2221992"/>
                  <a:pt x="441960" y="2631948"/>
                  <a:pt x="448056" y="3035808"/>
                </a:cubicBezTo>
                <a:cubicBezTo>
                  <a:pt x="454152" y="3439668"/>
                  <a:pt x="473964" y="3828288"/>
                  <a:pt x="438912" y="4288536"/>
                </a:cubicBezTo>
                <a:cubicBezTo>
                  <a:pt x="403860" y="4748784"/>
                  <a:pt x="310896" y="5372100"/>
                  <a:pt x="237744" y="5797296"/>
                </a:cubicBezTo>
                <a:cubicBezTo>
                  <a:pt x="164592" y="6222492"/>
                  <a:pt x="82296" y="6531102"/>
                  <a:pt x="0" y="6839712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34"/>
          <p:cNvSpPr/>
          <p:nvPr/>
        </p:nvSpPr>
        <p:spPr>
          <a:xfrm>
            <a:off x="1397160" y="9360"/>
            <a:ext cx="1110960" cy="6848640"/>
          </a:xfrm>
          <a:custGeom>
            <a:avLst/>
            <a:gdLst/>
            <a:ahLst/>
            <a:rect l="l" t="t" r="r" b="b"/>
            <a:pathLst>
              <a:path w="1110307" h="6968889">
                <a:moveTo>
                  <a:pt x="1110307" y="0"/>
                </a:moveTo>
                <a:cubicBezTo>
                  <a:pt x="1071445" y="224028"/>
                  <a:pt x="1032583" y="448056"/>
                  <a:pt x="973147" y="813816"/>
                </a:cubicBezTo>
                <a:cubicBezTo>
                  <a:pt x="913711" y="1179576"/>
                  <a:pt x="816175" y="1798320"/>
                  <a:pt x="753691" y="2194560"/>
                </a:cubicBezTo>
                <a:cubicBezTo>
                  <a:pt x="691207" y="2590800"/>
                  <a:pt x="669871" y="2734056"/>
                  <a:pt x="598243" y="3191256"/>
                </a:cubicBezTo>
                <a:cubicBezTo>
                  <a:pt x="526615" y="3648456"/>
                  <a:pt x="418411" y="4343400"/>
                  <a:pt x="323923" y="4937760"/>
                </a:cubicBezTo>
                <a:cubicBezTo>
                  <a:pt x="229435" y="5532120"/>
                  <a:pt x="81607" y="6437376"/>
                  <a:pt x="31315" y="6757416"/>
                </a:cubicBezTo>
                <a:cubicBezTo>
                  <a:pt x="-18977" y="7077456"/>
                  <a:pt x="1597" y="6967728"/>
                  <a:pt x="22171" y="685800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35"/>
          <p:cNvSpPr/>
          <p:nvPr/>
        </p:nvSpPr>
        <p:spPr>
          <a:xfrm>
            <a:off x="1427040" y="-9360"/>
            <a:ext cx="2268720" cy="6867360"/>
          </a:xfrm>
          <a:custGeom>
            <a:avLst/>
            <a:gdLst/>
            <a:ahLst/>
            <a:rect l="l" t="t" r="r" b="b"/>
            <a:pathLst>
              <a:path w="2268166" h="6867144">
                <a:moveTo>
                  <a:pt x="0" y="0"/>
                </a:moveTo>
                <a:cubicBezTo>
                  <a:pt x="25908" y="131064"/>
                  <a:pt x="51816" y="262128"/>
                  <a:pt x="100584" y="438912"/>
                </a:cubicBezTo>
                <a:cubicBezTo>
                  <a:pt x="149352" y="615696"/>
                  <a:pt x="213360" y="824484"/>
                  <a:pt x="292608" y="1060704"/>
                </a:cubicBezTo>
                <a:cubicBezTo>
                  <a:pt x="371856" y="1296924"/>
                  <a:pt x="469392" y="1589532"/>
                  <a:pt x="576072" y="1856232"/>
                </a:cubicBezTo>
                <a:cubicBezTo>
                  <a:pt x="682752" y="2122932"/>
                  <a:pt x="844296" y="2453640"/>
                  <a:pt x="932688" y="2660904"/>
                </a:cubicBezTo>
                <a:cubicBezTo>
                  <a:pt x="1021080" y="2868168"/>
                  <a:pt x="950976" y="2670048"/>
                  <a:pt x="1106424" y="3099816"/>
                </a:cubicBezTo>
                <a:cubicBezTo>
                  <a:pt x="1261872" y="3529584"/>
                  <a:pt x="1682496" y="4660392"/>
                  <a:pt x="1865376" y="5239512"/>
                </a:cubicBezTo>
                <a:cubicBezTo>
                  <a:pt x="2048256" y="5818632"/>
                  <a:pt x="2136648" y="6303264"/>
                  <a:pt x="2203704" y="6574536"/>
                </a:cubicBezTo>
                <a:cubicBezTo>
                  <a:pt x="2270760" y="6845808"/>
                  <a:pt x="2269236" y="6856476"/>
                  <a:pt x="2267712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36"/>
          <p:cNvSpPr/>
          <p:nvPr/>
        </p:nvSpPr>
        <p:spPr>
          <a:xfrm>
            <a:off x="1550880" y="0"/>
            <a:ext cx="1449360" cy="6858000"/>
          </a:xfrm>
          <a:custGeom>
            <a:avLst/>
            <a:gdLst/>
            <a:ahLst/>
            <a:rect l="l" t="t" r="r" b="b"/>
            <a:pathLst>
              <a:path w="1448806" h="6882856">
                <a:moveTo>
                  <a:pt x="13198" y="15712"/>
                </a:moveTo>
                <a:cubicBezTo>
                  <a:pt x="1768" y="-3338"/>
                  <a:pt x="-9662" y="-22388"/>
                  <a:pt x="13198" y="70576"/>
                </a:cubicBezTo>
                <a:cubicBezTo>
                  <a:pt x="36058" y="163540"/>
                  <a:pt x="97018" y="331180"/>
                  <a:pt x="150358" y="573496"/>
                </a:cubicBezTo>
                <a:cubicBezTo>
                  <a:pt x="203698" y="815812"/>
                  <a:pt x="282946" y="1259296"/>
                  <a:pt x="333238" y="1524472"/>
                </a:cubicBezTo>
                <a:cubicBezTo>
                  <a:pt x="383530" y="1789648"/>
                  <a:pt x="395722" y="1891756"/>
                  <a:pt x="452110" y="2164552"/>
                </a:cubicBezTo>
                <a:cubicBezTo>
                  <a:pt x="508498" y="2437348"/>
                  <a:pt x="596890" y="2813776"/>
                  <a:pt x="671566" y="3161248"/>
                </a:cubicBezTo>
                <a:cubicBezTo>
                  <a:pt x="746242" y="3508720"/>
                  <a:pt x="834634" y="3914104"/>
                  <a:pt x="900166" y="4249384"/>
                </a:cubicBezTo>
                <a:cubicBezTo>
                  <a:pt x="965698" y="4584664"/>
                  <a:pt x="1000750" y="4858984"/>
                  <a:pt x="1064758" y="5172928"/>
                </a:cubicBezTo>
                <a:cubicBezTo>
                  <a:pt x="1128766" y="5486872"/>
                  <a:pt x="1220206" y="5848060"/>
                  <a:pt x="1284214" y="6133048"/>
                </a:cubicBezTo>
                <a:cubicBezTo>
                  <a:pt x="1348222" y="6418036"/>
                  <a:pt x="1398514" y="6650446"/>
                  <a:pt x="1448806" y="6882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37"/>
          <p:cNvSpPr/>
          <p:nvPr/>
        </p:nvSpPr>
        <p:spPr>
          <a:xfrm>
            <a:off x="2570040" y="0"/>
            <a:ext cx="365400" cy="6848640"/>
          </a:xfrm>
          <a:custGeom>
            <a:avLst/>
            <a:gdLst/>
            <a:ahLst/>
            <a:rect l="l" t="t" r="r" b="b"/>
            <a:pathLst>
              <a:path w="365760" h="6848856">
                <a:moveTo>
                  <a:pt x="365760" y="0"/>
                </a:moveTo>
                <a:cubicBezTo>
                  <a:pt x="348234" y="116586"/>
                  <a:pt x="330708" y="233172"/>
                  <a:pt x="310896" y="347472"/>
                </a:cubicBezTo>
                <a:cubicBezTo>
                  <a:pt x="291084" y="461772"/>
                  <a:pt x="269748" y="556260"/>
                  <a:pt x="246888" y="685800"/>
                </a:cubicBezTo>
                <a:cubicBezTo>
                  <a:pt x="224028" y="815340"/>
                  <a:pt x="193548" y="937260"/>
                  <a:pt x="173736" y="1124712"/>
                </a:cubicBezTo>
                <a:cubicBezTo>
                  <a:pt x="153924" y="1312164"/>
                  <a:pt x="131064" y="1554480"/>
                  <a:pt x="128016" y="1810512"/>
                </a:cubicBezTo>
                <a:cubicBezTo>
                  <a:pt x="124968" y="2066544"/>
                  <a:pt x="152400" y="2394204"/>
                  <a:pt x="155448" y="2660904"/>
                </a:cubicBezTo>
                <a:cubicBezTo>
                  <a:pt x="158496" y="2927604"/>
                  <a:pt x="149352" y="3136392"/>
                  <a:pt x="146304" y="3410712"/>
                </a:cubicBezTo>
                <a:cubicBezTo>
                  <a:pt x="143256" y="3685032"/>
                  <a:pt x="141732" y="4002024"/>
                  <a:pt x="137160" y="4306824"/>
                </a:cubicBezTo>
                <a:cubicBezTo>
                  <a:pt x="132588" y="4611624"/>
                  <a:pt x="128016" y="4978908"/>
                  <a:pt x="118872" y="5239512"/>
                </a:cubicBezTo>
                <a:cubicBezTo>
                  <a:pt x="109728" y="5500116"/>
                  <a:pt x="96012" y="5676900"/>
                  <a:pt x="82296" y="5870448"/>
                </a:cubicBezTo>
                <a:cubicBezTo>
                  <a:pt x="68580" y="6063996"/>
                  <a:pt x="50292" y="6237732"/>
                  <a:pt x="36576" y="6400800"/>
                </a:cubicBezTo>
                <a:cubicBezTo>
                  <a:pt x="22860" y="6563868"/>
                  <a:pt x="11430" y="6706362"/>
                  <a:pt x="0" y="6848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38"/>
          <p:cNvSpPr/>
          <p:nvPr/>
        </p:nvSpPr>
        <p:spPr>
          <a:xfrm>
            <a:off x="1884240" y="0"/>
            <a:ext cx="1206720" cy="6867360"/>
          </a:xfrm>
          <a:custGeom>
            <a:avLst/>
            <a:gdLst/>
            <a:ahLst/>
            <a:rect l="l" t="t" r="r" b="b"/>
            <a:pathLst>
              <a:path w="1207008" h="6867144">
                <a:moveTo>
                  <a:pt x="1207008" y="0"/>
                </a:moveTo>
                <a:cubicBezTo>
                  <a:pt x="1179576" y="169926"/>
                  <a:pt x="1152144" y="339852"/>
                  <a:pt x="1115568" y="539496"/>
                </a:cubicBezTo>
                <a:cubicBezTo>
                  <a:pt x="1078992" y="739140"/>
                  <a:pt x="1027176" y="972312"/>
                  <a:pt x="987552" y="1197864"/>
                </a:cubicBezTo>
                <a:cubicBezTo>
                  <a:pt x="947928" y="1423416"/>
                  <a:pt x="912876" y="1697736"/>
                  <a:pt x="877824" y="1892808"/>
                </a:cubicBezTo>
                <a:cubicBezTo>
                  <a:pt x="842772" y="2087880"/>
                  <a:pt x="815340" y="2167128"/>
                  <a:pt x="777240" y="2368296"/>
                </a:cubicBezTo>
                <a:cubicBezTo>
                  <a:pt x="739140" y="2569464"/>
                  <a:pt x="649224" y="3099816"/>
                  <a:pt x="649224" y="3099816"/>
                </a:cubicBezTo>
                <a:cubicBezTo>
                  <a:pt x="597408" y="3395472"/>
                  <a:pt x="536448" y="3750564"/>
                  <a:pt x="466344" y="4142232"/>
                </a:cubicBezTo>
                <a:cubicBezTo>
                  <a:pt x="396240" y="4533900"/>
                  <a:pt x="306324" y="4995672"/>
                  <a:pt x="228600" y="5449824"/>
                </a:cubicBezTo>
                <a:cubicBezTo>
                  <a:pt x="150876" y="5903976"/>
                  <a:pt x="75438" y="6385560"/>
                  <a:pt x="0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6"/>
          <p:cNvSpPr/>
          <p:nvPr/>
        </p:nvSpPr>
        <p:spPr>
          <a:xfrm>
            <a:off x="3121200" y="-36360"/>
            <a:ext cx="517320" cy="384120"/>
          </a:xfrm>
          <a:custGeom>
            <a:avLst/>
            <a:gdLst/>
            <a:ahLst/>
            <a:rect l="l" t="t" r="r" b="b"/>
            <a:pathLst>
              <a:path w="517073" h="384018">
                <a:moveTo>
                  <a:pt x="33900" y="0"/>
                </a:moveTo>
                <a:lnTo>
                  <a:pt x="478108" y="0"/>
                </a:lnTo>
                <a:lnTo>
                  <a:pt x="500543" y="37822"/>
                </a:lnTo>
                <a:cubicBezTo>
                  <a:pt x="512148" y="69508"/>
                  <a:pt x="518017" y="103807"/>
                  <a:pt x="516950" y="139177"/>
                </a:cubicBezTo>
                <a:cubicBezTo>
                  <a:pt x="508413" y="280659"/>
                  <a:pt x="384626" y="392130"/>
                  <a:pt x="243766" y="383555"/>
                </a:cubicBezTo>
                <a:cubicBezTo>
                  <a:pt x="102906" y="374981"/>
                  <a:pt x="-8075" y="254935"/>
                  <a:pt x="462" y="109166"/>
                </a:cubicBezTo>
                <a:cubicBezTo>
                  <a:pt x="2597" y="73795"/>
                  <a:pt x="11667" y="40300"/>
                  <a:pt x="26340" y="10088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94"/>
          <p:cNvSpPr/>
          <p:nvPr/>
        </p:nvSpPr>
        <p:spPr>
          <a:xfrm>
            <a:off x="3357720" y="6472080"/>
            <a:ext cx="542880" cy="385920"/>
          </a:xfrm>
          <a:custGeom>
            <a:avLst/>
            <a:gdLst/>
            <a:ahLst/>
            <a:rect l="l" t="t" r="r" b="b"/>
            <a:pathLst>
              <a:path w="542989" h="385715">
                <a:moveTo>
                  <a:pt x="286435" y="448"/>
                </a:moveTo>
                <a:cubicBezTo>
                  <a:pt x="435832" y="9021"/>
                  <a:pt x="551081" y="137613"/>
                  <a:pt x="542544" y="287638"/>
                </a:cubicBezTo>
                <a:lnTo>
                  <a:pt x="519226" y="385715"/>
                </a:lnTo>
                <a:lnTo>
                  <a:pt x="26804" y="385715"/>
                </a:lnTo>
                <a:lnTo>
                  <a:pt x="15853" y="367071"/>
                </a:lnTo>
                <a:cubicBezTo>
                  <a:pt x="3914" y="333181"/>
                  <a:pt x="-1688" y="296211"/>
                  <a:pt x="446" y="257633"/>
                </a:cubicBezTo>
                <a:cubicBezTo>
                  <a:pt x="8983" y="107608"/>
                  <a:pt x="137038" y="-8125"/>
                  <a:pt x="286435" y="44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7"/>
          <p:cNvSpPr/>
          <p:nvPr/>
        </p:nvSpPr>
        <p:spPr>
          <a:xfrm>
            <a:off x="1081080" y="1884240"/>
            <a:ext cx="353880" cy="3603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"/>
          <p:cNvSpPr/>
          <p:nvPr/>
        </p:nvSpPr>
        <p:spPr>
          <a:xfrm>
            <a:off x="1317600" y="4940280"/>
            <a:ext cx="555480" cy="56052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9"/>
          <p:cNvSpPr/>
          <p:nvPr/>
        </p:nvSpPr>
        <p:spPr>
          <a:xfrm>
            <a:off x="3792600" y="4692600"/>
            <a:ext cx="412560" cy="409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3211560" y="914400"/>
            <a:ext cx="225360" cy="2271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0"/>
          <p:cNvSpPr/>
          <p:nvPr/>
        </p:nvSpPr>
        <p:spPr>
          <a:xfrm>
            <a:off x="1914480" y="2104920"/>
            <a:ext cx="1749600" cy="1752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1279440" y="739800"/>
            <a:ext cx="555840" cy="557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1855800" y="237960"/>
            <a:ext cx="284040" cy="2890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3211560" y="1495440"/>
            <a:ext cx="131760" cy="133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5"/>
          <p:cNvGrpSpPr/>
          <p:nvPr/>
        </p:nvGrpSpPr>
        <p:grpSpPr>
          <a:xfrm>
            <a:off x="3157560" y="2670120"/>
            <a:ext cx="353520" cy="353880"/>
            <a:chOff x="3157560" y="2670120"/>
            <a:chExt cx="353520" cy="353880"/>
          </a:xfrm>
        </p:grpSpPr>
        <p:sp>
          <p:nvSpPr>
            <p:cNvPr id="629" name="Freeform 16"/>
            <p:cNvSpPr/>
            <p:nvPr/>
          </p:nvSpPr>
          <p:spPr>
            <a:xfrm>
              <a:off x="3157560" y="2670120"/>
              <a:ext cx="35352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3297960" y="2789280"/>
              <a:ext cx="93600" cy="12816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8"/>
          <p:cNvGrpSpPr/>
          <p:nvPr/>
        </p:nvGrpSpPr>
        <p:grpSpPr>
          <a:xfrm>
            <a:off x="1773360" y="3592440"/>
            <a:ext cx="354960" cy="353880"/>
            <a:chOff x="1773360" y="3592440"/>
            <a:chExt cx="354960" cy="353880"/>
          </a:xfrm>
        </p:grpSpPr>
        <p:sp>
          <p:nvSpPr>
            <p:cNvPr id="632" name="Freeform 19"/>
            <p:cNvSpPr/>
            <p:nvPr/>
          </p:nvSpPr>
          <p:spPr>
            <a:xfrm>
              <a:off x="1773360" y="3592440"/>
              <a:ext cx="35496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>
              <a:off x="1892520" y="3702960"/>
              <a:ext cx="93600" cy="1238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Freeform 22"/>
          <p:cNvSpPr/>
          <p:nvPr/>
        </p:nvSpPr>
        <p:spPr>
          <a:xfrm rot="5400000">
            <a:off x="1901880" y="2611440"/>
            <a:ext cx="1603440" cy="16128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3"/>
          <p:cNvGrpSpPr/>
          <p:nvPr/>
        </p:nvGrpSpPr>
        <p:grpSpPr>
          <a:xfrm>
            <a:off x="2523960" y="4983120"/>
            <a:ext cx="353880" cy="355320"/>
            <a:chOff x="2523960" y="4983120"/>
            <a:chExt cx="353880" cy="355320"/>
          </a:xfrm>
        </p:grpSpPr>
        <p:sp>
          <p:nvSpPr>
            <p:cNvPr id="636" name="Freeform 24"/>
            <p:cNvSpPr/>
            <p:nvPr/>
          </p:nvSpPr>
          <p:spPr>
            <a:xfrm>
              <a:off x="2523960" y="4983120"/>
              <a:ext cx="35388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2664720" y="5104080"/>
              <a:ext cx="9360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Freeform 26"/>
          <p:cNvSpPr/>
          <p:nvPr/>
        </p:nvSpPr>
        <p:spPr>
          <a:xfrm>
            <a:off x="2084400" y="2730600"/>
            <a:ext cx="1411200" cy="140184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1B0D-D5D1-4EDB-BFEB-3C05EBA8CC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4"/>
          <p:cNvSpPr/>
          <p:nvPr/>
        </p:nvSpPr>
        <p:spPr>
          <a:xfrm>
            <a:off x="39996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4"/>
          <p:cNvSpPr/>
          <p:nvPr/>
        </p:nvSpPr>
        <p:spPr>
          <a:xfrm>
            <a:off x="462744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39996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462744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DCE-7698-4EC1-B41A-9350ED6B18B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任意多边形 34"/>
          <p:cNvSpPr/>
          <p:nvPr/>
        </p:nvSpPr>
        <p:spPr>
          <a:xfrm>
            <a:off x="0" y="2600280"/>
            <a:ext cx="9137520" cy="897120"/>
          </a:xfrm>
          <a:custGeom>
            <a:avLst/>
            <a:gdLst/>
            <a:ahLst/>
            <a:rect l="l" t="t" r="r" b="b"/>
            <a:pathLst>
              <a:path w="12207240" h="1196724">
                <a:moveTo>
                  <a:pt x="0" y="41124"/>
                </a:moveTo>
                <a:lnTo>
                  <a:pt x="402336" y="22836"/>
                </a:lnTo>
                <a:cubicBezTo>
                  <a:pt x="691896" y="16740"/>
                  <a:pt x="1114044" y="-10692"/>
                  <a:pt x="1737360" y="4548"/>
                </a:cubicBezTo>
                <a:cubicBezTo>
                  <a:pt x="2360676" y="19788"/>
                  <a:pt x="3368040" y="53316"/>
                  <a:pt x="4142232" y="114276"/>
                </a:cubicBezTo>
                <a:cubicBezTo>
                  <a:pt x="4916424" y="175236"/>
                  <a:pt x="5705856" y="277344"/>
                  <a:pt x="6382512" y="370308"/>
                </a:cubicBezTo>
                <a:cubicBezTo>
                  <a:pt x="7059168" y="463272"/>
                  <a:pt x="7723632" y="586716"/>
                  <a:pt x="8202168" y="672060"/>
                </a:cubicBezTo>
                <a:cubicBezTo>
                  <a:pt x="8680704" y="757404"/>
                  <a:pt x="8909304" y="822936"/>
                  <a:pt x="9253728" y="882372"/>
                </a:cubicBezTo>
                <a:cubicBezTo>
                  <a:pt x="9598152" y="941808"/>
                  <a:pt x="9887712" y="979908"/>
                  <a:pt x="10268712" y="1028676"/>
                </a:cubicBezTo>
                <a:cubicBezTo>
                  <a:pt x="10649712" y="1077444"/>
                  <a:pt x="11216640" y="1147548"/>
                  <a:pt x="11539728" y="1174980"/>
                </a:cubicBezTo>
                <a:cubicBezTo>
                  <a:pt x="11862816" y="1202412"/>
                  <a:pt x="12035028" y="1197840"/>
                  <a:pt x="12207240" y="11932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任意多边形 35"/>
          <p:cNvSpPr/>
          <p:nvPr/>
        </p:nvSpPr>
        <p:spPr>
          <a:xfrm>
            <a:off x="0" y="2630520"/>
            <a:ext cx="9137520" cy="828720"/>
          </a:xfrm>
          <a:custGeom>
            <a:avLst/>
            <a:gdLst/>
            <a:ahLst/>
            <a:rect l="l" t="t" r="r" b="b"/>
            <a:pathLst>
              <a:path w="12198096" h="1106424">
                <a:moveTo>
                  <a:pt x="0" y="0"/>
                </a:moveTo>
                <a:lnTo>
                  <a:pt x="1527048" y="146304"/>
                </a:lnTo>
                <a:lnTo>
                  <a:pt x="3547872" y="320040"/>
                </a:lnTo>
                <a:lnTo>
                  <a:pt x="5312664" y="475488"/>
                </a:lnTo>
                <a:lnTo>
                  <a:pt x="6958584" y="630936"/>
                </a:lnTo>
                <a:lnTo>
                  <a:pt x="8394192" y="768096"/>
                </a:lnTo>
                <a:lnTo>
                  <a:pt x="9144000" y="841248"/>
                </a:lnTo>
                <a:lnTo>
                  <a:pt x="9930384" y="914400"/>
                </a:lnTo>
                <a:lnTo>
                  <a:pt x="11201400" y="1024128"/>
                </a:lnTo>
                <a:lnTo>
                  <a:pt x="12198096" y="110642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任意多边形 36"/>
          <p:cNvSpPr/>
          <p:nvPr/>
        </p:nvSpPr>
        <p:spPr>
          <a:xfrm>
            <a:off x="0" y="2603520"/>
            <a:ext cx="9137520" cy="1747800"/>
          </a:xfrm>
          <a:custGeom>
            <a:avLst/>
            <a:gdLst/>
            <a:ahLst/>
            <a:rect l="l" t="t" r="r" b="b"/>
            <a:pathLst>
              <a:path w="12124944" h="2331720">
                <a:moveTo>
                  <a:pt x="0" y="2331720"/>
                </a:moveTo>
                <a:lnTo>
                  <a:pt x="832104" y="2176272"/>
                </a:lnTo>
                <a:lnTo>
                  <a:pt x="1856232" y="1975104"/>
                </a:lnTo>
                <a:lnTo>
                  <a:pt x="2688336" y="1819656"/>
                </a:lnTo>
                <a:lnTo>
                  <a:pt x="3831336" y="1600200"/>
                </a:lnTo>
                <a:cubicBezTo>
                  <a:pt x="4283964" y="1510284"/>
                  <a:pt x="4805172" y="1391412"/>
                  <a:pt x="5404104" y="1280160"/>
                </a:cubicBezTo>
                <a:cubicBezTo>
                  <a:pt x="6003036" y="1168908"/>
                  <a:pt x="6774180" y="1054608"/>
                  <a:pt x="7424928" y="932688"/>
                </a:cubicBezTo>
                <a:cubicBezTo>
                  <a:pt x="8075676" y="810768"/>
                  <a:pt x="9308592" y="548640"/>
                  <a:pt x="9308592" y="548640"/>
                </a:cubicBezTo>
                <a:lnTo>
                  <a:pt x="10954512" y="219456"/>
                </a:lnTo>
                <a:lnTo>
                  <a:pt x="12124944" y="0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任意多边形 37"/>
          <p:cNvSpPr/>
          <p:nvPr/>
        </p:nvSpPr>
        <p:spPr>
          <a:xfrm>
            <a:off x="0" y="2470320"/>
            <a:ext cx="9137520" cy="1928520"/>
          </a:xfrm>
          <a:custGeom>
            <a:avLst/>
            <a:gdLst/>
            <a:ahLst/>
            <a:rect l="l" t="t" r="r" b="b"/>
            <a:pathLst>
              <a:path w="12188952" h="2572907">
                <a:moveTo>
                  <a:pt x="0" y="2572907"/>
                </a:moveTo>
                <a:cubicBezTo>
                  <a:pt x="251460" y="2551571"/>
                  <a:pt x="502920" y="2530235"/>
                  <a:pt x="777240" y="2490611"/>
                </a:cubicBezTo>
                <a:cubicBezTo>
                  <a:pt x="1051560" y="2450987"/>
                  <a:pt x="1347216" y="2399171"/>
                  <a:pt x="1645920" y="2335163"/>
                </a:cubicBezTo>
                <a:cubicBezTo>
                  <a:pt x="1944624" y="2271155"/>
                  <a:pt x="2308860" y="2184287"/>
                  <a:pt x="2569464" y="2106563"/>
                </a:cubicBezTo>
                <a:cubicBezTo>
                  <a:pt x="2830068" y="2028839"/>
                  <a:pt x="3209544" y="1868819"/>
                  <a:pt x="3209544" y="1868819"/>
                </a:cubicBezTo>
                <a:lnTo>
                  <a:pt x="4069080" y="1539635"/>
                </a:lnTo>
                <a:cubicBezTo>
                  <a:pt x="4366260" y="1426859"/>
                  <a:pt x="4664964" y="1307987"/>
                  <a:pt x="4992624" y="1192163"/>
                </a:cubicBezTo>
                <a:cubicBezTo>
                  <a:pt x="5320284" y="1076339"/>
                  <a:pt x="5739384" y="939179"/>
                  <a:pt x="6035040" y="844691"/>
                </a:cubicBezTo>
                <a:cubicBezTo>
                  <a:pt x="6330696" y="750203"/>
                  <a:pt x="6487668" y="702959"/>
                  <a:pt x="6766560" y="625235"/>
                </a:cubicBezTo>
                <a:cubicBezTo>
                  <a:pt x="7045452" y="547511"/>
                  <a:pt x="7299960" y="460643"/>
                  <a:pt x="7708392" y="378347"/>
                </a:cubicBezTo>
                <a:cubicBezTo>
                  <a:pt x="8116824" y="296051"/>
                  <a:pt x="8630412" y="193943"/>
                  <a:pt x="9217152" y="131459"/>
                </a:cubicBezTo>
                <a:cubicBezTo>
                  <a:pt x="9803892" y="68975"/>
                  <a:pt x="10733532" y="17159"/>
                  <a:pt x="11228832" y="3443"/>
                </a:cubicBezTo>
                <a:cubicBezTo>
                  <a:pt x="11724132" y="-10273"/>
                  <a:pt x="11956542" y="19445"/>
                  <a:pt x="12188952" y="49163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38"/>
          <p:cNvSpPr/>
          <p:nvPr/>
        </p:nvSpPr>
        <p:spPr>
          <a:xfrm>
            <a:off x="0" y="2390760"/>
            <a:ext cx="9137520" cy="1357200"/>
          </a:xfrm>
          <a:custGeom>
            <a:avLst/>
            <a:gdLst/>
            <a:ahLst/>
            <a:rect l="l" t="t" r="r" b="b"/>
            <a:pathLst>
              <a:path w="12188952" h="1810512">
                <a:moveTo>
                  <a:pt x="0" y="1810512"/>
                </a:moveTo>
                <a:lnTo>
                  <a:pt x="996696" y="1664208"/>
                </a:lnTo>
                <a:lnTo>
                  <a:pt x="2569464" y="1426464"/>
                </a:lnTo>
                <a:lnTo>
                  <a:pt x="4096512" y="1207008"/>
                </a:lnTo>
                <a:lnTo>
                  <a:pt x="5989320" y="914400"/>
                </a:lnTo>
                <a:lnTo>
                  <a:pt x="7845552" y="640080"/>
                </a:lnTo>
                <a:lnTo>
                  <a:pt x="9610344" y="384048"/>
                </a:lnTo>
                <a:lnTo>
                  <a:pt x="11018520" y="173736"/>
                </a:lnTo>
                <a:lnTo>
                  <a:pt x="12188952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39"/>
          <p:cNvSpPr/>
          <p:nvPr/>
        </p:nvSpPr>
        <p:spPr>
          <a:xfrm>
            <a:off x="0" y="2235240"/>
            <a:ext cx="9137520" cy="1587600"/>
          </a:xfrm>
          <a:custGeom>
            <a:avLst/>
            <a:gdLst/>
            <a:ahLst/>
            <a:rect l="l" t="t" r="r" b="b"/>
            <a:pathLst>
              <a:path w="12189757" h="2118191">
                <a:moveTo>
                  <a:pt x="0" y="2118191"/>
                </a:moveTo>
                <a:cubicBezTo>
                  <a:pt x="339852" y="2099903"/>
                  <a:pt x="679704" y="2081615"/>
                  <a:pt x="1033272" y="2035895"/>
                </a:cubicBezTo>
                <a:cubicBezTo>
                  <a:pt x="1386840" y="1990175"/>
                  <a:pt x="1793748" y="1913975"/>
                  <a:pt x="2121408" y="1843871"/>
                </a:cubicBezTo>
                <a:cubicBezTo>
                  <a:pt x="2449068" y="1773767"/>
                  <a:pt x="2699004" y="1703663"/>
                  <a:pt x="2999232" y="1615271"/>
                </a:cubicBezTo>
                <a:cubicBezTo>
                  <a:pt x="3299460" y="1526879"/>
                  <a:pt x="3922776" y="1313519"/>
                  <a:pt x="3922776" y="1313519"/>
                </a:cubicBezTo>
                <a:lnTo>
                  <a:pt x="4974336" y="966047"/>
                </a:lnTo>
                <a:cubicBezTo>
                  <a:pt x="5353812" y="839555"/>
                  <a:pt x="5801868" y="671915"/>
                  <a:pt x="6199632" y="554567"/>
                </a:cubicBezTo>
                <a:cubicBezTo>
                  <a:pt x="6597396" y="437219"/>
                  <a:pt x="6934200" y="342731"/>
                  <a:pt x="7360920" y="261959"/>
                </a:cubicBezTo>
                <a:cubicBezTo>
                  <a:pt x="7787640" y="181187"/>
                  <a:pt x="8292084" y="112607"/>
                  <a:pt x="8759952" y="69935"/>
                </a:cubicBezTo>
                <a:cubicBezTo>
                  <a:pt x="9227820" y="27263"/>
                  <a:pt x="9651492" y="16595"/>
                  <a:pt x="10168128" y="5927"/>
                </a:cubicBezTo>
                <a:cubicBezTo>
                  <a:pt x="10684764" y="-4741"/>
                  <a:pt x="11522964" y="1355"/>
                  <a:pt x="11859768" y="5927"/>
                </a:cubicBezTo>
                <a:cubicBezTo>
                  <a:pt x="12196572" y="10499"/>
                  <a:pt x="12192762" y="21929"/>
                  <a:pt x="12188952" y="33359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129200" y="2525760"/>
            <a:ext cx="39204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7"/>
          <p:cNvSpPr/>
          <p:nvPr/>
        </p:nvSpPr>
        <p:spPr>
          <a:xfrm>
            <a:off x="230040" y="4076640"/>
            <a:ext cx="416160" cy="42084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任意多边形 33"/>
          <p:cNvSpPr/>
          <p:nvPr/>
        </p:nvSpPr>
        <p:spPr>
          <a:xfrm>
            <a:off x="0" y="3003480"/>
            <a:ext cx="163440" cy="258840"/>
          </a:xfrm>
          <a:custGeom>
            <a:avLst/>
            <a:gdLst/>
            <a:ahLst/>
            <a:rect l="l" t="t" r="r" b="b"/>
            <a:pathLst>
              <a:path w="217770" h="345695">
                <a:moveTo>
                  <a:pt x="56743" y="0"/>
                </a:moveTo>
                <a:cubicBezTo>
                  <a:pt x="149867" y="8520"/>
                  <a:pt x="221826" y="89457"/>
                  <a:pt x="217593" y="183174"/>
                </a:cubicBezTo>
                <a:cubicBezTo>
                  <a:pt x="213360" y="276891"/>
                  <a:pt x="132935" y="353568"/>
                  <a:pt x="35578" y="345048"/>
                </a:cubicBezTo>
                <a:lnTo>
                  <a:pt x="0" y="335979"/>
                </a:lnTo>
                <a:lnTo>
                  <a:pt x="0" y="8777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1227240" y="3794040"/>
            <a:ext cx="4125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4633920" y="4249800"/>
            <a:ext cx="250920" cy="247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2"/>
          <p:cNvSpPr/>
          <p:nvPr/>
        </p:nvSpPr>
        <p:spPr>
          <a:xfrm>
            <a:off x="6958080" y="3038400"/>
            <a:ext cx="839880" cy="84132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3"/>
          <p:cNvSpPr/>
          <p:nvPr/>
        </p:nvSpPr>
        <p:spPr>
          <a:xfrm>
            <a:off x="8026560" y="283536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4"/>
          <p:cNvSpPr/>
          <p:nvPr/>
        </p:nvSpPr>
        <p:spPr>
          <a:xfrm>
            <a:off x="6529320" y="2100240"/>
            <a:ext cx="25416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5"/>
          <p:cNvSpPr/>
          <p:nvPr/>
        </p:nvSpPr>
        <p:spPr>
          <a:xfrm>
            <a:off x="8362800" y="244332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43"/>
          <p:cNvSpPr/>
          <p:nvPr/>
        </p:nvSpPr>
        <p:spPr>
          <a:xfrm>
            <a:off x="8916840" y="2027160"/>
            <a:ext cx="222480" cy="419040"/>
          </a:xfrm>
          <a:custGeom>
            <a:avLst/>
            <a:gdLst/>
            <a:ahLst/>
            <a:rect l="l" t="t" r="r" b="b"/>
            <a:pathLst>
              <a:path w="295606" h="558655">
                <a:moveTo>
                  <a:pt x="295606" y="0"/>
                </a:moveTo>
                <a:lnTo>
                  <a:pt x="295606" y="554096"/>
                </a:lnTo>
                <a:lnTo>
                  <a:pt x="263833" y="558655"/>
                </a:lnTo>
                <a:cubicBezTo>
                  <a:pt x="110889" y="550186"/>
                  <a:pt x="-8068" y="418912"/>
                  <a:pt x="429" y="262230"/>
                </a:cubicBezTo>
                <a:cubicBezTo>
                  <a:pt x="6802" y="147895"/>
                  <a:pt x="82477" y="52615"/>
                  <a:pt x="186233" y="1569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8451720" y="210348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8"/>
          <p:cNvSpPr/>
          <p:nvPr/>
        </p:nvSpPr>
        <p:spPr>
          <a:xfrm>
            <a:off x="7257960" y="250524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9"/>
          <p:cNvSpPr/>
          <p:nvPr/>
        </p:nvSpPr>
        <p:spPr>
          <a:xfrm>
            <a:off x="8001000" y="1717560"/>
            <a:ext cx="168120" cy="16848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21"/>
          <p:cNvSpPr/>
          <p:nvPr/>
        </p:nvSpPr>
        <p:spPr>
          <a:xfrm>
            <a:off x="1046160" y="294012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22"/>
          <p:cNvSpPr/>
          <p:nvPr/>
        </p:nvSpPr>
        <p:spPr>
          <a:xfrm>
            <a:off x="1370160" y="2924280"/>
            <a:ext cx="2664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776240" y="4227480"/>
            <a:ext cx="11448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4"/>
          <p:cNvSpPr/>
          <p:nvPr/>
        </p:nvSpPr>
        <p:spPr>
          <a:xfrm>
            <a:off x="919080" y="3705120"/>
            <a:ext cx="98640" cy="9864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5"/>
          <p:cNvSpPr/>
          <p:nvPr/>
        </p:nvSpPr>
        <p:spPr>
          <a:xfrm>
            <a:off x="87480" y="4869000"/>
            <a:ext cx="26964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6"/>
          <p:cNvSpPr/>
          <p:nvPr/>
        </p:nvSpPr>
        <p:spPr>
          <a:xfrm>
            <a:off x="928800" y="428472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27"/>
          <p:cNvSpPr/>
          <p:nvPr/>
        </p:nvSpPr>
        <p:spPr>
          <a:xfrm>
            <a:off x="447840" y="2293920"/>
            <a:ext cx="10764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0"/>
          <p:cNvSpPr/>
          <p:nvPr/>
        </p:nvSpPr>
        <p:spPr>
          <a:xfrm>
            <a:off x="4253040" y="2360520"/>
            <a:ext cx="1398600" cy="139860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1"/>
          <p:cNvSpPr/>
          <p:nvPr/>
        </p:nvSpPr>
        <p:spPr>
          <a:xfrm>
            <a:off x="6734160" y="458460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5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6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4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F64C-4EE1-49C6-838E-58C418E16D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31B-679C-4E81-A8ED-EE2481CB2B2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4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2CF-23F6-496A-A206-BF9363876DBE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4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7CBE-25D6-4EE4-8AA5-E1AC03271FB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13C4-433E-499E-B430-16F00C5E3FC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48"/>
          <p:cNvSpPr/>
          <p:nvPr/>
        </p:nvSpPr>
        <p:spPr>
          <a:xfrm>
            <a:off x="6480" y="2462040"/>
            <a:ext cx="2685960" cy="297000"/>
          </a:xfrm>
          <a:custGeom>
            <a:avLst/>
            <a:gdLst/>
            <a:ahLst/>
            <a:rect l="l" t="t" r="r" b="b"/>
            <a:pathLst>
              <a:path w="3578469" h="395654">
                <a:moveTo>
                  <a:pt x="0" y="0"/>
                </a:moveTo>
                <a:lnTo>
                  <a:pt x="1230923" y="140677"/>
                </a:lnTo>
                <a:lnTo>
                  <a:pt x="2224454" y="246185"/>
                </a:lnTo>
                <a:lnTo>
                  <a:pt x="3543300" y="386862"/>
                </a:lnTo>
                <a:lnTo>
                  <a:pt x="3543300" y="386862"/>
                </a:lnTo>
                <a:lnTo>
                  <a:pt x="3578469" y="39565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9"/>
          <p:cNvSpPr/>
          <p:nvPr/>
        </p:nvSpPr>
        <p:spPr>
          <a:xfrm>
            <a:off x="0" y="2535120"/>
            <a:ext cx="2658960" cy="219240"/>
          </a:xfrm>
          <a:custGeom>
            <a:avLst/>
            <a:gdLst/>
            <a:ahLst/>
            <a:rect l="l" t="t" r="r" b="b"/>
            <a:pathLst>
              <a:path w="3543300" h="292539">
                <a:moveTo>
                  <a:pt x="0" y="0"/>
                </a:moveTo>
                <a:cubicBezTo>
                  <a:pt x="471853" y="77665"/>
                  <a:pt x="943707" y="155331"/>
                  <a:pt x="1336430" y="202223"/>
                </a:cubicBezTo>
                <a:cubicBezTo>
                  <a:pt x="1729153" y="249115"/>
                  <a:pt x="1988526" y="266700"/>
                  <a:pt x="2356338" y="281354"/>
                </a:cubicBezTo>
                <a:cubicBezTo>
                  <a:pt x="2724150" y="296008"/>
                  <a:pt x="3133725" y="293077"/>
                  <a:pt x="3543300" y="290147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50"/>
          <p:cNvSpPr/>
          <p:nvPr/>
        </p:nvSpPr>
        <p:spPr>
          <a:xfrm>
            <a:off x="0" y="2336760"/>
            <a:ext cx="9156600" cy="1511280"/>
          </a:xfrm>
          <a:custGeom>
            <a:avLst/>
            <a:gdLst/>
            <a:ahLst/>
            <a:rect l="l" t="t" r="r" b="b"/>
            <a:pathLst>
              <a:path w="12221307" h="2013439">
                <a:moveTo>
                  <a:pt x="0" y="2013439"/>
                </a:moveTo>
                <a:lnTo>
                  <a:pt x="1907930" y="1696916"/>
                </a:lnTo>
                <a:lnTo>
                  <a:pt x="3006969" y="1521069"/>
                </a:lnTo>
                <a:lnTo>
                  <a:pt x="4246684" y="1310054"/>
                </a:lnTo>
                <a:lnTo>
                  <a:pt x="6348046" y="975946"/>
                </a:lnTo>
                <a:lnTo>
                  <a:pt x="9460523" y="483577"/>
                </a:lnTo>
                <a:lnTo>
                  <a:pt x="11517923" y="140677"/>
                </a:lnTo>
                <a:cubicBezTo>
                  <a:pt x="11978054" y="60081"/>
                  <a:pt x="12099680" y="30040"/>
                  <a:pt x="12221307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51"/>
          <p:cNvSpPr/>
          <p:nvPr/>
        </p:nvSpPr>
        <p:spPr>
          <a:xfrm>
            <a:off x="-6480" y="2192400"/>
            <a:ext cx="9164880" cy="1747800"/>
          </a:xfrm>
          <a:custGeom>
            <a:avLst/>
            <a:gdLst/>
            <a:ahLst/>
            <a:rect l="l" t="t" r="r" b="b"/>
            <a:pathLst>
              <a:path w="12212516" h="2329709">
                <a:moveTo>
                  <a:pt x="0" y="2329709"/>
                </a:moveTo>
                <a:cubicBezTo>
                  <a:pt x="392723" y="2301866"/>
                  <a:pt x="785446" y="2274024"/>
                  <a:pt x="1222131" y="2197824"/>
                </a:cubicBezTo>
                <a:cubicBezTo>
                  <a:pt x="1658816" y="2121624"/>
                  <a:pt x="2140927" y="2016117"/>
                  <a:pt x="2620108" y="1872509"/>
                </a:cubicBezTo>
                <a:cubicBezTo>
                  <a:pt x="3099289" y="1728901"/>
                  <a:pt x="4097216" y="1336178"/>
                  <a:pt x="4097216" y="1336178"/>
                </a:cubicBezTo>
                <a:cubicBezTo>
                  <a:pt x="4736124" y="1109043"/>
                  <a:pt x="5832231" y="695805"/>
                  <a:pt x="6453554" y="509701"/>
                </a:cubicBezTo>
                <a:cubicBezTo>
                  <a:pt x="7074877" y="323597"/>
                  <a:pt x="7181850" y="303082"/>
                  <a:pt x="7825154" y="219555"/>
                </a:cubicBezTo>
                <a:cubicBezTo>
                  <a:pt x="8468458" y="136028"/>
                  <a:pt x="9582150" y="34917"/>
                  <a:pt x="10313377" y="8540"/>
                </a:cubicBezTo>
                <a:cubicBezTo>
                  <a:pt x="11044604" y="-17837"/>
                  <a:pt x="11628560" y="21728"/>
                  <a:pt x="12212516" y="6129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52"/>
          <p:cNvSpPr/>
          <p:nvPr/>
        </p:nvSpPr>
        <p:spPr>
          <a:xfrm>
            <a:off x="0" y="2349360"/>
            <a:ext cx="9156600" cy="1920960"/>
          </a:xfrm>
          <a:custGeom>
            <a:avLst/>
            <a:gdLst/>
            <a:ahLst/>
            <a:rect l="l" t="t" r="r" b="b"/>
            <a:pathLst>
              <a:path w="12212515" h="2558561">
                <a:moveTo>
                  <a:pt x="0" y="2558561"/>
                </a:moveTo>
                <a:lnTo>
                  <a:pt x="1274884" y="2286000"/>
                </a:lnTo>
                <a:lnTo>
                  <a:pt x="2778369" y="1969477"/>
                </a:lnTo>
                <a:lnTo>
                  <a:pt x="4765430" y="1582615"/>
                </a:lnTo>
                <a:lnTo>
                  <a:pt x="7877907" y="931984"/>
                </a:lnTo>
                <a:lnTo>
                  <a:pt x="10612315" y="369277"/>
                </a:lnTo>
                <a:cubicBezTo>
                  <a:pt x="11334750" y="213946"/>
                  <a:pt x="11773632" y="106973"/>
                  <a:pt x="12212515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53"/>
          <p:cNvSpPr/>
          <p:nvPr/>
        </p:nvSpPr>
        <p:spPr>
          <a:xfrm>
            <a:off x="0" y="2284560"/>
            <a:ext cx="9156600" cy="2044440"/>
          </a:xfrm>
          <a:custGeom>
            <a:avLst/>
            <a:gdLst/>
            <a:ahLst/>
            <a:rect l="l" t="t" r="r" b="b"/>
            <a:pathLst>
              <a:path w="12212515" h="2725914">
                <a:moveTo>
                  <a:pt x="0" y="2725914"/>
                </a:moveTo>
                <a:cubicBezTo>
                  <a:pt x="400050" y="2676823"/>
                  <a:pt x="800100" y="2627733"/>
                  <a:pt x="1160584" y="2558860"/>
                </a:cubicBezTo>
                <a:cubicBezTo>
                  <a:pt x="1521069" y="2489987"/>
                  <a:pt x="1841988" y="2407926"/>
                  <a:pt x="2162907" y="2312676"/>
                </a:cubicBezTo>
                <a:cubicBezTo>
                  <a:pt x="2483826" y="2217426"/>
                  <a:pt x="2790092" y="2101660"/>
                  <a:pt x="3086100" y="1987360"/>
                </a:cubicBezTo>
                <a:cubicBezTo>
                  <a:pt x="3382108" y="1873060"/>
                  <a:pt x="3610708" y="1758760"/>
                  <a:pt x="3938954" y="1626876"/>
                </a:cubicBezTo>
                <a:cubicBezTo>
                  <a:pt x="4267200" y="1494991"/>
                  <a:pt x="4602773" y="1361641"/>
                  <a:pt x="5055577" y="1196053"/>
                </a:cubicBezTo>
                <a:cubicBezTo>
                  <a:pt x="5508381" y="1030465"/>
                  <a:pt x="6169269" y="782814"/>
                  <a:pt x="6655777" y="633345"/>
                </a:cubicBezTo>
                <a:cubicBezTo>
                  <a:pt x="7142285" y="483876"/>
                  <a:pt x="7419242" y="395952"/>
                  <a:pt x="7974623" y="299237"/>
                </a:cubicBezTo>
                <a:cubicBezTo>
                  <a:pt x="8530004" y="202522"/>
                  <a:pt x="9385788" y="102876"/>
                  <a:pt x="9988061" y="53053"/>
                </a:cubicBezTo>
                <a:cubicBezTo>
                  <a:pt x="10590334" y="3230"/>
                  <a:pt x="11217519" y="3230"/>
                  <a:pt x="11588261" y="299"/>
                </a:cubicBezTo>
                <a:cubicBezTo>
                  <a:pt x="11959003" y="-2632"/>
                  <a:pt x="12085759" y="16418"/>
                  <a:pt x="12212515" y="354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4"/>
          <p:cNvSpPr/>
          <p:nvPr/>
        </p:nvSpPr>
        <p:spPr>
          <a:xfrm>
            <a:off x="0" y="3070080"/>
            <a:ext cx="2346480" cy="47880"/>
          </a:xfrm>
          <a:custGeom>
            <a:avLst/>
            <a:gdLst/>
            <a:ahLst/>
            <a:rect l="l" t="t" r="r" b="b"/>
            <a:pathLst>
              <a:path w="3127248" h="64008">
                <a:moveTo>
                  <a:pt x="0" y="64008"/>
                </a:moveTo>
                <a:lnTo>
                  <a:pt x="3127248" y="0"/>
                </a:lnTo>
                <a:lnTo>
                  <a:pt x="3127248" y="0"/>
                </a:lnTo>
                <a:lnTo>
                  <a:pt x="3127248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55"/>
          <p:cNvSpPr/>
          <p:nvPr/>
        </p:nvSpPr>
        <p:spPr>
          <a:xfrm>
            <a:off x="-7920" y="3070080"/>
            <a:ext cx="2327400" cy="101880"/>
          </a:xfrm>
          <a:custGeom>
            <a:avLst/>
            <a:gdLst/>
            <a:ahLst/>
            <a:rect l="l" t="t" r="r" b="b"/>
            <a:pathLst>
              <a:path w="3099816" h="137160">
                <a:moveTo>
                  <a:pt x="0" y="137160"/>
                </a:moveTo>
                <a:lnTo>
                  <a:pt x="1024128" y="128016"/>
                </a:lnTo>
                <a:cubicBezTo>
                  <a:pt x="1417320" y="117348"/>
                  <a:pt x="2013204" y="94488"/>
                  <a:pt x="2359152" y="73152"/>
                </a:cubicBezTo>
                <a:cubicBezTo>
                  <a:pt x="2705100" y="51816"/>
                  <a:pt x="2902458" y="25908"/>
                  <a:pt x="3099816" y="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4056120" y="2252520"/>
            <a:ext cx="39348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228600" y="4098960"/>
            <a:ext cx="415800" cy="42048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1"/>
          <p:cNvSpPr/>
          <p:nvPr/>
        </p:nvSpPr>
        <p:spPr>
          <a:xfrm>
            <a:off x="0" y="3024360"/>
            <a:ext cx="162000" cy="260280"/>
          </a:xfrm>
          <a:custGeom>
            <a:avLst/>
            <a:gdLst/>
            <a:ahLst/>
            <a:rect l="l" t="t" r="r" b="b"/>
            <a:pathLst>
              <a:path w="217145" h="345695">
                <a:moveTo>
                  <a:pt x="56118" y="0"/>
                </a:moveTo>
                <a:cubicBezTo>
                  <a:pt x="149242" y="8520"/>
                  <a:pt x="221201" y="89457"/>
                  <a:pt x="216968" y="183174"/>
                </a:cubicBezTo>
                <a:cubicBezTo>
                  <a:pt x="212735" y="276891"/>
                  <a:pt x="132310" y="353568"/>
                  <a:pt x="34953" y="345048"/>
                </a:cubicBezTo>
                <a:lnTo>
                  <a:pt x="0" y="336138"/>
                </a:lnTo>
                <a:lnTo>
                  <a:pt x="0" y="868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1227240" y="3816360"/>
            <a:ext cx="4143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>
            <a:off x="4637160" y="4272120"/>
            <a:ext cx="309600" cy="30456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5213520" y="4414680"/>
            <a:ext cx="722160" cy="7192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3" y="119"/>
                </a:moveTo>
                <a:cubicBezTo>
                  <a:pt x="220" y="180"/>
                  <a:pt x="168" y="226"/>
                  <a:pt x="107" y="223"/>
                </a:cubicBezTo>
                <a:cubicBezTo>
                  <a:pt x="47" y="220"/>
                  <a:pt x="0" y="168"/>
                  <a:pt x="3" y="107"/>
                </a:cubicBezTo>
                <a:cubicBezTo>
                  <a:pt x="7" y="46"/>
                  <a:pt x="59" y="0"/>
                  <a:pt x="119" y="3"/>
                </a:cubicBezTo>
                <a:cubicBezTo>
                  <a:pt x="180" y="7"/>
                  <a:pt x="227" y="58"/>
                  <a:pt x="223" y="11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6964200" y="3059280"/>
            <a:ext cx="839880" cy="84276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3"/>
          <p:cNvSpPr/>
          <p:nvPr/>
        </p:nvSpPr>
        <p:spPr>
          <a:xfrm>
            <a:off x="8034480" y="285588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535800" y="2120760"/>
            <a:ext cx="25380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"/>
          <p:cNvSpPr/>
          <p:nvPr/>
        </p:nvSpPr>
        <p:spPr>
          <a:xfrm>
            <a:off x="8370720" y="246384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9"/>
          <p:cNvSpPr/>
          <p:nvPr/>
        </p:nvSpPr>
        <p:spPr>
          <a:xfrm>
            <a:off x="8926560" y="2048040"/>
            <a:ext cx="231840" cy="419040"/>
          </a:xfrm>
          <a:custGeom>
            <a:avLst/>
            <a:gdLst/>
            <a:ahLst/>
            <a:rect l="l" t="t" r="r" b="b"/>
            <a:pathLst>
              <a:path w="308862" h="559399">
                <a:moveTo>
                  <a:pt x="297821" y="427"/>
                </a:moveTo>
                <a:lnTo>
                  <a:pt x="308862" y="3305"/>
                </a:lnTo>
                <a:lnTo>
                  <a:pt x="308862" y="552938"/>
                </a:lnTo>
                <a:lnTo>
                  <a:pt x="263833" y="559399"/>
                </a:lnTo>
                <a:cubicBezTo>
                  <a:pt x="110889" y="550930"/>
                  <a:pt x="-8068" y="419656"/>
                  <a:pt x="429" y="262975"/>
                </a:cubicBezTo>
                <a:cubicBezTo>
                  <a:pt x="8926" y="110528"/>
                  <a:pt x="140628" y="-8042"/>
                  <a:pt x="297821" y="42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7"/>
          <p:cNvSpPr/>
          <p:nvPr/>
        </p:nvSpPr>
        <p:spPr>
          <a:xfrm>
            <a:off x="8459640" y="212400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8"/>
          <p:cNvSpPr/>
          <p:nvPr/>
        </p:nvSpPr>
        <p:spPr>
          <a:xfrm>
            <a:off x="7264440" y="252576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9"/>
          <p:cNvSpPr/>
          <p:nvPr/>
        </p:nvSpPr>
        <p:spPr>
          <a:xfrm>
            <a:off x="8008920" y="1738440"/>
            <a:ext cx="168120" cy="16812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0"/>
          <p:cNvSpPr/>
          <p:nvPr/>
        </p:nvSpPr>
        <p:spPr>
          <a:xfrm>
            <a:off x="4226040" y="2092320"/>
            <a:ext cx="1398600" cy="1401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"/>
          <p:cNvSpPr/>
          <p:nvPr/>
        </p:nvSpPr>
        <p:spPr>
          <a:xfrm>
            <a:off x="1046160" y="296064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2"/>
          <p:cNvSpPr/>
          <p:nvPr/>
        </p:nvSpPr>
        <p:spPr>
          <a:xfrm>
            <a:off x="1370160" y="2944800"/>
            <a:ext cx="2682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3"/>
          <p:cNvSpPr/>
          <p:nvPr/>
        </p:nvSpPr>
        <p:spPr>
          <a:xfrm>
            <a:off x="1778040" y="4249800"/>
            <a:ext cx="11412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>
            <a:off x="919080" y="3727440"/>
            <a:ext cx="98640" cy="9828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5"/>
          <p:cNvSpPr/>
          <p:nvPr/>
        </p:nvSpPr>
        <p:spPr>
          <a:xfrm>
            <a:off x="85680" y="4890960"/>
            <a:ext cx="27000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6"/>
          <p:cNvSpPr/>
          <p:nvPr/>
        </p:nvSpPr>
        <p:spPr>
          <a:xfrm>
            <a:off x="928800" y="430704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7"/>
          <p:cNvSpPr/>
          <p:nvPr/>
        </p:nvSpPr>
        <p:spPr>
          <a:xfrm>
            <a:off x="446040" y="2314440"/>
            <a:ext cx="10800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8"/>
          <p:cNvSpPr/>
          <p:nvPr/>
        </p:nvSpPr>
        <p:spPr>
          <a:xfrm>
            <a:off x="722160" y="1739880"/>
            <a:ext cx="1179720" cy="118584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9"/>
          <p:cNvSpPr/>
          <p:nvPr/>
        </p:nvSpPr>
        <p:spPr>
          <a:xfrm>
            <a:off x="763560" y="1803240"/>
            <a:ext cx="1096920" cy="109728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3390840" y="4386240"/>
            <a:ext cx="263520" cy="264960"/>
            <a:chOff x="3390840" y="4386240"/>
            <a:chExt cx="263520" cy="264960"/>
          </a:xfrm>
        </p:grpSpPr>
        <p:sp>
          <p:nvSpPr>
            <p:cNvPr id="115" name="Freeform 33"/>
            <p:cNvSpPr/>
            <p:nvPr/>
          </p:nvSpPr>
          <p:spPr>
            <a:xfrm>
              <a:off x="3390840" y="4386240"/>
              <a:ext cx="263520" cy="2649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3495600" y="447660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35"/>
          <p:cNvGrpSpPr/>
          <p:nvPr/>
        </p:nvGrpSpPr>
        <p:grpSpPr>
          <a:xfrm>
            <a:off x="4324320" y="2744640"/>
            <a:ext cx="263520" cy="263520"/>
            <a:chOff x="4324320" y="2744640"/>
            <a:chExt cx="263520" cy="263520"/>
          </a:xfrm>
        </p:grpSpPr>
        <p:sp>
          <p:nvSpPr>
            <p:cNvPr id="118" name="Freeform 36"/>
            <p:cNvSpPr/>
            <p:nvPr/>
          </p:nvSpPr>
          <p:spPr>
            <a:xfrm>
              <a:off x="4324320" y="2744640"/>
              <a:ext cx="26352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4429080" y="283356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8"/>
          <p:cNvGrpSpPr/>
          <p:nvPr/>
        </p:nvGrpSpPr>
        <p:grpSpPr>
          <a:xfrm>
            <a:off x="1060560" y="3708360"/>
            <a:ext cx="264960" cy="263520"/>
            <a:chOff x="1060560" y="3708360"/>
            <a:chExt cx="264960" cy="263520"/>
          </a:xfrm>
        </p:grpSpPr>
        <p:sp>
          <p:nvSpPr>
            <p:cNvPr id="121" name="Freeform 39"/>
            <p:cNvSpPr/>
            <p:nvPr/>
          </p:nvSpPr>
          <p:spPr>
            <a:xfrm>
              <a:off x="1060560" y="3708360"/>
              <a:ext cx="26496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1149480" y="37908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30"/>
          <p:cNvSpPr/>
          <p:nvPr/>
        </p:nvSpPr>
        <p:spPr>
          <a:xfrm>
            <a:off x="1266840" y="1695600"/>
            <a:ext cx="3262320" cy="3268440"/>
          </a:xfrm>
          <a:custGeom>
            <a:avLst/>
            <a:gdLst/>
            <a:ahLst/>
            <a:rect l="l" t="t" r="r" b="b"/>
            <a:pathLst>
              <a:path w="1063" h="1063">
                <a:moveTo>
                  <a:pt x="1048" y="560"/>
                </a:moveTo>
                <a:cubicBezTo>
                  <a:pt x="1032" y="844"/>
                  <a:pt x="789" y="1063"/>
                  <a:pt x="504" y="1047"/>
                </a:cubicBezTo>
                <a:cubicBezTo>
                  <a:pt x="219" y="1032"/>
                  <a:pt x="0" y="788"/>
                  <a:pt x="16" y="503"/>
                </a:cubicBezTo>
                <a:cubicBezTo>
                  <a:pt x="31" y="219"/>
                  <a:pt x="275" y="0"/>
                  <a:pt x="560" y="16"/>
                </a:cubicBezTo>
                <a:cubicBezTo>
                  <a:pt x="845" y="31"/>
                  <a:pt x="1063" y="275"/>
                  <a:pt x="1048" y="56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1"/>
          <p:cNvSpPr/>
          <p:nvPr/>
        </p:nvSpPr>
        <p:spPr>
          <a:xfrm>
            <a:off x="1376280" y="1859040"/>
            <a:ext cx="3052800" cy="3056040"/>
          </a:xfrm>
          <a:custGeom>
            <a:avLst/>
            <a:gdLst/>
            <a:ahLst/>
            <a:rect l="l" t="t" r="r" b="b"/>
            <a:pathLst>
              <a:path w="987" h="986">
                <a:moveTo>
                  <a:pt x="972" y="519"/>
                </a:moveTo>
                <a:cubicBezTo>
                  <a:pt x="958" y="783"/>
                  <a:pt x="732" y="986"/>
                  <a:pt x="467" y="972"/>
                </a:cubicBezTo>
                <a:cubicBezTo>
                  <a:pt x="203" y="957"/>
                  <a:pt x="0" y="731"/>
                  <a:pt x="15" y="467"/>
                </a:cubicBezTo>
                <a:cubicBezTo>
                  <a:pt x="29" y="203"/>
                  <a:pt x="255" y="0"/>
                  <a:pt x="519" y="14"/>
                </a:cubicBezTo>
                <a:cubicBezTo>
                  <a:pt x="784" y="29"/>
                  <a:pt x="987" y="255"/>
                  <a:pt x="972" y="519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>
            <a:off x="-7920" y="0"/>
            <a:ext cx="915336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3"/>
          <p:cNvSpPr/>
          <p:nvPr/>
        </p:nvSpPr>
        <p:spPr>
          <a:xfrm>
            <a:off x="-7920" y="6640560"/>
            <a:ext cx="915336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A05C-4CB8-4311-8014-AF72309FF8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388800" y="1501920"/>
            <a:ext cx="8317080" cy="417492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388800" y="5627520"/>
            <a:ext cx="831708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14040" bIns="140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01F4-CEE7-4DB6-B1BB-095E49AB1D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973240" y="2843280"/>
            <a:ext cx="5154840" cy="1154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3"/>
          <p:cNvSpPr/>
          <p:nvPr/>
        </p:nvSpPr>
        <p:spPr>
          <a:xfrm>
            <a:off x="2049480" y="-9360"/>
            <a:ext cx="458640" cy="6867360"/>
          </a:xfrm>
          <a:custGeom>
            <a:avLst/>
            <a:gdLst/>
            <a:ahLst/>
            <a:rect l="l" t="t" r="r" b="b"/>
            <a:pathLst>
              <a:path w="459157" h="6839712">
                <a:moveTo>
                  <a:pt x="365760" y="0"/>
                </a:moveTo>
                <a:cubicBezTo>
                  <a:pt x="371856" y="292608"/>
                  <a:pt x="377952" y="585216"/>
                  <a:pt x="384048" y="896112"/>
                </a:cubicBezTo>
                <a:cubicBezTo>
                  <a:pt x="390144" y="1207008"/>
                  <a:pt x="391668" y="1508760"/>
                  <a:pt x="402336" y="1865376"/>
                </a:cubicBezTo>
                <a:cubicBezTo>
                  <a:pt x="413004" y="2221992"/>
                  <a:pt x="441960" y="2631948"/>
                  <a:pt x="448056" y="3035808"/>
                </a:cubicBezTo>
                <a:cubicBezTo>
                  <a:pt x="454152" y="3439668"/>
                  <a:pt x="473964" y="3828288"/>
                  <a:pt x="438912" y="4288536"/>
                </a:cubicBezTo>
                <a:cubicBezTo>
                  <a:pt x="403860" y="4748784"/>
                  <a:pt x="310896" y="5372100"/>
                  <a:pt x="237744" y="5797296"/>
                </a:cubicBezTo>
                <a:cubicBezTo>
                  <a:pt x="164592" y="6222492"/>
                  <a:pt x="82296" y="6531102"/>
                  <a:pt x="0" y="6839712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4"/>
          <p:cNvSpPr/>
          <p:nvPr/>
        </p:nvSpPr>
        <p:spPr>
          <a:xfrm>
            <a:off x="1397160" y="9360"/>
            <a:ext cx="1110960" cy="6848640"/>
          </a:xfrm>
          <a:custGeom>
            <a:avLst/>
            <a:gdLst/>
            <a:ahLst/>
            <a:rect l="l" t="t" r="r" b="b"/>
            <a:pathLst>
              <a:path w="1110307" h="6968889">
                <a:moveTo>
                  <a:pt x="1110307" y="0"/>
                </a:moveTo>
                <a:cubicBezTo>
                  <a:pt x="1071445" y="224028"/>
                  <a:pt x="1032583" y="448056"/>
                  <a:pt x="973147" y="813816"/>
                </a:cubicBezTo>
                <a:cubicBezTo>
                  <a:pt x="913711" y="1179576"/>
                  <a:pt x="816175" y="1798320"/>
                  <a:pt x="753691" y="2194560"/>
                </a:cubicBezTo>
                <a:cubicBezTo>
                  <a:pt x="691207" y="2590800"/>
                  <a:pt x="669871" y="2734056"/>
                  <a:pt x="598243" y="3191256"/>
                </a:cubicBezTo>
                <a:cubicBezTo>
                  <a:pt x="526615" y="3648456"/>
                  <a:pt x="418411" y="4343400"/>
                  <a:pt x="323923" y="4937760"/>
                </a:cubicBezTo>
                <a:cubicBezTo>
                  <a:pt x="229435" y="5532120"/>
                  <a:pt x="81607" y="6437376"/>
                  <a:pt x="31315" y="6757416"/>
                </a:cubicBezTo>
                <a:cubicBezTo>
                  <a:pt x="-18977" y="7077456"/>
                  <a:pt x="1597" y="6967728"/>
                  <a:pt x="22171" y="685800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5"/>
          <p:cNvSpPr/>
          <p:nvPr/>
        </p:nvSpPr>
        <p:spPr>
          <a:xfrm>
            <a:off x="1427040" y="-9360"/>
            <a:ext cx="2268720" cy="6867360"/>
          </a:xfrm>
          <a:custGeom>
            <a:avLst/>
            <a:gdLst/>
            <a:ahLst/>
            <a:rect l="l" t="t" r="r" b="b"/>
            <a:pathLst>
              <a:path w="2268166" h="6867144">
                <a:moveTo>
                  <a:pt x="0" y="0"/>
                </a:moveTo>
                <a:cubicBezTo>
                  <a:pt x="25908" y="131064"/>
                  <a:pt x="51816" y="262128"/>
                  <a:pt x="100584" y="438912"/>
                </a:cubicBezTo>
                <a:cubicBezTo>
                  <a:pt x="149352" y="615696"/>
                  <a:pt x="213360" y="824484"/>
                  <a:pt x="292608" y="1060704"/>
                </a:cubicBezTo>
                <a:cubicBezTo>
                  <a:pt x="371856" y="1296924"/>
                  <a:pt x="469392" y="1589532"/>
                  <a:pt x="576072" y="1856232"/>
                </a:cubicBezTo>
                <a:cubicBezTo>
                  <a:pt x="682752" y="2122932"/>
                  <a:pt x="844296" y="2453640"/>
                  <a:pt x="932688" y="2660904"/>
                </a:cubicBezTo>
                <a:cubicBezTo>
                  <a:pt x="1021080" y="2868168"/>
                  <a:pt x="950976" y="2670048"/>
                  <a:pt x="1106424" y="3099816"/>
                </a:cubicBezTo>
                <a:cubicBezTo>
                  <a:pt x="1261872" y="3529584"/>
                  <a:pt x="1682496" y="4660392"/>
                  <a:pt x="1865376" y="5239512"/>
                </a:cubicBezTo>
                <a:cubicBezTo>
                  <a:pt x="2048256" y="5818632"/>
                  <a:pt x="2136648" y="6303264"/>
                  <a:pt x="2203704" y="6574536"/>
                </a:cubicBezTo>
                <a:cubicBezTo>
                  <a:pt x="2270760" y="6845808"/>
                  <a:pt x="2269236" y="6856476"/>
                  <a:pt x="2267712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6"/>
          <p:cNvSpPr/>
          <p:nvPr/>
        </p:nvSpPr>
        <p:spPr>
          <a:xfrm>
            <a:off x="1550880" y="0"/>
            <a:ext cx="1449360" cy="6858000"/>
          </a:xfrm>
          <a:custGeom>
            <a:avLst/>
            <a:gdLst/>
            <a:ahLst/>
            <a:rect l="l" t="t" r="r" b="b"/>
            <a:pathLst>
              <a:path w="1448806" h="6882856">
                <a:moveTo>
                  <a:pt x="13198" y="15712"/>
                </a:moveTo>
                <a:cubicBezTo>
                  <a:pt x="1768" y="-3338"/>
                  <a:pt x="-9662" y="-22388"/>
                  <a:pt x="13198" y="70576"/>
                </a:cubicBezTo>
                <a:cubicBezTo>
                  <a:pt x="36058" y="163540"/>
                  <a:pt x="97018" y="331180"/>
                  <a:pt x="150358" y="573496"/>
                </a:cubicBezTo>
                <a:cubicBezTo>
                  <a:pt x="203698" y="815812"/>
                  <a:pt x="282946" y="1259296"/>
                  <a:pt x="333238" y="1524472"/>
                </a:cubicBezTo>
                <a:cubicBezTo>
                  <a:pt x="383530" y="1789648"/>
                  <a:pt x="395722" y="1891756"/>
                  <a:pt x="452110" y="2164552"/>
                </a:cubicBezTo>
                <a:cubicBezTo>
                  <a:pt x="508498" y="2437348"/>
                  <a:pt x="596890" y="2813776"/>
                  <a:pt x="671566" y="3161248"/>
                </a:cubicBezTo>
                <a:cubicBezTo>
                  <a:pt x="746242" y="3508720"/>
                  <a:pt x="834634" y="3914104"/>
                  <a:pt x="900166" y="4249384"/>
                </a:cubicBezTo>
                <a:cubicBezTo>
                  <a:pt x="965698" y="4584664"/>
                  <a:pt x="1000750" y="4858984"/>
                  <a:pt x="1064758" y="5172928"/>
                </a:cubicBezTo>
                <a:cubicBezTo>
                  <a:pt x="1128766" y="5486872"/>
                  <a:pt x="1220206" y="5848060"/>
                  <a:pt x="1284214" y="6133048"/>
                </a:cubicBezTo>
                <a:cubicBezTo>
                  <a:pt x="1348222" y="6418036"/>
                  <a:pt x="1398514" y="6650446"/>
                  <a:pt x="1448806" y="6882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"/>
          <p:cNvSpPr/>
          <p:nvPr/>
        </p:nvSpPr>
        <p:spPr>
          <a:xfrm>
            <a:off x="2570040" y="0"/>
            <a:ext cx="365400" cy="6848640"/>
          </a:xfrm>
          <a:custGeom>
            <a:avLst/>
            <a:gdLst/>
            <a:ahLst/>
            <a:rect l="l" t="t" r="r" b="b"/>
            <a:pathLst>
              <a:path w="365760" h="6848856">
                <a:moveTo>
                  <a:pt x="365760" y="0"/>
                </a:moveTo>
                <a:cubicBezTo>
                  <a:pt x="348234" y="116586"/>
                  <a:pt x="330708" y="233172"/>
                  <a:pt x="310896" y="347472"/>
                </a:cubicBezTo>
                <a:cubicBezTo>
                  <a:pt x="291084" y="461772"/>
                  <a:pt x="269748" y="556260"/>
                  <a:pt x="246888" y="685800"/>
                </a:cubicBezTo>
                <a:cubicBezTo>
                  <a:pt x="224028" y="815340"/>
                  <a:pt x="193548" y="937260"/>
                  <a:pt x="173736" y="1124712"/>
                </a:cubicBezTo>
                <a:cubicBezTo>
                  <a:pt x="153924" y="1312164"/>
                  <a:pt x="131064" y="1554480"/>
                  <a:pt x="128016" y="1810512"/>
                </a:cubicBezTo>
                <a:cubicBezTo>
                  <a:pt x="124968" y="2066544"/>
                  <a:pt x="152400" y="2394204"/>
                  <a:pt x="155448" y="2660904"/>
                </a:cubicBezTo>
                <a:cubicBezTo>
                  <a:pt x="158496" y="2927604"/>
                  <a:pt x="149352" y="3136392"/>
                  <a:pt x="146304" y="3410712"/>
                </a:cubicBezTo>
                <a:cubicBezTo>
                  <a:pt x="143256" y="3685032"/>
                  <a:pt x="141732" y="4002024"/>
                  <a:pt x="137160" y="4306824"/>
                </a:cubicBezTo>
                <a:cubicBezTo>
                  <a:pt x="132588" y="4611624"/>
                  <a:pt x="128016" y="4978908"/>
                  <a:pt x="118872" y="5239512"/>
                </a:cubicBezTo>
                <a:cubicBezTo>
                  <a:pt x="109728" y="5500116"/>
                  <a:pt x="96012" y="5676900"/>
                  <a:pt x="82296" y="5870448"/>
                </a:cubicBezTo>
                <a:cubicBezTo>
                  <a:pt x="68580" y="6063996"/>
                  <a:pt x="50292" y="6237732"/>
                  <a:pt x="36576" y="6400800"/>
                </a:cubicBezTo>
                <a:cubicBezTo>
                  <a:pt x="22860" y="6563868"/>
                  <a:pt x="11430" y="6706362"/>
                  <a:pt x="0" y="6848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8"/>
          <p:cNvSpPr/>
          <p:nvPr/>
        </p:nvSpPr>
        <p:spPr>
          <a:xfrm>
            <a:off x="1884240" y="0"/>
            <a:ext cx="1206720" cy="6867360"/>
          </a:xfrm>
          <a:custGeom>
            <a:avLst/>
            <a:gdLst/>
            <a:ahLst/>
            <a:rect l="l" t="t" r="r" b="b"/>
            <a:pathLst>
              <a:path w="1207008" h="6867144">
                <a:moveTo>
                  <a:pt x="1207008" y="0"/>
                </a:moveTo>
                <a:cubicBezTo>
                  <a:pt x="1179576" y="169926"/>
                  <a:pt x="1152144" y="339852"/>
                  <a:pt x="1115568" y="539496"/>
                </a:cubicBezTo>
                <a:cubicBezTo>
                  <a:pt x="1078992" y="739140"/>
                  <a:pt x="1027176" y="972312"/>
                  <a:pt x="987552" y="1197864"/>
                </a:cubicBezTo>
                <a:cubicBezTo>
                  <a:pt x="947928" y="1423416"/>
                  <a:pt x="912876" y="1697736"/>
                  <a:pt x="877824" y="1892808"/>
                </a:cubicBezTo>
                <a:cubicBezTo>
                  <a:pt x="842772" y="2087880"/>
                  <a:pt x="815340" y="2167128"/>
                  <a:pt x="777240" y="2368296"/>
                </a:cubicBezTo>
                <a:cubicBezTo>
                  <a:pt x="739140" y="2569464"/>
                  <a:pt x="649224" y="3099816"/>
                  <a:pt x="649224" y="3099816"/>
                </a:cubicBezTo>
                <a:cubicBezTo>
                  <a:pt x="597408" y="3395472"/>
                  <a:pt x="536448" y="3750564"/>
                  <a:pt x="466344" y="4142232"/>
                </a:cubicBezTo>
                <a:cubicBezTo>
                  <a:pt x="396240" y="4533900"/>
                  <a:pt x="306324" y="4995672"/>
                  <a:pt x="228600" y="5449824"/>
                </a:cubicBezTo>
                <a:cubicBezTo>
                  <a:pt x="150876" y="5903976"/>
                  <a:pt x="75438" y="6385560"/>
                  <a:pt x="0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86"/>
          <p:cNvSpPr/>
          <p:nvPr/>
        </p:nvSpPr>
        <p:spPr>
          <a:xfrm>
            <a:off x="3121200" y="-36360"/>
            <a:ext cx="517320" cy="384120"/>
          </a:xfrm>
          <a:custGeom>
            <a:avLst/>
            <a:gdLst/>
            <a:ahLst/>
            <a:rect l="l" t="t" r="r" b="b"/>
            <a:pathLst>
              <a:path w="517073" h="384018">
                <a:moveTo>
                  <a:pt x="33900" y="0"/>
                </a:moveTo>
                <a:lnTo>
                  <a:pt x="478108" y="0"/>
                </a:lnTo>
                <a:lnTo>
                  <a:pt x="500543" y="37822"/>
                </a:lnTo>
                <a:cubicBezTo>
                  <a:pt x="512148" y="69508"/>
                  <a:pt x="518017" y="103807"/>
                  <a:pt x="516950" y="139177"/>
                </a:cubicBezTo>
                <a:cubicBezTo>
                  <a:pt x="508413" y="280659"/>
                  <a:pt x="384626" y="392130"/>
                  <a:pt x="243766" y="383555"/>
                </a:cubicBezTo>
                <a:cubicBezTo>
                  <a:pt x="102906" y="374981"/>
                  <a:pt x="-8075" y="254935"/>
                  <a:pt x="462" y="109166"/>
                </a:cubicBezTo>
                <a:cubicBezTo>
                  <a:pt x="2597" y="73795"/>
                  <a:pt x="11667" y="40300"/>
                  <a:pt x="26340" y="10088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94"/>
          <p:cNvSpPr/>
          <p:nvPr/>
        </p:nvSpPr>
        <p:spPr>
          <a:xfrm>
            <a:off x="3357720" y="6472080"/>
            <a:ext cx="542880" cy="385920"/>
          </a:xfrm>
          <a:custGeom>
            <a:avLst/>
            <a:gdLst/>
            <a:ahLst/>
            <a:rect l="l" t="t" r="r" b="b"/>
            <a:pathLst>
              <a:path w="542989" h="385715">
                <a:moveTo>
                  <a:pt x="286435" y="448"/>
                </a:moveTo>
                <a:cubicBezTo>
                  <a:pt x="435832" y="9021"/>
                  <a:pt x="551081" y="137613"/>
                  <a:pt x="542544" y="287638"/>
                </a:cubicBezTo>
                <a:lnTo>
                  <a:pt x="519226" y="385715"/>
                </a:lnTo>
                <a:lnTo>
                  <a:pt x="26804" y="385715"/>
                </a:lnTo>
                <a:lnTo>
                  <a:pt x="15853" y="367071"/>
                </a:lnTo>
                <a:cubicBezTo>
                  <a:pt x="3914" y="333181"/>
                  <a:pt x="-1688" y="296211"/>
                  <a:pt x="446" y="257633"/>
                </a:cubicBezTo>
                <a:cubicBezTo>
                  <a:pt x="8983" y="107608"/>
                  <a:pt x="137038" y="-8125"/>
                  <a:pt x="286435" y="44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1081080" y="1884240"/>
            <a:ext cx="353880" cy="3603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1317600" y="4940280"/>
            <a:ext cx="555480" cy="56052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>
            <a:off x="3792600" y="4692600"/>
            <a:ext cx="412560" cy="409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"/>
          <p:cNvSpPr/>
          <p:nvPr/>
        </p:nvSpPr>
        <p:spPr>
          <a:xfrm>
            <a:off x="3211560" y="914400"/>
            <a:ext cx="225360" cy="2271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0"/>
          <p:cNvSpPr/>
          <p:nvPr/>
        </p:nvSpPr>
        <p:spPr>
          <a:xfrm>
            <a:off x="1914480" y="2104920"/>
            <a:ext cx="1749600" cy="1752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2"/>
          <p:cNvSpPr/>
          <p:nvPr/>
        </p:nvSpPr>
        <p:spPr>
          <a:xfrm>
            <a:off x="1279440" y="739800"/>
            <a:ext cx="555840" cy="557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1855800" y="237960"/>
            <a:ext cx="284040" cy="2890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3211560" y="1495440"/>
            <a:ext cx="131760" cy="133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5"/>
          <p:cNvGrpSpPr/>
          <p:nvPr/>
        </p:nvGrpSpPr>
        <p:grpSpPr>
          <a:xfrm>
            <a:off x="3157560" y="2670120"/>
            <a:ext cx="353520" cy="353880"/>
            <a:chOff x="3157560" y="2670120"/>
            <a:chExt cx="353520" cy="353880"/>
          </a:xfrm>
        </p:grpSpPr>
        <p:sp>
          <p:nvSpPr>
            <p:cNvPr id="230" name="Freeform 16"/>
            <p:cNvSpPr/>
            <p:nvPr/>
          </p:nvSpPr>
          <p:spPr>
            <a:xfrm>
              <a:off x="3157560" y="2670120"/>
              <a:ext cx="35352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3297960" y="2789280"/>
              <a:ext cx="93600" cy="12816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8"/>
          <p:cNvGrpSpPr/>
          <p:nvPr/>
        </p:nvGrpSpPr>
        <p:grpSpPr>
          <a:xfrm>
            <a:off x="1773360" y="3592440"/>
            <a:ext cx="354960" cy="353880"/>
            <a:chOff x="1773360" y="3592440"/>
            <a:chExt cx="354960" cy="353880"/>
          </a:xfrm>
        </p:grpSpPr>
        <p:sp>
          <p:nvSpPr>
            <p:cNvPr id="233" name="Freeform 19"/>
            <p:cNvSpPr/>
            <p:nvPr/>
          </p:nvSpPr>
          <p:spPr>
            <a:xfrm>
              <a:off x="1773360" y="3592440"/>
              <a:ext cx="35496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1892520" y="3702960"/>
              <a:ext cx="93600" cy="1238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Freeform 22"/>
          <p:cNvSpPr/>
          <p:nvPr/>
        </p:nvSpPr>
        <p:spPr>
          <a:xfrm rot="5400000">
            <a:off x="1901880" y="2611440"/>
            <a:ext cx="1603440" cy="16128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2523960" y="4983120"/>
            <a:ext cx="353880" cy="355320"/>
            <a:chOff x="2523960" y="4983120"/>
            <a:chExt cx="353880" cy="355320"/>
          </a:xfrm>
        </p:grpSpPr>
        <p:sp>
          <p:nvSpPr>
            <p:cNvPr id="237" name="Freeform 24"/>
            <p:cNvSpPr/>
            <p:nvPr/>
          </p:nvSpPr>
          <p:spPr>
            <a:xfrm>
              <a:off x="2523960" y="4983120"/>
              <a:ext cx="35388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2664720" y="5104080"/>
              <a:ext cx="9360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Freeform 26"/>
          <p:cNvSpPr/>
          <p:nvPr/>
        </p:nvSpPr>
        <p:spPr>
          <a:xfrm>
            <a:off x="2084400" y="2730600"/>
            <a:ext cx="1411200" cy="140184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71A-62AC-4E34-A7AE-D34393C86B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4"/>
          <p:cNvSpPr/>
          <p:nvPr/>
        </p:nvSpPr>
        <p:spPr>
          <a:xfrm>
            <a:off x="39996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462744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39996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462744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FA2-C546-4970-A26E-4A7AD0C9F3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任意多边形 34"/>
          <p:cNvSpPr/>
          <p:nvPr/>
        </p:nvSpPr>
        <p:spPr>
          <a:xfrm>
            <a:off x="0" y="2600280"/>
            <a:ext cx="9137520" cy="897120"/>
          </a:xfrm>
          <a:custGeom>
            <a:avLst/>
            <a:gdLst/>
            <a:ahLst/>
            <a:rect l="l" t="t" r="r" b="b"/>
            <a:pathLst>
              <a:path w="12207240" h="1196724">
                <a:moveTo>
                  <a:pt x="0" y="41124"/>
                </a:moveTo>
                <a:lnTo>
                  <a:pt x="402336" y="22836"/>
                </a:lnTo>
                <a:cubicBezTo>
                  <a:pt x="691896" y="16740"/>
                  <a:pt x="1114044" y="-10692"/>
                  <a:pt x="1737360" y="4548"/>
                </a:cubicBezTo>
                <a:cubicBezTo>
                  <a:pt x="2360676" y="19788"/>
                  <a:pt x="3368040" y="53316"/>
                  <a:pt x="4142232" y="114276"/>
                </a:cubicBezTo>
                <a:cubicBezTo>
                  <a:pt x="4916424" y="175236"/>
                  <a:pt x="5705856" y="277344"/>
                  <a:pt x="6382512" y="370308"/>
                </a:cubicBezTo>
                <a:cubicBezTo>
                  <a:pt x="7059168" y="463272"/>
                  <a:pt x="7723632" y="586716"/>
                  <a:pt x="8202168" y="672060"/>
                </a:cubicBezTo>
                <a:cubicBezTo>
                  <a:pt x="8680704" y="757404"/>
                  <a:pt x="8909304" y="822936"/>
                  <a:pt x="9253728" y="882372"/>
                </a:cubicBezTo>
                <a:cubicBezTo>
                  <a:pt x="9598152" y="941808"/>
                  <a:pt x="9887712" y="979908"/>
                  <a:pt x="10268712" y="1028676"/>
                </a:cubicBezTo>
                <a:cubicBezTo>
                  <a:pt x="10649712" y="1077444"/>
                  <a:pt x="11216640" y="1147548"/>
                  <a:pt x="11539728" y="1174980"/>
                </a:cubicBezTo>
                <a:cubicBezTo>
                  <a:pt x="11862816" y="1202412"/>
                  <a:pt x="12035028" y="1197840"/>
                  <a:pt x="12207240" y="11932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5"/>
          <p:cNvSpPr/>
          <p:nvPr/>
        </p:nvSpPr>
        <p:spPr>
          <a:xfrm>
            <a:off x="0" y="2630520"/>
            <a:ext cx="9137520" cy="828720"/>
          </a:xfrm>
          <a:custGeom>
            <a:avLst/>
            <a:gdLst/>
            <a:ahLst/>
            <a:rect l="l" t="t" r="r" b="b"/>
            <a:pathLst>
              <a:path w="12198096" h="1106424">
                <a:moveTo>
                  <a:pt x="0" y="0"/>
                </a:moveTo>
                <a:lnTo>
                  <a:pt x="1527048" y="146304"/>
                </a:lnTo>
                <a:lnTo>
                  <a:pt x="3547872" y="320040"/>
                </a:lnTo>
                <a:lnTo>
                  <a:pt x="5312664" y="475488"/>
                </a:lnTo>
                <a:lnTo>
                  <a:pt x="6958584" y="630936"/>
                </a:lnTo>
                <a:lnTo>
                  <a:pt x="8394192" y="768096"/>
                </a:lnTo>
                <a:lnTo>
                  <a:pt x="9144000" y="841248"/>
                </a:lnTo>
                <a:lnTo>
                  <a:pt x="9930384" y="914400"/>
                </a:lnTo>
                <a:lnTo>
                  <a:pt x="11201400" y="1024128"/>
                </a:lnTo>
                <a:lnTo>
                  <a:pt x="12198096" y="110642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36"/>
          <p:cNvSpPr/>
          <p:nvPr/>
        </p:nvSpPr>
        <p:spPr>
          <a:xfrm>
            <a:off x="0" y="2603520"/>
            <a:ext cx="9137520" cy="1747800"/>
          </a:xfrm>
          <a:custGeom>
            <a:avLst/>
            <a:gdLst/>
            <a:ahLst/>
            <a:rect l="l" t="t" r="r" b="b"/>
            <a:pathLst>
              <a:path w="12124944" h="2331720">
                <a:moveTo>
                  <a:pt x="0" y="2331720"/>
                </a:moveTo>
                <a:lnTo>
                  <a:pt x="832104" y="2176272"/>
                </a:lnTo>
                <a:lnTo>
                  <a:pt x="1856232" y="1975104"/>
                </a:lnTo>
                <a:lnTo>
                  <a:pt x="2688336" y="1819656"/>
                </a:lnTo>
                <a:lnTo>
                  <a:pt x="3831336" y="1600200"/>
                </a:lnTo>
                <a:cubicBezTo>
                  <a:pt x="4283964" y="1510284"/>
                  <a:pt x="4805172" y="1391412"/>
                  <a:pt x="5404104" y="1280160"/>
                </a:cubicBezTo>
                <a:cubicBezTo>
                  <a:pt x="6003036" y="1168908"/>
                  <a:pt x="6774180" y="1054608"/>
                  <a:pt x="7424928" y="932688"/>
                </a:cubicBezTo>
                <a:cubicBezTo>
                  <a:pt x="8075676" y="810768"/>
                  <a:pt x="9308592" y="548640"/>
                  <a:pt x="9308592" y="548640"/>
                </a:cubicBezTo>
                <a:lnTo>
                  <a:pt x="10954512" y="219456"/>
                </a:lnTo>
                <a:lnTo>
                  <a:pt x="12124944" y="0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37"/>
          <p:cNvSpPr/>
          <p:nvPr/>
        </p:nvSpPr>
        <p:spPr>
          <a:xfrm>
            <a:off x="0" y="2470320"/>
            <a:ext cx="9137520" cy="1928520"/>
          </a:xfrm>
          <a:custGeom>
            <a:avLst/>
            <a:gdLst/>
            <a:ahLst/>
            <a:rect l="l" t="t" r="r" b="b"/>
            <a:pathLst>
              <a:path w="12188952" h="2572907">
                <a:moveTo>
                  <a:pt x="0" y="2572907"/>
                </a:moveTo>
                <a:cubicBezTo>
                  <a:pt x="251460" y="2551571"/>
                  <a:pt x="502920" y="2530235"/>
                  <a:pt x="777240" y="2490611"/>
                </a:cubicBezTo>
                <a:cubicBezTo>
                  <a:pt x="1051560" y="2450987"/>
                  <a:pt x="1347216" y="2399171"/>
                  <a:pt x="1645920" y="2335163"/>
                </a:cubicBezTo>
                <a:cubicBezTo>
                  <a:pt x="1944624" y="2271155"/>
                  <a:pt x="2308860" y="2184287"/>
                  <a:pt x="2569464" y="2106563"/>
                </a:cubicBezTo>
                <a:cubicBezTo>
                  <a:pt x="2830068" y="2028839"/>
                  <a:pt x="3209544" y="1868819"/>
                  <a:pt x="3209544" y="1868819"/>
                </a:cubicBezTo>
                <a:lnTo>
                  <a:pt x="4069080" y="1539635"/>
                </a:lnTo>
                <a:cubicBezTo>
                  <a:pt x="4366260" y="1426859"/>
                  <a:pt x="4664964" y="1307987"/>
                  <a:pt x="4992624" y="1192163"/>
                </a:cubicBezTo>
                <a:cubicBezTo>
                  <a:pt x="5320284" y="1076339"/>
                  <a:pt x="5739384" y="939179"/>
                  <a:pt x="6035040" y="844691"/>
                </a:cubicBezTo>
                <a:cubicBezTo>
                  <a:pt x="6330696" y="750203"/>
                  <a:pt x="6487668" y="702959"/>
                  <a:pt x="6766560" y="625235"/>
                </a:cubicBezTo>
                <a:cubicBezTo>
                  <a:pt x="7045452" y="547511"/>
                  <a:pt x="7299960" y="460643"/>
                  <a:pt x="7708392" y="378347"/>
                </a:cubicBezTo>
                <a:cubicBezTo>
                  <a:pt x="8116824" y="296051"/>
                  <a:pt x="8630412" y="193943"/>
                  <a:pt x="9217152" y="131459"/>
                </a:cubicBezTo>
                <a:cubicBezTo>
                  <a:pt x="9803892" y="68975"/>
                  <a:pt x="10733532" y="17159"/>
                  <a:pt x="11228832" y="3443"/>
                </a:cubicBezTo>
                <a:cubicBezTo>
                  <a:pt x="11724132" y="-10273"/>
                  <a:pt x="11956542" y="19445"/>
                  <a:pt x="12188952" y="49163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38"/>
          <p:cNvSpPr/>
          <p:nvPr/>
        </p:nvSpPr>
        <p:spPr>
          <a:xfrm>
            <a:off x="0" y="2390760"/>
            <a:ext cx="9137520" cy="1357200"/>
          </a:xfrm>
          <a:custGeom>
            <a:avLst/>
            <a:gdLst/>
            <a:ahLst/>
            <a:rect l="l" t="t" r="r" b="b"/>
            <a:pathLst>
              <a:path w="12188952" h="1810512">
                <a:moveTo>
                  <a:pt x="0" y="1810512"/>
                </a:moveTo>
                <a:lnTo>
                  <a:pt x="996696" y="1664208"/>
                </a:lnTo>
                <a:lnTo>
                  <a:pt x="2569464" y="1426464"/>
                </a:lnTo>
                <a:lnTo>
                  <a:pt x="4096512" y="1207008"/>
                </a:lnTo>
                <a:lnTo>
                  <a:pt x="5989320" y="914400"/>
                </a:lnTo>
                <a:lnTo>
                  <a:pt x="7845552" y="640080"/>
                </a:lnTo>
                <a:lnTo>
                  <a:pt x="9610344" y="384048"/>
                </a:lnTo>
                <a:lnTo>
                  <a:pt x="11018520" y="173736"/>
                </a:lnTo>
                <a:lnTo>
                  <a:pt x="12188952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39"/>
          <p:cNvSpPr/>
          <p:nvPr/>
        </p:nvSpPr>
        <p:spPr>
          <a:xfrm>
            <a:off x="0" y="2235240"/>
            <a:ext cx="9137520" cy="1587600"/>
          </a:xfrm>
          <a:custGeom>
            <a:avLst/>
            <a:gdLst/>
            <a:ahLst/>
            <a:rect l="l" t="t" r="r" b="b"/>
            <a:pathLst>
              <a:path w="12189757" h="2118191">
                <a:moveTo>
                  <a:pt x="0" y="2118191"/>
                </a:moveTo>
                <a:cubicBezTo>
                  <a:pt x="339852" y="2099903"/>
                  <a:pt x="679704" y="2081615"/>
                  <a:pt x="1033272" y="2035895"/>
                </a:cubicBezTo>
                <a:cubicBezTo>
                  <a:pt x="1386840" y="1990175"/>
                  <a:pt x="1793748" y="1913975"/>
                  <a:pt x="2121408" y="1843871"/>
                </a:cubicBezTo>
                <a:cubicBezTo>
                  <a:pt x="2449068" y="1773767"/>
                  <a:pt x="2699004" y="1703663"/>
                  <a:pt x="2999232" y="1615271"/>
                </a:cubicBezTo>
                <a:cubicBezTo>
                  <a:pt x="3299460" y="1526879"/>
                  <a:pt x="3922776" y="1313519"/>
                  <a:pt x="3922776" y="1313519"/>
                </a:cubicBezTo>
                <a:lnTo>
                  <a:pt x="4974336" y="966047"/>
                </a:lnTo>
                <a:cubicBezTo>
                  <a:pt x="5353812" y="839555"/>
                  <a:pt x="5801868" y="671915"/>
                  <a:pt x="6199632" y="554567"/>
                </a:cubicBezTo>
                <a:cubicBezTo>
                  <a:pt x="6597396" y="437219"/>
                  <a:pt x="6934200" y="342731"/>
                  <a:pt x="7360920" y="261959"/>
                </a:cubicBezTo>
                <a:cubicBezTo>
                  <a:pt x="7787640" y="181187"/>
                  <a:pt x="8292084" y="112607"/>
                  <a:pt x="8759952" y="69935"/>
                </a:cubicBezTo>
                <a:cubicBezTo>
                  <a:pt x="9227820" y="27263"/>
                  <a:pt x="9651492" y="16595"/>
                  <a:pt x="10168128" y="5927"/>
                </a:cubicBezTo>
                <a:cubicBezTo>
                  <a:pt x="10684764" y="-4741"/>
                  <a:pt x="11522964" y="1355"/>
                  <a:pt x="11859768" y="5927"/>
                </a:cubicBezTo>
                <a:cubicBezTo>
                  <a:pt x="12196572" y="10499"/>
                  <a:pt x="12192762" y="21929"/>
                  <a:pt x="12188952" y="33359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4129200" y="2525760"/>
            <a:ext cx="39204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230040" y="4076640"/>
            <a:ext cx="416160" cy="42084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33"/>
          <p:cNvSpPr/>
          <p:nvPr/>
        </p:nvSpPr>
        <p:spPr>
          <a:xfrm>
            <a:off x="0" y="3003480"/>
            <a:ext cx="163440" cy="258840"/>
          </a:xfrm>
          <a:custGeom>
            <a:avLst/>
            <a:gdLst/>
            <a:ahLst/>
            <a:rect l="l" t="t" r="r" b="b"/>
            <a:pathLst>
              <a:path w="217770" h="345695">
                <a:moveTo>
                  <a:pt x="56743" y="0"/>
                </a:moveTo>
                <a:cubicBezTo>
                  <a:pt x="149867" y="8520"/>
                  <a:pt x="221826" y="89457"/>
                  <a:pt x="217593" y="183174"/>
                </a:cubicBezTo>
                <a:cubicBezTo>
                  <a:pt x="213360" y="276891"/>
                  <a:pt x="132935" y="353568"/>
                  <a:pt x="35578" y="345048"/>
                </a:cubicBezTo>
                <a:lnTo>
                  <a:pt x="0" y="335979"/>
                </a:lnTo>
                <a:lnTo>
                  <a:pt x="0" y="8777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1227240" y="3794040"/>
            <a:ext cx="4125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4633920" y="4249800"/>
            <a:ext cx="250920" cy="247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6958080" y="3038400"/>
            <a:ext cx="839880" cy="84132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8026560" y="283536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6529320" y="2100240"/>
            <a:ext cx="25416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8362800" y="244332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43"/>
          <p:cNvSpPr/>
          <p:nvPr/>
        </p:nvSpPr>
        <p:spPr>
          <a:xfrm>
            <a:off x="8916840" y="2027160"/>
            <a:ext cx="222480" cy="419040"/>
          </a:xfrm>
          <a:custGeom>
            <a:avLst/>
            <a:gdLst/>
            <a:ahLst/>
            <a:rect l="l" t="t" r="r" b="b"/>
            <a:pathLst>
              <a:path w="295606" h="558655">
                <a:moveTo>
                  <a:pt x="295606" y="0"/>
                </a:moveTo>
                <a:lnTo>
                  <a:pt x="295606" y="554096"/>
                </a:lnTo>
                <a:lnTo>
                  <a:pt x="263833" y="558655"/>
                </a:lnTo>
                <a:cubicBezTo>
                  <a:pt x="110889" y="550186"/>
                  <a:pt x="-8068" y="418912"/>
                  <a:pt x="429" y="262230"/>
                </a:cubicBezTo>
                <a:cubicBezTo>
                  <a:pt x="6802" y="147895"/>
                  <a:pt x="82477" y="52615"/>
                  <a:pt x="186233" y="1569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7"/>
          <p:cNvSpPr/>
          <p:nvPr/>
        </p:nvSpPr>
        <p:spPr>
          <a:xfrm>
            <a:off x="8451720" y="210348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7257960" y="250524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8001000" y="1717560"/>
            <a:ext cx="168120" cy="16848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1"/>
          <p:cNvSpPr/>
          <p:nvPr/>
        </p:nvSpPr>
        <p:spPr>
          <a:xfrm>
            <a:off x="1046160" y="294012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2"/>
          <p:cNvSpPr/>
          <p:nvPr/>
        </p:nvSpPr>
        <p:spPr>
          <a:xfrm>
            <a:off x="1370160" y="2924280"/>
            <a:ext cx="2664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3"/>
          <p:cNvSpPr/>
          <p:nvPr/>
        </p:nvSpPr>
        <p:spPr>
          <a:xfrm>
            <a:off x="1776240" y="4227480"/>
            <a:ext cx="11448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4"/>
          <p:cNvSpPr/>
          <p:nvPr/>
        </p:nvSpPr>
        <p:spPr>
          <a:xfrm>
            <a:off x="919080" y="3705120"/>
            <a:ext cx="98640" cy="9864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5"/>
          <p:cNvSpPr/>
          <p:nvPr/>
        </p:nvSpPr>
        <p:spPr>
          <a:xfrm>
            <a:off x="87480" y="4869000"/>
            <a:ext cx="26964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"/>
          <p:cNvSpPr/>
          <p:nvPr/>
        </p:nvSpPr>
        <p:spPr>
          <a:xfrm>
            <a:off x="928800" y="428472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"/>
          <p:cNvSpPr/>
          <p:nvPr/>
        </p:nvSpPr>
        <p:spPr>
          <a:xfrm>
            <a:off x="447840" y="2293920"/>
            <a:ext cx="10764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0"/>
          <p:cNvSpPr/>
          <p:nvPr/>
        </p:nvSpPr>
        <p:spPr>
          <a:xfrm>
            <a:off x="4253040" y="2360520"/>
            <a:ext cx="1398600" cy="139860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1"/>
          <p:cNvSpPr/>
          <p:nvPr/>
        </p:nvSpPr>
        <p:spPr>
          <a:xfrm>
            <a:off x="6734160" y="458460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5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6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681-CA91-4F5C-9F7D-B25991234F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E25-A7F4-4744-B91A-E545BE8F77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7F0-680A-4A3B-807B-FF3588AFB5E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B97-3F67-4D37-93A1-5D73876730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wmf"/><Relationship Id="rId3" Type="http://schemas.openxmlformats.org/officeDocument/2006/relationships/image" Target="../media/image18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le.ruilitang.com/Male/html/1030-2007/993020071030110747-0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36164;&#26009;/&#31532;&#19968;&#33410; &#39046;&#24102;&#30340;&#21382;&#21490;.doc" TargetMode="External"/><Relationship Id="rId2" Type="http://schemas.openxmlformats.org/officeDocument/2006/relationships/hyperlink" Target="http://news.xinhuanet.com/edu/2005-02/07/content_2558052.htm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&#20250;&#35265;&#31036;&#20202;.wmv" TargetMode="External"/><Relationship Id="rId3" Type="http://schemas.openxmlformats.org/officeDocument/2006/relationships/image" Target="../media/image30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wmf"/><Relationship Id="rId3" Type="http://schemas.openxmlformats.org/officeDocument/2006/relationships/image" Target="../media/image3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.wmf"/><Relationship Id="rId3" Type="http://schemas.openxmlformats.org/officeDocument/2006/relationships/image" Target="../media/image5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任意多边形 58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任意多边形 56"/>
          <p:cNvSpPr/>
          <p:nvPr/>
        </p:nvSpPr>
        <p:spPr>
          <a:xfrm rot="5400000">
            <a:off x="-1409760" y="2311200"/>
            <a:ext cx="6872400" cy="224928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5"/>
          <p:cNvGrpSpPr/>
          <p:nvPr/>
        </p:nvGrpSpPr>
        <p:grpSpPr>
          <a:xfrm>
            <a:off x="2671920" y="2643120"/>
            <a:ext cx="352080" cy="352080"/>
            <a:chOff x="2671920" y="2643120"/>
            <a:chExt cx="352080" cy="352080"/>
          </a:xfrm>
        </p:grpSpPr>
        <p:sp>
          <p:nvSpPr>
            <p:cNvPr id="895" name="Freeform 16"/>
            <p:cNvSpPr/>
            <p:nvPr/>
          </p:nvSpPr>
          <p:spPr>
            <a:xfrm>
              <a:off x="2671920" y="2643120"/>
              <a:ext cx="35208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2811960" y="2761920"/>
              <a:ext cx="93240" cy="127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18"/>
          <p:cNvGrpSpPr/>
          <p:nvPr/>
        </p:nvGrpSpPr>
        <p:grpSpPr>
          <a:xfrm>
            <a:off x="887400" y="3821040"/>
            <a:ext cx="355320" cy="352080"/>
            <a:chOff x="887400" y="3821040"/>
            <a:chExt cx="355320" cy="352080"/>
          </a:xfrm>
        </p:grpSpPr>
        <p:sp>
          <p:nvSpPr>
            <p:cNvPr id="898" name="Freeform 19"/>
            <p:cNvSpPr/>
            <p:nvPr/>
          </p:nvSpPr>
          <p:spPr>
            <a:xfrm>
              <a:off x="887400" y="3821040"/>
              <a:ext cx="35532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1006560" y="3931200"/>
              <a:ext cx="93600" cy="12312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23"/>
          <p:cNvGrpSpPr/>
          <p:nvPr/>
        </p:nvGrpSpPr>
        <p:grpSpPr>
          <a:xfrm>
            <a:off x="2000160" y="4975200"/>
            <a:ext cx="350640" cy="355320"/>
            <a:chOff x="2000160" y="4975200"/>
            <a:chExt cx="350640" cy="355320"/>
          </a:xfrm>
        </p:grpSpPr>
        <p:sp>
          <p:nvSpPr>
            <p:cNvPr id="902" name="Freeform 24"/>
            <p:cNvSpPr/>
            <p:nvPr/>
          </p:nvSpPr>
          <p:spPr>
            <a:xfrm>
              <a:off x="2000160" y="4975200"/>
              <a:ext cx="35064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5"/>
            <p:cNvSpPr/>
            <p:nvPr/>
          </p:nvSpPr>
          <p:spPr>
            <a:xfrm>
              <a:off x="2139480" y="5096160"/>
              <a:ext cx="9288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文本框 70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71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28"/>
          <p:cNvSpPr/>
          <p:nvPr/>
        </p:nvSpPr>
        <p:spPr>
          <a:xfrm>
            <a:off x="4697280" y="171288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9"/>
          <p:cNvSpPr/>
          <p:nvPr/>
        </p:nvSpPr>
        <p:spPr>
          <a:xfrm>
            <a:off x="4265640" y="159228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311720" y="161784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2"/>
          <p:cNvSpPr/>
          <p:nvPr/>
        </p:nvSpPr>
        <p:spPr>
          <a:xfrm>
            <a:off x="5043600" y="1749600"/>
            <a:ext cx="3008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商务谈判基本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33"/>
          <p:cNvSpPr/>
          <p:nvPr/>
        </p:nvSpPr>
        <p:spPr>
          <a:xfrm>
            <a:off x="4697280" y="3193920"/>
            <a:ext cx="3702240" cy="4813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34"/>
          <p:cNvSpPr/>
          <p:nvPr/>
        </p:nvSpPr>
        <p:spPr>
          <a:xfrm>
            <a:off x="4265640" y="307332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35"/>
          <p:cNvSpPr/>
          <p:nvPr/>
        </p:nvSpPr>
        <p:spPr>
          <a:xfrm>
            <a:off x="4311720" y="309888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7"/>
          <p:cNvSpPr/>
          <p:nvPr/>
        </p:nvSpPr>
        <p:spPr>
          <a:xfrm>
            <a:off x="5202360" y="3098880"/>
            <a:ext cx="300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人士的个人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8"/>
          <p:cNvSpPr/>
          <p:nvPr/>
        </p:nvSpPr>
        <p:spPr>
          <a:xfrm>
            <a:off x="4697280" y="467532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9"/>
          <p:cNvSpPr/>
          <p:nvPr/>
        </p:nvSpPr>
        <p:spPr>
          <a:xfrm>
            <a:off x="4265640" y="455436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40"/>
          <p:cNvSpPr/>
          <p:nvPr/>
        </p:nvSpPr>
        <p:spPr>
          <a:xfrm>
            <a:off x="4311720" y="4579920"/>
            <a:ext cx="66024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Text Box 42" descr=""/>
          <p:cNvPicPr/>
          <p:nvPr/>
        </p:nvPicPr>
        <p:blipFill>
          <a:blip r:embed="rId1"/>
          <a:stretch/>
        </p:blipFill>
        <p:spPr>
          <a:xfrm>
            <a:off x="5043600" y="4613400"/>
            <a:ext cx="3008160" cy="571320"/>
          </a:xfrm>
          <a:prstGeom prst="rect">
            <a:avLst/>
          </a:prstGeom>
          <a:ln w="0">
            <a:noFill/>
          </a:ln>
        </p:spPr>
      </p:pic>
      <p:pic>
        <p:nvPicPr>
          <p:cNvPr id="918" name="Rectangle 2" descr=""/>
          <p:cNvPicPr/>
          <p:nvPr/>
        </p:nvPicPr>
        <p:blipFill>
          <a:blip r:embed="rId2"/>
          <a:stretch/>
        </p:blipFill>
        <p:spPr>
          <a:xfrm>
            <a:off x="4156200" y="368280"/>
            <a:ext cx="4784760" cy="1052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Rectangle 2" descr=""/>
          <p:cNvPicPr/>
          <p:nvPr/>
        </p:nvPicPr>
        <p:blipFill>
          <a:blip r:embed="rId1"/>
          <a:stretch/>
        </p:blipFill>
        <p:spPr>
          <a:xfrm>
            <a:off x="533520" y="101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53352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准确掌握对方抵达时间，提前到达机场、车站或码头，以示对对方的尊重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只能由你去等候客人，绝不能让客人在那里等你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送别时亦应事先了解对方离开的准确时间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2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Rectangle 2" descr=""/>
          <p:cNvPicPr/>
          <p:nvPr/>
        </p:nvPicPr>
        <p:blipFill>
          <a:blip r:embed="rId1"/>
          <a:stretch/>
        </p:blipFill>
        <p:spPr>
          <a:xfrm>
            <a:off x="552600" y="149400"/>
            <a:ext cx="7238880" cy="9079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 txBox="1"/>
          <p:nvPr/>
        </p:nvSpPr>
        <p:spPr>
          <a:xfrm>
            <a:off x="38160" y="7207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有夫妇同来，或者是一行中有女士时才送花，如果对方没有女士不要送花，尤其当对方是男士，我方以女士名义送花时是失礼的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方客人是女性时，我方送花一定注意送花者名义的选择。最好以我方某女性的名义、公司的名义或我方负责人妻子的名义，切忌以我方男士的名义送花给交往不深的女性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如果对方是夫妇同来，最好以我方负责人夫妇的名义或者以公司的名义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5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Rectangle 2" descr=""/>
          <p:cNvPicPr/>
          <p:nvPr/>
        </p:nvPicPr>
        <p:blipFill>
          <a:blip r:embed="rId1"/>
          <a:stretch/>
        </p:blipFill>
        <p:spPr>
          <a:xfrm>
            <a:off x="571680" y="47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 txBox="1"/>
          <p:nvPr/>
        </p:nvSpPr>
        <p:spPr>
          <a:xfrm>
            <a:off x="342720" y="85716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与客人见面时，通常有两种介绍方式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是自我介绍；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是第三者作介绍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他人作介绍的商务礼仪顺序有以下几种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上级与下级认识时，应先介绍下级，后介绍上级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长辈与晚辈认识时，应先介绍晚辈，后介绍长辈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女士与男士认识时，应先介绍男士，后介绍女士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公司同事与客户认识时，应先介绍同事，后介绍客户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同事、朋友与家人认识时，应先介绍家人，后介绍同事、朋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客人与主人认识时，应先介绍主人，后介绍客人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128003" descr="0603"/>
          <p:cNvPicPr/>
          <p:nvPr/>
        </p:nvPicPr>
        <p:blipFill>
          <a:blip r:embed="rId3"/>
          <a:stretch/>
        </p:blipFill>
        <p:spPr>
          <a:xfrm>
            <a:off x="5651640" y="-10008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9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Rectangle 2" descr=""/>
          <p:cNvPicPr/>
          <p:nvPr/>
        </p:nvPicPr>
        <p:blipFill>
          <a:blip r:embed="rId1"/>
          <a:stretch/>
        </p:blipFill>
        <p:spPr>
          <a:xfrm>
            <a:off x="38088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 txBox="1"/>
          <p:nvPr/>
        </p:nvSpPr>
        <p:spPr>
          <a:xfrm>
            <a:off x="3049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递送名片时，要注意以下几点：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一）初次见面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名片夹应放在西装的内袋里，不应从裤子口袋里掏出。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一般地位低的先向地位高的递名片，男士先向女士递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当交换名片不止一人时，应先将名片递给职务较高、年龄较大者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如分不清公众的职务高低和年龄大小时，则可先和自己对面左侧的人士交换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递接名片时用双手，名片的正方应对着对方、名字向着顾客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异地商谈，名片上留下所住旅馆名称、电话，以便对方联系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接过后要点头致谢，不要立即收起来，也不应随意玩弄和摆放，而是认真读一遍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c00000"/>
                </a:solidFill>
                <a:latin typeface="Arial"/>
              </a:rPr>
              <a:t>（二）名片的其它妙用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拜访顾客，对方不在，可将名片留下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把注有时间、地点的名片装入信封发出，可以代表正规请柬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向顾客赠送小礼物，若让人转交，可随带一张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2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143362" descr="2010072213212253330"/>
          <p:cNvPicPr/>
          <p:nvPr/>
        </p:nvPicPr>
        <p:blipFill>
          <a:blip r:embed="rId3"/>
          <a:stretch/>
        </p:blipFill>
        <p:spPr>
          <a:xfrm>
            <a:off x="4427640" y="1628640"/>
            <a:ext cx="4716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Rectangle 2" descr=""/>
          <p:cNvPicPr/>
          <p:nvPr/>
        </p:nvPicPr>
        <p:blipFill>
          <a:blip r:embed="rId1"/>
          <a:stretch/>
        </p:blipFill>
        <p:spPr>
          <a:xfrm>
            <a:off x="604800" y="11592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55" name="Rectangle 3" descr=""/>
          <p:cNvPicPr/>
          <p:nvPr/>
        </p:nvPicPr>
        <p:blipFill>
          <a:blip r:embed="rId2"/>
          <a:stretch/>
        </p:blipFill>
        <p:spPr>
          <a:xfrm>
            <a:off x="2357280" y="1790640"/>
            <a:ext cx="3124440" cy="3276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18"/>
          <p:cNvPicPr/>
          <p:nvPr/>
        </p:nvPicPr>
        <p:blipFill>
          <a:blip r:embed="rId3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Rectangle 2" descr=""/>
          <p:cNvPicPr/>
          <p:nvPr/>
        </p:nvPicPr>
        <p:blipFill>
          <a:blip r:embed="rId1"/>
          <a:stretch/>
        </p:blipFill>
        <p:spPr>
          <a:xfrm>
            <a:off x="754200" y="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 txBox="1"/>
          <p:nvPr/>
        </p:nvSpPr>
        <p:spPr>
          <a:xfrm>
            <a:off x="2255400" y="2014560"/>
            <a:ext cx="4953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馈赠与收受礼物时应注意：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礼品一定要有包装。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受并当面打开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赠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9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任意多边形 58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56"/>
          <p:cNvSpPr/>
          <p:nvPr/>
        </p:nvSpPr>
        <p:spPr>
          <a:xfrm rot="5400000">
            <a:off x="-1409760" y="2311200"/>
            <a:ext cx="6872400" cy="224928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15"/>
          <p:cNvGrpSpPr/>
          <p:nvPr/>
        </p:nvGrpSpPr>
        <p:grpSpPr>
          <a:xfrm>
            <a:off x="2671920" y="2643120"/>
            <a:ext cx="352080" cy="352080"/>
            <a:chOff x="2671920" y="2643120"/>
            <a:chExt cx="352080" cy="352080"/>
          </a:xfrm>
        </p:grpSpPr>
        <p:sp>
          <p:nvSpPr>
            <p:cNvPr id="975" name="Freeform 16"/>
            <p:cNvSpPr/>
            <p:nvPr/>
          </p:nvSpPr>
          <p:spPr>
            <a:xfrm>
              <a:off x="2671920" y="2643120"/>
              <a:ext cx="35208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2811960" y="2761920"/>
              <a:ext cx="93240" cy="127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8"/>
          <p:cNvGrpSpPr/>
          <p:nvPr/>
        </p:nvGrpSpPr>
        <p:grpSpPr>
          <a:xfrm>
            <a:off x="887400" y="3821040"/>
            <a:ext cx="355320" cy="352080"/>
            <a:chOff x="887400" y="3821040"/>
            <a:chExt cx="355320" cy="352080"/>
          </a:xfrm>
        </p:grpSpPr>
        <p:sp>
          <p:nvSpPr>
            <p:cNvPr id="978" name="Freeform 19"/>
            <p:cNvSpPr/>
            <p:nvPr/>
          </p:nvSpPr>
          <p:spPr>
            <a:xfrm>
              <a:off x="887400" y="3821040"/>
              <a:ext cx="35532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1006560" y="3931200"/>
              <a:ext cx="93600" cy="12312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23"/>
          <p:cNvGrpSpPr/>
          <p:nvPr/>
        </p:nvGrpSpPr>
        <p:grpSpPr>
          <a:xfrm>
            <a:off x="2000160" y="4975200"/>
            <a:ext cx="350640" cy="355320"/>
            <a:chOff x="2000160" y="4975200"/>
            <a:chExt cx="350640" cy="355320"/>
          </a:xfrm>
        </p:grpSpPr>
        <p:sp>
          <p:nvSpPr>
            <p:cNvPr id="982" name="Freeform 24"/>
            <p:cNvSpPr/>
            <p:nvPr/>
          </p:nvSpPr>
          <p:spPr>
            <a:xfrm>
              <a:off x="2000160" y="4975200"/>
              <a:ext cx="35064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5"/>
            <p:cNvSpPr/>
            <p:nvPr/>
          </p:nvSpPr>
          <p:spPr>
            <a:xfrm>
              <a:off x="2139480" y="5096160"/>
              <a:ext cx="9288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文本框 79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80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28"/>
          <p:cNvSpPr/>
          <p:nvPr/>
        </p:nvSpPr>
        <p:spPr>
          <a:xfrm>
            <a:off x="4710240" y="165420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9"/>
          <p:cNvSpPr/>
          <p:nvPr/>
        </p:nvSpPr>
        <p:spPr>
          <a:xfrm>
            <a:off x="4278240" y="153360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0"/>
          <p:cNvSpPr/>
          <p:nvPr/>
        </p:nvSpPr>
        <p:spPr>
          <a:xfrm>
            <a:off x="4325760" y="1558800"/>
            <a:ext cx="660600" cy="65592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2"/>
          <p:cNvSpPr/>
          <p:nvPr/>
        </p:nvSpPr>
        <p:spPr>
          <a:xfrm>
            <a:off x="5342040" y="169236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仪表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33"/>
          <p:cNvSpPr/>
          <p:nvPr/>
        </p:nvSpPr>
        <p:spPr>
          <a:xfrm>
            <a:off x="4710240" y="266688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34"/>
          <p:cNvSpPr/>
          <p:nvPr/>
        </p:nvSpPr>
        <p:spPr>
          <a:xfrm>
            <a:off x="4278240" y="2546280"/>
            <a:ext cx="7081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5"/>
          <p:cNvSpPr/>
          <p:nvPr/>
        </p:nvSpPr>
        <p:spPr>
          <a:xfrm>
            <a:off x="4325760" y="2571840"/>
            <a:ext cx="660600" cy="65700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7"/>
          <p:cNvSpPr/>
          <p:nvPr/>
        </p:nvSpPr>
        <p:spPr>
          <a:xfrm>
            <a:off x="5342040" y="2705040"/>
            <a:ext cx="300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止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8"/>
          <p:cNvSpPr/>
          <p:nvPr/>
        </p:nvSpPr>
        <p:spPr>
          <a:xfrm>
            <a:off x="4710240" y="367992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39"/>
          <p:cNvSpPr/>
          <p:nvPr/>
        </p:nvSpPr>
        <p:spPr>
          <a:xfrm>
            <a:off x="4278240" y="355932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40"/>
          <p:cNvSpPr/>
          <p:nvPr/>
        </p:nvSpPr>
        <p:spPr>
          <a:xfrm>
            <a:off x="4325760" y="3584520"/>
            <a:ext cx="66060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5342040" y="371808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言谈礼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3"/>
          <p:cNvSpPr/>
          <p:nvPr/>
        </p:nvSpPr>
        <p:spPr>
          <a:xfrm>
            <a:off x="4710240" y="4694400"/>
            <a:ext cx="3703680" cy="479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44"/>
          <p:cNvSpPr/>
          <p:nvPr/>
        </p:nvSpPr>
        <p:spPr>
          <a:xfrm>
            <a:off x="4278240" y="4573440"/>
            <a:ext cx="7081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5"/>
          <p:cNvSpPr/>
          <p:nvPr/>
        </p:nvSpPr>
        <p:spPr>
          <a:xfrm>
            <a:off x="4325760" y="4599000"/>
            <a:ext cx="66060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7"/>
          <p:cNvSpPr/>
          <p:nvPr/>
        </p:nvSpPr>
        <p:spPr>
          <a:xfrm>
            <a:off x="5342040" y="4730760"/>
            <a:ext cx="300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代礼仪的距离意识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8"/>
          <p:cNvSpPr/>
          <p:nvPr/>
        </p:nvSpPr>
        <p:spPr>
          <a:xfrm>
            <a:off x="4710240" y="570708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49"/>
          <p:cNvSpPr/>
          <p:nvPr/>
        </p:nvSpPr>
        <p:spPr>
          <a:xfrm>
            <a:off x="4278240" y="558648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50"/>
          <p:cNvSpPr/>
          <p:nvPr/>
        </p:nvSpPr>
        <p:spPr>
          <a:xfrm>
            <a:off x="4325760" y="5611680"/>
            <a:ext cx="660600" cy="65592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52"/>
          <p:cNvSpPr/>
          <p:nvPr/>
        </p:nvSpPr>
        <p:spPr>
          <a:xfrm>
            <a:off x="5342040" y="574524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Rectangle 2" descr=""/>
          <p:cNvPicPr/>
          <p:nvPr/>
        </p:nvPicPr>
        <p:blipFill>
          <a:blip r:embed="rId1"/>
          <a:stretch/>
        </p:blipFill>
        <p:spPr>
          <a:xfrm>
            <a:off x="3105000" y="260280"/>
            <a:ext cx="5964480" cy="1044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Rectangle 2" descr=""/>
          <p:cNvPicPr/>
          <p:nvPr/>
        </p:nvPicPr>
        <p:blipFill>
          <a:blip r:embed="rId1"/>
          <a:stretch/>
        </p:blipFill>
        <p:spPr>
          <a:xfrm>
            <a:off x="754200" y="120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 txBox="1"/>
          <p:nvPr/>
        </p:nvSpPr>
        <p:spPr>
          <a:xfrm>
            <a:off x="38160" y="1149120"/>
            <a:ext cx="9067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性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正式场合，男士多穿黑色或深色西服，白衬衣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装应该注意“三个三”：“三色原则”、、“三一定律”、“三大禁忌”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西服参加活动，应系领带，领带应该戴纯色或者几何图案的，不允许太花哨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9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500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西装的穿法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拆除商标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熨烫平整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扣好纽扣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不卷不挽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慎穿毛衫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巧配内衣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少装东西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1" name="图片 80898" descr="2007828918108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西装的搭配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衬衫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领带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鞋袜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公文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3" name="图片 82946" descr="xinsrc_1020202071434421161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82947" descr="618542924"/>
          <p:cNvPicPr/>
          <p:nvPr/>
        </p:nvPicPr>
        <p:blipFill>
          <a:blip r:embed="rId4"/>
          <a:stretch/>
        </p:blipFill>
        <p:spPr>
          <a:xfrm>
            <a:off x="5003640" y="0"/>
            <a:ext cx="396720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Rectangle 2" descr=""/>
          <p:cNvPicPr/>
          <p:nvPr/>
        </p:nvPicPr>
        <p:blipFill>
          <a:blip r:embed="rId1"/>
          <a:stretch/>
        </p:blipFill>
        <p:spPr>
          <a:xfrm>
            <a:off x="68580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75960" y="8647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加坡著名女作家尤今曾回忆起这样一件让自己惭愧的事，某跨国银行招聘理财专员，她的儿子致函应征。不久接到来自伦敦总部的电话，定了日期和时间要进行第一轮的电话会谈。电话会谈定于十点进行，当天九点左右，儿子郑重其事地穿了西装，打了领带，在电话旁边正襟危坐，尤今忍不住揶揄道：“嘿，电话会谈而已，打扮的那么神气干嘛？对方都看不见你。”儿子竟然很正式回应道：“妈妈，如果我现在穿着背心和短裤，心情必然也是轻松随意的，说话也许不够慎重了，再说，对方是在办事处给我拨电话，他衣冠楚楚，我又怎么能不给予他应有的尊重呢？”在别人见不着的地方严于律己，才是最大的自律！最终尤今的儿子顺利获得了那份工作，我们也应该像尤今儿子一样，注重电话礼仪，这样才更有可能获得更多的成功和尊重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Rectangle 2" descr=""/>
          <p:cNvPicPr/>
          <p:nvPr/>
        </p:nvPicPr>
        <p:blipFill>
          <a:blip r:embed="rId1"/>
          <a:stretch/>
        </p:blipFill>
        <p:spPr>
          <a:xfrm>
            <a:off x="754200" y="120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 txBox="1"/>
          <p:nvPr/>
        </p:nvSpPr>
        <p:spPr>
          <a:xfrm>
            <a:off x="38160" y="1149120"/>
            <a:ext cx="9067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秋季应以西装或西装套裙为佳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季着装可以是长短袖衬衫配裙子或裤子，也可以是连衣裙或西装套裙等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装注意的是不可以露，也不可以透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携带包不应太大，要精巧细致，款式可以多样，颜色要和服装的颜色相搭配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内东西不可装得太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5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5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33240" y="245880"/>
            <a:ext cx="45928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黑体"/>
                <a:ea typeface="黑体"/>
              </a:rPr>
              <a:t>女士着装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女士套裙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面料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色彩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图案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点缀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尺寸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版型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款式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0" name="图片 181252" descr="0202"/>
          <p:cNvPicPr/>
          <p:nvPr/>
        </p:nvPicPr>
        <p:blipFill>
          <a:blip r:embed="rId1"/>
          <a:stretch/>
        </p:blipFill>
        <p:spPr>
          <a:xfrm>
            <a:off x="3995640" y="1557360"/>
            <a:ext cx="1603440" cy="530064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181253" descr="0203"/>
          <p:cNvPicPr/>
          <p:nvPr/>
        </p:nvPicPr>
        <p:blipFill>
          <a:blip r:embed="rId2"/>
          <a:stretch/>
        </p:blipFill>
        <p:spPr>
          <a:xfrm>
            <a:off x="6861240" y="1557360"/>
            <a:ext cx="17082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2" descr=""/>
          <p:cNvPicPr/>
          <p:nvPr/>
        </p:nvPicPr>
        <p:blipFill>
          <a:blip r:embed="rId1"/>
          <a:stretch/>
        </p:blipFill>
        <p:spPr>
          <a:xfrm>
            <a:off x="482760" y="98280"/>
            <a:ext cx="8100720" cy="99216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 txBox="1"/>
          <p:nvPr/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站、坐、行、蹲的标准姿态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姿：抬头，挺胸，收腹，两腿稍微分开，脸上带有自信，也要有一个挺拔的感觉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姿：腿进入基本站立的姿态，后腿能够碰到椅子，两个膝盖一定要并起来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姿：抬头，挺胸，收腹，肩膀往后并放松，手要轻轻放在两边，轻轻地摆动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姿：弯下膝盖，两个膝盖应该并起来，臀部向下，上体保持直线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形体语言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光（用眼睛说话）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握手 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200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5" dur="2000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2000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52440" y="36468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握手礼时应注意以下几点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上下级之间，上级伸手后，下级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长辈与晚辈之间，长辈伸出手后，晚辈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男女之间，女士伸出手后，男士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人们应该站着握手，不然两个人都坐着。如果你坐着，有人走来和你握手，你必须站起来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的时间通常是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3-5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秒钟。匆匆握一下就松手，是在敷衍；长久地握着不放，又未免让人尴尬。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别人伸手同你握手，而你不伸手，是一种不友好的行为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时应该伸出右手，决不能伸出左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时不可以把一只手放在口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6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134146" descr="u=226101624,3146051036&amp;fm=0&amp;gp=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9640" y="123840"/>
            <a:ext cx="302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 txBox="1"/>
          <p:nvPr/>
        </p:nvSpPr>
        <p:spPr>
          <a:xfrm>
            <a:off x="383760" y="1336320"/>
            <a:ext cx="3809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便吐痰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手扔垃圾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嚼口香糖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挖鼻孔或掏耳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挠头皮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公共场合抖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打哈欠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030" name="文本框 1"/>
          <p:cNvSpPr/>
          <p:nvPr/>
        </p:nvSpPr>
        <p:spPr>
          <a:xfrm>
            <a:off x="519120" y="149400"/>
            <a:ext cx="78818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常见的不良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禁止符 1"/>
          <p:cNvSpPr/>
          <p:nvPr/>
        </p:nvSpPr>
        <p:spPr>
          <a:xfrm>
            <a:off x="4459320" y="149400"/>
            <a:ext cx="1079640" cy="936360"/>
          </a:xfrm>
          <a:custGeom>
            <a:avLst/>
            <a:gdLst/>
            <a:ahLst/>
            <a:rect l="l" t="t" r="r" b="b"/>
            <a:pathLst>
              <a:path w="1079500" h="935990">
                <a:moveTo>
                  <a:pt x="0" y="467995"/>
                </a:moveTo>
                <a:cubicBezTo>
                  <a:pt x="0" y="209528"/>
                  <a:pt x="241654" y="0"/>
                  <a:pt x="539750" y="0"/>
                </a:cubicBezTo>
                <a:cubicBezTo>
                  <a:pt x="837846" y="0"/>
                  <a:pt x="1079500" y="209528"/>
                  <a:pt x="1079500" y="467995"/>
                </a:cubicBezTo>
                <a:cubicBezTo>
                  <a:pt x="1079500" y="726462"/>
                  <a:pt x="837846" y="935990"/>
                  <a:pt x="539750" y="935990"/>
                </a:cubicBezTo>
                <a:cubicBezTo>
                  <a:pt x="241654" y="935990"/>
                  <a:pt x="0" y="726462"/>
                  <a:pt x="0" y="467995"/>
                </a:cubicBezTo>
                <a:close/>
                <a:moveTo>
                  <a:pt x="851328" y="619502"/>
                </a:moveTo>
                <a:cubicBezTo>
                  <a:pt x="884769" y="575337"/>
                  <a:pt x="904001" y="523469"/>
                  <a:pt x="904001" y="467995"/>
                </a:cubicBezTo>
                <a:cubicBezTo>
                  <a:pt x="904001" y="306454"/>
                  <a:pt x="740920" y="175499"/>
                  <a:pt x="539750" y="175499"/>
                </a:cubicBezTo>
                <a:cubicBezTo>
                  <a:pt x="476754" y="175499"/>
                  <a:pt x="417493" y="188341"/>
                  <a:pt x="365805" y="210942"/>
                </a:cubicBezTo>
                <a:close/>
                <a:moveTo>
                  <a:pt x="228171" y="316487"/>
                </a:moveTo>
                <a:cubicBezTo>
                  <a:pt x="194730" y="360652"/>
                  <a:pt x="175498" y="412520"/>
                  <a:pt x="175498" y="467994"/>
                </a:cubicBezTo>
                <a:cubicBezTo>
                  <a:pt x="175498" y="629535"/>
                  <a:pt x="338579" y="760490"/>
                  <a:pt x="539749" y="760490"/>
                </a:cubicBezTo>
                <a:cubicBezTo>
                  <a:pt x="602745" y="760490"/>
                  <a:pt x="662006" y="747648"/>
                  <a:pt x="713694" y="725047"/>
                </a:cubicBez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Rectangle 2" descr=""/>
          <p:cNvPicPr/>
          <p:nvPr/>
        </p:nvPicPr>
        <p:blipFill>
          <a:blip r:embed="rId1"/>
          <a:stretch/>
        </p:blipFill>
        <p:spPr>
          <a:xfrm>
            <a:off x="571680" y="1080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交谈时的表情要自然，态度要和气可亲，表达得体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交谈现场超过三个人时，应不时地与在场所有人交谈几句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自己讲话时要给别人发表意见的机会，别人讲话时也应寻找机会适时发表自己的看法。善于聆听对方谈话，不要轻易打断别人的发言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做到不询问妇女的年龄、婚姻、对方履历、工资收入、家庭财产、衣饰价格等问题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对方不愿回答的问题不要寻根问底。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85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40"/>
          <p:cNvSpPr/>
          <p:nvPr/>
        </p:nvSpPr>
        <p:spPr>
          <a:xfrm>
            <a:off x="0" y="2416320"/>
            <a:ext cx="9144000" cy="509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4"/>
          <p:cNvSpPr/>
          <p:nvPr/>
        </p:nvSpPr>
        <p:spPr>
          <a:xfrm>
            <a:off x="42372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6"/>
          <p:cNvSpPr/>
          <p:nvPr/>
        </p:nvSpPr>
        <p:spPr>
          <a:xfrm>
            <a:off x="520560" y="3990960"/>
            <a:ext cx="36036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9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49"/>
                  <a:pt x="171" y="146"/>
                </a:cubicBezTo>
                <a:cubicBezTo>
                  <a:pt x="171" y="5"/>
                  <a:pt x="171" y="5"/>
                  <a:pt x="171" y="5"/>
                </a:cubicBezTo>
                <a:cubicBezTo>
                  <a:pt x="171" y="2"/>
                  <a:pt x="169" y="0"/>
                  <a:pt x="166" y="0"/>
                </a:cubicBezTo>
                <a:close/>
                <a:moveTo>
                  <a:pt x="132" y="11"/>
                </a:moveTo>
                <a:cubicBezTo>
                  <a:pt x="136" y="11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1"/>
                  <a:pt x="132" y="11"/>
                </a:cubicBezTo>
                <a:close/>
                <a:moveTo>
                  <a:pt x="111" y="11"/>
                </a:moveTo>
                <a:cubicBezTo>
                  <a:pt x="115" y="11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4" y="23"/>
                  <a:pt x="104" y="19"/>
                </a:cubicBezTo>
                <a:cubicBezTo>
                  <a:pt x="104" y="15"/>
                  <a:pt x="107" y="11"/>
                  <a:pt x="111" y="11"/>
                </a:cubicBezTo>
                <a:close/>
                <a:moveTo>
                  <a:pt x="160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0" y="38"/>
                  <a:pt x="160" y="38"/>
                  <a:pt x="160" y="38"/>
                </a:cubicBezTo>
                <a:lnTo>
                  <a:pt x="160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1"/>
                  <a:pt x="153" y="11"/>
                </a:cubicBezTo>
                <a:cubicBezTo>
                  <a:pt x="157" y="11"/>
                  <a:pt x="160" y="15"/>
                  <a:pt x="160" y="19"/>
                </a:cubicBezTo>
                <a:cubicBezTo>
                  <a:pt x="160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7"/>
          <p:cNvSpPr/>
          <p:nvPr/>
        </p:nvSpPr>
        <p:spPr>
          <a:xfrm>
            <a:off x="669960" y="4230720"/>
            <a:ext cx="34920" cy="34920"/>
          </a:xfrm>
          <a:prstGeom prst="ellips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8"/>
          <p:cNvSpPr/>
          <p:nvPr/>
        </p:nvSpPr>
        <p:spPr>
          <a:xfrm>
            <a:off x="725400" y="4230720"/>
            <a:ext cx="33480" cy="34920"/>
          </a:xfrm>
          <a:prstGeom prst="ellips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9"/>
          <p:cNvSpPr/>
          <p:nvPr/>
        </p:nvSpPr>
        <p:spPr>
          <a:xfrm>
            <a:off x="596880" y="4102200"/>
            <a:ext cx="189000" cy="115920"/>
          </a:xfrm>
          <a:custGeom>
            <a:avLst/>
            <a:gdLst/>
            <a:ahLst/>
            <a:rect l="l" t="t" r="r" b="b"/>
            <a:pathLst>
              <a:path w="90" h="55">
                <a:moveTo>
                  <a:pt x="79" y="55"/>
                </a:moveTo>
                <a:cubicBezTo>
                  <a:pt x="33" y="55"/>
                  <a:pt x="33" y="55"/>
                  <a:pt x="33" y="55"/>
                </a:cubicBezTo>
                <a:cubicBezTo>
                  <a:pt x="30" y="55"/>
                  <a:pt x="28" y="53"/>
                  <a:pt x="28" y="51"/>
                </a:cubicBezTo>
                <a:cubicBezTo>
                  <a:pt x="19" y="11"/>
                  <a:pt x="19" y="11"/>
                  <a:pt x="19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1"/>
                  <a:pt x="0" y="8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8" y="2"/>
                  <a:pt x="28" y="4"/>
                </a:cubicBezTo>
                <a:cubicBezTo>
                  <a:pt x="37" y="44"/>
                  <a:pt x="37" y="44"/>
                  <a:pt x="37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9" y="17"/>
                  <a:pt x="79" y="17"/>
                  <a:pt x="79" y="17"/>
                </a:cubicBezTo>
                <a:cubicBezTo>
                  <a:pt x="80" y="14"/>
                  <a:pt x="83" y="12"/>
                  <a:pt x="85" y="12"/>
                </a:cubicBezTo>
                <a:cubicBezTo>
                  <a:pt x="88" y="13"/>
                  <a:pt x="90" y="16"/>
                  <a:pt x="90" y="19"/>
                </a:cubicBezTo>
                <a:cubicBezTo>
                  <a:pt x="84" y="51"/>
                  <a:pt x="84" y="51"/>
                  <a:pt x="84" y="51"/>
                </a:cubicBezTo>
                <a:cubicBezTo>
                  <a:pt x="83" y="53"/>
                  <a:pt x="81" y="55"/>
                  <a:pt x="79" y="55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0"/>
          <p:cNvSpPr/>
          <p:nvPr/>
        </p:nvSpPr>
        <p:spPr>
          <a:xfrm>
            <a:off x="641520" y="4129200"/>
            <a:ext cx="144360" cy="21960"/>
          </a:xfrm>
          <a:custGeom>
            <a:avLst/>
            <a:gdLst/>
            <a:ahLst/>
            <a:rect l="l" t="t" r="r" b="b"/>
            <a:pathLst>
              <a:path w="69" h="11">
                <a:moveTo>
                  <a:pt x="63" y="11"/>
                </a:moveTo>
                <a:cubicBezTo>
                  <a:pt x="5" y="11"/>
                  <a:pt x="5" y="11"/>
                  <a:pt x="5" y="11"/>
                </a:cubicBezTo>
                <a:cubicBezTo>
                  <a:pt x="2" y="11"/>
                  <a:pt x="0" y="8"/>
                  <a:pt x="0" y="6"/>
                </a:cubicBezTo>
                <a:cubicBezTo>
                  <a:pt x="0" y="3"/>
                  <a:pt x="2" y="0"/>
                  <a:pt x="5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6" y="0"/>
                  <a:pt x="69" y="3"/>
                  <a:pt x="69" y="6"/>
                </a:cubicBezTo>
                <a:cubicBezTo>
                  <a:pt x="69" y="8"/>
                  <a:pt x="66" y="11"/>
                  <a:pt x="63" y="11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26"/>
          <p:cNvSpPr/>
          <p:nvPr/>
        </p:nvSpPr>
        <p:spPr>
          <a:xfrm>
            <a:off x="2709720" y="4232160"/>
            <a:ext cx="63720" cy="6048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8"/>
                </a:moveTo>
                <a:cubicBezTo>
                  <a:pt x="30" y="5"/>
                  <a:pt x="30" y="5"/>
                  <a:pt x="30" y="5"/>
                </a:cubicBezTo>
                <a:cubicBezTo>
                  <a:pt x="30" y="3"/>
                  <a:pt x="27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5"/>
                </a:cubicBezTo>
                <a:cubicBezTo>
                  <a:pt x="0" y="28"/>
                  <a:pt x="0" y="28"/>
                  <a:pt x="0" y="28"/>
                </a:cubicBezTo>
                <a:lnTo>
                  <a:pt x="30" y="28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27"/>
          <p:cNvSpPr/>
          <p:nvPr/>
        </p:nvSpPr>
        <p:spPr>
          <a:xfrm>
            <a:off x="2797200" y="4213080"/>
            <a:ext cx="65160" cy="7956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8"/>
                </a:moveTo>
                <a:cubicBezTo>
                  <a:pt x="31" y="5"/>
                  <a:pt x="31" y="5"/>
                  <a:pt x="31" y="5"/>
                </a:cubicBezTo>
                <a:cubicBezTo>
                  <a:pt x="31" y="2"/>
                  <a:pt x="27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38"/>
                  <a:pt x="0" y="38"/>
                  <a:pt x="0" y="38"/>
                </a:cubicBezTo>
                <a:lnTo>
                  <a:pt x="31" y="38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28"/>
          <p:cNvSpPr/>
          <p:nvPr/>
        </p:nvSpPr>
        <p:spPr>
          <a:xfrm>
            <a:off x="2882880" y="4179960"/>
            <a:ext cx="65160" cy="112680"/>
          </a:xfrm>
          <a:custGeom>
            <a:avLst/>
            <a:gdLst/>
            <a:ahLst/>
            <a:rect l="l" t="t" r="r" b="b"/>
            <a:pathLst>
              <a:path w="31" h="53">
                <a:moveTo>
                  <a:pt x="31" y="53"/>
                </a:moveTo>
                <a:cubicBezTo>
                  <a:pt x="31" y="5"/>
                  <a:pt x="31" y="5"/>
                  <a:pt x="31" y="5"/>
                </a:cubicBezTo>
                <a:cubicBezTo>
                  <a:pt x="31" y="2"/>
                  <a:pt x="27" y="0"/>
                  <a:pt x="23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53"/>
                  <a:pt x="0" y="53"/>
                  <a:pt x="0" y="53"/>
                </a:cubicBezTo>
                <a:lnTo>
                  <a:pt x="31" y="53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29"/>
          <p:cNvSpPr/>
          <p:nvPr/>
        </p:nvSpPr>
        <p:spPr>
          <a:xfrm>
            <a:off x="2881440" y="4094280"/>
            <a:ext cx="56880" cy="56880"/>
          </a:xfrm>
          <a:custGeom>
            <a:avLst/>
            <a:gdLst/>
            <a:ahLst/>
            <a:rect l="l" t="t" r="r" b="b"/>
            <a:pathLst>
              <a:path w="64" h="63">
                <a:moveTo>
                  <a:pt x="0" y="0"/>
                </a:moveTo>
                <a:lnTo>
                  <a:pt x="64" y="0"/>
                </a:lnTo>
                <a:lnTo>
                  <a:pt x="64" y="63"/>
                </a:lnTo>
                <a:lnTo>
                  <a:pt x="0" y="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0"/>
          <p:cNvSpPr/>
          <p:nvPr/>
        </p:nvSpPr>
        <p:spPr>
          <a:xfrm>
            <a:off x="2712960" y="4097160"/>
            <a:ext cx="216000" cy="115920"/>
          </a:xfrm>
          <a:custGeom>
            <a:avLst/>
            <a:gdLst/>
            <a:ahLst/>
            <a:rect l="l" t="t" r="r" b="b"/>
            <a:pathLst>
              <a:path w="103" h="54">
                <a:moveTo>
                  <a:pt x="91" y="0"/>
                </a:moveTo>
                <a:cubicBezTo>
                  <a:pt x="82" y="13"/>
                  <a:pt x="68" y="26"/>
                  <a:pt x="50" y="36"/>
                </a:cubicBezTo>
                <a:cubicBezTo>
                  <a:pt x="33" y="44"/>
                  <a:pt x="16" y="49"/>
                  <a:pt x="0" y="48"/>
                </a:cubicBezTo>
                <a:cubicBezTo>
                  <a:pt x="19" y="54"/>
                  <a:pt x="45" y="51"/>
                  <a:pt x="69" y="38"/>
                </a:cubicBezTo>
                <a:cubicBezTo>
                  <a:pt x="83" y="31"/>
                  <a:pt x="94" y="22"/>
                  <a:pt x="103" y="12"/>
                </a:cubicBezTo>
                <a:lnTo>
                  <a:pt x="91" y="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"/>
          <p:cNvSpPr/>
          <p:nvPr/>
        </p:nvSpPr>
        <p:spPr>
          <a:xfrm>
            <a:off x="2647800" y="3990960"/>
            <a:ext cx="36036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50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50"/>
                  <a:pt x="171" y="147"/>
                </a:cubicBezTo>
                <a:cubicBezTo>
                  <a:pt x="171" y="6"/>
                  <a:pt x="171" y="6"/>
                  <a:pt x="171" y="6"/>
                </a:cubicBezTo>
                <a:cubicBezTo>
                  <a:pt x="171" y="3"/>
                  <a:pt x="169" y="0"/>
                  <a:pt x="166" y="0"/>
                </a:cubicBezTo>
                <a:close/>
                <a:moveTo>
                  <a:pt x="132" y="12"/>
                </a:moveTo>
                <a:cubicBezTo>
                  <a:pt x="136" y="12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2"/>
                  <a:pt x="132" y="12"/>
                </a:cubicBezTo>
                <a:close/>
                <a:moveTo>
                  <a:pt x="111" y="12"/>
                </a:moveTo>
                <a:cubicBezTo>
                  <a:pt x="115" y="12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4" y="23"/>
                  <a:pt x="104" y="19"/>
                </a:cubicBezTo>
                <a:cubicBezTo>
                  <a:pt x="104" y="15"/>
                  <a:pt x="107" y="12"/>
                  <a:pt x="111" y="12"/>
                </a:cubicBezTo>
                <a:close/>
                <a:moveTo>
                  <a:pt x="161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1" y="38"/>
                  <a:pt x="161" y="38"/>
                  <a:pt x="161" y="38"/>
                </a:cubicBezTo>
                <a:lnTo>
                  <a:pt x="161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2"/>
                  <a:pt x="153" y="12"/>
                </a:cubicBezTo>
                <a:cubicBezTo>
                  <a:pt x="157" y="12"/>
                  <a:pt x="161" y="15"/>
                  <a:pt x="161" y="19"/>
                </a:cubicBezTo>
                <a:cubicBezTo>
                  <a:pt x="161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2565360" y="4394160"/>
            <a:ext cx="18716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—7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6"/>
          <p:cNvSpPr/>
          <p:nvPr/>
        </p:nvSpPr>
        <p:spPr>
          <a:xfrm>
            <a:off x="470520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"/>
          <p:cNvSpPr/>
          <p:nvPr/>
        </p:nvSpPr>
        <p:spPr>
          <a:xfrm>
            <a:off x="6894360" y="3990960"/>
            <a:ext cx="35892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9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49"/>
                  <a:pt x="171" y="146"/>
                </a:cubicBezTo>
                <a:cubicBezTo>
                  <a:pt x="171" y="5"/>
                  <a:pt x="171" y="5"/>
                  <a:pt x="171" y="5"/>
                </a:cubicBezTo>
                <a:cubicBezTo>
                  <a:pt x="171" y="2"/>
                  <a:pt x="169" y="0"/>
                  <a:pt x="166" y="0"/>
                </a:cubicBezTo>
                <a:close/>
                <a:moveTo>
                  <a:pt x="132" y="12"/>
                </a:moveTo>
                <a:cubicBezTo>
                  <a:pt x="136" y="12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2"/>
                  <a:pt x="132" y="12"/>
                </a:cubicBezTo>
                <a:close/>
                <a:moveTo>
                  <a:pt x="111" y="12"/>
                </a:moveTo>
                <a:cubicBezTo>
                  <a:pt x="115" y="12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3" y="23"/>
                  <a:pt x="103" y="19"/>
                </a:cubicBezTo>
                <a:cubicBezTo>
                  <a:pt x="103" y="15"/>
                  <a:pt x="107" y="12"/>
                  <a:pt x="111" y="12"/>
                </a:cubicBezTo>
                <a:close/>
                <a:moveTo>
                  <a:pt x="160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0" y="38"/>
                  <a:pt x="160" y="38"/>
                  <a:pt x="160" y="38"/>
                </a:cubicBezTo>
                <a:lnTo>
                  <a:pt x="160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2"/>
                  <a:pt x="153" y="12"/>
                </a:cubicBezTo>
                <a:cubicBezTo>
                  <a:pt x="157" y="12"/>
                  <a:pt x="160" y="15"/>
                  <a:pt x="160" y="19"/>
                </a:cubicBezTo>
                <a:cubicBezTo>
                  <a:pt x="160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3"/>
          <p:cNvSpPr/>
          <p:nvPr/>
        </p:nvSpPr>
        <p:spPr>
          <a:xfrm>
            <a:off x="7026120" y="4124160"/>
            <a:ext cx="179640" cy="105120"/>
          </a:xfrm>
          <a:custGeom>
            <a:avLst/>
            <a:gdLst/>
            <a:ahLst/>
            <a:rect l="l" t="t" r="r" b="b"/>
            <a:pathLst>
              <a:path w="85" h="50">
                <a:moveTo>
                  <a:pt x="60" y="0"/>
                </a:moveTo>
                <a:cubicBezTo>
                  <a:pt x="42" y="0"/>
                  <a:pt x="42" y="0"/>
                  <a:pt x="42" y="0"/>
                </a:cubicBezTo>
                <a:cubicBezTo>
                  <a:pt x="47" y="3"/>
                  <a:pt x="51" y="8"/>
                  <a:pt x="54" y="13"/>
                </a:cubicBezTo>
                <a:cubicBezTo>
                  <a:pt x="60" y="13"/>
                  <a:pt x="60" y="13"/>
                  <a:pt x="60" y="13"/>
                </a:cubicBezTo>
                <a:cubicBezTo>
                  <a:pt x="66" y="13"/>
                  <a:pt x="71" y="18"/>
                  <a:pt x="71" y="25"/>
                </a:cubicBezTo>
                <a:cubicBezTo>
                  <a:pt x="71" y="31"/>
                  <a:pt x="66" y="36"/>
                  <a:pt x="60" y="36"/>
                </a:cubicBezTo>
                <a:cubicBezTo>
                  <a:pt x="25" y="36"/>
                  <a:pt x="25" y="36"/>
                  <a:pt x="25" y="36"/>
                </a:cubicBezTo>
                <a:cubicBezTo>
                  <a:pt x="19" y="36"/>
                  <a:pt x="14" y="31"/>
                  <a:pt x="14" y="25"/>
                </a:cubicBezTo>
                <a:cubicBezTo>
                  <a:pt x="14" y="22"/>
                  <a:pt x="15" y="20"/>
                  <a:pt x="1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20"/>
                  <a:pt x="0" y="22"/>
                  <a:pt x="0" y="25"/>
                </a:cubicBezTo>
                <a:cubicBezTo>
                  <a:pt x="0" y="38"/>
                  <a:pt x="12" y="50"/>
                  <a:pt x="25" y="50"/>
                </a:cubicBezTo>
                <a:cubicBezTo>
                  <a:pt x="60" y="50"/>
                  <a:pt x="60" y="50"/>
                  <a:pt x="60" y="50"/>
                </a:cubicBezTo>
                <a:cubicBezTo>
                  <a:pt x="73" y="50"/>
                  <a:pt x="85" y="38"/>
                  <a:pt x="85" y="25"/>
                </a:cubicBezTo>
                <a:cubicBezTo>
                  <a:pt x="85" y="11"/>
                  <a:pt x="73" y="0"/>
                  <a:pt x="60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4"/>
          <p:cNvSpPr/>
          <p:nvPr/>
        </p:nvSpPr>
        <p:spPr>
          <a:xfrm>
            <a:off x="6956280" y="4124160"/>
            <a:ext cx="177840" cy="105120"/>
          </a:xfrm>
          <a:custGeom>
            <a:avLst/>
            <a:gdLst/>
            <a:ahLst/>
            <a:rect l="l" t="t" r="r" b="b"/>
            <a:pathLst>
              <a:path w="84" h="50">
                <a:moveTo>
                  <a:pt x="31" y="36"/>
                </a:moveTo>
                <a:cubicBezTo>
                  <a:pt x="25" y="36"/>
                  <a:pt x="25" y="36"/>
                  <a:pt x="25" y="36"/>
                </a:cubicBezTo>
                <a:cubicBezTo>
                  <a:pt x="18" y="36"/>
                  <a:pt x="13" y="31"/>
                  <a:pt x="13" y="25"/>
                </a:cubicBezTo>
                <a:cubicBezTo>
                  <a:pt x="13" y="18"/>
                  <a:pt x="18" y="13"/>
                  <a:pt x="25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59" y="13"/>
                  <a:pt x="59" y="13"/>
                  <a:pt x="59" y="13"/>
                </a:cubicBezTo>
                <a:cubicBezTo>
                  <a:pt x="65" y="13"/>
                  <a:pt x="71" y="18"/>
                  <a:pt x="71" y="25"/>
                </a:cubicBezTo>
                <a:cubicBezTo>
                  <a:pt x="71" y="25"/>
                  <a:pt x="71" y="26"/>
                  <a:pt x="70" y="27"/>
                </a:cubicBezTo>
                <a:cubicBezTo>
                  <a:pt x="70" y="29"/>
                  <a:pt x="69" y="30"/>
                  <a:pt x="68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0"/>
                  <a:pt x="84" y="29"/>
                  <a:pt x="84" y="27"/>
                </a:cubicBezTo>
                <a:cubicBezTo>
                  <a:pt x="84" y="27"/>
                  <a:pt x="84" y="27"/>
                  <a:pt x="84" y="27"/>
                </a:cubicBezTo>
                <a:cubicBezTo>
                  <a:pt x="84" y="26"/>
                  <a:pt x="84" y="25"/>
                  <a:pt x="84" y="25"/>
                </a:cubicBezTo>
                <a:cubicBezTo>
                  <a:pt x="84" y="11"/>
                  <a:pt x="73" y="0"/>
                  <a:pt x="59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38"/>
                  <a:pt x="11" y="50"/>
                  <a:pt x="25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38" y="46"/>
                  <a:pt x="34" y="42"/>
                  <a:pt x="31" y="3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8"/>
          <p:cNvSpPr/>
          <p:nvPr/>
        </p:nvSpPr>
        <p:spPr>
          <a:xfrm>
            <a:off x="684684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处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40"/>
          <p:cNvSpPr/>
          <p:nvPr/>
        </p:nvSpPr>
        <p:spPr>
          <a:xfrm>
            <a:off x="1042920" y="3630600"/>
            <a:ext cx="2502000" cy="1843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42" descr=""/>
          <p:cNvPicPr/>
          <p:nvPr/>
        </p:nvPicPr>
        <p:blipFill>
          <a:blip r:embed="rId1"/>
          <a:stretch/>
        </p:blipFill>
        <p:spPr>
          <a:xfrm>
            <a:off x="1120680" y="1916280"/>
            <a:ext cx="2376720" cy="1834920"/>
          </a:xfrm>
          <a:prstGeom prst="rect">
            <a:avLst/>
          </a:prstGeom>
          <a:ln w="0">
            <a:noFill/>
          </a:ln>
        </p:spPr>
      </p:pic>
      <p:sp>
        <p:nvSpPr>
          <p:cNvPr id="1056" name="TextBox 13"/>
          <p:cNvSpPr/>
          <p:nvPr/>
        </p:nvSpPr>
        <p:spPr>
          <a:xfrm>
            <a:off x="1217520" y="1996920"/>
            <a:ext cx="2184480" cy="1263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4"/>
          <p:cNvSpPr/>
          <p:nvPr/>
        </p:nvSpPr>
        <p:spPr>
          <a:xfrm>
            <a:off x="7316640" y="3897360"/>
            <a:ext cx="140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公众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5"/>
          <p:cNvSpPr/>
          <p:nvPr/>
        </p:nvSpPr>
        <p:spPr>
          <a:xfrm>
            <a:off x="5135400" y="3897360"/>
            <a:ext cx="144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社交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6"/>
          <p:cNvSpPr/>
          <p:nvPr/>
        </p:nvSpPr>
        <p:spPr>
          <a:xfrm>
            <a:off x="3083040" y="3897360"/>
            <a:ext cx="1353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个人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8"/>
          <p:cNvGrpSpPr/>
          <p:nvPr/>
        </p:nvGrpSpPr>
        <p:grpSpPr>
          <a:xfrm>
            <a:off x="4705200" y="3990960"/>
            <a:ext cx="360360" cy="320760"/>
            <a:chOff x="4705200" y="3990960"/>
            <a:chExt cx="360360" cy="320760"/>
          </a:xfrm>
        </p:grpSpPr>
        <p:sp>
          <p:nvSpPr>
            <p:cNvPr id="1061" name="Freeform 16"/>
            <p:cNvSpPr/>
            <p:nvPr/>
          </p:nvSpPr>
          <p:spPr>
            <a:xfrm>
              <a:off x="4705200" y="3990960"/>
              <a:ext cx="360360" cy="3207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6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149"/>
                    <a:pt x="3" y="152"/>
                    <a:pt x="6" y="152"/>
                  </a:cubicBezTo>
                  <a:cubicBezTo>
                    <a:pt x="166" y="152"/>
                    <a:pt x="166" y="152"/>
                    <a:pt x="166" y="152"/>
                  </a:cubicBezTo>
                  <a:cubicBezTo>
                    <a:pt x="169" y="152"/>
                    <a:pt x="171" y="149"/>
                    <a:pt x="171" y="146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1" y="2"/>
                    <a:pt x="169" y="0"/>
                    <a:pt x="166" y="0"/>
                  </a:cubicBezTo>
                  <a:close/>
                  <a:moveTo>
                    <a:pt x="132" y="12"/>
                  </a:moveTo>
                  <a:cubicBezTo>
                    <a:pt x="136" y="12"/>
                    <a:pt x="139" y="15"/>
                    <a:pt x="139" y="19"/>
                  </a:cubicBezTo>
                  <a:cubicBezTo>
                    <a:pt x="139" y="23"/>
                    <a:pt x="136" y="26"/>
                    <a:pt x="132" y="26"/>
                  </a:cubicBezTo>
                  <a:cubicBezTo>
                    <a:pt x="128" y="26"/>
                    <a:pt x="125" y="23"/>
                    <a:pt x="125" y="19"/>
                  </a:cubicBezTo>
                  <a:cubicBezTo>
                    <a:pt x="125" y="15"/>
                    <a:pt x="128" y="12"/>
                    <a:pt x="132" y="12"/>
                  </a:cubicBezTo>
                  <a:close/>
                  <a:moveTo>
                    <a:pt x="111" y="12"/>
                  </a:moveTo>
                  <a:cubicBezTo>
                    <a:pt x="115" y="12"/>
                    <a:pt x="118" y="15"/>
                    <a:pt x="118" y="19"/>
                  </a:cubicBezTo>
                  <a:cubicBezTo>
                    <a:pt x="118" y="23"/>
                    <a:pt x="115" y="26"/>
                    <a:pt x="111" y="26"/>
                  </a:cubicBezTo>
                  <a:cubicBezTo>
                    <a:pt x="107" y="26"/>
                    <a:pt x="104" y="23"/>
                    <a:pt x="104" y="19"/>
                  </a:cubicBezTo>
                  <a:cubicBezTo>
                    <a:pt x="104" y="15"/>
                    <a:pt x="107" y="12"/>
                    <a:pt x="111" y="12"/>
                  </a:cubicBezTo>
                  <a:close/>
                  <a:moveTo>
                    <a:pt x="161" y="141"/>
                  </a:moveTo>
                  <a:cubicBezTo>
                    <a:pt x="11" y="141"/>
                    <a:pt x="11" y="141"/>
                    <a:pt x="11" y="141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161" y="38"/>
                    <a:pt x="161" y="38"/>
                    <a:pt x="161" y="38"/>
                  </a:cubicBezTo>
                  <a:lnTo>
                    <a:pt x="161" y="141"/>
                  </a:lnTo>
                  <a:close/>
                  <a:moveTo>
                    <a:pt x="153" y="26"/>
                  </a:moveTo>
                  <a:cubicBezTo>
                    <a:pt x="149" y="26"/>
                    <a:pt x="146" y="23"/>
                    <a:pt x="146" y="19"/>
                  </a:cubicBezTo>
                  <a:cubicBezTo>
                    <a:pt x="146" y="15"/>
                    <a:pt x="149" y="12"/>
                    <a:pt x="153" y="12"/>
                  </a:cubicBezTo>
                  <a:cubicBezTo>
                    <a:pt x="157" y="12"/>
                    <a:pt x="161" y="15"/>
                    <a:pt x="161" y="19"/>
                  </a:cubicBezTo>
                  <a:cubicBezTo>
                    <a:pt x="161" y="23"/>
                    <a:pt x="157" y="26"/>
                    <a:pt x="153" y="26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4789080" y="4176720"/>
              <a:ext cx="193680" cy="10440"/>
            </a:xfrm>
            <a:custGeom>
              <a:avLst/>
              <a:gdLst/>
              <a:ahLst/>
              <a:rect l="l" t="t" r="r" b="b"/>
              <a:pathLst>
                <a:path w="217" h="12">
                  <a:moveTo>
                    <a:pt x="217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2"/>
                  </a:lnTo>
                  <a:lnTo>
                    <a:pt x="217" y="12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4880160" y="4132080"/>
              <a:ext cx="12240" cy="86760"/>
            </a:xfrm>
            <a:custGeom>
              <a:avLst/>
              <a:gdLst/>
              <a:ahLst/>
              <a:rect l="l" t="t" r="r" b="b"/>
              <a:pathLst>
                <a:path w="14" h="97">
                  <a:moveTo>
                    <a:pt x="14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97"/>
                  </a:lnTo>
                  <a:lnTo>
                    <a:pt x="14" y="9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4789080" y="4176720"/>
              <a:ext cx="10440" cy="41760"/>
            </a:xfrm>
            <a:custGeom>
              <a:avLst/>
              <a:gdLst/>
              <a:ahLst/>
              <a:rect l="l" t="t" r="r" b="b"/>
              <a:pathLst>
                <a:path w="12" h="47">
                  <a:moveTo>
                    <a:pt x="1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7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4973040" y="4176720"/>
              <a:ext cx="9720" cy="4176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1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7"/>
                  </a:lnTo>
                  <a:lnTo>
                    <a:pt x="11" y="4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17"/>
            <p:cNvSpPr/>
            <p:nvPr/>
          </p:nvSpPr>
          <p:spPr>
            <a:xfrm>
              <a:off x="4854240" y="4113360"/>
              <a:ext cx="63360" cy="374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18"/>
            <p:cNvSpPr/>
            <p:nvPr/>
          </p:nvSpPr>
          <p:spPr>
            <a:xfrm>
              <a:off x="4854240" y="4214520"/>
              <a:ext cx="6336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Box 19"/>
            <p:cNvSpPr/>
            <p:nvPr/>
          </p:nvSpPr>
          <p:spPr>
            <a:xfrm>
              <a:off x="4763880" y="4214520"/>
              <a:ext cx="6048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20"/>
            <p:cNvSpPr/>
            <p:nvPr/>
          </p:nvSpPr>
          <p:spPr>
            <a:xfrm>
              <a:off x="4945320" y="4214520"/>
              <a:ext cx="6336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文本框 21"/>
          <p:cNvSpPr/>
          <p:nvPr/>
        </p:nvSpPr>
        <p:spPr>
          <a:xfrm>
            <a:off x="952560" y="3897360"/>
            <a:ext cx="134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亲密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3"/>
          <a:stretch/>
        </p:blipFill>
        <p:spPr>
          <a:xfrm>
            <a:off x="1216080" y="1995480"/>
            <a:ext cx="2185920" cy="126684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41"/>
          <p:cNvSpPr/>
          <p:nvPr/>
        </p:nvSpPr>
        <p:spPr>
          <a:xfrm>
            <a:off x="596880" y="274680"/>
            <a:ext cx="617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、现代礼仪的距离意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0" y="274680"/>
            <a:ext cx="453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"/>
          <p:cNvSpPr/>
          <p:nvPr/>
        </p:nvSpPr>
        <p:spPr>
          <a:xfrm>
            <a:off x="4083120" y="2416320"/>
            <a:ext cx="382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REM IPSUM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Rectangle 2" descr=""/>
          <p:cNvPicPr/>
          <p:nvPr/>
        </p:nvPicPr>
        <p:blipFill>
          <a:blip r:embed="rId1"/>
          <a:stretch/>
        </p:blipFill>
        <p:spPr>
          <a:xfrm>
            <a:off x="403200" y="14436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 txBox="1"/>
          <p:nvPr/>
        </p:nvSpPr>
        <p:spPr>
          <a:xfrm>
            <a:off x="284040" y="9889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（一）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拨打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打电话时语调应平稳柔和、安详，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声音不要太大或太小，要富有节奏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．接听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接电话时语调应清晰而愉快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来电应在第二声铃响之后立即接听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结束电话交谈时，通常由打电话的一方提出，然后彼此客气地道别</a:t>
            </a:r>
            <a:r>
              <a:rPr b="1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93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500"/>
                            </p:stCondLst>
                            <p:childTnLst>
                              <p:par>
                                <p:cTn id="95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76320" y="60912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公共场合使用手机注意事项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1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将铃声降低，以免惊动他人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2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铃响时，找安静、人少的地方接听，并控制自己说话的音量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3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如果在车里、餐桌上、会议室、电梯中等地方通话，尽量使你的谈话简短， 以免干扰别人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4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手机响起时，如人在你旁边，应道歉说：“对不起，我接个电话。”然后走到一个不会影响他人的地方，把话讲完在入座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5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如果有些场合不方便通话，就告诉来电者说你会打回电话的，不要勉强接听而影响别人。 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1101600" y="554040"/>
            <a:ext cx="64008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931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二）信函礼仪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称谓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格式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（三）便条礼仪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凭据性便条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说明性便条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81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Rectangle 2" descr=""/>
          <p:cNvPicPr/>
          <p:nvPr/>
        </p:nvPicPr>
        <p:blipFill>
          <a:blip r:embed="rId1"/>
          <a:stretch/>
        </p:blipFill>
        <p:spPr>
          <a:xfrm>
            <a:off x="609480" y="174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2743200" y="1163520"/>
            <a:ext cx="365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迎送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介绍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名片的使用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参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赠送礼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3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任意多边形 36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任意多边形 56"/>
          <p:cNvSpPr/>
          <p:nvPr/>
        </p:nvSpPr>
        <p:spPr>
          <a:xfrm rot="5400000">
            <a:off x="-1394640" y="2311920"/>
            <a:ext cx="6872400" cy="224784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2671920" y="2644920"/>
            <a:ext cx="352440" cy="352440"/>
          </a:xfrm>
          <a:custGeom>
            <a:avLst/>
            <a:gdLst/>
            <a:ahLst/>
            <a:rect l="l" t="t" r="r" b="b"/>
            <a:pathLst>
              <a:path w="83" h="83">
                <a:moveTo>
                  <a:pt x="82" y="44"/>
                </a:moveTo>
                <a:cubicBezTo>
                  <a:pt x="80" y="66"/>
                  <a:pt x="61" y="83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1" y="0"/>
                  <a:pt x="43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2811600" y="2762280"/>
            <a:ext cx="93600" cy="127080"/>
          </a:xfrm>
          <a:custGeom>
            <a:avLst/>
            <a:gdLst/>
            <a:ahLst/>
            <a:rect l="l" t="t" r="r" b="b"/>
            <a:pathLst>
              <a:path w="44" h="60">
                <a:moveTo>
                  <a:pt x="0" y="0"/>
                </a:moveTo>
                <a:lnTo>
                  <a:pt x="44" y="30"/>
                </a:lnTo>
                <a:lnTo>
                  <a:pt x="0" y="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19"/>
          <p:cNvSpPr/>
          <p:nvPr/>
        </p:nvSpPr>
        <p:spPr>
          <a:xfrm>
            <a:off x="887400" y="3821040"/>
            <a:ext cx="353880" cy="352440"/>
          </a:xfrm>
          <a:custGeom>
            <a:avLst/>
            <a:gdLst/>
            <a:ahLst/>
            <a:rect l="l" t="t" r="r" b="b"/>
            <a:pathLst>
              <a:path w="83" h="83">
                <a:moveTo>
                  <a:pt x="1" y="40"/>
                </a:moveTo>
                <a:cubicBezTo>
                  <a:pt x="3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ubicBezTo>
                  <a:pt x="81" y="66"/>
                  <a:pt x="62" y="83"/>
                  <a:pt x="40" y="82"/>
                </a:cubicBezTo>
                <a:cubicBezTo>
                  <a:pt x="17" y="81"/>
                  <a:pt x="0" y="62"/>
                  <a:pt x="1" y="4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20"/>
          <p:cNvSpPr/>
          <p:nvPr/>
        </p:nvSpPr>
        <p:spPr>
          <a:xfrm>
            <a:off x="1006560" y="3932280"/>
            <a:ext cx="93600" cy="122040"/>
          </a:xfrm>
          <a:custGeom>
            <a:avLst/>
            <a:gdLst/>
            <a:ahLst/>
            <a:rect l="l" t="t" r="r" b="b"/>
            <a:pathLst>
              <a:path w="44" h="58">
                <a:moveTo>
                  <a:pt x="44" y="58"/>
                </a:moveTo>
                <a:lnTo>
                  <a:pt x="0" y="3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24"/>
          <p:cNvSpPr/>
          <p:nvPr/>
        </p:nvSpPr>
        <p:spPr>
          <a:xfrm>
            <a:off x="2000160" y="4975200"/>
            <a:ext cx="351000" cy="355680"/>
          </a:xfrm>
          <a:custGeom>
            <a:avLst/>
            <a:gdLst/>
            <a:ahLst/>
            <a:rect l="l" t="t" r="r" b="b"/>
            <a:pathLst>
              <a:path w="83" h="83">
                <a:moveTo>
                  <a:pt x="82" y="44"/>
                </a:moveTo>
                <a:cubicBezTo>
                  <a:pt x="81" y="66"/>
                  <a:pt x="61" y="83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1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25"/>
          <p:cNvSpPr/>
          <p:nvPr/>
        </p:nvSpPr>
        <p:spPr>
          <a:xfrm>
            <a:off x="2139840" y="5097600"/>
            <a:ext cx="92160" cy="126720"/>
          </a:xfrm>
          <a:custGeom>
            <a:avLst/>
            <a:gdLst/>
            <a:ahLst/>
            <a:rect l="l" t="t" r="r" b="b"/>
            <a:pathLst>
              <a:path w="44" h="60">
                <a:moveTo>
                  <a:pt x="0" y="0"/>
                </a:moveTo>
                <a:lnTo>
                  <a:pt x="44" y="30"/>
                </a:lnTo>
                <a:lnTo>
                  <a:pt x="0" y="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95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96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28"/>
          <p:cNvSpPr/>
          <p:nvPr/>
        </p:nvSpPr>
        <p:spPr>
          <a:xfrm>
            <a:off x="4697280" y="171288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29"/>
          <p:cNvSpPr/>
          <p:nvPr/>
        </p:nvSpPr>
        <p:spPr>
          <a:xfrm>
            <a:off x="4265640" y="159228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30"/>
          <p:cNvSpPr/>
          <p:nvPr/>
        </p:nvSpPr>
        <p:spPr>
          <a:xfrm>
            <a:off x="4311720" y="161784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2"/>
          <p:cNvSpPr/>
          <p:nvPr/>
        </p:nvSpPr>
        <p:spPr>
          <a:xfrm>
            <a:off x="5327640" y="1712880"/>
            <a:ext cx="300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宴请的组织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3"/>
          <p:cNvSpPr/>
          <p:nvPr/>
        </p:nvSpPr>
        <p:spPr>
          <a:xfrm>
            <a:off x="4697280" y="3193920"/>
            <a:ext cx="3702240" cy="4813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34"/>
          <p:cNvSpPr/>
          <p:nvPr/>
        </p:nvSpPr>
        <p:spPr>
          <a:xfrm>
            <a:off x="4265640" y="307332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35"/>
          <p:cNvSpPr/>
          <p:nvPr/>
        </p:nvSpPr>
        <p:spPr>
          <a:xfrm>
            <a:off x="4311720" y="309888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7"/>
          <p:cNvSpPr/>
          <p:nvPr/>
        </p:nvSpPr>
        <p:spPr>
          <a:xfrm>
            <a:off x="5327640" y="3232080"/>
            <a:ext cx="300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判桌的座次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38"/>
          <p:cNvSpPr/>
          <p:nvPr/>
        </p:nvSpPr>
        <p:spPr>
          <a:xfrm>
            <a:off x="4697280" y="467532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39"/>
          <p:cNvSpPr/>
          <p:nvPr/>
        </p:nvSpPr>
        <p:spPr>
          <a:xfrm>
            <a:off x="4265640" y="455436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0"/>
          <p:cNvSpPr/>
          <p:nvPr/>
        </p:nvSpPr>
        <p:spPr>
          <a:xfrm>
            <a:off x="4311720" y="4579920"/>
            <a:ext cx="66024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42"/>
          <p:cNvSpPr/>
          <p:nvPr/>
        </p:nvSpPr>
        <p:spPr>
          <a:xfrm>
            <a:off x="5478480" y="4687920"/>
            <a:ext cx="300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约仪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1"/>
          <p:cNvSpPr/>
          <p:nvPr/>
        </p:nvSpPr>
        <p:spPr>
          <a:xfrm>
            <a:off x="3368520" y="179280"/>
            <a:ext cx="52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三节  宴请与签约的组织礼仪（座次安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Rectangle 2" descr=""/>
          <p:cNvPicPr/>
          <p:nvPr/>
        </p:nvPicPr>
        <p:blipFill>
          <a:blip r:embed="rId1"/>
          <a:stretch/>
        </p:blipFill>
        <p:spPr>
          <a:xfrm>
            <a:off x="520560" y="13968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（一）中餐的组织安排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中式宴会的桌次安排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中式宴会通常</a:t>
            </a:r>
            <a:r>
              <a:rPr b="1" lang="en-US" sz="2400" spc="-1" strike="noStrike">
                <a:solidFill>
                  <a:srgbClr val="000931"/>
                </a:solidFill>
                <a:latin typeface="Arial"/>
              </a:rPr>
              <a:t>8-12</a:t>
            </a: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人一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以右为上。当餐桌分为左右时，以面门为据，居右之桌为上（如图</a:t>
            </a:r>
            <a:r>
              <a:rPr b="1" lang="en-US" sz="2400" spc="-1" strike="noStrike">
                <a:solidFill>
                  <a:srgbClr val="000931"/>
                </a:solidFill>
                <a:latin typeface="Arial"/>
              </a:rPr>
              <a:t>8-1</a:t>
            </a: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0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20060724195445674"/>
          <p:cNvPicPr/>
          <p:nvPr/>
        </p:nvPicPr>
        <p:blipFill>
          <a:blip r:embed="rId3"/>
          <a:stretch/>
        </p:blipFill>
        <p:spPr>
          <a:xfrm>
            <a:off x="3352680" y="4267080"/>
            <a:ext cx="3276720" cy="162576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7"/>
          <p:cNvSpPr/>
          <p:nvPr/>
        </p:nvSpPr>
        <p:spPr>
          <a:xfrm>
            <a:off x="4668840" y="617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2" dur="500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500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2286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649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以远为上。当餐桌距离餐厅正门有远近之分时，以距门远者为上（如图</a:t>
            </a:r>
            <a:r>
              <a:rPr b="1" lang="en-US" sz="2600" spc="-1" strike="noStrike">
                <a:solidFill>
                  <a:srgbClr val="000931"/>
                </a:solidFill>
                <a:latin typeface="Arial"/>
              </a:rPr>
              <a:t>8-2</a:t>
            </a: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）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4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6" descr="20060724195704789"/>
          <p:cNvPicPr/>
          <p:nvPr/>
        </p:nvPicPr>
        <p:blipFill>
          <a:blip r:embed="rId2"/>
          <a:stretch/>
        </p:blipFill>
        <p:spPr>
          <a:xfrm>
            <a:off x="3048120" y="3276720"/>
            <a:ext cx="3276360" cy="203040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8"/>
          <p:cNvSpPr/>
          <p:nvPr/>
        </p:nvSpPr>
        <p:spPr>
          <a:xfrm>
            <a:off x="4516200" y="5790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1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57200" y="1143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649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居中为上。多张餐桌并列时，以居于中央者为上（如图</a:t>
            </a:r>
            <a:r>
              <a:rPr b="1" lang="en-US" sz="2600" spc="-1" strike="noStrike">
                <a:solidFill>
                  <a:srgbClr val="000931"/>
                </a:solidFill>
                <a:latin typeface="Arial"/>
              </a:rPr>
              <a:t>8-3</a:t>
            </a: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）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8" name="Picture 6" descr="20060724195759782"/>
          <p:cNvPicPr/>
          <p:nvPr/>
        </p:nvPicPr>
        <p:blipFill>
          <a:blip r:embed="rId1"/>
          <a:stretch/>
        </p:blipFill>
        <p:spPr>
          <a:xfrm>
            <a:off x="380880" y="2819520"/>
            <a:ext cx="3657600" cy="170172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7"/>
          <p:cNvSpPr/>
          <p:nvPr/>
        </p:nvSpPr>
        <p:spPr>
          <a:xfrm>
            <a:off x="1638720" y="47235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Picture 8" descr="20060724195847611"/>
          <p:cNvPicPr/>
          <p:nvPr/>
        </p:nvPicPr>
        <p:blipFill>
          <a:blip r:embed="rId2"/>
          <a:stretch/>
        </p:blipFill>
        <p:spPr>
          <a:xfrm>
            <a:off x="5638680" y="2209680"/>
            <a:ext cx="2208240" cy="2762280"/>
          </a:xfrm>
          <a:prstGeom prst="rect">
            <a:avLst/>
          </a:prstGeom>
          <a:ln w="0">
            <a:noFill/>
          </a:ln>
        </p:spPr>
      </p:pic>
      <p:sp>
        <p:nvSpPr>
          <p:cNvPr id="1131" name="Rectangle 9"/>
          <p:cNvSpPr/>
          <p:nvPr/>
        </p:nvSpPr>
        <p:spPr>
          <a:xfrm>
            <a:off x="6535440" y="510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0"/>
          <p:cNvSpPr/>
          <p:nvPr/>
        </p:nvSpPr>
        <p:spPr>
          <a:xfrm>
            <a:off x="4154400" y="52578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1"/>
          <p:cNvSpPr/>
          <p:nvPr/>
        </p:nvSpPr>
        <p:spPr>
          <a:xfrm>
            <a:off x="3961800" y="5866920"/>
            <a:ext cx="59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Arial"/>
                <a:ea typeface="宋体"/>
              </a:rPr>
              <a:t>在桌次较多的情况下，上述排列常规往往交叉使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8" dur="500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Rectangle 2" descr=""/>
          <p:cNvPicPr/>
          <p:nvPr/>
        </p:nvPicPr>
        <p:blipFill>
          <a:blip r:embed="rId1"/>
          <a:stretch/>
        </p:blipFill>
        <p:spPr>
          <a:xfrm>
            <a:off x="657360" y="146160"/>
            <a:ext cx="8100720" cy="97308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 txBox="1"/>
          <p:nvPr/>
        </p:nvSpPr>
        <p:spPr>
          <a:xfrm>
            <a:off x="522000" y="167292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门为上。即主人面对餐厅正门。有多位主人时，双方可交叉排列，离主位越近地位越尊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宾居右。即主宾在主位（第一主位）右侧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事成双。即每张餐桌人数为双数，吉庆宴会尤其如此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桌同向。即每张餐桌的排位均大体相似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36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7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1" dur="500"/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5" dur="500"/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6" descr="20060724200101501"/>
          <p:cNvPicPr/>
          <p:nvPr/>
        </p:nvPicPr>
        <p:blipFill>
          <a:blip r:embed="rId2"/>
          <a:stretch/>
        </p:blipFill>
        <p:spPr>
          <a:xfrm>
            <a:off x="533520" y="1676520"/>
            <a:ext cx="3657600" cy="250164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7"/>
          <p:cNvSpPr/>
          <p:nvPr/>
        </p:nvSpPr>
        <p:spPr>
          <a:xfrm>
            <a:off x="1602000" y="4647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Picture 8" descr="20060724200144871"/>
          <p:cNvPicPr/>
          <p:nvPr/>
        </p:nvPicPr>
        <p:blipFill>
          <a:blip r:embed="rId3"/>
          <a:stretch/>
        </p:blipFill>
        <p:spPr>
          <a:xfrm>
            <a:off x="5410080" y="1600200"/>
            <a:ext cx="3429000" cy="253224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9"/>
          <p:cNvSpPr/>
          <p:nvPr/>
        </p:nvSpPr>
        <p:spPr>
          <a:xfrm>
            <a:off x="6629400" y="420552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4059000" y="54093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Rectangle 2" descr=""/>
          <p:cNvPicPr/>
          <p:nvPr/>
        </p:nvPicPr>
        <p:blipFill>
          <a:blip r:embed="rId1"/>
          <a:stretch/>
        </p:blipFill>
        <p:spPr>
          <a:xfrm>
            <a:off x="352440" y="13644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 txBox="1"/>
          <p:nvPr/>
        </p:nvSpPr>
        <p:spPr>
          <a:xfrm>
            <a:off x="522000" y="176976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式宴会的餐桌习惯用长桌，或是根据人数多少、场地大小自行设置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中式宴会一样，举办西式宴会也要排定桌次和席次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式宴会的席次排位也是讲究右高左低，同一桌上席位高低以距离主人座位远近而定。西式宴会的席次一般根据宾客地位安排，女宾席次可依据丈夫地位而定，也可以按类别分坐。（如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45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" descr="20060724200403325"/>
          <p:cNvPicPr/>
          <p:nvPr/>
        </p:nvPicPr>
        <p:blipFill>
          <a:blip r:embed="rId2"/>
          <a:stretch/>
        </p:blipFill>
        <p:spPr>
          <a:xfrm>
            <a:off x="380880" y="1752480"/>
            <a:ext cx="3060720" cy="270540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7"/>
          <p:cNvSpPr/>
          <p:nvPr/>
        </p:nvSpPr>
        <p:spPr>
          <a:xfrm>
            <a:off x="1525680" y="4876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8" descr="20060724200434418"/>
          <p:cNvPicPr/>
          <p:nvPr/>
        </p:nvPicPr>
        <p:blipFill>
          <a:blip r:embed="rId3"/>
          <a:stretch/>
        </p:blipFill>
        <p:spPr>
          <a:xfrm>
            <a:off x="5105520" y="175248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1150" name="Rectangle 9"/>
          <p:cNvSpPr/>
          <p:nvPr/>
        </p:nvSpPr>
        <p:spPr>
          <a:xfrm>
            <a:off x="6629400" y="466272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4211640" y="55620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Rectangle 2" descr=""/>
          <p:cNvPicPr/>
          <p:nvPr/>
        </p:nvPicPr>
        <p:blipFill>
          <a:blip r:embed="rId1"/>
          <a:stretch/>
        </p:blipFill>
        <p:spPr>
          <a:xfrm>
            <a:off x="520560" y="122400"/>
            <a:ext cx="8101080" cy="97452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 txBox="1"/>
          <p:nvPr/>
        </p:nvSpPr>
        <p:spPr>
          <a:xfrm>
            <a:off x="522000" y="161748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谈判座次的安排，包括两方面的内容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台桌和椅子样式的选择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台桌和椅子的具体位置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横桌式。（如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-6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竖桌式。竖桌式座次排列，是指谈判桌在谈判室内竖放。具体排位时以进门时的方向为准，右侧由客方人士就座，左侧则由主方人士就座。在其他方面，则与横桌式排座相仿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5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1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5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9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3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25"/>
          <p:cNvSpPr/>
          <p:nvPr/>
        </p:nvSpPr>
        <p:spPr>
          <a:xfrm>
            <a:off x="1832040" y="1359000"/>
            <a:ext cx="6168960" cy="42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6"/>
          <p:cNvSpPr/>
          <p:nvPr/>
        </p:nvSpPr>
        <p:spPr>
          <a:xfrm>
            <a:off x="4484520" y="2068560"/>
            <a:ext cx="92556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首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7"/>
          <p:cNvSpPr/>
          <p:nvPr/>
        </p:nvSpPr>
        <p:spPr>
          <a:xfrm>
            <a:off x="3798720" y="2057400"/>
            <a:ext cx="92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"/>
          <p:cNvSpPr/>
          <p:nvPr/>
        </p:nvSpPr>
        <p:spPr>
          <a:xfrm>
            <a:off x="5627520" y="2057400"/>
            <a:ext cx="9255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9"/>
          <p:cNvSpPr/>
          <p:nvPr/>
        </p:nvSpPr>
        <p:spPr>
          <a:xfrm>
            <a:off x="2886120" y="206856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30"/>
          <p:cNvSpPr/>
          <p:nvPr/>
        </p:nvSpPr>
        <p:spPr>
          <a:xfrm>
            <a:off x="6467400" y="206856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38"/>
          <p:cNvSpPr/>
          <p:nvPr/>
        </p:nvSpPr>
        <p:spPr>
          <a:xfrm>
            <a:off x="2170080" y="1905120"/>
            <a:ext cx="5450040" cy="32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7"/>
          <p:cNvSpPr/>
          <p:nvPr/>
        </p:nvSpPr>
        <p:spPr>
          <a:xfrm>
            <a:off x="2774880" y="2438280"/>
            <a:ext cx="431172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36"/>
          <p:cNvSpPr/>
          <p:nvPr/>
        </p:nvSpPr>
        <p:spPr>
          <a:xfrm>
            <a:off x="4562640" y="5029200"/>
            <a:ext cx="771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正 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32"/>
          <p:cNvSpPr/>
          <p:nvPr/>
        </p:nvSpPr>
        <p:spPr>
          <a:xfrm>
            <a:off x="5627520" y="4267080"/>
            <a:ext cx="9255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33"/>
          <p:cNvSpPr/>
          <p:nvPr/>
        </p:nvSpPr>
        <p:spPr>
          <a:xfrm>
            <a:off x="6539040" y="4267080"/>
            <a:ext cx="12333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34"/>
          <p:cNvSpPr/>
          <p:nvPr/>
        </p:nvSpPr>
        <p:spPr>
          <a:xfrm>
            <a:off x="3648240" y="426708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35"/>
          <p:cNvSpPr/>
          <p:nvPr/>
        </p:nvSpPr>
        <p:spPr>
          <a:xfrm>
            <a:off x="2743200" y="426708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4484520" y="4267080"/>
            <a:ext cx="92556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首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41"/>
          <p:cNvSpPr/>
          <p:nvPr/>
        </p:nvSpPr>
        <p:spPr>
          <a:xfrm>
            <a:off x="388620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142640" y="13712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际商务活动中，礼仪是增进彼此友谊和相互信赖的催化剂，是解决僵局的润滑剂，是不花本钱（或花费极小）但收获甚大的“魔棒”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5" name="图片 1" descr="A000220150318A00PPIC"/>
          <p:cNvPicPr/>
          <p:nvPr/>
        </p:nvPicPr>
        <p:blipFill>
          <a:blip r:embed="rId1"/>
          <a:stretch/>
        </p:blipFill>
        <p:spPr>
          <a:xfrm>
            <a:off x="5978520" y="5153040"/>
            <a:ext cx="31212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Rectangle 2" descr=""/>
          <p:cNvPicPr/>
          <p:nvPr/>
        </p:nvPicPr>
        <p:blipFill>
          <a:blip r:embed="rId1"/>
          <a:stretch/>
        </p:blipFill>
        <p:spPr>
          <a:xfrm>
            <a:off x="123840" y="122400"/>
            <a:ext cx="8099280" cy="97452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签字仪式要注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个主要方面的内容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（一）准备工作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布置好签字厅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预备好待签文本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规范服饰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二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位次排列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并列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7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相对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8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主席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9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73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1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1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500"/>
                                        <p:tgtEl>
                                          <p:spTgt spid="1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1"/>
          <p:cNvSpPr/>
          <p:nvPr/>
        </p:nvSpPr>
        <p:spPr>
          <a:xfrm>
            <a:off x="2209680" y="2438280"/>
            <a:ext cx="4953240" cy="27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Rectangle 2" descr=""/>
          <p:cNvPicPr/>
          <p:nvPr/>
        </p:nvPicPr>
        <p:blipFill>
          <a:blip r:embed="rId1"/>
          <a:stretch/>
        </p:blipFill>
        <p:spPr>
          <a:xfrm>
            <a:off x="2743200" y="946080"/>
            <a:ext cx="5033880" cy="9828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6"/>
          <p:cNvSpPr/>
          <p:nvPr/>
        </p:nvSpPr>
        <p:spPr>
          <a:xfrm>
            <a:off x="2514600" y="2743200"/>
            <a:ext cx="1676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4876920" y="2743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2590920" y="4068720"/>
            <a:ext cx="1600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4952880" y="4068720"/>
            <a:ext cx="1600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0"/>
          <p:cNvSpPr/>
          <p:nvPr/>
        </p:nvSpPr>
        <p:spPr>
          <a:xfrm>
            <a:off x="3467160" y="4762440"/>
            <a:ext cx="2171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    字    桌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3"/>
          <p:cNvSpPr/>
          <p:nvPr/>
        </p:nvSpPr>
        <p:spPr>
          <a:xfrm>
            <a:off x="42670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84" name="Rectangle 6"/>
          <p:cNvSpPr/>
          <p:nvPr/>
        </p:nvSpPr>
        <p:spPr>
          <a:xfrm>
            <a:off x="1676520" y="1558800"/>
            <a:ext cx="6476760" cy="308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2820960" y="2133720"/>
            <a:ext cx="15987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5105520" y="2133720"/>
            <a:ext cx="16761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2666880" y="3048120"/>
            <a:ext cx="4152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0"/>
          <p:cNvSpPr/>
          <p:nvPr/>
        </p:nvSpPr>
        <p:spPr>
          <a:xfrm>
            <a:off x="2781360" y="3886200"/>
            <a:ext cx="15667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5181480" y="3886200"/>
            <a:ext cx="15987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4114800" y="5257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3"/>
          <p:cNvSpPr/>
          <p:nvPr/>
        </p:nvSpPr>
        <p:spPr>
          <a:xfrm>
            <a:off x="1676520" y="45720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相对式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6"/>
          <p:cNvSpPr/>
          <p:nvPr/>
        </p:nvSpPr>
        <p:spPr>
          <a:xfrm>
            <a:off x="1828800" y="1676520"/>
            <a:ext cx="58672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7"/>
          <p:cNvSpPr/>
          <p:nvPr/>
        </p:nvSpPr>
        <p:spPr>
          <a:xfrm>
            <a:off x="3459240" y="2114640"/>
            <a:ext cx="24080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2790720" y="2819520"/>
            <a:ext cx="37623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9"/>
          <p:cNvSpPr/>
          <p:nvPr/>
        </p:nvSpPr>
        <p:spPr>
          <a:xfrm>
            <a:off x="2819520" y="3733920"/>
            <a:ext cx="37623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各方所有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0"/>
          <p:cNvSpPr/>
          <p:nvPr/>
        </p:nvSpPr>
        <p:spPr>
          <a:xfrm>
            <a:off x="38862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1981080" y="623880"/>
            <a:ext cx="5486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席式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-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200" name="文本框 1" descr=""/>
          <p:cNvPicPr/>
          <p:nvPr/>
        </p:nvPicPr>
        <p:blipFill>
          <a:blip r:embed="rId2"/>
          <a:stretch/>
        </p:blipFill>
        <p:spPr>
          <a:xfrm>
            <a:off x="92160" y="1254240"/>
            <a:ext cx="3220920" cy="645840"/>
          </a:xfrm>
          <a:prstGeom prst="rect">
            <a:avLst/>
          </a:prstGeom>
          <a:ln w="0">
            <a:noFill/>
          </a:ln>
        </p:spPr>
      </p:pic>
      <p:pic>
        <p:nvPicPr>
          <p:cNvPr id="1201" name="图示 3" descr=""/>
          <p:cNvPicPr/>
          <p:nvPr/>
        </p:nvPicPr>
        <p:blipFill>
          <a:blip r:embed="rId3"/>
          <a:stretch/>
        </p:blipFill>
        <p:spPr>
          <a:xfrm>
            <a:off x="835200" y="1531800"/>
            <a:ext cx="7473600" cy="471348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 txBox="1"/>
          <p:nvPr/>
        </p:nvSpPr>
        <p:spPr>
          <a:xfrm>
            <a:off x="520200" y="202248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32880" y="174600"/>
            <a:ext cx="54435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圆满的商务签约仪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一、合同草拟的正规做法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二、签约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05" name="图片 211972" descr="W020080328349839806736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Rectangle 2" descr=""/>
          <p:cNvPicPr/>
          <p:nvPr/>
        </p:nvPicPr>
        <p:blipFill>
          <a:blip r:embed="rId1"/>
          <a:stretch/>
        </p:blipFill>
        <p:spPr>
          <a:xfrm>
            <a:off x="457200" y="3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 txBox="1"/>
          <p:nvPr/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掌握国际商务谈判礼仪对整个谈判的成功至关重要，礼仪贯穿于商务谈判的始终，体现在每一个细节中。商务谈判，特别是对外谈判，由于本身的商业性、涉外性和正规性，对礼仪方面有着一些特殊的要求。迎接为谈判礼节的序幕，事关谈判氛围之情状。因此非常重要，应在掌握对方状况的基础上，合理安排住宿，不失礼节地安排迎接方式，考虑到不同国家客人的习惯，为客人事先准备鲜花，并以合适的名义送出。在与客人见面时，通常有两种介绍方式，一是自我介绍；二是第三者作介绍。为他人作介绍的问题上必须遵守“尊者优先了解情况”规则。商务送礼不要送过分贵重的礼物，要非常小心各国商人的喜好与忌讳，礼品一定要有包装，接受礼物适应当面打开，并表示赞美和喜欢。来而不往非礼也，收到礼物后要回赠对方。商务人士的个人礼仪是指谈判者的个人仪表礼仪、举止礼仪、言谈礼仪等诸多利益，其中有很多繁杂的细节需要谈判者加以注意。现代交往中应有距离意识，对不同的交往对象，个体空间的限定范围也有所不同。一般来说，关系越密切，个体空间的范围划得越小。人与人之间的距离越近。在公务过程中还应特别注意电话礼仪、信函礼仪以及便条礼仪等，以便在不能面对面交往时给人留下好的印象。对于宴请与签约的组织礼仪（座次安排），国际社会有一些约定俗成的做法，需要大家牢记和遵守。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0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0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Rectangle 2" descr=""/>
          <p:cNvPicPr/>
          <p:nvPr/>
        </p:nvPicPr>
        <p:blipFill>
          <a:blip r:embed="rId1"/>
          <a:stretch/>
        </p:blipFill>
        <p:spPr>
          <a:xfrm>
            <a:off x="520560" y="9828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 txBox="1"/>
          <p:nvPr/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某厂长去广交会考察，恰巧碰上出口经理和印尼客户在热烈地洽谈合同。见厂长来了，出口经理忙向客户介绍，厂长因右手拿着公文包，便伸出左手握住对方伸出的右手。谁知刚才还笑容满面地客人忽然笑容全无，并且就座后也失去了先前讨价还价的热情，不一会便声称有其它约会，急急地离开了摊位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案例分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在穆斯林国家，左手是不能用来从事如签字、握手、拿食物等干净的工作的，否则会被看作是粗鲁的表现，因为左手一般是用来做不洁之事的。这次商务谈判失败，就是因为厂长不了解这一文化差异，而是用了对中国人来说可以接受的左手与对方握手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1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00"/>
                            </p:stCondLst>
                            <p:childTnLst>
                              <p:par>
                                <p:cTn id="167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4825"/>
                            </p:stCondLst>
                            <p:childTnLst>
                              <p:par>
                                <p:cTn id="169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2" descr=""/>
          <p:cNvPicPr/>
          <p:nvPr/>
        </p:nvPicPr>
        <p:blipFill>
          <a:blip r:embed="rId1"/>
          <a:stretch/>
        </p:blipFill>
        <p:spPr>
          <a:xfrm>
            <a:off x="457200" y="381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 txBox="1"/>
          <p:nvPr/>
        </p:nvSpPr>
        <p:spPr>
          <a:xfrm>
            <a:off x="1599840" y="22096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礼仪在谈判中可以起到怎样的作用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如何修炼个人的综合气质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谈判过程中应如何安排双方的座次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签约时应注意哪些礼节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215" name="图片 1" descr="A000220150908A64PPIC"/>
          <p:cNvPicPr/>
          <p:nvPr/>
        </p:nvPicPr>
        <p:blipFill>
          <a:blip r:embed="rId3"/>
          <a:stretch/>
        </p:blipFill>
        <p:spPr>
          <a:xfrm>
            <a:off x="3535200" y="176040"/>
            <a:ext cx="55659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6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0" dur="5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4" dur="5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8" dur="5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Rectangle 2" descr=""/>
          <p:cNvPicPr/>
          <p:nvPr/>
        </p:nvPicPr>
        <p:blipFill>
          <a:blip r:embed="rId1"/>
          <a:stretch/>
        </p:blipFill>
        <p:spPr>
          <a:xfrm>
            <a:off x="457200" y="155520"/>
            <a:ext cx="6400800" cy="11397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 txBox="1"/>
          <p:nvPr/>
        </p:nvSpPr>
        <p:spPr>
          <a:xfrm>
            <a:off x="365040" y="99864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宋体"/>
              </a:rPr>
              <a:t>迎接为谈判礼节的序幕，事关谈判氛围之情状。出于谈判策略的要求，主方既可以利用热情地招待使双方达成朋友关系，也可能在谈判利益较强的情况下，利用傲慢的态度，怠慢地招待，给对方造成强大的心理压力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掌握对方状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二）安排住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三）迎接方式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四）送鲜花的方法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2" descr=""/>
          <p:cNvPicPr/>
          <p:nvPr/>
        </p:nvPicPr>
        <p:blipFill>
          <a:blip r:embed="rId1"/>
          <a:stretch/>
        </p:blipFill>
        <p:spPr>
          <a:xfrm>
            <a:off x="650880" y="138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主宾的个人简况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姓名、性别、年龄、籍贯、民族、单位、职务、职称、党派以及文化程度、宗教信仰、生活习惯、家庭状况、政治倾向、业务能力、社会评价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总体情况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具体人数、性别概况、组团情况以及负责人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整体计划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访问目的、指导方针、大致安排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具体要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抵达时间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具体日期、具体时间及其相关的航次、车次、地点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1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Rectangle 2" descr=""/>
          <p:cNvPicPr/>
          <p:nvPr/>
        </p:nvPicPr>
        <p:blipFill>
          <a:blip r:embed="rId1"/>
          <a:stretch/>
        </p:blipFill>
        <p:spPr>
          <a:xfrm>
            <a:off x="450720" y="-34920"/>
            <a:ext cx="7391520" cy="11397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213840" y="1467000"/>
            <a:ext cx="8534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在为客人解决住宿问题时，可采用两种方式：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其一，客人自行解决，我方接待人员只需为其提供一定的协助，如代为预订，或为其提供建议、咨询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其二，我方解决。即我方负责解决与客人住宿相关的一切问题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Rectangle 2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1357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慎重选择住宿地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条件优越、设备齐全、服务与国际水准接轨的涉外饭店住宿）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知名度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服务质量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周边环境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交通、医疗条件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配套设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尤其是通讯设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距接待单位、机场、港口、车站及工作地点路程的远近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方用以安排外宾住宿的经费预算状况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900000" y="304920"/>
            <a:ext cx="6553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充分尊重外宾的生活习惯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尽量不安排同性别的外宾共居一室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努力为外宾创造出良好的卫生条件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充分保证外方客人住处的安静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严格做到外方客人的休息不被干扰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细心照顾外宾的生活需要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近住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随客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排闲暇活动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足合理需要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9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8:34:23Z</dcterms:created>
  <dc:creator>佛山照明</dc:creator>
  <dc:description/>
  <dc:language>en-US</dc:language>
  <cp:lastModifiedBy>hp</cp:lastModifiedBy>
  <dcterms:modified xsi:type="dcterms:W3CDTF">2021-08-27T08:52:58Z</dcterms:modified>
  <cp:revision>12</cp:revision>
  <dc:subject/>
  <dc:title>第八章 商务谈判礼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C906815C854226880D67C2C6232B43</vt:lpwstr>
  </property>
  <property fmtid="{D5CDD505-2E9C-101B-9397-08002B2CF9AE}" pid="3" name="KSOProductBuildVer">
    <vt:lpwstr>2052-11.1.0.10700</vt:lpwstr>
  </property>
</Properties>
</file>