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0C38-0BF4-4DE7-BB88-E62DC25F25B1}"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9B38-4D6E-47CD-BD00-A03495249C9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380880" y="685800"/>
            <a:ext cx="6094440" cy="3429000"/>
          </a:xfrm>
          <a:prstGeom prst="rect">
            <a:avLst/>
          </a:prstGeom>
          <a:ln w="0">
            <a:noFill/>
          </a:ln>
        </p:spPr>
      </p:sp>
      <p:sp>
        <p:nvSpPr>
          <p:cNvPr id="1038"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9"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4A9A-CCE7-4FBD-9D3A-32A2B7525C97}"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80880" y="685800"/>
            <a:ext cx="6094440" cy="3429000"/>
          </a:xfrm>
          <a:prstGeom prst="rect">
            <a:avLst/>
          </a:prstGeom>
          <a:ln w="0">
            <a:noFill/>
          </a:ln>
        </p:spPr>
      </p:sp>
      <p:sp>
        <p:nvSpPr>
          <p:cNvPr id="1041"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42"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55DF-EB83-45A7-BD5E-C8BB895A1CD1}"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3A89B-FBB8-4918-ACA1-23F5B888B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9BA8-D274-4042-B5F2-A661DD08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AC4ADB-A7F5-402B-87CC-59AA2511E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87F75D-EDF5-47D1-BFC8-8CB410609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F595C-1647-4D4E-B1EB-C4F115DE84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41447-C9A1-4A53-A495-B83FF6B53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904BA-86CC-4D0B-B145-AA5C2C8047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67212-98B8-4C0A-86A9-FDF3F2882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575F5-07D2-47D5-B784-E04864008A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5BAB71-E509-4FE5-B87D-8A0579FB27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823E55-74AD-4E7F-A34C-4AD67FBA51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307264-8DDE-4D82-B613-9DA48B24FD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8E647-EB96-475D-BF27-EC16885F9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526E9B-D5B3-4EFD-BCFF-3063385203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48681F-3FCD-4273-92A1-5D6A601645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C157A8-3F52-4463-B1C5-89976294DB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D14AD0-3AA7-4510-B973-39C2D3C056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5E72A3-D066-4573-BF7C-305E1BB099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DBD668-595A-4E79-A2B9-2CE3110E95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A30188-2BCA-4059-BC4E-305FEE97CD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B3E1C5-DF8F-4CCE-B554-F16AF47511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640E6E-46ED-4EF6-A5AA-0FC43FAB1C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14B708-FE1E-4282-86C3-0BC55296A5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5A038-940F-45F2-AF18-53DD2B0E0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449645-BFBA-4E97-9A52-82701B0472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E4F0C2-CD10-49E4-87FB-A9EAF3458A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54644C-E147-44D2-915B-D40467DD0E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BA3096-09CE-4B1B-8915-FB9D96D86C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1AEF7F-3231-40F5-92A5-01FD04FDD3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218BFC-3BEA-428B-BA2A-926B790041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2601B1-3751-4A6F-8FB9-AB79D4F329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D497C4-4F99-4482-9C39-A267343F84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CDEE53-4A4D-449E-8411-7E50899D97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387525-42D0-4736-8B77-FFFA1855F6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58602-BB9F-4560-AE51-8F784BA77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8CEA31-6483-49EC-97DE-B4FD7D59AC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7816D8-F740-41C7-8591-AA9CED9F4E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205A33-7054-4C94-84DE-4EF062191D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8D5A44-CBD1-4CD2-9FD7-FBA004C1D8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A6FDF1-AF29-4283-94E4-9ACE6C53B9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AF42A4-47A4-4D5F-84A5-7D6C3124F2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D24E63-46A0-484A-AE99-3EA7FA749B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4333EB-3DEF-4695-A082-19C8DBC32A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2AB5A0-6F51-4A55-A94A-D4A5C84585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B42122-ED3D-4722-8EA9-0EC6B138AB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8EC5F-6E93-4BD5-88AB-8652CD74C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B4043B-DA94-4EF8-BB14-1CB75E36E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1BE241-0B29-4076-BA34-1E62D7B172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B058E2-C137-4BB1-9416-14E6DAB0F9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F16B20-E4D6-4304-921E-E7119A8621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8C9414-635B-45D0-843F-1180BDBE64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340A43-55FE-4473-8562-8D9FDEC4B8D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368706-FCFA-4761-95D2-3ABD6D353B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A9221D-47B6-4187-A9ED-EA9D76BD71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3928FD-172C-485C-9674-909F12F0AF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44810B-B1C0-471E-A4F7-F90BA7C6FF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2599F-37DB-4C3E-B1B1-8B3BDEB0A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1DE92F-ED6C-4461-8915-9AD8260C60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151ADC-CC4A-4366-86C3-6E7F4B60FA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401F85-4D10-4E62-A97B-3860181F95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1936ED-76FE-47E7-87C4-D85CCCA573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9253B0-D3D2-49CD-A7F0-63BDC54773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128FF8-81E6-4427-99B1-E9E864CCBE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990786-DA68-4E9B-BEC2-8EDF9034DA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A335AD-682C-4130-AB56-4192DDBCEE3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3E0DAC-649C-4D1B-9647-286D8DB010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5507F1-D6D6-4C9C-AE60-ACE870C14F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8928C-1688-4B1B-BB6B-E8C3C2972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915A48-CCE2-4655-B7FA-20BF45F5E2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9E5930-6067-47C8-9871-00B3144A5A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0D4095-F1CE-4B10-8C64-05A4997A38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930DC9-96AC-4AA6-8BFA-FA3855F32D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66E584-2DCA-4E12-BC4F-B185692C82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3AE3AB-120C-4C27-9652-48C18E6768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1F646B-22CB-44B3-8455-2F7FCABF59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7C75358-8A0E-4602-8697-00F0CCC87A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DFAE3C-E501-43FD-8DF8-09C7FFBDE3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18DE29-683F-40EA-8931-5AF7A5F3D9A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6CFC2-D45A-4894-B7E3-BEBC20085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31F66E-B3DE-4AA8-9092-5BDB621667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0B0729-0413-4CF2-8BE2-DB88072212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2624CD-A323-4BEF-9907-553D493701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FB92235-88E4-4D15-9977-D7F3CBDCD1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CC7305-E37A-41DA-95D8-C5B970A85E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66DF8B-B425-401D-A6D5-AA366243DD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DF573E-209E-462F-A142-826DC55F04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4CB0E7-9774-4550-89E8-0013B4782B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945EC4-315E-42AE-A5CC-AF671C2A1B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4724290-E0A8-4442-B979-9420FD2CBA1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C6E41-12D2-4A1B-BDE8-A60F2F12B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56594D5-235D-42C5-8463-A9F06DD48D1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04F215-76BC-4BFB-8440-415761684CA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2170C6-D693-4F32-A0B7-74592E98CF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512BA9-F9A4-4112-9969-6058EE5BF2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9119F1-683C-4E70-B970-EEE65D532C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93E3DC-C79B-439D-AE78-C2F1C28491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2370033-13E4-4395-9278-E3BA59893A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0F2C96-846D-4956-989D-CCA6F2ADCC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4401B2-578D-465E-906D-5A46C01C89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FC908F-2FE3-4B7D-A8C6-4E9D3358EE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EB4CF-865E-4F8E-BE51-6ED8016E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DBA0E6-CFD9-47A0-B0E3-4DCBE8E221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1B4F987-6544-46C9-A800-AFBA4144D6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639E8B1-0310-4CE3-9F02-2C1AB5203B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2CB051-A843-4662-97D6-7D9B0E98C70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20A2F09-ABCC-4AF2-B1EC-409CF907CD7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504802-2380-42EB-9AD8-32A9C47C67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F8AB544-D110-4B55-B412-189637BE9D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3E0D4EB-13DD-43F6-B9E1-9B65696566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DFF229-67EE-482E-A493-C7ABD5EFCB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90DE66-EF10-466B-9825-684150633B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C3F9B-D1C4-45B3-9F5F-6B7F71D9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611A8-DF67-474F-83BA-F7554D9D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36EE6E-E333-4A09-B8AB-BA25B191CE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77FB74-DA32-4D08-A928-1E766F9FA4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A2775C-BDF5-497F-B778-9F4C8D7B40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FD4154-B452-4EFF-A5C4-2D70EBE5865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AE3304E-3693-48CA-AD88-106E2E44B0D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A65CD13-A88A-4F32-A75B-D965AEB186F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2CD019E-F72C-4732-84A1-2D215EA430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4D4DD5-5568-4C2A-81AA-B9DA9D895E9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8625262-FF61-4F15-9B1E-AA327F07F7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3746D30-4364-4026-8CB2-E5254535C8B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72245-8AFC-4FA5-8C44-F238BA86F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0A07EB-50ED-467B-A913-52FE2FE9492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A4E496-053A-4516-9158-A69AAE7812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E71E7C-4B6B-480D-83E7-336AADE352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AC7ED6-6BB8-4908-948E-CF76997A44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463BCC3-32A0-4A15-8245-EF87F72701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84DBB4A-62C0-4465-BA7D-8D81419CC36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C9F135B-37C0-492D-8F43-F33DD5D3FB8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33D68AB-E6D5-4D9D-821F-8116D2E2CCD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CD31EE-216E-4973-89E5-D87001179AA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71F893C-7D44-4A2D-8F4B-DD965E8CDE4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F5100-8BCC-4ADD-A91A-469DD5BED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6CC3528-B2D0-443C-A9E6-F5ADF96B72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1FDEF38-4B8D-429D-B56C-F6923004E58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B34D62B-B1E9-4AA0-BA04-2207EC9154C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6D647F-4DC9-4A4A-AE74-8BA45B9537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4E5FD9-5B3B-478D-B8C6-69AFC51627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91B30A-C3CF-4359-9522-76C68604EF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DD2F81D-7E8E-40DB-A0D7-0C630C4247A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A429D67-6E76-47F0-AD46-CA36EAAD22D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6370BE-6540-418F-991F-3FEBA52BF5D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AF6F52B-607F-48AF-AAF8-37BE4F39BE9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0C399-29FF-41F6-8F46-A9C0AE622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347E4BE-DDFD-410C-B18B-57745706E6E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29500FB-5FE5-4EDF-B82D-2A77429E1AA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B0963E-DB64-4F07-BF45-E8AAF05194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CA96AB1-6B5A-4C48-B50E-77B7A7C502E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4175F2F-BAFB-4A11-BCB0-74F69756AF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5582C1-8FC7-4D92-B4A2-B4F38F9491F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4EFAAD-56A8-47FC-971F-FAC69194BC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4683F9-C9C3-44E8-98BE-338AC4C91B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0A1CD5B-400B-4111-A298-331876E317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6ADBFDE-66E9-4159-9240-D040F5232C2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08164-8FAC-486C-84B1-B1978BBB4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71AA7B4-DD45-4F7F-9DD6-EE6348C9F6B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F3F2B6-B856-4204-B058-C2AF9F952D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83E66-2ED1-48BE-9DC2-A3C52413E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E3E1A-D4A5-4E16-B106-2EBEB60BA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B0EED-46E4-4A17-AD50-2F44EA321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8C2DB-AFD7-43BD-B4F2-943A12A8B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B1398-322E-4CB8-BFA3-B5A7EC0A8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53B33-8E80-4AF5-847C-93229DB1B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DB423-53CA-4200-A876-9BC3D6A74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6FF4E-CEAE-4789-9B1D-C8D9795D2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028AE-F5D5-4155-83BF-A48B72D27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9BECA-52EA-4BC0-B409-238239E22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2D9544-2E23-4759-A76F-6D06544411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ABDDE2-39B2-4B33-B765-4E3F52C331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1D168-280A-4B88-8C3D-275C36C33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50FFC-27EA-48DA-8602-ECC25D172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69F5F-4D82-4F20-BB44-7D1AB7EA3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5AB76-0943-4C30-9E28-354DD193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055D8-C5E4-45CB-AAA5-4B39DCEE0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01F37-1BA6-4CFE-A140-96178EB36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0AE9D-FE84-4C08-8323-1BDA4D052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70AFF-9050-4F82-94E0-C2A728FD3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4E38B-5DB1-4C93-8E3A-FC45CEF51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A2091-9057-4979-B5A9-4AB7B870D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086BD-CA0C-4B3B-9AD5-97C434AD3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60CB63-015B-4A1D-8C55-AE2335A5A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285A5-167E-48B9-A332-77A3D8F0D1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C4DA0-2313-4471-B9C2-2AD93D9FA0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69B8F-2110-4F1C-B1E4-F92DB0B9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7445E-AC1B-4309-AAC5-3416FFB14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4F25D-BE68-461D-828B-5CF2FFE85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B422E-20AF-4CBF-9247-8A2265DC74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C840F-E752-4825-96D1-D292CA952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60760-00D1-42FC-8068-C324A9B46B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B023A-16FC-4E09-96C0-A9CF67662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BB53F-7AEB-4F45-B474-E9D573B8C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A67EB-3510-48CF-878B-77FC5B1EB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BF03E-4469-4B8C-BC87-C8A53EF6C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8AA54E-EA23-4CE9-B4B5-FFFA431B09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86C6-A6B9-4068-B831-E8A96654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0A1099-F292-4EC4-8930-6AD86966A5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D7AAEE-CFB2-4B27-9AC1-7E1AAC1956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46BBE-31D4-40E7-A5CB-02406E8B6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67675-0CE2-48C5-92BF-30F53D093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36198-ACE6-4811-ABF0-465DE9B8B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42F992-C310-412B-BA53-27AAAFDED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C11E5-6BCA-495F-B30A-3076FF176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A5976-34AF-4C85-A52F-ABF27A920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B15E9-463F-46C2-88C8-362156F20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8C9EC-08B9-42B5-8784-42771C946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DA689-FFF9-42E1-BB72-ABC14778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E8C06-895D-4F1F-A5A4-3BF87EC31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A8F27C-4A63-4701-B73D-26BD83AB6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570700-AC10-41E0-B3FA-B23CE94D30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B4FBC2-29ED-4398-84E6-1915FA6FE2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9C81DC-47B5-4EA4-A578-11C394167E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5E6D3-0260-44B6-81F3-21D7AF830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92F38-57A2-4520-9106-064254195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31978-33CB-4ED9-9C22-589B9CE16E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61F46-5250-45C8-A852-213739B3E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7BBD4-1C7F-46BE-A6A5-E2A07A0EF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2803-DD60-41B5-BFED-4B16F834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C9BC9-948D-4532-B5CF-ABE9DF95D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819A4-83E4-4375-8823-BDDF8302DF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BA842-989F-4801-975E-A456CA82B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090E3-72FC-4207-9231-8C18F02E08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AE469F-56CE-41B2-AEB6-83547CED11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1AB31B-9EB5-48A4-969C-6FB89C14A6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C68B44-37E8-4FB4-865D-4DDBD4D5A5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EE7B9-AD0B-4E38-8F5E-19DED47DD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987435-B646-4574-A97B-A423742D4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0B879-2501-45AF-B2C6-348DB8A92B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A1B9-DA85-423D-B004-3BE160763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A4725-0EF9-4D68-AA19-3741ABD87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3E6E3-2F06-474D-A437-DD9E7B775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81EFA3-7438-476E-B949-DCFE9FE59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ACC14-6C6B-461B-B918-71B4F79A0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8E3782-5869-4BE2-97AE-C91D835C21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91220C-0397-4482-BBB5-C80250B578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BB9604-5515-41AD-8789-DBCAEE7F4D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8D0987-0D7C-4FD5-9AA6-62C8D629F7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6A618-FCAA-4E55-908B-E55B079D39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955F89-59C9-4041-BB29-F0BF0B99B9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E905-821A-44D3-8354-C804EA1F5162}"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896B-8B2E-476D-8310-8920BFA62BF4}"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4E74-86F2-4C70-93B3-F1B7AB15F3D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92ED-4F76-40A9-B917-1008A7F3D8F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5389-21AB-40E6-A77A-EBFE0CE8447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D8B8-A858-48CF-8C1A-6A856370BF2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E15E-5A16-4B60-A509-B781728F9D34}"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9E91-CE81-4FFA-87F8-FF8096E7E0C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2862-AC07-4A31-B370-94469F4C462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4960-37DF-4BE6-B11A-34811D8CCFB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0AE3-9DAD-48AD-A54F-0D7DC11339ED}"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3D54-3B13-4DB9-86EF-8B772D9F6C0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334B-8BFF-4EF8-9FAE-CCB0B5B1C385}"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991A-746D-4668-9E5E-FB7FB756E2B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8772-DE4C-4341-A808-A00B40C6862B}"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6184-82DA-4524-BEC3-CB61E64CDA2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A4A5-93E9-48D4-A785-CF6349783BB7}"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AEA4-97C5-47F8-87C4-34720E37006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72D6-170E-4045-A2AF-9FC2BF716A39}"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06CC-1BF9-4523-B9D5-7C594C52006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4233-6A6F-4E8B-9E5E-D57D882E27F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3278-BE56-4ED2-9F96-18A0C02850FC}"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25C2-AE4C-48F6-9979-C0C6A55DE0AE}"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9F89-5964-4A48-A61F-C3B19C67BBA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2701-AE4A-4E8A-8109-8B583B814D9F}"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913D-A281-4B98-8C94-D21FDE63666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1AFD-6D41-4C6F-A44E-543A0E070F4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9EBE-FA9C-437C-8193-5CBA016E671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3F41-AFEC-400B-80B2-F6733DBD49A3}"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18EE-CA1A-46CD-A413-8D6E8226FA12}"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F9DC-C7DF-4344-BC54-F32009B4E87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FC9E-6123-4FAB-9362-D253FB9006D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1D10-9D2B-4159-BE7F-663B7E3E615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F029-E717-4339-8EE4-CBD0079F5F5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A42C-8F3F-438E-AECF-8E14B9BCE889}"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D9E3-405F-47D1-AC24-4CA4683FD85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D549-D2FC-4C0F-A16E-EA839EDBA3B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C94C-EE85-40F3-BAEF-F1867826AB2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082A-8885-4026-B477-5E7E49D1FDFE}"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D9F1-B649-47D6-92CB-EF4AF39CAFB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1"/>
          <p:cNvSpPr/>
          <p:nvPr/>
        </p:nvSpPr>
        <p:spPr>
          <a:xfrm>
            <a:off x="960480" y="772200"/>
            <a:ext cx="7219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表</a:t>
            </a:r>
            <a:r>
              <a:rPr b="0" lang="en-US" sz="1200" spc="-1" strike="noStrike">
                <a:solidFill>
                  <a:srgbClr val="000000"/>
                </a:solidFill>
                <a:latin typeface="微软雅黑"/>
                <a:ea typeface="微软雅黑"/>
              </a:rPr>
              <a:t>6-2                                                          </a:t>
            </a:r>
            <a:r>
              <a:rPr b="0" lang="zh-CN" sz="1200" spc="-1" strike="noStrike">
                <a:solidFill>
                  <a:srgbClr val="000000"/>
                </a:solidFill>
                <a:latin typeface="微软雅黑"/>
                <a:ea typeface="微软雅黑"/>
              </a:rPr>
              <a:t>利润表</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微软雅黑"/>
              </a:rPr>
              <a:t>年度                                                          单位：元</a:t>
            </a:r>
            <a:endParaRPr b="0" lang="en-US" sz="1200" spc="-1" strike="noStrike">
              <a:solidFill>
                <a:srgbClr val="000000"/>
              </a:solidFill>
              <a:latin typeface="Arial"/>
            </a:endParaRPr>
          </a:p>
        </p:txBody>
      </p:sp>
      <p:sp>
        <p:nvSpPr>
          <p:cNvPr id="95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1" name=""/>
          <p:cNvGraphicFramePr/>
          <p:nvPr/>
        </p:nvGraphicFramePr>
        <p:xfrm>
          <a:off x="501480" y="1231920"/>
          <a:ext cx="8141040" cy="3427560"/>
        </p:xfrm>
        <a:graphic>
          <a:graphicData uri="http://schemas.openxmlformats.org/drawingml/2006/table">
            <a:tbl>
              <a:tblPr/>
              <a:tblGrid>
                <a:gridCol w="2797200"/>
                <a:gridCol w="2619360"/>
                <a:gridCol w="2724480"/>
              </a:tblGrid>
              <a:tr h="201600">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一、营业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税金及附加</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销售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管理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财务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二、营业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3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三、利润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四、净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96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五、其他综合收益的税后净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六、综合收益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1"/>
          <p:cNvSpPr/>
          <p:nvPr/>
        </p:nvSpPr>
        <p:spPr>
          <a:xfrm>
            <a:off x="960480" y="896040"/>
            <a:ext cx="72198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合并报表工作底稿如表</a:t>
            </a:r>
            <a:r>
              <a:rPr b="0" lang="en-US" sz="1200" spc="-1" strike="noStrike">
                <a:solidFill>
                  <a:srgbClr val="000000"/>
                </a:solidFill>
                <a:latin typeface="微软雅黑"/>
                <a:ea typeface="Times New Roman"/>
              </a:rPr>
              <a:t>6-3</a:t>
            </a:r>
            <a:r>
              <a:rPr b="0" lang="zh-CN" sz="1200" spc="-1" strike="noStrike">
                <a:solidFill>
                  <a:srgbClr val="000000"/>
                </a:solidFill>
                <a:latin typeface="微软雅黑"/>
                <a:ea typeface="Times New Roman"/>
              </a:rPr>
              <a:t>所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表</a:t>
            </a:r>
            <a:r>
              <a:rPr b="0" lang="en-US" sz="1200" spc="-1" strike="noStrike">
                <a:solidFill>
                  <a:srgbClr val="000000"/>
                </a:solidFill>
                <a:latin typeface="微软雅黑"/>
                <a:ea typeface="Times New Roman"/>
              </a:rPr>
              <a:t>6-3                                                 P</a:t>
            </a:r>
            <a:r>
              <a:rPr b="0" lang="zh-CN" sz="1200" spc="-1" strike="noStrike">
                <a:solidFill>
                  <a:srgbClr val="000000"/>
                </a:solidFill>
                <a:latin typeface="微软雅黑"/>
                <a:ea typeface="Times New Roman"/>
              </a:rPr>
              <a:t>公司合并工作底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                      </a:t>
            </a:r>
            <a:r>
              <a:rPr b="0" lang="en-US" sz="1200" spc="-1" strike="noStrike">
                <a:solidFill>
                  <a:srgbClr val="000000"/>
                </a:solidFill>
                <a:latin typeface="微软雅黑"/>
                <a:ea typeface="Times New Roman"/>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Times New Roman"/>
              </a:rPr>
              <a:t>年</a:t>
            </a:r>
            <a:r>
              <a:rPr b="0" lang="en-US" sz="1200" spc="-1" strike="noStrike">
                <a:solidFill>
                  <a:srgbClr val="000000"/>
                </a:solidFill>
                <a:latin typeface="微软雅黑"/>
                <a:ea typeface="Times New Roman"/>
              </a:rPr>
              <a:t>12</a:t>
            </a:r>
            <a:r>
              <a:rPr b="0" lang="zh-CN" sz="1200" spc="-1" strike="noStrike">
                <a:solidFill>
                  <a:srgbClr val="000000"/>
                </a:solidFill>
                <a:latin typeface="微软雅黑"/>
                <a:ea typeface="Times New Roman"/>
              </a:rPr>
              <a:t>月</a:t>
            </a:r>
            <a:r>
              <a:rPr b="0" lang="en-US" sz="1200" spc="-1" strike="noStrike">
                <a:solidFill>
                  <a:srgbClr val="000000"/>
                </a:solidFill>
                <a:latin typeface="微软雅黑"/>
                <a:ea typeface="Times New Roman"/>
              </a:rPr>
              <a:t>31</a:t>
            </a:r>
            <a:r>
              <a:rPr b="0" lang="zh-CN" sz="1200" spc="-1" strike="noStrike">
                <a:solidFill>
                  <a:srgbClr val="000000"/>
                </a:solidFill>
                <a:latin typeface="微软雅黑"/>
                <a:ea typeface="Times New Roman"/>
              </a:rPr>
              <a:t>日                                                    单位：元</a:t>
            </a:r>
            <a:endParaRPr b="0" lang="en-US" sz="1200" spc="-1" strike="noStrike">
              <a:solidFill>
                <a:srgbClr val="000000"/>
              </a:solidFill>
              <a:latin typeface="Arial"/>
            </a:endParaRPr>
          </a:p>
        </p:txBody>
      </p:sp>
      <p:sp>
        <p:nvSpPr>
          <p:cNvPr id="95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4" name=""/>
          <p:cNvGraphicFramePr/>
          <p:nvPr/>
        </p:nvGraphicFramePr>
        <p:xfrm>
          <a:off x="552600" y="1539720"/>
          <a:ext cx="8051760" cy="3119760"/>
        </p:xfrm>
        <a:graphic>
          <a:graphicData uri="http://schemas.openxmlformats.org/drawingml/2006/table">
            <a:tbl>
              <a:tblPr/>
              <a:tblGrid>
                <a:gridCol w="1301760"/>
                <a:gridCol w="857160"/>
                <a:gridCol w="857160"/>
                <a:gridCol w="1033560"/>
                <a:gridCol w="460440"/>
                <a:gridCol w="739800"/>
                <a:gridCol w="741240"/>
                <a:gridCol w="460440"/>
                <a:gridCol w="660240"/>
                <a:gridCol w="939960"/>
              </a:tblGrid>
              <a:tr h="225360">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计金额</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调整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销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a:t>
                      </a:r>
                      <a:endParaRPr b="0" lang="en-US" sz="1200" spc="-1" strike="noStrike">
                        <a:solidFill>
                          <a:srgbClr val="000000"/>
                        </a:solidFill>
                        <a:latin typeface="Arial"/>
                      </a:endParaRPr>
                    </a:p>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东权益</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金额</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6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53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税金及附加</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销售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管理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财务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13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6" name=""/>
          <p:cNvGraphicFramePr/>
          <p:nvPr/>
        </p:nvGraphicFramePr>
        <p:xfrm>
          <a:off x="684360" y="1308240"/>
          <a:ext cx="7704000" cy="2322360"/>
        </p:xfrm>
        <a:graphic>
          <a:graphicData uri="http://schemas.openxmlformats.org/drawingml/2006/table">
            <a:tbl>
              <a:tblPr/>
              <a:tblGrid>
                <a:gridCol w="1325520"/>
                <a:gridCol w="703080"/>
                <a:gridCol w="703440"/>
                <a:gridCol w="858600"/>
                <a:gridCol w="703440"/>
                <a:gridCol w="701640"/>
                <a:gridCol w="703080"/>
                <a:gridCol w="703440"/>
                <a:gridCol w="625320"/>
                <a:gridCol w="676440"/>
              </a:tblGrid>
              <a:tr h="2664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8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损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53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综合收益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8" name=""/>
          <p:cNvGraphicFramePr/>
          <p:nvPr/>
        </p:nvGraphicFramePr>
        <p:xfrm>
          <a:off x="611280" y="1170000"/>
          <a:ext cx="7813440" cy="2803680"/>
        </p:xfrm>
        <a:graphic>
          <a:graphicData uri="http://schemas.openxmlformats.org/drawingml/2006/table">
            <a:tbl>
              <a:tblPr/>
              <a:tblGrid>
                <a:gridCol w="1643040"/>
                <a:gridCol w="650880"/>
                <a:gridCol w="741240"/>
                <a:gridCol w="906480"/>
                <a:gridCol w="366840"/>
                <a:gridCol w="650880"/>
                <a:gridCol w="741240"/>
                <a:gridCol w="741240"/>
                <a:gridCol w="658800"/>
                <a:gridCol w="712800"/>
              </a:tblGrid>
              <a:tr h="4190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变动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初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0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本期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5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其中</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提取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对股东的分配</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末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转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1" name=""/>
          <p:cNvGraphicFramePr/>
          <p:nvPr/>
        </p:nvGraphicFramePr>
        <p:xfrm>
          <a:off x="503280" y="1141560"/>
          <a:ext cx="8136000" cy="2485800"/>
        </p:xfrm>
        <a:graphic>
          <a:graphicData uri="http://schemas.openxmlformats.org/drawingml/2006/table">
            <a:tbl>
              <a:tblPr/>
              <a:tblGrid>
                <a:gridCol w="1500120"/>
                <a:gridCol w="795240"/>
                <a:gridCol w="795600"/>
                <a:gridCol w="971280"/>
                <a:gridCol w="795600"/>
                <a:gridCol w="795240"/>
                <a:gridCol w="795240"/>
                <a:gridCol w="795240"/>
                <a:gridCol w="127080"/>
                <a:gridCol w="765360"/>
              </a:tblGrid>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负债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36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9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4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资产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4" name=""/>
          <p:cNvGraphicFramePr/>
          <p:nvPr/>
        </p:nvGraphicFramePr>
        <p:xfrm>
          <a:off x="539640" y="987480"/>
          <a:ext cx="8064720" cy="3805200"/>
        </p:xfrm>
        <a:graphic>
          <a:graphicData uri="http://schemas.openxmlformats.org/drawingml/2006/table">
            <a:tbl>
              <a:tblPr/>
              <a:tblGrid>
                <a:gridCol w="1487520"/>
                <a:gridCol w="789120"/>
                <a:gridCol w="787320"/>
                <a:gridCol w="963720"/>
                <a:gridCol w="788760"/>
                <a:gridCol w="789120"/>
                <a:gridCol w="789120"/>
                <a:gridCol w="788760"/>
                <a:gridCol w="122400"/>
                <a:gridCol w="758880"/>
              </a:tblGrid>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5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15 2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3 2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上</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 141 6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权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05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24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97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5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48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234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68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母公司对子公司长期股权的处理采用成本法，虽然在控制权取得日长期股权投资的入账金额与母公司占子公司净资产账面价值的份额相一致，但从第二年以后，各期间长期股权投资的余额往往不等于母公司所占子公司净资产价值的份额。因而，需要调整长期股权投资的年初余额，使其与母公司占子公司净资产账面价值的份额相等，这样才能编制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假定</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取得</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股权后，</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发放现金股利</a:t>
            </a:r>
            <a:r>
              <a:rPr b="0" lang="en-US" sz="1200" spc="-1" strike="noStrike">
                <a:solidFill>
                  <a:srgbClr val="000000"/>
                </a:solidFill>
                <a:latin typeface="Arial"/>
              </a:rPr>
              <a:t>50 000</a:t>
            </a:r>
            <a:r>
              <a:rPr b="0" lang="zh-CN" sz="1200" spc="-1" strike="noStrike">
                <a:solidFill>
                  <a:srgbClr val="000000"/>
                </a:solidFill>
                <a:latin typeface="Arial"/>
              </a:rPr>
              <a:t>元，</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a:t>
            </a:r>
            <a:r>
              <a:rPr b="1" lang="en-US" sz="1200" spc="-1" strike="noStrike">
                <a:solidFill>
                  <a:srgbClr val="00379b"/>
                </a:solidFill>
                <a:latin typeface="微软雅黑"/>
              </a:rPr>
              <a:t>20×2</a:t>
            </a:r>
            <a:r>
              <a:rPr b="1" lang="zh-CN" sz="1200" spc="-1" strike="noStrike">
                <a:solidFill>
                  <a:srgbClr val="00379b"/>
                </a:solidFill>
                <a:latin typeface="微软雅黑"/>
              </a:rPr>
              <a:t>年度</a:t>
            </a:r>
            <a:r>
              <a:rPr b="1" lang="en-US" sz="1200" spc="-1" strike="noStrike">
                <a:solidFill>
                  <a:srgbClr val="00379b"/>
                </a:solidFill>
                <a:latin typeface="微软雅黑"/>
              </a:rPr>
              <a:t>P</a:t>
            </a:r>
            <a:r>
              <a:rPr b="1" lang="zh-CN" sz="1200" spc="-1" strike="noStrike">
                <a:solidFill>
                  <a:srgbClr val="00379b"/>
                </a:solidFill>
                <a:latin typeface="微软雅黑"/>
              </a:rPr>
              <a:t>公司长期股权投资的处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投资采用成本法核算，</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记录</a:t>
            </a:r>
            <a:r>
              <a:rPr b="0" lang="en-US" sz="1200" spc="-1" strike="noStrike">
                <a:solidFill>
                  <a:srgbClr val="000000"/>
                </a:solidFill>
                <a:latin typeface="Arial"/>
              </a:rPr>
              <a:t>S</a:t>
            </a:r>
            <a:r>
              <a:rPr b="0" lang="zh-CN" sz="1200" spc="-1" strike="noStrike">
                <a:solidFill>
                  <a:srgbClr val="000000"/>
                </a:solidFill>
                <a:latin typeface="Arial"/>
              </a:rPr>
              <a:t>公司发放的现金股利</a:t>
            </a:r>
            <a:r>
              <a:rPr b="0" lang="en-US" sz="1200" spc="-1" strike="noStrike">
                <a:solidFill>
                  <a:srgbClr val="000000"/>
                </a:solidFill>
                <a:latin typeface="Arial"/>
              </a:rPr>
              <a:t>45 000</a:t>
            </a:r>
            <a:r>
              <a:rPr b="0" lang="zh-CN" sz="1200" spc="-1" strike="noStrike">
                <a:solidFill>
                  <a:srgbClr val="000000"/>
                </a:solidFill>
                <a:latin typeface="Arial"/>
              </a:rPr>
              <a:t>元（</a:t>
            </a:r>
            <a:r>
              <a:rPr b="0" lang="en-US" sz="1200" spc="-1" strike="noStrike">
                <a:solidFill>
                  <a:srgbClr val="000000"/>
                </a:solidFill>
                <a:latin typeface="Arial"/>
              </a:rPr>
              <a:t>50 000×90%</a:t>
            </a:r>
            <a:r>
              <a:rPr b="0" lang="zh-CN" sz="1200" spc="-1" strike="noStrike">
                <a:solidFill>
                  <a:srgbClr val="000000"/>
                </a:solidFill>
                <a:latin typeface="Arial"/>
              </a:rPr>
              <a:t>），确认为投资收益。</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银行存款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20×2</a:t>
            </a:r>
            <a:r>
              <a:rPr b="1" lang="zh-CN" sz="1200" spc="-1" strike="noStrike">
                <a:solidFill>
                  <a:srgbClr val="00379b"/>
                </a:solidFill>
                <a:latin typeface="微软雅黑"/>
              </a:rPr>
              <a:t>年末，成本法下</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实现的净利润不作账务处理。</a:t>
            </a:r>
            <a:endParaRPr b="0" lang="en-US" sz="1200" spc="-1" strike="noStrike">
              <a:solidFill>
                <a:srgbClr val="262626"/>
              </a:solidFill>
              <a:latin typeface="Arial"/>
            </a:endParaRPr>
          </a:p>
          <a:p>
            <a:pPr marL="171360" indent="-171360">
              <a:lnSpc>
                <a:spcPct val="120000"/>
              </a:lnSpc>
              <a:spcAft>
                <a:spcPts val="1001"/>
              </a:spcAft>
              <a:buClr>
                <a:srgbClr val="00379b"/>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成本法转换为权益法的结果相关的调整分录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首先，抵消上年度方法转换时的影响：</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次，抵消本年度方法转换所产生的影响</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80 000(200 000×9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后，</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966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r>
              <a:rPr b="0" lang="en-US" sz="1200" spc="-1" strike="noStrike">
                <a:solidFill>
                  <a:srgbClr val="000000"/>
                </a:solidFill>
                <a:latin typeface="Arial"/>
              </a:rPr>
              <a:t>180 000</a:t>
            </a:r>
            <a:r>
              <a:rPr b="0" lang="zh-CN" sz="1200" spc="-1" strike="noStrike">
                <a:solidFill>
                  <a:srgbClr val="000000"/>
                </a:solidFill>
                <a:latin typeface="Arial"/>
              </a:rPr>
              <a:t>－</a:t>
            </a:r>
            <a:r>
              <a:rPr b="0" lang="en-US" sz="1200" spc="-1" strike="noStrike">
                <a:solidFill>
                  <a:srgbClr val="000000"/>
                </a:solidFill>
                <a:latin typeface="Arial"/>
              </a:rPr>
              <a:t>45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刚好与母公司在子公司所有者权益中所拥有的份额相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00 000×1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92 4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50 000×10%</a:t>
            </a:r>
            <a:r>
              <a:rPr b="0" lang="zh-CN" sz="1200" spc="-1" strike="noStrike">
                <a:solidFill>
                  <a:srgbClr val="000000"/>
                </a:solidFill>
                <a:latin typeface="Arial"/>
              </a:rPr>
              <a:t>＝</a:t>
            </a:r>
            <a:r>
              <a:rPr b="0" lang="en-US" sz="1200" spc="-1" strike="noStrike">
                <a:solidFill>
                  <a:srgbClr val="000000"/>
                </a:solidFill>
                <a:latin typeface="Arial"/>
              </a:rPr>
              <a:t>10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1203120"/>
            <a:ext cx="8308800" cy="178884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六章  购并日后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长期股权投资与子公司所有者权益相抵销，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58 000</a:t>
            </a:r>
            <a:r>
              <a:rPr b="0" lang="zh-CN" sz="1200" spc="-1" strike="noStrike">
                <a:solidFill>
                  <a:srgbClr val="000000"/>
                </a:solidFill>
                <a:latin typeface="Arial"/>
              </a:rPr>
              <a:t>（</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76 000 </a:t>
            </a:r>
            <a:r>
              <a:rPr b="0" lang="zh-CN" sz="1200" spc="-1" strike="noStrike">
                <a:solidFill>
                  <a:srgbClr val="000000"/>
                </a:solidFill>
                <a:latin typeface="Arial"/>
              </a:rPr>
              <a:t>（</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1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66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0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派股利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en-US" sz="1200" spc="-1" strike="noStrike">
                <a:solidFill>
                  <a:srgbClr val="000000"/>
                </a:solidFill>
                <a:latin typeface="Arial"/>
              </a:rPr>
              <a:t>276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示例，这里不在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767880" y="351000"/>
            <a:ext cx="783612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的合并财务报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拥有子公司部分股权时，应当将调整后母公司对子公司的权益性投资的数额与子公司所有者权益中属于母公司的数额抵销，子公司所有者权益中属于少数股东的份额，作为“少数股东权益”单独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当年没有分配股利。</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年末对购买</a:t>
            </a:r>
            <a:r>
              <a:rPr b="0" lang="en-US" sz="1200" spc="-1" strike="noStrike">
                <a:solidFill>
                  <a:srgbClr val="000000"/>
                </a:solidFill>
                <a:latin typeface="Arial"/>
              </a:rPr>
              <a:t>S</a:t>
            </a:r>
            <a:r>
              <a:rPr b="0" lang="zh-CN" sz="1200" spc="-1" strike="noStrike">
                <a:solidFill>
                  <a:srgbClr val="000000"/>
                </a:solidFill>
                <a:latin typeface="Arial"/>
              </a:rPr>
              <a:t>公司所记录的商誉进行了减值测试，发现没有减值。</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合并价差的分配与摊销如表</a:t>
            </a:r>
            <a:r>
              <a:rPr b="0" lang="en-US" sz="1200" spc="-1" strike="noStrike">
                <a:solidFill>
                  <a:srgbClr val="000000"/>
                </a:solidFill>
                <a:latin typeface="Arial"/>
              </a:rPr>
              <a:t>6-4</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
          <p:cNvPicPr/>
          <p:nvPr/>
        </p:nvPicPr>
        <p:blipFill>
          <a:blip r:embed="rId1"/>
          <a:srcRect l="0" t="0" r="1146" b="0"/>
          <a:stretch/>
        </p:blipFill>
        <p:spPr>
          <a:xfrm>
            <a:off x="768240" y="1419120"/>
            <a:ext cx="7332840" cy="1836720"/>
          </a:xfrm>
          <a:prstGeom prst="rect">
            <a:avLst/>
          </a:prstGeom>
          <a:ln w="0">
            <a:noFill/>
          </a:ln>
        </p:spPr>
      </p:pic>
      <p:sp>
        <p:nvSpPr>
          <p:cNvPr id="982" name="TextBox 1"/>
          <p:cNvSpPr/>
          <p:nvPr/>
        </p:nvSpPr>
        <p:spPr>
          <a:xfrm>
            <a:off x="1655640" y="3017880"/>
            <a:ext cx="61023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1.P</a:t>
            </a:r>
            <a:r>
              <a:rPr b="0" lang="zh-CN" sz="1500" spc="-1" strike="noStrike">
                <a:solidFill>
                  <a:srgbClr val="ffffff"/>
                </a:solidFill>
                <a:latin typeface="微软雅黑"/>
                <a:ea typeface="宋体"/>
              </a:rPr>
              <a:t>公司</a:t>
            </a:r>
            <a:r>
              <a:rPr b="0" lang="en-US" sz="1500" spc="-1" strike="noStrike">
                <a:solidFill>
                  <a:srgbClr val="ffffff"/>
                </a:solidFill>
                <a:latin typeface="微软雅黑"/>
                <a:ea typeface="宋体"/>
              </a:rPr>
              <a:t>2015</a:t>
            </a:r>
            <a:r>
              <a:rPr b="0" lang="zh-CN" sz="1500" spc="-1" strike="noStrike">
                <a:solidFill>
                  <a:srgbClr val="ffffff"/>
                </a:solidFill>
                <a:latin typeface="微软雅黑"/>
                <a:ea typeface="宋体"/>
              </a:rPr>
              <a:t>年年末编制合并财务报表时相关项目计算如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净利润＝</a:t>
            </a:r>
            <a:r>
              <a:rPr b="0" lang="en-US" sz="1500" spc="-1" strike="noStrike">
                <a:solidFill>
                  <a:srgbClr val="ffffff"/>
                </a:solidFill>
                <a:latin typeface="微软雅黑"/>
                <a:ea typeface="宋体"/>
              </a:rPr>
              <a:t>20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4 000</a:t>
            </a:r>
            <a:r>
              <a:rPr b="0" lang="zh-CN" sz="1500" spc="-1" strike="noStrike">
                <a:solidFill>
                  <a:srgbClr val="ffffff"/>
                </a:solidFill>
                <a:latin typeface="微软雅黑"/>
                <a:ea typeface="宋体"/>
              </a:rPr>
              <a:t>（购买日固定资产公允价值增值计算的折旧而调增折旧费用）＝</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年末未分配利润＝</a:t>
            </a:r>
            <a:r>
              <a:rPr b="0" lang="en-US" sz="1500" spc="-1" strike="noStrike">
                <a:solidFill>
                  <a:srgbClr val="ffffff"/>
                </a:solidFill>
                <a:latin typeface="微软雅黑"/>
                <a:ea typeface="宋体"/>
              </a:rPr>
              <a:t>5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22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p:txBody>
      </p:sp>
      <p:sp>
        <p:nvSpPr>
          <p:cNvPr id="98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年末编制合并财务报表时</a:t>
            </a:r>
            <a:r>
              <a:rPr b="1" lang="en-US" sz="1200" spc="-1" strike="noStrike">
                <a:solidFill>
                  <a:srgbClr val="00379b"/>
                </a:solidFill>
                <a:latin typeface="微软雅黑"/>
              </a:rPr>
              <a:t>,</a:t>
            </a:r>
            <a:r>
              <a:rPr b="1" lang="zh-CN" sz="1200" spc="-1" strike="noStrike">
                <a:solidFill>
                  <a:srgbClr val="00379b"/>
                </a:solidFill>
                <a:latin typeface="微软雅黑"/>
              </a:rPr>
              <a:t>相关项目计算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200 000-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186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56 000+186 000-20 000=222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186 000×9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a:t>
            </a:r>
            <a:r>
              <a:rPr b="0" lang="en-US" sz="1200" spc="-1" strike="noStrike">
                <a:solidFill>
                  <a:srgbClr val="000000"/>
                </a:solidFill>
                <a:latin typeface="Arial"/>
              </a:rPr>
              <a:t>1 0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86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购买日</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为</a:t>
            </a:r>
            <a:r>
              <a:rPr b="0" lang="en-US" sz="1200" spc="-1" strike="noStrike">
                <a:solidFill>
                  <a:srgbClr val="000000"/>
                </a:solidFill>
                <a:latin typeface="Arial"/>
              </a:rPr>
              <a:t>964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由于此次合并产生的合并商誉为</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的年末余额＝</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a:t>
            </a:r>
            <a:r>
              <a:rPr b="0" lang="en-US" sz="1200" spc="-1" strike="noStrike">
                <a:solidFill>
                  <a:srgbClr val="000000"/>
                </a:solidFill>
                <a:latin typeface="Arial"/>
              </a:rPr>
              <a:t>115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编制合并财务报表时，应进行如下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公允价值变动的资产、负债及资本公积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相关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之所以进行这一调整，是因为子公司个别财务报表的编制基础是其资产和负债的原账面价值，其当期的净利润也是以其资产、负债的原账面价值为基础计算的结果，而公允价值与原账面价值存在差额的资产或负债，在经营过程中使用、销售或偿付而实现其公允价值，其实现的公允价值对子公司当期净利润的影响需要在净利润计算中予以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一方面，需要计算因购买日Ｓ公司资产和负债的公允价值与账面价值的差额对Ｓ公司本年净利润的影响；另一方面，Ｐ公司对Ｓ公司的长期股权投资采用成本法核算，需要对成本法核算的结果按权益法核算的要求，对长期股权投资及相关项目进行调整。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与其在</a:t>
            </a:r>
            <a:r>
              <a:rPr b="0" lang="en-US" sz="1200" spc="-1" strike="noStrike">
                <a:solidFill>
                  <a:srgbClr val="000000"/>
                </a:solidFill>
                <a:latin typeface="Arial"/>
              </a:rPr>
              <a:t>S </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 0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1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36888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后的合并财务报表编制</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后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现金流量表的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例子，这里不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4</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5</a:t>
            </a:r>
            <a:r>
              <a:rPr b="0" lang="zh-CN" sz="1200" spc="-1" strike="noStrike">
                <a:solidFill>
                  <a:srgbClr val="000000"/>
                </a:solidFill>
                <a:latin typeface="Arial"/>
              </a:rPr>
              <a:t>日发放现金股利</a:t>
            </a:r>
            <a:r>
              <a:rPr b="0" lang="en-US" sz="1200" spc="-1" strike="noStrike">
                <a:solidFill>
                  <a:srgbClr val="000000"/>
                </a:solidFill>
                <a:latin typeface="Arial"/>
              </a:rPr>
              <a:t>30 000</a:t>
            </a:r>
            <a:r>
              <a:rPr b="0" lang="zh-CN" sz="1200" spc="-1" strike="noStrike">
                <a:solidFill>
                  <a:srgbClr val="000000"/>
                </a:solidFill>
                <a:latin typeface="Arial"/>
              </a:rPr>
              <a:t>元，</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300 000</a:t>
            </a:r>
            <a:r>
              <a:rPr b="0" lang="zh-CN" sz="1200" spc="-1" strike="noStrike">
                <a:solidFill>
                  <a:srgbClr val="000000"/>
                </a:solidFill>
                <a:latin typeface="Arial"/>
              </a:rPr>
              <a:t>元，提取盈余公积</a:t>
            </a:r>
            <a:r>
              <a:rPr b="0" lang="en-US" sz="1200" spc="-1" strike="noStrike">
                <a:solidFill>
                  <a:srgbClr val="000000"/>
                </a:solidFill>
                <a:latin typeface="Arial"/>
              </a:rPr>
              <a:t>30 000</a:t>
            </a:r>
            <a:r>
              <a:rPr b="0" lang="zh-CN" sz="1200" spc="-1" strike="noStrike">
                <a:solidFill>
                  <a:srgbClr val="000000"/>
                </a:solidFill>
                <a:latin typeface="Arial"/>
              </a:rPr>
              <a:t>元。根据已知条件，</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年末未分配利润为</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200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23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年末编制合并财务报表时相关项目计算如下：</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28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9" name=""/>
          <p:cNvSpPr txBox="1"/>
          <p:nvPr/>
        </p:nvSpPr>
        <p:spPr>
          <a:xfrm>
            <a:off x="610920" y="1203480"/>
            <a:ext cx="8364600" cy="307656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初未分配利润＝</a:t>
            </a:r>
            <a:r>
              <a:rPr b="0" lang="en-US" sz="1200" spc="-1" strike="noStrike">
                <a:solidFill>
                  <a:srgbClr val="000000"/>
                </a:solidFill>
                <a:latin typeface="Arial"/>
              </a:rPr>
              <a:t>236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a:t>
            </a:r>
            <a:r>
              <a:rPr b="0" lang="en-US" sz="1200" spc="-1" strike="noStrike">
                <a:solidFill>
                  <a:srgbClr val="000000"/>
                </a:solidFill>
                <a:latin typeface="Arial"/>
              </a:rPr>
              <a:t>222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222 000</a:t>
            </a:r>
            <a:r>
              <a:rPr b="0" lang="zh-CN" sz="1200" spc="-1" strike="noStrike">
                <a:solidFill>
                  <a:srgbClr val="000000"/>
                </a:solidFill>
                <a:latin typeface="Arial"/>
              </a:rPr>
              <a:t>＋</a:t>
            </a:r>
            <a:r>
              <a:rPr b="0" lang="en-US" sz="1200" spc="-1" strike="noStrike">
                <a:solidFill>
                  <a:srgbClr val="000000"/>
                </a:solidFill>
                <a:latin typeface="Arial"/>
              </a:rPr>
              <a:t>286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448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286 000×9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1 067 40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r>
              <a:rPr b="0" lang="en-US" sz="1200" spc="-1" strike="noStrike">
                <a:solidFill>
                  <a:srgbClr val="000000"/>
                </a:solidFill>
                <a:latin typeface="Arial"/>
              </a:rPr>
              <a:t>1 297 8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86 000×1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115 00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a:t>
            </a:r>
            <a:r>
              <a:rPr b="0" lang="en-US" sz="1200" spc="-1" strike="noStrike">
                <a:solidFill>
                  <a:srgbClr val="000000"/>
                </a:solidFill>
                <a:latin typeface="Arial"/>
              </a:rPr>
              <a:t>30 000×10%</a:t>
            </a:r>
            <a:r>
              <a:rPr b="0" lang="zh-CN" sz="1200" spc="-1" strike="noStrike">
                <a:solidFill>
                  <a:srgbClr val="000000"/>
                </a:solidFill>
                <a:latin typeface="Arial"/>
              </a:rPr>
              <a:t>＝</a:t>
            </a:r>
            <a:r>
              <a:rPr b="0" lang="en-US" sz="1200" spc="-1" strike="noStrike">
                <a:solidFill>
                  <a:srgbClr val="000000"/>
                </a:solidFill>
                <a:latin typeface="Arial"/>
              </a:rPr>
              <a:t>140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编制合并财务报表时，应进行如下的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上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年初未分配利润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借：年初未分配利润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固定资产折旧相关的项目及累计折旧。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需要计算因购买日Ｓ公司资产和负债的公允价值与账面价值的差额对Ｓ公司上年净利润的影响，进而确定Ｐ公司对Ｓ公司长期股权投资权益法核算的影响，并调整Ｐ公司对Ｓ公司的长期股权投资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由成本法的核算结果转换为权益法核算的结果。即根据调整后</a:t>
            </a:r>
            <a:r>
              <a:rPr b="0" lang="en-US" sz="1200" spc="-1" strike="noStrike">
                <a:solidFill>
                  <a:srgbClr val="000000"/>
                </a:solidFill>
                <a:latin typeface="Arial"/>
              </a:rPr>
              <a:t>S</a:t>
            </a:r>
            <a:r>
              <a:rPr b="0" lang="zh-CN" sz="1200" spc="-1" strike="noStrike">
                <a:solidFill>
                  <a:srgbClr val="000000"/>
                </a:solidFill>
                <a:latin typeface="Arial"/>
              </a:rPr>
              <a:t>公司本年实现净利润以及本年分派现金股利中所拥有的份额，调整本年</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286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投资收益                </a:t>
            </a:r>
            <a:r>
              <a:rPr b="0" lang="en-US" sz="1200" spc="-1" strike="noStrike">
                <a:solidFill>
                  <a:srgbClr val="000000"/>
                </a:solidFill>
                <a:latin typeface="Arial"/>
              </a:rPr>
              <a:t>  </a:t>
            </a:r>
            <a:r>
              <a:rPr b="0" lang="en-US" sz="1200" spc="-1" strike="noStrike">
                <a:solidFill>
                  <a:srgbClr val="000000"/>
                </a:solidFill>
                <a:latin typeface="Arial"/>
              </a:rPr>
              <a:t>27 0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长期股权投资                  </a:t>
            </a:r>
            <a:r>
              <a:rPr b="0" lang="en-US" sz="1200" spc="-1" strike="noStrike">
                <a:solidFill>
                  <a:srgbClr val="000000"/>
                </a:solidFill>
                <a:latin typeface="Arial"/>
              </a:rPr>
              <a:t>27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 </a:t>
            </a:r>
            <a:r>
              <a:rPr b="0" lang="zh-CN" sz="1200" spc="-1" strike="noStrike">
                <a:solidFill>
                  <a:srgbClr val="000000"/>
                </a:solidFill>
                <a:latin typeface="Arial"/>
              </a:rPr>
              <a:t>公司长期股权投资与其在</a:t>
            </a:r>
            <a:r>
              <a:rPr b="0" lang="en-US" sz="1200" spc="-1" strike="noStrike">
                <a:solidFill>
                  <a:srgbClr val="000000"/>
                </a:solidFill>
                <a:latin typeface="Arial"/>
              </a:rPr>
              <a:t>S</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78 000</a:t>
            </a:r>
            <a:r>
              <a:rPr b="0" lang="zh-CN" sz="1200" spc="-1" strike="noStrike">
                <a:solidFill>
                  <a:srgbClr val="000000"/>
                </a:solidFill>
                <a:latin typeface="Arial"/>
              </a:rPr>
              <a:t>（</a:t>
            </a:r>
            <a:r>
              <a:rPr b="0" lang="en-US" sz="1200" spc="-1" strike="noStrike">
                <a:solidFill>
                  <a:srgbClr val="000000"/>
                </a:solidFill>
                <a:latin typeface="Arial"/>
              </a:rPr>
              <a:t>148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          </a:t>
            </a:r>
            <a:r>
              <a:rPr b="0" lang="en-US" sz="1200" spc="-1" strike="noStrike">
                <a:solidFill>
                  <a:srgbClr val="000000"/>
                </a:solidFill>
                <a:latin typeface="Arial"/>
              </a:rPr>
              <a:t>	</a:t>
            </a:r>
            <a:r>
              <a:rPr b="0" lang="en-US" sz="1200" spc="-1" strike="noStrike">
                <a:solidFill>
                  <a:srgbClr val="000000"/>
                </a:solidFill>
                <a:latin typeface="Arial"/>
              </a:rPr>
              <a:t>1 297 800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的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现金流量表应当以母公司和子公司的现金流量表为基础，在抵销母公司与子公司、子公司相互之间发生的内部交易对合并现金流量表的影响后，由母公司合并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3</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合并财务报表</a:t>
            </a:r>
            <a:r>
              <a:rPr b="0" lang="en-US" sz="1200" spc="-1" strike="noStrike">
                <a:solidFill>
                  <a:srgbClr val="000000"/>
                </a:solidFill>
                <a:latin typeface="Arial"/>
              </a:rPr>
              <a:t>》</a:t>
            </a:r>
            <a:r>
              <a:rPr b="0" lang="zh-CN" sz="1200" spc="-1" strike="noStrike">
                <a:solidFill>
                  <a:srgbClr val="000000"/>
                </a:solidFill>
                <a:latin typeface="Arial"/>
              </a:rPr>
              <a:t>的规定，编制合并现金流量表时应该抵销以下的相关项目：</a:t>
            </a:r>
            <a:endParaRPr b="0" lang="en-US" sz="1200" spc="-1" strike="noStrike">
              <a:solidFill>
                <a:srgbClr val="262626"/>
              </a:solidFill>
              <a:latin typeface="Arial"/>
            </a:endParaRPr>
          </a:p>
          <a:p>
            <a:pPr>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母公司与子公司、公司之间相互之间当期以现金投资或收购股权增加的投资所产生的现金流量。</a:t>
            </a:r>
            <a:r>
              <a:rPr b="0" lang="zh-CN" sz="1200" spc="-1" strike="noStrike">
                <a:solidFill>
                  <a:srgbClr val="000000"/>
                </a:solidFill>
                <a:latin typeface="Arial"/>
              </a:rPr>
              <a:t>抵销分录为</a:t>
            </a:r>
            <a:r>
              <a:rPr b="0" lang="en-US"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活动现金流量</a:t>
            </a:r>
            <a:r>
              <a:rPr b="0" lang="en-US" sz="1200" spc="-1" strike="noStrike">
                <a:solidFill>
                  <a:srgbClr val="000000"/>
                </a:solidFill>
                <a:latin typeface="Arial"/>
              </a:rPr>
              <a:t>——</a:t>
            </a:r>
            <a:r>
              <a:rPr b="0" lang="zh-CN" sz="1200" spc="-1" strike="noStrike">
                <a:solidFill>
                  <a:srgbClr val="000000"/>
                </a:solidFill>
                <a:latin typeface="Arial"/>
              </a:rPr>
              <a:t>投资所支付的现金</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筹资活动现金流量</a:t>
            </a:r>
            <a:r>
              <a:rPr b="0" lang="en-US" sz="1200" spc="-1" strike="noStrike">
                <a:solidFill>
                  <a:srgbClr val="000000"/>
                </a:solidFill>
                <a:latin typeface="Arial"/>
              </a:rPr>
              <a:t>——</a:t>
            </a:r>
            <a:r>
              <a:rPr b="0" lang="zh-CN" sz="1200" spc="-1" strike="noStrike">
                <a:solidFill>
                  <a:srgbClr val="000000"/>
                </a:solidFill>
                <a:latin typeface="Arial"/>
              </a:rPr>
              <a:t>吸收投资所收到的现金</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母公司与子公司、子公司相互之间当期取得投资收益、利息收入收到的现金，与分配股利、利润或偿付利息支付的现金。</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筹资活动现金流量</a:t>
            </a:r>
            <a:r>
              <a:rPr b="0" lang="en-US" sz="1200" spc="-1" strike="noStrike">
                <a:solidFill>
                  <a:srgbClr val="000000"/>
                </a:solidFill>
                <a:latin typeface="Arial"/>
              </a:rPr>
              <a:t>——</a:t>
            </a:r>
            <a:r>
              <a:rPr b="0" lang="zh-CN" sz="1200" spc="-1" strike="noStrike">
                <a:solidFill>
                  <a:srgbClr val="000000"/>
                </a:solidFill>
                <a:latin typeface="Arial"/>
              </a:rPr>
              <a:t>分配股利、利润或偿付利息所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活动现金流量</a:t>
            </a:r>
            <a:r>
              <a:rPr b="0" lang="en-US" sz="1200" spc="-1" strike="noStrike">
                <a:solidFill>
                  <a:srgbClr val="000000"/>
                </a:solidFill>
                <a:latin typeface="Arial"/>
              </a:rPr>
              <a:t>——</a:t>
            </a:r>
            <a:r>
              <a:rPr b="0" lang="zh-CN" sz="1200" spc="-1" strike="noStrike">
                <a:solidFill>
                  <a:srgbClr val="000000"/>
                </a:solidFill>
                <a:latin typeface="Arial"/>
              </a:rPr>
              <a:t>分得投资收益所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母公司与子公司、子公司相互之间以现金结算债权与债务所产生的现金流量。</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提供劳务收到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于权益结合法下的股权取得日后合并财务报表的编制，母子公司的各资产与负债项目继续按原来的账面价值计价，而不必考虑资产与负债的公允价值与账面价值的差异，这样也就不存在商誉的确认与计量问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股权取得日，母公司长期股权投资的入账金额代表母公司占子公司净资产账面价值的份额。由于权益结合法将参与合并的企业视为成立时就是一体的，因而在股权取得日以后编制合并财务报表时，仍然要尽可能保留母公司所占子公司盈余公积与未分配利润的份额。</a:t>
            </a: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母公司与子公司、子公司相互之间当期销售商品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出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接受劳务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母公司与子公司、子公司相互之间处置固定资产、无形资产和其他长期资产收回的现金净额，应当与构建固定资产、无形资产和其他长期资产支付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购建固定资产等长期资产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贷</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处置固定资产等长期资产收到的现金净额</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母公司与子公司、子公司相互之间当期发生的其他内部交易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支付的其他与经营活动有关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收到的其他与经营活动有关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同一控制下企业合并的并购商誉之惑</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自其借壳上市后不断加快并购步伐，在前后不到</a:t>
            </a:r>
            <a:r>
              <a:rPr b="0" lang="en-US" sz="1200" spc="-1" strike="noStrike">
                <a:solidFill>
                  <a:srgbClr val="000000"/>
                </a:solidFill>
                <a:latin typeface="Arial"/>
              </a:rPr>
              <a:t>4</a:t>
            </a:r>
            <a:r>
              <a:rPr b="0" lang="zh-CN" sz="1200" spc="-1" strike="noStrike">
                <a:solidFill>
                  <a:srgbClr val="000000"/>
                </a:solidFill>
                <a:latin typeface="Arial"/>
              </a:rPr>
              <a:t>年时间内新增并购商誉近</a:t>
            </a:r>
            <a:r>
              <a:rPr b="0" lang="en-US" sz="1200" spc="-1" strike="noStrike">
                <a:solidFill>
                  <a:srgbClr val="000000"/>
                </a:solidFill>
                <a:latin typeface="Arial"/>
              </a:rPr>
              <a:t>50</a:t>
            </a:r>
            <a:r>
              <a:rPr b="0" lang="zh-CN" sz="1200" spc="-1" strike="noStrike">
                <a:solidFill>
                  <a:srgbClr val="000000"/>
                </a:solidFill>
                <a:latin typeface="Arial"/>
              </a:rPr>
              <a:t>亿元，占其净资产、总资产的比例分别达</a:t>
            </a:r>
            <a:r>
              <a:rPr b="0" lang="en-US" sz="1200" spc="-1" strike="noStrike">
                <a:solidFill>
                  <a:srgbClr val="000000"/>
                </a:solidFill>
                <a:latin typeface="Arial"/>
              </a:rPr>
              <a:t>65</a:t>
            </a:r>
            <a:r>
              <a:rPr b="0" lang="zh-CN" sz="1200" spc="-1" strike="noStrike">
                <a:solidFill>
                  <a:srgbClr val="000000"/>
                </a:solidFill>
                <a:latin typeface="Arial"/>
              </a:rPr>
              <a:t>％、</a:t>
            </a:r>
            <a:r>
              <a:rPr b="0" lang="en-US" sz="1200" spc="-1" strike="noStrike">
                <a:solidFill>
                  <a:srgbClr val="000000"/>
                </a:solidFill>
                <a:latin typeface="Arial"/>
              </a:rPr>
              <a:t>29</a:t>
            </a:r>
            <a:r>
              <a:rPr b="0" lang="zh-CN" sz="1200" spc="-1" strike="noStrike">
                <a:solidFill>
                  <a:srgbClr val="000000"/>
                </a:solidFill>
                <a:latin typeface="Arial"/>
              </a:rPr>
              <a:t>％。然而，其在</a:t>
            </a:r>
            <a:r>
              <a:rPr b="0" lang="en-US" sz="1200" spc="-1" strike="noStrike">
                <a:solidFill>
                  <a:srgbClr val="000000"/>
                </a:solidFill>
                <a:latin typeface="Arial"/>
              </a:rPr>
              <a:t>2017</a:t>
            </a:r>
            <a:r>
              <a:rPr b="0" lang="zh-CN" sz="1200" spc="-1" strike="noStrike">
                <a:solidFill>
                  <a:srgbClr val="000000"/>
                </a:solidFill>
                <a:latin typeface="Arial"/>
              </a:rPr>
              <a:t>年年报中披露“其并购慈铭体检为同一控制下企业合并，却新增了</a:t>
            </a:r>
            <a:r>
              <a:rPr b="0" lang="en-US" sz="1200" spc="-1" strike="noStrike">
                <a:solidFill>
                  <a:srgbClr val="000000"/>
                </a:solidFill>
                <a:latin typeface="Arial"/>
              </a:rPr>
              <a:t>28.6</a:t>
            </a:r>
            <a:r>
              <a:rPr b="0" lang="zh-CN" sz="1200" spc="-1" strike="noStrike">
                <a:solidFill>
                  <a:srgbClr val="000000"/>
                </a:solidFill>
                <a:latin typeface="Arial"/>
              </a:rPr>
              <a:t>元商誉”，这一“违反常规会计准则”的现象，无疑为研究同一控制下企业合并提供了极佳的案例样本。</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美年大健康“曲折”并购慈铭体检</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美年大健康指定瑞联二号先以</a:t>
            </a:r>
            <a:r>
              <a:rPr b="0" lang="en-US" sz="1200" spc="-1" strike="noStrike">
                <a:solidFill>
                  <a:srgbClr val="000000"/>
                </a:solidFill>
                <a:latin typeface="Arial"/>
              </a:rPr>
              <a:t>10.295</a:t>
            </a:r>
            <a:r>
              <a:rPr b="0" lang="zh-CN" sz="1200" spc="-1" strike="noStrike">
                <a:solidFill>
                  <a:srgbClr val="000000"/>
                </a:solidFill>
                <a:latin typeface="Arial"/>
              </a:rPr>
              <a:t>亿元购得慈铭体检</a:t>
            </a:r>
            <a:r>
              <a:rPr b="0" lang="en-US" sz="1200" spc="-1" strike="noStrike">
                <a:solidFill>
                  <a:srgbClr val="000000"/>
                </a:solidFill>
                <a:latin typeface="Arial"/>
              </a:rPr>
              <a:t>27.78</a:t>
            </a:r>
            <a:r>
              <a:rPr b="0" lang="zh-CN" sz="1200" spc="-1" strike="noStrike">
                <a:solidFill>
                  <a:srgbClr val="000000"/>
                </a:solidFill>
                <a:latin typeface="Arial"/>
              </a:rPr>
              <a:t>％的股份。</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2</a:t>
            </a:r>
            <a:r>
              <a:rPr b="0" lang="zh-CN" sz="1200" spc="-1" strike="noStrike">
                <a:solidFill>
                  <a:srgbClr val="000000"/>
                </a:solidFill>
                <a:latin typeface="Arial"/>
              </a:rPr>
              <a:t>月，美年大健康以</a:t>
            </a:r>
            <a:r>
              <a:rPr b="0" lang="en-US" sz="1200" spc="-1" strike="noStrike">
                <a:solidFill>
                  <a:srgbClr val="000000"/>
                </a:solidFill>
                <a:latin typeface="Arial"/>
              </a:rPr>
              <a:t>10.295</a:t>
            </a:r>
            <a:r>
              <a:rPr b="0" lang="zh-CN" sz="1200" spc="-1" strike="noStrike">
                <a:solidFill>
                  <a:srgbClr val="000000"/>
                </a:solidFill>
                <a:latin typeface="Arial"/>
              </a:rPr>
              <a:t>亿元从瑞联二号手中购得其持有的慈铭体检</a:t>
            </a:r>
            <a:r>
              <a:rPr b="0" lang="en-US" sz="1200" spc="-1" strike="noStrike">
                <a:solidFill>
                  <a:srgbClr val="000000"/>
                </a:solidFill>
                <a:latin typeface="Arial"/>
              </a:rPr>
              <a:t>27.78</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1</a:t>
            </a:r>
            <a:r>
              <a:rPr b="0" lang="zh-CN" sz="1200" spc="-1" strike="noStrike">
                <a:solidFill>
                  <a:srgbClr val="000000"/>
                </a:solidFill>
                <a:latin typeface="Arial"/>
              </a:rPr>
              <a:t>月，双方约定先由天亿资管以</a:t>
            </a:r>
            <a:r>
              <a:rPr b="0" lang="en-US" sz="1200" spc="-1" strike="noStrike">
                <a:solidFill>
                  <a:srgbClr val="000000"/>
                </a:solidFill>
                <a:latin typeface="Arial"/>
              </a:rPr>
              <a:t>24.62</a:t>
            </a:r>
            <a:r>
              <a:rPr b="0" lang="zh-CN" sz="1200" spc="-1" strike="noStrike">
                <a:solidFill>
                  <a:srgbClr val="000000"/>
                </a:solidFill>
                <a:latin typeface="Arial"/>
              </a:rPr>
              <a:t>亿元受让</a:t>
            </a:r>
            <a:r>
              <a:rPr b="0" lang="en-US" sz="1200" spc="-1" strike="noStrike">
                <a:solidFill>
                  <a:srgbClr val="000000"/>
                </a:solidFill>
                <a:latin typeface="Arial"/>
              </a:rPr>
              <a:t>14</a:t>
            </a:r>
            <a:r>
              <a:rPr b="0" lang="zh-CN" sz="1200" spc="-1" strike="noStrike">
                <a:solidFill>
                  <a:srgbClr val="000000"/>
                </a:solidFill>
                <a:latin typeface="Arial"/>
              </a:rPr>
              <a:t>名股东持有慈铭体检</a:t>
            </a:r>
            <a:r>
              <a:rPr b="0" lang="en-US" sz="1200" spc="-1" strike="noStrike">
                <a:solidFill>
                  <a:srgbClr val="000000"/>
                </a:solidFill>
                <a:latin typeface="Arial"/>
              </a:rPr>
              <a:t>68.4</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转让给维途投资。这样，维途投资、天亿资管、美年大健康就成为慈铭体检的前三大股东，共拥有股权的比例达</a:t>
            </a:r>
            <a:r>
              <a:rPr b="0" lang="en-US" sz="1200" spc="-1" strike="noStrike">
                <a:solidFill>
                  <a:srgbClr val="000000"/>
                </a:solidFill>
                <a:latin typeface="Arial"/>
              </a:rPr>
              <a:t>96.18</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初，美年大健康拟向慈铭体检其余</a:t>
            </a:r>
            <a:r>
              <a:rPr b="0" lang="en-US" sz="1200" spc="-1" strike="noStrike">
                <a:solidFill>
                  <a:srgbClr val="000000"/>
                </a:solidFill>
                <a:latin typeface="Arial"/>
              </a:rPr>
              <a:t>4</a:t>
            </a:r>
            <a:r>
              <a:rPr b="0" lang="zh-CN" sz="1200" spc="-1" strike="noStrike">
                <a:solidFill>
                  <a:srgbClr val="000000"/>
                </a:solidFill>
                <a:latin typeface="Arial"/>
              </a:rPr>
              <a:t>名（后变成</a:t>
            </a:r>
            <a:r>
              <a:rPr b="0" lang="en-US" sz="1200" spc="-1" strike="noStrike">
                <a:solidFill>
                  <a:srgbClr val="000000"/>
                </a:solidFill>
                <a:latin typeface="Arial"/>
              </a:rPr>
              <a:t>5</a:t>
            </a:r>
            <a:r>
              <a:rPr b="0" lang="zh-CN" sz="1200" spc="-1" strike="noStrike">
                <a:solidFill>
                  <a:srgbClr val="000000"/>
                </a:solidFill>
                <a:latin typeface="Arial"/>
              </a:rPr>
              <a:t>名）股东非公开发行股份以购买剩余全部股份的</a:t>
            </a:r>
            <a:r>
              <a:rPr b="0" lang="en-US" sz="1200" spc="-1" strike="noStrike">
                <a:solidFill>
                  <a:srgbClr val="000000"/>
                </a:solidFill>
                <a:latin typeface="Arial"/>
              </a:rPr>
              <a:t>72.22</a:t>
            </a:r>
            <a:r>
              <a:rPr b="0" lang="zh-CN" sz="1200" spc="-1" strike="noStrike">
                <a:solidFill>
                  <a:srgbClr val="000000"/>
                </a:solidFill>
                <a:latin typeface="Arial"/>
              </a:rPr>
              <a:t>％，但被实名举报，并购搁浅。</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于</a:t>
            </a:r>
            <a:r>
              <a:rPr b="0" lang="en-US" sz="1200" spc="-1" strike="noStrike">
                <a:solidFill>
                  <a:srgbClr val="000000"/>
                </a:solidFill>
                <a:latin typeface="Arial"/>
              </a:rPr>
              <a:t>2017</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a:t>
            </a:r>
            <a:r>
              <a:rPr b="0" lang="en-US" sz="1200" spc="-1" strike="noStrike">
                <a:solidFill>
                  <a:srgbClr val="000000"/>
                </a:solidFill>
                <a:latin typeface="Arial"/>
              </a:rPr>
              <a:t>28</a:t>
            </a:r>
            <a:r>
              <a:rPr b="0" lang="zh-CN" sz="1200" spc="-1" strike="noStrike">
                <a:solidFill>
                  <a:srgbClr val="000000"/>
                </a:solidFill>
                <a:latin typeface="Arial"/>
              </a:rPr>
              <a:t>日收到</a:t>
            </a:r>
            <a:r>
              <a:rPr b="0" lang="en-US" sz="1200" spc="-1" strike="noStrike">
                <a:solidFill>
                  <a:srgbClr val="000000"/>
                </a:solidFill>
                <a:latin typeface="Arial"/>
              </a:rPr>
              <a:t>《</a:t>
            </a:r>
            <a:r>
              <a:rPr b="0" lang="zh-CN" sz="1200" spc="-1" strike="noStrike">
                <a:solidFill>
                  <a:srgbClr val="000000"/>
                </a:solidFill>
                <a:latin typeface="Arial"/>
              </a:rPr>
              <a:t>商务部行政处罚告知书</a:t>
            </a:r>
            <a:r>
              <a:rPr b="0" lang="en-US" sz="1200" spc="-1" strike="noStrike">
                <a:solidFill>
                  <a:srgbClr val="000000"/>
                </a:solidFill>
                <a:latin typeface="Arial"/>
              </a:rPr>
              <a:t>》</a:t>
            </a:r>
            <a:r>
              <a:rPr b="0" lang="zh-CN" sz="1200" spc="-1" strike="noStrike">
                <a:solidFill>
                  <a:srgbClr val="000000"/>
                </a:solidFill>
                <a:latin typeface="Arial"/>
              </a:rPr>
              <a:t>，商务部认定美年大健康购买慈铭体检股权不构成垄断但申报不规范。美年大健康向证监会申请恢复重组审查，并很快获得通过，随即发布并购公告。至此，慈铭体检成为美年大健康的全资子公司。</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同一控制下企业合并与非同一控制下企业合并的定性问题</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分两步获得慈铭体检</a:t>
            </a:r>
            <a:r>
              <a:rPr b="0" lang="en-US" sz="1200" spc="-1" strike="noStrike">
                <a:solidFill>
                  <a:srgbClr val="000000"/>
                </a:solidFill>
                <a:latin typeface="Arial"/>
              </a:rPr>
              <a:t>100</a:t>
            </a:r>
            <a:r>
              <a:rPr b="0" lang="zh-CN" sz="1200" spc="-1" strike="noStrike">
                <a:solidFill>
                  <a:srgbClr val="000000"/>
                </a:solidFill>
                <a:latin typeface="Arial"/>
              </a:rPr>
              <a:t>％的股权，后者成为其全资控股子公司。那么，该控股合并究 竟 是 同 一 控 制 下 企 业 合 并 还 是 非 同 一 控 制 下 企 业 合 并 呢？按 照 企 业 合 并 准 则（</a:t>
            </a:r>
            <a:r>
              <a:rPr b="0" lang="en-US" sz="1200" spc="-1" strike="noStrike">
                <a:solidFill>
                  <a:srgbClr val="000000"/>
                </a:solidFill>
                <a:latin typeface="Arial"/>
              </a:rPr>
              <a:t>CAS20</a:t>
            </a:r>
            <a:r>
              <a:rPr b="0" lang="zh-CN" sz="1200" spc="-1" strike="noStrike">
                <a:solidFill>
                  <a:srgbClr val="000000"/>
                </a:solidFill>
                <a:latin typeface="Arial"/>
              </a:rPr>
              <a:t>）的定义，关键得看慈铭体检合并前后是否与美年大健康为同一方或相同的多方最终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相关法律、法规及上市规则等相关规定，维途投资、天亿资管均为美年大健康的关联方，慈铭体检在被美年大健康合并前后被相同的多方控制，其实际控制人和最终控制人均为俞熔，按照</a:t>
            </a:r>
            <a:r>
              <a:rPr b="0" lang="en-US" sz="1200" spc="-1" strike="noStrike">
                <a:solidFill>
                  <a:srgbClr val="000000"/>
                </a:solidFill>
                <a:latin typeface="Arial"/>
              </a:rPr>
              <a:t>CAS20</a:t>
            </a:r>
            <a:r>
              <a:rPr b="0" lang="zh-CN" sz="1200" spc="-1" strike="noStrike">
                <a:solidFill>
                  <a:srgbClr val="000000"/>
                </a:solidFill>
                <a:latin typeface="Arial"/>
              </a:rPr>
              <a:t>的定义，显然该合并属于同一控制下企业合并。</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同一控制下企业合并能“反常”确认合并商誉的原因</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分析可知，该合并为同一控制下企业合并，在美年大健康年报及并购公告中也的确称该并购为同一控制下企业合并。按照企业合并准则，同一控制下企业合并不应确认合并商誉，但美年大健康此次并购公告及</a:t>
            </a:r>
            <a:r>
              <a:rPr b="0" lang="en-US" sz="1200" spc="-1" strike="noStrike">
                <a:solidFill>
                  <a:srgbClr val="000000"/>
                </a:solidFill>
                <a:latin typeface="Arial"/>
              </a:rPr>
              <a:t>2017</a:t>
            </a:r>
            <a:r>
              <a:rPr b="0" lang="zh-CN" sz="1200" spc="-1" strike="noStrike">
                <a:solidFill>
                  <a:srgbClr val="000000"/>
                </a:solidFill>
                <a:latin typeface="Arial"/>
              </a:rPr>
              <a:t>年年报均披露：此次并购为同一控制下的企业合并，应确认商誉。前者指出本次交易预计新增商誉</a:t>
            </a:r>
            <a:r>
              <a:rPr b="0" lang="en-US" sz="1200" spc="-1" strike="noStrike">
                <a:solidFill>
                  <a:srgbClr val="000000"/>
                </a:solidFill>
                <a:latin typeface="Arial"/>
              </a:rPr>
              <a:t>28.77</a:t>
            </a:r>
            <a:r>
              <a:rPr b="0" lang="zh-CN" sz="1200" spc="-1" strike="noStrike">
                <a:solidFill>
                  <a:srgbClr val="000000"/>
                </a:solidFill>
                <a:latin typeface="Arial"/>
              </a:rPr>
              <a:t>亿元，后者披露与之相关的</a:t>
            </a:r>
            <a:r>
              <a:rPr b="0" lang="zh-CN" sz="1200" spc="-1" strike="noStrike">
                <a:solidFill>
                  <a:srgbClr val="ff0000"/>
                </a:solidFill>
                <a:latin typeface="Arial"/>
              </a:rPr>
              <a:t>并购商誉为</a:t>
            </a:r>
            <a:r>
              <a:rPr b="0" lang="en-US" sz="1200" spc="-1" strike="noStrike">
                <a:solidFill>
                  <a:srgbClr val="ff0000"/>
                </a:solidFill>
                <a:latin typeface="Arial"/>
              </a:rPr>
              <a:t>28.63</a:t>
            </a:r>
            <a:r>
              <a:rPr b="0" lang="zh-CN" sz="1200" spc="-1" strike="noStrike">
                <a:solidFill>
                  <a:srgbClr val="ff0000"/>
                </a:solidFill>
                <a:latin typeface="Arial"/>
              </a:rPr>
              <a:t>亿元</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u="sng">
                <a:solidFill>
                  <a:srgbClr val="000000"/>
                </a:solidFill>
                <a:uFillTx/>
                <a:latin typeface="Arial"/>
              </a:rPr>
              <a:t>令人费解的是，如此与现行会计准则相背地确认巨额并购商誉，为何能得到各相关监管部门的“默认”？</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该合并中，对第三方和最终控制方的确定，根据其路径可以有两种理解：</a:t>
            </a:r>
            <a:r>
              <a:rPr b="1" lang="zh-CN" sz="1200" spc="-1" strike="noStrike">
                <a:solidFill>
                  <a:srgbClr val="000000"/>
                </a:solidFill>
                <a:latin typeface="Arial"/>
              </a:rPr>
              <a:t>其一</a:t>
            </a:r>
            <a:r>
              <a:rPr b="0" lang="zh-CN" sz="1200" spc="-1" strike="noStrike">
                <a:solidFill>
                  <a:srgbClr val="000000"/>
                </a:solidFill>
                <a:latin typeface="Arial"/>
              </a:rPr>
              <a:t>，最终控制方是自然人俞熔，第三方为天亿资管、维途投资、东胜康业、韩小红和李世海；</a:t>
            </a:r>
            <a:r>
              <a:rPr b="1" lang="zh-CN" sz="1200" spc="-1" strike="noStrike">
                <a:solidFill>
                  <a:srgbClr val="000000"/>
                </a:solidFill>
                <a:latin typeface="Arial"/>
              </a:rPr>
              <a:t>其二</a:t>
            </a:r>
            <a:r>
              <a:rPr b="0" lang="zh-CN" sz="1200" spc="-1" strike="noStrike">
                <a:solidFill>
                  <a:srgbClr val="000000"/>
                </a:solidFill>
                <a:latin typeface="Arial"/>
              </a:rPr>
              <a:t>，最终控制方是天亿资管，第三方为最初转让</a:t>
            </a:r>
            <a:r>
              <a:rPr b="0" lang="en-US" sz="1200" spc="-1" strike="noStrike">
                <a:solidFill>
                  <a:srgbClr val="000000"/>
                </a:solidFill>
                <a:latin typeface="Arial"/>
              </a:rPr>
              <a:t>68.40</a:t>
            </a:r>
            <a:r>
              <a:rPr b="0" lang="zh-CN" sz="1200" spc="-1" strike="noStrike">
                <a:solidFill>
                  <a:srgbClr val="000000"/>
                </a:solidFill>
                <a:latin typeface="Arial"/>
              </a:rPr>
              <a:t>％股权给天亿资管的慈铭体检的</a:t>
            </a:r>
            <a:r>
              <a:rPr b="0" lang="en-US" sz="1200" spc="-1" strike="noStrike">
                <a:solidFill>
                  <a:srgbClr val="000000"/>
                </a:solidFill>
                <a:latin typeface="Arial"/>
              </a:rPr>
              <a:t>14</a:t>
            </a:r>
            <a:r>
              <a:rPr b="0" lang="zh-CN" sz="1200" spc="-1" strike="noStrike">
                <a:solidFill>
                  <a:srgbClr val="000000"/>
                </a:solidFill>
                <a:latin typeface="Arial"/>
              </a:rPr>
              <a:t>名股东。</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比较而言，第二种理解更符合</a:t>
            </a:r>
            <a:r>
              <a:rPr b="0" lang="en-US" sz="1200" spc="-1" strike="noStrike">
                <a:solidFill>
                  <a:srgbClr val="000000"/>
                </a:solidFill>
                <a:latin typeface="Arial"/>
              </a:rPr>
              <a:t>6</a:t>
            </a:r>
            <a:r>
              <a:rPr b="0" lang="zh-CN" sz="1200" spc="-1" strike="noStrike">
                <a:solidFill>
                  <a:srgbClr val="000000"/>
                </a:solidFill>
                <a:latin typeface="Arial"/>
              </a:rPr>
              <a:t>号解释的逻辑。但其也存在以下困境：一是天亿资管不是上市公司，其无须对外披露年报，其并购形成的商誉是多少，公众无从知晓。二是天亿资管是否为“投资性主体”？对照现有会计准则对投资性主体的界定，结合天亿资管的实际经营业务，两者之间的界限较为模糊。若是投资性主体，则其并购慈铭体检不应确认商誉。三是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在</a:t>
            </a:r>
            <a:r>
              <a:rPr b="0" lang="en-US" sz="1200" spc="-1" strike="noStrike">
                <a:solidFill>
                  <a:srgbClr val="000000"/>
                </a:solidFill>
                <a:latin typeface="Arial"/>
              </a:rPr>
              <a:t>4</a:t>
            </a:r>
            <a:r>
              <a:rPr b="0" lang="zh-CN" sz="1200" spc="-1" strike="noStrike">
                <a:solidFill>
                  <a:srgbClr val="000000"/>
                </a:solidFill>
                <a:latin typeface="Arial"/>
              </a:rPr>
              <a:t>个月左右的时间内转让给维途投资，用意何在？若其先前确认了并购商誉，此时是否应同比例转让给维途投资？所有这些都难以为美年大健康并购慈铭体检确认并购商誉找到充分、合理的依据，让</a:t>
            </a:r>
            <a:r>
              <a:rPr b="0" lang="en-US" sz="1200" spc="-1" strike="noStrike">
                <a:solidFill>
                  <a:srgbClr val="000000"/>
                </a:solidFill>
                <a:latin typeface="Arial"/>
              </a:rPr>
              <a:t>28.63</a:t>
            </a:r>
            <a:r>
              <a:rPr b="0" lang="zh-CN" sz="1200" spc="-1" strike="noStrike">
                <a:solidFill>
                  <a:srgbClr val="000000"/>
                </a:solidFill>
                <a:latin typeface="Arial"/>
              </a:rPr>
              <a:t>亿元的商誉入账之初就充满了“迷雾”。</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拨开“迷雾”看真相：此并购实乃“过桥”收购</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仔细梳理美年大健康自首次购得慈铭体检</a:t>
            </a:r>
            <a:r>
              <a:rPr b="0" lang="en-US" sz="1200" spc="-1" strike="noStrike">
                <a:solidFill>
                  <a:srgbClr val="000000"/>
                </a:solidFill>
                <a:latin typeface="Arial"/>
              </a:rPr>
              <a:t>27.78</a:t>
            </a:r>
            <a:r>
              <a:rPr b="0" lang="zh-CN" sz="1200" spc="-1" strike="noStrike">
                <a:solidFill>
                  <a:srgbClr val="000000"/>
                </a:solidFill>
                <a:latin typeface="Arial"/>
              </a:rPr>
              <a:t>％的股权至获得其全部剩余股权的关键事件、时间节点和整个过程，不难发现，其中发挥关键作用的是天亿资管。其与美年大健康由俞熔于同年设立，从经营范围和特性来看，专事“投资与管理”，自其成立之日起即扮演为美年大健康服务的角色。</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天亿资管在美年大健康收购慈铭体检股权的过程中主要发挥搭建资金桥梁的作用，即俗称的提供“过桥”资金的作用。因此，就本质而言，美年大健康是从非同一控制方的股东手中分两次收购慈铭体检</a:t>
            </a:r>
            <a:r>
              <a:rPr b="0" lang="en-US" sz="1200" spc="-1" strike="noStrike">
                <a:solidFill>
                  <a:srgbClr val="000000"/>
                </a:solidFill>
                <a:latin typeface="Arial"/>
              </a:rPr>
              <a:t>100</a:t>
            </a:r>
            <a:r>
              <a:rPr b="0" lang="zh-CN" sz="1200" spc="-1" strike="noStrike">
                <a:solidFill>
                  <a:srgbClr val="000000"/>
                </a:solidFill>
                <a:latin typeface="Arial"/>
              </a:rPr>
              <a:t>％的股权，也就是说，天亿资管在整个并购过程中既有别于</a:t>
            </a:r>
            <a:r>
              <a:rPr b="0" lang="en-US" sz="1200" spc="-1" strike="noStrike">
                <a:solidFill>
                  <a:srgbClr val="000000"/>
                </a:solidFill>
                <a:latin typeface="Arial"/>
              </a:rPr>
              <a:t>6</a:t>
            </a:r>
            <a:r>
              <a:rPr b="0" lang="zh-CN" sz="1200" spc="-1" strike="noStrike">
                <a:solidFill>
                  <a:srgbClr val="000000"/>
                </a:solidFill>
                <a:latin typeface="Arial"/>
              </a:rPr>
              <a:t>号解释中的“第三方”，也非真正意义上的企业并购方，因为就并购市场服务于实体经济的本质而言，并购方至少应当对并购标的通过输入经济资源、管理理念等“发生化学反应”发挥双向协同效应，而非仅起到买进、卖出的“过手”作用。</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既然是非同一控制下分步控股并购，就应按会计准则的要求于取得控制权时一次确定合并商誉。但从目前公开披露的信息来看，并购公告与年报均称之为“同一控制下”的并购，但又确认并购商誉，且没有清晰列示相关并购商誉确认的来龙去脉和依据，其只是在</a:t>
            </a:r>
            <a:r>
              <a:rPr b="0" lang="en-US" sz="1200" spc="-1" strike="noStrike">
                <a:solidFill>
                  <a:srgbClr val="000000"/>
                </a:solidFill>
                <a:latin typeface="Arial"/>
              </a:rPr>
              <a:t>2017</a:t>
            </a:r>
            <a:r>
              <a:rPr b="0" lang="zh-CN" sz="1200" spc="-1" strike="noStrike">
                <a:solidFill>
                  <a:srgbClr val="000000"/>
                </a:solidFill>
                <a:latin typeface="Arial"/>
              </a:rPr>
              <a:t>年年报中“年初数”栏列示并购慈铭体检的相应商誉为</a:t>
            </a:r>
            <a:r>
              <a:rPr b="0" lang="en-US" sz="1200" spc="-1" strike="noStrike">
                <a:solidFill>
                  <a:srgbClr val="000000"/>
                </a:solidFill>
                <a:latin typeface="Arial"/>
              </a:rPr>
              <a:t>28.63</a:t>
            </a:r>
            <a:r>
              <a:rPr b="0" lang="zh-CN" sz="1200" spc="-1" strike="noStrike">
                <a:solidFill>
                  <a:srgbClr val="000000"/>
                </a:solidFill>
                <a:latin typeface="Arial"/>
              </a:rPr>
              <a:t>亿元，该数据不仅与</a:t>
            </a:r>
            <a:r>
              <a:rPr b="0" lang="en-US" sz="1200" spc="-1" strike="noStrike">
                <a:solidFill>
                  <a:srgbClr val="000000"/>
                </a:solidFill>
                <a:latin typeface="Arial"/>
              </a:rPr>
              <a:t>2016</a:t>
            </a:r>
            <a:r>
              <a:rPr b="0" lang="zh-CN" sz="1200" spc="-1" strike="noStrike">
                <a:solidFill>
                  <a:srgbClr val="000000"/>
                </a:solidFill>
                <a:latin typeface="Arial"/>
              </a:rPr>
              <a:t>年年报“年末数”没有丝毫对应，而且与</a:t>
            </a:r>
            <a:r>
              <a:rPr b="0" lang="en-US" sz="1200" spc="-1" strike="noStrike">
                <a:solidFill>
                  <a:srgbClr val="000000"/>
                </a:solidFill>
                <a:latin typeface="Arial"/>
              </a:rPr>
              <a:t>2017</a:t>
            </a:r>
            <a:r>
              <a:rPr b="0" lang="zh-CN" sz="1200" spc="-1" strike="noStrike">
                <a:solidFill>
                  <a:srgbClr val="000000"/>
                </a:solidFill>
                <a:latin typeface="Arial"/>
              </a:rPr>
              <a:t>年年报中“同一控制下企业合并”部分所列示的合并成本账面价值及被合并方净资产账面价值之差</a:t>
            </a:r>
            <a:r>
              <a:rPr b="0" lang="en-US" sz="1200" spc="-1" strike="noStrike">
                <a:solidFill>
                  <a:srgbClr val="000000"/>
                </a:solidFill>
                <a:latin typeface="Arial"/>
              </a:rPr>
              <a:t>28.23</a:t>
            </a:r>
            <a:r>
              <a:rPr b="0" lang="zh-CN" sz="1200" spc="-1" strike="noStrike">
                <a:solidFill>
                  <a:srgbClr val="000000"/>
                </a:solidFill>
                <a:latin typeface="Arial"/>
              </a:rPr>
              <a:t>亿元之间缺乏完全对应关系。</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总之，美年大健康并购慈铭体检所形成的商誉，无论在确认、计量、列报环节，还是逻辑、依据等方面均存在浓浓的“迷雾”。通过对此并购过程关键时间节点的梳理及事件经济实质的推敲和挖掘，可以对该并购交易的性质有较为清晰的认知和把握，其属于典型的“名为同一控制下企业合并，实为非同一控制下企业合并”，现实中却将其认定为同一控制下企业合并，还“徒增”商誉超过</a:t>
            </a:r>
            <a:r>
              <a:rPr b="0" lang="en-US" sz="1200" spc="-1" strike="noStrike">
                <a:solidFill>
                  <a:srgbClr val="000000"/>
                </a:solidFill>
                <a:latin typeface="Arial"/>
              </a:rPr>
              <a:t>28</a:t>
            </a:r>
            <a:r>
              <a:rPr b="0" lang="zh-CN" sz="1200" spc="-1" strike="noStrike">
                <a:solidFill>
                  <a:srgbClr val="000000"/>
                </a:solidFill>
                <a:latin typeface="Arial"/>
              </a:rPr>
              <a:t>亿元，既与 </a:t>
            </a:r>
            <a:r>
              <a:rPr b="0" lang="en-US" sz="1200" spc="-1" strike="noStrike">
                <a:solidFill>
                  <a:srgbClr val="000000"/>
                </a:solidFill>
                <a:latin typeface="Arial"/>
              </a:rPr>
              <a:t>CAS20</a:t>
            </a:r>
            <a:r>
              <a:rPr b="0" lang="zh-CN" sz="1200" spc="-1" strike="noStrike">
                <a:solidFill>
                  <a:srgbClr val="000000"/>
                </a:solidFill>
                <a:latin typeface="Arial"/>
              </a:rPr>
              <a:t>相违背，也与</a:t>
            </a:r>
            <a:r>
              <a:rPr b="0" lang="en-US" sz="1200" spc="-1" strike="noStrike">
                <a:solidFill>
                  <a:srgbClr val="000000"/>
                </a:solidFill>
                <a:latin typeface="Arial"/>
              </a:rPr>
              <a:t>6</a:t>
            </a:r>
            <a:r>
              <a:rPr b="0" lang="zh-CN" sz="1200" spc="-1" strike="noStrike">
                <a:solidFill>
                  <a:srgbClr val="000000"/>
                </a:solidFill>
                <a:latin typeface="Arial"/>
              </a:rPr>
              <a:t>号解释的要求不符，这不得不令人深思和关注：这徒增的并购商誉是否物有所值？若后续发生商誉减值，该减值损失的责任应由谁来承担？会影响哪些利益相关者的利益？</a:t>
            </a:r>
            <a:endParaRPr b="0" lang="en-US" sz="12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3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请思考对同一控制下企业合并和非同一控制下企业合并应如何判断，是基于经济实质还是法律形式，并购商誉是如何形成的。</a:t>
            </a:r>
            <a:endParaRPr b="0" lang="en-US" sz="12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编制合并日后财务报表时，首先，将母公司对子公司长期股权投资由成本法核算的结果调整为权益法核算的结果，使母公司对子公司长期股权投资项目反映其在子公司所有者权益中所拥有权益的变动情况；其次，将母公司对子公司长期股权投资项目与子公司所有者权益项目等内部交易相关的项目进行抵销，将内部交易对个别财务报表的影响予以抵销；最后，在编制合并日合并工作底稿的基础上，编制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在</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100 000</a:t>
            </a:r>
            <a:r>
              <a:rPr b="0" lang="zh-CN" sz="1200" spc="-1" strike="noStrike">
                <a:solidFill>
                  <a:srgbClr val="000000"/>
                </a:solidFill>
                <a:latin typeface="Arial"/>
              </a:rPr>
              <a:t>元，提取盈余公积</a:t>
            </a:r>
            <a:r>
              <a:rPr b="0" lang="en-US" sz="1200" spc="-1" strike="noStrike">
                <a:solidFill>
                  <a:srgbClr val="000000"/>
                </a:solidFill>
                <a:latin typeface="Arial"/>
              </a:rPr>
              <a:t>10 000</a:t>
            </a:r>
            <a:r>
              <a:rPr b="0" lang="zh-CN" sz="1200" spc="-1" strike="noStrike">
                <a:solidFill>
                  <a:srgbClr val="000000"/>
                </a:solidFill>
                <a:latin typeface="Arial"/>
              </a:rPr>
              <a:t>元，当年没有分配股利。则</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在编制合并财务报表工作底稿中，应编制如下四笔调整与抵销分录：</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35"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6"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按照权益法调整</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的长期股权投资</a:t>
            </a:r>
            <a:r>
              <a:rPr b="0" lang="zh-CN" sz="1200" spc="-1" strike="noStrike">
                <a:solidFill>
                  <a:srgbClr val="000000"/>
                </a:solidFill>
                <a:latin typeface="Arial"/>
              </a:rPr>
              <a:t>，调整的金额为：</a:t>
            </a:r>
            <a:r>
              <a:rPr b="0" lang="en-US" sz="1200" spc="-1" strike="noStrike">
                <a:solidFill>
                  <a:srgbClr val="000000"/>
                </a:solidFill>
                <a:latin typeface="Arial"/>
              </a:rPr>
              <a:t>100 000×9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元），调整的会计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831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正好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在</a:t>
            </a:r>
            <a:r>
              <a:rPr b="0" lang="en-US" sz="1200" spc="-1" strike="noStrike">
                <a:solidFill>
                  <a:srgbClr val="000000"/>
                </a:solidFill>
                <a:latin typeface="Arial"/>
              </a:rPr>
              <a:t>S</a:t>
            </a:r>
            <a:r>
              <a:rPr b="0" lang="zh-CN" sz="1200" spc="-1" strike="noStrike">
                <a:solidFill>
                  <a:srgbClr val="000000"/>
                </a:solidFill>
                <a:latin typeface="Arial"/>
              </a:rPr>
              <a:t>公司的所有者权益中所占的份额相等。此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00 000×1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82 4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r>
              <a:rPr b="0" lang="en-US" sz="1200" spc="-1" strike="noStrike">
                <a:solidFill>
                  <a:srgbClr val="000000"/>
                </a:solidFill>
                <a:latin typeface="Arial"/>
              </a:rPr>
              <a:t>9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将母公司的长期股权投资与子公司的所有者权益相抵销</a:t>
            </a:r>
            <a:r>
              <a:rPr b="0" lang="zh-CN" sz="1200" spc="-1" strike="noStrike">
                <a:solidFill>
                  <a:srgbClr val="000000"/>
                </a:solidFill>
                <a:latin typeface="Arial"/>
              </a:rPr>
              <a:t>，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128 0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3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9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6" name=""/>
          <p:cNvGraphicFramePr/>
          <p:nvPr/>
        </p:nvGraphicFramePr>
        <p:xfrm>
          <a:off x="617400" y="1519200"/>
          <a:ext cx="7909200" cy="3322800"/>
        </p:xfrm>
        <a:graphic>
          <a:graphicData uri="http://schemas.openxmlformats.org/drawingml/2006/table">
            <a:tbl>
              <a:tblPr/>
              <a:tblGrid>
                <a:gridCol w="2648160"/>
                <a:gridCol w="2206440"/>
                <a:gridCol w="3054600"/>
              </a:tblGrid>
              <a:tr h="228240">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4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8" name=""/>
          <p:cNvSpPr txBox="1"/>
          <p:nvPr/>
        </p:nvSpPr>
        <p:spPr>
          <a:xfrm>
            <a:off x="1619280" y="876240"/>
            <a:ext cx="6337440" cy="806400"/>
          </a:xfrm>
          <a:prstGeom prst="rect">
            <a:avLst/>
          </a:prstGeom>
          <a:noFill/>
          <a:ln w="0">
            <a:noFill/>
          </a:ln>
        </p:spPr>
        <p:txBody>
          <a:bodyPr lIns="68760" rIns="68760" tIns="34200" bIns="342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的资产负债表和利润表如表</a:t>
            </a:r>
            <a:r>
              <a:rPr b="0" lang="en-US" sz="1200" spc="-1" strike="noStrike">
                <a:solidFill>
                  <a:srgbClr val="000000"/>
                </a:solidFill>
                <a:latin typeface="Arial"/>
              </a:rPr>
              <a:t>6-1</a:t>
            </a:r>
            <a:r>
              <a:rPr b="0" lang="zh-CN" sz="1200" spc="-1" strike="noStrike">
                <a:solidFill>
                  <a:srgbClr val="000000"/>
                </a:solidFill>
                <a:latin typeface="Arial"/>
              </a:rPr>
              <a:t>和</a:t>
            </a:r>
            <a:r>
              <a:rPr b="0" lang="en-US" sz="1200" spc="-1" strike="noStrike">
                <a:solidFill>
                  <a:srgbClr val="000000"/>
                </a:solidFill>
                <a:latin typeface="Arial"/>
              </a:rPr>
              <a:t>6-2</a:t>
            </a:r>
            <a:r>
              <a:rPr b="0" lang="zh-CN" sz="1200" spc="-1" strike="noStrike">
                <a:solidFill>
                  <a:srgbClr val="000000"/>
                </a:solidFill>
                <a:latin typeface="Arial"/>
              </a:rPr>
              <a:t>所示：</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6-1                      </a:t>
            </a:r>
            <a:r>
              <a:rPr b="0" lang="zh-CN" sz="1200" spc="-1" strike="noStrike">
                <a:solidFill>
                  <a:srgbClr val="000000"/>
                </a:solidFill>
                <a:latin typeface="Arial"/>
              </a:rPr>
              <a:t>资产负债表</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42:02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C55E11B516B4B14A6506EA3670332BC_12</vt:lpwstr>
  </property>
  <property fmtid="{D5CDD505-2E9C-101B-9397-08002B2CF9AE}" pid="3" name="KSOProductBuildVer">
    <vt:lpwstr>2052-12.1.0.17147</vt:lpwstr>
  </property>
</Properties>
</file>