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9272C-5466-45DA-A31E-2623F4A76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DBDF0-8449-4215-9EC9-2C5100B8A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67145-0236-4940-B2E3-1DA6E47A2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81E3F-3BDE-4B2F-9D74-FD4982E47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5FCACB-FBC8-4686-BE68-06AC192A75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A876C-6239-48B2-A935-49ACB209F4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964D1-5CE1-4363-AB0D-C61E8A0B2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E011F-6945-42FB-8ED4-C8FFF5D0B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DF914B-3580-4951-A3B8-BC1B23C581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DF0F8-7BCE-436D-81E4-C96D9D5A2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8329C-75CA-4312-95C3-CA0A0925C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9743F-9641-4DF9-9E36-14473D16E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5FCF9-19B4-4E3F-BABF-69E5A979D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39683-670B-4D2E-AFE6-BB324469C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0D897-3BA1-4CE6-8215-0C43D93EC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06B8DA-E5E9-42BF-8BD2-94A91A65C7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F7EAE0-1717-465F-82D8-2705741E44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211AA-99F0-4058-A627-6810C1712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A947A-E108-41E8-AA9B-4E6ED993C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A74FE-F17D-4E5E-A977-36AF63EC7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70E54-EE38-4301-85E1-FBAD28BDA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15503-8D1A-4FE1-9F05-1F5D35291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3848F-DB3D-4A35-B8FB-AA7C1BA7C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411B4-3A7A-4A0D-A43A-073B6DA122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96B9C-ABC5-40AD-B436-222DB99F1CCB}"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3970E-85E3-4DF8-BA49-215B2D30629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365F9-DAE2-4542-8BCD-7D6B4F93498A}"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B9A8E-F0D4-4C2F-A380-14D517A011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D78C8-99D4-4D27-8E25-C77E80E864B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333000"/>
            <a:ext cx="7848720" cy="1871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ac0000"/>
                </a:solidFill>
                <a:latin typeface="黑体"/>
                <a:ea typeface="黑体"/>
              </a:rPr>
              <a:t>第十章 社会文化与消费行为</a:t>
            </a:r>
            <a:endParaRPr b="1" lang="en-US" sz="4000" spc="-1" strike="noStrike">
              <a:solidFill>
                <a:srgbClr val="330066"/>
              </a:solidFill>
              <a:latin typeface="Arial"/>
            </a:endParaRPr>
          </a:p>
        </p:txBody>
      </p:sp>
      <p:sp>
        <p:nvSpPr>
          <p:cNvPr id="152" name="Rectangle 4"/>
          <p:cNvSpPr/>
          <p:nvPr/>
        </p:nvSpPr>
        <p:spPr>
          <a:xfrm>
            <a:off x="1476360" y="2276640"/>
            <a:ext cx="669600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文化与消费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社会阶层与消费者行为差异</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文化差异与跨文化营销</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社会角色对消费者行为的影响</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115D0-C813-4758-8E04-1C2B023499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1835280" y="1719360"/>
            <a:ext cx="685152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跨文化营销研究的意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影响消费者行为的跨文化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消费者行为的跨文化分析</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跨文化营销策略分析</a:t>
            </a:r>
            <a:endParaRPr b="0" lang="en-US" sz="24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标题 1"/>
          <p:cNvSpPr/>
          <p:nvPr/>
        </p:nvSpPr>
        <p:spPr>
          <a:xfrm>
            <a:off x="1042920" y="228600"/>
            <a:ext cx="7643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差异与跨文化营销</a:t>
            </a:r>
            <a:endParaRPr b="0" lang="en-US" sz="32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C929F-857D-4DC7-B537-676FF20DB21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620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跨文化营销研究的意义</a:t>
            </a:r>
            <a:endParaRPr b="1" lang="en-US" sz="3200" spc="-1" strike="noStrike">
              <a:solidFill>
                <a:srgbClr val="330066"/>
              </a:solidFill>
              <a:latin typeface="Arial"/>
            </a:endParaRPr>
          </a:p>
        </p:txBody>
      </p:sp>
      <p:sp>
        <p:nvSpPr>
          <p:cNvPr id="192" name=""/>
          <p:cNvSpPr txBox="1"/>
          <p:nvPr/>
        </p:nvSpPr>
        <p:spPr>
          <a:xfrm>
            <a:off x="826560" y="2204640"/>
            <a:ext cx="7581960" cy="4411800"/>
          </a:xfrm>
          <a:prstGeom prst="rect">
            <a:avLst/>
          </a:prstGeom>
          <a:noFill/>
          <a:ln w="0">
            <a:noFill/>
          </a:ln>
        </p:spPr>
        <p:txBody>
          <a:bodyPr anchor="t">
            <a:normAutofit/>
          </a:bodyPr>
          <a:p>
            <a:pPr marL="343080" indent="-343080">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400" spc="-1" strike="noStrike">
                <a:solidFill>
                  <a:srgbClr val="000000"/>
                </a:solidFill>
                <a:latin typeface="黑体"/>
                <a:ea typeface="黑体"/>
              </a:rPr>
              <a:t>企业只有深入理解不同国家消费者的文化差异，在产品、品牌、价格、分销渠道、促销和广告等各方面都对目标市场的文化理念进行有效整合，才能提高跨文化营销的能力。</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3B9C9-B6F7-4585-87DF-EE96D21B90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50920" y="4759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影响消费者行为的跨文化因素</a:t>
            </a:r>
            <a:endParaRPr b="1" lang="en-US" sz="3200" spc="-1" strike="noStrike">
              <a:solidFill>
                <a:srgbClr val="330066"/>
              </a:solidFill>
              <a:latin typeface="Arial"/>
            </a:endParaRPr>
          </a:p>
        </p:txBody>
      </p:sp>
      <p:sp>
        <p:nvSpPr>
          <p:cNvPr id="196" name=""/>
          <p:cNvSpPr txBox="1"/>
          <p:nvPr/>
        </p:nvSpPr>
        <p:spPr>
          <a:xfrm>
            <a:off x="1907640" y="1988640"/>
            <a:ext cx="4691160" cy="441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值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语言</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风俗习惯</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审美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宗教</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E4064-F309-498C-B6A2-85BAA35527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1" lang="en-US" sz="3200" spc="-1" strike="noStrike">
              <a:solidFill>
                <a:srgbClr val="330066"/>
              </a:solidFill>
              <a:latin typeface="Arial"/>
            </a:endParaRPr>
          </a:p>
        </p:txBody>
      </p:sp>
      <p:pic>
        <p:nvPicPr>
          <p:cNvPr id="200" name="内容占位符 5" descr="跨文化行为分析模型.jpg"/>
          <p:cNvPicPr/>
          <p:nvPr/>
        </p:nvPicPr>
        <p:blipFill>
          <a:blip r:embed="rId1"/>
          <a:stretch/>
        </p:blipFill>
        <p:spPr>
          <a:xfrm>
            <a:off x="1116000" y="1266840"/>
            <a:ext cx="6527880" cy="486396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1EEC6-02D8-4C64-BDBB-849FBAD15A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0" lang="en-US" sz="3200" spc="-1" strike="noStrike">
              <a:solidFill>
                <a:srgbClr val="000000"/>
              </a:solidFill>
              <a:latin typeface="Arial"/>
            </a:endParaRPr>
          </a:p>
        </p:txBody>
      </p:sp>
      <p:pic>
        <p:nvPicPr>
          <p:cNvPr id="204" name="图片 7" descr="文化层面的定位2.jpg"/>
          <p:cNvPicPr/>
          <p:nvPr/>
        </p:nvPicPr>
        <p:blipFill>
          <a:blip r:embed="rId1"/>
          <a:stretch/>
        </p:blipFill>
        <p:spPr>
          <a:xfrm>
            <a:off x="1042920" y="1239840"/>
            <a:ext cx="6672240" cy="483228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1D223-8253-469C-98CE-5BE981FD45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跨文化营销策略分析</a:t>
            </a:r>
            <a:endParaRPr b="1" lang="en-US" sz="3200" spc="-1" strike="noStrike">
              <a:solidFill>
                <a:srgbClr val="330066"/>
              </a:solidFill>
              <a:latin typeface="Arial"/>
            </a:endParaRPr>
          </a:p>
        </p:txBody>
      </p:sp>
      <p:sp>
        <p:nvSpPr>
          <p:cNvPr id="208" name=""/>
          <p:cNvSpPr txBox="1"/>
          <p:nvPr/>
        </p:nvSpPr>
        <p:spPr>
          <a:xfrm>
            <a:off x="1476000" y="1413000"/>
            <a:ext cx="7139160" cy="4411440"/>
          </a:xfrm>
          <a:prstGeom prst="rect">
            <a:avLst/>
          </a:prstGeom>
          <a:noFill/>
          <a:ln w="0">
            <a:noFill/>
          </a:ln>
        </p:spPr>
        <p:txBody>
          <a:bodyPr anchor="t">
            <a:normAutofit fontScale="90000"/>
          </a:bodyPr>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某一地域的消费者是同质的还是异质的</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某种特定文化下，某一产品能满足何种需要</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需要某一产品的消费者群体有无购买能力</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购买和使用本产品相关的价值观</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产品相关的法律政策限制</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播产品相关信息的方式</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营销是否会引起伦理或道德上问题</a:t>
            </a:r>
            <a:endParaRPr b="0" lang="en-US" sz="2400" spc="-1" strike="noStrike">
              <a:solidFill>
                <a:srgbClr val="000000"/>
              </a:solidFill>
              <a:latin typeface="Arial"/>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168F0-D15E-4E88-A8D1-370412747D6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title"/>
          </p:nvPr>
        </p:nvSpPr>
        <p:spPr>
          <a:xfrm>
            <a:off x="671040" y="40428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角色对消费者行为的影响</a:t>
            </a:r>
            <a:endParaRPr b="1" lang="en-US" sz="3200" spc="-1" strike="noStrike">
              <a:solidFill>
                <a:srgbClr val="330066"/>
              </a:solidFill>
              <a:latin typeface="Arial"/>
            </a:endParaRPr>
          </a:p>
        </p:txBody>
      </p:sp>
      <p:sp>
        <p:nvSpPr>
          <p:cNvPr id="212" name=""/>
          <p:cNvSpPr txBox="1"/>
          <p:nvPr/>
        </p:nvSpPr>
        <p:spPr>
          <a:xfrm>
            <a:off x="1332000" y="1719360"/>
            <a:ext cx="735480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角色的概念与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选择产品时的角色分类</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角色与消费者购买行为</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575D9-E64A-4C59-BB2E-42918BD5E3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25992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角色的概念和含义</a:t>
            </a:r>
            <a:endParaRPr b="1" lang="en-US" sz="3200" spc="-1" strike="noStrike">
              <a:solidFill>
                <a:srgbClr val="330066"/>
              </a:solidFill>
              <a:latin typeface="Arial"/>
            </a:endParaRPr>
          </a:p>
        </p:txBody>
      </p:sp>
      <p:sp>
        <p:nvSpPr>
          <p:cNvPr id="216" name=""/>
          <p:cNvSpPr txBox="1"/>
          <p:nvPr/>
        </p:nvSpPr>
        <p:spPr>
          <a:xfrm>
            <a:off x="971280" y="1719360"/>
            <a:ext cx="7715160" cy="441144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概念</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社会角色（</a:t>
            </a:r>
            <a:r>
              <a:rPr b="0" lang="en-US" sz="2000" spc="-1" strike="noStrike">
                <a:solidFill>
                  <a:srgbClr val="000000"/>
                </a:solidFill>
                <a:latin typeface="黑体"/>
                <a:ea typeface="黑体"/>
              </a:rPr>
              <a:t>social role</a:t>
            </a:r>
            <a:r>
              <a:rPr b="0" lang="zh-CN" sz="2000" spc="-1" strike="noStrike">
                <a:solidFill>
                  <a:srgbClr val="000000"/>
                </a:solidFill>
                <a:latin typeface="黑体"/>
                <a:ea typeface="黑体"/>
              </a:rPr>
              <a:t>）是指与人们的社会地位、身份相一致的一整套权利、义务的规范与行为模式，它是人们对具有特定身份的人的行为期望，也是构成社会群体或组织的基础。</a:t>
            </a:r>
            <a:endParaRPr b="0" lang="en-US" sz="2000" spc="-1" strike="noStrike">
              <a:solidFill>
                <a:srgbClr val="000000"/>
              </a:solidFill>
              <a:latin typeface="Arial"/>
            </a:endParaRPr>
          </a:p>
          <a:p>
            <a:pPr marL="343080" indent="-343080">
              <a:lnSpc>
                <a:spcPct val="10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含义</a:t>
            </a:r>
            <a:endParaRPr b="0" lang="en-US" sz="24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地位的外在表现</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人们对处于特定地位的人的行为期待</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群体或社会组织的基础</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46053-E306-49C7-AAEB-2D3624F1FC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285480" y="122400"/>
            <a:ext cx="771516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1" lang="en-US" sz="3200" spc="-1" strike="noStrike">
              <a:solidFill>
                <a:srgbClr val="330066"/>
              </a:solidFill>
              <a:latin typeface="Arial"/>
            </a:endParaRPr>
          </a:p>
        </p:txBody>
      </p:sp>
      <p:sp>
        <p:nvSpPr>
          <p:cNvPr id="220" name=""/>
          <p:cNvSpPr txBox="1"/>
          <p:nvPr/>
        </p:nvSpPr>
        <p:spPr>
          <a:xfrm>
            <a:off x="468000" y="1267920"/>
            <a:ext cx="8443800" cy="1584360"/>
          </a:xfrm>
          <a:prstGeom prst="rect">
            <a:avLst/>
          </a:prstGeom>
          <a:noFill/>
          <a:ln w="0">
            <a:noFill/>
          </a:ln>
        </p:spPr>
        <p:txBody>
          <a:bodyPr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者角色的承担者包括了每一个在市场上进行消费活动的社会成员。当社会成员遵从社会规范（包括各种约定俗成或法律的规定）购买商品或接受服务时，就扮演了消费者的角色。</a:t>
            </a:r>
            <a:endParaRPr b="0" lang="en-US" sz="2000" spc="-1" strike="noStrike">
              <a:solidFill>
                <a:srgbClr val="000000"/>
              </a:solidFill>
              <a:latin typeface="Arial"/>
            </a:endParaRPr>
          </a:p>
        </p:txBody>
      </p:sp>
      <p:sp>
        <p:nvSpPr>
          <p:cNvPr id="221" name="内容占位符 2"/>
          <p:cNvSpPr/>
          <p:nvPr/>
        </p:nvSpPr>
        <p:spPr>
          <a:xfrm>
            <a:off x="1403280" y="2924280"/>
            <a:ext cx="8229600" cy="203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角色具有的特征</a:t>
            </a:r>
            <a:endParaRPr b="0" lang="en-US" sz="24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从事的消费活动属于生活消费</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对象既包括商品也包括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活动表现为购买、使用商品和接受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要指个人消费者</a:t>
            </a:r>
            <a:endParaRPr b="0" lang="en-US" sz="2000" spc="-1" strike="noStrike">
              <a:solidFill>
                <a:srgbClr val="000000"/>
              </a:solidFill>
              <a:latin typeface="Arial"/>
            </a:endParaRPr>
          </a:p>
          <a:p>
            <a:pPr lvl="1" marL="743040" indent="-285840">
              <a:lnSpc>
                <a:spcPct val="10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6E11B-0944-43F8-8310-8C929E3073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内容占位符 2"/>
          <p:cNvSpPr/>
          <p:nvPr/>
        </p:nvSpPr>
        <p:spPr>
          <a:xfrm>
            <a:off x="1476360" y="1773360"/>
            <a:ext cx="722160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产品充当的角色分类</a:t>
            </a:r>
            <a:endParaRPr b="0" lang="en-US" sz="28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高贵身份</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年龄特征</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尊和自我实现</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情感的代言者</a:t>
            </a:r>
            <a:endParaRPr b="0" lang="en-US" sz="20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5" name="标题 1"/>
          <p:cNvSpPr/>
          <p:nvPr/>
        </p:nvSpPr>
        <p:spPr>
          <a:xfrm>
            <a:off x="324000" y="549360"/>
            <a:ext cx="77151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2FA9D-A3BD-4CE3-966D-F953829F82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与消费者行为</a:t>
            </a:r>
            <a:endParaRPr b="1" lang="en-US" sz="3200" spc="-1" strike="noStrike">
              <a:solidFill>
                <a:srgbClr val="330066"/>
              </a:solidFill>
              <a:latin typeface="Arial"/>
            </a:endParaRPr>
          </a:p>
        </p:txBody>
      </p:sp>
      <p:sp>
        <p:nvSpPr>
          <p:cNvPr id="156" name=""/>
          <p:cNvSpPr txBox="1"/>
          <p:nvPr/>
        </p:nvSpPr>
        <p:spPr>
          <a:xfrm>
            <a:off x="1403280" y="2204640"/>
            <a:ext cx="722304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文化的概念和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亚文化与消费差异</a:t>
            </a:r>
            <a:endParaRPr b="0" lang="en-US" sz="3000" spc="-1" strike="noStrike">
              <a:solidFill>
                <a:srgbClr val="000000"/>
              </a:solidFill>
              <a:latin typeface="Arial"/>
            </a:endParaRPr>
          </a:p>
          <a:p>
            <a:pPr marL="762120" indent="-7621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角色与消费者购买行为</a:t>
            </a:r>
            <a:endParaRPr b="1" lang="en-US" sz="3200" spc="-1" strike="noStrike">
              <a:solidFill>
                <a:srgbClr val="330066"/>
              </a:solidFill>
              <a:latin typeface="Arial"/>
            </a:endParaRPr>
          </a:p>
        </p:txBody>
      </p:sp>
      <p:sp>
        <p:nvSpPr>
          <p:cNvPr id="227" name=""/>
          <p:cNvSpPr txBox="1"/>
          <p:nvPr/>
        </p:nvSpPr>
        <p:spPr>
          <a:xfrm>
            <a:off x="2195280" y="1989000"/>
            <a:ext cx="4608360" cy="2718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关联产品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的超载、冲突与演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转化</a:t>
            </a:r>
            <a:endParaRPr b="0" lang="en-US" sz="24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22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34D08-8219-4DB8-9D20-EF8AD31C39D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20379-9F0E-4556-B0BD-FB352C2579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233" name=""/>
          <p:cNvSpPr txBox="1"/>
          <p:nvPr/>
        </p:nvSpPr>
        <p:spPr>
          <a:xfrm>
            <a:off x="457200" y="1719360"/>
            <a:ext cx="822960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与关联产品集</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关联产品集是指承担某一角色所需要的一系列产品。这些产品或者有助于角色扮演，或者具有重要的象征意义。</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营销者需要确保其产品能满足目标角色的使用或象征性需要，以此使人们为了胜任所承担的角色而进行购买。</a:t>
            </a:r>
            <a:endParaRPr b="0" lang="en-US" sz="28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8CBD7-1448-43E8-AA66-7ADEC1B591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37" name=""/>
          <p:cNvSpPr txBox="1"/>
          <p:nvPr/>
        </p:nvSpPr>
        <p:spPr>
          <a:xfrm>
            <a:off x="457200" y="1988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的超载</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超载是指个体超越了时间、金钱和精力所允许的限度而承担太多的角色，或承担对个体有太多要求的角色。</a:t>
            </a:r>
            <a:endParaRPr b="0" lang="en-US" sz="2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0E18-EE65-48DC-B5C3-97999CFDD7A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1" name=""/>
          <p:cNvSpPr txBox="1"/>
          <p:nvPr/>
        </p:nvSpPr>
        <p:spPr>
          <a:xfrm>
            <a:off x="457200" y="1557360"/>
            <a:ext cx="8229600" cy="4573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冲突</a:t>
            </a:r>
            <a:endParaRPr b="0" lang="en-US" sz="3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冲突是指由于个体扮演某一角色或者同时扮演几个不同的社会角色时，所出现的内心冲突与矛盾。</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角色冲突的表现</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一社会角色内心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社会角色改变时，新旧角色之间发生的矛盾与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承担多种角色时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角色规定的人格与其真实人格之间的矛盾</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4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0240A-7B83-4725-8C43-E68522095E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5" name=""/>
          <p:cNvSpPr txBox="1"/>
          <p:nvPr/>
        </p:nvSpPr>
        <p:spPr>
          <a:xfrm>
            <a:off x="468360" y="1196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演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演化是指人们不对某种角色行为的期待随着时代和社会的发展而发生变化。</a:t>
            </a:r>
            <a:endParaRPr b="0" lang="en-US" sz="28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转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个人在社会中所承担的角色并不是固定不变的。随着生活环境的变化和工作的变动，个体会放弃原有的角色，获取新的角色，并自觉或不自觉的从一种角色转化成另一种角色。</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32066-6486-4BE5-BD21-981FA55A051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0" name=""/>
          <p:cNvSpPr txBox="1"/>
          <p:nvPr/>
        </p:nvSpPr>
        <p:spPr>
          <a:xfrm>
            <a:off x="1116000" y="1483920"/>
            <a:ext cx="7508880" cy="3979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概念</a:t>
            </a:r>
            <a:endParaRPr b="0" lang="en-US" sz="28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广义：人类社会历史实践过程中所创造的物质财富和精神财富的总和</a:t>
            </a:r>
            <a:endParaRPr b="0" lang="en-US" sz="24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狭义：社会的意识形态，以及与之相适应的制度和组织结构</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2F15F-7310-41BB-B6B4-6362880297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4" name=""/>
          <p:cNvSpPr txBox="1"/>
          <p:nvPr/>
        </p:nvSpPr>
        <p:spPr>
          <a:xfrm>
            <a:off x="1186920" y="1341000"/>
            <a:ext cx="6409080" cy="4411800"/>
          </a:xfrm>
          <a:prstGeom prst="rect">
            <a:avLst/>
          </a:prstGeom>
          <a:noFill/>
          <a:ln w="0">
            <a:noFill/>
          </a:ln>
        </p:spPr>
        <p:txBody>
          <a:bodyPr anchor="t">
            <a:normAutofit fontScale="95000"/>
          </a:bodyPr>
          <a:p>
            <a:pPr marL="325800" indent="-325800">
              <a:lnSpc>
                <a:spcPct val="100000"/>
              </a:lnSpc>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特征</a:t>
            </a:r>
            <a:endParaRPr b="0" lang="en-US" sz="28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学习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发展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社会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民族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观念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C4EF9-FD8A-4C90-B2FF-39D45081384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1" lang="en-US" sz="3200" spc="-1" strike="noStrike">
              <a:solidFill>
                <a:srgbClr val="330066"/>
              </a:solidFill>
              <a:latin typeface="Arial"/>
            </a:endParaRPr>
          </a:p>
        </p:txBody>
      </p:sp>
      <p:sp>
        <p:nvSpPr>
          <p:cNvPr id="168" name=""/>
          <p:cNvSpPr txBox="1"/>
          <p:nvPr/>
        </p:nvSpPr>
        <p:spPr>
          <a:xfrm>
            <a:off x="684000" y="1916280"/>
            <a:ext cx="7559640" cy="441144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zh-CN" sz="2400" spc="-1" strike="noStrike">
                <a:solidFill>
                  <a:srgbClr val="000000"/>
                </a:solidFill>
                <a:latin typeface="黑体"/>
                <a:ea typeface="黑体"/>
              </a:rPr>
              <a:t>一个国家或社会的文化由两大部分组成，一部分是全体社会成员所共有的基本核心文化，另一部分就是为部分成员共有的独特的亚文化。亚文化又称为“次文化”、“潜文化”，它是相对于主流文化而言的，是总体文化的次属文化。</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9547D-6832-4BE8-881A-39E02B9DE6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内容占位符 2"/>
          <p:cNvSpPr/>
          <p:nvPr/>
        </p:nvSpPr>
        <p:spPr>
          <a:xfrm>
            <a:off x="1258920" y="1700280"/>
            <a:ext cx="736596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亚文化的划分维度</a:t>
            </a:r>
            <a:endParaRPr b="0" lang="en-US" sz="28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别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地理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年龄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民族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宗教亚文化</a:t>
            </a:r>
            <a:endParaRPr b="0" lang="en-US" sz="24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标题 1"/>
          <p:cNvSpPr/>
          <p:nvPr/>
        </p:nvSpPr>
        <p:spPr>
          <a:xfrm>
            <a:off x="468360" y="333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0" lang="en-US" sz="32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C6D69-4230-4CD2-ADDE-B43A6FD159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阶层的概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社会阶层对消费者行为的影响</a:t>
            </a:r>
            <a:endParaRPr b="0" lang="en-US" sz="3000" spc="-1" strike="noStrike">
              <a:solidFill>
                <a:srgbClr val="000000"/>
              </a:solidFill>
              <a:latin typeface="Arial"/>
            </a:endParaRPr>
          </a:p>
        </p:txBody>
      </p:sp>
      <p:sp>
        <p:nvSpPr>
          <p:cNvPr id="176" name="标题 1"/>
          <p:cNvSpPr/>
          <p:nvPr/>
        </p:nvSpPr>
        <p:spPr>
          <a:xfrm>
            <a:off x="684360" y="228600"/>
            <a:ext cx="8002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阶层与消费者行为差异</a:t>
            </a:r>
            <a:endParaRPr b="0" lang="en-US" sz="32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76A01-86D2-4181-8A5E-389706E70D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阶层的概念</a:t>
            </a:r>
            <a:endParaRPr b="1" lang="en-US" sz="3200" spc="-1" strike="noStrike">
              <a:solidFill>
                <a:srgbClr val="330066"/>
              </a:solidFill>
              <a:latin typeface="Arial"/>
            </a:endParaRPr>
          </a:p>
        </p:txBody>
      </p:sp>
      <p:sp>
        <p:nvSpPr>
          <p:cNvPr id="180" name=""/>
          <p:cNvSpPr txBox="1"/>
          <p:nvPr/>
        </p:nvSpPr>
        <p:spPr>
          <a:xfrm>
            <a:off x="539640" y="14839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黑体"/>
                <a:ea typeface="黑体"/>
              </a:rPr>
              <a:t>社会阶层</a:t>
            </a: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      </a:t>
            </a:r>
            <a:r>
              <a:rPr b="0" lang="zh-CN" sz="2400" spc="-1" strike="noStrike">
                <a:solidFill>
                  <a:srgbClr val="000000"/>
                </a:solidFill>
                <a:latin typeface="黑体"/>
                <a:ea typeface="黑体"/>
              </a:rPr>
              <a:t>社会阶层通常是指消费者在社会中所处的地位，是由收入、家庭背景和职业等一系列复杂变量决定的。</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社会阶层既能直接影响所处其中的社会成员的消费行为，又会通过影响人们的其他特性如个人价值观、决策方式等间接影响消费者的行为。</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52081-9FEF-4456-BD2C-AAF542C770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356760" y="122400"/>
            <a:ext cx="76438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社会阶层对消费者行为的影响</a:t>
            </a:r>
            <a:endParaRPr b="1" lang="en-US" sz="3200" spc="-1" strike="noStrike">
              <a:solidFill>
                <a:srgbClr val="330066"/>
              </a:solidFill>
              <a:latin typeface="Arial"/>
            </a:endParaRPr>
          </a:p>
        </p:txBody>
      </p:sp>
      <p:sp>
        <p:nvSpPr>
          <p:cNvPr id="184" name=""/>
          <p:cNvSpPr txBox="1"/>
          <p:nvPr/>
        </p:nvSpPr>
        <p:spPr>
          <a:xfrm>
            <a:off x="2050560" y="1719360"/>
            <a:ext cx="663588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观念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在支出模式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文化品味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信息搜集和处理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新产品购买上的差异</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9:04:29Z</dcterms:modified>
  <cp:revision>155</cp:revision>
  <dc:subject/>
  <dc:title>PowerPoint 演示文稿</dc:title>
</cp:coreProperties>
</file>