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BFC2-D175-4EB1-ACE1-7ED54BBDB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4A2A-2217-4F98-BE93-F9FA7C7EF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5C4D-E90E-45E5-A452-F4647F1BC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DEF5-47BB-436D-AFFE-DE93C85EA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30CD7-B97C-4FA7-A4B1-D600320A5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A3700-1DE7-4E95-A62C-46A9D47DE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85CB3-627E-45F5-A98F-BFD5A5D5A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327A8-A28C-4485-A25C-3542F6206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DC88C-18DE-422D-9105-60334F5F2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BDB8F-4E52-406F-A20D-FB04D939F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E20BF-AE01-49DC-9ABF-2C21369BD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6822-6181-45BA-9916-AD4F5B1E8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A2413-95B5-4B8C-A693-368F4EFB0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4B37A-DBA1-40AA-AB03-902E44FD8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4D331-EBFD-4EA7-A1B2-386CCC9B1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B2D28-C276-41D0-A87B-31A2D9D10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F87E2-E40B-429C-AD4E-E1BE62170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65C8-D90F-4873-AC1B-84BE0E1A5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B467-70AD-463B-B0F7-A24312EED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002D-C404-460A-89FA-6063F83C5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7938-699C-43AF-806F-BB7F314F7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6F50-D391-49CF-A7E6-62566FABF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6544-EBAD-4DAE-A7B8-A59ABDA1A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95AB-B655-43EB-891E-FCA3482B6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84658-1807-4042-A842-8444B7BCC137}" type="datetime">
              <a:rPr b="0" lang="zh-CN" sz="10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20AC0-F6DA-46C4-B7F7-16167A04558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B9FF9-DDED-406D-8378-71C66ABD2A5A}" type="datetime">
              <a:rPr b="0" lang="zh-CN" sz="10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69777-7FB0-4106-9F16-9C411C29C5F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63982-5651-41AD-95FE-5D5C9138B2F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86800" cy="175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c0000"/>
                </a:solidFill>
                <a:latin typeface="黑体"/>
                <a:ea typeface="黑体"/>
              </a:rPr>
              <a:t>第十二章  消费者的品牌心理与行为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1332000" y="2565360"/>
            <a:ext cx="6696000" cy="29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一节   品牌的内涵与构成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二节   品牌心理的形成机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三节   消费者的品牌购买行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四节   增强消费者的品牌偏好与忠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C16F6-ED15-409F-AD4F-CD1549D04FA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品牌的心理作用机制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116000" y="1413000"/>
            <a:ext cx="75708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认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认知过程是指消费者认识、了解、确信并接受品牌的过程，是品牌发生作用的心理基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定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个性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情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内容占位符 2"/>
          <p:cNvSpPr/>
          <p:nvPr/>
        </p:nvSpPr>
        <p:spPr>
          <a:xfrm>
            <a:off x="4356000" y="981000"/>
            <a:ext cx="822960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19280" y="620280"/>
            <a:ext cx="639288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品牌的心理效应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332000" y="1719360"/>
            <a:ext cx="73548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差异效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光环效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情感效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魅力效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附加效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1692000" y="1719360"/>
            <a:ext cx="699444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品牌在消费者购买行为中的作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消费者品牌转换行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灯片编号占位符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844CD-7885-41E2-9E06-016C5AA0368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标题 1"/>
          <p:cNvSpPr/>
          <p:nvPr/>
        </p:nvSpPr>
        <p:spPr>
          <a:xfrm>
            <a:off x="179280" y="260280"/>
            <a:ext cx="8472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三节  消费者的品牌购买行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179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在消费者购买行为中的作用</a:t>
            </a:r>
            <a:br>
              <a:rPr sz="36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403280" y="2133360"/>
            <a:ext cx="728352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品牌在寻找解决方案中的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品牌在评价比较方案中的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品牌在购后评价中的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A9C73-1D8E-4D1A-89D5-9E2B1E683B7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543800" cy="130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品牌转换行为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灯片编号占位符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A301B-8D45-4CB7-8E03-D564BE7B1A4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971640" y="1341000"/>
            <a:ext cx="772632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消费者品牌转换的产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消费者品牌转换的影响因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82360" indent="-24264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消费者因素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58640" indent="-268560">
              <a:lnSpc>
                <a:spcPct val="150000"/>
              </a:lnSpc>
              <a:spcBef>
                <a:spcPts val="601"/>
              </a:spcBef>
              <a:buClr>
                <a:srgbClr val="c00000"/>
              </a:buClr>
              <a:buSzPct val="8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卷入程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58640" indent="-268560">
              <a:lnSpc>
                <a:spcPct val="150000"/>
              </a:lnSpc>
              <a:spcBef>
                <a:spcPts val="601"/>
              </a:spcBef>
              <a:buClr>
                <a:srgbClr val="c00000"/>
              </a:buClr>
              <a:buSzPct val="8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的产品知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58640" indent="-268560">
              <a:lnSpc>
                <a:spcPct val="150000"/>
              </a:lnSpc>
              <a:spcBef>
                <a:spcPts val="601"/>
              </a:spcBef>
              <a:buClr>
                <a:srgbClr val="c00000"/>
              </a:buClr>
              <a:buSzPct val="8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特征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82360" indent="-24264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企业营销因素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82360" indent="-24264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市场竞争结构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88240" indent="-2955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88240" indent="-2955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78920" y="122400"/>
            <a:ext cx="82090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四节  增强消费者的品牌偏好与忠诚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403280" y="1719360"/>
            <a:ext cx="7283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品牌忠诚的概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品牌忠诚形成的心理机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增强消费者品牌忠诚的措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灯片编号占位符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70D56-E9D3-4BC5-950B-A3C4840DCCD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C582E-F518-4167-82DF-CA67E394676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忠诚的概念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675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行为论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the behavioral approach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态度论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the attitudinal approach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忠诚的特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是非随机的，有倾向性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具有行为反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在较长时间内持续表现出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经过某些决策过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针对某品牌集合中的一个或多个特定品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是决策、评价等心理过程的函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00991-AAC2-4764-A437-AFA1BAD35CE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7821720" cy="137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品牌忠诚形成的心理机制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4" name="AutoShape 4"/>
          <p:cNvSpPr/>
          <p:nvPr/>
        </p:nvSpPr>
        <p:spPr>
          <a:xfrm>
            <a:off x="1116000" y="1989000"/>
            <a:ext cx="1657440" cy="719280"/>
          </a:xfrm>
          <a:custGeom>
            <a:avLst/>
            <a:gdLst>
              <a:gd name="textAreaLeft" fmla="*/ 0 w 1657440"/>
              <a:gd name="textAreaRight" fmla="*/ 1657800 w 165744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73" y="0"/>
                </a:lnTo>
                <a:lnTo>
                  <a:pt x="21600" y="10800"/>
                </a:lnTo>
                <a:lnTo>
                  <a:pt x="1387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认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5"/>
          <p:cNvSpPr/>
          <p:nvPr/>
        </p:nvSpPr>
        <p:spPr>
          <a:xfrm>
            <a:off x="3132000" y="1987560"/>
            <a:ext cx="1656000" cy="720720"/>
          </a:xfrm>
          <a:custGeom>
            <a:avLst/>
            <a:gdLst>
              <a:gd name="textAreaLeft" fmla="*/ 0 w 1656000"/>
              <a:gd name="textAreaRight" fmla="*/ 1656360 w 165600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843" y="0"/>
                </a:lnTo>
                <a:lnTo>
                  <a:pt x="21600" y="10800"/>
                </a:lnTo>
                <a:lnTo>
                  <a:pt x="14843" y="21600"/>
                </a:lnTo>
                <a:lnTo>
                  <a:pt x="0" y="21600"/>
                </a:lnTo>
                <a:lnTo>
                  <a:pt x="6757" y="108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态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7"/>
          <p:cNvSpPr/>
          <p:nvPr/>
        </p:nvSpPr>
        <p:spPr>
          <a:xfrm>
            <a:off x="5292720" y="2060640"/>
            <a:ext cx="1368360" cy="720720"/>
          </a:xfrm>
          <a:prstGeom prst="flowChartProcess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行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1403280" y="3357720"/>
            <a:ext cx="5400720" cy="18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认知与品牌忠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态度与品牌忠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行为与品牌忠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16D44-A9EA-4B58-8ACB-D56F67DABCA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1547640" y="2276640"/>
            <a:ext cx="7221600" cy="36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强化消费者的品牌意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提升产品与服务品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构建品牌信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善用品牌联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提高品牌转换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-360" y="765000"/>
            <a:ext cx="8001000" cy="1229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增强消费者品牌忠诚的措施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一节  品牌的内涵与构成 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403280" y="1719360"/>
            <a:ext cx="7283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品牌的定义及内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品牌的构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灯片编号占位符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A32E4-7FC5-47C3-8EF4-19886FB617D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的定义及内涵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042560" y="1915920"/>
            <a:ext cx="764388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起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关于品牌定义的研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内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灯片编号占位符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BD3EB-6BE5-4193-831B-2FE1566319B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A9DB9-F25B-4C9E-B7FA-75FF9816874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84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的定义及内涵</a:t>
            </a:r>
            <a:br>
              <a:rPr sz="3200"/>
            </a:br>
            <a:r>
              <a:rPr b="1" lang="zh-CN" sz="35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起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关于品牌定义的研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2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标识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2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资产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2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信号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2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符号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内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是人类消费发展的产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物质载体是产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特定内容是文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特定对象是消费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-360" y="549000"/>
            <a:ext cx="84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的定义及内涵</a:t>
            </a:r>
            <a:br>
              <a:rPr sz="3200"/>
            </a:br>
            <a:r>
              <a:rPr b="1" lang="zh-CN" sz="35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63143-0E30-4E40-801A-ABEC5D325E5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品牌的构成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68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显性要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显性要素是品牌展现在外的、具体的，消费者可以直接感知的成份，主要指品牌及其所标定产品的名称、标识、包装设计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名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视觉标志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453DF-958B-42F2-A113-10EAE240A87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品牌的构成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68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隐性要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中不能被直接触摸和感觉到的就被称为品牌的隐性要素，它是 存在于品牌整个形成过程的核心要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承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个性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体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二节  品牌心理的形成机制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835280" y="1719360"/>
            <a:ext cx="6851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品牌的心理作用基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品牌的心理作用机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品牌的心理效应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灯片编号占位符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80718-C58B-4588-AC1F-978675555DE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BF9CE-D07A-4499-B9DD-4D2FC83D422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95000" y="476280"/>
            <a:ext cx="754380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的心理作用基础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                                                                                        </a:t>
            </a:r>
            <a:br>
              <a:rPr sz="36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763640" y="1700280"/>
            <a:ext cx="67168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象征意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我个性的表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我价值的实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情感意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内容占位符 2"/>
          <p:cNvSpPr/>
          <p:nvPr/>
        </p:nvSpPr>
        <p:spPr>
          <a:xfrm>
            <a:off x="3924360" y="1197000"/>
            <a:ext cx="822960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30T08:20:57Z</dcterms:created>
  <dc:creator>jianglin</dc:creator>
  <dc:description/>
  <dc:language>en-US</dc:language>
  <cp:lastModifiedBy>Administrator</cp:lastModifiedBy>
  <dcterms:modified xsi:type="dcterms:W3CDTF">2015-09-03T09:22:45Z</dcterms:modified>
  <cp:revision>114</cp:revision>
  <dc:subject/>
  <dc:title>PowerPoint 演示文稿</dc:title>
</cp:coreProperties>
</file>