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E758C-29F3-4E0E-8F0C-E5CE557C1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4267-1AE9-4234-865C-CAC22370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F4691-1BD2-4E25-8723-C9E5D4350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427C3-AD2A-4BDF-A4ED-06667AF1F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BB4CD-7CCB-4347-8CE1-0B96FB98F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143E-9B2B-4080-B195-82585899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04E9-DF92-4BB7-8178-9D9ADAD70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D0B75-CF80-4F3D-885D-6402EF9F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90D3-0D5C-46B8-AB99-523365B1C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15A5-7F17-4417-835D-0B1EE30F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BC6B7-4A29-4EFC-9424-6CC4DFF7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8942-C42B-4A2E-A0F4-7B4E7DCCF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1552-4B34-419F-AE46-66D8BCCFD94F}" type="datetime">
              <a:rPr b="0" lang="zh-CN" sz="1000" spc="-1" strike="noStrike">
                <a:solidFill>
                  <a:srgbClr val="000000"/>
                </a:solidFill>
                <a:latin typeface="Arial"/>
              </a:rPr>
              <a:t>26/7/29</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53AA-2AF3-4428-84D2-90348916CB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6C60-CE26-471A-AA93-B1D223D503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A380-02C8-4D2A-A64F-53B030DBB9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5C13-B6B1-4E0A-AF2C-886D82A6FD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99C7-B7EA-4E2F-829E-B898D0BB53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0B07-0DB2-4F79-AE0B-30349580AF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6B64-8FC6-409D-AD7A-7DEA2A5475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467F-7544-4151-AC05-904D64E0EF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C17E-76A1-4201-916F-1A51A3CAB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8D36-C1C0-4B8B-8A06-222995D875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FDD4-F95F-42BF-90E6-BD586F5C27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EABF-EE7B-41C1-AE0F-D6C459A27F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FBEE-4928-4CD8-8B28-4C0899D031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CC49-9C9D-4B71-993D-62C7B5BE94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E67A-6D17-422F-A93E-781F00CC0D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1F32-8612-4F3A-8372-98D7A27D1C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C8C9-8B02-4AD1-8BAB-D374FB568C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3B8F-1CCF-4546-9393-CC8C812A00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6FC9-3F61-462E-90B7-F3B2E5CB21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ADFB-5495-42B4-BDF6-1C66B58D9F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8668-F7CC-4637-80B9-AA2BE9097F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CDB6-7B95-4252-9F0F-0B9E90819B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B2D0-42F9-4CB6-899E-B4D157787E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F1FA-BB6A-402E-917D-B3F6218B27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5DC8-FCDF-4628-A345-758D22982C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2B3A-52D5-4E68-BD14-D21535A426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98DD-03CB-461E-ACA9-35F412A43F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2DC8-E21C-48E0-A80B-0AF6ADFE43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5DA-6B1C-403B-8C3F-90B3C2DB5B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