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E2A6-39AB-4CCB-807B-40A29BE4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EBFE-962C-4D72-A80A-DFD80285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161C-F6B9-4770-AA84-2534CC0E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1FF-2C5E-43B7-BF94-CDEA956B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4CB0-1420-454B-97B9-125278EC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1276-5876-4065-AC4E-C7306DA6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E2CE-D695-4BB2-910F-9CCE1E1B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E90A-2393-4B99-B07E-20A4720A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E553-0031-48A0-8D79-35A61C40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109C-95E3-4D89-8B4F-45BD99A8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44A2-4716-4F59-B66D-FE69EA93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879-CA2E-44F0-A436-709518CB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1D42-339D-4D82-8045-70D6426D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AF89-8F5F-4E71-9ABF-7EF7DF1B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B7F9-2668-45D6-AFEA-E11EDED4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3BEF-9C51-425B-9321-DD195F31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6DD7-ACB6-487C-9AFA-528C822E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4B41-609B-4A46-B61E-449FC6F3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CEF0-C8EF-4B7A-8214-EA0E361B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9242-EE78-487F-A5DC-A32541F7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064-D0ED-4982-BE5E-DD0BC254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B1C-8B47-4570-ABA0-66BAB697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09B0-FC36-4803-A2FB-6FC1C4EB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AC9F-1749-4281-8A61-0944C9CC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4819-7383-4907-B719-C30FBA642883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02CC-2607-4C85-8A8E-CD6C7D2E2A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7E43-E4B9-4E71-A213-424A09D2CEF6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E53F-18B4-4C14-833D-46B8BCD668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5081-4A7B-4A69-A95A-55AF1E7088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86800" cy="17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0000"/>
                </a:solidFill>
                <a:latin typeface="黑体"/>
                <a:ea typeface="黑体"/>
              </a:rPr>
              <a:t>第十二章  消费者的品牌心理与行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332000" y="2565360"/>
            <a:ext cx="66960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 品牌的内涵与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 品牌心理的形成机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 消费者的品牌购买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 增强消费者的品牌偏好与忠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5D65-1A6F-4F4A-8A02-17DE4FA62A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心理作用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413000"/>
            <a:ext cx="7570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认知过程是指消费者认识、了解、确信并接受品牌的过程，是品牌发生作用的心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4356000" y="981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39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品牌的心理效应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差异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光环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魅力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附加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69200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在消费者购买行为中的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品牌转换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BF96-6E4C-4914-B268-5D4E1966D7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179280" y="260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 消费者的品牌购买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在消费者购买行为中的作用</a:t>
            </a:r>
            <a:br>
              <a:rPr sz="36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3280" y="2133360"/>
            <a:ext cx="7283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寻找解决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评价比较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购后评价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67F7-2F0D-4AA2-A54A-BC741628CB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438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品牌转换行为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9A03-C158-4F5B-AC70-653BD74830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1341000"/>
            <a:ext cx="7726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消费者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卷入程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产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特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企业营销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市场竞争结构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 增强消费者的品牌偏好与忠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忠诚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忠诚形成的心理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增强消费者品牌忠诚的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9DD2-CB08-4354-990A-FC172F2DD7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9956-A1FF-458C-9225-BFDF12DA1E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忠诚的概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behavior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attitudin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忠诚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非随机的，有倾向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有行为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较长时间内持续表现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某些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某品牌集合中的一个或多个特定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决策、评价等心理过程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E973-7FB2-4D22-8FDE-5EAD558581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217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忠诚形成的心理机制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116000" y="1989000"/>
            <a:ext cx="1657440" cy="71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3" y="0"/>
                </a:lnTo>
                <a:lnTo>
                  <a:pt x="21600" y="10800"/>
                </a:lnTo>
                <a:lnTo>
                  <a:pt x="138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132000" y="1987560"/>
            <a:ext cx="1656000" cy="720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3" y="0"/>
                </a:lnTo>
                <a:lnTo>
                  <a:pt x="21600" y="10800"/>
                </a:lnTo>
                <a:lnTo>
                  <a:pt x="14843" y="21600"/>
                </a:lnTo>
                <a:lnTo>
                  <a:pt x="0" y="21600"/>
                </a:lnTo>
                <a:lnTo>
                  <a:pt x="675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态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292720" y="2060640"/>
            <a:ext cx="1368360" cy="720720"/>
          </a:xfrm>
          <a:prstGeom prst="flowChart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行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3280" y="3357720"/>
            <a:ext cx="5400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6F90-ACD2-45B5-BF3E-092BCD612A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47640" y="2276640"/>
            <a:ext cx="7221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消费者的品牌意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产品与服务品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品牌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用品牌联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品牌转换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001000" cy="12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增强消费者品牌忠诚的措施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 品牌的内涵与构成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定义及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48A9-175D-4601-A3F1-7E12B858A3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915920"/>
            <a:ext cx="7643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846A-06BE-4299-B21F-F570B62343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FB0D-768A-4ABA-9B13-9BE3971E2D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识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产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符号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是人类消费发展的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物质载体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内容是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对象是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4BF0-C4C5-4900-BE27-9A6FD75215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显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性要素是品牌展现在外的、具体的，消费者可以直接感知的成份，主要指品牌及其所标定产品的名称、标识、包装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名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C2FB-27DF-4E96-8405-6D17AEA842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中不能被直接触摸和感觉到的就被称为品牌的隐性要素，它是 存在于品牌整个形成过程的核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承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体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 品牌心理的形成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心理作用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心理作用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品牌的心理效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503E-E29B-49E3-84E7-621BEE70EA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5E52-F520-49F3-9108-DF5DF08918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47628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心理作用基础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36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00280"/>
            <a:ext cx="6716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象征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个性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价值的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924360" y="119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8:20:57Z</dcterms:created>
  <dc:creator>jianglin</dc:creator>
  <dc:description/>
  <dc:language>en-US</dc:language>
  <cp:lastModifiedBy>Administrator</cp:lastModifiedBy>
  <dcterms:modified xsi:type="dcterms:W3CDTF">2015-09-03T09:22:45Z</dcterms:modified>
  <cp:revision>114</cp:revision>
  <dc:subject/>
  <dc:title>PowerPoint 演示文稿</dc:title>
</cp:coreProperties>
</file>