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E06A-4BDA-4BA6-962F-6633C2F9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CC93-852A-49A4-828B-25C36463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B093-C857-4A65-B840-490C001C1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D0FC-F1D4-470D-96E9-D9C27A0B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4A58-60D1-45AF-928A-CC48F47F8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E203-29CF-4207-B72E-94B2B4A9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B59A-1E7A-4D73-9D8F-06965F39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D595-5183-4745-95A9-A3EF29CB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A67B-E0F1-4DD0-ACAC-096C7BB5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573B-87C9-4618-8762-A7B1D512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680D-D5C1-49CB-AA09-DBB2E298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A276-A905-4AAB-9D80-5976F6D7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6B0B-6A7C-4719-AB5F-61E4C1E9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939D-317F-4438-BDB1-88268295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482A-FC33-43C0-9688-5B8C103C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F3F5-8601-4A9F-84DA-E52818BB6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855A-677F-4098-B31A-D233BF719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A2DA-524F-4202-A661-2683469D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0517-B98B-4D59-8891-0F0CD37F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1F6F-3BC2-4964-872F-468AC780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C8B2-7AA2-4C91-BC11-F7BFCC3A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D832-5F63-4B18-9CF1-E99A7B5C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4D6E-FC97-45AC-A984-619BE69A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40FA-469C-4330-98CB-38D70709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D640-A3AA-4159-BEF7-F9A0681BC0A5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1B56-33E3-4BC7-B666-FF48C60EB01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07E6-2060-4F20-B492-A3F4ED23AEB6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D1F3-CB44-4E97-B29B-5BDFDB86C14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27F0-EC6B-49A7-B572-B683F260C2B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79930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态度的形成与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34920" y="2781360"/>
            <a:ext cx="662436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消费者的态度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消费者态度的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消费者态度的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消费者态度的测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6A7B-D3FC-41E9-94D3-23761CAA91E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消费者态度的形成与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618920" y="1785600"/>
            <a:ext cx="71103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形成的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形成的相关理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态度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9811-DE80-4666-8C6F-13B53D5C52D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258560" y="1719360"/>
            <a:ext cx="7427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对产品的观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获得的产品信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人经验与相关群体、大众传媒的影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DD51-BB33-4909-ABC5-FD16D582BD8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5" name="画布 150"/>
          <p:cNvGrpSpPr/>
          <p:nvPr/>
        </p:nvGrpSpPr>
        <p:grpSpPr>
          <a:xfrm>
            <a:off x="900000" y="1197000"/>
            <a:ext cx="7632720" cy="5040360"/>
            <a:chOff x="900000" y="1197000"/>
            <a:chExt cx="7632720" cy="5040360"/>
          </a:xfrm>
        </p:grpSpPr>
        <p:sp>
          <p:nvSpPr>
            <p:cNvPr id="246" name="AutoShape 33"/>
            <p:cNvSpPr/>
            <p:nvPr/>
          </p:nvSpPr>
          <p:spPr>
            <a:xfrm>
              <a:off x="900000" y="1197000"/>
              <a:ext cx="763272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7" name="Group 126"/>
            <p:cNvGrpSpPr/>
            <p:nvPr/>
          </p:nvGrpSpPr>
          <p:grpSpPr>
            <a:xfrm>
              <a:off x="1072800" y="1336680"/>
              <a:ext cx="7459560" cy="4760640"/>
              <a:chOff x="1072800" y="1336680"/>
              <a:chExt cx="7459560" cy="4760640"/>
            </a:xfrm>
          </p:grpSpPr>
          <p:sp>
            <p:nvSpPr>
              <p:cNvPr id="248" name="Rectangle 127"/>
              <p:cNvSpPr/>
              <p:nvPr/>
            </p:nvSpPr>
            <p:spPr>
              <a:xfrm>
                <a:off x="3848760" y="4756320"/>
                <a:ext cx="433692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调节其余的信念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Rectangle 128"/>
              <p:cNvSpPr/>
              <p:nvPr/>
            </p:nvSpPr>
            <p:spPr>
              <a:xfrm>
                <a:off x="1073160" y="4556880"/>
                <a:ext cx="2255040" cy="56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态度            改变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Rectangle 129"/>
              <p:cNvSpPr/>
              <p:nvPr/>
            </p:nvSpPr>
            <p:spPr>
              <a:xfrm>
                <a:off x="1073160" y="5677200"/>
                <a:ext cx="225504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行为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AutoShape 130"/>
              <p:cNvSpPr/>
              <p:nvPr/>
            </p:nvSpPr>
            <p:spPr>
              <a:xfrm rot="2508600">
                <a:off x="2287080" y="4656600"/>
                <a:ext cx="357480" cy="38124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Rectangle 131"/>
              <p:cNvSpPr/>
              <p:nvPr/>
            </p:nvSpPr>
            <p:spPr>
              <a:xfrm>
                <a:off x="1593720" y="1336680"/>
                <a:ext cx="8661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背景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Rectangle 132"/>
              <p:cNvSpPr/>
              <p:nvPr/>
            </p:nvSpPr>
            <p:spPr>
              <a:xfrm>
                <a:off x="3847680" y="1336680"/>
                <a:ext cx="12153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文化影响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Rectangle 133"/>
              <p:cNvSpPr/>
              <p:nvPr/>
            </p:nvSpPr>
            <p:spPr>
              <a:xfrm>
                <a:off x="2633400" y="2036520"/>
                <a:ext cx="86616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教养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2027160" y="1756440"/>
                <a:ext cx="1040040" cy="280440"/>
                <a:chOff x="2027160" y="1756440"/>
                <a:chExt cx="1040040" cy="280440"/>
              </a:xfrm>
            </p:grpSpPr>
            <p:cxnSp>
              <p:nvCxnSpPr>
                <p:cNvPr id="256" name="AutoShape 134"/>
                <p:cNvCxnSpPr/>
                <p:nvPr/>
              </p:nvCxnSpPr>
              <p:spPr>
                <a:xfrm>
                  <a:off x="2027160" y="1756440"/>
                  <a:ext cx="1040400" cy="280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57" name=""/>
                <p:cNvSpPr txBox="1"/>
                <p:nvPr/>
              </p:nvSpPr>
              <p:spPr>
                <a:xfrm rot="16200000">
                  <a:off x="2406960" y="1376640"/>
                  <a:ext cx="280080" cy="103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981160" y="1756080"/>
                <a:ext cx="1474920" cy="140040"/>
                <a:chOff x="2981160" y="1756080"/>
                <a:chExt cx="1474920" cy="140040"/>
              </a:xfrm>
            </p:grpSpPr>
            <p:cxnSp>
              <p:nvCxnSpPr>
                <p:cNvPr id="259" name="AutoShape 135"/>
                <p:cNvCxnSpPr/>
                <p:nvPr/>
              </p:nvCxnSpPr>
              <p:spPr>
                <a:xfrm flipH="1">
                  <a:off x="2981160" y="1756080"/>
                  <a:ext cx="1475280" cy="140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60" name=""/>
                <p:cNvSpPr txBox="1"/>
                <p:nvPr/>
              </p:nvSpPr>
              <p:spPr>
                <a:xfrm rot="5400000">
                  <a:off x="3648600" y="1088640"/>
                  <a:ext cx="140040" cy="14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1" name="Group 136"/>
              <p:cNvGrpSpPr/>
              <p:nvPr/>
            </p:nvGrpSpPr>
            <p:grpSpPr>
              <a:xfrm>
                <a:off x="3501720" y="3521880"/>
                <a:ext cx="5030640" cy="807840"/>
                <a:chOff x="3501720" y="3521880"/>
                <a:chExt cx="5030640" cy="807840"/>
              </a:xfrm>
            </p:grpSpPr>
            <p:sp>
              <p:nvSpPr>
                <p:cNvPr id="262" name="Rectangle 137"/>
                <p:cNvSpPr/>
                <p:nvPr/>
              </p:nvSpPr>
              <p:spPr>
                <a:xfrm>
                  <a:off x="3501720" y="3910680"/>
                  <a:ext cx="12139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观察和教育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Rectangle 138"/>
                <p:cNvSpPr/>
                <p:nvPr/>
              </p:nvSpPr>
              <p:spPr>
                <a:xfrm>
                  <a:off x="4762080" y="3910680"/>
                  <a:ext cx="116784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个人体验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Rectangle 139"/>
                <p:cNvSpPr/>
                <p:nvPr/>
              </p:nvSpPr>
              <p:spPr>
                <a:xfrm>
                  <a:off x="6023520" y="3910680"/>
                  <a:ext cx="112068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朋友影响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Rectangle 140"/>
                <p:cNvSpPr/>
                <p:nvPr/>
              </p:nvSpPr>
              <p:spPr>
                <a:xfrm>
                  <a:off x="7284240" y="3910680"/>
                  <a:ext cx="12481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重要事件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108320" y="3521880"/>
                  <a:ext cx="3800520" cy="389880"/>
                  <a:chOff x="4108320" y="3521880"/>
                  <a:chExt cx="3800520" cy="389880"/>
                </a:xfrm>
              </p:grpSpPr>
              <p:cxnSp>
                <p:nvCxnSpPr>
                  <p:cNvPr id="267" name="AutoShape 141"/>
                  <p:cNvCxnSpPr/>
                  <p:nvPr/>
                </p:nvCxnSpPr>
                <p:spPr>
                  <a:xfrm>
                    <a:off x="4108320" y="3910680"/>
                    <a:ext cx="38005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68" name=""/>
                  <p:cNvSpPr txBox="1"/>
                  <p:nvPr/>
                </p:nvSpPr>
                <p:spPr>
                  <a:xfrm rot="16200000">
                    <a:off x="6008400" y="2010960"/>
                    <a:ext cx="720" cy="379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5346000" y="3521880"/>
                  <a:ext cx="1238760" cy="389880"/>
                  <a:chOff x="5346000" y="3521880"/>
                  <a:chExt cx="1238760" cy="389880"/>
                </a:xfrm>
              </p:grpSpPr>
              <p:cxnSp>
                <p:nvCxnSpPr>
                  <p:cNvPr id="270" name="AutoShape 142"/>
                  <p:cNvCxnSpPr/>
                  <p:nvPr/>
                </p:nvCxnSpPr>
                <p:spPr>
                  <a:xfrm>
                    <a:off x="5346000" y="3910680"/>
                    <a:ext cx="12391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1" name=""/>
                  <p:cNvSpPr txBox="1"/>
                  <p:nvPr/>
                </p:nvSpPr>
                <p:spPr>
                  <a:xfrm rot="16200000">
                    <a:off x="5964840" y="3291840"/>
                    <a:ext cx="720" cy="123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272" name="Line 143"/>
              <p:cNvSpPr/>
              <p:nvPr/>
            </p:nvSpPr>
            <p:spPr>
              <a:xfrm>
                <a:off x="4195800" y="4336200"/>
                <a:ext cx="72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73" name="Group 144"/>
              <p:cNvGrpSpPr/>
              <p:nvPr/>
            </p:nvGrpSpPr>
            <p:grpSpPr>
              <a:xfrm>
                <a:off x="1072800" y="2709720"/>
                <a:ext cx="3990240" cy="700920"/>
                <a:chOff x="1072800" y="2709720"/>
                <a:chExt cx="3990240" cy="700920"/>
              </a:xfrm>
            </p:grpSpPr>
            <p:sp>
              <p:nvSpPr>
                <p:cNvPr id="274" name="Line 145"/>
                <p:cNvSpPr/>
                <p:nvPr/>
              </p:nvSpPr>
              <p:spPr>
                <a:xfrm>
                  <a:off x="3501720" y="34095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5" name="Rectangle 146"/>
                <p:cNvSpPr/>
                <p:nvPr/>
              </p:nvSpPr>
              <p:spPr>
                <a:xfrm>
                  <a:off x="1073160" y="2709720"/>
                  <a:ext cx="3989880" cy="699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不会被改变的信念      可以被改变的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1072800" y="3059640"/>
                  <a:ext cx="3990240" cy="1080"/>
                  <a:chOff x="1072800" y="3059640"/>
                  <a:chExt cx="3990240" cy="1080"/>
                </a:xfrm>
              </p:grpSpPr>
              <p:cxnSp>
                <p:nvCxnSpPr>
                  <p:cNvPr id="277" name="AutoShape 147"/>
                  <p:cNvCxnSpPr/>
                  <p:nvPr/>
                </p:nvCxnSpPr>
                <p:spPr>
                  <a:xfrm>
                    <a:off x="1072800" y="3059640"/>
                    <a:ext cx="399060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8" name=""/>
                  <p:cNvSpPr txBox="1"/>
                  <p:nvPr/>
                </p:nvSpPr>
                <p:spPr>
                  <a:xfrm>
                    <a:off x="1072800" y="3059640"/>
                    <a:ext cx="398988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3068280" y="3409560"/>
                  <a:ext cx="1080" cy="1080"/>
                  <a:chOff x="3068280" y="3409560"/>
                  <a:chExt cx="1080" cy="1080"/>
                </a:xfrm>
              </p:grpSpPr>
              <p:cxnSp>
                <p:nvCxnSpPr>
                  <p:cNvPr id="280" name="AutoShape 148"/>
                  <p:cNvCxnSpPr/>
                  <p:nvPr/>
                </p:nvCxnSpPr>
                <p:spPr>
                  <a:xfrm>
                    <a:off x="3068280" y="3409560"/>
                    <a:ext cx="144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81" name=""/>
                  <p:cNvSpPr txBox="1"/>
                  <p:nvPr/>
                </p:nvSpPr>
                <p:spPr>
                  <a:xfrm>
                    <a:off x="3068280" y="3409560"/>
                    <a:ext cx="72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82" name="Line 149"/>
                <p:cNvSpPr/>
                <p:nvPr/>
              </p:nvSpPr>
              <p:spPr>
                <a:xfrm>
                  <a:off x="2981160" y="3129480"/>
                  <a:ext cx="720" cy="28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83" name="Line 151"/>
              <p:cNvSpPr/>
              <p:nvPr/>
            </p:nvSpPr>
            <p:spPr>
              <a:xfrm>
                <a:off x="2113920" y="3436560"/>
                <a:ext cx="0" cy="11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" name="Line 152"/>
              <p:cNvSpPr/>
              <p:nvPr/>
            </p:nvSpPr>
            <p:spPr>
              <a:xfrm>
                <a:off x="2113920" y="5117040"/>
                <a:ext cx="0" cy="56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" name="Line 153"/>
              <p:cNvSpPr/>
              <p:nvPr/>
            </p:nvSpPr>
            <p:spPr>
              <a:xfrm>
                <a:off x="541008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Line 154"/>
              <p:cNvSpPr/>
              <p:nvPr/>
            </p:nvSpPr>
            <p:spPr>
              <a:xfrm>
                <a:off x="8012160" y="431712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7" name="Line 155"/>
              <p:cNvSpPr/>
              <p:nvPr/>
            </p:nvSpPr>
            <p:spPr>
              <a:xfrm>
                <a:off x="662436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8" name="Line 156"/>
              <p:cNvSpPr/>
              <p:nvPr/>
            </p:nvSpPr>
            <p:spPr>
              <a:xfrm>
                <a:off x="4369320" y="3436560"/>
                <a:ext cx="72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067920" y="2475720"/>
              <a:ext cx="720" cy="234360"/>
              <a:chOff x="3067920" y="2475720"/>
              <a:chExt cx="720" cy="234360"/>
            </a:xfrm>
          </p:grpSpPr>
          <p:cxnSp>
            <p:nvCxnSpPr>
              <p:cNvPr id="290" name="直接箭头连接符 248"/>
              <p:cNvCxnSpPr/>
              <p:nvPr/>
            </p:nvCxnSpPr>
            <p:spPr>
              <a:xfrm>
                <a:off x="3067920" y="2475720"/>
                <a:ext cx="1080" cy="23472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1" name=""/>
              <p:cNvSpPr txBox="1"/>
              <p:nvPr/>
            </p:nvSpPr>
            <p:spPr>
              <a:xfrm>
                <a:off x="3067920" y="2475720"/>
                <a:ext cx="360" cy="23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2FF7-673A-4957-8167-AEEDD67EC80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凯尔曼提出了态度形成的认知三阶段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仿或服从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3588-9053-41A3-86A0-5268E57BEF2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543800" cy="79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衡理论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ei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727200" y="1052640"/>
            <a:ext cx="8416800" cy="56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8470-3F95-46F7-BA98-394E7ECC4C7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3964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失调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失调是指某人在做出决定、采取行动或者接触到一些有违原先信念、情感或价值的信息之后所体验到的冲突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当人们的态度与行为不一致，并且无法对自己的行为找出外部理由时，常常会引起个体的心理紧张，为了克服这种由认知失调引起的紧张，人们需要采取多种方法，以减少自己的认知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0110-7EE6-4A09-8E3E-A114AE28980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763280" y="1719360"/>
            <a:ext cx="6923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知觉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归因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社会判断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和谐理论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38E4-226E-4CC0-B5C2-60C117E9EAF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态度与行为关系的因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获得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是行为的预测指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间因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态度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EE33-C15E-4B36-89AD-22F79ACB0A7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消费者态度的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619280" y="2133360"/>
            <a:ext cx="7067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改变与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改变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A427-C437-441F-A752-7B1C7E07DA9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1187280" y="2492280"/>
            <a:ext cx="77266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性质改变和程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有消费者态度改变和潜在消费者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购前态度改变和购后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CB6A-C8A6-456A-A134-DA0470E4408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消费者态度的概念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构成与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消费者态度的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1E6A-A8D7-4BAD-AA30-642419E0276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187280" y="2492280"/>
            <a:ext cx="77266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群体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性质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1979640" y="4005360"/>
            <a:ext cx="772632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原有态度与目标态度之间的距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对产品的参与程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态度的强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9877-F628-41BE-881C-C2AEA573108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115640" y="185688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36AE-5F49-4EED-B0CC-0522B8AAC38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94920" y="764640"/>
            <a:ext cx="7613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8138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EF65-6CBB-457E-87DC-4F2CC39DF13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94920" y="620640"/>
            <a:ext cx="76136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2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5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6769080" cy="5480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1416-9CF5-4A18-BFC4-942F28AD5FA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94920" y="76464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" descr=""/>
          <p:cNvPicPr/>
          <p:nvPr/>
        </p:nvPicPr>
        <p:blipFill>
          <a:blip r:embed="rId1"/>
          <a:stretch/>
        </p:blipFill>
        <p:spPr>
          <a:xfrm>
            <a:off x="700200" y="1989000"/>
            <a:ext cx="8443800" cy="432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0671-FD67-48E6-ABC7-C2863C11BD3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消费者态度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态度测量的定义与内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态度测量的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5294-8136-4DF7-BE33-DA90324568D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态度测量的定义与内容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763280" y="1844640"/>
            <a:ext cx="69231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行为倾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8917-6F3D-44B6-AE6F-8B3FB6CAC11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态度测量的方法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403280" y="1785960"/>
            <a:ext cx="732636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瑟斯通量表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hurstone Scal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克特量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面谈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场观察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7A25-1021-404A-B9E8-5AD4C2377A1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是后天学到的偏好，它以一贯有利或不利的方式对一个对象或一类对象做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rdon Allpo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复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矢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6699-7436-4895-9814-AF0E9601C14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000" y="1557360"/>
            <a:ext cx="84358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情感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对某个事物的感情或情绪性反应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于事物的具体或整体的信念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某事物或某项活动做出的特定反应的倾向，是根据人们对某一对象所表现出来的行为的观察而形成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1A53-1B3D-4FB8-8F92-52E9400574A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5438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000" y="980640"/>
            <a:ext cx="84358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0" name="画布 192"/>
          <p:cNvGrpSpPr/>
          <p:nvPr/>
        </p:nvGrpSpPr>
        <p:grpSpPr>
          <a:xfrm>
            <a:off x="755640" y="2060640"/>
            <a:ext cx="7561440" cy="3816000"/>
            <a:chOff x="755640" y="2060640"/>
            <a:chExt cx="7561440" cy="3816000"/>
          </a:xfrm>
        </p:grpSpPr>
        <p:sp>
          <p:nvSpPr>
            <p:cNvPr id="171" name="AutoShape 28"/>
            <p:cNvSpPr/>
            <p:nvPr/>
          </p:nvSpPr>
          <p:spPr>
            <a:xfrm>
              <a:off x="755640" y="2060640"/>
              <a:ext cx="7561440" cy="38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2" name="组合 224"/>
            <p:cNvGrpSpPr/>
            <p:nvPr/>
          </p:nvGrpSpPr>
          <p:grpSpPr>
            <a:xfrm>
              <a:off x="755640" y="2103480"/>
              <a:ext cx="7561440" cy="3773160"/>
              <a:chOff x="755640" y="2103480"/>
              <a:chExt cx="7561440" cy="3773160"/>
            </a:xfrm>
          </p:grpSpPr>
          <p:sp>
            <p:nvSpPr>
              <p:cNvPr id="173" name="Rectangle 159"/>
              <p:cNvSpPr/>
              <p:nvPr/>
            </p:nvSpPr>
            <p:spPr>
              <a:xfrm>
                <a:off x="6841800" y="2103480"/>
                <a:ext cx="1475280" cy="1148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基于认知信息加工的态度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4" name="Group 160"/>
              <p:cNvGrpSpPr/>
              <p:nvPr/>
            </p:nvGrpSpPr>
            <p:grpSpPr>
              <a:xfrm>
                <a:off x="755640" y="2431440"/>
                <a:ext cx="7561080" cy="3445200"/>
                <a:chOff x="755640" y="2431440"/>
                <a:chExt cx="7561080" cy="3445200"/>
              </a:xfrm>
            </p:grpSpPr>
            <p:sp>
              <p:nvSpPr>
                <p:cNvPr id="175" name="Oval 161"/>
                <p:cNvSpPr/>
                <p:nvPr/>
              </p:nvSpPr>
              <p:spPr>
                <a:xfrm>
                  <a:off x="755640" y="253332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" name="Rectangle 162"/>
                <p:cNvSpPr/>
                <p:nvPr/>
              </p:nvSpPr>
              <p:spPr>
                <a:xfrm>
                  <a:off x="4997160" y="251136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" name="AutoShape 163"/>
                <p:cNvSpPr/>
                <p:nvPr/>
              </p:nvSpPr>
              <p:spPr>
                <a:xfrm>
                  <a:off x="2784240" y="2431440"/>
                  <a:ext cx="129096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8" name="Oval 164"/>
                <p:cNvSpPr/>
                <p:nvPr/>
              </p:nvSpPr>
              <p:spPr>
                <a:xfrm>
                  <a:off x="755640" y="376128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" name="Rectangle 165"/>
                <p:cNvSpPr/>
                <p:nvPr/>
              </p:nvSpPr>
              <p:spPr>
                <a:xfrm>
                  <a:off x="2784240" y="376128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" name="AutoShape 166"/>
                <p:cNvSpPr/>
                <p:nvPr/>
              </p:nvSpPr>
              <p:spPr>
                <a:xfrm>
                  <a:off x="4812840" y="3674880"/>
                  <a:ext cx="128880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" name="Rectangle 167"/>
                <p:cNvSpPr/>
                <p:nvPr/>
              </p:nvSpPr>
              <p:spPr>
                <a:xfrm>
                  <a:off x="6841440" y="342900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行为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" name="Rectangle 168"/>
                <p:cNvSpPr/>
                <p:nvPr/>
              </p:nvSpPr>
              <p:spPr>
                <a:xfrm>
                  <a:off x="2784240" y="503712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" name="AutoShape 169"/>
                <p:cNvSpPr/>
                <p:nvPr/>
              </p:nvSpPr>
              <p:spPr>
                <a:xfrm>
                  <a:off x="755640" y="4957200"/>
                  <a:ext cx="1286640" cy="66384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4" name="Rectangle 170"/>
                <p:cNvSpPr/>
                <p:nvPr/>
              </p:nvSpPr>
              <p:spPr>
                <a:xfrm>
                  <a:off x="6841440" y="471096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感情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074480" y="2762640"/>
                  <a:ext cx="922680" cy="1080"/>
                  <a:chOff x="4074480" y="2762640"/>
                  <a:chExt cx="922680" cy="1080"/>
                </a:xfrm>
              </p:grpSpPr>
              <p:cxnSp>
                <p:nvCxnSpPr>
                  <p:cNvPr id="186" name="AutoShape 171"/>
                  <p:cNvCxnSpPr/>
                  <p:nvPr/>
                </p:nvCxnSpPr>
                <p:spPr>
                  <a:xfrm flipV="1">
                    <a:off x="4074840" y="27626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87" name=""/>
                  <p:cNvSpPr txBox="1"/>
                  <p:nvPr/>
                </p:nvSpPr>
                <p:spPr>
                  <a:xfrm rot="10800000">
                    <a:off x="4074480" y="276300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1861560" y="2763360"/>
                  <a:ext cx="922680" cy="20520"/>
                  <a:chOff x="1861560" y="2763360"/>
                  <a:chExt cx="922680" cy="20520"/>
                </a:xfrm>
              </p:grpSpPr>
              <p:cxnSp>
                <p:nvCxnSpPr>
                  <p:cNvPr id="189" name="AutoShape 172"/>
                  <p:cNvCxnSpPr/>
                  <p:nvPr/>
                </p:nvCxnSpPr>
                <p:spPr>
                  <a:xfrm flipV="1">
                    <a:off x="1861920" y="2763360"/>
                    <a:ext cx="922680" cy="208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0" name=""/>
                  <p:cNvSpPr txBox="1"/>
                  <p:nvPr/>
                </p:nvSpPr>
                <p:spPr>
                  <a:xfrm rot="10800000">
                    <a:off x="1861560" y="2763720"/>
                    <a:ext cx="921960" cy="20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6640" bIns="-266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6102720" y="2750760"/>
                  <a:ext cx="739080" cy="11880"/>
                  <a:chOff x="6102720" y="2750760"/>
                  <a:chExt cx="739080" cy="11880"/>
                </a:xfrm>
              </p:grpSpPr>
              <p:cxnSp>
                <p:nvCxnSpPr>
                  <p:cNvPr id="192" name="AutoShape 173"/>
                  <p:cNvCxnSpPr/>
                  <p:nvPr/>
                </p:nvCxnSpPr>
                <p:spPr>
                  <a:xfrm flipV="1">
                    <a:off x="6102720" y="2750760"/>
                    <a:ext cx="739440" cy="122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3" name=""/>
                  <p:cNvSpPr txBox="1"/>
                  <p:nvPr/>
                </p:nvSpPr>
                <p:spPr>
                  <a:xfrm rot="10800000">
                    <a:off x="6102720" y="2751120"/>
                    <a:ext cx="738720" cy="1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861920" y="4011840"/>
                  <a:ext cx="922320" cy="1080"/>
                  <a:chOff x="1861920" y="4011840"/>
                  <a:chExt cx="922320" cy="1080"/>
                </a:xfrm>
              </p:grpSpPr>
              <p:cxnSp>
                <p:nvCxnSpPr>
                  <p:cNvPr id="195" name="AutoShape 174"/>
                  <p:cNvCxnSpPr/>
                  <p:nvPr/>
                </p:nvCxnSpPr>
                <p:spPr>
                  <a:xfrm>
                    <a:off x="1861920" y="40118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6" name=""/>
                  <p:cNvSpPr txBox="1"/>
                  <p:nvPr/>
                </p:nvSpPr>
                <p:spPr>
                  <a:xfrm>
                    <a:off x="1861920" y="401184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3889440" y="4007160"/>
                  <a:ext cx="923400" cy="5400"/>
                  <a:chOff x="3889440" y="4007160"/>
                  <a:chExt cx="923400" cy="5400"/>
                </a:xfrm>
              </p:grpSpPr>
              <p:cxnSp>
                <p:nvCxnSpPr>
                  <p:cNvPr id="198" name="AutoShape 175"/>
                  <p:cNvCxnSpPr/>
                  <p:nvPr/>
                </p:nvCxnSpPr>
                <p:spPr>
                  <a:xfrm flipV="1">
                    <a:off x="3889440" y="4007160"/>
                    <a:ext cx="923760" cy="57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9" name=""/>
                  <p:cNvSpPr txBox="1"/>
                  <p:nvPr/>
                </p:nvSpPr>
                <p:spPr>
                  <a:xfrm rot="10800000">
                    <a:off x="3889440" y="4007520"/>
                    <a:ext cx="923040" cy="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1760" bIns="-41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6101640" y="4007520"/>
                  <a:ext cx="739800" cy="4680"/>
                  <a:chOff x="6101640" y="4007520"/>
                  <a:chExt cx="739800" cy="4680"/>
                </a:xfrm>
              </p:grpSpPr>
              <p:cxnSp>
                <p:nvCxnSpPr>
                  <p:cNvPr id="201" name="AutoShape 176"/>
                  <p:cNvCxnSpPr/>
                  <p:nvPr/>
                </p:nvCxnSpPr>
                <p:spPr>
                  <a:xfrm>
                    <a:off x="6101640" y="4007520"/>
                    <a:ext cx="740160" cy="50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2" name=""/>
                  <p:cNvSpPr txBox="1"/>
                  <p:nvPr/>
                </p:nvSpPr>
                <p:spPr>
                  <a:xfrm>
                    <a:off x="6101640" y="4007520"/>
                    <a:ext cx="739440" cy="4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2480" bIns="-42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03" name="Oval 177"/>
                <p:cNvSpPr/>
                <p:nvPr/>
              </p:nvSpPr>
              <p:spPr>
                <a:xfrm>
                  <a:off x="4812840" y="5052960"/>
                  <a:ext cx="1106280" cy="499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2042280" y="5288400"/>
                  <a:ext cx="741960" cy="1080"/>
                  <a:chOff x="2042280" y="5288400"/>
                  <a:chExt cx="741960" cy="1080"/>
                </a:xfrm>
              </p:grpSpPr>
              <p:cxnSp>
                <p:nvCxnSpPr>
                  <p:cNvPr id="205" name="AutoShape 178"/>
                  <p:cNvCxnSpPr/>
                  <p:nvPr/>
                </p:nvCxnSpPr>
                <p:spPr>
                  <a:xfrm flipV="1">
                    <a:off x="2042280" y="5288400"/>
                    <a:ext cx="7423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6" name=""/>
                  <p:cNvSpPr txBox="1"/>
                  <p:nvPr/>
                </p:nvSpPr>
                <p:spPr>
                  <a:xfrm rot="10800000">
                    <a:off x="2042280" y="5288760"/>
                    <a:ext cx="74160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3889440" y="5288760"/>
                  <a:ext cx="923400" cy="14760"/>
                  <a:chOff x="3889440" y="5288760"/>
                  <a:chExt cx="923400" cy="14760"/>
                </a:xfrm>
              </p:grpSpPr>
              <p:cxnSp>
                <p:nvCxnSpPr>
                  <p:cNvPr id="208" name="AutoShape 179"/>
                  <p:cNvCxnSpPr/>
                  <p:nvPr/>
                </p:nvCxnSpPr>
                <p:spPr>
                  <a:xfrm>
                    <a:off x="3889440" y="5288760"/>
                    <a:ext cx="923760" cy="151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9" name=""/>
                  <p:cNvSpPr txBox="1"/>
                  <p:nvPr/>
                </p:nvSpPr>
                <p:spPr>
                  <a:xfrm>
                    <a:off x="3889440" y="5288760"/>
                    <a:ext cx="923040" cy="14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2400" bIns="-32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5918760" y="5293800"/>
                  <a:ext cx="922680" cy="9720"/>
                  <a:chOff x="5918760" y="5293800"/>
                  <a:chExt cx="922680" cy="9720"/>
                </a:xfrm>
              </p:grpSpPr>
              <p:cxnSp>
                <p:nvCxnSpPr>
                  <p:cNvPr id="211" name="AutoShape 180"/>
                  <p:cNvCxnSpPr/>
                  <p:nvPr/>
                </p:nvCxnSpPr>
                <p:spPr>
                  <a:xfrm flipV="1">
                    <a:off x="5919120" y="5293800"/>
                    <a:ext cx="922680" cy="10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12" name=""/>
                  <p:cNvSpPr txBox="1"/>
                  <p:nvPr/>
                </p:nvSpPr>
                <p:spPr>
                  <a:xfrm rot="10800000">
                    <a:off x="5918760" y="5294160"/>
                    <a:ext cx="921960" cy="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7440" bIns="-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213" name="Rectangle 181"/>
            <p:cNvSpPr/>
            <p:nvPr/>
          </p:nvSpPr>
          <p:spPr>
            <a:xfrm>
              <a:off x="859680" y="2156760"/>
              <a:ext cx="1409040" cy="3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标准学习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82"/>
            <p:cNvSpPr/>
            <p:nvPr/>
          </p:nvSpPr>
          <p:spPr>
            <a:xfrm>
              <a:off x="911880" y="3378960"/>
              <a:ext cx="1409040" cy="35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低介入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83"/>
            <p:cNvSpPr/>
            <p:nvPr/>
          </p:nvSpPr>
          <p:spPr>
            <a:xfrm>
              <a:off x="898920" y="4540320"/>
              <a:ext cx="1409040" cy="35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经验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7B76-610E-479A-99F9-B162DF8DFF1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042920" y="2060640"/>
            <a:ext cx="778824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应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识别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卫功能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B6AE-CBF9-40A6-8AB5-6A733BFB7B3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692000" y="1915920"/>
            <a:ext cx="699444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8372-5ED3-4515-A44F-79D9C492A5B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0920" y="1268280"/>
            <a:ext cx="7705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个要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属性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ttribute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念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elief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要性权重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Importance Weight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费舍宾模型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ishbein Mode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∑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3748-B6C6-4522-ADD0-195C3FA87F6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620640"/>
            <a:ext cx="6994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459640" cy="4546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4:49:34Z</dcterms:created>
  <dc:creator>zhangbo</dc:creator>
  <dc:description/>
  <dc:language>en-US</dc:language>
  <cp:lastModifiedBy>Administrator</cp:lastModifiedBy>
  <dcterms:modified xsi:type="dcterms:W3CDTF">2015-09-02T10:25:42Z</dcterms:modified>
  <cp:revision>25</cp:revision>
  <dc:subject/>
  <dc:title>第四章 消费者的态度的形成、改变与测量</dc:title>
</cp:coreProperties>
</file>