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901E2-8E45-4F89-B8DD-A09179C7FB11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D13687-C2C2-4100-BE46-102BF38E6427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F8A037-BC13-437E-8EE1-9D1F90FF90C3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43FC2-A3D9-4F69-8F78-DACC85B30E1D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C65346-B371-4CB9-9469-A96DE46C9182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FDA50F-94A4-4CC0-A595-25A0215EE3DF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6148C-48D8-44D3-B3FD-A50E50371D25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CC1B53-A912-4D78-870A-7789594355E6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7FB5CD-DDA9-4697-A9C8-7662176767FA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EA7DCD-F6C2-4A5A-9EAF-108FA1456BB9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14AC7-B4D2-4C64-9DE3-9841876CAE0A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EA6D23-8780-4993-BE2F-BB43FAF3BF51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70C-9498-4648-84B9-94DC541F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D383-E4D5-456E-A417-628A0DDA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A8AA-16D0-45FA-8C53-443161AD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21D1-38AA-458E-9BCA-F460A08B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9367-BDA2-4E7A-A0ED-3C5995E6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C1C1-75D7-4B34-97FF-DD2CE320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2586-547B-401F-BB3E-4A1D3449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F208-BC70-4BC4-B7C8-1B67CADA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46C4-5C25-4D09-BABC-C98AE509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E404-83F4-42D1-AAF5-401362B5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5D62-AB41-4295-AB87-6F4AAF06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C1AE-3E66-4B5D-B388-3067EF76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57A1-4584-4621-A398-8C6EB852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F2C1-A833-4139-B1CB-FA535EDA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B6C0-5F72-40C7-AF9F-61B73A61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E1E0-0FFA-4A9C-B6C4-3246E95C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3765-6BC0-4A8E-B62B-4D13983C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EE46B-1D0E-49A2-A1B5-5BA4C84B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F55B5-3A1E-4E78-997D-B2585122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BD3A7-A0FD-4EB3-A1D6-472ED33E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90AED-9FEB-4317-8F90-20F28021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49FFA-F6CE-4945-B51F-3A5BF65B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365F-6D25-460F-AF19-0AAAD16D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72F9D-2097-4BA3-8C33-4EF40428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98F61-0240-44F0-A925-53510D36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F47F6-D4E1-4149-9D9B-F2C00091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815B0-9924-48BA-A6AA-91BC5AFC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4ED1A-BAC6-4CDA-936E-6BCE46AA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B4224-6B3E-4DAD-A725-0B385312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659DA-C2EE-4AAE-8CCF-1467268B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5622C-AB17-42F4-9A24-615BA131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E4337-4C2F-47C2-8A26-1EA01CE6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E10B0-9158-4259-8D2D-D8643E1D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1A1B-C614-4501-AB5A-4FC5A3E8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8AA3D-E93F-4BE9-AA8A-F6BBB629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B7F49-BCA9-4FC5-AF69-3B25220F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4E211-4501-4D28-B9C7-DF06961B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3FC44-9868-49DA-A98A-9B5B7936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8C757-5B8F-4C90-8532-2E86E0B0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7E51B-7EC3-41BE-ADDC-540FF7FC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BF430-2542-4957-A8DD-3AE09989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F876F-743F-47A9-B843-8DE46424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3FA4F-3CBD-49FF-90C9-9BFEEF5F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2343-25B6-4F77-BB3C-C398C356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78DC-38C1-4981-8475-8B7E8395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3D41-8331-449E-95A0-FB7C934F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E734-36F3-4936-9824-E5AF8EE6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47B3-CFBF-4085-9F2D-5854E1CA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072DA-A063-4FDA-9E59-3090E96A6C99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8D2821-176D-49C0-B188-AE47D5563750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C9E782-81F4-4FD8-BA24-582934038CA0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DE358-DF07-4093-86B2-E7E5D711030D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30400" y="1844280"/>
            <a:ext cx="582768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十一章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7640" y="3500280"/>
            <a:ext cx="8496360" cy="16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国际结算的单据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以及单据审核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四、其他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检验证明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产地证明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装箱单和重量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船公司证明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五、单据审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原则：单证相符和单单相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审单自动化趋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对不符点的处理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、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商业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形式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关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领事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二、货运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的内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当事人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arri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hipp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signe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fying par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分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已装船海运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清洁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记名提单和指示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倒签提单和预借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的国际公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牙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维斯比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汉堡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空运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铁路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邮包收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5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多式联运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保险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全损和部分损失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共同海损和单独海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承保险别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基本险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PA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，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WA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，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LL RISK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附加险：一般附加险和特别附加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险单据种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险单和保险凭证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流动保单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loating Policy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）和 预约保单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open Policy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14:40:37Z</dcterms:created>
  <dc:creator>lixiaojie</dc:creator>
  <dc:description/>
  <cp:keywords/>
  <dc:language>en-US</dc:language>
  <cp:lastModifiedBy>li carrie</cp:lastModifiedBy>
  <cp:lastPrinted>1899-12-30T00:00:00Z</cp:lastPrinted>
  <dcterms:modified xsi:type="dcterms:W3CDTF">2023-07-26T04:00:17Z</dcterms:modified>
  <cp:revision>8</cp:revision>
  <dc:subject/>
  <dc:title>第十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