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4277C-768F-4DF2-ACBF-B40369D5C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75EB7-A9FF-4A8E-B50B-8E7855640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D2440-FE17-4649-81B7-9D6822C29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3112C-DE9E-443E-84F3-4C1956835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D6D06-5B51-49A1-B720-132AAE970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F6AB1-5A90-44D6-8B5C-60DAAA8BD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CB02C-818F-4501-8D09-A1A38D73B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CC8B9-A890-4B33-93F8-E4BA1EEED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C220F-8793-4CE8-AF3B-2A0D987BE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6459B-F719-49C8-B1E4-42A00FBEB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56AC6-782C-41D6-8FD5-6BA36B8FF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EFAF6-7059-4FCF-918E-A201F6645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13FD4-B9E4-4A40-B1E6-6CFD52CB0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16EE7-E399-4347-9719-8CA105B9C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1768E-62A9-4A9F-8C47-554B3BEB7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E8262-47FB-418D-800D-A58CBC792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1F04E-158E-4788-8A56-FF799AB1A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57A7A4-D01F-41E0-A922-17A2250FD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4B87A4-A1C5-448F-B8E5-D8149C131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E02D4B-3BB3-418B-8D17-12A0B7051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249839-C799-4E4E-AFC0-B490B5FCC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412F43-5FE4-419F-AB64-C7CE03D79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FDBEA-F915-41B2-9EFB-779A359E9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1744CB-1469-4A9D-8B57-798ED68EB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E6004E-475C-495C-BE65-CEDD75E97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7451DE-19D1-4DF2-911B-163140622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530608-0124-4D1A-A328-7275283B5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289FFD-B48A-4CF5-8DE8-44800D5DA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16573E-052D-4290-9E9E-5D5834B80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41A7B4-8207-4347-9EF1-194392A2C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4950FE-27A6-4F31-B9BB-D4B69C8B2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EE8468-E5A8-4EEB-A2B1-26CFC8D45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8B37C2-BCD5-445C-B4A0-B908444C4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A7A79-9433-44CE-9BF0-7EA3E9717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82C5E7-03F3-4B19-8F7D-DB852F31B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4F3366-6158-4785-8AEE-D1AF2BC76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A68E20-B67C-4141-B921-6333DFC78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75E881-1338-4C2B-ACEA-D00A71AE8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52F448-43D6-4B97-BFDD-BCF927807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384181-950D-42AD-83D7-7E4A54320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9011D7-0ADB-42FA-9F10-7C26ACC9A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885D30-264D-4EA2-A3C1-3B6F4E79D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93F38C-27D9-40AA-95E0-E01F729C9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DCA2F-B00C-497E-8F73-1696010CE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77ED1-74FD-42C2-896F-454E27D9A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C6B37-87E0-4222-B304-081975390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21F56-1DC2-468C-96FC-4A2A085E1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84CB1-5A65-42AB-B3BE-FB67E33DF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93FAE-E359-4F8E-A946-AE8F0CEEE64A}" type="slidenum">
              <a:rPr b="0" lang="zh-CN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16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Straight Connector 17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8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9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20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21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23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280" cy="569736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627AC-CC51-449C-882B-D9D31EB8A7C4}" type="slidenum">
              <a:rPr b="0" lang="zh-CN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TextBox 23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24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B0DD1-31F1-4191-BBDC-BD63EBCE7375}" type="slidenum">
              <a:rPr b="0" lang="zh-CN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TextBox 23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24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EA757-EAC6-4F3F-8546-C00695E727F9}" type="slidenum">
              <a:rPr b="0" lang="zh-CN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30400" y="2404800"/>
            <a:ext cx="5827680" cy="164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5400" spc="-1" strike="noStrike">
                <a:solidFill>
                  <a:srgbClr val="90c226"/>
                </a:solidFill>
                <a:latin typeface="Times New Roman"/>
              </a:rPr>
              <a:t>第二章</a:t>
            </a:r>
            <a:endParaRPr b="0" lang="en-US" sz="5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130400" y="4051080"/>
            <a:ext cx="5827680" cy="109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4400" spc="-1" strike="noStrike">
                <a:solidFill>
                  <a:srgbClr val="7f7f7f"/>
                </a:solidFill>
                <a:latin typeface="Times New Roman"/>
              </a:rPr>
              <a:t>票据概述</a:t>
            </a:r>
            <a:endParaRPr b="0" lang="en-US" sz="4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900" spc="-1" strike="noStrike">
                <a:solidFill>
                  <a:srgbClr val="404040"/>
                </a:solidFill>
                <a:latin typeface="Times New Roman"/>
              </a:rPr>
              <a:t>（三）票据的丧失与票据权利补救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900" spc="-1" strike="noStrike">
                <a:solidFill>
                  <a:srgbClr val="404040"/>
                </a:solidFill>
                <a:latin typeface="Times New Roman"/>
              </a:rPr>
              <a:t>1.   </a:t>
            </a:r>
            <a:r>
              <a:rPr b="0" lang="zh-CN" sz="1900" spc="-1" strike="noStrike">
                <a:solidFill>
                  <a:srgbClr val="404040"/>
                </a:solidFill>
                <a:latin typeface="Times New Roman"/>
              </a:rPr>
              <a:t>票据的丧失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900" spc="-1" strike="noStrike">
                <a:solidFill>
                  <a:srgbClr val="404040"/>
                </a:solidFill>
                <a:latin typeface="Times New Roman"/>
              </a:rPr>
              <a:t>2.   </a:t>
            </a:r>
            <a:r>
              <a:rPr b="0" lang="zh-CN" sz="1900" spc="-1" strike="noStrike">
                <a:solidFill>
                  <a:srgbClr val="404040"/>
                </a:solidFill>
                <a:latin typeface="Times New Roman"/>
              </a:rPr>
              <a:t>票据权利的补救措施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900" spc="-1" strike="noStrike">
                <a:solidFill>
                  <a:srgbClr val="404040"/>
                </a:solidFill>
                <a:latin typeface="Times New Roman"/>
              </a:rPr>
              <a:t>公示催告制度，尤以德国与日本为代表；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900" spc="-1" strike="noStrike">
                <a:solidFill>
                  <a:srgbClr val="404040"/>
                </a:solidFill>
                <a:latin typeface="Times New Roman"/>
              </a:rPr>
              <a:t>    </a:t>
            </a:r>
            <a:r>
              <a:rPr b="0" lang="zh-CN" sz="1900" spc="-1" strike="noStrike">
                <a:solidFill>
                  <a:srgbClr val="404040"/>
                </a:solidFill>
                <a:latin typeface="Times New Roman"/>
              </a:rPr>
              <a:t>公告、除权判决、实现票据权利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900" spc="-1" strike="noStrike">
                <a:solidFill>
                  <a:srgbClr val="404040"/>
                </a:solidFill>
                <a:latin typeface="Times New Roman"/>
              </a:rPr>
              <a:t>普通诉讼制度，尤以美国为代表。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900" spc="-1" strike="noStrike">
                <a:solidFill>
                  <a:srgbClr val="404040"/>
                </a:solidFill>
                <a:latin typeface="Times New Roman"/>
              </a:rPr>
              <a:t>     </a:t>
            </a:r>
            <a:r>
              <a:rPr b="0" lang="zh-CN" sz="1900" spc="-1" strike="noStrike">
                <a:solidFill>
                  <a:srgbClr val="404040"/>
                </a:solidFill>
                <a:latin typeface="Times New Roman"/>
              </a:rPr>
              <a:t>实现付款请求权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900" spc="-1" strike="noStrike">
                <a:solidFill>
                  <a:srgbClr val="404040"/>
                </a:solidFill>
                <a:latin typeface="Times New Roman"/>
              </a:rPr>
              <a:t> 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900" spc="-1" strike="noStrike">
                <a:solidFill>
                  <a:srgbClr val="404040"/>
                </a:solidFill>
                <a:latin typeface="Times New Roman"/>
              </a:rPr>
              <a:t>（四）票据权利时效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</a:rPr>
              <a:t> 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</a:rPr>
              <a:t>二、利益返还权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250560" y="2060640"/>
            <a:ext cx="8210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800" spc="-1" strike="noStrike">
                <a:solidFill>
                  <a:srgbClr val="404040"/>
                </a:solidFill>
                <a:latin typeface="Times New Roman"/>
              </a:rPr>
              <a:t>三、票据抗辩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800" spc="-1" strike="noStrike">
                <a:solidFill>
                  <a:srgbClr val="404040"/>
                </a:solidFill>
                <a:latin typeface="Times New Roman"/>
              </a:rPr>
              <a:t>（一）票据抗辩的概念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800" spc="-1" strike="noStrike">
                <a:solidFill>
                  <a:srgbClr val="404040"/>
                </a:solidFill>
                <a:latin typeface="Arial"/>
              </a:rPr>
              <a:t> </a:t>
            </a:r>
            <a:r>
              <a:rPr b="0" lang="en-US" sz="2800" spc="-1" strike="noStrike">
                <a:solidFill>
                  <a:srgbClr val="404040"/>
                </a:solidFill>
                <a:latin typeface="Arial"/>
              </a:rPr>
              <a:t>1.</a:t>
            </a:r>
            <a:r>
              <a:rPr b="0" lang="zh-CN" sz="2800" spc="-1" strike="noStrike">
                <a:solidFill>
                  <a:srgbClr val="404040"/>
                </a:solidFill>
                <a:latin typeface="Times New Roman"/>
              </a:rPr>
              <a:t>对人抗辩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404040"/>
                </a:solidFill>
                <a:latin typeface="Times New Roman"/>
              </a:rPr>
              <a:t>2. </a:t>
            </a:r>
            <a:r>
              <a:rPr b="0" lang="zh-CN" sz="2800" spc="-1" strike="noStrike">
                <a:solidFill>
                  <a:srgbClr val="404040"/>
                </a:solidFill>
                <a:latin typeface="Times New Roman"/>
              </a:rPr>
              <a:t>对物抗辩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400" spc="-1" strike="noStrike">
                <a:solidFill>
                  <a:srgbClr val="404040"/>
                </a:solidFill>
                <a:latin typeface="Times New Roman"/>
              </a:rPr>
              <a:t>对人抗辩事由主要有：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Wingdings"/>
                <a:ea typeface="Wingdings"/>
              </a:rPr>
              <a:t></a:t>
            </a: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        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404040"/>
                </a:solidFill>
                <a:latin typeface="Times New Roman"/>
              </a:rPr>
              <a:t>欠缺原因关系或者非法原因关系。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Arial"/>
              </a:rPr>
              <a:t> </a:t>
            </a:r>
            <a:r>
              <a:rPr b="0" lang="zh-CN" sz="2200" spc="-1" strike="noStrike">
                <a:solidFill>
                  <a:srgbClr val="404040"/>
                </a:solidFill>
                <a:latin typeface="Times New Roman"/>
              </a:rPr>
              <a:t>对物抗辩事由一般根据票据法的有关规定提出的，主要有：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200" spc="-1" strike="noStrike">
                <a:solidFill>
                  <a:srgbClr val="404040"/>
                </a:solidFill>
                <a:latin typeface="Times New Roman"/>
              </a:rPr>
              <a:t>欠缺应记载的事项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200" spc="-1" strike="noStrike">
                <a:solidFill>
                  <a:srgbClr val="404040"/>
                </a:solidFill>
                <a:latin typeface="Times New Roman"/>
              </a:rPr>
              <a:t>票据未到期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zh-CN" sz="2200" spc="-1" strike="noStrike">
                <a:solidFill>
                  <a:srgbClr val="404040"/>
                </a:solidFill>
                <a:latin typeface="Times New Roman"/>
              </a:rPr>
              <a:t>票据时效届满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imes New Roman"/>
              </a:rPr>
              <a:t> </a:t>
            </a:r>
            <a:r>
              <a:rPr b="0" lang="zh-CN" sz="2200" spc="-1" strike="noStrike">
                <a:solidFill>
                  <a:srgbClr val="404040"/>
                </a:solidFill>
                <a:latin typeface="Times New Roman"/>
              </a:rPr>
              <a:t>票据债务人欠缺行为能力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imes New Roman"/>
              </a:rPr>
              <a:t> </a:t>
            </a:r>
            <a:r>
              <a:rPr b="0" lang="zh-CN" sz="2200" spc="-1" strike="noStrike">
                <a:solidFill>
                  <a:srgbClr val="404040"/>
                </a:solidFill>
                <a:latin typeface="Times New Roman"/>
              </a:rPr>
              <a:t>票据无权代理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200" spc="-1" strike="noStrike">
                <a:solidFill>
                  <a:srgbClr val="404040"/>
                </a:solidFill>
                <a:latin typeface="Times New Roman"/>
              </a:rPr>
              <a:t>票据伪造或者变造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200" spc="-1" strike="noStrike">
                <a:solidFill>
                  <a:srgbClr val="404040"/>
                </a:solidFill>
                <a:latin typeface="Times New Roman"/>
              </a:rPr>
              <a:t>票据保全手续欠缺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200" spc="-1" strike="noStrike">
                <a:solidFill>
                  <a:srgbClr val="404040"/>
                </a:solidFill>
                <a:latin typeface="Trebuchet MS"/>
              </a:rPr>
              <a:t>      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</a:rPr>
              <a:t>（二）票据抗辩的限制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</a:rPr>
              <a:t>小结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</a:rPr>
              <a:t>练习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600" spc="-1" strike="noStrike">
                <a:solidFill>
                  <a:srgbClr val="90c226"/>
                </a:solidFill>
                <a:latin typeface="Times New Roman"/>
              </a:rPr>
              <a:t>第一节</a:t>
            </a:r>
            <a:r>
              <a:rPr b="0" lang="zh-CN" sz="3600" spc="-1" strike="noStrike">
                <a:solidFill>
                  <a:srgbClr val="90c226"/>
                </a:solidFill>
                <a:latin typeface="Arial"/>
              </a:rPr>
              <a:t>   </a:t>
            </a:r>
            <a:r>
              <a:rPr b="0" lang="zh-CN" sz="3600" spc="-1" strike="noStrike">
                <a:solidFill>
                  <a:srgbClr val="90c226"/>
                </a:solidFill>
                <a:latin typeface="Times New Roman"/>
              </a:rPr>
              <a:t> 票据的概念及特性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800" spc="-1" strike="noStrike">
                <a:solidFill>
                  <a:srgbClr val="404040"/>
                </a:solidFill>
                <a:latin typeface="Times New Roman"/>
              </a:rPr>
              <a:t>一、票据的概念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800" spc="-1" strike="noStrike">
                <a:solidFill>
                  <a:srgbClr val="404040"/>
                </a:solidFill>
                <a:latin typeface="Times New Roman"/>
              </a:rPr>
              <a:t>票据，就是指出票人签发的，无条件的承诺由自己或委托他人支付一定金额的有价证券。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</a:rPr>
              <a:t>二、票据主要特性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 algn="just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</a:rPr>
              <a:t>要式性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</a:rPr>
              <a:t>形式要件齐全、记载合乎规范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 algn="just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</a:rPr>
              <a:t>无因性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</a:rPr>
              <a:t>票据产生具有原因关系，如基础贸易合同，资金关系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 algn="just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 algn="just"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</a:rPr>
              <a:t>流通转让性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</a:rPr>
              <a:t>票据流通转让形式：仅凭交付完成转让或者背书转让；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</a:rPr>
              <a:t>票据流通转让的受让人，其所拥有的票据权利可能超越其前手；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</a:rPr>
              <a:t>设权性和文义性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09120" y="227628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</a:rPr>
              <a:t>三、票据的功能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</a:rPr>
              <a:t>1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</a:rPr>
              <a:t>．  支付功能（支票）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</a:rPr>
              <a:t>2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</a:rPr>
              <a:t>．  信用功能（汇票）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</a:rPr>
              <a:t>3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</a:rPr>
              <a:t>．  流通功能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56920" y="860400"/>
            <a:ext cx="7754760" cy="62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90c226"/>
                </a:solidFill>
                <a:latin typeface="Times New Roman"/>
              </a:rPr>
              <a:t>  </a:t>
            </a:r>
            <a:r>
              <a:rPr b="0" lang="zh-CN" sz="3200" spc="-1" strike="noStrike">
                <a:solidFill>
                  <a:srgbClr val="90c226"/>
                </a:solidFill>
                <a:latin typeface="Times New Roman"/>
              </a:rPr>
              <a:t>第二节</a:t>
            </a:r>
            <a:r>
              <a:rPr b="0" lang="zh-CN" sz="3200" spc="-1" strike="noStrike">
                <a:solidFill>
                  <a:srgbClr val="90c226"/>
                </a:solidFill>
                <a:latin typeface="Arial"/>
              </a:rPr>
              <a:t>   </a:t>
            </a:r>
            <a:r>
              <a:rPr b="0" lang="zh-CN" sz="3200" spc="-1" strike="noStrike">
                <a:solidFill>
                  <a:srgbClr val="90c226"/>
                </a:solidFill>
                <a:latin typeface="Times New Roman"/>
              </a:rPr>
              <a:t> 票据法</a:t>
            </a: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</a:rPr>
              <a:t>     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</a:rPr>
              <a:t>一、票据法概念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</a:rPr>
              <a:t>   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</a:rPr>
              <a:t>票据法就是规定票据种类、票据行为以及票据当事人权利义务等内容的法律规范的总称。票据法包括广义的和狭义的票据法。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</a:rPr>
              <a:t>二、西方各国的票据法（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</a:rPr>
              <a:t>1930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</a:rPr>
              <a:t>以前）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</a:rPr>
              <a:t>（一）</a:t>
            </a:r>
            <a:r>
              <a:rPr b="0" lang="zh-CN" sz="1800" spc="-1" strike="noStrike">
                <a:solidFill>
                  <a:srgbClr val="404040"/>
                </a:solidFill>
                <a:latin typeface="Arial"/>
              </a:rPr>
              <a:t>  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</a:rPr>
              <a:t> 法国法系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</a:rPr>
              <a:t>（二）</a:t>
            </a:r>
            <a:r>
              <a:rPr b="0" lang="zh-CN" sz="1800" spc="-1" strike="noStrike">
                <a:solidFill>
                  <a:srgbClr val="404040"/>
                </a:solidFill>
                <a:latin typeface="Arial"/>
              </a:rPr>
              <a:t>  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</a:rPr>
              <a:t> 德国法系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</a:rPr>
              <a:t>（三）</a:t>
            </a:r>
            <a:r>
              <a:rPr b="0" lang="zh-CN" sz="1800" spc="-1" strike="noStrike">
                <a:solidFill>
                  <a:srgbClr val="404040"/>
                </a:solidFill>
                <a:latin typeface="Arial"/>
              </a:rPr>
              <a:t>  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</a:rPr>
              <a:t> 英国法系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zh-CN" sz="3600" spc="-1" strike="noStrike">
              <a:solidFill>
                <a:srgbClr val="90c226"/>
              </a:solidFill>
              <a:latin typeface="仿宋_GB2312"/>
              <a:ea typeface="仿宋_GB2312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900" spc="-1" strike="noStrike">
                <a:solidFill>
                  <a:srgbClr val="404040"/>
                </a:solidFill>
                <a:latin typeface="Trebuchet MS"/>
              </a:rPr>
              <a:t>三、统一票据法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404040"/>
                </a:solidFill>
                <a:latin typeface="仿宋_GB2312"/>
                <a:ea typeface="仿宋_GB2312"/>
              </a:rPr>
              <a:t>  </a:t>
            </a:r>
            <a:r>
              <a:rPr b="0" lang="zh-CN" sz="1900" spc="-1" strike="noStrike">
                <a:solidFill>
                  <a:srgbClr val="404040"/>
                </a:solidFill>
                <a:latin typeface="Trebuchet MS"/>
              </a:rPr>
              <a:t>（一）大陆法系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900" spc="-1" strike="noStrike">
                <a:solidFill>
                  <a:srgbClr val="404040"/>
                </a:solidFill>
                <a:latin typeface="Trebuchet MS"/>
              </a:rPr>
              <a:t>《统一汇票本票法公约》、《解决汇票本票法律冲突公约》和《汇票本票印花税法公约》《统一支票法公约》、《解决支票法律冲突公约》、《支票印花税法公约》。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900" spc="-1" strike="noStrike">
                <a:solidFill>
                  <a:srgbClr val="404040"/>
                </a:solidFill>
                <a:latin typeface="Trebuchet MS"/>
              </a:rPr>
              <a:t>  </a:t>
            </a:r>
            <a:r>
              <a:rPr b="0" lang="zh-CN" sz="1900" spc="-1" strike="noStrike">
                <a:solidFill>
                  <a:srgbClr val="404040"/>
                </a:solidFill>
                <a:latin typeface="Trebuchet MS"/>
              </a:rPr>
              <a:t>（二）大陆法系与英美法系的分歧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900" spc="-1" strike="noStrike">
                <a:solidFill>
                  <a:srgbClr val="404040"/>
                </a:solidFill>
                <a:latin typeface="Trebuchet MS"/>
              </a:rPr>
              <a:t>  </a:t>
            </a:r>
            <a:r>
              <a:rPr b="0" lang="zh-CN" sz="1900" spc="-1" strike="noStrike">
                <a:solidFill>
                  <a:srgbClr val="404040"/>
                </a:solidFill>
                <a:latin typeface="Trebuchet MS"/>
              </a:rPr>
              <a:t>（三）国际汇票和本票公约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900" spc="-1" strike="noStrike">
                <a:solidFill>
                  <a:srgbClr val="404040"/>
                </a:solidFill>
                <a:latin typeface="Trebuchet MS"/>
              </a:rPr>
              <a:t>四、我国票据法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600" spc="-1" strike="noStrike">
                <a:solidFill>
                  <a:srgbClr val="90c226"/>
                </a:solidFill>
                <a:latin typeface="Times New Roman"/>
              </a:rPr>
              <a:t>第三节</a:t>
            </a:r>
            <a:r>
              <a:rPr b="0" lang="zh-CN" sz="3600" spc="-1" strike="noStrike">
                <a:solidFill>
                  <a:srgbClr val="90c226"/>
                </a:solidFill>
                <a:latin typeface="Arial"/>
              </a:rPr>
              <a:t>   </a:t>
            </a:r>
            <a:r>
              <a:rPr b="0" lang="zh-CN" sz="3600" spc="-1" strike="noStrike">
                <a:solidFill>
                  <a:srgbClr val="90c226"/>
                </a:solidFill>
                <a:latin typeface="Times New Roman"/>
              </a:rPr>
              <a:t> 票据权利与票据抗辩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</a:rPr>
              <a:t>一、票据权利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</a:rPr>
              <a:t>（一）票据权利的概念和分类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</a:rPr>
              <a:t>付款请求权和追索权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</a:rPr>
              <a:t>（二）票据权利的取得和行使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</a:rPr>
              <a:t>1.</a:t>
            </a:r>
            <a:r>
              <a:rPr b="0" lang="zh-CN" sz="1800" spc="-1" strike="noStrike">
                <a:solidFill>
                  <a:srgbClr val="404040"/>
                </a:solidFill>
                <a:latin typeface="Arial"/>
              </a:rPr>
              <a:t> 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</a:rPr>
              <a:t>票据权利的取得主要有两种方式，即 原始取得和继受取得。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</a:rPr>
              <a:t>2.</a:t>
            </a:r>
            <a:r>
              <a:rPr b="0" lang="zh-CN" sz="1800" spc="-1" strike="noStrike">
                <a:solidFill>
                  <a:srgbClr val="404040"/>
                </a:solidFill>
                <a:latin typeface="Arial"/>
              </a:rPr>
              <a:t> 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</a:rPr>
              <a:t>票据权利的行使，是指持票人请求票据债务人支付票据金额的行为。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3T08:52:15Z</dcterms:created>
  <dc:creator>LENOVO-T60</dc:creator>
  <dc:description/>
  <cp:keywords/>
  <dc:language>en-US</dc:language>
  <cp:lastModifiedBy>li carrie</cp:lastModifiedBy>
  <cp:lastPrinted>1899-12-30T00:00:00Z</cp:lastPrinted>
  <dcterms:modified xsi:type="dcterms:W3CDTF">2023-07-26T04:03:13Z</dcterms:modified>
  <cp:revision>2</cp:revision>
  <dc:subject/>
  <dc:title>第二章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461</vt:lpwstr>
  </property>
</Properties>
</file>