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CBD1-79E4-432F-A4F1-D363B4B56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D016-5B68-4B96-99A7-877380BD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9960-2104-4694-9BEA-D1E9FE22A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E6FD-BDAF-4CDE-B143-11E88FBD4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897FC-5912-4476-9686-08B44917A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F4A6-563B-44C3-8029-AEA844F8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FB8B-1EEC-42B9-A91E-26E3F97B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286D-30A5-43DB-9659-3CB04E79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547D6-DB14-4FE2-B314-F1676121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A200E-7409-4E31-BB07-41F78501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2555C-4A8E-4731-BF96-C0BA56C6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A94A-BCA8-446C-974D-8FDB75C6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B100-D0FC-4CCA-A685-12F6C478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75883-7997-4B1E-BD39-47D6049F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25C6-9F51-4D2C-86E1-C567FFED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020F-CFE7-4C50-8666-C2E97ADFB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CFDB-B6DB-45AF-99CB-E1D4FD26B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7EA45-DBD6-4A0B-8C8C-6A63DECFC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B4E02-B963-4E53-B938-F36041CB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D9ADB-A695-4858-A45E-B691ADF8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35397-47BA-418C-8A31-019584BD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48E62-DEC5-42F3-806A-61F002A4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AC87-BA38-404A-A390-BD3F054A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90630-88AB-4E16-A203-749F0C40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738BA-069C-494C-868A-5A5D102A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41C5E-4648-4EF3-BD04-7D1F7E29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CEF62-F297-4CA3-A11B-5489400A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3DF61-6F9D-4028-8B09-AC182029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FCAE7-2C1E-4BEC-8057-FB8B8E5DC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B13D4-8768-4CE2-A122-CD7AD734A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0E5EF-FD64-42D4-A53C-DBF88C928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2D5C4-9AAD-431C-9012-E0F5C39D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34855-B583-47C5-A4E1-1B4D5383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9DB5-F1CA-4BAB-924D-5B25AACE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57473-C6C5-4182-AD28-C992581D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B477F-5F31-4A7F-9924-F5516029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DC249-61AD-48C0-B1A0-DF0501FA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A524F-F38F-4CBD-90C5-04B8AD57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7661E-AAA1-417B-BB57-D53A279B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69B37-E6A9-473F-BB62-45FDFD0E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F5721-04AB-48D3-A7FC-8103DA4B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84FE7-CB6D-419E-A6D5-BF0251CC4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0C250-4C38-4199-B595-39C08615C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C8B2-FACE-4950-A00F-25421797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68DB-C4F3-4464-B484-EF580D0D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CCB5-E9A8-43BE-B642-BC956517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DC02-8981-4DBD-836D-2BC579DC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ECA2-AE4B-4D4C-A9E9-F106F623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DA5D13-39F0-49C7-BC18-7ABBD149D7E4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D38814-B898-4B37-88E3-3437B8A2CF92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6CE280-7FEE-4B2D-901D-F1530BED1522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015D8F-C2BF-426D-B3E5-75A9FFE2579F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47280" y="1988640"/>
            <a:ext cx="545004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90c226"/>
                </a:solidFill>
                <a:latin typeface="Trebuchet MS"/>
                <a:ea typeface="方正姚体"/>
              </a:rPr>
              <a:t>   </a:t>
            </a:r>
            <a:r>
              <a:rPr b="0" lang="zh-CN" sz="5400" spc="-1" strike="noStrike">
                <a:solidFill>
                  <a:srgbClr val="90c226"/>
                </a:solidFill>
                <a:latin typeface="Trebuchet MS"/>
                <a:ea typeface="方正姚体"/>
              </a:rPr>
              <a:t>第三章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30040" y="4051440"/>
            <a:ext cx="4521240" cy="11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Trebuchet MS"/>
                <a:ea typeface="华文新魏"/>
              </a:rPr>
              <a:t>汇票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某一特定事件发生后定期付款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a fixed time after the happening of a specified ev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。如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t 30days after bill of lading date pay to the order of 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出票地点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lace of issu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付款地点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lace of pay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任意记载事项，主要有：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担当付款行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 Banker designated as payer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(date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Bank Of Europe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(Signed)  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预备付款人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Referee in case of need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To:  C Company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In case of need refer to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BC Company, 129 Buffee Street, Lond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免作退票通知或者放弃拒绝证书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Notice of dishonor excused or Protest waived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Notice of dishonor excused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A Compan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   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(signed)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四）   无追索权（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Without recours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Without recourse to us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 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For A Compan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(signed)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00000" y="320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三、汇票当事人及其权利义务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0666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基本当事人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出票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Drawe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付款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Drawe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收款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e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其他当事人：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背书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Endorse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被背书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Endorse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保证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Guaranto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四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参加承兑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or for hono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五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持票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Holde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正当持票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Holder in due cours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imes New Roman"/>
              <a:ea typeface="方正姚体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正当持票人的条件：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.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给付对价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.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善意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.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对票据逾期或者曾被拒绝承兑或付款，或者对任何人就票据提出的任何抗辨或者权利主张，均不知情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四、汇票的种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根据不同的标准，汇票可分为不同种类：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即期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Sight Bill or Demand Draft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和远期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Time Bill or Usance Bill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光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Clean Bill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以及跟单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Documentary Bill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   银行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Banker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’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s Bill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和商业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Trader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’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s Bill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四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国内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Inland Bill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和外国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eign Bill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第二节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  <a:ea typeface="方正姚体"/>
              </a:rPr>
              <a:t>  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 </a:t>
            </a: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 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汇票的行为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一、票据行为概念与特征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狭义的票据行为与广义的票据行为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票据行为具有要式性、无因性、文义性和独立性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二、汇票的出票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Issu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三、汇票的背书（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背书的概念和法律效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背书的种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（三）   背书的伪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特别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Special 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D Compan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B Company, Shanghai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空白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Blank 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9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第一节</a:t>
            </a:r>
            <a:r>
              <a:rPr b="0" lang="zh-CN" sz="3200" spc="-1" strike="noStrike">
                <a:solidFill>
                  <a:srgbClr val="90c226"/>
                </a:solidFill>
                <a:latin typeface="Arial"/>
                <a:ea typeface="方正姚体"/>
              </a:rPr>
              <a:t>   </a:t>
            </a:r>
            <a:r>
              <a:rPr b="0" lang="zh-CN" sz="32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 汇票的概念和必要项目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一、汇票的概念</a:t>
            </a: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二、汇票的必要项目</a:t>
            </a: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三、汇票当事人及其权利与义务</a:t>
            </a: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四、汇票的种类</a:t>
            </a: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限制性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Restrictive    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D Company onl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B Company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(signed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附有条件的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Conditional 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D Company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On delivery of Bill of lading Nol23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B Company                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宋体"/>
                <a:ea typeface="华文新魏"/>
              </a:rPr>
              <a:t>                 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）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5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委托收款背书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Endorsement for collection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ollection pay to the order of Bank of China ,Shanghai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ank of China ,Shanghai for deposit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ank of China ,Shanghai value in collection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6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设质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Endorsement in pledg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7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回头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Reverse 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又称还原背书或逆背书，是以票据债务人为被背书人的转让背书。如：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签发一张以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B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为收款人的汇票，该汇票出票后的流通转让如下表所示：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四、汇票的提示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resentment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五、汇票的承兑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anc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普通承兑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13</a:t>
            </a:r>
            <a:r>
              <a:rPr b="0" lang="zh-CN" sz="26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, July,2o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（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）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（二）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  <a:ea typeface="方正姚体"/>
              </a:rPr>
              <a:t>  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 限制性承兑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  <a:ea typeface="方正姚体"/>
              </a:rPr>
              <a:t> 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条件的承兑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Conditional acceptanc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3</a:t>
            </a:r>
            <a:r>
              <a:rPr b="0" lang="zh-CN" sz="18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, July,2o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on delivery of bills of la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）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部分承兑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rtial acceptanc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3</a:t>
            </a:r>
            <a:r>
              <a:rPr b="0" lang="zh-CN" sz="18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, July,2o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for amount of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￡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500 onl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）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限制地点的承兑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Local acceptanc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3</a:t>
            </a:r>
            <a:r>
              <a:rPr b="0" lang="zh-CN" sz="18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, July,2o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the Bank of Europe ,London and there onl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）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延长付款时间的承兑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Qualified acceptance as to tim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3</a:t>
            </a:r>
            <a:r>
              <a:rPr b="0" lang="zh-CN" sz="18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, July,2o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ninety days after sight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）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六、汇票的付款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七、汇票的退票、退票通知和拒绝证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退票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Dishonor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退票通知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Notice of Dishonor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拒绝证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rotes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一、</a:t>
            </a:r>
            <a:r>
              <a:rPr b="0" lang="zh-CN" sz="2400" spc="-1" strike="noStrike">
                <a:solidFill>
                  <a:srgbClr val="404040"/>
                </a:solidFill>
                <a:latin typeface="Trebuchet MS"/>
                <a:ea typeface="华文新魏"/>
              </a:rPr>
              <a:t>汇票的概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Trebuchet MS"/>
                <a:ea typeface="华文新魏"/>
              </a:rPr>
              <a:t>票据，就是指出票人签发的，无条件的承诺由自己或委托他人支付一定金额的有价证券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八、汇票的追索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Recours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九、汇票的参加承兑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ance for honor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 FOR HONOR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Of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B   Company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19</a:t>
            </a:r>
            <a:r>
              <a:rPr b="0" lang="zh-CN" sz="26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, July,2o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K Compan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（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）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      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十、汇票的保证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Guarante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MENT GUARANTEED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account of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Signed by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Dated on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绝对必要项目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汇票字样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Bill of exchang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无条件支付命令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Unconditional order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in our No.I account the sum of one thousand pounds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provided the goods the supply are complied with contract the sum of one thousand pounds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确定的金额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mount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带有利息记载的。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the sum of one thousand pounds plus interest calculated at the rate of 3% per annum from the date hereof to the date of payment.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带有分期付款记载的。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the sum of one thousand pounds by ten equal consecutive monthly installments.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带有支付其他货币记载的。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the sum of one thousand pounds converted into US dollar at current rate of exchange.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。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四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付款人的名称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Name of drawe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五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收款人名称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Name of paye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限制性抬头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Restrictive orde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only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，或者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B Company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，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Not Transferable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指示性抬头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Demonstrative Orde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B Company or order 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B Company 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来人抬头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Bearer Order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bearer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B Company or bearer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六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出票日期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Date of issu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宋体"/>
                <a:ea typeface="华文新魏"/>
              </a:rPr>
              <a:t>（七）出票人签章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Drawer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’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s signature</a:t>
            </a:r>
            <a:r>
              <a:rPr b="0" lang="zh-CN" sz="1800" spc="-1" strike="noStrike">
                <a:solidFill>
                  <a:srgbClr val="404040"/>
                </a:solidFill>
                <a:latin typeface="宋体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票据上的相对必要项目，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付款日期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Tenor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汇票是信用工具，其付款期限有两种，即期和远期。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即期：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t sight pay to the order of  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On demand pay to the order of  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On presentation pay to the order of  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远期：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定期付款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on a fixed future dat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。如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On 20</a:t>
            </a:r>
            <a:r>
              <a:rPr b="0" lang="zh-CN" sz="26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,July 20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××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pay to the order  of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；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出票后定期付款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a fixed time after dat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。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如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t 30 days after date pay to the order of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；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见票后定期付款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a fixed time after sight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。如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t 30 days after sight pay to the order of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；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08:19:14Z</dcterms:created>
  <dc:creator>chen xiaolong</dc:creator>
  <dc:description/>
  <cp:keywords/>
  <dc:language>en-US</dc:language>
  <cp:lastModifiedBy>li carrie</cp:lastModifiedBy>
  <cp:lastPrinted>1899-12-30T00:00:00Z</cp:lastPrinted>
  <dcterms:modified xsi:type="dcterms:W3CDTF">2023-07-26T04:07:32Z</dcterms:modified>
  <cp:revision>25</cp:revision>
  <dc:subject/>
  <dc:title>第三章        汇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