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7864-E1DD-46AC-B142-273F73BA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CE27-16FB-46A9-9ACB-0AFAEFD9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FB3B-6693-4BF3-887A-0730C84D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027D-FCB2-4160-A460-62061463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A53C-07C5-4A7D-BB3B-040EF58C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BB92-96D7-4B9A-94C0-297E8F4C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7FBC-ED8D-419C-BC66-C3C1912D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3870-145F-4573-837E-954143E1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AAB2-5D42-4ADC-8144-BB414B3B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7DA2-E7C0-4A3D-A3C4-574B03AD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52EF-F0D3-4047-BB1A-9CDA33C7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9C33-6063-4C76-BA0F-A478A59D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B452-DACC-48F8-B20C-5E24F6E8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54C1-53AF-45BB-8DDE-FD2FB4CB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EC8D-AA05-41AA-990A-388E02CE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A7C5-39F7-4AF9-B735-B4190BC1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4FE2-C1B8-4A65-8F14-8D6EDC98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EAAF7-4389-4FCD-B5DF-64455E36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D0381-37E0-4FE5-9DB1-FB3F4D2A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9E3B2-93EA-4735-9EC1-0C9B62B3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7B6A5-F65A-48A3-B202-0BFED67C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AE8AF-A41C-4847-8953-AF138847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88E7-44A5-4804-A028-78F0B873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36C6C-B190-41DB-98D9-A49C846C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C2537-224D-4199-83DB-931F9111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21523-C9C4-4B86-8300-446555FA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85B7D-4180-4C8B-AADF-DF7CCA69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5CF3C-6D24-4F9A-9D52-0CA045F4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A91B-0A6C-4E16-9149-8984F0CC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8F7F2-FB40-46AE-AA3A-B63D700D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9788C-5FB7-4235-976C-E52D9AE4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C6523-315A-4B7C-9425-321F9EE5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1B0C2-465D-4418-A7E3-ABC86058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D6A7-FE95-45C3-8AF3-A362E5A5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C1E92-0B1D-4A5A-8A51-45913EB5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C0650-A419-4B62-867F-C7D5F299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F6156-6B34-4CEB-A8A4-9FB10A88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264E9-99F6-4AC3-8BFA-47556DAE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2FD40-A15A-4629-B517-8874180C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D184D-2D63-48EF-96B5-7AD999F1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E3DBD-D903-45B7-A616-55ABBAFD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9405D-FDAE-4502-8580-0E5FBB35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8657D-A9C4-4376-B8D0-F83B4ED1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993-3521-4E6A-9084-B899536E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B77-E48B-44A4-A8D2-052A0610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3AE3-0291-4AE5-BD56-74E196C2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C25-8DB4-474C-82EC-6653098B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3AF-6959-42D6-8640-527D86FC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3C993-4F2C-4301-9E8B-B3037A5CA2F8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30D70-7F32-4CBA-BEDE-B913A74F3135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4DA72-6244-4AC8-B0A9-EC414088B2E4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69611-147D-485F-B4B8-75F1FC836DA4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四章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7f7f7f"/>
                </a:solidFill>
                <a:latin typeface="Times New Roman"/>
                <a:ea typeface="华文新魏"/>
              </a:rPr>
              <a:t>本票和支票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五、支票的保付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付的法律效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31320"/>
            <a:ext cx="8763120" cy="21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一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  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      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本票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本票的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本票是出票人作成的一项无条件的书面支付承诺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480" y="2160360"/>
            <a:ext cx="6770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中国票据法定义： 见票即付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银行本票 （商业本票？）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941120"/>
            <a:ext cx="85374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二、必要项目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本票必要项目包括以下项目：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表示本票的字样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无条件支付承诺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确定金额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收款人或者其指定人的名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出票日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出票人的签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本票与汇票行为的差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出票行为：出票人的义务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提示行为：提示期间的不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二节    支票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支票是无条件的书面支付命令，是一种以银行为付款人的即期汇票。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必要项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表示支票的字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无条件支付一定金额的委托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名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日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人签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票据金额和空白支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出票和空头支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四、支票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般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特别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7:30:26Z</dcterms:created>
  <dc:creator>lixiaojie</dc:creator>
  <dc:description/>
  <cp:keywords/>
  <dc:language>en-US</dc:language>
  <cp:lastModifiedBy>li carrie</cp:lastModifiedBy>
  <cp:lastPrinted>1899-12-30T00:00:00Z</cp:lastPrinted>
  <dcterms:modified xsi:type="dcterms:W3CDTF">2023-07-26T04:08:40Z</dcterms:modified>
  <cp:revision>10</cp:revision>
  <dc:subject/>
  <dc:title>第四章 本票和支票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