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169C-F1AF-4D42-AD0B-43A2B3F5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82C-8352-457C-8A29-F63CB637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A64-7FDC-429E-A616-5B3D8F33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413C-F86E-45B6-A00F-0B6C5AE5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6FEF-F02F-4941-ABC2-695C3968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106A-4E67-4C09-966A-791B9090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120C-48AD-48F9-A97E-72D99D6D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F5F2-0F6B-4AD5-9F5A-3E4AE66E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4958-CF5C-40A7-B308-E0248E78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0675-18F1-4FDD-B3A1-C9334CEA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A286-59D1-40C5-AF32-A8ED8D08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FB4-CCD3-40A1-960D-DB169A74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285E-1577-4239-BFD3-9BF9F946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EBAC-0899-4779-8729-AE18A110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23B4-6A4B-4C3F-B516-AE40275A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ED3C-9835-4FE1-AAC8-9F7140D8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610D-962C-406A-8784-715E21EE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8FE79-7C27-48F2-9538-DD703A83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00824-C8ED-4176-9A0B-36760439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01A10-79A7-4407-86BD-F835227F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1C7EE-5B6E-482E-87CE-FC35E2D9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3F9AF-78AD-4093-9F5D-BD9CA626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46A8-12D3-4C70-BCAD-EE7CEC1C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93BD9-773B-4624-A570-38BA36CB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A77FE-B81A-46C2-AF6A-E937462F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F8E57-7C2C-4D6D-B890-901FCF94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08E1B-A9F9-401F-BA91-83415FA2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A2316-F2EA-4447-BCAA-3EBF4C66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3ABAF-0484-4B45-A60E-3BDC50CE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5C401-2951-4598-832D-D3798F8C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40257-D6DF-49CF-A1B7-2E41680E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7B870-916B-4A05-93BD-03BB48E6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984C5-B609-4002-9C0E-F4086AB8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E98-A0F2-4C0B-A9C0-19D80C74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6507C-E894-49C1-BA4C-C5D76C81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430C0-9F32-41A7-94FD-2F8CD04E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C5885-D23E-4B87-8E49-8009418F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684EE-9F18-4C4A-8106-B5D3A547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241B2-5257-4B9A-AE9F-7D1D1DA0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08B4E-777A-4697-BC43-9240B0F9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CEC0B-8401-4E50-A830-0D6FC90F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0EB02-B5CC-4A72-AAA5-61C311C2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C5E09-74A5-45AC-8123-4A9886DD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A284-238C-4D11-BF47-F381635D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55E5-1B29-4F67-B873-68B369E3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E04-749D-428B-A98E-21E87720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A2F5-FB61-4202-8BFF-CD9B8E2D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180-79D0-4650-838C-C5EF296A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3215-84DE-4BCA-BBAB-EE946C984501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6510-9408-46B9-9205-E048B05422E8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AC98-CE1F-4EA0-9AD6-528C4C12698A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2E89-C751-4BFE-90E2-A2E3D455CF3D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imes New Roman"/>
              </a:rPr>
              <a:t>第二章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7f7f7f"/>
                </a:solidFill>
                <a:latin typeface="Times New Roman"/>
              </a:rPr>
              <a:t>票据概述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（三）票据的丧失与票据权利补救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1.  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票据的丧失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2.   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票据权利的补救措施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公示催告制度，尤以德国与日本为代表；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公告、除权判决、实现票据权利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普通诉讼制度，尤以美国为代表。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实现付款请求权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 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（四）票据权利时效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二、利益返还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206064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三、票据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（一）票据抗辩的概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对人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对物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Times New Roman"/>
              </a:rPr>
              <a:t>对人抗辩事由主要有：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        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04040"/>
                </a:solidFill>
                <a:latin typeface="Times New Roman"/>
              </a:rPr>
              <a:t>欠缺原因关系或者非法原因关系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对物抗辩事由一般根据票据法的有关规定提出的，主要有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欠缺应记载的事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未到期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时效届满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债务人欠缺行为能力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无权代理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伪造或者变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保全手续欠缺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</a:rPr>
              <a:t> 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票据抗辩的限制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小结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练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第一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 票据的概念及特性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一、票据的概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票据，就是指出票人签发的，无条件的承诺由自己或委托他人支付一定金额的有价证券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二、票据主要特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要式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形式要件齐全、记载合乎规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无因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产生具有原因关系，如基础贸易合同，资金关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流通转让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流通转让形式：仅凭交付完成转让或者背书转让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流通转让的受让人，其所拥有的票据权利可能超越其前手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设权性和文义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27628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三、票据的功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支付功能（支票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信用功能（汇票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流通功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6920" y="860400"/>
            <a:ext cx="775476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第二节</a:t>
            </a:r>
            <a:r>
              <a:rPr b="0" lang="zh-CN" sz="32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 票据法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一、票据法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法就是规定票据种类、票据行为以及票据当事人权利义务等内容的法律规范的总称。票据法包括广义的和狭义的票据法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二、西方各国的票据法（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193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以前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法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德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英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zh-CN" sz="3600" spc="-1" strike="noStrike">
              <a:solidFill>
                <a:srgbClr val="90c226"/>
              </a:solidFill>
              <a:latin typeface="仿宋_GB2312"/>
              <a:ea typeface="仿宋_GB2312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三、统一票据法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仿宋_GB2312"/>
                <a:ea typeface="仿宋_GB2312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一）大陆法系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《统一汇票本票法公约》、《解决汇票本票法律冲突公约》和《汇票本票印花税法公约》《统一支票法公约》、《解决支票法律冲突公约》、《支票印花税法公约》。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二）大陆法系与英美法系的分歧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三）国际汇票和本票公约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四、我国票据法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第三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 票据权利与票据抗辩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一、票据权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一）票据权利的概念和分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付款请求权和追索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票据权利的取得和行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权利的取得主要有两种方式，即 原始取得和继受取得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权利的行使，是指持票人请求票据债务人支付票据金额的行为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08:52:15Z</dcterms:created>
  <dc:creator>LENOVO-T60</dc:creator>
  <dc:description/>
  <cp:keywords/>
  <dc:language>en-US</dc:language>
  <cp:lastModifiedBy>li carrie</cp:lastModifiedBy>
  <cp:lastPrinted>1899-12-30T00:00:00Z</cp:lastPrinted>
  <dcterms:modified xsi:type="dcterms:W3CDTF">2023-07-26T04:03:13Z</dcterms:modified>
  <cp:revision>2</cp:revision>
  <dc:subject/>
  <dc:title>第二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