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024B-2C9E-4697-969B-D3801D7B07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D473-1439-499D-8323-77354ECA6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2E3-FE34-41C0-B65E-B63B5148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FC6-51EF-4FE8-A72B-FA8FCBC5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05E-625F-43D0-BA00-5DE65AFF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B54-E5F6-4842-9718-FB48A39C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C96-430E-427C-ADDE-8F32BB91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CAA-D81E-4A35-B9B2-772FD596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C87-94E0-4EB4-95E0-8A0A2D5A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166-56A5-4C57-B043-B5517469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1E0-DADF-4CA3-A7EA-AE3C597B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5E9-CFA3-4DA6-9ECA-6057D83F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5ED-DBE9-4A2C-A73A-69A399D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086-C1FD-4428-88C9-6C40553A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CA36-CBDF-4FF9-8B9E-6F8CF43D7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twang@mail.shufe.edu.c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2491920"/>
            <a:ext cx="68104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明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海财经大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学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Email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华文楷体"/>
                <a:ea typeface="华文楷体"/>
                <a:hlinkClick r:id="rId1"/>
              </a:rPr>
              <a:t>mtwang@mail.shufe.edu.c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Tel: 659081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857160"/>
            <a:ext cx="8424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学要回答的问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什么是金融工程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为什么要学习金融工程学（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目的与作用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金融工程学的主要内容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何运用金融工程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357120"/>
            <a:ext cx="53802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主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99760"/>
            <a:ext cx="7848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的基本概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工程的主要工具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衍生产品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险管理的基本原理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套利定价原理、组合投资理论、套期保值理论等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融衍生产品的应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市场风险的计量与管理方法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率风险的计量与管理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信用风险的计量及其管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主要内容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按章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280" y="1213920"/>
            <a:ext cx="785484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章 金融工程学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二章 金融现货市场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三章 金融远期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四章 金融期货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五章 金融互换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六章 金融期权及其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七章 市场风险计量与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八章 利率风险计量与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九章 信用风险计量与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0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理解金融工程的基本概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应用金融衍生产品对金融风险进行套期保值和管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证券组合市场风险的计量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VaR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利率风险的计量与管理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久期和凸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信用风险计算和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教学参考资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480" y="928440"/>
            <a:ext cx="8629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上课时的课件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王明涛，金融工程学（第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版），上海财经大学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)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约翰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﹒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赫尔著；王勇、索吾林译，期权、期货及其他衍生产品（第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版）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械工业出版社 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1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方杰、李杰辉，金融工程学，厦门大学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2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吴冲锋、刘海龙、冯芸、吴文峰，金融工程学（第三版），高等教育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尹常玲、方雯、张莉莉，金融工程（第二版），清华大学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郑振龙、陈蓉，金融工程（第五版），高等教育出版社，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0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5472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考试与成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5280" y="141264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上课（点名）：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体现了学习态度，体现是否爱岗敬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作业与实验：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考试：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坚决杜绝作弊，这是做人的基本要求，也是诚实守信的体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12:29Z</dcterms:created>
  <dc:creator>sufe</dc:creator>
  <dc:description/>
  <dc:language>en-US</dc:language>
  <cp:lastModifiedBy>Yitan Wang</cp:lastModifiedBy>
  <dcterms:modified xsi:type="dcterms:W3CDTF">2024-02-25T01:35:34Z</dcterms:modified>
  <cp:revision>51</cp:revision>
  <dc:subject/>
  <dc:title>金融工程 </dc:title>
</cp:coreProperties>
</file>