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B832-E1B5-4B20-A9BD-31E23474B4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714B-675D-4F3E-AD8B-AF594210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F3F-0774-48A9-93D5-933A9202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EB6-3619-46CE-A2A4-38BFD807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ECC-6013-4640-9060-6FC76BE6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F37-961F-4D4F-B15F-213B3B22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8E6-D5F3-4E89-B388-DFFE09B9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2A9-D4B8-438B-9D4F-3734CB82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CF4-6767-4E20-A281-CC189A0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4B1-C7B8-41D4-8C03-D4A9D093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AC2-B1E9-4774-8945-3FB0A308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D63-0376-49D4-9AB4-F2F4D79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E75-5004-43CD-8E63-D3007B54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8E9-D87C-4E67-BE03-7DC928B4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4119-D88B-441E-9C74-F730B664E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twang@mail.shufe.edu.c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8104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明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海财经大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学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Email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华文楷体"/>
                <a:ea typeface="华文楷体"/>
                <a:hlinkClick r:id="rId1"/>
              </a:rPr>
              <a:t>mtwang@mail.shufe.edu.c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Tel: 659081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857160"/>
            <a:ext cx="8424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学要回答的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什么是金融工程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为什么要学习金融工程学（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目的与作用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金融工程学的主要内容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何运用金融工程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357120"/>
            <a:ext cx="53802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主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99760"/>
            <a:ext cx="7848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的基本概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的主要工具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衍生产品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险管理的基本原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套利定价原理、组合投资理论、套期保值理论等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衍生产品的应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风险的计量与管理方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率风险的计量与管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信用风险的计量及其管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主要内容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章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1213920"/>
            <a:ext cx="785484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章 金融工程学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二章 金融现货市场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三章 金融远期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四章 金融期货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五章 金融互换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六章 金融期权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七章 市场风险计量与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八章 利率风险计量与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九章 信用风险计量与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0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理解金融工程的基本概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应用金融衍生产品对金融风险进行套期保值和管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证券组合市场风险的计量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VaR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利率风险的计量与管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久期和凸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信用风险计算和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教学参考资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480" y="928440"/>
            <a:ext cx="8629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上课时的课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王明涛，金融工程学（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版），上海财经大学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)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约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﹒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赫尔著；王勇、索吾林译，期权、期货及其他衍生产品（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版）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械工业出版社 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方杰、李杰辉，金融工程学，厦门大学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吴冲锋、刘海龙、冯芸、吴文峰，金融工程学（第三版），高等教育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尹常玲、方雯、张莉莉，金融工程（第二版），清华大学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郑振龙、陈蓉，金融工程（第五版），高等教育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5472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试与成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280" y="141264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上课（点名）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体现了学习态度，体现是否爱岗敬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作业与实验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考试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坚决杜绝作弊，这是做人的基本要求，也是诚实守信的体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12:29Z</dcterms:created>
  <dc:creator>sufe</dc:creator>
  <dc:description/>
  <dc:language>en-US</dc:language>
  <cp:lastModifiedBy>Yitan Wang</cp:lastModifiedBy>
  <dcterms:modified xsi:type="dcterms:W3CDTF">2024-02-25T01:35:34Z</dcterms:modified>
  <cp:revision>51</cp:revision>
  <dc:subject/>
  <dc:title>金融工程 </dc:title>
</cp:coreProperties>
</file>