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FCAE-9692-4EAE-B613-3086795B0EE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3290-7E27-4C46-8B71-FD65B981D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14EA-6C98-4A2F-B4E1-022FC3A8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425-7038-4001-96D6-F5D6F08D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5B71-32E5-49AC-AA7E-27E46114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1F54-4C77-4367-B016-9B835BF3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C1EC-9083-4E39-820B-CAD71474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E978-6F80-4284-89EE-9D74058A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613E-1A63-4814-BA18-D14CFA54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3AC0-BDE2-499B-B6B3-A8DBADD0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71D2-240C-4C05-B2A9-266487A8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0D30-A693-4544-8706-93600A9B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E14-D31B-4FD3-8DCB-06033B5A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6568-9825-4445-97BC-0743EEFB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E773-112F-4AB5-9324-664D4FE12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twang@mail.shufe.edu.cn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金融工程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2491920"/>
            <a:ext cx="6810480" cy="30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王明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海财经大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金融学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Email: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华文楷体"/>
                <a:ea typeface="华文楷体"/>
                <a:hlinkClick r:id="rId1"/>
              </a:rPr>
              <a:t>mtwang@mail.shufe.edu.c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Tel: 6590818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30592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68360" y="857160"/>
            <a:ext cx="842472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金融工程学要回答的问题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什么是金融工程学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为什么要学习金融工程学（</a:t>
            </a:r>
            <a:r>
              <a:rPr b="0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目的与作用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金融工程学的主要内容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如何运用金融工程学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280" y="357120"/>
            <a:ext cx="53802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主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99760"/>
            <a:ext cx="78487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金融工程的基本概念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金融工程的主要工具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金融衍生产品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风险管理的基本原理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无套利定价原理、组合投资理论、套期保值理论等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金融衍生产品的应用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市场风险的计量与管理方法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率风险的计量与管理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信用风险的计量及其管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主要内容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按章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280" y="1213920"/>
            <a:ext cx="785484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一章 金融工程学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二章 金融现货市场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三章 金融远期及其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四章 金融期货及其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五章 金融互换及其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六章 金融期权及其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七章 市场风险计量与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八章 利率风险计量与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九章 信用风险计量与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680" y="4287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1309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理解金融工程的基本概念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应用金融衍生产品对金融风险进行套期保值和管理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证券组合市场风险的计量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VaR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利率风险的计量与管理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久期和凸度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信用风险计算和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教学参考资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480" y="928440"/>
            <a:ext cx="8629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上课时的课件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王明涛，金融工程学（第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版），上海财经大学出版社，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)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约翰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﹒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赫尔著；王勇、索吾林译，期权、期货及其他衍生产品（第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版）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机械工业出版社 ，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1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方杰、李杰辉，金融工程学，厦门大学出版社，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2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吴冲锋、刘海龙、冯芸、吴文峰，金融工程学（第三版），高等教育出版社，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尹常玲、方雯、张莉莉，金融工程（第二版），清华大学出版社，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郑振龙、陈蓉，金融工程（第五版），高等教育出版社，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2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7640" y="404640"/>
            <a:ext cx="547236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考试与成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55280" y="1412640"/>
            <a:ext cx="79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上课（点名）：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体现了学习态度，体现是否爱岗敬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作业与实验：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考试：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坚决杜绝作弊，这是做人的基本要求，也是诚实守信的体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4:12:29Z</dcterms:created>
  <dc:creator>sufe</dc:creator>
  <dc:description/>
  <dc:language>en-US</dc:language>
  <cp:lastModifiedBy>Yitan Wang</cp:lastModifiedBy>
  <dcterms:modified xsi:type="dcterms:W3CDTF">2024-02-25T01:35:34Z</dcterms:modified>
  <cp:revision>51</cp:revision>
  <dc:subject/>
  <dc:title>金融工程 </dc:title>
</cp:coreProperties>
</file>