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3152-E739-42E4-A93B-91CAEB8F8FA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841C-C570-452D-BD38-D2F4A9EB4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E571-D61B-458A-9F53-A384E6F66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6F53-2E26-4560-B005-84713B94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D2669-4242-4346-999E-38E592AA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C6A3E-472C-498A-BD64-AC6BDAAD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BBFD0-C7B3-4ED6-B9F8-94CE28D4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0A18E-209F-4625-B973-7A67C41D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401AA-194F-40A8-B5B4-782E6AE9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0A661-F34F-4125-B1C1-1768AC28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BA0E6-3EC1-4029-9DEB-F8D17149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84D0E-50A2-46D3-8643-9D76BD123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C990B-E340-4A24-A096-0282A66DF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D34B7E-6BA5-4787-BC78-CFA3812B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AE4C-4889-4016-8248-47837478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F3828-4F7E-474B-9A01-F32109CD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FB386-1E89-4263-8FDA-CDAF41C8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AB4B07-F1F9-4E99-8DDA-DD86A49F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9577E-4AEA-471A-A4DD-BD3EE19B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1CFB0A-7023-41F0-97DE-18BAFD3D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DFA6F-71EC-40A3-92BC-5F7256B3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6D38A3-FC16-4132-825E-E5CCA8D0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6BEAD-C952-4E7B-814D-BA4A71C5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E6316B-6936-4238-92A6-83BF9B39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1D69E-0805-4512-892A-D8F5F484C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7C4A-FE81-417C-9498-4C176B62C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06DE7F-64AB-4E36-A78E-BEF13B2F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A6D1B-39D6-4239-AA0B-B7181FAAA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8B7CC-14A8-4239-879F-D35AAB0D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80516-7DE1-4929-822D-A466F3DB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F7C65-E80E-4AC0-B603-57F5BF99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EB08E-6CE4-43C1-8ADD-5A7FB46B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CE817-4932-43A7-8F25-DE84FA76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DF62F-BE76-4800-9A3D-0116F5F4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C75EC-FEB7-481F-B3B6-C7433422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CF69C-D990-4E22-8A29-30AA098C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41F2-3B8E-4D4B-8BCC-0AEE2AD88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6241C-82FD-45F5-8309-FAE650A9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F274F-15B1-488A-815F-94CF9ECE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30E24-16B7-4415-84B3-BF5FD2B13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4F33-DAA6-4F8F-8963-5EDC5F8A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A10A-DFB2-4FA8-BBAB-E7BA43D7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67AC-D8B3-4C3F-8AE2-6BBA070A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296E-2C85-49FA-BA8A-6E33068F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3B3B-5F3A-43B6-8D40-F152C754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1A97-9A83-49E0-8957-C693E73E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2933-011E-4D64-BEA3-FE7922AC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9302-98D9-4C7B-A909-75054FD8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60B4-4E83-4E5C-B2D2-048B498D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763E-835E-40AB-AF4E-D8DEB024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9AA3-CFE5-4FB8-9E14-AC85A660D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650C-EEF1-46F2-8A0B-0BADC3F99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399B6-5842-4D7E-B81D-BE24E861A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994CE-526B-44EB-9611-75E8172C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1B7A1-4309-4080-89BA-D3636DE0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8B953-052F-46D7-817C-1C8BAE56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BF55D-C673-4E7B-823E-AF1B11CB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B54C-A796-4C0D-9FB6-A23DD50B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AF63C-C78A-4167-89F4-532C1CA7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A2188-CB4E-4784-BFF3-5194A83E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8FF0C-5A92-443E-BCF7-55F04622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20A13-0565-49E2-A01D-660B0968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C2C03-34F1-4A7D-93ED-6E8B3675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FF16F-3F63-455D-B0F7-18BA6DF80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FBE98-9887-4812-A6D5-CF093E770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DF712-5EEC-46EA-87FB-825FF7D96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5A1B7-7318-48FE-B2B4-CDD96CEC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C4A61-630E-4A89-9D85-9D0504A9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0809-710F-4D2F-A83F-F72EA60E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D714B-FED5-46A0-A083-E63AD6C4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CBED8-7E88-4813-9282-75CF501C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4240E-6721-40B7-8CB3-8D45996D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2D77B-C600-488F-B04C-AC3CA53A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802F1-F0BC-4A95-B511-E8155A5C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B47B0-643F-471A-A2AE-33F72846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3C3C3-7962-41C1-A887-5D9F321B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4160F-6275-43DB-8EA5-B43B07B7F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9875D-7BF4-461B-8866-0F7C465A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F3F3A-19E3-4BC9-ACFA-79AF8FD6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65F4-B594-419F-A2EA-DA1294A1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6202E-F329-4C39-A353-9BA53FD9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C38B3-6E14-4050-8BA8-E32316C1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C3724-8A63-48D2-8897-613C50D9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5EA64-08EA-4029-B5BA-646BB1D0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28C75-3C44-4FEE-BC6C-376A80F5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7FA6F-B801-48C0-8F3D-4216BF26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76D43-F6BA-41F3-BBA1-BBED3B07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ED666-BCD5-4F54-A3D6-5D0F20CC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F60FE-B1E2-4DE3-B62E-BEE0BC9E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9E61E-E741-4D4B-AB61-9E428AF86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EB8E-7980-4E97-A218-1D04E09F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32266-4E8B-4AD7-A65C-D3CCF9D1F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63A8E-DDEA-4BF1-ABEB-013350546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ED73C-A998-4F67-8AFB-6947DA98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9CA12-0E8E-42EB-864A-71855D8F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8099B-2E66-4F1E-AD65-7FE9630A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E05C4-8EA8-4F1C-8F3C-09535A86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F9054-B82B-44EE-A6AB-995D32AD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ABF6C-422C-4AB5-9432-E672007B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9C138-726C-4277-97E9-6486CD8A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60938-8E3F-48E2-845A-01DAE24B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425C-2996-4307-979C-3962331D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4D75C-A6D6-49EC-889D-9CD77447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2659A-6235-4675-941D-3E9F32D85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5211F-9EC8-4D6A-96A1-3B0BEA8EE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D9D2A-9103-428D-A23C-47EC1F28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B19D9-451E-4AF8-9492-E995A2FC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E4525-49AF-4537-97EE-CAB2AC71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B42C9-9383-4002-B81F-DC7475FA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D7856-3812-4261-AD4D-1EEC7F65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C7CC1-EBA3-467A-B250-11519268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FE8BC-EB39-44BD-B70F-24011A87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7851-CAE2-4ADC-97E0-BBE5DE6E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5676B-C8F0-45BF-AF0A-694DF083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BADA7-2EFB-4604-BC00-C1BB53B0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4B3DA-B775-4745-987A-44CE2C9D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10F05-F158-4787-B575-2C7898060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31E75-76E7-48B4-B3FA-2DCD42689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1CC6C-7A97-4661-97F0-009820463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2044F-9A14-4E81-A0D8-16B9AD59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22F15-7FB1-414A-B772-CA00D65C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FAA43-2B80-40FA-94E1-FF1E8D0A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0F10D-CED5-4699-8E21-2872DFC4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5EF0-D051-4827-8BC5-9DCDD282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9E87C-CB72-4A41-8032-F287303D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ACA72-5C47-4D7D-9544-23F26D1F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C392E-2209-40D2-ABBF-22C77F6C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26C3A-1124-4089-B821-A3E72491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7E100-1DF8-467F-8F6D-19220C54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3B5C1-F0AF-41D8-A529-D15710AB2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0112A-2823-4FAB-9C4F-B172162DF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1D0AA-792A-43F5-99FB-BFB168905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BE310-916E-4B1A-82EB-F5B0EA70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3BBDB-389F-4CE4-A2FA-08855175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8D29-F668-46C8-8C32-383D00D9423E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9D7C-E56D-4FBC-BA44-95DF9D17D769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EA70-B5AF-4593-8564-D4C06E2EEFA7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34E6-38C3-4CC3-BF1E-E60FAC5ED43B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7632-6660-4F9E-8BD9-E4157595BEE5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4FC1-8EFF-4618-8646-E3E52B345E97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5207-F16A-4071-8CE2-05878F2A91F3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AD3E-503E-4829-A938-BB990F9C9C55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35F4-423A-4A1F-A693-D4A059C59411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D156-B857-4846-B773-7A41AEF683DD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EAB6-FDF5-4AA9-8B8A-543644DD2A56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f2f2f"/>
                </a:solidFill>
                <a:latin typeface="华文楷体"/>
                <a:ea typeface="华文楷体"/>
              </a:rPr>
              <a:t>证券投资分析</a:t>
            </a:r>
            <a:r>
              <a:rPr b="0" lang="zh-CN" sz="4400" spc="-1" strike="noStrike">
                <a:solidFill>
                  <a:srgbClr val="2f2f2f"/>
                </a:solidFill>
                <a:latin typeface="华文楷体"/>
                <a:ea typeface="华文楷体"/>
              </a:rPr>
              <a:t> 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王明涛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上海财经大学金融学院证券期货系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Office: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毓秀楼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19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phone:  021</a:t>
            </a:r>
            <a:r>
              <a:rPr b="0" lang="en-US" sz="2800" spc="-1" strike="noStrike">
                <a:solidFill>
                  <a:srgbClr val="00d5d5"/>
                </a:solidFill>
                <a:latin typeface="华文楷体"/>
                <a:ea typeface="华文楷体"/>
              </a:rPr>
              <a:t>-65908186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Email:mtwang@mail.shufe.edu.cn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f2f2f"/>
                </a:solidFill>
                <a:latin typeface="华文琥珀"/>
                <a:ea typeface="华文琥珀"/>
              </a:rPr>
              <a:t>问题？讨论！</a:t>
            </a:r>
            <a:endParaRPr b="0" lang="en-US" sz="40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95280" y="1413000"/>
            <a:ext cx="83534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0" lang="zh-CN" sz="2800" spc="-1" strike="noStrike">
                <a:solidFill>
                  <a:srgbClr val="00d5d5"/>
                </a:solidFill>
                <a:latin typeface="华文楷体"/>
                <a:ea typeface="华文楷体"/>
              </a:rPr>
              <a:t>什么是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证券投资分析？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为</a:t>
            </a:r>
            <a:r>
              <a:rPr b="0" lang="zh-CN" sz="2800" spc="-1" strike="noStrike">
                <a:solidFill>
                  <a:srgbClr val="00d5d5"/>
                </a:solidFill>
                <a:latin typeface="华文楷体"/>
                <a:ea typeface="华文楷体"/>
              </a:rPr>
              <a:t>什么要进行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证券投资分析？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你希望学习这门课后达到什么目的？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如何进行投资（分析）？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f2f2f"/>
                </a:solidFill>
                <a:latin typeface="华文楷体"/>
                <a:ea typeface="华文楷体"/>
              </a:rPr>
              <a:t>问题的提出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228600" y="1356840"/>
            <a:ext cx="876312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证券投资分析的目的：捕捉投资机会、获取投资收益  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面临的投资环境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国内市场和国外市场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国内市场：股票市场、债券市场、外汇市场、商品期货市场、金融衍生品市场（外汇远期、权证、期货）、房地产市场、储蓄市场（货币市场基金）等。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股票市场：有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5000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多只股票（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沪</a:t>
            </a:r>
            <a:r>
              <a:rPr b="0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：</a:t>
            </a:r>
            <a:r>
              <a:rPr b="0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2238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；深</a:t>
            </a:r>
            <a:r>
              <a:rPr b="0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A:2813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；北证：</a:t>
            </a:r>
            <a:r>
              <a:rPr b="0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217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；沪深</a:t>
            </a:r>
            <a:r>
              <a:rPr b="0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B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：</a:t>
            </a:r>
            <a:r>
              <a:rPr b="0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85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如何进行投资（分析）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各市场之间的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相对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投资价值分析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各行业之间的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相对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投资价值分析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投资品种的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相对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投资价值分析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资金在各市场或投资品种之间的比例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投资分析的方法与策略（选股与选时）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f2f2f"/>
                </a:solidFill>
                <a:latin typeface="华文楷体"/>
                <a:ea typeface="华文楷体"/>
              </a:rPr>
              <a:t>问题的提出</a:t>
            </a:r>
            <a:endParaRPr b="0" lang="en-US" sz="40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68360" y="1428480"/>
            <a:ext cx="8136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如何进行投资（分析）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各市场之间的</a:t>
            </a:r>
            <a:r>
              <a:rPr b="0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相对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投资价值分析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各行业之间的</a:t>
            </a:r>
            <a:r>
              <a:rPr b="0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相对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投资价值分析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投资品种的</a:t>
            </a:r>
            <a:r>
              <a:rPr b="0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相对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投资价值分析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资金在各市场或投资品种之间的比例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投资分析的方法与策略（选股与选时）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f2f2f"/>
                </a:solidFill>
                <a:latin typeface="华文楷体"/>
                <a:ea typeface="华文楷体"/>
              </a:rPr>
              <a:t>内容介绍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教科书：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证券投资分析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三版，上海财大出版社，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23.6,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王明涛编著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内容：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证券投资分析基础，第一、二、三、四章；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技术分析方法，第五、六、七、八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章；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基本分析方法，第九、十、十一章；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证券投资组合分析，第十二、十三章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投资行为分析与投资策略，第十四、十五章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f2f2f"/>
                </a:solidFill>
                <a:latin typeface="华文楷体"/>
                <a:ea typeface="华文楷体"/>
              </a:rPr>
              <a:t>目标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56840" y="1356840"/>
            <a:ext cx="845820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掌握证券投资分析的技术分析方法及理论基础，并能运用基本分析方法进行实际应用分析；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掌握证券投资分析的基本分析方法及理论基础，并能运用基本分析方法进行实际应用分析；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掌握证券投资组合分析及理论基础，并能运用基本分析方法进行实际应用分析；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了解投资行为分析方法与投资策略，解释目前证券市场存在的一些现象；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了解其他一些常用的分析方法，如事件分析法、计量经济模型分析方法等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f2f2f"/>
                </a:solidFill>
                <a:latin typeface="华文楷体"/>
                <a:ea typeface="华文楷体"/>
              </a:rPr>
              <a:t>学习方法与形式</a:t>
            </a:r>
            <a:endParaRPr b="0" lang="en-US" sz="40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上课和看教材；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结合实际，进行操作；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做部分实证分析和研究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讲授与讨论相结合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f2f2f"/>
                </a:solidFill>
                <a:latin typeface="华文楷体"/>
                <a:ea typeface="华文楷体"/>
              </a:rPr>
              <a:t>考试与成绩</a:t>
            </a:r>
            <a:endParaRPr b="0" lang="en-US" sz="36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395280" y="141264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上课（点名）：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</a:t>
            </a:r>
            <a:r>
              <a:rPr b="0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体现了学习态度，体现是否爱岗敬业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实验课，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%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理论联系实际，体现社会责任感；要求按时上交高质量实验报告，这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是严于律己、诚实守信方面的培养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考试：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70%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</a:t>
            </a:r>
            <a:r>
              <a:rPr b="0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坚决杜绝作弊，这是做人的基本要求，也是诚实守信的体现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04:10:44Z</dcterms:created>
  <dc:creator>sufe</dc:creator>
  <dc:description/>
  <dc:language>en-US</dc:language>
  <cp:lastModifiedBy>mtwang</cp:lastModifiedBy>
  <dcterms:modified xsi:type="dcterms:W3CDTF">2023-09-01T07:56:59Z</dcterms:modified>
  <cp:revision>76</cp:revision>
  <dc:subject/>
  <dc:title>证券投资分析 </dc:title>
</cp:coreProperties>
</file>