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A2B-E16B-4D03-9F1B-748A5580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2C7-6CDD-4278-9BB3-152B04B3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AB81D-F5BC-4D39-850C-05028C21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862C-DFD3-4570-83C9-2646ED01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7169A-47BE-4631-9A0D-AF16D80C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9EAF0-FBEC-414B-AD6F-A6CA9253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0DAA-E3A0-4514-A909-BB4D1BE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F544D-9927-47D7-B030-8F6F55B9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56369-C5B1-450E-BF58-F89A2870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B106E-1DF5-4F78-B30D-D36743ED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D3211-5860-4025-A7AC-DD9F9E06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085B-EE42-44C2-B803-F2DD2AD2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2FF-7305-4973-AE9B-0667601E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B4B14-35FE-4190-B58C-17CCA462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A6E90-2721-4191-8579-4191A91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F1A65-641D-467C-BE94-0D50C61B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B5AFC-2A63-4A34-A597-A51CFE1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30AC-BB77-4AEF-B535-1E2FE82E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67898-A36C-4DAA-B579-BE53FA9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C5F5A-400E-4580-9C29-DD925B0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E84DF-1029-4867-870C-D372FEC8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FB33-D0EA-470C-9FB5-0065143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01E0E-70F5-4360-ABD6-D2532920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376-C7A2-4D49-8900-9C01519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B3408-B70B-4AFB-BE8B-F3EB1456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D619C-A08F-4C47-823A-B523942A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180E0-2878-4BD0-BEC3-6567BB16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BE454-FF25-4017-BF2F-CCC926F3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D0C03-90B5-45A3-BE36-7470997C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E3892-8B54-4D38-97BC-547DC50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C0D43-D052-4FC8-AE78-2425C0EC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52FB-CE37-4626-8E1F-4FCE9A8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D95D0-EB8C-4388-BFA9-E5C194E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81542-553C-4590-B26B-1772FAA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3DA-5023-4AAF-AEEE-44D39721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0C343-9D34-418A-800B-D82A9257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F3829-BE64-4FE8-ABB5-B5005BFD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1CE72-EF6B-47E1-9AD4-807B7EC4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CCC-728B-45C1-AC19-58D3F159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A9B0-D9A5-48E1-BE13-3076C408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4B4E-3F1A-49F3-BE3A-EEA4273C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47D-BCC7-49E0-9529-966327F2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E15F-7EA1-4DF2-97D3-1414F992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6793-FFB4-493F-9433-3622E16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5CF-A856-40F8-96D8-24C12794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8F60-D028-4EFA-8BCC-3D9360FC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DA8-2EA2-4774-9C04-B9B7FAA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0B43-5BA3-4471-AA07-8D2959E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8F15-BDCF-445A-B752-6186CCBF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789-1C9B-456A-8574-8BED1A14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8A6D-DB0E-4A1C-8559-F144218E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67D3-077D-4AE2-8B38-AFE8948A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306F-E0E8-458F-ACFD-2D54CC6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9E2D-C956-4D76-9C54-280E0F3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611F-33BE-4168-BB0F-BBCA084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E12-DAFE-490A-BB4F-3E768DF3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48F0-FEDE-43AF-8A8E-61F934FC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C157-4750-475F-9642-CE16BB0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5EBE-2817-462A-B67B-0762EC3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B9C8-E5F9-4147-8D4B-16D76393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E3C9-8F25-47D3-8A98-0FB8F0D2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9380-0D27-4295-8EC3-6E77CC5E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B50C-8B87-4447-8005-265F05F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03A9-B685-42EE-895F-3968B350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DC6D-8B90-4327-A394-3C83F6EB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431D-6C89-4959-9439-3C74D519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43C-E1A1-4A4B-A4F0-39F25FD3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9D4D-5B17-4B0A-9497-6583976C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5CBC-B5EA-4313-8BA0-B975D829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91B8-680F-43CF-9B96-8C4ED9A5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4146-0192-4C07-9F6D-D14F57B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F69F-F416-41FD-915D-D181654E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A3A5-737A-4E11-9D2B-112EF2F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84C5-5086-43C5-82CE-18686CE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F8E8-7BC2-48F2-9AE4-5DDC422D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8DCB-A3F6-4E4A-85EB-AEC8D0F1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AF4A-2528-4C3B-85F9-32A33EB9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71D-AC7B-4C35-8F08-2EE33311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DFCC-97DA-4851-9C7A-4A5529F4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5D57-A937-4EFE-81A7-1B717ED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12CD-8342-49CD-958B-992AC4C4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97E4-0C7B-41FB-AF8E-9DC9730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FCB13-D748-415F-A488-83422728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17D2-33AB-4933-BC26-56365B24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FBE74-1611-4469-AF23-E9D1BE3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76C8B-A144-49D8-A6EF-287529B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D116-D7AD-4915-ABDA-5BA90799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79EF-A74B-4F25-8A13-C3CD025E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3C7-1394-4578-BB84-CEC833FB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CE7F-C4EB-4E30-8D37-D5C75528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73CD-3709-4248-9FA8-8E44032A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A3181-11ED-4283-BA5C-F508A634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B7584-9742-4C93-B614-BDF9F6AD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73ED5-1E50-4DE6-972B-8F2BEB0E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FAB6-0958-4168-A698-674C4189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2B80-6C49-4B9D-B367-76674557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B98C1-8EF3-4A2D-8399-BFFF9B2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CF1F-FE8D-4654-A3BB-ED2988A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A115-8140-4774-A9FD-D56D1B8F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F39-69C2-4745-B64F-47A4830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057DB-F2AC-4211-A73F-94D44709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61CB-D2C4-4581-BE80-61D8B2A8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FC32A-F02C-49E8-B32B-032776DE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25E6-1310-4ECF-BE7E-8B37928A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8DEE-F3F6-4E77-92DA-75D77A9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DB479-CD10-4FA5-B964-CE889E1D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30651-570F-4FB4-8E62-532791AB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0BE8-8388-4D31-921A-77C6A31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9530-FB15-40AD-BECB-C4F8AC1B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AC5F0-64BA-4DD6-B81E-416CC87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2A5-BB6A-4677-9E6A-A3FAB9D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9E4E-86C8-4160-AD26-3BCCFF67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89B6-8299-44F7-B095-5DFB132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FFF07-CC4A-45D8-8885-1359D93F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8258-036F-4720-B5EE-5187E21E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2786-18E1-480E-A30D-964059F9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39DF-6591-48EF-8A24-D2AB5A04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B8A38-0816-4BBA-BF63-CE0D7A96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DA275-0D7B-4F19-AAC3-18C30C2B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220CD-FDBE-465D-9063-563600E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3E76-1E4E-4D62-8CE7-421F4AE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00C-7BDA-4663-921B-E5248198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A9FF0-3678-42C9-9F6F-09FB891D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CF71-0847-4A06-AC7F-2CC0CDF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208D2-832A-4C4E-8DDB-277B72E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E8C9-D71C-44D2-83BB-ABE30868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86FB-3CED-489C-8482-657B29A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C16E-0F89-47DD-BBE8-A597A16D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06D5C-9D67-432A-B686-9D3771BA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191F4-6C12-4B72-A8AB-A480E2C2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AC9F-E4D1-4B9C-8725-9E1A8D23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D6630-92EB-4BDF-A65C-5A44D4C0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710F-6384-460C-AA35-F63142ACF2F4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FCC-BDA5-459A-84E8-5C21D4824913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B372-953C-41DE-90AB-2AAEF73A8444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2203-5CB0-4062-90E0-4A700B1F3FC1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B7F-FEF7-4723-AE05-4CC32D038DF1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CC50-FF6F-4BEA-9553-4F21175FA365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7F8A-33E1-42FA-91D5-2F41B96947D1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8D6-C0E3-4DAC-8BDF-0A49A8590E83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5F7A-4F00-48B1-B42B-68C880051689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8F64-33A7-4921-BA57-981A438CDAEB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FF3-EACE-4FBA-86AB-F4534518EC5B}" type="slidenum">
              <a:rPr b="0" lang="en-US" sz="1100" spc="-1" strike="noStrike">
                <a:solidFill>
                  <a:srgbClr val="636363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7816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f2f2f"/>
                </a:solidFill>
                <a:latin typeface="华文楷体"/>
                <a:ea typeface="华文楷体"/>
              </a:rPr>
              <a:t>第九章  股票定价分析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71240" y="519120"/>
            <a:ext cx="62485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Arial"/>
                <a:ea typeface="宋体"/>
              </a:rPr>
              <a:t>（二）常数增长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24D7-C662-491A-8363-4BE9EF94A8A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181480" cy="990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4335480" cy="106668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0"/>
          <p:cNvSpPr/>
          <p:nvPr/>
        </p:nvSpPr>
        <p:spPr>
          <a:xfrm>
            <a:off x="914400" y="3352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r&gt;g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时，有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685800" y="533412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g=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时，零增长模型就是常数增长模型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01992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二）常数增长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1719360"/>
            <a:ext cx="739152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3BB1-20FB-4102-AF7E-D627ADC5814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914400" y="1887480"/>
            <a:ext cx="6215040" cy="7984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1066680" y="2940120"/>
            <a:ext cx="7855200" cy="685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3"/>
          <a:stretch/>
        </p:blipFill>
        <p:spPr>
          <a:xfrm>
            <a:off x="307800" y="5334120"/>
            <a:ext cx="8623440" cy="9903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8"/>
          <p:cNvSpPr/>
          <p:nvPr/>
        </p:nvSpPr>
        <p:spPr>
          <a:xfrm>
            <a:off x="304920" y="380988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假定公司的股利政策不变即留存收益比例恒等于常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净资产收益率稳定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OE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，且公司不打算发行股票等进行外部融资，则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6095880" cy="88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三）多元增长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314D-B2F7-4469-882E-BC5053BFBF0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19920" cy="6858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3886200" cy="94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3"/>
          <a:stretch/>
        </p:blipFill>
        <p:spPr>
          <a:xfrm>
            <a:off x="685800" y="4952880"/>
            <a:ext cx="7605720" cy="990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609480" y="2743200"/>
            <a:ext cx="29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假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1523880" y="2819520"/>
            <a:ext cx="389736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609480" y="419112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假定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…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=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…  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，且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685800" cy="351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"/>
          <p:cNvPicPr/>
          <p:nvPr/>
        </p:nvPicPr>
        <p:blipFill>
          <a:blip r:embed="rId6"/>
          <a:stretch/>
        </p:blipFill>
        <p:spPr>
          <a:xfrm>
            <a:off x="2590920" y="4267080"/>
            <a:ext cx="228600" cy="4003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7"/>
          <a:stretch/>
        </p:blipFill>
        <p:spPr>
          <a:xfrm>
            <a:off x="3048120" y="4343400"/>
            <a:ext cx="199800" cy="382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"/>
          <p:cNvPicPr/>
          <p:nvPr/>
        </p:nvPicPr>
        <p:blipFill>
          <a:blip r:embed="rId8"/>
          <a:stretch/>
        </p:blipFill>
        <p:spPr>
          <a:xfrm>
            <a:off x="3581280" y="4267080"/>
            <a:ext cx="454320" cy="381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" descr=""/>
          <p:cNvPicPr/>
          <p:nvPr/>
        </p:nvPicPr>
        <p:blipFill>
          <a:blip r:embed="rId9"/>
          <a:stretch/>
        </p:blipFill>
        <p:spPr>
          <a:xfrm>
            <a:off x="4343400" y="4267080"/>
            <a:ext cx="685800" cy="3859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"/>
          <p:cNvPicPr/>
          <p:nvPr/>
        </p:nvPicPr>
        <p:blipFill>
          <a:blip r:embed="rId10"/>
          <a:stretch/>
        </p:blipFill>
        <p:spPr>
          <a:xfrm>
            <a:off x="5867280" y="4267080"/>
            <a:ext cx="17240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24852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二、 股权现金流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120" y="1719360"/>
            <a:ext cx="762012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几个基本概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权现金流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司自由现金流量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营运资本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流动资产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流动负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资本投资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2D3-6107-43C4-8401-1F768AB244F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19320" y="122400"/>
            <a:ext cx="63244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股权现金流量计算过程</a:t>
            </a:r>
            <a:r>
              <a:rPr b="0" lang="en-US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没有经营营运资本变动和资本投资时，可向投资者分配的现金流量（即经营现金毛流量）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现金毛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税后经营利润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折旧与摊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税后经营利润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销售收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销售成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管理及销售费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折旧与摊销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得税率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经营营运资本的变动和资本投资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营运资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流动资产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流动负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营运资本的变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期经营营运资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期经营营运资本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资本投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本期经营长期资产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期经营长期资产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本期无息长期负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期无息长期负债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122400"/>
            <a:ext cx="6400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股权现金流量计算过程</a:t>
            </a:r>
            <a:r>
              <a:rPr b="0" lang="en-US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04560" y="129528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自由现金流量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由现金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现金毛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营营运资本的变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资本支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销售收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销售成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管理及销售费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折旧与摊销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得税率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折旧与摊销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本期经营营运资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期经营营运资本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本期经营长期资产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期经营长期资产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息长期负债的增加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股权现金流量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权现金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由现金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债权人现金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由现金流量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税后利息支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偿还债务本金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借债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212-1176-4050-9313-5DAF743B948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24852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股权现金流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42" name="内容占位符 2" descr=""/>
          <p:cNvPicPr/>
          <p:nvPr/>
        </p:nvPicPr>
        <p:blipFill>
          <a:blip r:embed="rId1"/>
          <a:stretch/>
        </p:blipFill>
        <p:spPr>
          <a:xfrm>
            <a:off x="609480" y="1311120"/>
            <a:ext cx="8089920" cy="4821480"/>
          </a:xfrm>
          <a:prstGeom prst="rect">
            <a:avLst/>
          </a:prstGeom>
          <a:ln w="0">
            <a:noFill/>
          </a:ln>
        </p:spPr>
      </p:pic>
      <p:sp>
        <p:nvSpPr>
          <p:cNvPr id="54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930-7A51-4002-A2EF-8C8B14674B9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第三节 股票定价的相对模型</a:t>
            </a:r>
            <a:br>
              <a:rPr sz="2400"/>
            </a:br>
            <a:r>
              <a:rPr b="0" lang="zh-CN" sz="4000" spc="-1" strike="noStrike">
                <a:solidFill>
                  <a:srgbClr val="2f2f2f"/>
                </a:solidFill>
                <a:latin typeface="华文楷体"/>
                <a:ea typeface="华文楷体"/>
              </a:rPr>
              <a:t>一、市盈率模型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120" y="11430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基本模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2D17-D703-4A1D-B4BC-8BF63B0879F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1371600" cy="8222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1295280" cy="788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"/>
          <p:cNvPicPr/>
          <p:nvPr/>
        </p:nvPicPr>
        <p:blipFill>
          <a:blip r:embed="rId3"/>
          <a:stretch/>
        </p:blipFill>
        <p:spPr>
          <a:xfrm>
            <a:off x="1371600" y="3124080"/>
            <a:ext cx="6172200" cy="3636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7"/>
          <p:cNvSpPr/>
          <p:nvPr/>
        </p:nvSpPr>
        <p:spPr>
          <a:xfrm>
            <a:off x="762120" y="358128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模型驱动因素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1" name="Picture 5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7086600" cy="68580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0"/>
          <p:cNvSpPr/>
          <p:nvPr/>
        </p:nvSpPr>
        <p:spPr>
          <a:xfrm>
            <a:off x="457200" y="5105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影响市盈率的主要因素是股利支付率、股利增长率和股权投资成本，其中股利增长率可以看成企业成长性的代理变量，是影响市盈率最为重要的因素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三）模型的优缺点</a:t>
            </a:r>
            <a:br>
              <a:rPr sz="2500"/>
            </a:br>
            <a:r>
              <a:rPr b="0" lang="en-US" sz="2500" spc="-1" strike="noStrike">
                <a:solidFill>
                  <a:srgbClr val="2f2f2f"/>
                </a:solidFill>
                <a:latin typeface="华文楷体"/>
                <a:ea typeface="华文楷体"/>
              </a:rPr>
              <a:t>1</a:t>
            </a:r>
            <a:r>
              <a:rPr b="0" lang="zh-CN" sz="2500" spc="-1" strike="noStrike">
                <a:solidFill>
                  <a:srgbClr val="2f2f2f"/>
                </a:solidFill>
                <a:latin typeface="华文楷体"/>
                <a:ea typeface="华文楷体"/>
              </a:rPr>
              <a:t>、市盈率模型的优点：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盈率模型将股价与公司盈利直接联系起来，简单实用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盈率模型具有较高的综合性。运用市盈率模型对股票进行估价时，必须综合考虑公司的成长性（股利增长率），风险补偿水平（股权投资成本）及公司股利政策（股利支付率）的影响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市盈率模型的缺点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公司盈利为负，市盈率模型失效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除了企业特征以外，市盈率水平受到整大盘走势的影响。运用市盈率模型进行估价时受到一定的局限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司净利润容易被企业操纵，所以运用市盈率模型进行估价时，要充分验证企业盈利的真实性和可持续性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8130-3AD0-4D38-838C-1546E48AB43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20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二、市净率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1447920"/>
            <a:ext cx="784872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基本模型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TextBox 7"/>
          <p:cNvSpPr/>
          <p:nvPr/>
        </p:nvSpPr>
        <p:spPr>
          <a:xfrm>
            <a:off x="380880" y="358128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二）模型驱动因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04920" y="4876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影响市净率的主要因素是股利支付率、股利增长率、净资产收益率和股权投资成本，其中净资产收益率可以看成企业盈利性的代理变量，是影响市净率最为重要的因素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1287720" cy="762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1270080" cy="762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1447920" y="3048120"/>
            <a:ext cx="6248160" cy="353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1295280" y="4191120"/>
            <a:ext cx="7024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4A1A-AA03-43FC-92D7-8B3F0B8593B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3880" y="122400"/>
            <a:ext cx="60199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本章学习提要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重点讲解了股票定价分析的基本概念、基本思想和基本模型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本概念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票定价分析的概念界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本思想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票定价分析的理论基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本模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票定价分析的实际应用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三）模型的优缺点</a:t>
            </a:r>
            <a:br>
              <a:rPr sz="3600"/>
            </a:br>
            <a:r>
              <a:rPr b="0" lang="en-US" sz="2500" spc="-1" strike="noStrike">
                <a:solidFill>
                  <a:srgbClr val="2f2f2f"/>
                </a:solidFill>
                <a:latin typeface="华文楷体"/>
                <a:ea typeface="华文楷体"/>
              </a:rPr>
              <a:t>1</a:t>
            </a:r>
            <a:r>
              <a:rPr b="0" lang="zh-CN" sz="2500" spc="-1" strike="noStrike">
                <a:solidFill>
                  <a:srgbClr val="2f2f2f"/>
                </a:solidFill>
                <a:latin typeface="华文楷体"/>
                <a:ea typeface="华文楷体"/>
              </a:rPr>
              <a:t>、市净率模型的优点：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于极易通过资产重置来复制盈利的企业，市净率能很好的反应其价值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亏损的企业同样可以市净率模型进行估值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净资产较净利润更为稳定，不容易出现大的波动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市净率模型的缺点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净资产受到各家公司会计政策的影响，企业的净资产没有可比性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于垄断性行业或者高科技行业，由于很难通过资产重置的方法获得相应的盈利，所以市净率的比较没有实际意义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6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003-67BF-4B8E-9171-1AB612B0CCC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三、收入乘数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09120" y="1447920"/>
            <a:ext cx="762012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基本模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9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0C0-9214-4F2E-B427-B068AF60F5D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TextBox 7"/>
          <p:cNvSpPr/>
          <p:nvPr/>
        </p:nvSpPr>
        <p:spPr>
          <a:xfrm>
            <a:off x="762120" y="3429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二）模型驱动因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533520" y="5105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影响收入乘数的主要因素是股利支付率、股利增长率、销售净利率和股权投资成本，其中销售净利率是影响收入乘数最为重要的因素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1143000" cy="706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4408560" y="1998720"/>
            <a:ext cx="1143000" cy="716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3"/>
          <a:stretch/>
        </p:blipFill>
        <p:spPr>
          <a:xfrm>
            <a:off x="1378080" y="2871720"/>
            <a:ext cx="6248160" cy="330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4"/>
          <a:stretch/>
        </p:blipFill>
        <p:spPr>
          <a:xfrm>
            <a:off x="914400" y="4245120"/>
            <a:ext cx="73915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三）模型的优缺点</a:t>
            </a:r>
            <a:br>
              <a:rPr sz="2500"/>
            </a:br>
            <a:r>
              <a:rPr b="0" lang="en-US" sz="2500" spc="-1" strike="noStrike">
                <a:solidFill>
                  <a:srgbClr val="2f2f2f"/>
                </a:solidFill>
                <a:latin typeface="华文楷体"/>
                <a:ea typeface="华文楷体"/>
              </a:rPr>
              <a:t>1</a:t>
            </a:r>
            <a:r>
              <a:rPr b="0" lang="zh-CN" sz="2500" spc="-1" strike="noStrike">
                <a:solidFill>
                  <a:srgbClr val="2f2f2f"/>
                </a:solidFill>
                <a:latin typeface="华文楷体"/>
                <a:ea typeface="华文楷体"/>
              </a:rPr>
              <a:t>、收入乘数模型的优点：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295280"/>
            <a:ext cx="8534160" cy="456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企业的销售收入更不容易被操纵，且企业销售收入对企业价格政策、经营战略等的变化较为敏感，能较好的反应企业价值的变化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企业亏损或资不抵债时，收入乘数仍然适用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收入乘数模型的主要缺点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没有反应企业成本的变化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强周期行业的企业销售收入波动较大，收入乘数容易受到系统性风险的影响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1C66-6186-4CFF-BB27-2CC488CA9DC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四、其他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对定价模型种类繁多，凡是可以用来估计股票价格的模型都可以放在这类模型中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如，对于初创期的公司，公司经营没有任何现金流收入，当然谈不上计算公司的市盈率、市净率等。风险投资基金投资时为了计算投入资金应该获得的股权比例，可以根据预期公司股票将来可能的市场价值进行决策，即采用“市梦率”估算公司股票价值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运用相对定价模型时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步要比较公司的估值指标与市场整体、所在行业或同行业内其他公司的对应指标，考察公司估值指标的相对水平。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二步，要试图去解释这种关系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做到这一点，必须知道每个具体估值指标的决定因素是什么，然后将该股票的这些指标与市场整体、行业和其他股票的对应指标进行比较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五、相对定价模型的应用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CD9-7F13-47A8-A3EB-9FFF76B62F7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594360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本章小结 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章首先界定了股票定价分析中容易混淆的两对基本概念，阐述了股票定价分析中绝对定价模型和相对定价模型的基本思想。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利贴现模型和股权现金流量模型的具体应用。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尽管绝对定价模型具有严密的理论逻辑性，但由于涉及过多的预测及假设，运用起来较为复杂。在股票市场上（特别是普通投资者）更多采用的是相对定价模型，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章最后介绍了市盈率模型、市净率模型和收入乘数模型等相对定价模型的应用。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9389-8000-417A-B255-7B48B573FD8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693396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华文楷体"/>
                <a:ea typeface="华文楷体"/>
              </a:rPr>
              <a:t>第一节  股票定价分析概述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股票定价分析基本概念的界定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公平市场价格与现时市场价格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平市场价格是指在法制健全、信息完全、投资者理性等完善市场上，具有理性预期的双方自愿进行资产交换或债务清偿的金额。公平市场价格通常作为股票价格分析框架中的基准价格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价格是指股票市场中股票买卖的成交价格，不同时间的市场价格通常是不同的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平市场价格与现时市场价格出现差异的原因：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于信息的不对称，投资者对于公司的未来存在不同的预期，加之非理性因素的存在，使得市场价格偏离公平市场价格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于市场的不完善，一些不法投资者或机构凭借其资金和信息优势操纵股价，使得股价出现异常波动，从而偏离公平市场价格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数股权价格与控股股权价格的定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股票市场上，每天交易的公司股票数量仅仅占上市公司股票总数的一小部分。因此，股价反映的只是少数股权的交易价格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数股权价格与控股股权价格出现差异的原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好的例子就是：在控制权转让交易中，企业的股票价格往往会飙升，这其实反映的就是一种控制权溢价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票价格分析指的是少数股权价格分析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二）少数股权价格与控股股权价格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持有优先股意味着得到发行公司支付固定股利的承诺。从本质上讲，优先股是一种永久年金，其价值等于股利年金除以优先股的必要收益率。同时，优先股与债券一样，也是在特定的日期支付固定数额的利息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先股股利的不确定性高于债券，投资者对优先股要求的回报率要高于对债券的预期收益率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章的股票定价主要是针对普通股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（三）优先股股票价格与普通股股票价格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E0A-3F8A-4FF4-8C30-99C86C3E580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二、股票定价分析的基本思想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04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股票绝对定价模型与股票相对定价模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绝对定价模型：是通过对公司历史及当前基本面分析与对未来公司经营</a:t>
            </a:r>
            <a:r>
              <a:rPr b="0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流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预测获得上市公司股票内在价值的方法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对估价模型：使用市盈率、市净率、收入乘数等指标与其它多只股票进行比较，若低于比较的相应指标值的平均值，认为股价被低估，股价将很有希望上涨，使指标回归到比较的平均值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5420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二）现金流贴现与股票绝对定价模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三）一价定理与股票相对定价模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确定一个影响企业股票价格的关键变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可比企业的乘数或其平均值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标公司的关键变量乘以该乘数等于公司的公平市场价格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24640" cy="914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2703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2E9B-BBDF-42AC-BA67-ED9463A1EE8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三、 绝对定价模型与相对定价模型比较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绝对定价模型：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有理论上的合理性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有很强的灵活性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缺点：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度依赖现金流量增长率和贴现率的估值，可能得出大大高出或低于当前股票价格的估计值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对定价模型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点：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少了很多假设约束，计算方便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更容易被客户理解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适用那些用现金流贴现方法可能无法估计其市场价值的公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缺点：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使用的是会计盈余，缺乏真实性和可比性；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建立在一年的基础上，没有考虑未来变化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第二节  股票定价的绝对模型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33520" y="1676520"/>
            <a:ext cx="861048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 股利贴现模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零增长模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863F-96F1-49D0-83AD-1515C0BDD37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086600" cy="7617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6705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1T16:19:41Z</dcterms:created>
  <dc:creator/>
  <dc:description/>
  <cp:keywords/>
  <dc:language>en-US</dc:language>
  <cp:lastModifiedBy>mtwang</cp:lastModifiedBy>
  <dcterms:modified xsi:type="dcterms:W3CDTF">2024-01-15T06:38:46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