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6.wmf" ContentType="image/x-wmf"/>
  <Override PartName="/ppt/media/image19.wmf" ContentType="image/x-wmf"/>
  <Override PartName="/ppt/media/image18.png" ContentType="image/png"/>
  <Override PartName="/ppt/media/image17.png" ContentType="image/png"/>
  <Override PartName="/ppt/media/image15.wmf" ContentType="image/x-wmf"/>
  <Override PartName="/ppt/media/image1.jpeg" ContentType="image/jpeg"/>
  <Override PartName="/ppt/media/image4.wmf" ContentType="image/x-wmf"/>
  <Override PartName="/ppt/media/image2.jpeg" ContentType="image/jpeg"/>
  <Override PartName="/ppt/media/image3.png" ContentType="image/png"/>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move the slide</a:t>
            </a:r>
            <a:endParaRPr b="0" lang="en-US" sz="4400" spc="-1" strike="noStrike">
              <a:solidFill>
                <a:srgbClr val="2f2f2f"/>
              </a:solidFill>
              <a:latin typeface="Franklin Gothic Medium"/>
            </a:endParaRPr>
          </a:p>
        </p:txBody>
      </p:sp>
      <p:sp>
        <p:nvSpPr>
          <p:cNvPr id="4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8B39D-957C-43ED-8455-70FA01F37C2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3516-D14A-4518-9BBA-B1524975E43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925E-7E29-42D1-AA66-19A981F8838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473B-3862-474D-8566-48BB455322E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96416-3466-4787-AA1F-0805850AA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665F1-9072-4524-AB1F-3DBDF397C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BE3C4C-03A8-42D0-8489-A27BA752B9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5F6B31-DC4D-4317-944F-D8C5C05CD9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7813A9-F926-4DD2-AF8C-B00AEA798C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E8E7FF-058E-4BB9-8BA4-B3E7460DAC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0554DE-6435-4808-9841-31AC38B790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A1AB6A-70A6-406E-AC19-E9A7535C7B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E1F7FC-2D45-4045-8AC9-350B67FA9F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F7A526-6C2D-4CFC-9C09-E1C349C106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A3DF62-AF79-4B3D-8CC2-9ED3384E6E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C4FCD13-75B7-4A13-873D-4978D43BEAE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F644A-0AC8-40BC-B055-29078FA73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C27385-9B2C-4E2A-865A-F7F9703ACA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4BFA07-E94F-4511-973F-FA57765402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04515D-2384-422F-9EF5-305FC91D01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79C07B-2787-452A-B20B-A7662C3E26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A09A32-6A22-4E5D-8757-A884C1BB93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7B418A-3F69-4693-90D7-5F1073E9D9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FE9F49-84BA-4CE2-8213-DA4ED72F57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A1BBEA-8B6F-4C82-9A67-925AC4407F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A5380B-B144-4956-9522-D246974646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45C8E92-F0B7-4236-9376-3F3EF603AB0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BACE1-365C-4B5D-B90F-C5D5D1162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3228442-E69F-472E-A037-D5943BD5A5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7A0876A-BED8-4641-B0CC-26C3576DA32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2F7F0F-B0BA-4062-BD02-6A8432C8A4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851D4A-977B-4249-A05C-7011FB03EC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910E28-3471-42EE-BC8C-843FDEFDE1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BE303B-6486-440C-960A-E2FF29E61B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30D476-CF82-4F3D-81D0-89CCF125CF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1268C7-F1F0-433D-8F2D-2BA1129012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D12FD4-F2E2-4E5D-B485-778C7C6795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D8D441-E10D-4789-A57A-58F034202A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A23D6-BF66-4DBF-89B8-812D30D3D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6FB1F4-CB94-4F85-95E9-EBEE365A36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2AB681-54B7-4210-9D2E-2F491222EC8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13EA4E1-BAC5-43EE-A0A1-A02395833D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929A5-A8DE-44B2-A627-728D68188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40752-F4A2-4279-9653-44B66A1C1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7041D-5188-467E-BF94-3E5FDFF71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93DD0-3C8B-4A90-8AFB-168EEE68F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9479A-60F9-49E3-A9BD-A4A0EEBE6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3E13A-FA8A-47D7-ABD1-38CF4B71B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24B73-95E2-4B1C-8588-43BE18080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37948-3E5B-49B0-9EFB-626FC352B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62226-73A9-4786-A63D-291E371D9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D2313-731D-4999-AC55-B058B6934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AE479-6AC3-45C0-8942-DEE24E04C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9F932-0E11-4192-9D95-10C2856DA9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8C8872-4752-479B-A8BF-29EA3E50F8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5651CE-40E9-4BA3-B9DA-D0D4670B9B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C03FB4-343E-4034-9AB4-B349F38681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BC26F3-E385-42F8-BD78-D063DD7A0F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F79D07-3999-46C5-8F62-4DFC337D4F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E4B7A-22B5-4328-A0C2-739F0CA72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578BFC-409E-41C0-A884-47E62FF639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0F64EB-268A-4858-8315-3B276B008C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5D6F3D-1D4D-474B-BACD-FBD8FF4A97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9697FE-52A0-47C2-A3F9-1D6B69322C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45AE9C-92F8-41C1-9D87-6C88AA94A9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DF6211-08CC-4A9A-867B-0C232F1FDA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4A455F-ED6F-4239-B346-A3989425FF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3381B7-178D-484D-AD01-B6F8FF37BD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DB856A-6D7D-4C34-BFCD-1AA4287A6C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D545AB-5479-4702-8D67-B74B5A3EA6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0EFD4-33D3-435D-BFE1-F2ABD77CB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9F5D3D-922D-4BD1-B4CF-EDA3C2AA1D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8A69F3-DF1F-4080-B2AC-17F8C3D44B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0A4C3D-D4EF-44BD-B252-B3B3E6E89C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3682F-2247-47A4-83F8-FD6FBDA21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B4A45-5885-4162-B599-FC51C0133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547E21-03EE-4406-A0E0-7011E0F600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88D2C2-BBA0-4A25-854D-BFEAC610D0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D83A78-2877-4BBF-AB37-AEC214438A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78A966-3D31-495F-8D27-020E2405A4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B10B35-978F-43BE-A3F6-F31599E88C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FE79C-DF96-406C-8159-AE2F64553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22952C-3B7D-468A-9BF7-A300C5D6CA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33614B-184C-4490-A052-87B0854498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EBB597-E618-40F9-AC80-36B4721544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93C681-D4FE-422E-97FA-39A3E03C5E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46E50F-58CC-42A6-915C-49A59421D2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D18148-E2C8-4FC2-A4F8-A71D363B1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379D96-6305-4085-AA9F-4C8AA8329C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43F159-74B6-441B-BC63-5F94922E9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56FC50-2B51-4BD9-984B-80EF37F8B5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05C56C-CFFA-479B-A22F-592F9F76C6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6CD9B-50A1-461B-803F-5B89FE795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8DABCC-D20F-4451-809F-C8BC10DAA8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F314E4-181D-4024-BCE5-5B5737E20F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8CD94D-3393-47C3-BCDF-ED88CD3546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109DB9-7AE4-4D62-87E2-9E371F2936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842F77-2170-4CED-9BAB-DCB4DD1BC8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E8A4DE-DE45-4BA5-B880-E21ABBC8E1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739990-0F56-4895-B5A5-13EBCC1752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6B6EBA-D72A-4B36-A0B1-C3201850F6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8243CD-5C9D-4800-9363-78CD98FA4C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AAA265-1369-4067-A211-7BB31F30CF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9E91C-15A6-4CB7-BF8F-0DE9A2F14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9A195B-CFEC-4237-B788-993BA5FC0E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647759-42D4-43E7-9BC3-27AC83C7F2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318EB8-5916-4F39-A815-1E9C20EC0A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4F3B4A-F4B3-4BB4-AC6C-F33DBA4F41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5D5116-200E-4C2C-A687-DFA4798A22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605B32-D810-4012-B556-2807ADE71D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A7CFF9-E5E0-4116-ADBA-0A3F7064C8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89CD94-1F0A-4E6E-B775-EF466C9F22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066A06-F220-4F4F-8975-F5BFB69A24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959F72-2619-47AE-A86C-43598D0EAE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595C2-EA7E-40F2-9035-10014C3BD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D02FDE-58B1-4AE8-AD07-0E2E170531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830678-1214-45DC-B042-8B44AA3EA4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9310D4-B7CE-4223-AB42-CCAF8ED53D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8896A6-2E9C-4C8F-8F83-8B46408C6D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A47933-2240-4777-B848-6C60123F85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1003AF-FE70-4643-9743-1B547C8D40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BFCEA2-B60C-4A11-A214-AA856AE927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A0E118-88B8-491B-82D8-5F52DD17D7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A0A17E-3E9B-4B51-870C-52505ECEA8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D8CDFC-2D4B-4DA0-9E3C-A022D5560C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AC75E-AAFB-48B3-95F0-2C8D9C6BC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7AE1DC-A04D-458B-AFAB-42FF0D08DA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DA4751-0CB2-41AB-BEBE-86E2E09110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1E9F1F-912B-4AC6-A1EF-E189310B19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9F016B-4421-47F8-AEB5-FA96824211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25B8D9-08D8-4B2D-878A-2E73420D04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F0FCEF-733B-435D-B8F9-4AB836CCEF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B97016-5287-43DA-87EF-03C2A51945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350D19-5473-4CB4-BBBB-6E4907F557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9C0BED-D7D7-48E7-822A-7343B0AA03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4147CA-7803-4E54-BEFF-1CDF1CCEC2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D7E2-7ACC-45C0-B71C-E74A2795199D}"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2DD4-C394-421B-A3D8-E9FED255DA04}"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330B-8E7E-49FB-A76E-FDAFC3F5D693}"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8"/>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92ED-F286-459B-B47C-5F0DD1ADC739}"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26CF-DEAA-46B4-BC96-15197470E0C0}"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7980-5575-4E7C-8963-7FF3BB25046A}"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287C-F7D0-403A-8358-93C179C411A9}"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6F3A-DD77-4B20-8CFD-63650085C757}"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2ABF-F72E-4142-A2CF-E0B7D958EDA7}"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B6A4-D309-4AFD-8431-50436A51179F}"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8"/>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9911-1BBD-46D3-82C8-9D5E5530BB6D}"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285640"/>
            <a:ext cx="7772400" cy="1538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华文楷体"/>
                <a:ea typeface="华文楷体"/>
              </a:rPr>
              <a:t>第四章 证券投资收益与风险</a:t>
            </a:r>
            <a:endParaRPr b="0" lang="en-US" sz="4000" spc="-1" strike="noStrike">
              <a:solidFill>
                <a:srgbClr val="2f2f2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随机变量的方差与协方差</a:t>
            </a:r>
            <a:endParaRPr b="0" lang="en-US" sz="3600" spc="-1" strike="noStrike">
              <a:solidFill>
                <a:srgbClr val="2f2f2f"/>
              </a:solidFill>
              <a:latin typeface="Franklin Gothic Medium"/>
            </a:endParaRPr>
          </a:p>
        </p:txBody>
      </p:sp>
      <p:sp>
        <p:nvSpPr>
          <p:cNvPr id="517"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512B-CBA5-408C-A66E-AAEF345626F8}"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pic>
        <p:nvPicPr>
          <p:cNvPr id="518" name="Rectangle 3" descr=""/>
          <p:cNvPicPr/>
          <p:nvPr/>
        </p:nvPicPr>
        <p:blipFill>
          <a:blip r:embed="rId1"/>
          <a:stretch/>
        </p:blipFill>
        <p:spPr>
          <a:xfrm>
            <a:off x="291960" y="1560600"/>
            <a:ext cx="8547120" cy="4840200"/>
          </a:xfrm>
          <a:prstGeom prst="rect">
            <a:avLst/>
          </a:prstGeom>
          <a:ln w="0">
            <a:noFill/>
          </a:ln>
        </p:spPr>
      </p:pic>
      <p:pic>
        <p:nvPicPr>
          <p:cNvPr id="519" name="图片 3" descr=""/>
          <p:cNvPicPr/>
          <p:nvPr/>
        </p:nvPicPr>
        <p:blipFill>
          <a:blip r:embed="rId2"/>
          <a:stretch/>
        </p:blipFill>
        <p:spPr>
          <a:xfrm>
            <a:off x="600120" y="2209680"/>
            <a:ext cx="810720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第三节、证券投资收益的度量</a:t>
            </a:r>
            <a:endParaRPr b="0" lang="en-US" sz="3600" spc="-1" strike="noStrike">
              <a:solidFill>
                <a:srgbClr val="2f2f2f"/>
              </a:solidFill>
              <a:latin typeface="Franklin Gothic Medium"/>
            </a:endParaRPr>
          </a:p>
        </p:txBody>
      </p:sp>
      <p:sp>
        <p:nvSpPr>
          <p:cNvPr id="521"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88EE-7347-47B0-812E-79202B079AF1}"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pic>
        <p:nvPicPr>
          <p:cNvPr id="522" name="Rectangle 3" descr=""/>
          <p:cNvPicPr/>
          <p:nvPr/>
        </p:nvPicPr>
        <p:blipFill>
          <a:blip r:embed="rId1"/>
          <a:stretch/>
        </p:blipFill>
        <p:spPr>
          <a:xfrm>
            <a:off x="291960" y="1371600"/>
            <a:ext cx="8547120" cy="484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资产组合收益率的度量</a:t>
            </a:r>
            <a:endParaRPr b="0" lang="en-US" sz="3600" spc="-1" strike="noStrike">
              <a:solidFill>
                <a:srgbClr val="2f2f2f"/>
              </a:solidFill>
              <a:latin typeface="Franklin Gothic Medium"/>
            </a:endParaRPr>
          </a:p>
        </p:txBody>
      </p:sp>
      <p:sp>
        <p:nvSpPr>
          <p:cNvPr id="524"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9874-FD98-40C9-9F42-6B22815E0CA6}"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pic>
        <p:nvPicPr>
          <p:cNvPr id="525" name="Rectangle 3" descr=""/>
          <p:cNvPicPr/>
          <p:nvPr/>
        </p:nvPicPr>
        <p:blipFill>
          <a:blip r:embed="rId1"/>
          <a:stretch/>
        </p:blipFill>
        <p:spPr>
          <a:xfrm>
            <a:off x="291960" y="1371600"/>
            <a:ext cx="8547120" cy="484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证券投资预期收益的度量</a:t>
            </a:r>
            <a:endParaRPr b="0" lang="en-US" sz="3600" spc="-1" strike="noStrike">
              <a:solidFill>
                <a:srgbClr val="2f2f2f"/>
              </a:solidFill>
              <a:latin typeface="Franklin Gothic Medium"/>
            </a:endParaRPr>
          </a:p>
        </p:txBody>
      </p:sp>
      <p:sp>
        <p:nvSpPr>
          <p:cNvPr id="527"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258E-2E44-4D4B-B8D3-BB14A5F5FE8B}"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pic>
        <p:nvPicPr>
          <p:cNvPr id="528" name="Rectangle 3" descr=""/>
          <p:cNvPicPr/>
          <p:nvPr/>
        </p:nvPicPr>
        <p:blipFill>
          <a:blip r:embed="rId1"/>
          <a:stretch/>
        </p:blipFill>
        <p:spPr>
          <a:xfrm>
            <a:off x="291960" y="1371600"/>
            <a:ext cx="8547120" cy="484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071360" y="571680"/>
            <a:ext cx="6957720" cy="60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证券投资预期收益的度量</a:t>
            </a:r>
            <a:endParaRPr b="0" lang="en-US" sz="3600" spc="-1" strike="noStrike">
              <a:solidFill>
                <a:srgbClr val="2f2f2f"/>
              </a:solidFill>
              <a:latin typeface="Franklin Gothic Medium"/>
            </a:endParaRPr>
          </a:p>
        </p:txBody>
      </p:sp>
      <p:pic>
        <p:nvPicPr>
          <p:cNvPr id="530" name="Rectangle 3" descr=""/>
          <p:cNvPicPr/>
          <p:nvPr/>
        </p:nvPicPr>
        <p:blipFill>
          <a:blip r:embed="rId1"/>
          <a:stretch/>
        </p:blipFill>
        <p:spPr>
          <a:xfrm>
            <a:off x="291960" y="1427040"/>
            <a:ext cx="8699760" cy="527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071360" y="571680"/>
            <a:ext cx="6957720" cy="60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第四节 证券投资风险的度量</a:t>
            </a:r>
            <a:endParaRPr b="0" lang="en-US" sz="3600" spc="-1" strike="noStrike">
              <a:solidFill>
                <a:srgbClr val="2f2f2f"/>
              </a:solidFill>
              <a:latin typeface="Franklin Gothic Medium"/>
            </a:endParaRPr>
          </a:p>
        </p:txBody>
      </p:sp>
      <p:sp>
        <p:nvSpPr>
          <p:cNvPr id="532" name=""/>
          <p:cNvSpPr txBox="1"/>
          <p:nvPr/>
        </p:nvSpPr>
        <p:spPr>
          <a:xfrm>
            <a:off x="304920" y="1428840"/>
            <a:ext cx="8686800" cy="5276880"/>
          </a:xfrm>
          <a:prstGeom prst="rect">
            <a:avLst/>
          </a:prstGeom>
          <a:noFill/>
          <a:ln w="0">
            <a:noFill/>
          </a:ln>
        </p:spPr>
        <p:txBody>
          <a:bodyPr anchor="t">
            <a:normAutofit/>
          </a:bodyPr>
          <a:p>
            <a:pPr marL="343080" algn="just">
              <a:lnSpc>
                <a:spcPct val="100000"/>
              </a:lnSpc>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一、证券投资风险的含义</a:t>
            </a:r>
            <a:endParaRPr b="0" lang="en-US" sz="3200" spc="-1" strike="noStrike">
              <a:solidFill>
                <a:srgbClr val="000000"/>
              </a:solidFill>
              <a:latin typeface="Franklin Gothic Book"/>
            </a:endParaRPr>
          </a:p>
          <a:p>
            <a:pPr marL="343080" algn="just">
              <a:lnSpc>
                <a:spcPct val="100000"/>
              </a:lnSpc>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2f2f"/>
                </a:solidFill>
                <a:latin typeface="华文楷体"/>
                <a:ea typeface="华文楷体"/>
              </a:rPr>
              <a:t>证券投资活动中面临多种风险，比如：证券监管政策的变动、证券交易过程中的不当操作、证券市场价格变动等。</a:t>
            </a:r>
            <a:endParaRPr b="0" lang="en-US" sz="2800" spc="-1" strike="noStrike">
              <a:solidFill>
                <a:srgbClr val="000000"/>
              </a:solidFill>
              <a:latin typeface="Franklin Gothic Book"/>
            </a:endParaRPr>
          </a:p>
          <a:p>
            <a:pPr marL="343080" algn="just">
              <a:lnSpc>
                <a:spcPct val="100000"/>
              </a:lnSpc>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2f2f"/>
                </a:solidFill>
                <a:latin typeface="华文楷体"/>
                <a:ea typeface="华文楷体"/>
              </a:rPr>
              <a:t>这里将证券投资风险狭义地定义为由于证券市场价格的变动给投资者带来收益上的不确定性。在投资学中，经常使用收益率的方差来衡量证券投资风险。当然，收益率的标准差也经常被用来衡量证券投资风险的大小。</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071360" y="571680"/>
            <a:ext cx="6957720" cy="60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证券投资风险的分类</a:t>
            </a:r>
            <a:endParaRPr b="0" lang="en-US" sz="3600" spc="-1" strike="noStrike">
              <a:solidFill>
                <a:srgbClr val="2f2f2f"/>
              </a:solidFill>
              <a:latin typeface="Franklin Gothic Medium"/>
            </a:endParaRPr>
          </a:p>
        </p:txBody>
      </p:sp>
      <p:sp>
        <p:nvSpPr>
          <p:cNvPr id="534" name=""/>
          <p:cNvSpPr txBox="1"/>
          <p:nvPr/>
        </p:nvSpPr>
        <p:spPr>
          <a:xfrm>
            <a:off x="304920" y="1428840"/>
            <a:ext cx="8686800" cy="5276880"/>
          </a:xfrm>
          <a:prstGeom prst="rect">
            <a:avLst/>
          </a:prstGeom>
          <a:noFill/>
          <a:ln w="0">
            <a:noFill/>
          </a:ln>
        </p:spPr>
        <p:txBody>
          <a:bodyPr anchor="t">
            <a:normAutofit/>
          </a:bodyPr>
          <a:p>
            <a:pPr marL="343080" algn="just">
              <a:lnSpc>
                <a:spcPct val="100000"/>
              </a:lnSpc>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2f2f"/>
                </a:solidFill>
                <a:latin typeface="华文楷体"/>
                <a:ea typeface="华文楷体"/>
              </a:rPr>
              <a:t>一般将证券投资风险分成两大类：系统风险和非系统风险。</a:t>
            </a:r>
            <a:endParaRPr b="0" lang="en-US" sz="2800" spc="-1" strike="noStrike">
              <a:solidFill>
                <a:srgbClr val="000000"/>
              </a:solidFill>
              <a:latin typeface="Franklin Gothic Book"/>
            </a:endParaRPr>
          </a:p>
          <a:p>
            <a:pPr marL="343080" algn="just">
              <a:lnSpc>
                <a:spcPct val="100000"/>
              </a:lnSpc>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2f2f"/>
                </a:solidFill>
                <a:latin typeface="华文楷体"/>
                <a:ea typeface="华文楷体"/>
              </a:rPr>
              <a:t>系统风险是指对所有证券价格都产生影响的因素导致的不确定性</a:t>
            </a:r>
            <a:endParaRPr b="0" lang="en-US" sz="2800" spc="-1" strike="noStrike">
              <a:solidFill>
                <a:srgbClr val="000000"/>
              </a:solidFill>
              <a:latin typeface="Franklin Gothic Book"/>
            </a:endParaRPr>
          </a:p>
          <a:p>
            <a:pPr marL="343080" algn="just">
              <a:lnSpc>
                <a:spcPct val="100000"/>
              </a:lnSpc>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2f2f"/>
                </a:solidFill>
                <a:latin typeface="华文楷体"/>
                <a:ea typeface="华文楷体"/>
              </a:rPr>
              <a:t>非系统风险是指仅对单个股票收益产生影响的因素导致的不确定性。</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071360" y="571680"/>
            <a:ext cx="6957720" cy="60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三、单一证券投资风险的度量</a:t>
            </a:r>
            <a:endParaRPr b="0" lang="en-US" sz="3600" spc="-1" strike="noStrike">
              <a:solidFill>
                <a:srgbClr val="2f2f2f"/>
              </a:solidFill>
              <a:latin typeface="Franklin Gothic Medium"/>
            </a:endParaRPr>
          </a:p>
        </p:txBody>
      </p:sp>
      <p:pic>
        <p:nvPicPr>
          <p:cNvPr id="536" name="Rectangle 3" descr=""/>
          <p:cNvPicPr/>
          <p:nvPr/>
        </p:nvPicPr>
        <p:blipFill>
          <a:blip r:embed="rId1"/>
          <a:stretch/>
        </p:blipFill>
        <p:spPr>
          <a:xfrm>
            <a:off x="291960" y="1427040"/>
            <a:ext cx="8699760" cy="5278680"/>
          </a:xfrm>
          <a:prstGeom prst="rect">
            <a:avLst/>
          </a:prstGeom>
          <a:ln w="0">
            <a:noFill/>
          </a:ln>
        </p:spPr>
      </p:pic>
      <p:pic>
        <p:nvPicPr>
          <p:cNvPr id="537" name="图片 10" descr=""/>
          <p:cNvPicPr/>
          <p:nvPr/>
        </p:nvPicPr>
        <p:blipFill>
          <a:blip r:embed="rId2"/>
          <a:stretch/>
        </p:blipFill>
        <p:spPr>
          <a:xfrm>
            <a:off x="-38160" y="4267080"/>
            <a:ext cx="9271080" cy="175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071360" y="571680"/>
            <a:ext cx="6957720" cy="60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四、证券组合投资风险的度量</a:t>
            </a:r>
            <a:endParaRPr b="0" lang="en-US" sz="3600" spc="-1" strike="noStrike">
              <a:solidFill>
                <a:srgbClr val="2f2f2f"/>
              </a:solidFill>
              <a:latin typeface="Franklin Gothic Medium"/>
            </a:endParaRPr>
          </a:p>
        </p:txBody>
      </p:sp>
      <p:pic>
        <p:nvPicPr>
          <p:cNvPr id="539" name="内容占位符 2" descr=""/>
          <p:cNvPicPr/>
          <p:nvPr/>
        </p:nvPicPr>
        <p:blipFill>
          <a:blip r:embed="rId1"/>
          <a:stretch/>
        </p:blipFill>
        <p:spPr>
          <a:xfrm>
            <a:off x="457200" y="1295280"/>
            <a:ext cx="8229600" cy="525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071360" y="571680"/>
            <a:ext cx="6957720" cy="60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四、证券组合投资风险的度量</a:t>
            </a:r>
            <a:endParaRPr b="0" lang="en-US" sz="3600" spc="-1" strike="noStrike">
              <a:solidFill>
                <a:srgbClr val="2f2f2f"/>
              </a:solidFill>
              <a:latin typeface="Franklin Gothic Medium"/>
            </a:endParaRPr>
          </a:p>
        </p:txBody>
      </p:sp>
      <p:pic>
        <p:nvPicPr>
          <p:cNvPr id="541" name="内容占位符 1" descr=""/>
          <p:cNvPicPr/>
          <p:nvPr/>
        </p:nvPicPr>
        <p:blipFill>
          <a:blip r:embed="rId1"/>
          <a:stretch/>
        </p:blipFill>
        <p:spPr>
          <a:xfrm>
            <a:off x="444600" y="1603440"/>
            <a:ext cx="8242200" cy="46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华文楷体"/>
                <a:ea typeface="华文楷体"/>
              </a:rPr>
              <a:t>本章学习提要 </a:t>
            </a:r>
            <a:endParaRPr b="0" lang="en-US" sz="4400" spc="-1" strike="noStrike">
              <a:solidFill>
                <a:srgbClr val="2f2f2f"/>
              </a:solidFill>
              <a:latin typeface="Franklin Gothic Medium"/>
            </a:endParaRPr>
          </a:p>
        </p:txBody>
      </p:sp>
      <p:sp>
        <p:nvSpPr>
          <p:cNvPr id="490" name=""/>
          <p:cNvSpPr txBox="1"/>
          <p:nvPr/>
        </p:nvSpPr>
        <p:spPr>
          <a:xfrm>
            <a:off x="380880" y="1447560"/>
            <a:ext cx="8305920" cy="4838760"/>
          </a:xfrm>
          <a:prstGeom prst="rect">
            <a:avLst/>
          </a:prstGeom>
          <a:noFill/>
          <a:ln w="0">
            <a:noFill/>
          </a:ln>
        </p:spPr>
        <p:txBody>
          <a:bodyPr anchor="t">
            <a:normAutofit/>
          </a:bodyPr>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学的基本假设</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学的数学基础</a:t>
            </a:r>
            <a:r>
              <a:rPr b="0" lang="en-US"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投资收益的度量</a:t>
            </a:r>
            <a:r>
              <a:rPr b="0" lang="en-US"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投资风险的度量</a:t>
            </a:r>
            <a:r>
              <a:rPr b="0" lang="en-US"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p:txBody>
      </p:sp>
      <p:sp>
        <p:nvSpPr>
          <p:cNvPr id="491"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CC29F-5CD7-4F1D-9B46-4753B1677E41}"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071360" y="571680"/>
            <a:ext cx="7081560" cy="60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五、证券投资风险的其它度量方法</a:t>
            </a:r>
            <a:endParaRPr b="0" lang="en-US" sz="3600" spc="-1" strike="noStrike">
              <a:solidFill>
                <a:srgbClr val="2f2f2f"/>
              </a:solidFill>
              <a:latin typeface="Franklin Gothic Medium"/>
            </a:endParaRPr>
          </a:p>
        </p:txBody>
      </p:sp>
      <p:pic>
        <p:nvPicPr>
          <p:cNvPr id="543" name="内容占位符 1" descr=""/>
          <p:cNvPicPr/>
          <p:nvPr/>
        </p:nvPicPr>
        <p:blipFill>
          <a:blip r:embed="rId1"/>
          <a:stretch/>
        </p:blipFill>
        <p:spPr>
          <a:xfrm>
            <a:off x="444600" y="1603440"/>
            <a:ext cx="8242200" cy="46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071360" y="571680"/>
            <a:ext cx="7081560" cy="60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五、证券投资风险的其它度量方法</a:t>
            </a:r>
            <a:endParaRPr b="0" lang="en-US" sz="3600" spc="-1" strike="noStrike">
              <a:solidFill>
                <a:srgbClr val="2f2f2f"/>
              </a:solidFill>
              <a:latin typeface="Franklin Gothic Medium"/>
            </a:endParaRPr>
          </a:p>
        </p:txBody>
      </p:sp>
      <p:sp>
        <p:nvSpPr>
          <p:cNvPr id="545" name=""/>
          <p:cNvSpPr txBox="1"/>
          <p:nvPr/>
        </p:nvSpPr>
        <p:spPr>
          <a:xfrm>
            <a:off x="456840" y="1447560"/>
            <a:ext cx="8381880" cy="4838760"/>
          </a:xfrm>
          <a:prstGeom prst="rect">
            <a:avLst/>
          </a:prstGeom>
          <a:noFill/>
          <a:ln w="0">
            <a:noFill/>
          </a:ln>
        </p:spPr>
        <p:txBody>
          <a:bodyPr anchor="t">
            <a:normAutofit/>
          </a:bodyPr>
          <a:p>
            <a:pPr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使用</a:t>
            </a:r>
            <a:r>
              <a:rPr b="0" lang="en-US" sz="2800" spc="-1" strike="noStrike">
                <a:solidFill>
                  <a:srgbClr val="000000"/>
                </a:solidFill>
                <a:latin typeface="华文楷体"/>
                <a:ea typeface="华文楷体"/>
              </a:rPr>
              <a:t>2010</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31</a:t>
            </a:r>
            <a:r>
              <a:rPr b="0" lang="zh-CN" sz="2800" spc="-1" strike="noStrike">
                <a:solidFill>
                  <a:srgbClr val="000000"/>
                </a:solidFill>
                <a:latin typeface="华文楷体"/>
                <a:ea typeface="华文楷体"/>
              </a:rPr>
              <a:t>日到</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6</a:t>
            </a:r>
            <a:r>
              <a:rPr b="0" lang="zh-CN" sz="2800" spc="-1" strike="noStrike">
                <a:solidFill>
                  <a:srgbClr val="000000"/>
                </a:solidFill>
                <a:latin typeface="华文楷体"/>
                <a:ea typeface="华文楷体"/>
              </a:rPr>
              <a:t>日期间上证综合指数、中证</a:t>
            </a:r>
            <a:r>
              <a:rPr b="0" lang="en-US" sz="2800" spc="-1" strike="noStrike">
                <a:solidFill>
                  <a:srgbClr val="000000"/>
                </a:solidFill>
                <a:latin typeface="华文楷体"/>
                <a:ea typeface="华文楷体"/>
              </a:rPr>
              <a:t>500</a:t>
            </a:r>
            <a:r>
              <a:rPr b="0" lang="zh-CN" sz="2800" spc="-1" strike="noStrike">
                <a:solidFill>
                  <a:srgbClr val="000000"/>
                </a:solidFill>
                <a:latin typeface="华文楷体"/>
                <a:ea typeface="华文楷体"/>
              </a:rPr>
              <a:t>指数、沪深</a:t>
            </a:r>
            <a:r>
              <a:rPr b="0" lang="en-US" sz="2800" spc="-1" strike="noStrike">
                <a:solidFill>
                  <a:srgbClr val="000000"/>
                </a:solidFill>
                <a:latin typeface="华文楷体"/>
                <a:ea typeface="华文楷体"/>
              </a:rPr>
              <a:t>300</a:t>
            </a:r>
            <a:r>
              <a:rPr b="0" lang="zh-CN" sz="2800" spc="-1" strike="noStrike">
                <a:solidFill>
                  <a:srgbClr val="000000"/>
                </a:solidFill>
                <a:latin typeface="华文楷体"/>
                <a:ea typeface="华文楷体"/>
              </a:rPr>
              <a:t>指数和创业板指数的日收盘价格计算得到的收益率为样本，分别计算以下风险指标：</a:t>
            </a:r>
            <a:endParaRPr b="0" lang="en-US" sz="2800" spc="-1" strike="noStrike">
              <a:solidFill>
                <a:srgbClr val="000000"/>
              </a:solidFill>
              <a:latin typeface="Franklin Gothic Book"/>
            </a:endParaRPr>
          </a:p>
          <a:p>
            <a:pPr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标准差、下半标准差、</a:t>
            </a:r>
            <a:r>
              <a:rPr b="0" lang="en-US" sz="2800" spc="-1" strike="noStrike">
                <a:solidFill>
                  <a:srgbClr val="000000"/>
                </a:solidFill>
                <a:latin typeface="华文楷体"/>
                <a:ea typeface="华文楷体"/>
              </a:rPr>
              <a:t>99%VaR</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99%CVaR</a:t>
            </a:r>
            <a:r>
              <a:rPr b="0" lang="zh-CN" sz="2800" spc="-1" strike="noStrike">
                <a:solidFill>
                  <a:srgbClr val="000000"/>
                </a:solidFill>
                <a:latin typeface="华文楷体"/>
                <a:ea typeface="华文楷体"/>
              </a:rPr>
              <a:t>。其中，</a:t>
            </a:r>
            <a:r>
              <a:rPr b="0" lang="en-US" sz="2800" spc="-1" strike="noStrike">
                <a:solidFill>
                  <a:srgbClr val="000000"/>
                </a:solidFill>
                <a:latin typeface="华文楷体"/>
                <a:ea typeface="华文楷体"/>
              </a:rPr>
              <a:t>99%VaR</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99%CVaR</a:t>
            </a:r>
            <a:r>
              <a:rPr b="0" lang="zh-CN" sz="2800" spc="-1" strike="noStrike">
                <a:solidFill>
                  <a:srgbClr val="000000"/>
                </a:solidFill>
                <a:latin typeface="华文楷体"/>
                <a:ea typeface="华文楷体"/>
              </a:rPr>
              <a:t>的计算都是基于历史样本分布的</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的分位数得到的。</a:t>
            </a:r>
            <a:endParaRPr b="0" lang="en-US" sz="2800" spc="-1" strike="noStrike">
              <a:solidFill>
                <a:srgbClr val="000000"/>
              </a:solidFill>
              <a:latin typeface="Franklin Gothic Book"/>
            </a:endParaRPr>
          </a:p>
          <a:p>
            <a:pPr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另外，上证综合指数从各个风险指标来看，均表现出了风险最低的特征，而创业板指数呈现出风险最高的特征。</a:t>
            </a:r>
            <a:endParaRPr b="0" lang="en-US" sz="2800" spc="-1" strike="noStrike">
              <a:solidFill>
                <a:srgbClr val="000000"/>
              </a:solidFill>
              <a:latin typeface="Franklin Gothic Book"/>
            </a:endParaRPr>
          </a:p>
          <a:p>
            <a:pPr marL="343080" algn="just">
              <a:lnSpc>
                <a:spcPct val="100000"/>
              </a:lnSpc>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071360" y="571680"/>
            <a:ext cx="7081560" cy="60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五、证券投资风险的其它度量方法</a:t>
            </a:r>
            <a:endParaRPr b="0" lang="en-US" sz="3600" spc="-1" strike="noStrike">
              <a:solidFill>
                <a:srgbClr val="2f2f2f"/>
              </a:solidFill>
              <a:latin typeface="Franklin Gothic Medium"/>
            </a:endParaRPr>
          </a:p>
        </p:txBody>
      </p:sp>
      <p:sp>
        <p:nvSpPr>
          <p:cNvPr id="547" name=""/>
          <p:cNvSpPr txBox="1"/>
          <p:nvPr/>
        </p:nvSpPr>
        <p:spPr>
          <a:xfrm>
            <a:off x="457200" y="1600200"/>
            <a:ext cx="8229600" cy="4686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pic>
        <p:nvPicPr>
          <p:cNvPr id="548" name="图片 4" descr=""/>
          <p:cNvPicPr/>
          <p:nvPr/>
        </p:nvPicPr>
        <p:blipFill>
          <a:blip r:embed="rId1"/>
          <a:stretch/>
        </p:blipFill>
        <p:spPr>
          <a:xfrm>
            <a:off x="1066680" y="2057400"/>
            <a:ext cx="7315200" cy="3505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04560"/>
            <a:ext cx="822960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华文楷体"/>
                <a:ea typeface="华文楷体"/>
              </a:rPr>
              <a:t>本章小结</a:t>
            </a:r>
            <a:r>
              <a:rPr b="0" lang="en-US" sz="4000" spc="-1" strike="noStrike">
                <a:solidFill>
                  <a:srgbClr val="2f2f2f"/>
                </a:solidFill>
                <a:latin typeface="华文楷体"/>
                <a:ea typeface="华文楷体"/>
              </a:rPr>
              <a:t> </a:t>
            </a:r>
            <a:endParaRPr b="0" lang="en-US" sz="4000" spc="-1" strike="noStrike">
              <a:solidFill>
                <a:srgbClr val="2f2f2f"/>
              </a:solidFill>
              <a:latin typeface="Franklin Gothic Medium"/>
            </a:endParaRPr>
          </a:p>
        </p:txBody>
      </p:sp>
      <p:sp>
        <p:nvSpPr>
          <p:cNvPr id="550" name=""/>
          <p:cNvSpPr txBox="1"/>
          <p:nvPr/>
        </p:nvSpPr>
        <p:spPr>
          <a:xfrm>
            <a:off x="380880" y="1371240"/>
            <a:ext cx="8382240" cy="49150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本章第一节介绍了投资学中最基本的假设：投资者是理性的，以及金融市场是有效的。</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二节介绍了一些统计学相关的知识点，具体包括随机变量的期望、方差、标准差、偏度、峰度、协方差和相关系数等内容。</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三节介绍了单个资产和资产组合期望收益的计算。</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四节介绍了单个资产和资产组合收益方差的风险度量。</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五节则介绍了其它常用的风险度量指标，包括：半方差、</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以及</a:t>
            </a:r>
            <a:r>
              <a:rPr b="0" lang="en-US" sz="2800" spc="-1" strike="noStrike">
                <a:solidFill>
                  <a:srgbClr val="000000"/>
                </a:solidFill>
                <a:latin typeface="华文楷体"/>
                <a:ea typeface="华文楷体"/>
              </a:rPr>
              <a:t>CVaR</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algn="just">
              <a:lnSpc>
                <a:spcPct val="100000"/>
              </a:lnSpc>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nSpc>
                <a:spcPct val="100000"/>
              </a:lnSpc>
              <a:spcBef>
                <a:spcPts val="4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51"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BCB6-1DEF-44A6-812B-F5476569CD35}"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一节 投资学的基本假设</a:t>
            </a:r>
            <a:endParaRPr b="0" lang="en-US" sz="3600" spc="-1" strike="noStrike">
              <a:solidFill>
                <a:srgbClr val="2f2f2f"/>
              </a:solidFill>
              <a:latin typeface="Franklin Gothic Medium"/>
            </a:endParaRPr>
          </a:p>
        </p:txBody>
      </p:sp>
      <p:sp>
        <p:nvSpPr>
          <p:cNvPr id="493" name=""/>
          <p:cNvSpPr txBox="1"/>
          <p:nvPr/>
        </p:nvSpPr>
        <p:spPr>
          <a:xfrm>
            <a:off x="304920" y="1447560"/>
            <a:ext cx="8534160" cy="4838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投资者是理性的</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在金融领域，理性通常意味着以下两件事：一是投资者在进行投资决策时，总是最大化自己的期望效用；二是投资者在收到新的信息后，总是依据贝叶斯法则更新自己的看法和观点。</a:t>
            </a:r>
            <a:endParaRPr b="0" lang="en-US" sz="3200" spc="-1" strike="noStrike">
              <a:solidFill>
                <a:srgbClr val="000000"/>
              </a:solidFill>
              <a:latin typeface="Franklin Gothic Book"/>
            </a:endParaRPr>
          </a:p>
        </p:txBody>
      </p:sp>
      <p:sp>
        <p:nvSpPr>
          <p:cNvPr id="494"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83B71-0908-4FD2-B10B-4F53DE6D7774}"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投资者是理性的</a:t>
            </a:r>
            <a:endParaRPr b="0" lang="en-US" sz="3600" spc="-1" strike="noStrike">
              <a:solidFill>
                <a:srgbClr val="2f2f2f"/>
              </a:solidFill>
              <a:latin typeface="Franklin Gothic Medium"/>
            </a:endParaRPr>
          </a:p>
        </p:txBody>
      </p:sp>
      <p:sp>
        <p:nvSpPr>
          <p:cNvPr id="496" name=""/>
          <p:cNvSpPr txBox="1"/>
          <p:nvPr/>
        </p:nvSpPr>
        <p:spPr>
          <a:xfrm>
            <a:off x="304920" y="1447560"/>
            <a:ext cx="8534160" cy="48387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我们经常使用以下形式的效用函数</a:t>
            </a:r>
            <a:r>
              <a:rPr b="0" lang="en-US" sz="2400" spc="-1" strike="noStrike">
                <a:solidFill>
                  <a:srgbClr val="000000"/>
                </a:solidFill>
                <a:latin typeface="华文楷体"/>
                <a:ea typeface="华文楷体"/>
              </a:rPr>
              <a:t>U</a:t>
            </a:r>
            <a:r>
              <a:rPr b="0" lang="zh-CN" sz="2400" spc="-1" strike="noStrike">
                <a:solidFill>
                  <a:srgbClr val="000000"/>
                </a:solidFill>
                <a:latin typeface="华文楷体"/>
                <a:ea typeface="华文楷体"/>
              </a:rPr>
              <a:t>来刻画投资者进行投资决策时的期望效用：</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U=E[R]-1/2 Aσ</a:t>
            </a:r>
            <a:r>
              <a:rPr b="0" lang="en-US" sz="2400" spc="-1" strike="noStrike" baseline="30000">
                <a:solidFill>
                  <a:srgbClr val="000000"/>
                </a:solidFill>
                <a:latin typeface="华文楷体"/>
                <a:ea typeface="华文楷体"/>
              </a:rPr>
              <a:t>2</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r>
              <a:rPr b="0" lang="en-US" sz="2400" spc="-1" strike="noStrike">
                <a:solidFill>
                  <a:srgbClr val="000000"/>
                </a:solidFill>
                <a:latin typeface="华文楷体"/>
                <a:ea typeface="华文楷体"/>
              </a:rPr>
              <a:t>E[R]</a:t>
            </a:r>
            <a:r>
              <a:rPr b="0" lang="zh-CN" sz="2400" spc="-1" strike="noStrike">
                <a:solidFill>
                  <a:srgbClr val="000000"/>
                </a:solidFill>
                <a:latin typeface="华文楷体"/>
                <a:ea typeface="华文楷体"/>
              </a:rPr>
              <a:t>为投资带来的预期收益率，用来衡量投资的期望所得。</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为该投资者的风险厌恶系数，用来衡量投资者对风险的厌恶程度。一般而言，投资者的风险厌恶系数在</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到</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之间，风险厌恶系数越大，表示投资者越厌恶风险，在投资决策过程中就需要越高的预期收益来补偿其承担的风险。特别地，如果</a:t>
            </a:r>
            <a:r>
              <a:rPr b="0" lang="en-US" sz="2400" spc="-1" strike="noStrike">
                <a:solidFill>
                  <a:srgbClr val="000000"/>
                </a:solidFill>
                <a:latin typeface="华文楷体"/>
                <a:ea typeface="华文楷体"/>
              </a:rPr>
              <a:t>A=0</a:t>
            </a:r>
            <a:r>
              <a:rPr b="0" lang="zh-CN" sz="2400" spc="-1" strike="noStrike">
                <a:solidFill>
                  <a:srgbClr val="000000"/>
                </a:solidFill>
                <a:latin typeface="华文楷体"/>
                <a:ea typeface="华文楷体"/>
              </a:rPr>
              <a:t>则表示投资者风险中性。如果</a:t>
            </a:r>
            <a:r>
              <a:rPr b="0" lang="en-US" sz="2400" spc="-1" strike="noStrike">
                <a:solidFill>
                  <a:srgbClr val="000000"/>
                </a:solidFill>
                <a:latin typeface="华文楷体"/>
                <a:ea typeface="华文楷体"/>
              </a:rPr>
              <a:t>A&lt;0</a:t>
            </a:r>
            <a:r>
              <a:rPr b="0" lang="zh-CN" sz="2400" spc="-1" strike="noStrike">
                <a:solidFill>
                  <a:srgbClr val="000000"/>
                </a:solidFill>
                <a:latin typeface="华文楷体"/>
                <a:ea typeface="华文楷体"/>
              </a:rPr>
              <a:t>则表示投资者风险喜好。</a:t>
            </a:r>
            <a:r>
              <a:rPr b="0" lang="en-US" sz="2400" spc="-1" strike="noStrike">
                <a:solidFill>
                  <a:srgbClr val="000000"/>
                </a:solidFill>
                <a:latin typeface="华文楷体"/>
                <a:ea typeface="华文楷体"/>
              </a:rPr>
              <a:t>σ</a:t>
            </a:r>
            <a:r>
              <a:rPr b="0" lang="zh-CN" sz="2400" spc="-1" strike="noStrike">
                <a:solidFill>
                  <a:srgbClr val="000000"/>
                </a:solidFill>
                <a:latin typeface="华文楷体"/>
                <a:ea typeface="华文楷体"/>
              </a:rPr>
              <a:t>为投资收益的标准差，用来衡量投资的总风险。</a:t>
            </a:r>
            <a:endParaRPr b="0" lang="en-US" sz="2400" spc="-1" strike="noStrike">
              <a:solidFill>
                <a:srgbClr val="000000"/>
              </a:solidFill>
              <a:latin typeface="Franklin Gothic Book"/>
            </a:endParaRPr>
          </a:p>
        </p:txBody>
      </p:sp>
      <p:sp>
        <p:nvSpPr>
          <p:cNvPr id="497"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F534-3391-4F58-B07F-2D5385A02D88}"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金融市场是有效的</a:t>
            </a:r>
            <a:endParaRPr b="0" lang="en-US" sz="3600" spc="-1" strike="noStrike">
              <a:solidFill>
                <a:srgbClr val="2f2f2f"/>
              </a:solidFill>
              <a:latin typeface="Franklin Gothic Medium"/>
            </a:endParaRPr>
          </a:p>
        </p:txBody>
      </p:sp>
      <p:sp>
        <p:nvSpPr>
          <p:cNvPr id="499" name=""/>
          <p:cNvSpPr txBox="1"/>
          <p:nvPr/>
        </p:nvSpPr>
        <p:spPr>
          <a:xfrm>
            <a:off x="304920" y="1447560"/>
            <a:ext cx="8534160" cy="4838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一个有效定价的金融市场上，资产的预期收益和风险是正相关的，更确切地说，预期收益与系统风险是正相关的。</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投资者高度竞争的金融市场上，高风险资产有高的预期收益，低风险资产有低的预期收益。同时，市场上也不可能长期存在无风险的套利机会，一旦市场上出现无风险套利机会，套利者就会进入市场买入价格被低估的资产，同时卖空价格被高估的资产，最后资产的价格恢复到其合理的价值区间。</a:t>
            </a:r>
            <a:endParaRPr b="0" lang="en-US" sz="2800" spc="-1" strike="noStrike">
              <a:solidFill>
                <a:srgbClr val="000000"/>
              </a:solidFill>
              <a:latin typeface="Franklin Gothic Book"/>
            </a:endParaRPr>
          </a:p>
        </p:txBody>
      </p:sp>
      <p:sp>
        <p:nvSpPr>
          <p:cNvPr id="500"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3667-4447-4177-8EBA-86A760326B1C}"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二节 投资学的数学基础</a:t>
            </a:r>
            <a:endParaRPr b="0" lang="en-US" sz="3600" spc="-1" strike="noStrike">
              <a:solidFill>
                <a:srgbClr val="2f2f2f"/>
              </a:solidFill>
              <a:latin typeface="Franklin Gothic Medium"/>
            </a:endParaRPr>
          </a:p>
        </p:txBody>
      </p:sp>
      <p:pic>
        <p:nvPicPr>
          <p:cNvPr id="502" name="Rectangle 3" descr=""/>
          <p:cNvPicPr/>
          <p:nvPr/>
        </p:nvPicPr>
        <p:blipFill>
          <a:blip r:embed="rId1"/>
          <a:stretch/>
        </p:blipFill>
        <p:spPr>
          <a:xfrm>
            <a:off x="291960" y="1450800"/>
            <a:ext cx="8547120" cy="4834080"/>
          </a:xfrm>
          <a:prstGeom prst="rect">
            <a:avLst/>
          </a:prstGeom>
          <a:ln w="0">
            <a:noFill/>
          </a:ln>
        </p:spPr>
      </p:pic>
      <p:sp>
        <p:nvSpPr>
          <p:cNvPr id="503"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DDCC-9E49-491D-A99E-596735B6926A}"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随机变量的数学期望</a:t>
            </a:r>
            <a:endParaRPr b="0" lang="en-US" sz="3600" spc="-1" strike="noStrike">
              <a:solidFill>
                <a:srgbClr val="2f2f2f"/>
              </a:solidFill>
              <a:latin typeface="Franklin Gothic Medium"/>
            </a:endParaRPr>
          </a:p>
        </p:txBody>
      </p:sp>
      <p:pic>
        <p:nvPicPr>
          <p:cNvPr id="505" name="内容占位符 2" descr=""/>
          <p:cNvPicPr/>
          <p:nvPr/>
        </p:nvPicPr>
        <p:blipFill>
          <a:blip r:embed="rId1"/>
          <a:stretch/>
        </p:blipFill>
        <p:spPr>
          <a:xfrm>
            <a:off x="380880" y="1447920"/>
            <a:ext cx="8305920" cy="4960800"/>
          </a:xfrm>
          <a:prstGeom prst="rect">
            <a:avLst/>
          </a:prstGeom>
          <a:ln w="0">
            <a:noFill/>
          </a:ln>
        </p:spPr>
      </p:pic>
      <p:sp>
        <p:nvSpPr>
          <p:cNvPr id="506"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2528-79BC-4093-864A-449C32B67287}"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随机变量的方差与协方差</a:t>
            </a:r>
            <a:endParaRPr b="0" lang="en-US" sz="3600" spc="-1" strike="noStrike">
              <a:solidFill>
                <a:srgbClr val="2f2f2f"/>
              </a:solidFill>
              <a:latin typeface="Franklin Gothic Medium"/>
            </a:endParaRPr>
          </a:p>
        </p:txBody>
      </p:sp>
      <p:sp>
        <p:nvSpPr>
          <p:cNvPr id="508"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ED0D-DFCD-4051-955E-14EBFA8FBC30}"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
        <p:nvSpPr>
          <p:cNvPr id="509" name=""/>
          <p:cNvSpPr txBox="1"/>
          <p:nvPr/>
        </p:nvSpPr>
        <p:spPr>
          <a:xfrm>
            <a:off x="304920" y="1561680"/>
            <a:ext cx="8534160" cy="4838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方差</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pic>
        <p:nvPicPr>
          <p:cNvPr id="510" name="图片 10" descr=""/>
          <p:cNvPicPr/>
          <p:nvPr/>
        </p:nvPicPr>
        <p:blipFill>
          <a:blip r:embed="rId1"/>
          <a:stretch/>
        </p:blipFill>
        <p:spPr>
          <a:xfrm>
            <a:off x="690480" y="2122560"/>
            <a:ext cx="7996320" cy="1503360"/>
          </a:xfrm>
          <a:prstGeom prst="rect">
            <a:avLst/>
          </a:prstGeom>
          <a:ln w="0">
            <a:noFill/>
          </a:ln>
        </p:spPr>
      </p:pic>
      <p:pic>
        <p:nvPicPr>
          <p:cNvPr id="511" name="图片 12" descr=""/>
          <p:cNvPicPr/>
          <p:nvPr/>
        </p:nvPicPr>
        <p:blipFill>
          <a:blip r:embed="rId2"/>
          <a:stretch/>
        </p:blipFill>
        <p:spPr>
          <a:xfrm>
            <a:off x="690480" y="3605040"/>
            <a:ext cx="7985160" cy="270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随机变量的方差与协方差</a:t>
            </a:r>
            <a:endParaRPr b="0" lang="en-US" sz="3600" spc="-1" strike="noStrike">
              <a:solidFill>
                <a:srgbClr val="2f2f2f"/>
              </a:solidFill>
              <a:latin typeface="Franklin Gothic Medium"/>
            </a:endParaRPr>
          </a:p>
        </p:txBody>
      </p:sp>
      <p:sp>
        <p:nvSpPr>
          <p:cNvPr id="513"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1B8F-E99F-4119-B1A5-53433A610FE3}"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
        <p:nvSpPr>
          <p:cNvPr id="514" name=""/>
          <p:cNvSpPr txBox="1"/>
          <p:nvPr/>
        </p:nvSpPr>
        <p:spPr>
          <a:xfrm>
            <a:off x="304920" y="1371600"/>
            <a:ext cx="8534160" cy="50292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二）协方差</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pic>
        <p:nvPicPr>
          <p:cNvPr id="515" name="图片 2" descr=""/>
          <p:cNvPicPr/>
          <p:nvPr/>
        </p:nvPicPr>
        <p:blipFill>
          <a:blip r:embed="rId1"/>
          <a:stretch/>
        </p:blipFill>
        <p:spPr>
          <a:xfrm>
            <a:off x="609480" y="1862280"/>
            <a:ext cx="7550280" cy="453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鑫御</dc:creator>
  <dc:description/>
  <cp:keywords/>
  <dc:language>en-US</dc:language>
  <cp:lastModifiedBy>mtwang</cp:lastModifiedBy>
  <dcterms:modified xsi:type="dcterms:W3CDTF">2024-01-16T08:14:51Z</dcterms:modified>
  <cp:revision>8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y fmtid="{D5CDD505-2E9C-101B-9397-08002B2CF9AE}" pid="3" name="Version">
    <vt:r8>1</vt:r8>
  </property>
</Properties>
</file>