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E209-3919-4B0B-9F6F-3917225E8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9E0-2714-43A7-9E2A-1623401C0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39B-C9B5-4D86-A55F-9AE71CDA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1D8A-62FD-4FC8-AD6A-8ED83EC5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7DE1-504B-40C0-8DD2-FA0D42F5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F5DF-F2AD-4D54-8165-81AD16D7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B07D-996F-4D95-B190-A85FB7A3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75D3-C1C0-4716-B476-0EABFDA5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D2C8-113D-4319-A877-AC0EFAAD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5E983-DA57-4B3E-92F4-B46845D0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D4A9-9223-4097-9E93-9C25902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96A6-9609-43C9-BD48-C8261C30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EB29-17B8-4A80-A8A9-1E6D3321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CB06-CF06-47D4-BD30-549C5029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FEE1-DC42-4A20-AE27-51EE471A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430B-3EF0-4ADB-9846-173C8582D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148A-1CDF-43C3-BDE2-51F331DF8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7CF-3F1A-4276-9CA3-570662D6D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4B1-982D-43B7-AD51-3222EA65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891-B8A2-4D34-93EF-708F1021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32AF-F2D1-4F19-8027-D3E08F1B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DDEB-0284-4421-B2A2-177A4A38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3D01-6AB9-4D3F-98B3-E11E22B4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8E92-EC91-4E40-8727-D2579E96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D48A-0381-4CA1-961D-F7C2457CC3AA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B4CA-5742-41D3-BDE3-993289578A25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投融资学</a:t>
            </a:r>
            <a:br>
              <a:rPr sz="6600"/>
            </a:br>
            <a:r>
              <a:rPr b="1" lang="zh-CN" sz="6600" spc="-1" strike="noStrike">
                <a:solidFill>
                  <a:srgbClr val="ffffff"/>
                </a:solidFill>
                <a:latin typeface="Arial"/>
                <a:ea typeface="黑体"/>
              </a:rPr>
              <a:t>（第三版）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239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       杨大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10920" y="0"/>
            <a:ext cx="7777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基本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直接投资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后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新凯恩斯主义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 新古典学派的边际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早期的间接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组合和定价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有效市场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券投资理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期权定价理论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资产组合保险原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主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企业投融资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13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企业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融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的融资渠道及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资金需求量的预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定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比率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资金习性预测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55280" y="333000"/>
            <a:ext cx="74883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企业融资的基本途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吸收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债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长期贷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发行认股权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发行可转换债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企业融资工具的创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存托凭证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应收账款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商业票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09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企业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企业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投资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依据投资内容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依据对企业生产经营的影响程度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依据投资方案之间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依据投资与企业原有的生产经营能力的关系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企业投资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投资是企业生产、生存和发展壮大的直接动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企业投资是企业调整产品生产方向和生产结构的物质保证力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企业投资是提高企业素质、增强企业竞争能力的重要手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投资对宏观经济发展有着巨大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影响企业投资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企业的投资决策权限与国家的干预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领导者的企业家精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投资的预期收益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技术进步状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融资条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产品销路和原料来源的充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五、企业投资决策程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提出投资项目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拟定投资项目的备选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评选和确定投资项目方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不断调整、完善决策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事后分析与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机构投融资</a:t>
            </a:r>
            <a:r>
              <a:rPr b="0" lang="zh-CN" sz="4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授课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大楷 主编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配套教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杨 晔 主编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投融资学案例与习题集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》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上海财经大学出版社出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510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 商业银行投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商业银行的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是企业法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经营对象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商业银行与专业银行相比的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商业银行的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商业银行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商业银行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证券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证券公司概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证券公司发展的雏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商人银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</a:t>
            </a:r>
            <a:r>
              <a:rPr b="0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20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至今证券公司的大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 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自营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资产管理业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证券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公司融资的主要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证券公司的融资制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证券公司融资的现状和发展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  保险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保险公司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保险公司投资的发展历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保险公司的投资模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我国保险公司投资的发展现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保险公司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股权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利润留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保险技术的外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债务资本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再保险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信托公司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概念与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信托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信托公司的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信托公司的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基金管理公司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基金管理公司的发展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基金管理公司投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基金管理公司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基金管理公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五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政府投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一节 政府融资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一）市场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主导型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（三）市场主导、政府督办的政府融资模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764640"/>
            <a:ext cx="822960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融资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银行信贷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公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特许经营权转让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其他政府融资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我国政府融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融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融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755280" y="404640"/>
            <a:ext cx="799164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政府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投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政府投资的动因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政府投资的领域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政府的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间接投资模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两种投资模式绩效的比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770580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政府投资的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财政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货币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产业政策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国有企业的投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六、我国政府投资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政府投资规模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政府投资结构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编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导论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六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个人投融资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个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国内个人融资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供求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个人融资渠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个人融资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构建多层次和专业化的个人融资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完善宏观支撑体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755280" y="620640"/>
            <a:ext cx="771516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个人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个人投资者的投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本金的安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入的稳定和资本增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流动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参与决策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管理的便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692280"/>
            <a:ext cx="7920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影响个人投资报酬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时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通货膨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财务杠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所得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个人投资收益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个人投资的风险及其规避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个人投资面临的主要风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个人投资者的主要投资误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规避投资风险的路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三编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客体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第七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8128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实物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26920" y="765000"/>
            <a:ext cx="7632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实物资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项目融资的内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项目融资的参与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项目融资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融资的框架结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项目融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中国的项目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实物资产证券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实物资产证券化融资的操作流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实物资产证券化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存货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不保留所有权的存货抵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4000" y="765000"/>
            <a:ext cx="8064360" cy="54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第二节　实物资产评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机器设备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重置成本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现行市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实物类流动资产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材料评估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在产品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库存商品的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中国的实物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第三节  实物资产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实物资产的取得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收购兼并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绿地投资及其优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三）购并方式与绿地投资方式的选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二、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一）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（二）非股权参与下实物资产的运营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一章</a:t>
            </a:r>
            <a:r>
              <a:rPr b="1" lang="zh-CN" sz="6000" spc="-1" strike="noStrike">
                <a:solidFill>
                  <a:srgbClr val="ccecff"/>
                </a:solidFill>
                <a:latin typeface="黑体"/>
                <a:ea typeface="黑体"/>
              </a:rPr>
              <a:t>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概述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39528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八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无形资产</a:t>
            </a:r>
            <a:r>
              <a:rPr b="0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755640" y="836280"/>
            <a:ext cx="7848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无形资产概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的含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无形资产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无形资产的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99640" y="666720"/>
            <a:ext cx="770436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无形资产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按照取得渠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按照是否受专门法律保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按照能否独立存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按照产生来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按照作用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按存续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七）按照自身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无形资产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上市公司的无形资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4360" y="549000"/>
            <a:ext cx="7488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无形资产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无形资产评估的含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无形资产评估的对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无形资产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成本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收益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收益法和成本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重置成本法与收益现值法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不同评估方法的相互检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九章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Verdana"/>
                <a:ea typeface="黑体"/>
              </a:rPr>
              <a:t>金融资产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26920" y="404640"/>
            <a:ext cx="7632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股　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股票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定义与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股票的价值和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的价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价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股票的发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股票发行的基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股票的发行制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股票的发行方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128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股票的流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场内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场外交易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股票的交易委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股票交易委托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委托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委托的撤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755280" y="333360"/>
            <a:ext cx="734364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债 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债券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债券的票面要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债券的性质和特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债券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按发行主体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按计息的方式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按利率是否变动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按偿还期限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按债券形态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其他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26560" y="476280"/>
            <a:ext cx="74170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债券的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期中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延期偿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债券评价指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收益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期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信用水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对利率变动的敏感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交易的活跃程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六）债券收益率曲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五、债券的交易方式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现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回购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期货交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351640" cy="52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投融资的基本概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客体的多样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的根本目的是为了获取一定的效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效益的不确定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具有创造财富的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4360" y="476280"/>
            <a:ext cx="7488000" cy="57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基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基金的基本概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基金的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证券投资基金的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证券投资基金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开放式基金和封闭式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公司型基金和契约型基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按照投资对象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根据投资目标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按资本的来源和使用地域划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360" y="980640"/>
            <a:ext cx="74880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证券投资基金的投资策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固定比例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平均成本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适时进出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更换基金投资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定期赎回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755280" y="475920"/>
            <a:ext cx="7705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衍生工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衍生工具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衍生工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期货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uture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远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Forward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期权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Option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掉期（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Swaps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82692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衍生工具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派生性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杠杆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风险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虚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复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国际衍生工具市场的发展及其启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我国衍生工具市场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692280"/>
            <a:ext cx="7488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黄 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黄金投资的基本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黄金投资的价值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黄金投资的主要方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黄金价格的影响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长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短期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900000" y="691920"/>
            <a:ext cx="771552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全球主要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伦敦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苏黎世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香港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美国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我国的黄金市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我国黄金市场的发展历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我国黄金市场存在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我国黄金市场的发展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4000" y="1844280"/>
            <a:ext cx="8002440" cy="151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四编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跨国投融资</a:t>
            </a: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章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融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68000" y="404280"/>
            <a:ext cx="8435880" cy="579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跨国融资的含义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跨国融资的类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融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融资的起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国际贸易的产生与发展是跨国融资产生的原始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国际资本流动是跨国融资发展根本动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欧洲货币市场的形成是跨国融资发展的里程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银行国际化进程与跨国融资同步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融资证券化成为全球融资市场发展的一大趋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539640" y="83664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全球国际债券融资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国际债券融资规模急剧扩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发达国家的国际债券融资占绝对优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元区成为国际负债资本主要目的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五、全球国际股票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全球国际股票市场的最新进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存托凭证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欧洲股权发行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的产生和发展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产业投资阶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证券投资长足发展的阶段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融资的产生和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的产生是社会分工和科技发展的必然结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的发展呈现多样化和国际化趋势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融资的背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中国跨国融资的发展是对外开放与引进外资政策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中国跨国融资的发展是对外贸易与对外投资发展的必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中国金融体制的改革为中国跨国融资的发展提供了良好契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1280" y="47628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二、中国跨国融资的运用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利用国际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对外借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对外证券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促进我国跨国融资的对策建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多渠道、多途径扩大境外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全方位利用国际金融市场融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继续将香港作为我国境外融资的重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充分发挥我国银行国际分支机构在企业境外融资中的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一章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跨国投资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640" y="476280"/>
            <a:ext cx="82296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全球跨国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跨国投资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主体的多元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客体的多样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的根本目的是实现价值增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蕴涵资产的跨国营运过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跨国投资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05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间接投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跨国投资的形成与发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初始形成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以前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低迷徘徊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14-1945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恢复增长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45-197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迅猛发展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2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代以来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当代跨国直接投资的特征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发达国家的跨国直接投资仍占主体地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并购驱动了直接投资的增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直接投资大多流入服务业，但升幅最大的在自然资源领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发展中国家跨国公司大幅度增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自由化仍在继续，但出现一些保护主义倾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360" y="333000"/>
            <a:ext cx="79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中国跨国投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中国跨国投资的发展阶段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第一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79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86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第二阶段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(1987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第三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3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8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第四阶段（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年至今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中国跨国直接投资的现状与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主体多元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行业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投资区域分布广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投资规模的扩大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投资方式多样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50560" y="476280"/>
            <a:ext cx="88930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中国发展跨国投资的作用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跨国投资是当代国际经济联系的主要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跨国投资有利于充分地利用国外自然资源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跨国投资有利于充分利用国外资金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跨国投资有利于扩大出口，加快经济国际化进程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跨国投资有利于吸取同时代各国发展的优秀成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中国跨国投资的前景展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良好的国际环境为中国跨国投资提供难得的机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不断改善的国内环境加快了中国跨国投资的步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第五编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管理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126828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二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环境分析与评估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11280" y="620640"/>
            <a:ext cx="807552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投融资环境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的特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系统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动态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差异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的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根据投融资环境因素涉及的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根据投融资环境因素的属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根据投融资环境因素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137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投融资学的基本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学的基本内容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学与相关学科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融资学与金融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融资学与贸易学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学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实证分析与规范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定性研究和定量研究相互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总量分析和个量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静态分析与动态分析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理论研究与实践操作相结合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26560" y="1052280"/>
            <a:ext cx="7272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的因素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自然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基础设施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政治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经济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法律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社会文化环境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826560" y="691920"/>
            <a:ext cx="770436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融资环境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融资环境评估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坚持从投资者实际要求出发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坚持实事求是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坚持突出重点的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融资环境评估的方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专家实地考察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问卷调查评价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咨询机构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41672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融资环境评估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冷热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多因素评分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体制评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综合指标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相似度评价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六）动态分析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981000"/>
            <a:ext cx="8229600" cy="3943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三章</a:t>
            </a:r>
            <a:r>
              <a:rPr b="1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5400"/>
            </a:br>
            <a:br>
              <a:rPr sz="54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投融资决策分析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决策分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各种主要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债券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优先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普通股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留存收益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五）加权平均的资金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资金的边际成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资金成本与融资决策的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610920" y="259920"/>
            <a:ext cx="777564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融资决策的定量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息税前盈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每股盈余分析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方案对比优选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逐步测试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五、融资决策的定性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主体所处行业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主体的获利能力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主体的经营规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融资主体的资产结构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收入变异程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六）成长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七） 财务的灵活性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八）经营控制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二节 投资决策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投资决策的程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机会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初步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可行性研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项目评估和决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投资项目经济分析的基本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动态分析和静态分析相结合，以动态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定量分析和定性分析相结合，以定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全过程经济效益分析和阶段性经济效益分析相结合，以全过程经济效益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价值量分析与实物量分析相结合，以价值量分析为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五）预测分析和统计分析相结合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26560" y="549360"/>
            <a:ext cx="735516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三、投资决策分析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净现值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内部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会计收益率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投资回收期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五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、多种方案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893080" cy="52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不确定性条件和风险条件下的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不确定性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风险条件下投资决策的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决策树和多阶段投资决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资金约束条件下的投资决策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盈利能力指数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互斥方案组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数学规划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四）资金约束条件下的投资决策应注意的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343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十四章  </a:t>
            </a: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 投融资风险管理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227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黑体"/>
              </a:rPr>
              <a:t>投融资理论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7777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风险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融资风险概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定义及相关结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表现形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三）融资风险的分类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四）企业融资风险的影响因素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二、融资风险的分析与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融资风险的分析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衡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三、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一）企业融资风险的防范对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（二）融资风险的管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99640" y="691920"/>
            <a:ext cx="74170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投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投资风险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投资风险的含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投资风险的种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投资风险的衡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投资风险的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证券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实业性投资的风险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 融资基本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政府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政府的货币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政府的公债融资理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李嘉图－巴罗等价定理及其争论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企业融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一）旧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二）新资本结构理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三）对企业资本结构理论的简要评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08:18:30Z</dcterms:created>
  <dc:creator>test</dc:creator>
  <dc:description/>
  <dc:language>en-US</dc:language>
  <cp:lastModifiedBy>Windows 用户</cp:lastModifiedBy>
  <dcterms:modified xsi:type="dcterms:W3CDTF">2018-12-11T01:15:57Z</dcterms:modified>
  <cp:revision>41</cp:revision>
  <dc:subject/>
  <dc:title>中级投资学</dc:title>
</cp:coreProperties>
</file>