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E94E9-AFCC-47C3-939B-C270F569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AD31-589F-4E5F-8F6B-52F5EE975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7E5E2-3398-42C6-BD78-BAEB82CF2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892AB-DF9C-4A47-AD1E-A0B83F252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87F10-2C7A-45C2-A8F4-691F9EEE2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418C6-637E-43FF-B321-2635BFE4D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62D6B-713C-4A12-A642-D22306F91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50A03-8735-48E6-8574-BB9898D6C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0F249-E1C6-4DA9-8F9E-B2E21D304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A4DF5-40F2-46CB-9B20-553A7012E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F18AE-71EE-4DBE-A93A-7DBF1EE2C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8D60D-E5E0-47B2-B4A4-9A86CD86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074CE-C2FF-4C06-B166-3E5F658B8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1D625-9932-4414-99DF-5861D577C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4D953-E7D8-457C-9DE8-94ABAA9FB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2D007-A659-4F4E-92E8-0919CE6DD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8CCCD-37F9-4E7A-8F5B-0EA7A9622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8D931-8A30-401C-8DC1-4C33CE04F4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773714-D661-4240-99E4-64EB84208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02FD7-ECFC-4520-9CB9-77D05F393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69BAFB-A8CE-47D1-BCAF-C8F76DC216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3E5882-1424-44C7-AF4D-857582EE97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AF5AD-19F8-4403-BF58-AA392B32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932ED-63D0-457C-9533-8FB912892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973E9F-E02D-41DD-AEEF-1C0BDC4EF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3B890-BB2B-400B-A25A-373CC3737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745EE-AF7A-4A2F-9875-D9C76F89D8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A72F0-499B-42A0-B80C-79ADD3511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9017A5-14F0-45D6-89DD-C643A104E0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6DA59E-D1FB-4BBE-B9E8-2DBB881C6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0D3962-45E5-422D-8937-2A730BC30C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EE493-403D-42F3-A106-499B120E1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D99AB6-3397-4157-90F2-AC6B98B7B9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0CAA-3FF4-4E93-95BA-2230FB3F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536B0-2936-4EE8-9209-93E4272A1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290C7-7001-4BF3-AC56-5DEB76DCC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F0AD6-89A7-438D-96D4-F2FBA4FC6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7D1D3-F8ED-458F-9207-AF91E6395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E3695-FD3A-45D2-B3FE-03A3AD2A8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3FB34-2FD8-488F-A554-A5DB621B9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85922-4147-4E10-9BDC-0BD3BF9599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20A2DA-F7D2-44DF-8244-E2F1A7F75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0AF878-EE47-44A2-8413-32C1811AC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0AD47-EAC0-4FE7-AD07-E52CCE716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69B8C-2BDE-4914-8AFB-02A644B08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5783C-8A32-4516-BB67-6957DA4775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B858F-848A-4D1E-9DB9-4DAC04D8D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4093C-11C2-4681-8ADF-1EBFFE66E9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0D818-1369-4D1E-9C16-6915B5A2A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2B54F-0C82-407B-A352-FE2B7F740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EAFF7-459C-4AAB-A90C-647D39C45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04C50C-07A3-4FB9-B31D-5CE6CEF47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A2DC8-BCB2-4C75-9157-51EDD15047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15B295-144D-4F08-A06A-301A6C8642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346BA6-2FF4-4F10-8288-03687A4081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7AFC9-849D-4261-AB1E-2BE5DBC9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CFAAF5-FE64-4DF4-B7D4-508CD48E5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A9E05-E189-49AB-A313-6BE2488B13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2CE267-6470-4552-B872-2258F32DBD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3A2898-754D-4796-B38C-21188F2AD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89788B-31ED-4605-96A9-D867283CA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A8BE7-1483-4FCC-B02F-FF4EAD12BA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4BBEFE-891E-491A-AFF8-23D44037F0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FDC730-FDCC-44B0-8813-120CE2E26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6686D-D594-4E3A-8E2B-5633409C6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8F31A-0A16-499B-995B-0692D48817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FBBA5-DF0C-4490-BE25-641F895D3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0D75B4-301A-4145-9E0C-2C5A3FF868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DA888-D28F-4FA7-B531-CC65CE94A7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4CE2C3-78D9-4AD3-9811-F1FDBB9FA0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E57F16-44EA-4089-A99F-99A133E6AD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4BB02B-9DAE-4470-9B52-2F153CFDA4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40DAA-3CB1-4F29-A7F2-737D42551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7A4F82-B09F-473E-A05D-39209A937A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A754FB-18B7-4CCA-B69A-78C2D6DEFB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FC6D7E-DCB0-42D6-BAC1-D1DF2AD60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D21C1-B1FF-44D4-80F7-73213C1BA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D59FD-D380-4E66-86D0-00360AC0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BA1173-7976-4693-B51A-E46D13BCD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7B0D6E-087B-46D1-B211-5EAAB19A4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2C670-4FEF-4168-925A-0C3741A215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0B5C57-2646-4B3A-9051-4939C81F62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F9A622-A9C4-4A36-B40A-B268EAF3FA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B18F-BDCB-4B12-B5A5-3AFAE7903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7C65-573D-43CE-B535-D3E40E5073F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1B77-F7DC-4B8B-8C4F-C7B01AD39F9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4CF31-8A31-452A-8F49-D4005754C17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3E7D-E4E2-462F-AD6B-F21A7217A27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B887-03AC-40E5-B0C4-0613679AE0E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DB7B0-C293-4FC4-B125-D5C47D93D12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A8A8-0366-4CF9-A64B-7B60CAB8576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信息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客观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a:t>
            </a:r>
            <a:r>
              <a:rPr b="0" lang="zh-CN" sz="3200" spc="-1" strike="noStrike">
                <a:solidFill>
                  <a:srgbClr val="000000"/>
                </a:solidFill>
                <a:latin typeface="Gill Sans MT"/>
              </a:rPr>
              <a:t>一）客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任何信息都是事物的客观真实的反应，是保证信息的准确性和精确度的前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实用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利用计算机、网络、遥感等各类硬件、软件设备以及处理方法，对各种信息进行获取、加工、储存、应用等，通过地理空间的巨大数据流的组织和管理工作，变为对社会各个领域中的生产、管理和对策具有重要意义的有用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传输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可以以一定的形式在发送者和接受者之间传输，既可以是系统将信息传输给终端设备用户，也可以是系统内各个子系统之间的信息传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共享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正如萧伯纳对信息的共享性的形象比喻所言：“你有一个苹果，我有一个苹果， 彼此交换一下，我们仍然是各有一个苹果。如果你有一种思想，我也有一种思想，我们相互 交流，我们就都有了两种思想，甚至更多。”信息与实物不同，实物会因共享而减少，而信息则不同，在多个用户之间共享，其本身并不会产生损失。</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信息系统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系统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由计算机硬件、软件、应用人员、方法和信息组成，是对信息进行收集、整理、存储、处理、管理并提供查询和分析的一种综合性技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计算机硬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信息</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系统的组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计算机硬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计算机硬件包括各类计算机处理及终端设备，用以收集、整理、存储、处理、管理各类信息。数据输入设备、数据输出设备和数据处理设备三者构成了整个信息系统的硬件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软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软件是整个信息系统的核心关键，是支持数据信息的收集、输入、存储、管理、加工和输出等功能的计算机程序系统。它能够接收有效的数据信息，正确地处理、分析数据，为系统用户提供实用的信息，并存储信息为将来所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应用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应用人员包括信息系统开发人员和用户。信息系统并不是一个自动的系统，从应用开发到使用维护都需要外部人员的操作。在信息系统的开发过程中，无论是系统开发的可行性分析、设计方案、总体物理模型等，都需要依托应用人员的工作。而在信息系统的使用过程中，为了能使系统有效、顺畅地运行，则需要对信息系统进行管理和维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8dc765"/>
                </a:solidFill>
                <a:uFillTx/>
                <a:latin typeface="Gill Sans MT"/>
                <a:hlinkClick r:id="rId1" action="ppaction://hlinksldjump"/>
              </a:rPr>
              <a:t>第十二章 房地产估价信息系统</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2" action="ppaction://hlinksldjump"/>
              </a:rPr>
              <a:t>关键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3" action="ppaction://hlinksldjump"/>
              </a:rPr>
              <a:t>第一节  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4" action="ppaction://hlinksldjump"/>
              </a:rPr>
              <a:t>第二节  房地产估价信息系统概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5" action="ppaction://hlinksldjump"/>
              </a:rPr>
              <a:t>第三节  与房地产估价有关的主要信息系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6" action="ppaction://hlinksldjump"/>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dc765"/>
                </a:solidFill>
                <a:uFillTx/>
                <a:latin typeface="Gill Sans MT"/>
                <a:hlinkClick r:id="rId7" action="ppaction://hlinksldjump"/>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系统所收集、管理、处理和更新的对象都是信息，换言之，信息是整个信息系统构成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信息系统的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按面向对象来划分信息系统的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按主要功能来划分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按面向对象来划分信息系统的种类</a:t>
            </a:r>
            <a:endParaRPr b="1" lang="en-US" sz="36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面向数据资料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面向业务过程的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面向金融经济的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按主要功能来划分信息系统的种类</a:t>
            </a:r>
            <a:endParaRPr b="1" lang="en-US" sz="3600" spc="-1" strike="noStrike">
              <a:solidFill>
                <a:srgbClr val="572314"/>
              </a:solidFill>
              <a:latin typeface="Gill Sans MT"/>
            </a:endParaRPr>
          </a:p>
        </p:txBody>
      </p:sp>
      <p:sp>
        <p:nvSpPr>
          <p:cNvPr id="352"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数据处理系统（</a:t>
            </a:r>
            <a:r>
              <a:rPr b="0" lang="en-US" sz="2400" spc="-1" strike="noStrike">
                <a:solidFill>
                  <a:srgbClr val="000000"/>
                </a:solidFill>
                <a:latin typeface="Gill Sans MT"/>
              </a:rPr>
              <a:t>Data Processing System</a:t>
            </a:r>
            <a:r>
              <a:rPr b="0" lang="zh-CN" sz="2400" spc="-1" strike="noStrike">
                <a:solidFill>
                  <a:srgbClr val="000000"/>
                </a:solidFill>
                <a:latin typeface="Gill Sans MT"/>
              </a:rPr>
              <a:t>，</a:t>
            </a:r>
            <a:r>
              <a:rPr b="0" lang="en-US" sz="2400" spc="-1" strike="noStrike">
                <a:solidFill>
                  <a:srgbClr val="000000"/>
                </a:solidFill>
                <a:latin typeface="Gill Sans MT"/>
              </a:rPr>
              <a:t>DP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办公自动化系统（</a:t>
            </a:r>
            <a:r>
              <a:rPr b="0" lang="en-US" sz="2400" spc="-1" strike="noStrike">
                <a:solidFill>
                  <a:srgbClr val="000000"/>
                </a:solidFill>
                <a:latin typeface="Gill Sans MT"/>
              </a:rPr>
              <a:t>Office Automation System</a:t>
            </a:r>
            <a:r>
              <a:rPr b="0" lang="zh-CN" sz="2400" spc="-1" strike="noStrike">
                <a:solidFill>
                  <a:srgbClr val="000000"/>
                </a:solidFill>
                <a:latin typeface="Gill Sans MT"/>
              </a:rPr>
              <a:t>，</a:t>
            </a:r>
            <a:r>
              <a:rPr b="0" lang="en-US" sz="2400" spc="-1" strike="noStrike">
                <a:solidFill>
                  <a:srgbClr val="000000"/>
                </a:solidFill>
                <a:latin typeface="Gill Sans MT"/>
              </a:rPr>
              <a:t>OA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管理信息系统（</a:t>
            </a:r>
            <a:r>
              <a:rPr b="0" lang="en-US" sz="2400" spc="-1" strike="noStrike">
                <a:solidFill>
                  <a:srgbClr val="000000"/>
                </a:solidFill>
                <a:latin typeface="Gill Sans MT"/>
              </a:rPr>
              <a:t>Management Information System</a:t>
            </a:r>
            <a:r>
              <a:rPr b="0" lang="zh-CN" sz="2400" spc="-1" strike="noStrike">
                <a:solidFill>
                  <a:srgbClr val="000000"/>
                </a:solidFill>
                <a:latin typeface="Gill Sans MT"/>
              </a:rPr>
              <a:t>，</a:t>
            </a:r>
            <a:r>
              <a:rPr b="0" lang="en-US" sz="2400" spc="-1" strike="noStrike">
                <a:solidFill>
                  <a:srgbClr val="000000"/>
                </a:solidFill>
                <a:latin typeface="Gill Sans MT"/>
              </a:rPr>
              <a:t>MI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信息检索系统（</a:t>
            </a:r>
            <a:r>
              <a:rPr b="0" lang="en-US" sz="2400" spc="-1" strike="noStrike">
                <a:solidFill>
                  <a:srgbClr val="000000"/>
                </a:solidFill>
                <a:latin typeface="Gill Sans MT"/>
              </a:rPr>
              <a:t>Information Retrieval System</a:t>
            </a:r>
            <a:r>
              <a:rPr b="0" lang="zh-CN" sz="2400" spc="-1" strike="noStrike">
                <a:solidFill>
                  <a:srgbClr val="000000"/>
                </a:solidFill>
                <a:latin typeface="Gill Sans MT"/>
              </a:rPr>
              <a:t>，</a:t>
            </a:r>
            <a:r>
              <a:rPr b="0" lang="en-US" sz="2400" spc="-1" strike="noStrike">
                <a:solidFill>
                  <a:srgbClr val="000000"/>
                </a:solidFill>
                <a:latin typeface="Gill Sans MT"/>
              </a:rPr>
              <a:t>IR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决策支持系统（</a:t>
            </a:r>
            <a:r>
              <a:rPr b="0" lang="en-US" sz="2400" spc="-1" strike="noStrike">
                <a:solidFill>
                  <a:srgbClr val="000000"/>
                </a:solidFill>
                <a:latin typeface="Gill Sans MT"/>
              </a:rPr>
              <a:t>Decision Support System</a:t>
            </a:r>
            <a:r>
              <a:rPr b="0" lang="zh-CN" sz="2400" spc="-1" strike="noStrike">
                <a:solidFill>
                  <a:srgbClr val="000000"/>
                </a:solidFill>
                <a:latin typeface="Gill Sans MT"/>
              </a:rPr>
              <a:t>，</a:t>
            </a:r>
            <a:r>
              <a:rPr b="0" lang="en-US" sz="2400" spc="-1" strike="noStrike">
                <a:solidFill>
                  <a:srgbClr val="000000"/>
                </a:solidFill>
                <a:latin typeface="Gill Sans MT"/>
              </a:rPr>
              <a:t>DSS</a:t>
            </a:r>
            <a:r>
              <a:rPr b="0" lang="zh-CN" sz="2400" spc="-1" strike="noStrike">
                <a:solidFill>
                  <a:srgbClr val="000000"/>
                </a:solidFill>
                <a:latin typeface="Gill Sans MT"/>
              </a:rPr>
              <a:t>）</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处理系统（</a:t>
            </a:r>
            <a:r>
              <a:rPr b="1" lang="en-US" sz="3200" spc="-1" strike="noStrike">
                <a:solidFill>
                  <a:srgbClr val="000000"/>
                </a:solidFill>
                <a:latin typeface="Gill Sans MT"/>
              </a:rPr>
              <a:t>Data Processing System</a:t>
            </a:r>
            <a:r>
              <a:rPr b="1" lang="zh-CN" sz="3200" spc="-1" strike="noStrike">
                <a:solidFill>
                  <a:srgbClr val="000000"/>
                </a:solidFill>
                <a:latin typeface="Gill Sans MT"/>
              </a:rPr>
              <a:t>，</a:t>
            </a:r>
            <a:r>
              <a:rPr b="1" lang="en-US" sz="3200" spc="-1" strike="noStrike">
                <a:solidFill>
                  <a:srgbClr val="000000"/>
                </a:solidFill>
                <a:latin typeface="Gill Sans MT"/>
              </a:rPr>
              <a:t>DP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数据处理系统是指运用计算机处理信息而构成的软件系统，其主要功能是将输入的数据信息进行加工、整理，计算各种分析指标，从而转变为易于被人们所接受的信息形式，并将经过处理的信息进行有序存储，随时通过外部设备传输给信息使用者。</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办公自动化系统（</a:t>
            </a:r>
            <a:r>
              <a:rPr b="1" lang="en-US" sz="3200" spc="-1" strike="noStrike">
                <a:solidFill>
                  <a:srgbClr val="000000"/>
                </a:solidFill>
                <a:latin typeface="Gill Sans MT"/>
              </a:rPr>
              <a:t>Office Automation System</a:t>
            </a:r>
            <a:r>
              <a:rPr b="1" lang="zh-CN" sz="3200" spc="-1" strike="noStrike">
                <a:solidFill>
                  <a:srgbClr val="000000"/>
                </a:solidFill>
                <a:latin typeface="Gill Sans MT"/>
              </a:rPr>
              <a:t>，</a:t>
            </a:r>
            <a:r>
              <a:rPr b="1" lang="en-US" sz="3200" spc="-1" strike="noStrike">
                <a:solidFill>
                  <a:srgbClr val="000000"/>
                </a:solidFill>
                <a:latin typeface="Gill Sans MT"/>
              </a:rPr>
              <a:t>OA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办公自动化系统是利用技术手段提高办公效率，使企业内部工作人员之间方便快捷地共享信息资源，高效地协同工作，从而实现办公自动化处理的软件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39384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管理信息系统（</a:t>
            </a:r>
            <a:r>
              <a:rPr b="1" lang="en-US" sz="3200" spc="-1" strike="noStrike">
                <a:solidFill>
                  <a:srgbClr val="000000"/>
                </a:solidFill>
                <a:latin typeface="Gill Sans MT"/>
              </a:rPr>
              <a:t>Management Information System</a:t>
            </a:r>
            <a:r>
              <a:rPr b="1" lang="zh-CN" sz="3200" spc="-1" strike="noStrike">
                <a:solidFill>
                  <a:srgbClr val="000000"/>
                </a:solidFill>
                <a:latin typeface="Gill Sans MT"/>
              </a:rPr>
              <a:t>，</a:t>
            </a:r>
            <a:r>
              <a:rPr b="1" lang="en-US" sz="3200" spc="-1" strike="noStrike">
                <a:solidFill>
                  <a:srgbClr val="000000"/>
                </a:solidFill>
                <a:latin typeface="Gill Sans MT"/>
              </a:rPr>
              <a:t>MI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管理信息系统是一个由人、计算机、网络通讯设备等硬件和软件组成的，具有进行管理信息的收集、加工、存储、传输、维护和使用功能的系统。一个完整的管理信息系统应包括：决策支持系统（</a:t>
            </a:r>
            <a:r>
              <a:rPr b="0" lang="en-US" sz="3200" spc="-1" strike="noStrike">
                <a:solidFill>
                  <a:srgbClr val="000000"/>
                </a:solidFill>
                <a:latin typeface="Gill Sans MT"/>
              </a:rPr>
              <a:t>DSS</a:t>
            </a:r>
            <a:r>
              <a:rPr b="0" lang="zh-CN" sz="3200" spc="-1" strike="noStrike">
                <a:solidFill>
                  <a:srgbClr val="000000"/>
                </a:solidFill>
                <a:latin typeface="Gill Sans MT"/>
              </a:rPr>
              <a:t>）、工业控制系统（</a:t>
            </a:r>
            <a:r>
              <a:rPr b="0" lang="en-US" sz="3200" spc="-1" strike="noStrike">
                <a:solidFill>
                  <a:srgbClr val="000000"/>
                </a:solidFill>
                <a:latin typeface="Gill Sans MT"/>
              </a:rPr>
              <a:t>CCS</a:t>
            </a:r>
            <a:r>
              <a:rPr b="0" lang="zh-CN" sz="3200" spc="-1" strike="noStrike">
                <a:solidFill>
                  <a:srgbClr val="000000"/>
                </a:solidFill>
                <a:latin typeface="Gill Sans MT"/>
              </a:rPr>
              <a:t>）、办公自动化系统（</a:t>
            </a:r>
            <a:r>
              <a:rPr b="0" lang="en-US" sz="3200" spc="-1" strike="noStrike">
                <a:solidFill>
                  <a:srgbClr val="000000"/>
                </a:solidFill>
                <a:latin typeface="Gill Sans MT"/>
              </a:rPr>
              <a:t>QA</a:t>
            </a:r>
            <a:r>
              <a:rPr b="0" lang="zh-CN" sz="3200" spc="-1" strike="noStrike">
                <a:solidFill>
                  <a:srgbClr val="000000"/>
                </a:solidFill>
                <a:latin typeface="Gill Sans MT"/>
              </a:rPr>
              <a:t>）、数据库、模型库、方法库、知识库和与上级机关及外界交换信息的接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434960" y="60912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4.</a:t>
            </a:r>
            <a:r>
              <a:rPr b="1" lang="zh-CN" sz="3200" spc="-1" strike="noStrike">
                <a:solidFill>
                  <a:srgbClr val="000000"/>
                </a:solidFill>
                <a:latin typeface="Gill Sans MT"/>
              </a:rPr>
              <a:t>信息检索系统（</a:t>
            </a:r>
            <a:r>
              <a:rPr b="1" lang="en-US" sz="3200" spc="-1" strike="noStrike">
                <a:solidFill>
                  <a:srgbClr val="000000"/>
                </a:solidFill>
                <a:latin typeface="Gill Sans MT"/>
              </a:rPr>
              <a:t>Information Retrieval System</a:t>
            </a:r>
            <a:r>
              <a:rPr b="1" lang="zh-CN" sz="3200" spc="-1" strike="noStrike">
                <a:solidFill>
                  <a:srgbClr val="000000"/>
                </a:solidFill>
                <a:latin typeface="Gill Sans MT"/>
              </a:rPr>
              <a:t>，</a:t>
            </a:r>
            <a:r>
              <a:rPr b="1" lang="en-US" sz="3200" spc="-1" strike="noStrike">
                <a:solidFill>
                  <a:srgbClr val="000000"/>
                </a:solidFill>
                <a:latin typeface="Gill Sans MT"/>
              </a:rPr>
              <a:t>IR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信息检索系统是根据信息用户特定的信息需求而建立的具有收集、加工、存储和检索有关信息的程序化系统，其主要目的是为用户提供信息服务。信息检索系统的三个基本要素为：人、检索工具（包括设备）和信息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4960" y="6094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5.</a:t>
            </a:r>
            <a:r>
              <a:rPr b="1" lang="zh-CN" sz="3200" spc="-1" strike="noStrike">
                <a:solidFill>
                  <a:srgbClr val="000000"/>
                </a:solidFill>
                <a:latin typeface="Gill Sans MT"/>
              </a:rPr>
              <a:t>决策支持系统（</a:t>
            </a:r>
            <a:r>
              <a:rPr b="1" lang="en-US" sz="3200" spc="-1" strike="noStrike">
                <a:solidFill>
                  <a:srgbClr val="000000"/>
                </a:solidFill>
                <a:latin typeface="Gill Sans MT"/>
              </a:rPr>
              <a:t>Decision Support System</a:t>
            </a:r>
            <a:r>
              <a:rPr b="1" lang="zh-CN" sz="3200" spc="-1" strike="noStrike">
                <a:solidFill>
                  <a:srgbClr val="000000"/>
                </a:solidFill>
                <a:latin typeface="Gill Sans MT"/>
              </a:rPr>
              <a:t>，</a:t>
            </a:r>
            <a:r>
              <a:rPr b="1" lang="en-US" sz="3200" spc="-1" strike="noStrike">
                <a:solidFill>
                  <a:srgbClr val="000000"/>
                </a:solidFill>
                <a:latin typeface="Gill Sans MT"/>
              </a:rPr>
              <a:t>DSS</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决策支持系统是管理信息系统向更高一级发展从而所产生的先进的信息管理系统，以决策者为主要服务对象，通过数据、模型和知识，以人机交互方式进行半结构化或非结构化决策的计算机应用系统，其主要目的是帮助决策者提高决策水平和质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房地产估价信息系统概述</a:t>
            </a:r>
            <a:endParaRPr b="1" lang="en-US" sz="3600" spc="-1" strike="noStrike">
              <a:solidFill>
                <a:srgbClr val="572314"/>
              </a:solidFill>
              <a:latin typeface="Gill Sans MT"/>
            </a:endParaRPr>
          </a:p>
        </p:txBody>
      </p:sp>
      <p:sp>
        <p:nvSpPr>
          <p:cNvPr id="3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信息系统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信息系统的建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信息与数据的关系、信息的特点，了解信息系统的定义、组成和种类，从而学习房地产估价信息系统以及与房地产估价有关的主要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房地产估价信息系统的含义</a:t>
            </a:r>
            <a:endParaRPr b="1" lang="en-US" sz="40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信息系统的建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据库设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结构设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功能设计</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据库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公共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房地产交易实例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经验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en-US" sz="2000" spc="-1" strike="noStrike">
                <a:solidFill>
                  <a:srgbClr val="000000"/>
                </a:solidFill>
                <a:latin typeface="Gill Sans MT"/>
              </a:rPr>
              <a:t>2.</a:t>
            </a:r>
            <a:r>
              <a:rPr b="0" lang="zh-CN" sz="2000" spc="-1" strike="noStrike">
                <a:solidFill>
                  <a:srgbClr val="000000"/>
                </a:solidFill>
                <a:latin typeface="Gill Sans MT"/>
              </a:rPr>
              <a:t>基础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方法模型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指标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报告格式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估价项目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估价项目特征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估价项目估价数据库</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估价项目估价报告数据库</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公共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房地产交易实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实际发生的房地产交易实例的属性数据：包括交易时间、交易房地产所在的区域情况（例如宗地位置、面积、楼层、周围配套设施等）、交易价格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经验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房地产估价师们在进行房地产估价过程中凭借自身经验和知识对各类房地产估价参数进行处理和修正的结果，不断累积的数据可为日后估价师处理房地产估价提供宝贵的意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区域环境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各个区域内房地产的地理位置、公共设施、交通便捷程度等影响房地价格的区域因素，便于应用市场比较法进行房地产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础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方法模型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理论依据，主要存储包括成本法、市场比较法、收益还原法、路线价法和长期趋势法等估价方法的计算公式、参数含义和逻辑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指标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在房地产估价过程中不同估价方法中所使用到的各类指标，包括土地基准地价指标、房地产重置成本指标、收益指标、折旧评定标准、房地产税费标准等。指标数据库需要根据实际情况进行实时的更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报告格式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估价规范》为依据，提供估价报告模板，房地产估价师也可根据自身需求在此基础上进行修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估价项目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1</a:t>
            </a:r>
            <a:r>
              <a:rPr b="1" lang="zh-CN" sz="2400" spc="-1" strike="noStrike">
                <a:solidFill>
                  <a:srgbClr val="000000"/>
                </a:solidFill>
                <a:latin typeface="Gill Sans MT"/>
              </a:rPr>
              <a:t>）估价项目特征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描述估价对象的区域位置、占地面积、用途、权属、结构特点、楼层、层高、朝向、通风与采光情况、新旧程度等特征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估价项目估价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对象面积、折旧、所有权（使用权）年限、已使用年限、收益等估价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3</a:t>
            </a:r>
            <a:r>
              <a:rPr b="1" lang="zh-CN" sz="2400" spc="-1" strike="noStrike">
                <a:solidFill>
                  <a:srgbClr val="000000"/>
                </a:solidFill>
                <a:latin typeface="Gill Sans MT"/>
              </a:rPr>
              <a:t>）估价项目估价报告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存储估价项目输出的按特定估价报告格式生成的估价报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结构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输出子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输入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入房地产估价过程中所需的特征数据，以便进行下一步的处理，并将输入的数据存储到房地产估价信息系统的基础数据库和公共数据库</a:t>
            </a:r>
            <a:endParaRPr b="1" lang="en-US" sz="3200" spc="-1" strike="noStrike">
              <a:solidFill>
                <a:srgbClr val="000000"/>
              </a:solidFill>
              <a:latin typeface="Gill Sans MT"/>
            </a:endParaRPr>
          </a:p>
        </p:txBody>
      </p:sp>
      <p:pic>
        <p:nvPicPr>
          <p:cNvPr id="372" name="Picture 2" descr=""/>
          <p:cNvPicPr/>
          <p:nvPr/>
        </p:nvPicPr>
        <p:blipFill>
          <a:blip r:embed="rId1"/>
          <a:stretch/>
        </p:blipFill>
        <p:spPr>
          <a:xfrm>
            <a:off x="1116000" y="2598840"/>
            <a:ext cx="7209000" cy="435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260280"/>
            <a:ext cx="7709040" cy="29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处理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估价方法的确定、房地产估价项目的估价以及估价报告的撰写三部分。首先，根据之前输入的数据，结合系统中估价方法模型数据库，确定此例房地产估价项目使用的估计方法。随后，根据确定的估价方法以及项目数据进行房地产估价。最后将求取获得的房地产估价结果撰写成最终的房地产估价报告</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
        <p:nvSpPr>
          <p:cNvPr id="3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 name="Object 3"/>
          <p:cNvGraphicFramePr/>
          <p:nvPr/>
        </p:nvGraphicFramePr>
        <p:xfrm>
          <a:off x="1187280" y="3284640"/>
          <a:ext cx="6610680" cy="3228840"/>
        </p:xfrm>
        <a:graphic>
          <a:graphicData uri="http://schemas.openxmlformats.org/presentationml/2006/ole">
            <p:oleObj r:id="rId1" spid="">
              <p:embed/>
              <p:pic>
                <p:nvPicPr>
                  <p:cNvPr id="376" name="Object 3" descr=""/>
                  <p:cNvPicPr/>
                  <p:nvPr/>
                </p:nvPicPr>
                <p:blipFill>
                  <a:blip r:embed="rId2"/>
                  <a:stretch/>
                </p:blipFill>
                <p:spPr>
                  <a:xfrm>
                    <a:off x="1187280" y="3284640"/>
                    <a:ext cx="6610680" cy="322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输出子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输出之前获得的房地产估价报告，也可根据房地产估价师的实际需求将估价过程中的项目数据、区域数据等其他数据以一定格式进行输出。</a:t>
            </a:r>
            <a:endParaRPr b="1" lang="en-US" sz="3200" spc="-1" strike="noStrike">
              <a:solidFill>
                <a:srgbClr val="000000"/>
              </a:solidFill>
              <a:latin typeface="Gill Sans MT"/>
            </a:endParaRPr>
          </a:p>
        </p:txBody>
      </p:sp>
      <p:pic>
        <p:nvPicPr>
          <p:cNvPr id="378" name="Picture 2" descr=""/>
          <p:cNvPicPr/>
          <p:nvPr/>
        </p:nvPicPr>
        <p:blipFill>
          <a:blip r:embed="rId1"/>
          <a:stretch/>
        </p:blipFill>
        <p:spPr>
          <a:xfrm>
            <a:off x="1979640" y="2855880"/>
            <a:ext cx="631332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办公自动化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管理信息系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房地产估价系统基本工作流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80" name="Picture 4" descr=""/>
          <p:cNvPicPr/>
          <p:nvPr/>
        </p:nvPicPr>
        <p:blipFill>
          <a:blip r:embed="rId1"/>
          <a:stretch/>
        </p:blipFill>
        <p:spPr>
          <a:xfrm>
            <a:off x="1547640" y="1076400"/>
            <a:ext cx="7091640" cy="5815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功能设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房地产项目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1.</a:t>
            </a:r>
            <a:r>
              <a:rPr b="1" lang="zh-CN" sz="3200" spc="-1" strike="noStrike">
                <a:solidFill>
                  <a:srgbClr val="000000"/>
                </a:solidFill>
                <a:latin typeface="Gill Sans MT"/>
              </a:rPr>
              <a:t>数据管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各类房地产估价数据的收集、输入、分析、存储、修改、查询、处理、输出、备份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a:t>
            </a:r>
            <a:r>
              <a:rPr b="1" lang="zh-CN" sz="3200" spc="-1" strike="noStrike">
                <a:solidFill>
                  <a:srgbClr val="000000"/>
                </a:solidFill>
                <a:latin typeface="Gill Sans MT"/>
              </a:rPr>
              <a:t>房地产项目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估价方法确定、估价方法修正、项目估价以及估价报告撰写等功能。</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系统维护和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根据不断更新发展的估价方法、指标数据以及房地产交易实例等对房地产估价信息系统进行维护，并针对用户需求提供二次开发的扩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与房地产估价有关的主要信息系统</a:t>
            </a:r>
            <a:endParaRPr b="1" lang="en-US" sz="3600" spc="-1" strike="noStrike">
              <a:solidFill>
                <a:srgbClr val="572314"/>
              </a:solidFill>
              <a:latin typeface="Gill Sans MT"/>
            </a:endParaRPr>
          </a:p>
        </p:txBody>
      </p:sp>
      <p:sp>
        <p:nvSpPr>
          <p:cNvPr id="3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系统基本工作流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在线评估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杭州荣昌科技有限公司的土地估价系统（</a:t>
            </a:r>
            <a:r>
              <a:rPr b="0" lang="en-US" sz="3200" spc="-1" strike="noStrike">
                <a:solidFill>
                  <a:srgbClr val="000000"/>
                </a:solidFill>
                <a:latin typeface="Gill Sans MT"/>
              </a:rPr>
              <a:t>LES</a:t>
            </a:r>
            <a:r>
              <a:rPr b="0" lang="zh-CN" sz="3200" spc="-1" strike="noStrike">
                <a:solidFill>
                  <a:srgbClr val="000000"/>
                </a:solidFill>
                <a:latin typeface="Gill Sans MT"/>
              </a:rPr>
              <a:t>）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房网在线评估系统</a:t>
            </a:r>
            <a:endParaRPr b="1" lang="en-US" sz="4000" spc="-1" strike="noStrike">
              <a:solidFill>
                <a:srgbClr val="572314"/>
              </a:solidFill>
              <a:latin typeface="Gill Sans MT"/>
            </a:endParaRPr>
          </a:p>
        </p:txBody>
      </p:sp>
      <p:sp>
        <p:nvSpPr>
          <p:cNvPr id="38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房网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房网房产评估操作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进入搜房网主页，单击“房产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2.</a:t>
            </a:r>
            <a:r>
              <a:rPr b="0" lang="zh-CN" sz="2400" spc="-1" strike="noStrike">
                <a:solidFill>
                  <a:srgbClr val="000000"/>
                </a:solidFill>
                <a:latin typeface="Gill Sans MT"/>
              </a:rPr>
              <a:t>进入“搜房评估”界面，选择待评估房产所在的城市和物业名称，然后单击“开始评估”按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进入“评估计算”界面后，按要求选择输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4.</a:t>
            </a:r>
            <a:r>
              <a:rPr b="0" lang="zh-CN" sz="2400" spc="-1" strike="noStrike">
                <a:solidFill>
                  <a:srgbClr val="000000"/>
                </a:solidFill>
                <a:latin typeface="Gill Sans MT"/>
              </a:rPr>
              <a:t>如果还需要房产评估报告，则继续单击界面下面的“查看报告”按钮 ，所评估房产的评估报告就会显示出来。</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搜房网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搜房网成立于</a:t>
            </a:r>
            <a:r>
              <a:rPr b="0" lang="en-US" sz="2400" spc="-1" strike="noStrike">
                <a:solidFill>
                  <a:srgbClr val="000000"/>
                </a:solidFill>
                <a:latin typeface="Gill Sans MT"/>
              </a:rPr>
              <a:t>1999</a:t>
            </a:r>
            <a:r>
              <a:rPr b="0" lang="zh-CN" sz="2400" spc="-1" strike="noStrike">
                <a:solidFill>
                  <a:srgbClr val="000000"/>
                </a:solidFill>
                <a:latin typeface="Gill Sans MT"/>
              </a:rPr>
              <a:t>年，是中国的一个大型房地产门户网站，网络业务覆盖了全国</a:t>
            </a:r>
            <a:r>
              <a:rPr b="0" lang="en-US" sz="2400" spc="-1" strike="noStrike">
                <a:solidFill>
                  <a:srgbClr val="000000"/>
                </a:solidFill>
                <a:latin typeface="Gill Sans MT"/>
              </a:rPr>
              <a:t>314</a:t>
            </a:r>
            <a:r>
              <a:rPr b="0" lang="zh-CN" sz="2400" spc="-1" strike="noStrike">
                <a:solidFill>
                  <a:srgbClr val="000000"/>
                </a:solidFill>
                <a:latin typeface="Gill Sans MT"/>
              </a:rPr>
              <a:t>个城市。其业务覆盖房地产所有行业，包括新房、二手房、租房、别墅、写字楼、商铺、家具、装修装饰等。旗下的研究集团（中国指数研究院）是由国内外几十位行业专家和数学学术机构共建的整合了中国房地产指数系统、搜房研究院、中国别墅指数系统、中国房地产</a:t>
            </a:r>
            <a:r>
              <a:rPr b="0" lang="en-US" sz="2400" spc="-1" strike="noStrike">
                <a:solidFill>
                  <a:srgbClr val="000000"/>
                </a:solidFill>
                <a:latin typeface="Gill Sans MT"/>
              </a:rPr>
              <a:t>TOP 10</a:t>
            </a:r>
            <a:r>
              <a:rPr b="0" lang="zh-CN" sz="2400" spc="-1" strike="noStrike">
                <a:solidFill>
                  <a:srgbClr val="000000"/>
                </a:solidFill>
                <a:latin typeface="Gill Sans MT"/>
              </a:rPr>
              <a:t>研究组等研究资源的研究机构，旨在全方面服务于中国的商业经济，是中国目前最大的房地产专业研究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世联</a:t>
            </a:r>
            <a:r>
              <a:rPr b="0" lang="en-US" sz="4000" spc="-1" strike="noStrike">
                <a:solidFill>
                  <a:srgbClr val="572314"/>
                </a:solidFill>
                <a:latin typeface="Gill Sans MT"/>
              </a:rPr>
              <a:t>EVS</a:t>
            </a:r>
            <a:r>
              <a:rPr b="0" lang="zh-CN" sz="4000" spc="-1" strike="noStrike">
                <a:solidFill>
                  <a:srgbClr val="572314"/>
                </a:solidFill>
                <a:latin typeface="Gill Sans MT"/>
              </a:rPr>
              <a:t>自动估价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简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世联</a:t>
            </a:r>
            <a:r>
              <a:rPr b="0" lang="en-US" sz="3200" spc="-1" strike="noStrike">
                <a:solidFill>
                  <a:srgbClr val="000000"/>
                </a:solidFill>
                <a:latin typeface="Gill Sans MT"/>
              </a:rPr>
              <a:t>EVS</a:t>
            </a:r>
            <a:r>
              <a:rPr b="0" lang="zh-CN" sz="3200" spc="-1" strike="noStrike">
                <a:solidFill>
                  <a:srgbClr val="000000"/>
                </a:solidFill>
                <a:latin typeface="Gill Sans MT"/>
              </a:rPr>
              <a:t>自动估价系统核心功能</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地图查询</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自动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楼盘信息查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交易案例查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53784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是由深圳市世联土地房地产评估有限公司结合其十五年专业评估经验而自主研发的与电子商务相结合开发而成的快速估价系统，并获得了国家版权证书（软著登字第</a:t>
            </a:r>
            <a:r>
              <a:rPr b="0" lang="en-US" sz="2400" spc="-1" strike="noStrike">
                <a:solidFill>
                  <a:srgbClr val="000000"/>
                </a:solidFill>
                <a:latin typeface="Gill Sans MT"/>
              </a:rPr>
              <a:t>084195</a:t>
            </a:r>
            <a:r>
              <a:rPr b="0" lang="zh-CN" sz="2400" spc="-1" strike="noStrike">
                <a:solidFill>
                  <a:srgbClr val="000000"/>
                </a:solidFill>
                <a:latin typeface="Gill Sans MT"/>
              </a:rPr>
              <a:t>号）和深圳</a:t>
            </a:r>
            <a:r>
              <a:rPr b="0" lang="en-US" sz="2400" spc="-1" strike="noStrike">
                <a:solidFill>
                  <a:srgbClr val="000000"/>
                </a:solidFill>
                <a:latin typeface="Gill Sans MT"/>
              </a:rPr>
              <a:t>“</a:t>
            </a:r>
            <a:r>
              <a:rPr b="0" lang="zh-CN" sz="2400" spc="-1" strike="noStrike">
                <a:solidFill>
                  <a:srgbClr val="000000"/>
                </a:solidFill>
                <a:latin typeface="Gill Sans MT"/>
              </a:rPr>
              <a:t>科技进步奖</a:t>
            </a:r>
            <a:r>
              <a:rPr b="0" lang="en-US" sz="2400" spc="-1" strike="noStrike">
                <a:solidFill>
                  <a:srgbClr val="000000"/>
                </a:solidFill>
                <a:latin typeface="Gill Sans MT"/>
              </a:rPr>
              <a:t>”</a:t>
            </a:r>
            <a:r>
              <a:rPr b="0" lang="zh-CN" sz="2400" spc="-1" strike="noStrike">
                <a:solidFill>
                  <a:srgbClr val="000000"/>
                </a:solidFill>
                <a:latin typeface="Gill Sans MT"/>
              </a:rPr>
              <a:t>。该系统以数据库资料为基础支撑，应用市场比较法、收益法、成本法、假设开发法、基准地价法等评估方法进行厂房、办公、土地等物业的评估。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被誉为是一套</a:t>
            </a:r>
            <a:r>
              <a:rPr b="0" lang="en-US" sz="2400" spc="-1" strike="noStrike">
                <a:solidFill>
                  <a:srgbClr val="000000"/>
                </a:solidFill>
                <a:latin typeface="Gill Sans MT"/>
              </a:rPr>
              <a:t>“</a:t>
            </a:r>
            <a:r>
              <a:rPr b="0" lang="zh-CN" sz="2400" spc="-1" strike="noStrike">
                <a:solidFill>
                  <a:srgbClr val="000000"/>
                </a:solidFill>
                <a:latin typeface="Gill Sans MT"/>
              </a:rPr>
              <a:t>利用了</a:t>
            </a:r>
            <a:r>
              <a:rPr b="0" lang="en-US" sz="2400" spc="-1" strike="noStrike">
                <a:solidFill>
                  <a:srgbClr val="000000"/>
                </a:solidFill>
                <a:latin typeface="Gill Sans MT"/>
              </a:rPr>
              <a:t>GIS</a:t>
            </a:r>
            <a:r>
              <a:rPr b="0" lang="zh-CN" sz="2400" spc="-1" strike="noStrike">
                <a:solidFill>
                  <a:srgbClr val="000000"/>
                </a:solidFill>
                <a:latin typeface="Gill Sans MT"/>
              </a:rPr>
              <a:t>技术和房地产估价理论和实务建立的行之有效的估价信息系统</a:t>
            </a:r>
            <a:r>
              <a:rPr b="0" lang="en-US" sz="2400" spc="-1" strike="noStrike">
                <a:solidFill>
                  <a:srgbClr val="000000"/>
                </a:solidFill>
                <a:latin typeface="Gill Sans MT"/>
              </a:rPr>
              <a:t>”</a:t>
            </a:r>
            <a:r>
              <a:rPr b="0" lang="zh-CN" sz="2400" spc="-1" strike="noStrike">
                <a:solidFill>
                  <a:srgbClr val="000000"/>
                </a:solidFill>
                <a:latin typeface="Gill Sans MT"/>
              </a:rPr>
              <a:t>，在深圳的银行网点的使用率达到</a:t>
            </a:r>
            <a:r>
              <a:rPr b="0" lang="en-US" sz="2400" spc="-1" strike="noStrike">
                <a:solidFill>
                  <a:srgbClr val="000000"/>
                </a:solidFill>
                <a:latin typeface="Gill Sans MT"/>
              </a:rPr>
              <a:t>95%</a:t>
            </a:r>
            <a:r>
              <a:rPr b="0" lang="zh-CN" sz="2400" spc="-1" strike="noStrike">
                <a:solidFill>
                  <a:srgbClr val="000000"/>
                </a:solidFill>
                <a:latin typeface="Gill Sans MT"/>
              </a:rPr>
              <a:t>以上。该系统通过网络服务于公共大众，使用者可以在网站上进行图形查询、自动估价、住宅案例查询、工商案例查询、楼盘信息查询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世联</a:t>
            </a:r>
            <a:r>
              <a:rPr b="1" lang="en-US" sz="2400" spc="-1" strike="noStrike">
                <a:solidFill>
                  <a:srgbClr val="000000"/>
                </a:solidFill>
                <a:latin typeface="Gill Sans MT"/>
              </a:rPr>
              <a:t>EVS</a:t>
            </a:r>
            <a:r>
              <a:rPr b="1" lang="zh-CN" sz="2400" spc="-1" strike="noStrike">
                <a:solidFill>
                  <a:srgbClr val="000000"/>
                </a:solidFill>
                <a:latin typeface="Gill Sans MT"/>
              </a:rPr>
              <a:t>自动估价系统核心功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世联</a:t>
            </a:r>
            <a:r>
              <a:rPr b="0" lang="en-US" sz="2400" spc="-1" strike="noStrike">
                <a:solidFill>
                  <a:srgbClr val="000000"/>
                </a:solidFill>
                <a:latin typeface="Gill Sans MT"/>
              </a:rPr>
              <a:t>EVS</a:t>
            </a:r>
            <a:r>
              <a:rPr b="0" lang="zh-CN" sz="2400" spc="-1" strike="noStrike">
                <a:solidFill>
                  <a:srgbClr val="000000"/>
                </a:solidFill>
                <a:latin typeface="Gill Sans MT"/>
              </a:rPr>
              <a:t>自动估价系统核心功能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楼盘周边的配套信息、交通情况、城市区位在</a:t>
            </a:r>
            <a:r>
              <a:rPr b="0" lang="en-US" sz="2400" spc="-1" strike="noStrike">
                <a:solidFill>
                  <a:srgbClr val="000000"/>
                </a:solidFill>
                <a:latin typeface="Gill Sans MT"/>
              </a:rPr>
              <a:t>GIS</a:t>
            </a:r>
            <a:r>
              <a:rPr b="0" lang="zh-CN" sz="2400" spc="-1" strike="noStrike">
                <a:solidFill>
                  <a:srgbClr val="000000"/>
                </a:solidFill>
                <a:latin typeface="Gill Sans MT"/>
              </a:rPr>
              <a:t>地图上一览无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自动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十秒钟实现某个楼盘单个房号的自动评估总值和预计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楼盘信息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在房地产二级市场面市时的所有属性信息，包括发售时的当时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交易案例查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楼盘成为二手楼后在三级市场上的价格表现，可查询历史价格走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杭州荣昌科技有限公司的土地估价系统（</a:t>
            </a:r>
            <a:r>
              <a:rPr b="0" lang="en-US" sz="3200" spc="-1" strike="noStrike">
                <a:solidFill>
                  <a:srgbClr val="572314"/>
                </a:solidFill>
                <a:latin typeface="Gill Sans MT"/>
              </a:rPr>
              <a:t>LES</a:t>
            </a:r>
            <a:r>
              <a:rPr b="0" lang="zh-CN" sz="3200" spc="-1" strike="noStrike">
                <a:solidFill>
                  <a:srgbClr val="572314"/>
                </a:solidFill>
                <a:latin typeface="Gill Sans MT"/>
              </a:rPr>
              <a:t>）和房地产估价系统（</a:t>
            </a:r>
            <a:r>
              <a:rPr b="0" lang="en-US" sz="3200" spc="-1" strike="noStrike">
                <a:solidFill>
                  <a:srgbClr val="572314"/>
                </a:solidFill>
                <a:latin typeface="Gill Sans MT"/>
              </a:rPr>
              <a:t>RES</a:t>
            </a:r>
            <a:r>
              <a:rPr b="0" lang="zh-CN" sz="3200" spc="-1" strike="noStrike">
                <a:solidFill>
                  <a:srgbClr val="572314"/>
                </a:solidFill>
                <a:latin typeface="Gill Sans MT"/>
              </a:rPr>
              <a:t>）</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估价系统（</a:t>
            </a:r>
            <a:r>
              <a:rPr b="0" lang="en-US" sz="3200" spc="-1" strike="noStrike">
                <a:solidFill>
                  <a:srgbClr val="000000"/>
                </a:solidFill>
                <a:latin typeface="Gill Sans MT"/>
              </a:rPr>
              <a:t>L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房地产估价系统（</a:t>
            </a:r>
            <a:r>
              <a:rPr b="0" lang="en-US" sz="3200" spc="-1" strike="noStrike">
                <a:solidFill>
                  <a:srgbClr val="000000"/>
                </a:solidFill>
                <a:latin typeface="Gill Sans MT"/>
              </a:rPr>
              <a:t>RES</a:t>
            </a:r>
            <a:r>
              <a:rPr b="0" lang="zh-CN" sz="3200" spc="-1" strike="noStrike">
                <a:solidFill>
                  <a:srgbClr val="000000"/>
                </a:solidFill>
                <a:latin typeface="Gill Sans MT"/>
              </a:rPr>
              <a:t>）简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地产估价系统目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操作规范性</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人员业务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资料信息管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自动生成</a:t>
            </a:r>
            <a:r>
              <a:rPr b="0" lang="en-US" sz="2400" spc="-1" strike="noStrike">
                <a:solidFill>
                  <a:srgbClr val="000000"/>
                </a:solidFill>
                <a:latin typeface="Gill Sans MT"/>
              </a:rPr>
              <a:t>《</a:t>
            </a:r>
            <a:r>
              <a:rPr b="0" lang="zh-CN" sz="2400" spc="-1" strike="noStrike">
                <a:solidFill>
                  <a:srgbClr val="000000"/>
                </a:solidFill>
                <a:latin typeface="Gill Sans MT"/>
              </a:rPr>
              <a:t>评估报告书</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提高市场竞争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信息系统</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与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信息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系统概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信息系统的种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640"/>
            <a:ext cx="7499520" cy="618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土地估价系统（</a:t>
            </a:r>
            <a:r>
              <a:rPr b="1" lang="en-US" sz="2400" spc="-1" strike="noStrike">
                <a:solidFill>
                  <a:srgbClr val="000000"/>
                </a:solidFill>
                <a:latin typeface="Gill Sans MT"/>
              </a:rPr>
              <a:t>LES</a:t>
            </a:r>
            <a:r>
              <a:rPr b="1"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估价管理系统是一套以《城镇土地估价规范》、《房地产估价规范》和《房地产抵押估价指导意见》等政策性文件为基础所开发的土地估价管理系统。该系统将包括收件、评估、出报告、审核、审批、财务、结案等在内的土地估价流程整合到统一的</a:t>
            </a:r>
            <a:r>
              <a:rPr b="0" lang="en-US" sz="2400" spc="-1" strike="noStrike">
                <a:solidFill>
                  <a:srgbClr val="000000"/>
                </a:solidFill>
                <a:latin typeface="Gill Sans MT"/>
              </a:rPr>
              <a:t>WEB+SQL</a:t>
            </a:r>
            <a:r>
              <a:rPr b="0" lang="zh-CN" sz="2400" spc="-1" strike="noStrike">
                <a:solidFill>
                  <a:srgbClr val="000000"/>
                </a:solidFill>
                <a:latin typeface="Gill Sans MT"/>
              </a:rPr>
              <a:t>平台中，可以随时查询业务受理的状态。其估价报告格式遵照标准规范，用户也可以自行设置报告格式。该软件涵盖了从项目登记、项目收款、任务分配以及进展状态、报告递交和一段时期内的收、欠款统计、项目来源统计及员工业务量统计分析等方方面面的管理工作。只要登入到该土地估价系统，即可查询到所有在办、待办业务、某宗业务的处理状态等信息，实现了网络化的办公管理，整个土地估价系统正在不断完善价格信息数据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地产估价系统（</a:t>
            </a:r>
            <a:r>
              <a:rPr b="0" lang="en-US" sz="2400" spc="-1" strike="noStrike">
                <a:solidFill>
                  <a:srgbClr val="000000"/>
                </a:solidFill>
                <a:latin typeface="Gill Sans MT"/>
              </a:rPr>
              <a:t>RES</a:t>
            </a:r>
            <a:r>
              <a:rPr b="0" lang="zh-CN" sz="2400" spc="-1" strike="noStrike">
                <a:solidFill>
                  <a:srgbClr val="000000"/>
                </a:solidFill>
                <a:latin typeface="Gill Sans MT"/>
              </a:rPr>
              <a:t>）简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系统与土地估价系统的开发模式和工作方式类似，是一套以《中华人民共和国国家标准房地产估价规范》为基础所开发的房地产估价应用系统。该系统将包括收件、评估、出报告、审核、审批、财务及结案等在内的流程整合在统一的</a:t>
            </a:r>
            <a:r>
              <a:rPr b="0" lang="en-US" sz="2400" spc="-1" strike="noStrike">
                <a:solidFill>
                  <a:srgbClr val="000000"/>
                </a:solidFill>
                <a:latin typeface="Gill Sans MT"/>
              </a:rPr>
              <a:t> </a:t>
            </a:r>
            <a:r>
              <a:rPr b="0" lang="en-US" sz="2400" spc="-1" strike="noStrike">
                <a:solidFill>
                  <a:srgbClr val="000000"/>
                </a:solidFill>
                <a:latin typeface="Gill Sans MT"/>
              </a:rPr>
              <a:t>WEB+SQL </a:t>
            </a:r>
            <a:r>
              <a:rPr b="0" lang="zh-CN" sz="2400" spc="-1" strike="noStrike">
                <a:solidFill>
                  <a:srgbClr val="000000"/>
                </a:solidFill>
                <a:latin typeface="Gill Sans MT"/>
              </a:rPr>
              <a:t>平台上，只要登陆到该系统，即可查询到所有在办、待办业务及某一宗业务的处理状态，可以随时查询业务受理的状态。</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260280"/>
            <a:ext cx="7499520" cy="584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a:t>
            </a:r>
            <a:r>
              <a:rPr b="1" lang="zh-CN" sz="2000" spc="-1" strike="noStrike">
                <a:solidFill>
                  <a:srgbClr val="000000"/>
                </a:solidFill>
                <a:latin typeface="Gill Sans MT"/>
              </a:rPr>
              <a:t>房地产估价系统目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操作规范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所有工作人员在统一平的</a:t>
            </a:r>
            <a:r>
              <a:rPr b="0" lang="en-US" sz="2000" spc="-1" strike="noStrike">
                <a:solidFill>
                  <a:srgbClr val="000000"/>
                </a:solidFill>
                <a:latin typeface="Gill Sans MT"/>
              </a:rPr>
              <a:t>WEB+SQL</a:t>
            </a:r>
            <a:r>
              <a:rPr b="0" lang="zh-CN" sz="2000" spc="-1" strike="noStrike">
                <a:solidFill>
                  <a:srgbClr val="000000"/>
                </a:solidFill>
                <a:latin typeface="Gill Sans MT"/>
              </a:rPr>
              <a:t>台上进行评估操作，按一定的流程工作，大大提高办公效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人员业务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只要登陆到该系统，就可以查询到所有待办、在办业务，待审核业务以及某一宗业务的处理状态；每个员工的业务量，工作进程，还可实现远程办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资料信息管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具有一个大型的数据库，可以做到评估业务中的数据分析、统计和管理，实现数据集中管理，高效的查询统计。</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自动生成《评估报告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评估很重要的一环节即出《评估报告书》，该系统可以按各地用户特定的要求自动生成《评估报告书》，提高了报告书的规范性，并减少误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提高市场竞争力</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该系统的最终目的就是帮助用户提高在同行业中的竞争力，帮助用户及时掌握政府信息、行业信息，做出正确地分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其他房地产估价信息系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于时空维的房地产估价信息系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地图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项目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数据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空间查询与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数据输出</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窗口管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于</a:t>
            </a:r>
            <a:r>
              <a:rPr b="0" lang="en-US" sz="3200" spc="-1" strike="noStrike">
                <a:solidFill>
                  <a:srgbClr val="000000"/>
                </a:solidFill>
                <a:latin typeface="Gill Sans MT"/>
              </a:rPr>
              <a:t>MapX</a:t>
            </a:r>
            <a:r>
              <a:rPr b="0" lang="zh-CN" sz="3200" spc="-1" strike="noStrike">
                <a:solidFill>
                  <a:srgbClr val="000000"/>
                </a:solidFill>
                <a:latin typeface="Gill Sans MT"/>
              </a:rPr>
              <a:t>的房地产估价信息系统</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189000"/>
            <a:ext cx="749952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基于时空维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图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与房地产估计任务有关的各种专题图图层的新建、添加、删除、显示、隐藏、放大、缩小、漫游、标注、投影选择与转换、保存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项目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接收用户输入的与房地产评估项目有关的数据，并对数据进行分析、估价、修正和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数据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实现房地产估价系统中各类数据库中数据的管理、更新、维护等操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空间查询与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包括图形属性双向查询、缓冲区分析、叠加分析、空间几何分析、专业分析等。通过一定要求、条件查询所需的数据，便于辅助估价过程。</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数据输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用户需求输出经过计算机处理的数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窗口管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提供房地产估价常用的辅助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基于</a:t>
            </a:r>
            <a:r>
              <a:rPr b="1" lang="en-US" sz="2400" spc="-1" strike="noStrike">
                <a:solidFill>
                  <a:srgbClr val="000000"/>
                </a:solidFill>
                <a:latin typeface="Gill Sans MT"/>
              </a:rPr>
              <a:t>MapX</a:t>
            </a:r>
            <a:r>
              <a:rPr b="1" lang="zh-CN" sz="2400" spc="-1" strike="noStrike">
                <a:solidFill>
                  <a:srgbClr val="000000"/>
                </a:solidFill>
                <a:latin typeface="Gill Sans MT"/>
              </a:rPr>
              <a:t>的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可视化语言</a:t>
            </a:r>
            <a:r>
              <a:rPr b="0" lang="en-US" sz="2400" spc="-1" strike="noStrike">
                <a:solidFill>
                  <a:srgbClr val="000000"/>
                </a:solidFill>
                <a:latin typeface="Gill Sans MT"/>
              </a:rPr>
              <a:t>Visual Basic</a:t>
            </a:r>
            <a:r>
              <a:rPr b="0" lang="zh-CN" sz="2400" spc="-1" strike="noStrike">
                <a:solidFill>
                  <a:srgbClr val="000000"/>
                </a:solidFill>
                <a:latin typeface="Gill Sans MT"/>
              </a:rPr>
              <a:t>和</a:t>
            </a:r>
            <a:r>
              <a:rPr b="0" lang="en-US" sz="2400" spc="-1" strike="noStrike">
                <a:solidFill>
                  <a:srgbClr val="000000"/>
                </a:solidFill>
                <a:latin typeface="Gill Sans MT"/>
              </a:rPr>
              <a:t>GIS</a:t>
            </a:r>
            <a:r>
              <a:rPr b="0" lang="zh-CN" sz="2400" spc="-1" strike="noStrike">
                <a:solidFill>
                  <a:srgbClr val="000000"/>
                </a:solidFill>
                <a:latin typeface="Gill Sans MT"/>
              </a:rPr>
              <a:t>控件</a:t>
            </a:r>
            <a:r>
              <a:rPr b="0" lang="en-US" sz="2400" spc="-1" strike="noStrike">
                <a:solidFill>
                  <a:srgbClr val="000000"/>
                </a:solidFill>
                <a:latin typeface="Gill Sans MT"/>
              </a:rPr>
              <a:t>MapX</a:t>
            </a:r>
            <a:r>
              <a:rPr b="0" lang="zh-CN" sz="2400" spc="-1" strike="noStrike">
                <a:solidFill>
                  <a:srgbClr val="000000"/>
                </a:solidFill>
                <a:latin typeface="Gill Sans MT"/>
              </a:rPr>
              <a:t>实现房地产估价系统的设计。该系统具有获取管理估价数据、信息查询检索、信息分析统计量算、决策支持和成果输出等功能。系统小巧灵活、操作简便、实用性强，能够高效率、高质量地整合房地产估价信息资源，可移植性强，便于系统的扩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本章小结</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简而言之，是经过加工处理的数据，是客观事物存在方式和运动状态的反应，并且不受载体的物理设备形式改变而改变，是向人们或者机器提供各种关于现实世界的知识，对接受者的决策具有价值，并对其行为产生影响。数据是客观事物存在方式和运动状态反映的记录，是信息的载体和表现形式。数据不仅包括数字和符号，而且包括文字、声音、图标和图像等。信息和数据既有联系又有区别。信息是数据表达的内容，数据则是信息的表现形式。信息是抽象出来的逻辑意义，数据则是具体的物理形式。具体来说，通过对数据的记录、处理、储存等操作，获得有用的信息。</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信息系统就是将大量相互关联、相互作用的信息（数据）集合成整体的信息处理工具，是硬件和软件相结合的有机整体，是计算机技术和信息资源管理相结合的产物。信息系统按照面向对象可划分为面向数据资料的信息系统、面向业务过程的信息系统和面向金融经济的信息系统等几类。信息系统按照主要功能可划分为数据处理系统、办公自动化系统、管理信息系统、信息检索系统、决策支持系统等几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634680"/>
            <a:ext cx="7499520" cy="561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房地产估价信息系统是指以各类与房地产估价有关的信息为主要对象，具备收集、编辑、处理和分析房地产信息以及自动生成房地产估价报告等功能的信息管理系统。房地产估价信息系统的建立需要从数据库设计、结构设计和功能设计三方面着手。与房地产估价有关的信息系统主要有两类：一类是国家为了更有效地管理房地产行业，由建设主管部门与其他相关部门等国家部门投资开发的信息系统，而另一类则是由房地产企业或者软件开发企业根据房地产市场的需求所投资开发的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信息与数据</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信息</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信息和数据既有联系又有区别</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07" name=""/>
          <p:cNvSpPr txBox="1"/>
          <p:nvPr/>
        </p:nvSpPr>
        <p:spPr>
          <a:xfrm>
            <a:off x="1434960" y="134100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的特点主要有客观性、实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输性和共享性</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传输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直接性和共享性</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高速性和间接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由计算机硬件、软件、应用人员、（ ）和信息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输入设备</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输出设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方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房地产估价信息系统数据库中的公共数据库主要有（ ）构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房地产交易实例数据库、估价经验数据库、指标数据库</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估价经验数据库、估价项目估价数据库、估价项目估价报告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房地产交易实例数据库、估价经验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估价方法模型数据库、指标数据库、区域环境数据库</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和数据既有联系又有区别，数据是信息的表达内容，信息则是数据的表现形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信息系统所收集、管理、处理和更新的对象都是信息和数据，换言之，信息和数据是整个信息系统构成的基础。</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按主要功能可划分为数据处理系统、办公自动化系统、管理信息系统。（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结构主要包括输入子系统、处理子系统和输出子系统三大模块。（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搜房网成立于</a:t>
            </a:r>
            <a:r>
              <a:rPr b="0" lang="en-US" sz="2000" spc="-1" strike="noStrike">
                <a:solidFill>
                  <a:srgbClr val="000000"/>
                </a:solidFill>
                <a:latin typeface="Gill Sans MT"/>
              </a:rPr>
              <a:t>1998</a:t>
            </a:r>
            <a:r>
              <a:rPr b="0" lang="zh-CN" sz="2000" spc="-1" strike="noStrike">
                <a:solidFill>
                  <a:srgbClr val="000000"/>
                </a:solidFill>
                <a:latin typeface="Gill Sans MT"/>
              </a:rPr>
              <a:t>年是中国的一个大型房地产门户网站，网络业务覆盖了全国大部分城市。（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信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数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信息系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331640" y="620280"/>
            <a:ext cx="749916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房地产估价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办公自动化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管理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简述什么是数据与信息，以及它们之间的关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简述信息的特点。</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简述信息系统的定义、组成及其分类。</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简述房地产估价信息系统的含义。</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试述房地产估价系统的建立过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了解与房地产估价有关的主要信息系统。</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论述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结合实际，试述我国房地产估价业的现代化水平。</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信息是近代科学中产生的一个专门术语，是当今社会一种重要的资源，被广泛地应用于社会的各个领域，并且发挥着至关重要的作用。信息，简而言之，是经过加工处理的数据，是客观事物存在方式和运动状态的反应，并且不受载体的物理设备形式改变而改变，是向人们或者机器提供各种关于现实世界的知识，对接受者的决策具有价值，并对其行为产生影响。</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数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数据是客观事物存在方式和运动状态反映的记录，是信息的载体和表现形式。数据不仅包括数字和符号，而且包括文字、声音、图标和图像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信息和数据既有联系又有区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3200" spc="-1" strike="noStrike">
                <a:solidFill>
                  <a:srgbClr val="000000"/>
                </a:solidFill>
                <a:latin typeface="Gill Sans MT"/>
              </a:rPr>
              <a:t>信息是数据表达的内容，数据则是信息的表现形式。信息是抽象出来的逻辑意义，数据则是具体的物理形式。具体来说，通过对数据的记录、处理、储存等操作，获得有用的信息。也就是说，信息一定是数据，而数据却不一定是信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31:04Z</dcterms:modified>
  <cp:revision>161</cp:revision>
  <dc:subject/>
  <dc:title>房地产法</dc:title>
</cp:coreProperties>
</file>