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46B7-F8D9-4ADF-9A2E-50EA407B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B00B-222F-4E9D-B823-6B912A8E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A7C4-4290-49F4-85C6-304CFFB8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4EB8-9FD6-4319-B9D9-DE04DDB5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1F91-45BE-499A-AF5A-CAF56861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C38D-BD69-473F-BB3E-3F1BCB52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BA56-AA15-4BA3-8B16-576EFB80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E9E2-C3A5-4DD6-946A-FAB2B65F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490E-CE2C-4814-9E6D-6F5C00A1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199F-2160-4A7E-9C56-06BD83B5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70E5-029D-4DC4-B92D-1D50FCDB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96AD-8C0F-4888-A08A-B3B36BF5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41F8-5423-40EC-A650-30DD75C5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273B-2A17-45A3-8B0F-E9A65FA4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2E9E-9E50-411C-B72C-A4A00893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6D05-62F9-45C5-B24B-2BFDA90A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E89E-93B9-4A99-81BE-0BCAB894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E633-829C-4CA6-8126-1781DEC7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A738-DE7C-4C43-B400-0C4C8282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3D71-8647-44FF-9553-70D10616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1F83-15F4-4695-9C28-319EF19F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97A0-9E83-4737-990F-943DB99B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9A42-0EB6-4C86-AE61-51728B32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E55F-294F-43FD-83FE-8D5F6825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9E70-7EA1-4577-AD65-A0337A460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9C58-74A8-418F-B1A7-8C61427CC40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www.sufep.com/bookspic/978-7-5642-1415-9.F.14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二节  保险公司的经营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外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自然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人口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经济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政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五）社会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六）文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七）市场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经营的内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劳动者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经营技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资金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信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三节  保险公司的经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一般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经济核算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随行就市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薄利多销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的特殊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风险大量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风险选择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风险分散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四节   保险公司的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理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效益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信息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长期目标、中期目标和近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中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近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、公司利益目标和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司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、持续发展目标和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持续发展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第一章  保险公司经营导论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个目标之间的关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公司的经营管理部门，应当将财务稳定性目标、持续发展目标、盈利目标有机地结合起来，正确处理好三者的关系，在强调保证财务稳定性目标的基础上，对发展速度目标和盈利目标加以适当的平衡，否则利润和发展就成为无源之水、无本之木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复习思考题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  实际费率   监管费率  纯费率  附加费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寿险费率厘定的要素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公司经营的内部环境和外部环境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经营的特殊原则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从保险公司财务管理的角度分析保险经营的目标以及相互关系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一节  保险经营的商品属性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商品的使用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稳定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经济助动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管理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商品的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用保险费形式表示，保险商品的价值为纯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R+L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附加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C+V+M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商品的特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无形的商品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渴求商品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的消费是一种隐型消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商品的价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费率的种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际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管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财产保险费率的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判断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增减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财产保险费率多采用分类法和增减法来厘定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人寿保险费率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以下三个基本要素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死亡率或生存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利息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营业费用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的其他要素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退保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红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残废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保单中嵌入的各种选择权被保单持有人行使的概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09:04Z</dcterms:modified>
  <cp:revision>21</cp:revision>
  <dc:subject/>
  <dc:title>没有幻灯片标题</dc:title>
</cp:coreProperties>
</file>