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CARBRAKE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0436F-FADB-4771-B780-B5D276FBE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FE18D-71DC-4191-BD57-A5B8C682C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10B26-86EF-41E3-B1FA-33A3827C0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289D4-39BE-4F08-B548-9676744EC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9BADA-2E11-4113-B697-67C397865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B9DC8-75EE-41C0-A526-66E849E06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65D53-8996-43CE-B917-7C368C319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B0605-5F0E-4968-B4E4-A83BA1B70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1B422-F5A0-4609-A277-774DD46F5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F8618-E475-4004-A9E0-BFDD3185A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63E1C-AFC0-4A3F-BF40-BEE9724F6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8E675-8BFB-4E6E-9939-3D757AEB3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68654-E4FD-4495-8A91-6D86A38E0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354BF-F924-4758-BD49-4257E45F5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67374-C650-469F-8294-9742D575A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FB13E-298B-44B0-80E5-2145F4BB6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97797-07F3-4FAB-9946-A7EC3953A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B888E-C500-4229-B2CD-E908B794B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B49A7-5D49-4FE6-9356-3FE49432F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8E541-9002-43BA-B806-1FD2B59B3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19207-F078-4F60-9B51-63A33F7E2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3EC26-3DD7-4C93-8B78-CBFFC4796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FBBCA-2F88-4588-AB70-4A3FE6002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80CEB-EC50-4253-89C6-41F84CDD7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57200" y="998640"/>
            <a:ext cx="8153280" cy="1600200"/>
            <a:chOff x="457200" y="998640"/>
            <a:chExt cx="8153280" cy="1600200"/>
          </a:xfrm>
        </p:grpSpPr>
        <p:sp>
          <p:nvSpPr>
            <p:cNvPr id="1" name="Arc 3"/>
            <p:cNvSpPr/>
            <p:nvPr/>
          </p:nvSpPr>
          <p:spPr>
            <a:xfrm>
              <a:off x="5748480" y="998640"/>
              <a:ext cx="2862000" cy="160020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</a:path>
                <a:path stroke="0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5675400" y="1163520"/>
              <a:ext cx="2862000" cy="127008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</a:path>
                <a:path stroke="0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Arc 5"/>
            <p:cNvSpPr/>
            <p:nvPr/>
          </p:nvSpPr>
          <p:spPr>
            <a:xfrm>
              <a:off x="5632560" y="1384200"/>
              <a:ext cx="2860560" cy="82872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</a:path>
                <a:path stroke="0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AutoShape 6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E3CCD-9620-4DD7-84AC-DEE4EE7484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457200" y="998640"/>
            <a:ext cx="8153280" cy="1600200"/>
            <a:chOff x="457200" y="998640"/>
            <a:chExt cx="8153280" cy="1600200"/>
          </a:xfrm>
        </p:grpSpPr>
        <p:sp>
          <p:nvSpPr>
            <p:cNvPr id="47" name="Arc 3"/>
            <p:cNvSpPr/>
            <p:nvPr/>
          </p:nvSpPr>
          <p:spPr>
            <a:xfrm>
              <a:off x="5748480" y="998640"/>
              <a:ext cx="2862000" cy="160020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</a:path>
                <a:path stroke="0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Arc 4"/>
            <p:cNvSpPr/>
            <p:nvPr/>
          </p:nvSpPr>
          <p:spPr>
            <a:xfrm>
              <a:off x="5675400" y="1163520"/>
              <a:ext cx="2862000" cy="127008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</a:path>
                <a:path stroke="0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Arc 5"/>
            <p:cNvSpPr/>
            <p:nvPr/>
          </p:nvSpPr>
          <p:spPr>
            <a:xfrm>
              <a:off x="5632560" y="1384200"/>
              <a:ext cx="2860560" cy="82872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</a:path>
                <a:path stroke="0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AutoShape 6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AEB0A-83B1-4EC3-84D5-A77BB7CF2F3C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ARBRAKE.WAV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ARBRAKE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5" descr="http://www.sufep.com/bookspic/978-7-5642-1415-9.F.1415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第二节  保险公司的经营环境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一、保险经营的外部环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(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一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)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自然环境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二）人口环境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三）经济环境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四）政策环境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五）社会环境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六）文化环境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七）市场环境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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二、保险公司经营的内部环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一）劳动者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二）经营技术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三）资金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四）信息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第三节  保险公司的经营原则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一、保险经营的一般原则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一）经济核算原则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二）随行就市原则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三）薄利多销原则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二、保险公司经营的特殊原则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一）风险大量原则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二）风险选择原则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三）风险分散原则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第四节   保险公司的经营目标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一、保险经营理念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市场理念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竞争理念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效益理念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信息理念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二、保险公司经营目标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一）长期目标、中期目标和近期目标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长期目标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中期目标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近期目标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(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二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)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社会贡献目标、公司利益目标和个人利益目标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社会贡献目标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公司利益目标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个人利益目标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(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三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)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财务稳定性目标、持续发展目标和盈利目标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财务稳定性目标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持续发展目标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盈利目标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cc"/>
                </a:solidFill>
                <a:latin typeface="Times New Roman"/>
              </a:rPr>
              <a:t>第一章  保险公司经营导论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三个目标之间的关系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 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作为保险公司的经营管理部门，应当将财务稳定性目标、持续发展目标、盈利目标有机地结合起来，正确处理好三者的关系，在强调保证财务稳定性目标的基础上，对发展速度目标和盈利目标加以适当的平衡，否则利润和发展就成为无源之水、无本之木。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复习思考题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 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名词解释：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理论费率  实际费率   监管费率  纯费率  附加费率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 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简述寿险费率厘定的要素。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 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分析保险公司经营的内部环境和外部环境。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. 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简述保险经营的特殊原则。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5. 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从保险公司财务管理的角度分析保险经营的目标以及相互关系。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cc"/>
                </a:solidFill>
                <a:latin typeface="Times New Roman"/>
              </a:rPr>
              <a:t>第一节  保险经营的商品属性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一、保险商品的使用价值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社会稳定器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经济助动器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 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社会管理器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二、保险商品的价值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用保险费形式表示，保险商品的价值为纯保费（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R+L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）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+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附加保费（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C+V+M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）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三、保险商品的特性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商品是一种无形的商品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商品是一种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非渴求商品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商品的消费是一种隐型消费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四、保险商品的价格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一）保险费率的种类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理论费率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实际费率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监管费率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二）财产保险费率的厘定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判断法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分类法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增减法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财产保险费率多采用分类法和增减法来厘定。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三）人寿保险费率厘定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人寿保险费率厘定要考虑以下三个基本要素：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死亡率或生存率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利息率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营业费用率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人寿保险费率厘定要考虑的其他要素：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(1)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退保率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(2)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分红率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）残废率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）保单中嵌入的各种选择权被保单持有人行使的概率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8T00:24:50Z</dcterms:created>
  <dc:creator>aa</dc:creator>
  <dc:description/>
  <dc:language>en-US</dc:language>
  <cp:lastModifiedBy>苏菲的小猫</cp:lastModifiedBy>
  <dcterms:modified xsi:type="dcterms:W3CDTF">2020-05-25T05:09:04Z</dcterms:modified>
  <cp:revision>21</cp:revision>
  <dc:subject/>
  <dc:title>没有幻灯片标题</dc:title>
</cp:coreProperties>
</file>