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0C57-3D39-4800-B3F3-08BE94D45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7C2-B82C-42AF-85BC-E59B4BC5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8AAE-F9C1-4629-BAEE-E0AF20AC8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7375-60FC-42EB-97F1-69CE0F32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AE03-C848-4226-B8C0-CC6880BC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6397-7E06-4936-9E23-FE6BD973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9C13C-7273-4DAB-ADFB-EDB6ABC6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2353-A19B-4970-BD29-65B8545A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1BCB6-B85C-4610-8E8D-825A4EC5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CEDA-DA0D-45FF-B0B5-560B6E7B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7190-7A18-42E0-8574-1BA75C97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5026-C3B7-4077-AFD0-E55C62784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E4D5F-1139-430F-BDCE-D1E2C7DC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9FE6-1F24-4643-B459-822FE44F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AE97-F7DB-4574-A5C9-2BAE9459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111C3-C5B7-4673-B4AC-EBECF7DB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A00B-D65C-4C08-A0A8-B5E0E2D3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BC7F-B36A-4EC1-823A-FA4E6B79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C99D-EDA9-4227-B2C7-3331A14B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D16E-68C2-49C1-BD93-D0442B29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E88C-451F-4668-882C-D389A595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6AB0-E23D-4235-881B-E9EAC4FD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59A9-3316-4977-B463-592A38A1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BBB3-BA82-46C9-9124-F55AB8AC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67F7-5399-4C7D-82AF-F723A0756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CFCE-AFC9-40BD-86C5-D52FCF7857A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二章   保险市场管理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公司的组织结构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国有独资保险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保险股份有限公司的组织结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东大会、董事会、监事会和经理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保险公司的主要职能部门</a:t>
            </a:r>
            <a:r>
              <a:rPr b="0" lang="zh-CN" sz="40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如市场营销部、精算部 、承保部、服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部、理赔部、投资部、财务部等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三节  保险市场供需分析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保险市场的供给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供给是指在一定价格（保险费率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水平上，保险市场上各家保险公司愿意并且能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够提供的保险商品的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费率、偿付能力、保险技术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的规范程度、政府的监管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保险市场的需求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的需求是指在一定的保险费率水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上，保险消费者从保险市场上愿意并有能力购买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的保险商品数量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影响因素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风险状况、保险费率、国内生产总值和消费者的货币收入、互补商品与替代商品价格、人口状况、文化传统、经济和法律制度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市场的供求平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市场供求平衡，是指在一定保险费率水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平下，保险供给恰好等于保险需求的状态，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供给与需求达到均衡点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四节  保险市场机制的运行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价值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价值规律是商品生产和商品交换的基本经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律，它的主要内容是：商品的价值量是由生产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商品的社会必要劳动时间决定的，在市场上，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品按照价值量进行等价交换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供求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供求规律表现为供给与需求之间的关系，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过对供需双方力量的调节达到市场均衡，从而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定市场的均衡价格，即供求状况决定商品的价格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三、竞争规律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是由商品内在的使用价值和价值的矛盾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的。但是保险中的竞争也受到一定的限制，主要是非价格竞争，如保险产品竞争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、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服务竞争等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一节   保险市场的特点与构成要素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五节  保险市场的监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 、保险监管的必要性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经营的公共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同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技术的复杂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交易过程的特殊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 、保险监管的目标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公司的偿付能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维护保险市场的正常秩序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证保险合同的公平和公正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防止保险欺诈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保险监管的形式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告监管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范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体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保险监管体系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法规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监管机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行业协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信用评级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保险监管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市场行为的监督管理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机构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业务的监督管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财务的监督管理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公司治理及内控监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六、保险监管的方法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非现场检查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国营保险  保险股份有限公司   相互保险公司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公司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国有独资保险公司的特点和组织结构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股份制保险公司和相互保险公司的特点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影响保险供给和需求的主要因素以及保险市场机制的特殊作用。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监管的必要性和目标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列举保险监管的主要内容。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特点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对象与风险直接相关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是一种特殊的“期货”交易市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保险市场是非即时清洁市场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二、保险市场的构成要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险市场的主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保险市场的客体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第二节  保险市场的组织形式与组织结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一、保险市场的组织形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国营保险组织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国营保险组织是由国家或政府投资设立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保险经营组织，如国有独资保险公司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私营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私营保险组织是指由私人投资设立的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险经营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股份有限公司和相互保险公司是两种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型的私营保险组织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合作保险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是由一些具有相同保险需求的人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组织起来、共同经营的相互保险组织。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相互保险社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合作社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自保组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专业自保组织是由某一行业或公司为本公司或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本系统提供保险保障的组织形式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。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五）个人保险组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保险组织是以自然人的名义承保风险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务的一种组织形式。迄今为止，英国的劳合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是当今世界唯一的一家个人保险组织。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12:02Z</dcterms:modified>
  <cp:revision>24</cp:revision>
  <dc:subject/>
  <dc:title>没有幻灯片标题</dc:title>
</cp:coreProperties>
</file>