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A421-5DA6-4979-856A-3AC3D86C3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27A7-EAE1-4E91-836D-2AA224624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92BB-69BA-4B44-A4D5-A313D6605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0386-7E18-4C24-A41F-E8346A714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04FDD-6BA5-477D-98AD-A37274FB9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2B694-5EA9-4D69-AD50-5171AE536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80593-BAEA-467C-B88E-8A78ADFE3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240B8-FC5D-47EE-B6B4-77FAC2E0E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67E80-4175-45E8-A870-AB129F90F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54FAB-4BFF-4FC8-9475-9D79AE1DA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F8D23-FF58-4051-8B6C-F3262763A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37F5-CC66-4987-BCFA-A8946C8AD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23AEC-6202-4957-B2BB-A714EE593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15D91-9479-4714-B42B-60C84CFEC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24ECE-77BE-44D3-8DE5-06613CE65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EF600-9C93-49DA-86C9-64677D5D8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2D1A6-0F95-4557-850E-524388908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5358-D01C-4612-B81D-9892A8DD5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BD48-1133-4909-A838-98DFB8345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F825-BD1F-4AD9-8FE0-89E7CF9A9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19D8-D713-48DA-B99B-FA19C9864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0209-25E1-4804-A876-50DB13D7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24A8-DE42-4331-BF8F-E7739C89E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0E76-67A0-42B7-9529-9DBFEC386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887A0-5F97-4F74-A12D-0B91833384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</a:path>
                <a:path stroke="0" w="21600" h="43200">
                  <a:moveTo>
                    <a:pt x="0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-32007"/>
                    <a:pt x="11929" y="-22337"/>
                    <a:pt x="0" y="-22337"/>
                  </a:cubicBezTo>
                  <a:lnTo>
                    <a:pt x="0" y="2160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1EF02-7224-4066-8CB3-AA9799B0A93B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11280" y="220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第四章  保险承保管理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二、个人健康保险业务</a:t>
            </a: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年龄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健康状况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职业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逆选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道德风险因素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性别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7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工作经历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8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生活习惯和生活方式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三、个人意外伤害保险业务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职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危险爱好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年龄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身体健康状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金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四、团体保险业务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新业务的核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团体的资格、团体的规模、团体成员的投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资格、团体的业务性质、参保率、团体成员的流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动率、保险金额的确定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续保业务的核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团体的理赔经验、参保率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五、财产保险业务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财产的性能或构造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财产的用途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财产的环境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财产的重要防护部位及防护措施状况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检验有无正处于危险状态中的财产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检查各项安全管理制度的制定和执行情况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第四节  保险合同的保全</a:t>
            </a: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一、保全的内涵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保全的意义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三、保全服务的内容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一）保单保全服务的基本作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二）附加价值服务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（三）咨询与投诉服务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Times New Roman"/>
              </a:rPr>
              <a:t>复习思考题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名词解释：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核保  续保  道德风险  心理风险保全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公司获取承保信息的主要渠道。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核保中事前选择和事后选择的内容。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什么是道德风险 ？如何控制？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什么是心理风险？如何控制？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个人寿险和团体寿险的核保要素。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7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财产保险的核保要素。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8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单保全服务的基本作业的内容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19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一节  保险承保的基本程序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一、制定承保方针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二、获取和评价承保信息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主要渠道：投保单、中介人及其经营业绩、体检报告、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      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地区销售经理、消费者调查报告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三、审查核保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四、作出承保决定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五、单证管理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六、续保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二节  承保选择与承保控制</a:t>
            </a: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一、核保的概念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核保是指保险公司对可保风险进行评判与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分类，进而决定是否承保、以什么样的条件承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的分析过程。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二、核保的内容</a:t>
            </a: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一）核保选择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事前核保选择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1)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对投保人或被保险人的选择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2)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对保险标的及其利益的选择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事后核保选择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（二）核保控制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公司控制道德风险的主要措施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1)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控制保险金额，避免高额保险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2)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控制赔偿程度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公司控制心理风险的主要措施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1) 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规定免赔额；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2)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规定共同保险；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3)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单中订入保证条款；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4)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续保优惠；</a:t>
            </a:r>
            <a:r>
              <a:rPr b="1" lang="en-US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(5)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其他优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191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</a:rPr>
              <a:t>第三节  核保要素分析</a:t>
            </a:r>
            <a:r>
              <a:rPr b="1" lang="zh-CN" sz="4400" spc="-1" strike="noStrike">
                <a:solidFill>
                  <a:srgbClr val="ffcc66"/>
                </a:solidFill>
                <a:latin typeface="Times New Roman"/>
              </a:rPr>
              <a:t>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一、个人寿险业务</a:t>
            </a: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年龄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同健康有关的风险因素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体格、 既往症、现症、家庭病史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同健康无关的风险因素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  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职业、习惯或嗜好、道德风险因素、财务状况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00:24:50Z</dcterms:created>
  <dc:creator>aa</dc:creator>
  <dc:description/>
  <dc:language>en-US</dc:language>
  <cp:lastModifiedBy>苏菲的小猫</cp:lastModifiedBy>
  <dcterms:modified xsi:type="dcterms:W3CDTF">2020-05-25T05:31:05Z</dcterms:modified>
  <cp:revision>22</cp:revision>
  <dc:subject/>
  <dc:title>没有幻灯片标题</dc:title>
</cp:coreProperties>
</file>