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8979-5C1B-4992-ABC3-C72B45632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3427-55C4-471C-8AAE-A1993F96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168F-38CD-4C88-BBCE-6941B19F1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5220-0CFA-4FA3-BC0E-EFF072CA5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7AD46-2BD2-4FEB-8D5F-AE571324E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0006E-280C-48A3-8475-33B60ECED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6BD24-C5EA-4CA2-9B30-4F59E34F8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B0091-B5B3-47E7-9635-86ABABD86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A0DD2-16F9-406E-9FAB-B7EE782D8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A5B69-F489-4767-AEC4-D1812904A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ACF26-DF2B-4675-888B-6C13A8C0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33D4-1849-4822-9480-0496BE3D8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2C559-44B1-4C8A-9A38-89F8287C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0C8CB-0E0B-4D21-B469-32B1A521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968D3-391D-4C54-83BD-DF17C9C93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A150A-2D04-4442-AFD3-EB62CB820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293C6-C8BD-48A0-A939-9839E518C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615A-47E9-45FD-A3E6-9455C3B46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A99E-6F34-4EBA-9D4A-1BA7AC25C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2664-E842-4D22-9165-7C7B627C5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F0D6-DC56-4D27-8AA9-48443B7B9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810D-48BD-4122-B50D-D6B28C4B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5871-6947-427D-853E-AF3EBF7A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3953-56DD-4A32-B86E-C5440E64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115AD-7449-44E4-BE36-38AF02D112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C2BF9-F730-4220-A050-730298704B06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128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第四章  保险承保管理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个人健康保险业务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年龄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健康状况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职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逆选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道德风险因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性别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工作经历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8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生活习惯和生活方式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三、个人意外伤害保险业务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职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危险爱好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年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身体健康状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金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四、团体保险业务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新业务的核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团体的资格、团体的规模、团体成员的投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资格、团体的业务性质、参保率、团体成员的流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动率、保险金额的确定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续保业务的核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团体的理赔经验、参保率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五、财产保险业务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财产的性能或构造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财产的用途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财产的环境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财产的重要防护部位及防护措施状况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检验有无正处于危险状态中的财产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检查各项安全管理制度的制定和执行情况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四节  保险合同的保全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保全的内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保全的意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三、保全服务的内容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保单保全服务的基本作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附加价值服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三）咨询与投诉服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复习思考题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名词解释：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核保  续保  道德风险  心理风险保全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公司获取承保信息的主要渠道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核保中事前选择和事后选择的内容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什么是道德风险 ？如何控制？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什么是心理风险？如何控制？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个人寿险和团体寿险的核保要素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财产保险的核保要素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8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单保全服务的基本作业的内容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19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一节  保险承保的基本程序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制定承保方针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、获取和评价承保信息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主要渠道：投保单、中介人及其经营业绩、体检报告、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    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地区销售经理、消费者调查报告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、审查核保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四、作出承保决定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五、单证管理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六、续保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二节  承保选择与承保控制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核保的概念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核保是指保险公司对可保风险进行评判与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分类，进而决定是否承保、以什么样的条件承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的分析过程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核保的内容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核保选择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事前核保选择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1)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投保人或被保险人的选择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2)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保险标的及其利益的选择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事后核保选择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核保控制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控制道德风险的主要措施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1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控制保险金额，避免高额保险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2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控制赔偿程度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控制心理风险的主要措施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1)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规定免赔额；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2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规定共同保险；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3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单中订入保证条款；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4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续保优惠；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5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其他优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191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三节  核保要素分析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一、个人寿险业务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年龄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同健康有关的风险因素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体格、 既往症、现症、家庭病史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同健康无关的风险因素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职业、习惯或嗜好、道德风险因素、财务状况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dc:language>en-US</dc:language>
  <cp:lastModifiedBy>苏菲的小猫</cp:lastModifiedBy>
  <dcterms:modified xsi:type="dcterms:W3CDTF">2020-05-25T05:31:05Z</dcterms:modified>
  <cp:revision>22</cp:revision>
  <dc:subject/>
  <dc:title>没有幻灯片标题</dc:title>
</cp:coreProperties>
</file>