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B53-4023-41FB-8CAA-370CEBC1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128E-6336-455A-BBC8-6E7426549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584C-C90A-48E1-AC70-9CCC97B0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9A7-899F-4D46-A21D-29D0B111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0A11-67B0-4034-B3D2-F30FAE1EF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9A1-808C-47A0-893B-0C1E0B29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3E147-FECF-4665-B2C0-B872F1F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6ECB-2071-41E8-9C90-053664B1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4FC1-41C0-4404-B6C5-CC1705CF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81EA-CDF2-495A-B220-9B31D928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0660-5013-4E83-AC13-E83C49E1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53A-A3DA-4C03-9720-0C1412FF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C9A5F-436F-47B6-9E2D-271BADDC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CBEC-E040-4F10-B599-97EECE7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6ED6-294E-49D4-ADAA-0B293EE0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ED6C-2C5F-40F4-8343-95E81A87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E189-7779-4FB9-B366-31A2DBB4F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6794-D4D3-44A7-8783-F7DAE869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41A0-5EFB-4DC5-A5A4-566246C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C0FD-830D-4DC5-90DA-4E7D36DB4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6601-8B1C-44FA-8050-53915F48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CB3-8CD1-4D22-A471-F6053DEC1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FA03-2D80-48AB-970D-E4D093BB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100-2254-4151-A96D-A4432735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EABE-23B9-4962-A67A-E680EFF28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7CAEC-9A71-40A4-8362-D7A8EB776B3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-8128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三章  保险营销管理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传统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代理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代理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代理人的业务范围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代理人的法律特征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保险代理人营销的优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经纪人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经纪人的种类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经纪人的职业操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经纪人的业务运作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创新的保险营销模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电话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电话营销的优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电话营销的缺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互联网营销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互联网营销的优点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大大降低了展业成本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增加了新的销售机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利于提高保险服务质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网络营销的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法律风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银行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银行保险的产生和发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银行保险的合作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作协议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合资公司方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建立金融服务集团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金融服务集团的经营模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大数据和互联网保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中的大数据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中大数据技术是基于对海量数据进行分析，从不同维度和深度挖掘保险应用特性，进而优化保险价值链条的各个环节。其中精准营销和精准定价以及反欺诈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大数据在精准营销中的作用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精准获取新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持续转化准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    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减少退保客户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互联网保险的定义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广义定义：互联网保险业务是指保险机构依托互联网和移动通信等技术，通过自营网络平台、第三方网络平台等开展保险业务、提供保险服务的保险经营活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狭义定义：互联网保险是指基于互联网、大数据、云数据等信息技术手段，从保险产品设计、风险管理和保险信息咨询到投保、核保、保全、理赔和给付等保险全过程互联网化的保险经营活动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981000"/>
            <a:ext cx="7772400" cy="519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互联网保险参与的主体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开展互联网保险业务的传统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互联网保险公司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电子商务平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三方中介平台。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第一节   保险营销的概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营销  保险代理人  保险经纪人   互联网营销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营销的宏观环境因素和微观环境因素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纪人的业务运作主要包括哪些方面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新险种开发的主要步骤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新险种开发时如何优化险种组合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电话营销？它有什么优缺点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互联网营销有哪些优点？存在哪些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银行保险的合作方式有哪些？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9.</a:t>
            </a:r>
            <a:r>
              <a:rPr b="1" lang="zh-CN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什么是互联网保险（狭义）？我国互联网保险参与主体有哪些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营销的概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营销的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P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产品、价格、分销渠道和促销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营销的发展阶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产品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销售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以市场为导向的营销阶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营销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宏观环境分析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微观环境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、投保人行为分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节    保险新险种的开发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一、保险新险种的界定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新险种是指整体险种或其中的一部分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所创新或改革，能够给保险消费者带来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利益和满足的险种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二、保险新险种开发的步骤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险种开发的程序包括构思的形成、构思的筛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选、市场分析、开发设计、试销过程和商品化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步骤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楷体_GB2312"/>
                <a:ea typeface="楷体_GB2312"/>
              </a:rPr>
              <a:t>三、保险新险种开发的策略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目标市场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产品组合策略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险种质量优化策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29:14Z</dcterms:modified>
  <cp:revision>24</cp:revision>
  <dc:subject/>
  <dc:title>没有幻灯片标题</dc:title>
</cp:coreProperties>
</file>