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RBRAK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9FA-E889-44A8-9FED-3637145B6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ECB0-4A2B-4216-BC88-EEC95D74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C52-1230-4E44-B867-48AF5946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14D-49E0-4549-B2D9-F67099466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690A-598D-42B1-A6A4-B0DE88DA5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0A15-F1A1-4ED3-9B5F-6699224E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4057-4310-4E53-99F6-66994498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7C734-4647-42FD-B457-DC3576C3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7A7C-1BB5-423A-85C0-3197280A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3EE22-B6B4-4054-B6EA-808D70F5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B4B2-20F5-43E1-856D-E17194F1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02A7-6067-4A91-8C94-00BA11CF4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1B23-0A1B-4124-A4D6-775830FA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F0EF1-1F0E-4948-80C1-631C51B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4A44-F975-4577-A0AC-D8F2CC88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ABAE-E1AA-4D90-915E-AAA94A1A0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C12BA-35D8-4CB9-9111-148B9758F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55EF-FC4D-4185-A752-4BD2A3F7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44A-2339-4E84-953B-5DDD5A7E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1971-D6D5-4191-8DDC-103B206B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E76-3235-4810-BF2C-9272E71C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C10-D615-45B2-B5F3-EA3F2098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17C-E4BF-4429-9EB8-B5E5CCA4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B064-67A5-449F-9BC4-C682AB04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08121-A9C8-4302-8251-6CDBAB3E1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B5FF-FDD8-483A-86EC-9D889969D020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http://www.sufep.com/bookspic/978-7-5642-1415-9.F.1415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二节  保险公司的经营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外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自然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人口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经济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四）政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五）社会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六）文化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七）市场环境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经营的内部环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劳动者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经营技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资金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四）信息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三节  保险公司的经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的一般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经济核算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随行就市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薄利多销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的特殊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风险大量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风险选择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风险分散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第四节   保险公司的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经营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市场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竞争理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效益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信息理念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公司经营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长期目标、中期目标和近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长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中期目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近期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、公司利益目标和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贡献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公司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个人利益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、持续发展目标和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财务稳定性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持续发展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盈利目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cc"/>
                </a:solidFill>
                <a:latin typeface="Times New Roman"/>
              </a:rPr>
              <a:t>第一章  保险公司经营导论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个目标之间的关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作为保险公司的经营管理部门，应当将财务稳定性目标、持续发展目标、盈利目标有机地结合起来，正确处理好三者的关系，在强调保证财务稳定性目标的基础上，对发展速度目标和盈利目标加以适当的平衡，否则利润和发展就成为无源之水、无本之木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复习思考题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  实际费率   监管费率  纯费率  附加费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寿险费率厘定的要素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析保险公司经营的内部环境和外部环境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经营的特殊原则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从保险公司财务管理的角度分析保险经营的目标以及相互关系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一节  保险经营的商品属性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保险商品的使用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稳定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经济助动器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社会管理器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保险商品的价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用保险费形式表示，保险商品的价值为纯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R+L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附加保费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C+V+M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保险商品的特性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无形的商品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是一种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非渴求商品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商品的消费是一种隐型消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保险商品的价格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保险费率的种类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理论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实际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管费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财产保险费率的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判断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增减法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财产保险费率多采用分类法和增减法来厘定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三）人寿保险费率厘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以下三个基本要素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死亡率或生存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利息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营业费用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寿保险费率厘定要考虑的其他要素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退保率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分红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残废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）保单中嵌入的各种选择权被保单持有人行使的概率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09:04Z</dcterms:modified>
  <cp:revision>21</cp:revision>
  <dc:subject/>
  <dc:title>没有幻灯片标题</dc:title>
</cp:coreProperties>
</file>