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0E2C-95FE-4D22-B2B0-F2026D268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778-22A9-45CB-AF3E-A71FD42F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809-9DC0-41A1-8DA4-50B130A8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ED21-0F25-4A4B-953D-9A7A8DDF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CAF2-5BD3-49F5-8D3F-E5B719D9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0926-D453-4B22-8636-5781E4F4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E515-5049-4F1E-B014-67FE5DC1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CB86-A176-48F6-B17E-53BFB386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841E-E87D-4DE6-84A7-4243F1CA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17774-D4DC-4764-8EB7-69721A4D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9AA5-10D1-42DE-BDFE-6605714CF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E176-FFA9-46B6-B38D-E01C260D2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B760-C0A8-43F8-9585-DFFC4B49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2C7F-1B95-4405-B2B3-C8989A1A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A082-1253-48B8-994A-35997667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B1CF-1641-41BC-9C1E-9BAE529D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BB23-670A-4EA1-8784-C99AD9DD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47A-A729-41CB-B1D5-BF786F75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8242-7DF6-4426-89E6-DADFEB3E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7BC6-5E0A-403D-827B-4CD912BD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F640-990A-46BD-8962-2A078592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95E-30A7-47BD-A2AA-2073C580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2153-D8A7-469B-BFF5-6252BC6B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492F-B40C-4E0D-ACB1-D5080ED8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39937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任意多边形 39938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任意多边形 39939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任意多边形 39940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圆角矩形 39941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20296-BC0A-4852-A1D9-07E0CB44F5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组合 40961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任意多边形 40962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任意多边形 40963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任意多边形 40964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-32007"/>
                    <a:pt x="11929" y="-22336"/>
                    <a:pt x="0" y="-22336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圆角矩形 4096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71B0-4A0F-44DC-A966-8EA2F238191A}" type="slidenum">
              <a:rPr b="0" lang="zh-CN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六章   保险投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440" y="205740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实物资产投资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最主要的是不动产投资，也包括一些机械设备等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我国保险投资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018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年《保险资金运用管理办法》明确规定保险资金运用限于下列形式： （一）银行存款； （二）买卖债券、股票、证券投资基金份额等有价证券； （三）投资不动产； （四）投资股权； （五）国务院规定的其他资金运用形式。 保险资金从事境外投资的，应当符合中国保监会、中国人民银行和国家外汇管理局的相关规定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第四节 保险投资主体模式的选择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公司内设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委托专业的投资机构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专业化保险资产管理公司运作模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五节  保险投资风险的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政府对保险业投资风险的监管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对保险投资范围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对保险投资比例的限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对投资资产与负债的配比关系的限制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对金融衍生工具的使用限制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26920" y="90756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公司对投资风险的管理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制定合理的投资策略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资产分配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投资组合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资产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析保险投资的资金来源和性质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一般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投资的特殊条件约束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我国保险投资的主要方式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监管机构应从哪些方面加强对保险公司投资风险的管理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应该如何制定保险投资策略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何选择证券组合可以降低非系统性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利率免疫技术？保险公司如何运用利率免疫技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术防范债券投资的利率风险？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投资的资金来源与性质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保险投资资金的来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自有资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本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积金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负债资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寿险未到期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赔款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责任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储金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存入分保准备金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责任准备金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资金的性质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负债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稳定性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性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保险投资的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投资的一般条件约束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安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收益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流动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二、保险投资的特殊条件约束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称性条件约束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替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散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转移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衡性条件约束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第三节   保险投资的形式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金融资产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债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债券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贷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股权类投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cp:keywords/>
  <dc:language>en-US</dc:language>
  <cp:lastModifiedBy>苏菲的小猫</cp:lastModifiedBy>
  <dcterms:modified xsi:type="dcterms:W3CDTF">2020-05-25T05:50:13Z</dcterms:modified>
  <cp:revision>23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4</vt:lpwstr>
  </property>
</Properties>
</file>