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5162-13ED-4572-91ED-D11B3017E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45CC-CDB2-4893-B458-3703D7C7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C1FA-DD6C-44EA-9561-0003EB99E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F488-617D-454A-8BCE-41D816AFA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53BF-48DD-4B83-A22E-DCE0C5968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02F2-6F49-47D2-A916-D9106D3F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0352-32AF-475A-8AC0-23C4BC59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6A8C-29AF-48D9-B15E-C6C7FB5F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AD7C-65EC-4BF0-AE49-10AEB101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BAA0-22C8-4720-9349-521EB50B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692D-7129-4AA4-9823-D9D33B55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A551-09B3-4085-A9E1-5E7812AD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3073-153F-4E3A-A469-1EE975A1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C479-0A6E-4BF8-A7CE-F7F5AA7E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E031-BF00-400F-B8A8-EA258C8C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7BAE-0E38-448C-BCE5-6361115C7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2AFC-7FCB-41DB-AB4D-AAEF52E9F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458E-41B3-4CD1-BE07-DC554328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1EA6-C4A7-4DE5-8991-3E7047A0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473E-B6E2-44D3-A209-AE30D961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E27F-8B2D-4A9C-8FEF-2088DEF9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E78E-D81D-4658-BFD3-D63EE845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2974-3E09-4D83-B07A-712E22B3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793D-DFB9-4A65-8145-EBB79712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AB6E-4DAB-4198-8B07-F2AF8D15A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FA04-FE6B-436C-9F9E-6BAC0F4387E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十一章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保险公司人力资源管理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保险公司人事考核的方法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物比较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因素分析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量考核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综合考评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考试评议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3141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三节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保险公司人力资源培训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12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员工培训的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战略性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学以致用的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因人施教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内容结构合理化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员工教育培训的内容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层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技术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层管理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高级管理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员工培训的方法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务转换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研究讨论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职培训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学校培训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4360" y="299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四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员激励机制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激励是指挖掘人的潜力，充分调动人的积极性。在现代公司管理制度中，应该重视对职工的激励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公司的激励手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种是物质激励，另一种是精神激励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管理部门在采取激励措施时还必须注意以下几点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将物质激励和精神激励相结合，采用恰当的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组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不同时期、不同环境条件下，对不同的员工要区别对待，灵活激励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措施要公正，要以客观事实为依据，恰如其分地进行激励，对公司的每一个员工都要一视同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4360" y="3357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五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劳动工资管理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的劳动管理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劳动分工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劳动协作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额定编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4360" y="299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一节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力资源管理概述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工资福利管理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员工的劳动报酬分两部分，一部分是直接的金钱报酬，包括工资、奖金、津贴；另一部分是间接的报酬，也就是职工的福利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9280" y="404280"/>
            <a:ext cx="8209080" cy="568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复习思考题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人力资源管理的主要内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人力资源管理应遵循哪些原则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人事考核的主要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员工培训的基本原则是什么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员工培训的主要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有哪几种类型？保险公司在采取激励机制时应注意哪些问题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劳动管理的主要内容是什么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人力资源管理的概念与任务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力资源管理的基本任务是根据保险公司发展战略的要求，通过有计划地对人力资源进行合理配置，加强公司员工的教育培训和人力资源的开发，推动整个保险公司各项工作的开展，确保保险公司战略目标的实现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险公司人力资源管理的内容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规划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的招聘、选择和人事安排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结构的合理配置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的教育、培训和开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工作评价和考核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事业生涯开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工资福利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保险公司人力资源管理的原则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管理时须遵循以下几个原则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协调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任人唯贤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能位相宜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群体合力和互补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动态适应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四、加强人力资源管理的意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提高保险公司的劳动效率和经济效益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促进保险公司职工的全面发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有利于建立现代保险公司制度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二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事绩效考核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人事绩效考核的功能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础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导向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促进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监督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人事绩效考核的内容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事绩效考核的主要内容有：德、能、勤、绩四个方面，以绩为重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6:08:57Z</dcterms:modified>
  <cp:revision>55</cp:revision>
  <dc:subject/>
  <dc:title>没有幻灯片标题</dc:title>
</cp:coreProperties>
</file>