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3C8-6AA8-4714-A019-709CE65A5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B99-3BC0-4E97-920C-470B12CD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D93D-E09C-4E08-9BA8-C88384A9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CA94-5B61-467F-B7D0-51324007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437CC-A2D7-43BC-8AED-604933CB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204FD-4070-42FE-9E32-D21CE577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A445-7BBA-49AB-BFFB-DE249D85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D89F-278A-4418-B5AB-A2BF8B5F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C591-E349-4E45-8DED-D521CE5F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9072-2724-4356-B10F-71F189F21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6932-4930-48F5-8381-FCC07B00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45A-DDDA-4812-83E8-72A6AF2B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86BE-9B9F-4263-9130-816F118C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76B8-7598-4A95-89B0-F2CAC2C2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1E72-2440-4C75-B2EC-EAC54DF1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4346-93B1-4BF6-9098-869189E3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998D-4531-468B-8479-0FD5F20E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26C-D62C-41C2-B5A0-5FFC451E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E21B-BFFE-4747-AD20-71B016D6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91C-130E-4B67-A92C-32E33099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FFD0-B127-48EA-99DD-110010C5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C8E3-2112-46D9-BE9A-13440D2E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73C-080E-4D0C-AE43-BE60A9C2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487-B3DA-4862-9B61-609714D3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C10D-7240-43ED-BFD9-52B759764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998640"/>
            <a:ext cx="8153280" cy="1600200"/>
            <a:chOff x="457200" y="99864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48480" y="998640"/>
              <a:ext cx="2862000" cy="160020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75400" y="1163520"/>
              <a:ext cx="2862000" cy="127008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632560" y="1384200"/>
              <a:ext cx="2860560" cy="828720"/>
            </a:xfrm>
            <a:custGeom>
              <a:avLst/>
              <a:gdLst/>
              <a:ahLst/>
              <a:rect l="l" t="t" r="r" b="b"/>
              <a:pathLst>
                <a:path fill="none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</a:path>
                <a:path stroke="0" w="21600" h="432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529"/>
                    <a:pt x="11929" y="43199"/>
                    <a:pt x="0" y="432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A1AF4-3F0D-4B72-A9EC-740313AB5651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十一章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管理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事考核的方法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物比较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素分析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量考核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综合考评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考试评议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4360" y="314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第三节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保险公司人力资源培训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12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员工培训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战略性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以致用的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因人施教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内容结构合理化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员工教育培训的内容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专业技术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层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高级管理人员培训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员工培训的方法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职务转换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研究讨论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职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学校培训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四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员激励机制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激励是指挖掘人的潜力，充分调动人的积极性。在现代公司管理制度中，应该重视对职工的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公司的激励手段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: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种是物质激励，另一种是精神激励。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部门在采取激励措施时还必须注意以下几点：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将物质激励和精神激励相结合，采用恰当的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组合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在不同时期、不同环境条件下，对不同的员工要区别对待，灵活激励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措施要公正，要以客观事实为依据，恰如其分地进行激励，对公司的每一个员工都要一视同仁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4360" y="335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五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劳动工资管理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的劳动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劳动分工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劳动协作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定额定编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4360" y="299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一节</a:t>
            </a: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概述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工资福利管理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员工的劳动报酬分两部分，一部分是直接的金钱报酬，包括工资、奖金、津贴；另一部分是间接的报酬，也就是职工的福利。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9280" y="404280"/>
            <a:ext cx="8209080" cy="568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复习思考题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力资源管理的主要内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人力资源管理应遵循哪些原则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人事考核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员工培训的基本原则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简述保险公司员工培训的主要内容。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有哪几种类型？保险公司在采取激励机制时应注意哪些问题？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保险公司劳动管理的主要内容是什么？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力资源管理的概念与任务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力资源管理的基本任务是根据保险公司发展战略的要求，通过有计划地对人力资源进行合理配置，加强公司员工的教育培训和人力资源的开发，推动整个保险公司各项工作的开展，确保保险公司战略目标的实现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保险公司人力资源管理的内容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规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招聘、选择和人事安排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结构的合理配置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的教育、培训和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工作评价和考核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员工事业生涯开发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工资福利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三、保险公司人力资源管理的原则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人力资源管理时须遵循以下几个原则：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协调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任人唯贤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能位相宜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群体合力和互补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5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激励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动态适应原则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四、加强人力资源管理的意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提高保险公司的劳动效率和经济效益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保险公司职工的全面发展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	</a:t>
            </a: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有利于建立现代保险公司制度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第二节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</a:t>
            </a: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一、保险公司人事绩效考核的功能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基础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导向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促进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ffffcc"/>
                </a:solidFill>
                <a:latin typeface="楷体_GB2312"/>
                <a:ea typeface="楷体_GB2312"/>
              </a:rPr>
              <a:t>监督功能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二、人事绩效考核的内容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cc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cc"/>
                </a:solidFill>
                <a:latin typeface="Times New Roman"/>
                <a:ea typeface="楷体_GB2312"/>
              </a:rPr>
              <a:t>保险公司人事绩效考核的主要内容有：德、能、勤、绩四个方面，以绩为重点。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0:24:50Z</dcterms:created>
  <dc:creator>aa</dc:creator>
  <dc:description/>
  <dc:language>en-US</dc:language>
  <cp:lastModifiedBy>苏菲的小猫</cp:lastModifiedBy>
  <dcterms:modified xsi:type="dcterms:W3CDTF">2020-05-25T06:08:57Z</dcterms:modified>
  <cp:revision>55</cp:revision>
  <dc:subject/>
  <dc:title>没有幻灯片标题</dc:title>
</cp:coreProperties>
</file>