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54D8-0692-4836-81AC-A9E838C2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4806-1FF8-4377-AEFA-15A48B83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2EEB-34AA-4420-829D-25B27560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E482-28E8-421E-AF7D-FA615BFF9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9AF0-7506-4A0B-9421-69CFBAFBF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04C3-EE05-4FA3-AF97-9D12DCDE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23AF-244E-4D65-ADAD-9BD81967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33F6-1477-4925-9FCB-3632EFFA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10BC-3BCB-4425-9238-8F69AF4A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9250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1C06-C8CE-4F0D-9489-F803E113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D38B-A75A-4C32-A90A-23B65F1A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6806-4EA2-4A70-A6B7-57E03BA5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BC75-40EF-47CD-9E29-0626848C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A303-03D4-4117-BE3B-8B70D908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C955-E209-4B49-B718-5607BBDD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3D65-55C6-40AC-BA6C-B31BA1ACE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72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364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07671-BCA2-4E39-840A-9026A72A7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66AA-61E1-424E-9B98-99BB4222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9250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3972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9364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3440-57BE-41BC-89C1-8051F7D7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51B6-4D0E-4B9C-BF9B-3ABB55C9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9250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CE82-3E37-4CCA-B9AC-3ABDFD9C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E1BD-1AC2-477F-86F4-A4D2B1E4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AEA5-EB8C-4248-A791-ED6FEECB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374D-01AE-4BA2-A7D7-66C5D05E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4861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7816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64eb6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4eb6"/>
                </a:solidFill>
                <a:latin typeface="Times New Roman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755520" y="64749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64eb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E2EF-5150-4F50-A7C6-A9F19CAF26F3}" type="slidenum">
              <a:rPr b="0" lang="en-US" sz="1200" spc="-1" strike="noStrike">
                <a:solidFill>
                  <a:srgbClr val="364eb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95"/>
          <p:cNvSpPr/>
          <p:nvPr/>
        </p:nvSpPr>
        <p:spPr>
          <a:xfrm>
            <a:off x="152280" y="152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9520f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4"/>
          <p:cNvSpPr/>
          <p:nvPr/>
        </p:nvSpPr>
        <p:spPr>
          <a:xfrm>
            <a:off x="7620120" y="30492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9520f"/>
                </a:solidFill>
                <a:latin typeface="Arial"/>
                <a:ea typeface="宋体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58672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0CE9-EF5D-48B3-A913-4DF0D372F05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95"/>
          <p:cNvSpPr/>
          <p:nvPr/>
        </p:nvSpPr>
        <p:spPr>
          <a:xfrm>
            <a:off x="152280" y="152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9520f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第十章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国际信贷决策与风险管理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4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26" name="AutoShape 5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9520f"/>
                </a:gs>
                <a:gs pos="50000">
                  <a:srgbClr val="f7dacc"/>
                </a:gs>
                <a:gs pos="100000">
                  <a:srgbClr val="d9520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6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d9520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7"/>
            <p:cNvSpPr/>
            <p:nvPr/>
          </p:nvSpPr>
          <p:spPr>
            <a:xfrm>
              <a:off x="2743200" y="2079720"/>
              <a:ext cx="39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第一节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国际信贷决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8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9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31" name="AutoShape 10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987e3"/>
                </a:gs>
                <a:gs pos="50000">
                  <a:srgbClr val="d8e6f9"/>
                </a:gs>
                <a:gs pos="100000">
                  <a:srgbClr val="4987e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1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4987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2"/>
            <p:cNvSpPr/>
            <p:nvPr/>
          </p:nvSpPr>
          <p:spPr>
            <a:xfrm>
              <a:off x="2743200" y="2917800"/>
              <a:ext cx="403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第二节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国际信贷的风险及管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3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14"/>
          <p:cNvGrpSpPr/>
          <p:nvPr/>
        </p:nvGrpSpPr>
        <p:grpSpPr>
          <a:xfrm>
            <a:off x="2133720" y="3581280"/>
            <a:ext cx="4876200" cy="685800"/>
            <a:chOff x="2133720" y="3581280"/>
            <a:chExt cx="4876200" cy="685800"/>
          </a:xfrm>
        </p:grpSpPr>
        <p:sp>
          <p:nvSpPr>
            <p:cNvPr id="136" name="AutoShape 15"/>
            <p:cNvSpPr/>
            <p:nvPr/>
          </p:nvSpPr>
          <p:spPr>
            <a:xfrm>
              <a:off x="2514240" y="3700440"/>
              <a:ext cx="434304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64eb6"/>
                </a:gs>
                <a:gs pos="50000">
                  <a:srgbClr val="d4daf0"/>
                </a:gs>
                <a:gs pos="100000">
                  <a:srgbClr val="364eb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16"/>
            <p:cNvSpPr/>
            <p:nvPr/>
          </p:nvSpPr>
          <p:spPr>
            <a:xfrm>
              <a:off x="2133720" y="3581280"/>
              <a:ext cx="685440" cy="685800"/>
            </a:xfrm>
            <a:prstGeom prst="diamond">
              <a:avLst/>
            </a:prstGeom>
            <a:solidFill>
              <a:srgbClr val="364eb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2742840" y="3755880"/>
              <a:ext cx="426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第三节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国际信用衍生产品的发展与风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8"/>
            <p:cNvSpPr/>
            <p:nvPr/>
          </p:nvSpPr>
          <p:spPr>
            <a:xfrm>
              <a:off x="228924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四、国际信用衍生品的风险与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信用衍生产品带来新的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信用衍生产品交易中存在信息不对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信用衍生产品的监管比较困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67616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五、中国信用衍生品市场发展现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85800" y="2286000"/>
          <a:ext cx="7620120" cy="4027320"/>
        </p:xfrm>
        <a:graphic>
          <a:graphicData uri="http://schemas.openxmlformats.org/drawingml/2006/table">
            <a:tbl>
              <a:tblPr/>
              <a:tblGrid>
                <a:gridCol w="1440000"/>
                <a:gridCol w="1014120"/>
                <a:gridCol w="4059360"/>
                <a:gridCol w="1106640"/>
              </a:tblGrid>
              <a:tr h="349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产品名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类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交易方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交易标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987e3"/>
                    </a:solidFill>
                  </a:tcPr>
                </a:tc>
              </a:tr>
              <a:tr h="730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信用风险缓释合约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CRMA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合约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交易双方签署交易合约，信用保护的买方向卖方支付费用，卖方向卖方提供信用保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具体债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f4"/>
                    </a:solidFill>
                  </a:tcPr>
                </a:tc>
              </a:tr>
              <a:tr h="1109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信用风险缓释凭证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CRMW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凭证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由创设机构（信用保护卖方）创设发行，向所有的凭证持有人（信用保护买方）提供基于某项债务的信用保护，该凭证可交易流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具体债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a"/>
                    </a:solidFill>
                  </a:tcPr>
                </a:tc>
              </a:tr>
              <a:tr h="728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信用违约互换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CDS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合约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交易双方签署交易合约，信用保护的买方向卖方支付费用，卖方向买方提供信用保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一个或多个债务实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f4"/>
                    </a:solidFill>
                  </a:tcPr>
                </a:tc>
              </a:tr>
              <a:tr h="1109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信用联结票据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CLN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凭证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由创设机构创设，向投资人发行，票据与债务实体的信用状况挂钩，投资人相当于信用保护的卖方，为创设机构提供信用保护，票据可交易流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一个或多个债务实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第一节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国际信贷决策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、国际信贷决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财务评估方法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品德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haracte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力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apacit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资本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apita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担保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llatera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环境条件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nditi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财务评估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流动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营运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负债与偿债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盈利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贷款定价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成本加成定价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基准利率加点修正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客户盈利性分析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成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收益定价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第二节 国际信贷的风险及管理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、国际信贷风险种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信用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利率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汇率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胀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管理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国家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国际信贷风险管理程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风险识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风险衡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风险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风险控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事后信息反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第三节 国际信用衍生产品的发展与风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、信用衍生产品的概念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redit Derivatives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信用衍生产品是一系列从基础资产上剥离、转移信用风险的金融工程技术的总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国际信用衍生品的种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信用违约互换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redit Default Swap-CDS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担保债务凭证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llateralized Debt Obligation, CDO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信用联结票据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redit Linked Note-CLN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总收益互换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otal Return Swap-TRS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组合资产的信用衍生品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asket Credit Derivatives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它：信用期权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和信用价差期权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SO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DS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数指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三、国际信用衍生品的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散信用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提高资本回报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提高基础市场流动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提高金融市场效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08:08:48Z</dcterms:created>
  <dc:creator>Sung Ha, Park</dc:creator>
  <dc:description/>
  <dc:language>en-US</dc:language>
  <cp:lastModifiedBy>lll</cp:lastModifiedBy>
  <dcterms:modified xsi:type="dcterms:W3CDTF">2021-07-29T07:47:19Z</dcterms:modified>
  <cp:revision>17</cp:revision>
  <dc:subject/>
  <dc:title>PowerPoint Template</dc:title>
</cp:coreProperties>
</file>