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D168-F54F-481F-9D4D-81B58FBB2CED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4428-5155-41EE-A1C0-EDFBE0D5170F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0000" y="4343400"/>
            <a:ext cx="50580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B102-C51B-4C3B-908C-7072160A2821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A6E-8118-427C-92FA-C5DCD181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558-A4B2-4B42-BA36-0E66343C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6FA-99C4-4311-9A58-90427E43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073-92D1-4236-93DB-D961B6D1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C9B9-63BA-4D51-B8BB-59BDBF92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E4BB-4E51-4C0A-9D90-9AF57BE4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BFB4-49A0-44E5-8C43-395DB912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4DF2-5746-49DD-B79A-5F62AAA4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B4C1-F4CD-4CB3-ADEF-155709E9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37B-72DD-4C47-BD5B-EDC1B448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AA36-5703-4581-B74F-A9090831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27E-6135-4DCA-9089-F3A02D37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D48C-424E-4619-92A6-9D44791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0B9F-94DF-4790-BCD7-375825F1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6F78-7E1B-478B-9CD5-0AE2E4ED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5FBF-A21E-4B56-B7D5-C88D44F5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B08D-22C2-46BF-A6F8-06E855A5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849-28ED-452D-97F0-A25E00AB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227-72AA-410B-A545-498285C0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205-D1C6-438D-AFE9-7B319B80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112-3FD5-443F-8894-D00AB942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52C-5749-4376-A75F-5B29E02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558-4D9A-433D-9A42-D018295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583-40DB-434F-B7D4-1A8285D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F8A0-1912-464D-AFA3-25C5ADAB0D94}" type="slidenum">
              <a:rPr b="0" sz="1200" spc="-1" strike="noStrike">
                <a:solidFill>
                  <a:srgbClr val="364eb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AD1-41D1-4485-A57A-9AAE4CF78AA8}" type="slidenum">
              <a:rPr b="0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五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贸易短期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口贸易信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口贸易信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04" name="AutoShape 15"/>
            <p:cNvSpPr/>
            <p:nvPr/>
          </p:nvSpPr>
          <p:spPr>
            <a:xfrm>
              <a:off x="2514240" y="370044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2133720" y="3581280"/>
              <a:ext cx="6854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742840" y="37558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付代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22892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2133720" y="4419720"/>
            <a:ext cx="4724280" cy="685800"/>
            <a:chOff x="2133720" y="4419720"/>
            <a:chExt cx="4724280" cy="685800"/>
          </a:xfrm>
        </p:grpSpPr>
        <p:sp>
          <p:nvSpPr>
            <p:cNvPr id="109" name="AutoShape 20"/>
            <p:cNvSpPr/>
            <p:nvPr/>
          </p:nvSpPr>
          <p:spPr>
            <a:xfrm>
              <a:off x="2514600" y="4538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af3df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1"/>
            <p:cNvSpPr/>
            <p:nvPr/>
          </p:nvSpPr>
          <p:spPr>
            <a:xfrm>
              <a:off x="2133720" y="441972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274320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四节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贸易融资的新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289600" y="45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8896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票据贴现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scoun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银行承兑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ankers Accept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无抵押出口订单贷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Unsecured Loans of the Orders to Export Manufacture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出口采购及储备货物抵押贷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ans Secured by the Purchasing and Reserving Goods to Exporte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保付代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保付代理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actorin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保理商应出口商的申请，在对进口商进行资信调查的基础上，为短期赊销出口商提供信用管理、账务管理、坏账担保以及应收账款融资等综合性的金融服务，又叫保理、保付代收、承购应收帐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保理业务提供的综合性金融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信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债款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销售账户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收帐款融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帐担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457200" y="4191120"/>
            <a:ext cx="5105520" cy="1047600"/>
            <a:chOff x="457200" y="4191120"/>
            <a:chExt cx="5105520" cy="1047600"/>
          </a:xfrm>
        </p:grpSpPr>
        <p:sp>
          <p:nvSpPr>
            <p:cNvPr id="136" name="Text Box 3"/>
            <p:cNvSpPr/>
            <p:nvPr/>
          </p:nvSpPr>
          <p:spPr>
            <a:xfrm>
              <a:off x="457200" y="4419720"/>
              <a:ext cx="144792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口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3809880" y="4419720"/>
              <a:ext cx="175284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口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H="1">
              <a:off x="1905120" y="4800600"/>
              <a:ext cx="1752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"/>
            <p:cNvSpPr/>
            <p:nvPr/>
          </p:nvSpPr>
          <p:spPr>
            <a:xfrm>
              <a:off x="1981080" y="4191120"/>
              <a:ext cx="1828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赊销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5486400" y="3733920"/>
            <a:ext cx="3505320" cy="1504800"/>
            <a:chOff x="5486400" y="3733920"/>
            <a:chExt cx="3505320" cy="1504800"/>
          </a:xfrm>
        </p:grpSpPr>
        <p:sp>
          <p:nvSpPr>
            <p:cNvPr id="141" name="Text Box 8"/>
            <p:cNvSpPr/>
            <p:nvPr/>
          </p:nvSpPr>
          <p:spPr>
            <a:xfrm>
              <a:off x="7086600" y="4419720"/>
              <a:ext cx="190512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理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5562720" y="4572000"/>
              <a:ext cx="14475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5486400" y="3733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②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转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关单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5562360" y="4800600"/>
            <a:ext cx="1524240" cy="423000"/>
            <a:chOff x="5562360" y="4800600"/>
            <a:chExt cx="1524240" cy="423000"/>
          </a:xfrm>
        </p:grpSpPr>
        <p:sp>
          <p:nvSpPr>
            <p:cNvPr id="145" name="Line 12"/>
            <p:cNvSpPr/>
            <p:nvPr/>
          </p:nvSpPr>
          <p:spPr>
            <a:xfrm flipH="1">
              <a:off x="5562360" y="4800600"/>
              <a:ext cx="14475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5638680" y="4800600"/>
              <a:ext cx="144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③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货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990720" y="5257800"/>
            <a:ext cx="6629400" cy="990720"/>
            <a:chOff x="990720" y="5257800"/>
            <a:chExt cx="6629400" cy="990720"/>
          </a:xfrm>
        </p:grpSpPr>
        <p:sp>
          <p:nvSpPr>
            <p:cNvPr id="148" name="Line 15"/>
            <p:cNvSpPr/>
            <p:nvPr/>
          </p:nvSpPr>
          <p:spPr>
            <a:xfrm>
              <a:off x="990720" y="5257800"/>
              <a:ext cx="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990720" y="6248520"/>
              <a:ext cx="6629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 flipV="1">
              <a:off x="7620120" y="5257800"/>
              <a:ext cx="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2895480" y="5639040"/>
              <a:ext cx="304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④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期支付货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矩形 19"/>
          <p:cNvSpPr/>
          <p:nvPr/>
        </p:nvSpPr>
        <p:spPr>
          <a:xfrm>
            <a:off x="1066680" y="1600200"/>
            <a:ext cx="67057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保理的当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口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口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理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保理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是否可以立即得到现金分为到期保理和预支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是否公开保理公司的名称分为公开型保理和隐蔽型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保理商有否追索权分为有追索权保理和无追索权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保理业务在境内外的不同分为国内保理和国际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服务提供主体分为银行保理和商业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其他特殊的保理形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561600"/>
            <a:ext cx="59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65040" y="2001960"/>
            <a:ext cx="62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21840" y="2438280"/>
            <a:ext cx="454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出                口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818960" y="2362320"/>
            <a:ext cx="45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保                理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927200" y="2362320"/>
            <a:ext cx="45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进                 口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1371600" y="19810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3716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80773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90512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990720" y="2362320"/>
            <a:ext cx="914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4572000" y="2362320"/>
            <a:ext cx="762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7772400" y="2362320"/>
            <a:ext cx="762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419720" y="1523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2133720" y="2286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保理协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2096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额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2860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发票副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2096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预付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43828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余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19051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 flipH="1">
            <a:off x="190512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1905120" y="5105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 flipH="1">
            <a:off x="1905120" y="5943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5"/>
          <p:cNvSpPr/>
          <p:nvPr/>
        </p:nvSpPr>
        <p:spPr>
          <a:xfrm>
            <a:off x="5334120" y="2819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5334120" y="4267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H="1">
            <a:off x="5333760" y="5943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79132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调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791320" y="3657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催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5791320" y="5257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付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14479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1447920" y="67057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 flipV="1">
            <a:off x="80773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403848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发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3"/>
          <p:cNvSpPr/>
          <p:nvPr/>
        </p:nvSpPr>
        <p:spPr>
          <a:xfrm>
            <a:off x="1248480" y="1219320"/>
            <a:ext cx="1029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保理操作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六、保理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出口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进口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保理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七、国际保理组织及公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保理商联合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CI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《国际保理公约》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保理通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RIF 20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八、保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理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进口商信用风险、国家风险、外汇风险、文件风险、系统风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口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合同风险、履约风险、保理商风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四节 国际贸易融资的新发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贸易融资的发展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低风险结算方式向高风险结算方式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单笔业务融资向综合性融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单一环节向多环节、全过程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传统化、标准化产品向个性化、组合式设计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客户授信向代理行授信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金融科技与贸易融资相结合成为亮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际贸易信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ternational Trade Cred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进出口商品的采购、打包、储运、结算等各个阶段和环节，从各种渠道获得的融资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：自偿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信贷期限分为国际贸易短期信贷和中长期信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信贷主体分为银行信用和商业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贸易融资的新品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供应链融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pply Chain Fin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通过整体审查供应链上的企业，基于核心企业，为其相关上下游企业提供量身定制的金融产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池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ool Financ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企业将日常分散、零星的小额应收账款、背书商业汇票、出口退税申报证明等单据集聚起来，转让给银行，后者为企业建立相应的“池”并根据池容量为企业提供一定比例的融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出口信保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xport Credit Insurance Financin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利用出口信用保险的保障，向权利人发放贷款的一种资金融通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结构性贸易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ructured Trade Fin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通过对不同的贸易融资工具和风险缓释工具进行搭配组合，最大限度满足进出口双方的融资需求，并相应降低总体的融资风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构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金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缓释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进口贸易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出口商对进口商提供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赊销信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en Account Credi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票据信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ill Credi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银行对进口商提供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开证授信额度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mit for Issuing L/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普通开证额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循环使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性开证额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有效，单笔开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承兑信用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ceptance Cred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无抵押进口营运贷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nsecured Loans of Operation to Importer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信托收据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ust Receip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/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进口押汇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ward Bil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分为进口信用证押汇和进口代收押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向开证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代收行提出申请与审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签订进口押汇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证行（代收行）对外付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凭信托收据向进口商交付单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凭单据提货及销售货物、回笼货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归还款项本息，赎回信托收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期限、币种和费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提货担保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ipping Guarante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/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般应用于货先于单据到达的近洋贸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担保行要向船公司承担因没有提单而提货所导致的一切费用和损失，且担保承担无限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因出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/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而使开证行遭受的任何损失，申请人负赔偿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出口贸易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进口商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付款与定金的区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经纪人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抵押商品采购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货物单据抵押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承兑出口商汇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银行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打包放款 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cking Loa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装船前融资，实质属于无抵押信用放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分为信用证项下打包放款和非信用证项下打包放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强调专款专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期限、币种和费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出口押汇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utward Bill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期融资，期限一般不超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押汇是银行预扣利息后将余额支付给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押汇是银行保留追索权的垫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分为出口信用证押汇和出口托收押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23:47Z</dcterms:modified>
  <cp:revision>1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