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5CE-C7BA-4F33-AD01-A164B6309361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5FE9-CEDD-47E8-8F13-1A668A37D430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A64-BE91-42EF-8AC9-58A70725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AA9-6E83-4320-8F1B-9DA2E16B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83A-08BC-4A48-9949-F469034F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532-308B-43B5-B109-D8C5190E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6AD7-FAA1-48CC-BB7F-16600D57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EE05-2514-4058-B8A1-7F95F064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E0B-4956-488D-B631-F7C712A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C1E2-A3F1-460F-A201-B062E644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AD5B-F0D2-48A7-8364-DEEA3FCE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9C1F-9FDF-4248-AA3F-DC2F23D5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721-3A92-46EE-9D16-4D57EC4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147-87C8-4024-A8E9-2BF70B5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481B-7F03-45AE-9580-0DC1BE2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D0F2-909F-4266-8A73-388C722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DBE0-2417-4147-BE1E-D4666A87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A774-D262-4E26-9210-05DE9D2A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1543-84AC-4E74-8805-79D114FC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FFC-103F-49D3-8498-8DF6806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9DC-891B-424E-8F93-21A02EEC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419-688F-41D7-A444-BCD9211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871-ED62-47CC-8259-C50B998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E62-74C7-4B84-AC15-F86A67D0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651-2DFE-45FE-9EA9-EDCBB78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FA8-1311-465E-AF99-4A67124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95FD-92D2-4767-8F00-12F27A0D1AAF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439-4E99-48EB-B51C-D850493A1C71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政府贷款概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世界主要国家的政府贷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20360" y="3700440"/>
              <a:ext cx="44107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962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52560" y="3755880"/>
              <a:ext cx="425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利用的外国政府贷款与援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946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世界主要国家的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美国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国国际开发署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USAI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经济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日本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国际协力机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IC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合作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chnical Coopera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官方开发援助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DA Loan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赠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中国利用的外国政府贷款与援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国利用外国政府贷款始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日本是中国最大的援助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国的对外援助起步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利用外国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混合性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种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中国对外援助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华人民共和国国家国际发展合作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成套项目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物资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技术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人力资源开发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医疗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紧急人道主义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志愿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债务减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政府贷款的概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vernment Lo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政府贷款是一国政府利用财政资金向另一国政府提供的优惠性贷款，具有双边或多边官方经济开发援助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照国际惯例，优惠性贷款必须含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赠予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赠与成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Grant Element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为贷款的最初票面价值与折现后的债务清偿现值的差额，通常以占贷款面值的百分比来表示，即该差额占贷款面值的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1447920" y="1523880"/>
          <a:ext cx="59436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9436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7"/>
          <p:cNvSpPr/>
          <p:nvPr/>
        </p:nvSpPr>
        <p:spPr>
          <a:xfrm>
            <a:off x="609480" y="3581280"/>
            <a:ext cx="79250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年利率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每年偿付次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期内的贴现率，一般按综合利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计算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宽限期（自签订贷款协议生效日期至第一次还款日期之间的期间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偿还期（以年计算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贴现率后改为差别折现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ifferentiated Discount Rat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%-CIR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4+CI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3960" y="6094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新规定的优惠贷款赠与成分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9560" y="2057400"/>
          <a:ext cx="8253720" cy="3138480"/>
        </p:xfrm>
        <a:graphic>
          <a:graphicData uri="http://schemas.openxmlformats.org/drawingml/2006/table">
            <a:tbl>
              <a:tblPr/>
              <a:tblGrid>
                <a:gridCol w="3141720"/>
                <a:gridCol w="2359080"/>
                <a:gridCol w="2752920"/>
              </a:tblGrid>
              <a:tr h="7603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分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采用贴现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要求达到的赠与成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8445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最不发达国家和低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低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高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政府贷款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良好政治、经济和外交关系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需要法定的批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属主权外债，强调偿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优惠性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规模不大，受制于国家财政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使用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政府贷款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国的政局和外交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财政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的贷款使用效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政府贷款的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选定贷款项目，进行贷款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申请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审查与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承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换文谈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协定的协商与签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取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督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计息与否分为无息贷款和计息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支付标的分为现汇贷款、商品贷款和项目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贷款特性分为纯政府贷款和政府混合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07:54Z</dcterms:modified>
  <cp:revision>2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