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941D-FFB4-42C1-AD26-F1D771C3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D97-7BF5-4B6D-B515-D43E2D52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750-6230-4730-8E5D-C903B223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0336-9786-400D-8F99-E9A83D83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228A-99D6-4C41-BB94-C24E65E8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4AB1-22D2-4799-9049-4A114BAF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FE66-B095-4EB4-8ED4-012B31EF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7D9B-7BFC-4E28-BC6D-C55F2D95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CFE1-B6C3-4BBF-B81D-F56DD208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F3E2-EB74-4DF1-A400-403A2E68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B51E-A2A9-4388-BCCC-142BEA14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261-CADB-439B-8CF5-615B5D12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F541-29D0-4FD6-A1F5-B4D0348F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E2ED-53C8-4ED6-9478-74F0D143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1507-2800-4DBC-B82D-8F0AA887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A16F-5C7A-4F4A-ACE9-399038E5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0580-B16D-4369-AB12-761FF7CE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DC2-DAA6-4F8B-8294-A5DC3094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D1A-AC54-4B9C-BF1C-4D9E3FE6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59A-A055-4119-822F-4D59A65C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6BA-CA08-4634-8DFC-2E2F3442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478-76E0-4796-AEE2-E6EE7AF6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35A-3117-4B98-9220-BA139A47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5C19-1AA6-4FB9-A8CD-271147C9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64eb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4eb6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64eb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8CEC-3EBC-401C-80CA-4F4AAFE6BABB}" type="slidenum">
              <a:rPr b="0" lang="en-US" sz="1200" spc="-1" strike="noStrike">
                <a:solidFill>
                  <a:srgbClr val="364eb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95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7620120" y="3049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6A33-64B1-49D4-B980-A763C3476E4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95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十章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国际信贷决策与风险管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26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520f"/>
                </a:gs>
                <a:gs pos="50000">
                  <a:srgbClr val="f7dacc"/>
                </a:gs>
                <a:gs pos="100000">
                  <a:srgbClr val="d9520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520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7"/>
            <p:cNvSpPr/>
            <p:nvPr/>
          </p:nvSpPr>
          <p:spPr>
            <a:xfrm>
              <a:off x="2743200" y="20797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一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国际信贷决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8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31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d8e6f9"/>
                </a:gs>
                <a:gs pos="100000">
                  <a:srgbClr val="4987e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987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2"/>
            <p:cNvSpPr/>
            <p:nvPr/>
          </p:nvSpPr>
          <p:spPr>
            <a:xfrm>
              <a:off x="2743200" y="2917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二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国际信贷的风险及管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3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4"/>
          <p:cNvGrpSpPr/>
          <p:nvPr/>
        </p:nvGrpSpPr>
        <p:grpSpPr>
          <a:xfrm>
            <a:off x="2133720" y="3581280"/>
            <a:ext cx="4876200" cy="685800"/>
            <a:chOff x="2133720" y="3581280"/>
            <a:chExt cx="4876200" cy="685800"/>
          </a:xfrm>
        </p:grpSpPr>
        <p:sp>
          <p:nvSpPr>
            <p:cNvPr id="136" name="AutoShape 15"/>
            <p:cNvSpPr/>
            <p:nvPr/>
          </p:nvSpPr>
          <p:spPr>
            <a:xfrm>
              <a:off x="2514240" y="3700440"/>
              <a:ext cx="434304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4eb6"/>
                </a:gs>
                <a:gs pos="50000">
                  <a:srgbClr val="d4daf0"/>
                </a:gs>
                <a:gs pos="100000">
                  <a:srgbClr val="364eb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6"/>
            <p:cNvSpPr/>
            <p:nvPr/>
          </p:nvSpPr>
          <p:spPr>
            <a:xfrm>
              <a:off x="2133720" y="3581280"/>
              <a:ext cx="685440" cy="685800"/>
            </a:xfrm>
            <a:prstGeom prst="diamond">
              <a:avLst/>
            </a:prstGeom>
            <a:solidFill>
              <a:srgbClr val="364eb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2742840" y="375588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三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国际信用衍生产品的发展与风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8"/>
            <p:cNvSpPr/>
            <p:nvPr/>
          </p:nvSpPr>
          <p:spPr>
            <a:xfrm>
              <a:off x="228924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四、国际信用衍生品的风险与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信用衍生产品带来新的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信用衍生产品交易中存在信息不对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信用衍生产品的监管比较困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67616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五、中国信用衍生品市场发展现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2286000"/>
          <a:ext cx="7620120" cy="4027320"/>
        </p:xfrm>
        <a:graphic>
          <a:graphicData uri="http://schemas.openxmlformats.org/drawingml/2006/table">
            <a:tbl>
              <a:tblPr/>
              <a:tblGrid>
                <a:gridCol w="1440000"/>
                <a:gridCol w="1014120"/>
                <a:gridCol w="4059360"/>
                <a:gridCol w="1106640"/>
              </a:tblGrid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产品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交易方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交易标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</a:tr>
              <a:tr h="73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信用风险缓释合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CRMA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合约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易双方签署交易合约，信用保护的买方向卖方支付费用，卖方向卖方提供信用保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债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</a:tr>
              <a:tr h="110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信用风险缓释凭证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CRMW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凭证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由创设机构（信用保护卖方）创设发行，向所有的凭证持有人（信用保护买方）提供基于某项债务的信用保护，该凭证可交易流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债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</a:tr>
              <a:tr h="728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信用违约互换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CDS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合约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易双方签署交易合约，信用保护的买方向卖方支付费用，卖方向买方提供信用保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一个或多个债务实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</a:tr>
              <a:tr h="110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信用联结票据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CL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凭证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由创设机构创设，向投资人发行，票据与债务实体的信用状况挂钩，投资人相当于信用保护的卖方，为创设机构提供信用保护，票据可交易流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一个或多个债务实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一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国际信贷决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国际信贷决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财务评估方法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品德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haract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力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apacit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资本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apit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担保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llater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条件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diti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财务评估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流动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营运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负债与偿债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盈利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贷款定价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本加成定价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基准利率加点修正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客户盈利性分析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收益定价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二节 国际信贷的风险及管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国际信贷风险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信用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率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汇率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胀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管理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国家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国际信贷风险管理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风险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风险衡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风险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风险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信息反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三节 国际信用衍生产品的发展与风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信用衍生产品的概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redit Derivative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信用衍生产品是一系列从基础资产上剥离、转移信用风险的金融工程技术的总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国际信用衍生品的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信用违约互换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redit Default Swap-CD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担保债务凭证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lateralized Debt Obligation, CDO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信用联结票据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redit Linked Note-CL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总收益互换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otal Return Swap-TR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合资产的信用衍生品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asket Credit Derivative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：信用期权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信用价差期权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SO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D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指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国际信用衍生品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散信用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高资本回报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高基础市场流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高金融市场效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8:08:48Z</dcterms:created>
  <dc:creator>Sung Ha, Park</dc:creator>
  <dc:description/>
  <dc:language>en-US</dc:language>
  <cp:lastModifiedBy>lll</cp:lastModifiedBy>
  <dcterms:modified xsi:type="dcterms:W3CDTF">2021-07-29T07:47:19Z</dcterms:modified>
  <cp:revision>17</cp:revision>
  <dc:subject/>
  <dc:title>PowerPoint Template</dc:title>
</cp:coreProperties>
</file>