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984E-68C4-44A0-9926-CBC31E539BF2}" type="slidenum">
              <a:rPr b="0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05E4-D824-46DE-83FA-0B06CED3A70B}" type="slidenum">
              <a:rPr b="0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0000" y="4343400"/>
            <a:ext cx="50580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BAAF-7D5E-4E43-AE94-A88C2C2D7113}" type="slidenum">
              <a:rPr b="0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86EA-695E-453D-8BDC-593196C6F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731B-0629-453C-9052-B2FADE9C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AF12-73A4-4A53-A1AB-D9C66B65C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72F1-12D4-451C-86F7-BB95A6DDA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2DBC-B232-4B86-A74A-6933CB173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E92F-34DA-4B16-A5E2-8C90289F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16D6-E56A-4E90-91A1-77487C74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C389-68FA-4389-9783-4FCE43C7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E242-256E-46CF-8AD0-7290AD86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9250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ECDD-EA44-45DA-8C84-685CA49D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B0DD-D1BB-434B-B438-A29414B1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23F1-1C9D-417C-B4EB-C046AE3C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272F5-DF00-4923-841E-6F4A2226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7BEC-8242-4F14-9775-80B68F0B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1E83-0473-4FE8-837D-CC3E26EC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D0DA-FA86-4CAA-88EF-197A60F68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72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364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999C-F14D-48E8-9B5C-D0FDF1A01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5F0E-0CA8-40E4-AB22-CFA5C76F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F014-384D-412D-896D-3E3E570B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8908-AACD-492A-AF5F-3C5E0350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9250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93CF-617A-4F12-B856-BEBE5ED5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22B9-E488-485E-B41A-CCADDE3F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242C-67BB-4C79-A774-E90D4D8C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EAD6-4B83-4DB2-A350-10E5663C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4861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7816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64eb6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4eb6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755520" y="64749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364eb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0D5C-826A-467B-A0AF-EA0F8EFAC8FF}" type="slidenum">
              <a:rPr b="0" sz="1200" spc="-1" strike="noStrike">
                <a:solidFill>
                  <a:srgbClr val="364eb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95"/>
          <p:cNvSpPr/>
          <p:nvPr/>
        </p:nvSpPr>
        <p:spPr>
          <a:xfrm>
            <a:off x="152280" y="152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9520f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4"/>
          <p:cNvSpPr/>
          <p:nvPr/>
        </p:nvSpPr>
        <p:spPr>
          <a:xfrm>
            <a:off x="7620120" y="30492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9520f"/>
                </a:solidFill>
                <a:latin typeface="Arial"/>
                <a:ea typeface="宋体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58672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28D7-C00A-4497-9647-7118E8B0D6EC}" type="slidenum">
              <a:rPr b="0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第五章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国际贸易短期信贷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4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4" name="AutoShape 5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9520f"/>
                </a:gs>
                <a:gs pos="50000">
                  <a:srgbClr val="f7dacc"/>
                </a:gs>
                <a:gs pos="100000">
                  <a:srgbClr val="d9520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6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d9520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7"/>
            <p:cNvSpPr/>
            <p:nvPr/>
          </p:nvSpPr>
          <p:spPr>
            <a:xfrm>
              <a:off x="2743200" y="2079720"/>
              <a:ext cx="39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第一节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进口贸易信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8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9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99" name="AutoShape 10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987e3"/>
                </a:gs>
                <a:gs pos="50000">
                  <a:srgbClr val="d8e6f9"/>
                </a:gs>
                <a:gs pos="100000">
                  <a:srgbClr val="4987e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11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4987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2"/>
            <p:cNvSpPr/>
            <p:nvPr/>
          </p:nvSpPr>
          <p:spPr>
            <a:xfrm>
              <a:off x="2743200" y="2917800"/>
              <a:ext cx="403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第二节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出口贸易信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3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14"/>
          <p:cNvGrpSpPr/>
          <p:nvPr/>
        </p:nvGrpSpPr>
        <p:grpSpPr>
          <a:xfrm>
            <a:off x="2133720" y="3581280"/>
            <a:ext cx="4876200" cy="685800"/>
            <a:chOff x="2133720" y="3581280"/>
            <a:chExt cx="4876200" cy="685800"/>
          </a:xfrm>
        </p:grpSpPr>
        <p:sp>
          <p:nvSpPr>
            <p:cNvPr id="104" name="AutoShape 15"/>
            <p:cNvSpPr/>
            <p:nvPr/>
          </p:nvSpPr>
          <p:spPr>
            <a:xfrm>
              <a:off x="2514240" y="3700440"/>
              <a:ext cx="434304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64eb6"/>
                </a:gs>
                <a:gs pos="50000">
                  <a:srgbClr val="d4daf0"/>
                </a:gs>
                <a:gs pos="100000">
                  <a:srgbClr val="364eb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16"/>
            <p:cNvSpPr/>
            <p:nvPr/>
          </p:nvSpPr>
          <p:spPr>
            <a:xfrm>
              <a:off x="2133720" y="3581280"/>
              <a:ext cx="685440" cy="685800"/>
            </a:xfrm>
            <a:prstGeom prst="diamond">
              <a:avLst/>
            </a:prstGeom>
            <a:solidFill>
              <a:srgbClr val="364eb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7"/>
            <p:cNvSpPr/>
            <p:nvPr/>
          </p:nvSpPr>
          <p:spPr>
            <a:xfrm>
              <a:off x="2742840" y="3755880"/>
              <a:ext cx="426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第三节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保付代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8"/>
            <p:cNvSpPr/>
            <p:nvPr/>
          </p:nvSpPr>
          <p:spPr>
            <a:xfrm>
              <a:off x="228924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9"/>
          <p:cNvGrpSpPr/>
          <p:nvPr/>
        </p:nvGrpSpPr>
        <p:grpSpPr>
          <a:xfrm>
            <a:off x="2133720" y="4419720"/>
            <a:ext cx="4724280" cy="685800"/>
            <a:chOff x="2133720" y="4419720"/>
            <a:chExt cx="4724280" cy="685800"/>
          </a:xfrm>
        </p:grpSpPr>
        <p:sp>
          <p:nvSpPr>
            <p:cNvPr id="109" name="AutoShape 20"/>
            <p:cNvSpPr/>
            <p:nvPr/>
          </p:nvSpPr>
          <p:spPr>
            <a:xfrm>
              <a:off x="2514600" y="45388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cc769"/>
                </a:gs>
                <a:gs pos="50000">
                  <a:srgbClr val="eaf3df"/>
                </a:gs>
                <a:gs pos="100000">
                  <a:srgbClr val="9cc76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21"/>
            <p:cNvSpPr/>
            <p:nvPr/>
          </p:nvSpPr>
          <p:spPr>
            <a:xfrm>
              <a:off x="2133720" y="4419720"/>
              <a:ext cx="685800" cy="685800"/>
            </a:xfrm>
            <a:prstGeom prst="diamond">
              <a:avLst/>
            </a:prstGeom>
            <a:solidFill>
              <a:srgbClr val="9cc76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22"/>
            <p:cNvSpPr/>
            <p:nvPr/>
          </p:nvSpPr>
          <p:spPr>
            <a:xfrm>
              <a:off x="2743200" y="4594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第四节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国际贸易融资的新发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3"/>
            <p:cNvSpPr/>
            <p:nvPr/>
          </p:nvSpPr>
          <p:spPr>
            <a:xfrm>
              <a:off x="2289600" y="4518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8896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票据贴现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iscount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银行承兑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ankers Acceptanc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无抵押出口订单贷款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Unsecured Loans of the Orders to Export Manufacturers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出口采购及储备货物抵押贷款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Loans Secured by the Purchasing and Reserving Goods to Exporters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第三节 保付代理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保付代理的概念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actorin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保理商应出口商的申请，在对进口商进行资信调查的基础上，为短期赊销出口商提供信用管理、账务管理、坏账担保以及应收账款融资等综合性的金融服务，又叫保理、保付代收、承购应收帐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保理业务提供的综合性金融服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资信调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债款回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销售账户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收帐款融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坏帐担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457200" y="4191120"/>
            <a:ext cx="5105520" cy="1047600"/>
            <a:chOff x="457200" y="4191120"/>
            <a:chExt cx="5105520" cy="1047600"/>
          </a:xfrm>
        </p:grpSpPr>
        <p:sp>
          <p:nvSpPr>
            <p:cNvPr id="136" name="Text Box 3"/>
            <p:cNvSpPr/>
            <p:nvPr/>
          </p:nvSpPr>
          <p:spPr>
            <a:xfrm>
              <a:off x="457200" y="4419720"/>
              <a:ext cx="1447920" cy="819000"/>
            </a:xfrm>
            <a:prstGeom prst="rect">
              <a:avLst/>
            </a:prstGeom>
            <a:solidFill>
              <a:srgbClr val="4987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进口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4"/>
            <p:cNvSpPr/>
            <p:nvPr/>
          </p:nvSpPr>
          <p:spPr>
            <a:xfrm>
              <a:off x="3809880" y="4419720"/>
              <a:ext cx="1752840" cy="819000"/>
            </a:xfrm>
            <a:prstGeom prst="rect">
              <a:avLst/>
            </a:prstGeom>
            <a:solidFill>
              <a:srgbClr val="4987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出口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5"/>
            <p:cNvSpPr/>
            <p:nvPr/>
          </p:nvSpPr>
          <p:spPr>
            <a:xfrm flipH="1">
              <a:off x="1905120" y="4800600"/>
              <a:ext cx="17524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6"/>
            <p:cNvSpPr/>
            <p:nvPr/>
          </p:nvSpPr>
          <p:spPr>
            <a:xfrm>
              <a:off x="1981080" y="4191120"/>
              <a:ext cx="1828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①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赊销商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7"/>
          <p:cNvGrpSpPr/>
          <p:nvPr/>
        </p:nvGrpSpPr>
        <p:grpSpPr>
          <a:xfrm>
            <a:off x="5486400" y="3733920"/>
            <a:ext cx="3505320" cy="1504800"/>
            <a:chOff x="5486400" y="3733920"/>
            <a:chExt cx="3505320" cy="1504800"/>
          </a:xfrm>
        </p:grpSpPr>
        <p:sp>
          <p:nvSpPr>
            <p:cNvPr id="141" name="Text Box 8"/>
            <p:cNvSpPr/>
            <p:nvPr/>
          </p:nvSpPr>
          <p:spPr>
            <a:xfrm>
              <a:off x="7086600" y="4419720"/>
              <a:ext cx="1905120" cy="819000"/>
            </a:xfrm>
            <a:prstGeom prst="rect">
              <a:avLst/>
            </a:prstGeom>
            <a:solidFill>
              <a:srgbClr val="4987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保理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9"/>
            <p:cNvSpPr/>
            <p:nvPr/>
          </p:nvSpPr>
          <p:spPr>
            <a:xfrm>
              <a:off x="5562720" y="4572000"/>
              <a:ext cx="144756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0"/>
            <p:cNvSpPr/>
            <p:nvPr/>
          </p:nvSpPr>
          <p:spPr>
            <a:xfrm>
              <a:off x="5486400" y="373392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②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转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关单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11"/>
          <p:cNvGrpSpPr/>
          <p:nvPr/>
        </p:nvGrpSpPr>
        <p:grpSpPr>
          <a:xfrm>
            <a:off x="5562360" y="4800600"/>
            <a:ext cx="1524240" cy="423000"/>
            <a:chOff x="5562360" y="4800600"/>
            <a:chExt cx="1524240" cy="423000"/>
          </a:xfrm>
        </p:grpSpPr>
        <p:sp>
          <p:nvSpPr>
            <p:cNvPr id="145" name="Line 12"/>
            <p:cNvSpPr/>
            <p:nvPr/>
          </p:nvSpPr>
          <p:spPr>
            <a:xfrm flipH="1">
              <a:off x="5562360" y="4800600"/>
              <a:ext cx="144756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3"/>
            <p:cNvSpPr/>
            <p:nvPr/>
          </p:nvSpPr>
          <p:spPr>
            <a:xfrm>
              <a:off x="5638680" y="4800600"/>
              <a:ext cx="1447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③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货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14"/>
          <p:cNvGrpSpPr/>
          <p:nvPr/>
        </p:nvGrpSpPr>
        <p:grpSpPr>
          <a:xfrm>
            <a:off x="990720" y="5257800"/>
            <a:ext cx="6629400" cy="990720"/>
            <a:chOff x="990720" y="5257800"/>
            <a:chExt cx="6629400" cy="990720"/>
          </a:xfrm>
        </p:grpSpPr>
        <p:sp>
          <p:nvSpPr>
            <p:cNvPr id="148" name="Line 15"/>
            <p:cNvSpPr/>
            <p:nvPr/>
          </p:nvSpPr>
          <p:spPr>
            <a:xfrm>
              <a:off x="990720" y="5257800"/>
              <a:ext cx="0" cy="99072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6"/>
            <p:cNvSpPr/>
            <p:nvPr/>
          </p:nvSpPr>
          <p:spPr>
            <a:xfrm>
              <a:off x="990720" y="6248520"/>
              <a:ext cx="6629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7"/>
            <p:cNvSpPr/>
            <p:nvPr/>
          </p:nvSpPr>
          <p:spPr>
            <a:xfrm flipV="1">
              <a:off x="7620120" y="5257800"/>
              <a:ext cx="0" cy="99072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8"/>
            <p:cNvSpPr/>
            <p:nvPr/>
          </p:nvSpPr>
          <p:spPr>
            <a:xfrm>
              <a:off x="2895480" y="5639040"/>
              <a:ext cx="3048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④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延期支付货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矩形 19"/>
          <p:cNvSpPr/>
          <p:nvPr/>
        </p:nvSpPr>
        <p:spPr>
          <a:xfrm>
            <a:off x="1066680" y="1600200"/>
            <a:ext cx="6705720" cy="23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三、保理的当事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出口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进口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保理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6761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四、保理的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按是否可以立即得到现金分为到期保理和预支保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按是否公开保理公司的名称分为公开型保理和隐蔽型保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按保理商有否追索权分为有追索权保理和无追索权保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按保理业务在境内外的不同分为国内保理和国际保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按服务提供主体分为银行保理和商业保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其他特殊的保理形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3640" y="561600"/>
            <a:ext cx="5970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65040" y="2001960"/>
            <a:ext cx="625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221840" y="2438280"/>
            <a:ext cx="454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出                口                    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4818960" y="2362320"/>
            <a:ext cx="45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保                理                    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7927200" y="2362320"/>
            <a:ext cx="45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进                 口                    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8"/>
          <p:cNvSpPr/>
          <p:nvPr/>
        </p:nvSpPr>
        <p:spPr>
          <a:xfrm>
            <a:off x="1371600" y="198108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9"/>
          <p:cNvSpPr/>
          <p:nvPr/>
        </p:nvSpPr>
        <p:spPr>
          <a:xfrm>
            <a:off x="1371600" y="1981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0"/>
          <p:cNvSpPr/>
          <p:nvPr/>
        </p:nvSpPr>
        <p:spPr>
          <a:xfrm>
            <a:off x="8077320" y="1981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1"/>
          <p:cNvSpPr/>
          <p:nvPr/>
        </p:nvSpPr>
        <p:spPr>
          <a:xfrm>
            <a:off x="1905120" y="28195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990720" y="2362320"/>
            <a:ext cx="91440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3"/>
          <p:cNvSpPr/>
          <p:nvPr/>
        </p:nvSpPr>
        <p:spPr>
          <a:xfrm>
            <a:off x="4572000" y="2362320"/>
            <a:ext cx="76212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4"/>
          <p:cNvSpPr/>
          <p:nvPr/>
        </p:nvSpPr>
        <p:spPr>
          <a:xfrm>
            <a:off x="7772400" y="2362320"/>
            <a:ext cx="76212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4419720" y="15238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、</a:t>
            </a:r>
            <a:r>
              <a:rPr b="1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合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2133720" y="22860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、</a:t>
            </a:r>
            <a:r>
              <a:rPr b="1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保理协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2209680" y="2895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、</a:t>
            </a:r>
            <a:r>
              <a:rPr b="1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额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8"/>
          <p:cNvSpPr/>
          <p:nvPr/>
        </p:nvSpPr>
        <p:spPr>
          <a:xfrm>
            <a:off x="2286000" y="3733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、</a:t>
            </a:r>
            <a:r>
              <a:rPr b="1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发票副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2209680" y="44197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、</a:t>
            </a:r>
            <a:r>
              <a:rPr b="1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预付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0"/>
          <p:cNvSpPr/>
          <p:nvPr/>
        </p:nvSpPr>
        <p:spPr>
          <a:xfrm>
            <a:off x="2438280" y="5257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10</a:t>
            </a: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、</a:t>
            </a:r>
            <a:r>
              <a:rPr b="1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余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"/>
          <p:cNvSpPr/>
          <p:nvPr/>
        </p:nvSpPr>
        <p:spPr>
          <a:xfrm>
            <a:off x="1905120" y="4267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2"/>
          <p:cNvSpPr/>
          <p:nvPr/>
        </p:nvSpPr>
        <p:spPr>
          <a:xfrm flipH="1">
            <a:off x="1905120" y="35053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3"/>
          <p:cNvSpPr/>
          <p:nvPr/>
        </p:nvSpPr>
        <p:spPr>
          <a:xfrm flipH="1">
            <a:off x="1905120" y="51055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4"/>
          <p:cNvSpPr/>
          <p:nvPr/>
        </p:nvSpPr>
        <p:spPr>
          <a:xfrm flipH="1">
            <a:off x="1905120" y="59436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5"/>
          <p:cNvSpPr/>
          <p:nvPr/>
        </p:nvSpPr>
        <p:spPr>
          <a:xfrm>
            <a:off x="5334120" y="28195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6"/>
          <p:cNvSpPr/>
          <p:nvPr/>
        </p:nvSpPr>
        <p:spPr>
          <a:xfrm>
            <a:off x="5334120" y="42670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7"/>
          <p:cNvSpPr/>
          <p:nvPr/>
        </p:nvSpPr>
        <p:spPr>
          <a:xfrm flipH="1">
            <a:off x="5333760" y="59436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8"/>
          <p:cNvSpPr/>
          <p:nvPr/>
        </p:nvSpPr>
        <p:spPr>
          <a:xfrm>
            <a:off x="5791320" y="2286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、</a:t>
            </a:r>
            <a:r>
              <a:rPr b="1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调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9"/>
          <p:cNvSpPr/>
          <p:nvPr/>
        </p:nvSpPr>
        <p:spPr>
          <a:xfrm>
            <a:off x="5791320" y="36576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、</a:t>
            </a:r>
            <a:r>
              <a:rPr b="1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催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0"/>
          <p:cNvSpPr/>
          <p:nvPr/>
        </p:nvSpPr>
        <p:spPr>
          <a:xfrm>
            <a:off x="5791320" y="52578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、</a:t>
            </a:r>
            <a:r>
              <a:rPr b="1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付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31"/>
          <p:cNvSpPr/>
          <p:nvPr/>
        </p:nvSpPr>
        <p:spPr>
          <a:xfrm>
            <a:off x="1447920" y="6248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2"/>
          <p:cNvSpPr/>
          <p:nvPr/>
        </p:nvSpPr>
        <p:spPr>
          <a:xfrm>
            <a:off x="1447920" y="670572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3"/>
          <p:cNvSpPr/>
          <p:nvPr/>
        </p:nvSpPr>
        <p:spPr>
          <a:xfrm flipV="1">
            <a:off x="8077320" y="6248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4"/>
          <p:cNvSpPr/>
          <p:nvPr/>
        </p:nvSpPr>
        <p:spPr>
          <a:xfrm>
            <a:off x="4038480" y="6324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、</a:t>
            </a:r>
            <a:r>
              <a:rPr b="1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发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33"/>
          <p:cNvSpPr/>
          <p:nvPr/>
        </p:nvSpPr>
        <p:spPr>
          <a:xfrm>
            <a:off x="1248480" y="1219320"/>
            <a:ext cx="1029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五、保理操作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六、保理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出口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进口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保理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6761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七、国际保理组织及公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际保理商联合会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CI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《国际保理公约》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98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际保理通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RIF 201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八、保理的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理商的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：进口商信用风险、国家风险、外汇风险、文件风险、系统风险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出口商的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：合同风险、履约风险、保理商风险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第四节 国际贸易融资的新发展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、国际贸易融资的发展趋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从低风险结算方式向高风险结算方式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从单笔业务融资向综合性融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从单一环节向多环节、全过程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从传统化、标准化产品向个性化、组合式设计转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从客户授信向代理行授信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金融科技与贸易融资相结合成为亮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3716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国际贸易信贷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nternational Trade Credi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指在进出口商品的采购、打包、储运、结算等各个阶段和环节，从各种渠道获得的融资便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特点：自偿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1280">
              <a:lnSpc>
                <a:spcPct val="150000"/>
              </a:lnSpc>
              <a:spcBef>
                <a:spcPts val="601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按信贷期限分为国际贸易短期信贷和中长期信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1280">
              <a:lnSpc>
                <a:spcPct val="150000"/>
              </a:lnSpc>
              <a:spcBef>
                <a:spcPts val="601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按信贷主体分为银行信用和商业信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12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1280">
              <a:spcBef>
                <a:spcPts val="601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国际贸易融资的新品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供应链融资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upply Chain Financ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银行通过整体审查供应链上的企业，基于核心企业，为其相关上下游企业提供量身定制的金融产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池融资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ool Financin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企业将日常分散、零星的小额应收账款、背书商业汇票、出口退税申报证明等单据集聚起来，转让给银行，后者为企业建立相应的“池”并根据池容量为企业提供一定比例的融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种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优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出口信保融资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xport Credit Insurance Financin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银行利用出口信用保险的保障，向权利人发放贷款的一种资金融通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种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结构性贸易融资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ructured Trade Financ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银行通过对不同的贸易融资工具和风险缓释工具进行搭配组合，最大限度满足进出口双方的融资需求，并相应降低总体的融资风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构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资金结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风险缓释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第一节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进口贸易信贷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、出口商对进口商提供的信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赊销信贷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en Account Credit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票据信贷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ill Credit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银行对进口商提供的信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开证授信额度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imit for Issuing L/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普通开证额度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可循环使用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次性开证额度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次有效，单笔开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承兑信用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cceptance Credi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无抵押进口营运贷款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Unsecured Loans of Operation to Importer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信托收据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rust Receip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/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3716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进口押汇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nward Bill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分为进口信用证押汇和进口代收押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流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499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进口商向开证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代收行提出申请与审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499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签订进口押汇协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499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开证行（代收行）对外付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499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凭信托收据向进口商交付单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499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进口商凭单据提货及销售货物、回笼货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499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进口商归还款项本息，赎回信托收据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T/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期限、币种和费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499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提货担保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hipping Guarante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/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一般应用于货先于单据到达的近洋贸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担保行要向船公司承担因没有提单而提货所导致的一切费用和损失，且担保承担无限责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因出具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/G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而使开证行遭受的任何损失，申请人负赔偿责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第二节 出口贸易信贷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、进口商对出口商的信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预付款与定金的区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经纪人对出口商的信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无抵押商品采购贷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货物单据抵押贷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承兑出口商汇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三、银行对出口商的信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打包放款 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acking Loan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装船前融资，实质属于无抵押信用放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分为信用证项下打包放款和非信用证项下打包放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强调专款专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期限、币种和费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出口押汇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utward Bills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短期融资，期限一般不超过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8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押汇是银行预扣利息后将余额支付给客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押汇是银行保留追索权的垫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分为出口信用证押汇和出口托收押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08:08:48Z</dcterms:created>
  <dc:creator>Sung Ha, Park</dc:creator>
  <dc:description/>
  <dc:language>en-US</dc:language>
  <cp:lastModifiedBy>lll</cp:lastModifiedBy>
  <dcterms:modified xsi:type="dcterms:W3CDTF">2021-07-29T07:23:47Z</dcterms:modified>
  <cp:revision>19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3.0.9228</vt:lpwstr>
  </property>
</Properties>
</file>