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B886-B38C-4125-999E-3E46C6F2C562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4151-6E8F-4354-8B31-E952BB59DC92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F74-B7FB-45B6-9B97-60CE23C8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027-69D7-4FE1-A85C-31D6031B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DEC-F94D-445F-BADA-00233483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B9F-3A28-4DC4-A5FF-CE97C94A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522E-35AB-44E5-988A-2D0C8BF4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651C-5CB1-44DB-B15A-BEFF604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1CE6-B333-4390-B2C9-1E0C5B37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A97D-843C-43EA-B049-7849A81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2D01-3AE9-41B2-A33F-F7EE0CA7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EF7D-7E80-4F2E-8315-2463C2AB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BD1A-ED7F-4564-99C1-F17260CF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D69-76EC-471D-A373-E9CD865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AF61-179D-49C5-8C25-20ED488E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1E60-AF1C-4042-9936-55D7BA7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CE8A-D2B4-4BDC-8C61-94AAAC5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EF72-6E0D-4EAD-9C44-4D2AFD00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3866-7753-4B94-9432-DEA91B64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C17-EA99-4B4F-8A6F-3755939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186-0030-4183-85EB-0D657E3D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152-82D0-40E4-9D89-61625E4C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C1C-1338-41D6-A043-506A35D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4B5-89E6-4A0D-B902-53ABD77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304-0A80-4B33-8C06-D105F13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C74-AB95-4F2E-BED5-5EFA1C35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5823-391C-4D37-BF03-6252217A5F25}" type="slidenum">
              <a:rPr b="0" sz="1200" spc="-1" strike="noStrike">
                <a:solidFill>
                  <a:srgbClr val="364eb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4E17-DA1F-4E02-ADFD-711AFC2DA8B8}" type="slidenum">
              <a:rPr b="0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政府贷款概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世界主要国家的政府贷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04" name="AutoShape 15"/>
            <p:cNvSpPr/>
            <p:nvPr/>
          </p:nvSpPr>
          <p:spPr>
            <a:xfrm>
              <a:off x="2520360" y="3700440"/>
              <a:ext cx="44107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2133720" y="3581280"/>
              <a:ext cx="6962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752560" y="3755880"/>
              <a:ext cx="425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国利用的外国政府贷款与援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22946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世界主要国家的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美国政府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机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国国际开发署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USAI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经济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技术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日本政府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机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国际协力机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IC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技术合作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chnical Cooperat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官方开发援助贷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DA Loan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赠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中国利用的外国政府贷款与援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国利用外国政府贷款始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日本是中国最大的援助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国的对外援助起步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利用外国政府贷款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混合性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种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中国对外援助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华人民共和国国家国际发展合作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成套项目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物资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技术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人力资源开发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援外医疗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紧急人道主义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援外志愿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债务减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政府贷款的概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vernment Lo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政府贷款是一国政府利用财政资金向另一国政府提供的优惠性贷款，具有双边或多边官方经济开发援助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按照国际惯例，优惠性贷款必须含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赠予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赠与成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Grant Element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为贷款的最初票面价值与折现后的债务清偿现值的差额，通常以占贷款面值的百分比来表示，即该差额占贷款面值的百分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1447920" y="1523880"/>
          <a:ext cx="59436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9436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7"/>
          <p:cNvSpPr/>
          <p:nvPr/>
        </p:nvSpPr>
        <p:spPr>
          <a:xfrm>
            <a:off x="609480" y="3581280"/>
            <a:ext cx="79250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贷款年利率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每年偿付次数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贷款期内的贴现率，一般按综合利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计算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宽限期（自签订贷款协议生效日期至第一次还款日期之间的期间）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偿还期（以年计算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贴现率后改为差别折现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ifferentiated Discount Rat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DR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%-CIR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4+CI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3960" y="6094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最新规定的优惠贷款赠与成分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9560" y="2057400"/>
          <a:ext cx="8253720" cy="3138480"/>
        </p:xfrm>
        <a:graphic>
          <a:graphicData uri="http://schemas.openxmlformats.org/drawingml/2006/table">
            <a:tbl>
              <a:tblPr/>
              <a:tblGrid>
                <a:gridCol w="3141720"/>
                <a:gridCol w="2359080"/>
                <a:gridCol w="2752920"/>
              </a:tblGrid>
              <a:tr h="7603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国家分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采用贴现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要求达到的赠与成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8445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最不发达国家和低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7668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低收入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  <a:tr h="7668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高收入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政府贷款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良好政治、经济和外交关系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需要法定的批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属主权外债，强调偿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优惠性软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规模不大，受制于国家财政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O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使用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政府贷款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国的政局和外交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财政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借款国的贷款使用效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政府贷款的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借款国选定贷款项目，进行贷款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申请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审查与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承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换文谈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协定的协商与签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取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督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政府贷款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计息与否分为无息贷款和计息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支付标的分为现汇贷款、商品贷款和项目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贷款特性分为纯政府贷款和政府混合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07:54Z</dcterms:modified>
  <cp:revision>2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