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ADD5-5FF7-4E3D-B1B8-C311F5C7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CA36-820D-4859-91D1-D929027A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74DA-6620-4FBE-BFDB-A57FA2FE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09CB-F614-4513-9038-971AD981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092E-AE2B-4D5F-B649-BA4957BC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8281-75E9-4B41-8511-1FB71E48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3B8D-E917-42B5-B73F-86EB1DA7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E0F7-70DD-46CA-BC7B-AA2F1851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FA2C-4CE8-48D7-9548-4C094093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EECF-7892-4E96-AAA4-EF038A7A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EC20-5F18-4543-A5D7-2D8D8FFC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A44D-AB88-4664-9744-F533801D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D448-E6C4-425D-A98C-933DA376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B2F0-315A-43C3-B9E1-EA93BB1D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F1A4-DFDA-4E90-A4D3-A50E4317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34E7-24EC-4EC4-924A-240A7ADD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0A08-7A30-4F57-BC6F-5923A493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E9D5-0AC0-4A18-9068-2882DEF8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7E02-832E-45E5-B6E5-926F2976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89DD-52AA-4B74-BCA7-1CBED9E3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611-BA28-429F-8D87-28DA15AF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00A5-40FB-494A-8F65-AC0C49DF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F50-92E2-4C9C-964D-1B56623D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24A6-8D2E-4C54-91FF-45A9310F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64eb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4eb6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64eb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AA36-F507-4FA9-8BCD-EB879514CBF3}" type="slidenum">
              <a:rPr b="0" lang="en-US" sz="1200" spc="-1" strike="noStrike">
                <a:solidFill>
                  <a:srgbClr val="364eb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95"/>
          <p:cNvSpPr/>
          <p:nvPr/>
        </p:nvSpPr>
        <p:spPr>
          <a:xfrm>
            <a:off x="152280" y="152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4"/>
          <p:cNvSpPr/>
          <p:nvPr/>
        </p:nvSpPr>
        <p:spPr>
          <a:xfrm>
            <a:off x="7620120" y="3049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11D9-9C15-4051-A308-9ED74246390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95"/>
          <p:cNvSpPr/>
          <p:nvPr/>
        </p:nvSpPr>
        <p:spPr>
          <a:xfrm>
            <a:off x="152280" y="152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十章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国际信贷决策与风险管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26" name="AutoShape 5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520f"/>
                </a:gs>
                <a:gs pos="50000">
                  <a:srgbClr val="f7dacc"/>
                </a:gs>
                <a:gs pos="100000">
                  <a:srgbClr val="d9520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9520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7"/>
            <p:cNvSpPr/>
            <p:nvPr/>
          </p:nvSpPr>
          <p:spPr>
            <a:xfrm>
              <a:off x="2743200" y="20797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一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国际信贷决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8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9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31" name="AutoShape 10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d8e6f9"/>
                </a:gs>
                <a:gs pos="100000">
                  <a:srgbClr val="4987e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1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987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2"/>
            <p:cNvSpPr/>
            <p:nvPr/>
          </p:nvSpPr>
          <p:spPr>
            <a:xfrm>
              <a:off x="2743200" y="2917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二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国际信贷的风险及管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3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4"/>
          <p:cNvGrpSpPr/>
          <p:nvPr/>
        </p:nvGrpSpPr>
        <p:grpSpPr>
          <a:xfrm>
            <a:off x="2133720" y="3581280"/>
            <a:ext cx="4876200" cy="685800"/>
            <a:chOff x="2133720" y="3581280"/>
            <a:chExt cx="4876200" cy="685800"/>
          </a:xfrm>
        </p:grpSpPr>
        <p:sp>
          <p:nvSpPr>
            <p:cNvPr id="136" name="AutoShape 15"/>
            <p:cNvSpPr/>
            <p:nvPr/>
          </p:nvSpPr>
          <p:spPr>
            <a:xfrm>
              <a:off x="2514240" y="3700440"/>
              <a:ext cx="434304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64eb6"/>
                </a:gs>
                <a:gs pos="50000">
                  <a:srgbClr val="d4daf0"/>
                </a:gs>
                <a:gs pos="100000">
                  <a:srgbClr val="364eb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6"/>
            <p:cNvSpPr/>
            <p:nvPr/>
          </p:nvSpPr>
          <p:spPr>
            <a:xfrm>
              <a:off x="2133720" y="3581280"/>
              <a:ext cx="685440" cy="685800"/>
            </a:xfrm>
            <a:prstGeom prst="diamond">
              <a:avLst/>
            </a:prstGeom>
            <a:solidFill>
              <a:srgbClr val="364eb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2742840" y="3755880"/>
              <a:ext cx="42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三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国际信用衍生产品的发展与风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8"/>
            <p:cNvSpPr/>
            <p:nvPr/>
          </p:nvSpPr>
          <p:spPr>
            <a:xfrm>
              <a:off x="228924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四、国际信用衍生品的风险与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信用衍生产品带来新的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信用衍生产品交易中存在信息不对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信用衍生产品的监管比较困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67616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五、中国信用衍生品市场发展现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2286000"/>
          <a:ext cx="7620120" cy="4027320"/>
        </p:xfrm>
        <a:graphic>
          <a:graphicData uri="http://schemas.openxmlformats.org/drawingml/2006/table">
            <a:tbl>
              <a:tblPr/>
              <a:tblGrid>
                <a:gridCol w="1440000"/>
                <a:gridCol w="1014120"/>
                <a:gridCol w="4059360"/>
                <a:gridCol w="1106640"/>
              </a:tblGrid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产品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交易方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交易标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</a:tr>
              <a:tr h="73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信用风险缓释合约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CRMA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合约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易双方签署交易合约，信用保护的买方向卖方支付费用，卖方向卖方提供信用保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债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</a:tr>
              <a:tr h="1109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信用风险缓释凭证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CRMW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凭证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由创设机构（信用保护卖方）创设发行，向所有的凭证持有人（信用保护买方）提供基于某项债务的信用保护，该凭证可交易流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债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</a:tr>
              <a:tr h="728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信用违约互换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CDS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合约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易双方签署交易合约，信用保护的买方向卖方支付费用，卖方向买方提供信用保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一个或多个债务实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</a:tr>
              <a:tr h="1109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信用联结票据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CL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凭证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由创设机构创设，向投资人发行，票据与债务实体的信用状况挂钩，投资人相当于信用保护的卖方，为创设机构提供信用保护，票据可交易流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一个或多个债务实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一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国际信贷决策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国际信贷决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财务评估方法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品德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haracte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力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apacit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资本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apit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担保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llater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环境条件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nditi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财务评估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流动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营运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负债与偿债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盈利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贷款定价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本加成定价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基准利率加点修正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客户盈利性分析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收益定价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二节 国际信贷的风险及管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国际信贷风险种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信用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率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汇率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胀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管理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国家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国际信贷风险管理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风险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风险衡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风险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风险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信息反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三节 国际信用衍生产品的发展与风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信用衍生产品的概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redit Derivative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信用衍生产品是一系列从基础资产上剥离、转移信用风险的金融工程技术的总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国际信用衍生品的种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信用违约互换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redit Default Swap-CD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担保债务凭证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llateralized Debt Obligation, CDO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信用联结票据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redit Linked Note-CL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总收益互换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otal Return Swap-TR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合资产的信用衍生品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asket Credit Derivative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：信用期权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信用价差期权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SO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D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指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、国际信用衍生品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散信用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高资本回报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高基础市场流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高金融市场效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08:08:48Z</dcterms:created>
  <dc:creator>Sung Ha, Park</dc:creator>
  <dc:description/>
  <dc:language>en-US</dc:language>
  <cp:lastModifiedBy>lll</cp:lastModifiedBy>
  <dcterms:modified xsi:type="dcterms:W3CDTF">2021-07-29T07:47:19Z</dcterms:modified>
  <cp:revision>17</cp:revision>
  <dc:subject/>
  <dc:title>PowerPoint Template</dc:title>
</cp:coreProperties>
</file>