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E268-7191-4916-A3B2-96A608260CB6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817-74F5-4540-93B8-240CA75A0E25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343400"/>
            <a:ext cx="50580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1FE-E972-4C27-84EC-51A644FE8902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735-FDD8-45BD-B55E-38031AB8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BA7-DA06-4EAB-AD6F-4E8DA920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54C-B88A-4630-8413-6404C6E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113-821C-446C-A321-EBB8B471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8E8E-0DCE-4951-962B-34328FFC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D219-8E4A-4BBE-B5A3-D9F0D59E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C2B-3126-4FAD-8CB2-0B542B83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1A5F-A0A4-4539-8F49-A4A5D960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7964-F3CD-4DD8-A76C-52F55481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8E0-710A-4B51-8848-2860113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CB50-2987-476D-8E1D-ABB9077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79B-0197-4514-9E20-C5B8795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814B-A5C4-424F-90D7-EF1EEF8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DE29-5B69-4F96-9867-5B70176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E2EC-43C1-4C3A-B24D-12758BC0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85A2-90D8-4367-925C-5A56A89A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FC47-D7B8-47C2-B663-15D4CBEE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C33-B671-414A-9E3B-2B38BD3E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BD2-649F-4026-B852-F87C82AD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C47-5927-48C3-8651-1A4C6D0B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408-3D16-4F28-864A-774B7877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D24-CD6C-4D81-9E6D-91F75CA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040-1025-44C1-B84F-F808B75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CAC-B329-4AC2-8BD3-00500AB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68CC-E0FC-496B-A035-749B572A8627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60C0-A51B-40D2-BB25-D6E77FD35F2C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五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国际贸易短期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贸易信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14240" y="370044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854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42840" y="375588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付代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892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2133720" y="4419720"/>
            <a:ext cx="4724280" cy="685800"/>
            <a:chOff x="2133720" y="4419720"/>
            <a:chExt cx="4724280" cy="685800"/>
          </a:xfrm>
        </p:grpSpPr>
        <p:sp>
          <p:nvSpPr>
            <p:cNvPr id="109" name="AutoShape 20"/>
            <p:cNvSpPr/>
            <p:nvPr/>
          </p:nvSpPr>
          <p:spPr>
            <a:xfrm>
              <a:off x="2514600" y="4538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af3df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1"/>
            <p:cNvSpPr/>
            <p:nvPr/>
          </p:nvSpPr>
          <p:spPr>
            <a:xfrm>
              <a:off x="2133720" y="441972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2"/>
            <p:cNvSpPr/>
            <p:nvPr/>
          </p:nvSpPr>
          <p:spPr>
            <a:xfrm>
              <a:off x="274320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四节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国际贸易融资的新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228960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8896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贴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scoun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银行承兑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ankers Accept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无抵押出口订单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the Orders to Export Manufactur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采购及储备货物抵押贷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ans Secured by the Purchasing and Reserving Goods to Exporter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保付代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保付代理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actor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保理商应出口商的申请，在对进口商进行资信调查的基础上，为短期赊销出口商提供信用管理、账务管理、坏账担保以及应收账款融资等综合性的金融服务，又叫保理、保付代收、承购应收帐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保理业务提供的综合性金融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信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债款回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销售账户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收帐款融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帐担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57200" y="4191120"/>
            <a:ext cx="5105520" cy="1047600"/>
            <a:chOff x="457200" y="4191120"/>
            <a:chExt cx="5105520" cy="1047600"/>
          </a:xfrm>
        </p:grpSpPr>
        <p:sp>
          <p:nvSpPr>
            <p:cNvPr id="136" name="Text Box 3"/>
            <p:cNvSpPr/>
            <p:nvPr/>
          </p:nvSpPr>
          <p:spPr>
            <a:xfrm>
              <a:off x="457200" y="4419720"/>
              <a:ext cx="14479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进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3809880" y="4419720"/>
              <a:ext cx="175284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口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 flipH="1">
              <a:off x="1905120" y="4800600"/>
              <a:ext cx="1752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"/>
            <p:cNvSpPr/>
            <p:nvPr/>
          </p:nvSpPr>
          <p:spPr>
            <a:xfrm>
              <a:off x="1981080" y="4191120"/>
              <a:ext cx="1828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赊销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5486400" y="3733920"/>
            <a:ext cx="3505320" cy="1504800"/>
            <a:chOff x="5486400" y="3733920"/>
            <a:chExt cx="3505320" cy="1504800"/>
          </a:xfrm>
        </p:grpSpPr>
        <p:sp>
          <p:nvSpPr>
            <p:cNvPr id="141" name="Text Box 8"/>
            <p:cNvSpPr/>
            <p:nvPr/>
          </p:nvSpPr>
          <p:spPr>
            <a:xfrm>
              <a:off x="7086600" y="4419720"/>
              <a:ext cx="1905120" cy="819000"/>
            </a:xfrm>
            <a:prstGeom prst="rect">
              <a:avLst/>
            </a:prstGeom>
            <a:solidFill>
              <a:srgbClr val="4987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理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5562720" y="45720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486400" y="37339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②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转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关单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5562360" y="4800600"/>
            <a:ext cx="1524240" cy="423000"/>
            <a:chOff x="5562360" y="4800600"/>
            <a:chExt cx="1524240" cy="423000"/>
          </a:xfrm>
        </p:grpSpPr>
        <p:sp>
          <p:nvSpPr>
            <p:cNvPr id="145" name="Line 12"/>
            <p:cNvSpPr/>
            <p:nvPr/>
          </p:nvSpPr>
          <p:spPr>
            <a:xfrm flipH="1">
              <a:off x="5562360" y="4800600"/>
              <a:ext cx="14475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5638680" y="4800600"/>
              <a:ext cx="1447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③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990720" y="5257800"/>
            <a:ext cx="6629400" cy="990720"/>
            <a:chOff x="990720" y="5257800"/>
            <a:chExt cx="6629400" cy="990720"/>
          </a:xfrm>
        </p:grpSpPr>
        <p:sp>
          <p:nvSpPr>
            <p:cNvPr id="148" name="Line 15"/>
            <p:cNvSpPr/>
            <p:nvPr/>
          </p:nvSpPr>
          <p:spPr>
            <a:xfrm>
              <a:off x="9907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990720" y="6248520"/>
              <a:ext cx="6629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7620120" y="5257800"/>
              <a:ext cx="0" cy="990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895480" y="5639040"/>
              <a:ext cx="304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④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期支付货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9"/>
          <p:cNvSpPr/>
          <p:nvPr/>
        </p:nvSpPr>
        <p:spPr>
          <a:xfrm>
            <a:off x="1066680" y="1600200"/>
            <a:ext cx="670572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保理的当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口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理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保理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可以立即得到现金分为到期保理和预支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是否公开保理公司的名称分为公开型保理和隐蔽型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商有否追索权分为有追索权保理和无追索权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保理业务在境内外的不同分为国内保理和国际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服务提供主体分为银行保理和商业保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其他特殊的保理形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561600"/>
            <a:ext cx="59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65040" y="2001960"/>
            <a:ext cx="62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21840" y="2438280"/>
            <a:ext cx="454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出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81896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                理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927200" y="2362320"/>
            <a:ext cx="45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进                 口                    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1371600" y="19810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371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807732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905120" y="2819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990720" y="2362320"/>
            <a:ext cx="9144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45720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772400" y="2362320"/>
            <a:ext cx="762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441972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合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2133720" y="2286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保理协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2096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额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286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票副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209680" y="4419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预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243828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余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19051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 flipH="1">
            <a:off x="190512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1905120" y="5105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 flipH="1">
            <a:off x="1905120" y="59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5334120" y="2819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5334120" y="4267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H="1">
            <a:off x="5333760" y="5943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791320" y="22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791320" y="3657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催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5791320" y="52578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付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14479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1447920" y="67057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 flipV="1">
            <a:off x="8077320" y="6248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40384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、</a:t>
            </a:r>
            <a:r>
              <a:rPr b="1" lang="zh-CN" sz="1800" spc="-1" strike="noStrike">
                <a:solidFill>
                  <a:srgbClr val="364eb6"/>
                </a:solidFill>
                <a:latin typeface="Arial"/>
                <a:ea typeface="宋体"/>
              </a:rPr>
              <a:t>发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3"/>
          <p:cNvSpPr/>
          <p:nvPr/>
        </p:nvSpPr>
        <p:spPr>
          <a:xfrm>
            <a:off x="1248480" y="1219320"/>
            <a:ext cx="1029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保理操作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六、保理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出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进口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保理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七、国际保理组织及公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商联合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CI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《国际保理公约》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保理通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RIF 20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八、保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理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进口商信用风险、国家风险、外汇风险、文件风险、系统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口商的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合同风险、履约风险、保理商风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四节 国际贸易融资的新发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国际贸易融资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低风险结算方式向高风险结算方式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笔业务融资向综合性融资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单一环节向多环节、全过程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传统化、标准化产品向个性化、组合式设计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客户授信向代理行授信延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融科技与贸易融资相结合成为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际贸易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ternational Trade Cred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进出口商品的采购、打包、储运、结算等各个阶段和环节，从各种渠道获得的融资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：自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期限分为国际贸易短期信贷和中长期信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信贷主体分为银行信用和商业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>
              <a:spcBef>
                <a:spcPts val="601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国际贸易融资的新品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供应链融资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pply Chain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整体审查供应链上的企业，基于核心企业，为其相关上下游企业提供量身定制的金融产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池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ool Financ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企业将日常分散、零星的小额应收账款、背书商业汇票、出口退税申报证明等单据集聚起来，转让给银行，后者为企业建立相应的“池”并根据池容量为企业提供一定比例的融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出口信保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xport Credit Insurance Financin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利用出口信用保险的保障，向权利人发放贷款的一种资金融通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种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结构性贸易融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ructured Trade Financ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银行通过对不同的贸易融资工具和风险缓释工具进行搭配组合，最大限度满足进出口双方的融资需求，并相应降低总体的融资风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构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资金结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风险缓释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进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出口商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赊销信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en Account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票据信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ill Credi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银行对进口商提供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开证授信额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mit for Issuing L/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普通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循环使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性开证额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次有效，单笔开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承兑信用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ceptance Credi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无抵押进口营运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nsecured Loans of Operation to Importer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信托收据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ust Receip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进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ward Bil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分为进口信用证押汇和进口代收押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向开证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代收行提出申请与审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签订进口押汇协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开证行（代收行）对外付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凭信托收据向进口商交付单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凭单据提货及销售货物、回笼货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口商归还款项本息，赎回信托收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期限、币种和费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提货担保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ipping Guarante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般应用于货先于单据到达的近洋贸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担保行要向船公司承担因没有提单而提货所导致的一切费用和损失，且担保承担无限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因出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/G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而使开证行遭受的任何损失，申请人负赔偿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出口贸易信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进口商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付款与定金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经纪人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抵押商品采购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货物单据抵押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承兑出口商汇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银行对出口商的信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打包放款 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cking Loa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装船前融资，实质属于无抵押信用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信用证项下打包放款和非信用证项下打包放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强调专款专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期限、币种和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出口押汇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utward Bill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期融资，期限一般不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预扣利息后将余额支付给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押汇是银行保留追索权的垫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分为出口信用证押汇和出口托收押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23:47Z</dcterms:modified>
  <cp:revision>1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