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2BAC-AA6C-4C35-B7EF-7AA01B5EA8A0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45E4-059F-40F5-A26D-7B4A13000BFB}" type="slidenum"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758-E206-44FC-B7E0-70200472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ED0-2CCE-401F-BDB2-B175E965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B55E-0AE6-40F9-8397-F190C630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351-081E-4068-B3FA-04353B60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2E65-D1B3-4F5A-859A-09336D69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7AD2-4D21-40AD-97EC-CA334A35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AFEF-73C0-4EDB-9657-AF15D9A0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400B-64E9-4EAB-8F4B-E5F8823A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5966-71BC-477A-9629-09496B54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8766-41C8-417D-B8AE-E360AB1E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2E50-B7D6-4446-BE63-47134FEE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5F2-C318-40DA-859B-75C0DD23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5BA1-620D-4877-A98C-0A8E3B86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CFFE-CDE7-4334-BB9A-C30D248F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7D7A-0920-4F5A-8C74-06588804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0215-8333-41E8-A2FC-96E4251E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04000"/>
            <a:ext cx="2527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6611-5D18-4A72-AF00-F057348F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D777-8142-4AAD-878E-6D90F9CC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7EC-FE00-4999-87D4-CF31BBA4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1DD-2D18-4BFB-8FE9-4B733A68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9250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306-9068-4F51-AB39-0B4D24BC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B990-537B-4F2B-9084-587822D2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0400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18F-1456-4E77-81AB-BE2F5E5A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8487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776-EE51-4286-A3F8-32CAA078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64eb6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4eb6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364eb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CBCA-E37C-4D3D-A29E-5E3B8EC0D36A}" type="slidenum">
              <a:rPr b="0" sz="1200" spc="-1" strike="noStrike">
                <a:solidFill>
                  <a:srgbClr val="364eb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95"/>
          <p:cNvSpPr/>
          <p:nvPr/>
        </p:nvSpPr>
        <p:spPr>
          <a:xfrm>
            <a:off x="152280" y="152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7620120" y="3049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DB83-1F6F-4532-B4CF-613D011DFE23}" type="slidenum">
              <a:rPr b="0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三章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政府贷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4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520f"/>
                </a:gs>
                <a:gs pos="50000">
                  <a:srgbClr val="f7dacc"/>
                </a:gs>
                <a:gs pos="100000">
                  <a:srgbClr val="d9520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9520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2743200" y="20797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一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政府贷款概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9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d8e6f9"/>
                </a:gs>
                <a:gs pos="100000">
                  <a:srgbClr val="4987e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987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2743200" y="2917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二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世界主要国家的政府贷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3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4"/>
          <p:cNvGrpSpPr/>
          <p:nvPr/>
        </p:nvGrpSpPr>
        <p:grpSpPr>
          <a:xfrm>
            <a:off x="2133720" y="3581280"/>
            <a:ext cx="4876200" cy="685800"/>
            <a:chOff x="2133720" y="3581280"/>
            <a:chExt cx="4876200" cy="685800"/>
          </a:xfrm>
        </p:grpSpPr>
        <p:sp>
          <p:nvSpPr>
            <p:cNvPr id="104" name="AutoShape 15"/>
            <p:cNvSpPr/>
            <p:nvPr/>
          </p:nvSpPr>
          <p:spPr>
            <a:xfrm>
              <a:off x="2520360" y="3700440"/>
              <a:ext cx="441072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4eb6"/>
                </a:gs>
                <a:gs pos="50000">
                  <a:srgbClr val="d4daf0"/>
                </a:gs>
                <a:gs pos="100000">
                  <a:srgbClr val="364eb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6"/>
            <p:cNvSpPr/>
            <p:nvPr/>
          </p:nvSpPr>
          <p:spPr>
            <a:xfrm>
              <a:off x="2133720" y="3581280"/>
              <a:ext cx="696240" cy="685800"/>
            </a:xfrm>
            <a:prstGeom prst="diamond">
              <a:avLst/>
            </a:prstGeom>
            <a:solidFill>
              <a:srgbClr val="364eb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7"/>
            <p:cNvSpPr/>
            <p:nvPr/>
          </p:nvSpPr>
          <p:spPr>
            <a:xfrm>
              <a:off x="2752560" y="3755880"/>
              <a:ext cx="425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第三节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国利用的外国政府贷款与援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8"/>
            <p:cNvSpPr/>
            <p:nvPr/>
          </p:nvSpPr>
          <p:spPr>
            <a:xfrm>
              <a:off x="229464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二节 世界主要国家的政府贷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美国政府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机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国国际开发署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USAI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经济援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技术援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日本政府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机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国际协力机构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IC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技术合作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echnical Cooperatio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官方开发援助贷款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DA Loan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赠款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三节 中国利用的外国政府贷款与援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概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我国利用外国政府贷款始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97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，日本是中国最大的援助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国的对外援助起步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9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利用外国政府贷款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混合性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种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5238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中国对外援助的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华人民共和国国家国际发展合作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成套项目援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物资援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技术合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人力资源开发合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援外医疗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紧急人道主义援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援外志愿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债务减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第一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政府贷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政府贷款的概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vernment Lo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政府贷款是一国政府利用财政资金向另一国政府提供的优惠性贷款，具有双边或多边官方经济开发援助性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按照国际惯例，优惠性贷款必须含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赠予成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赠与成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Grant Element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为贷款的最初票面价值与折现后的债务清偿现值的差额，通常以占贷款面值的百分比来表示，即该差额占贷款面值的百分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2"/>
          <p:cNvGraphicFramePr/>
          <p:nvPr/>
        </p:nvGraphicFramePr>
        <p:xfrm>
          <a:off x="1447920" y="1523880"/>
          <a:ext cx="594360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594360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Box 7"/>
          <p:cNvSpPr/>
          <p:nvPr/>
        </p:nvSpPr>
        <p:spPr>
          <a:xfrm>
            <a:off x="609480" y="3581280"/>
            <a:ext cx="792504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贷款年利率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每年偿付次数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贷款期内的贴现率，一般按综合利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计算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宽限期（自签订贷款协议生效日期至第一次还款日期之间的期间）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偿还期（以年计算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贴现率后改为差别折现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DD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Differentiated Discount Rat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DDR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%-CIRR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4+CI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83960" y="6094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A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最新规定的优惠贷款赠与成分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39560" y="2057400"/>
          <a:ext cx="8253720" cy="3138480"/>
        </p:xfrm>
        <a:graphic>
          <a:graphicData uri="http://schemas.openxmlformats.org/drawingml/2006/table">
            <a:tbl>
              <a:tblPr/>
              <a:tblGrid>
                <a:gridCol w="3141720"/>
                <a:gridCol w="2359080"/>
                <a:gridCol w="2752920"/>
              </a:tblGrid>
              <a:tr h="7603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国家分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采用贴现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要求达到的赠与成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</a:tr>
              <a:tr h="84456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最不发达国家和低收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国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</a:tr>
              <a:tr h="76680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中低收入国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a"/>
                    </a:solidFill>
                  </a:tcPr>
                </a:tc>
              </a:tr>
              <a:tr h="76680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中高收入国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f4"/>
                    </a:solidFill>
                  </a:tcPr>
                </a:tc>
              </a:tr>
            </a:tbl>
          </a:graphicData>
        </a:graphic>
      </p:graphicFrame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政府贷款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良好政治、经济和外交关系为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需要法定的批准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属主权外债，强调偿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优惠性软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规模不大，受制于国家财政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OP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状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使用限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政府贷款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国的政局和外交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贷款国的财政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状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借款国的贷款使用效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四、政府贷款的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借款国选定贷款项目，进行贷款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申请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贷款国的审查与评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贷款国的承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换文谈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贷款协定的协商与签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取贷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督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五、政府贷款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计息与否分为无息贷款和计息贷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支付标的分为现汇贷款、商品贷款和项目贷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贷款特性分为纯政府贷款和政府混合贷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8:08:48Z</dcterms:created>
  <dc:creator>Sung Ha, Park</dc:creator>
  <dc:description/>
  <dc:language>en-US</dc:language>
  <cp:lastModifiedBy>lll</cp:lastModifiedBy>
  <dcterms:modified xsi:type="dcterms:W3CDTF">2021-07-29T07:07:54Z</dcterms:modified>
  <cp:revision>2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