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C5A3-B007-4A65-8DAE-A5CBB7D87BFA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BDD-1390-45DC-B548-7723C4D1745E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0000" y="4343400"/>
            <a:ext cx="50580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16D-14F9-4A9C-825F-0B07D1AA6BAE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B29-07FE-49AB-A939-0C77A08E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4A6-F4DE-43FA-8264-448F2AD1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9DD4-E3EB-4FEA-B6B1-DD9B5D00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942F-A1BA-41A7-8852-83B8A54D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48A-DC6C-40D6-A87D-8EA133FF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FFF5-59E8-4243-AE15-8BF59EA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2053-B63F-4954-9D9F-81190548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C75-090F-48FC-9C5A-8F60FBD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B041-2616-4BAA-8191-2BCEDF54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1BBB-F78F-4D9F-BEB9-46F2864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0339-D4D1-4BC2-A694-6F42B92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3FE-E288-488F-AAD1-FCB58D4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2CA7-D80A-42DC-8112-11731D7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CE8-BFEF-4C4D-B5F3-EE23F1F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6006-39B1-4D97-BB11-BD98E6A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86A-9B0A-4794-A767-8A1BABFE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0719-867A-46DB-A82E-F820BA73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B10-84DD-49FE-A8B3-47C24DEB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5AD-A0DC-4F7B-B9D1-B0AA0BBB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A5A-3381-4B3D-9529-E9DB787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E54-4F3B-4CFD-B28E-F51E22CA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CB1-00E4-43FA-91E5-5ED5A6D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18B-992C-44CE-BC44-EAE950F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DD2-2B42-45CA-BC55-AAD2CAB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415-FFF6-4DF6-BFC7-C29053A1B74B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373-EAD0-4439-8545-67943F985B2C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五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贸易短期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付代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2133720" y="4419720"/>
            <a:ext cx="4724280" cy="685800"/>
            <a:chOff x="2133720" y="4419720"/>
            <a:chExt cx="4724280" cy="685800"/>
          </a:xfrm>
        </p:grpSpPr>
        <p:sp>
          <p:nvSpPr>
            <p:cNvPr id="109" name="AutoShape 20"/>
            <p:cNvSpPr/>
            <p:nvPr/>
          </p:nvSpPr>
          <p:spPr>
            <a:xfrm>
              <a:off x="2514600" y="4538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af3df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2133720" y="441972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274320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四节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贸易融资的新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289600" y="45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896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贴现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scoun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银行承兑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nkers Accept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无抵押出口订单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the Orders to Export Manufactur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采购及储备货物抵押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ans Secured by the Purchasing and Reserving Goods to Export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保付代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保付代理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actor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保理商应出口商的申请，在对进口商进行资信调查的基础上，为短期赊销出口商提供信用管理、账务管理、坏账担保以及应收账款融资等综合性的金融服务，又叫保理、保付代收、承购应收帐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保理业务提供的综合性金融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信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债款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销售账户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收帐款融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帐担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57200" y="4191120"/>
            <a:ext cx="5105520" cy="1047600"/>
            <a:chOff x="457200" y="4191120"/>
            <a:chExt cx="5105520" cy="1047600"/>
          </a:xfrm>
        </p:grpSpPr>
        <p:sp>
          <p:nvSpPr>
            <p:cNvPr id="136" name="Text Box 3"/>
            <p:cNvSpPr/>
            <p:nvPr/>
          </p:nvSpPr>
          <p:spPr>
            <a:xfrm>
              <a:off x="457200" y="4419720"/>
              <a:ext cx="14479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3809880" y="4419720"/>
              <a:ext cx="175284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H="1">
              <a:off x="1905120" y="4800600"/>
              <a:ext cx="1752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1981080" y="4191120"/>
              <a:ext cx="1828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赊销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5486400" y="3733920"/>
            <a:ext cx="3505320" cy="1504800"/>
            <a:chOff x="5486400" y="3733920"/>
            <a:chExt cx="3505320" cy="1504800"/>
          </a:xfrm>
        </p:grpSpPr>
        <p:sp>
          <p:nvSpPr>
            <p:cNvPr id="141" name="Text Box 8"/>
            <p:cNvSpPr/>
            <p:nvPr/>
          </p:nvSpPr>
          <p:spPr>
            <a:xfrm>
              <a:off x="7086600" y="4419720"/>
              <a:ext cx="19051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理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5562720" y="45720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486400" y="3733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②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转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关单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5562360" y="4800600"/>
            <a:ext cx="1524240" cy="423000"/>
            <a:chOff x="5562360" y="4800600"/>
            <a:chExt cx="1524240" cy="423000"/>
          </a:xfrm>
        </p:grpSpPr>
        <p:sp>
          <p:nvSpPr>
            <p:cNvPr id="145" name="Line 12"/>
            <p:cNvSpPr/>
            <p:nvPr/>
          </p:nvSpPr>
          <p:spPr>
            <a:xfrm flipH="1">
              <a:off x="5562360" y="48006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638680" y="4800600"/>
              <a:ext cx="144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③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990720" y="5257800"/>
            <a:ext cx="6629400" cy="990720"/>
            <a:chOff x="990720" y="5257800"/>
            <a:chExt cx="6629400" cy="990720"/>
          </a:xfrm>
        </p:grpSpPr>
        <p:sp>
          <p:nvSpPr>
            <p:cNvPr id="148" name="Line 15"/>
            <p:cNvSpPr/>
            <p:nvPr/>
          </p:nvSpPr>
          <p:spPr>
            <a:xfrm>
              <a:off x="9907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990720" y="6248520"/>
              <a:ext cx="6629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76201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895480" y="5639040"/>
              <a:ext cx="304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④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期支付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9"/>
          <p:cNvSpPr/>
          <p:nvPr/>
        </p:nvSpPr>
        <p:spPr>
          <a:xfrm>
            <a:off x="1066680" y="1600200"/>
            <a:ext cx="6705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保理的当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理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保理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可以立即得到现金分为到期保理和预支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公开保理公司的名称分为公开型保理和隐蔽型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商有否追索权分为有追索权保理和无追索权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业务在境内外的不同分为国内保理和国际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服务提供主体分为银行保理和商业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其他特殊的保理形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561600"/>
            <a:ext cx="59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65040" y="2001960"/>
            <a:ext cx="62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21840" y="2438280"/>
            <a:ext cx="454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出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81896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                理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92720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进 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1371600" y="19810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371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80773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90512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990720" y="2362320"/>
            <a:ext cx="914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45720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7724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41972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13372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理协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2096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额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286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票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209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预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3828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余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9051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H="1">
            <a:off x="190512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905120" y="5105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 flipH="1">
            <a:off x="1905120" y="59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5334120" y="2819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5334120" y="4267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H="1">
            <a:off x="5333760" y="5943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79132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791320" y="3657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催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57913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14479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1447920" y="67057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 flipV="1">
            <a:off x="80773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40384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3"/>
          <p:cNvSpPr/>
          <p:nvPr/>
        </p:nvSpPr>
        <p:spPr>
          <a:xfrm>
            <a:off x="1248480" y="1219320"/>
            <a:ext cx="1029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保理操作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六、保理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出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进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保理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七、国际保理组织及公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商联合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C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《国际保理公约》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通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RIF 20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八、保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理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进口商信用风险、国家风险、外汇风险、文件风险、系统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口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合同风险、履约风险、保理商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四节 国际贸易融资的新发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贸易融资的发展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低风险结算方式向高风险结算方式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笔业务融资向综合性融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一环节向多环节、全过程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传统化、标准化产品向个性化、组合式设计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客户授信向代理行授信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金融科技与贸易融资相结合成为亮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际贸易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ternational Trade Cred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进出口商品的采购、打包、储运、结算等各个阶段和环节，从各种渠道获得的融资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：自偿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期限分为国际贸易短期信贷和中长期信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主体分为银行信用和商业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贸易融资的新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供应链融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pply Chain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整体审查供应链上的企业，基于核心企业，为其相关上下游企业提供量身定制的金融产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池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ool Financ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企业将日常分散、零星的小额应收账款、背书商业汇票、出口退税申报证明等单据集聚起来，转让给银行，后者为企业建立相应的“池”并根据池容量为企业提供一定比例的融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出口信保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xport Credit Insurance Financ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利用出口信用保险的保障，向权利人发放贷款的一种资金融通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结构性贸易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uctured Trade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对不同的贸易融资工具和风险缓释工具进行搭配组合，最大限度满足进出口双方的融资需求，并相应降低总体的融资风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构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金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缓释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进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出口商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赊销信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en Account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ill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银行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开证授信额度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mit for Issuing L/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普通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循环使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性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有效，单笔开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承兑信用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ceptance Cred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无抵押进口营运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Operation to Import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信托收据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ust Rece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进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ward Bil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分为进口信用证押汇和进口代收押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向开证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代收行提出申请与审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签订进口押汇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证行（代收行）对外付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凭信托收据向进口商交付单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凭单据提货及销售货物、回笼货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归还款项本息，赎回信托收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期限、币种和费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提货担保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ipping Guarante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般应用于货先于单据到达的近洋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担保行要向船公司承担因没有提单而提货所导致的一切费用和损失，且担保承担无限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因出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而使开证行遭受的任何损失，申请人负赔偿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出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进口商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付款与定金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经纪人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抵押商品采购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货物单据抵押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承兑出口商汇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银行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打包放款 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cking Loa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装船前融资，实质属于无抵押信用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信用证项下打包放款和非信用证项下打包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强调专款专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期限、币种和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utward Bill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期融资，期限一般不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预扣利息后将余额支付给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保留追索权的垫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出口信用证押汇和出口托收押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23:47Z</dcterms:modified>
  <cp:revision>1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