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187-343B-45E0-8399-A7E2DA4702A7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FDF-F72A-453C-9754-6B5D139AE3D4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CA1-DF33-4A12-9B79-6253A063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04D-33AC-416F-BFB5-99E9AB9D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5EB-D82F-443D-B32F-98FED54A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226-CD92-47AA-A89E-61DA2255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0217-8E14-4FD6-BB67-7165A6A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418D-248E-4040-88CA-E4ED6DD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E21B-A83E-4EA6-8E25-7E63491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C2B-C86D-4765-964A-039641B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51E3-0E4C-4941-BDF0-1570031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A81-526B-4260-89F8-AFC55D90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7C6-7D20-4A4F-9EFC-615689C4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8CE-FC70-4749-B4B1-58E69C6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CC65-88F1-4DC3-9C52-CBAB354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914B-4A28-43AD-B20F-B5BE4404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260-CFEC-4636-9B00-A12FB6D7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0698-F920-4778-B52A-A1BC5D12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EAB9-727D-453A-B57C-9F39BAE6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8D-5FDF-4FA3-AE48-0A3F95D1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755-570E-4405-8A2A-CD82DCBD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9F7-F759-4126-BFE4-5C79F69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F63-239F-484B-A195-886CADC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BCE-CBA9-4CBC-BEF0-DC9E444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FD5-F78F-4AFF-B46F-ED9F963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558-24E5-4969-863C-6AB2D9BB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F90-6431-4908-8CD6-3878A42184D5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9674-EA10-4249-BD2C-B8B5695BACD7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政府贷款概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世界主要国家的政府贷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20360" y="3700440"/>
              <a:ext cx="44107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962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52560" y="3755880"/>
              <a:ext cx="42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利用的外国政府贷款与援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946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世界主要国家的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美国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国国际开发署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USAI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经济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日本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国际协力机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C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合作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chnical Coopera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官方开发援助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DA Loan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赠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中国利用的外国政府贷款与援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国利用外国政府贷款始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日本是中国最大的援助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的对外援助起步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利用外国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混合性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种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中国对外援助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华人民共和国国家国际发展合作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成套项目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物资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技术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力资源开发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医疗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紧急人道主义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志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债务减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政府贷款的概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vernment Lo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政府贷款是一国政府利用财政资金向另一国政府提供的优惠性贷款，具有双边或多边官方经济开发援助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照国际惯例，优惠性贷款必须含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赠予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赠与成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Grant Element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为贷款的最初票面价值与折现后的债务清偿现值的差额，通常以占贷款面值的百分比来表示，即该差额占贷款面值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1447920" y="1523880"/>
          <a:ext cx="59436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9436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7"/>
          <p:cNvSpPr/>
          <p:nvPr/>
        </p:nvSpPr>
        <p:spPr>
          <a:xfrm>
            <a:off x="609480" y="3581280"/>
            <a:ext cx="79250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年利率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每年偿付次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期内的贴现率，一般按综合利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计算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宽限期（自签订贷款协议生效日期至第一次还款日期之间的期间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偿还期（以年计算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贴现率后改为差别折现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ifferentiated Discount R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%-CIR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4+CI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3960" y="609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新规定的优惠贷款赠与成分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9560" y="2057400"/>
          <a:ext cx="8253720" cy="3138480"/>
        </p:xfrm>
        <a:graphic>
          <a:graphicData uri="http://schemas.openxmlformats.org/drawingml/2006/table">
            <a:tbl>
              <a:tblPr/>
              <a:tblGrid>
                <a:gridCol w="3141720"/>
                <a:gridCol w="2359080"/>
                <a:gridCol w="2752920"/>
              </a:tblGrid>
              <a:tr h="7603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采用贴现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要求达到的赠与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8445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最不发达国家和低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低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高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政府贷款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良好政治、经济和外交关系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法定的批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属主权外债，强调偿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优惠性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规模不大，受制于国家财政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使用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政府贷款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国的政局和外交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财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的贷款使用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政府贷款的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选定贷款项目，进行贷款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申请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审查与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换文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协定的协商与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取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计息与否分为无息贷款和计息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支付标的分为现汇贷款、商品贷款和项目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贷款特性分为纯政府贷款和政府混合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07:54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