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6CC-880D-47E5-A716-AEAF24D9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06D-4E50-4706-AB4E-A10888F9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F53-B6A9-4648-8C92-2EC7C82E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FD3-3469-4E92-8B54-DD3044D2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6BF0-F37C-419E-8429-5AF0B0E9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78F3-412B-4132-9271-0F172528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4D88-26ED-4C6F-AC30-49F52B85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D38B-E640-4278-91AB-E0D64421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23BD-EA24-46E6-B331-3A2C6052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297D-1524-42E7-A0FD-DB666762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68F6-E6A1-4563-A44D-54D031DE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24E-2FD0-41F6-8D06-B44C43E9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2259-3ACC-4050-B48F-8B06D322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B0E6-DE11-4BB7-B665-0BAB29FF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5B40-96A7-4944-ADAE-E1758478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9909-43C9-439B-BB17-2F1CF042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6F7A-60FE-4FB3-8F17-2E17FDE7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86B-32F2-4CAD-A429-763E55F4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9A2-61A2-4AD9-A3D8-97945AEE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3FE-CF18-4834-B7E6-8DDB9E9C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ED7-EB2D-4D85-B5CF-07327ED1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19A-70F1-40C7-9FAF-BB655FCB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F8D-F628-425F-8F77-B0917044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4BD-E660-4589-90C8-A71A4284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64eb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4eb6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64eb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56FD-74D0-490A-B517-D0279E957477}" type="slidenum">
              <a:rPr b="0" lang="en-US" sz="1200" spc="-1" strike="noStrike">
                <a:solidFill>
                  <a:srgbClr val="364eb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95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BBBA-02F2-438F-8CFD-6AAD7418E9C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95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十章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国际信贷决策与风险管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26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7dacc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"/>
            <p:cNvSpPr/>
            <p:nvPr/>
          </p:nvSpPr>
          <p:spPr>
            <a:xfrm>
              <a:off x="2743200" y="20797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一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际信贷决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31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8e6f9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2"/>
            <p:cNvSpPr/>
            <p:nvPr/>
          </p:nvSpPr>
          <p:spPr>
            <a:xfrm>
              <a:off x="2743200" y="2917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二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际信贷的风险及管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4"/>
          <p:cNvGrpSpPr/>
          <p:nvPr/>
        </p:nvGrpSpPr>
        <p:grpSpPr>
          <a:xfrm>
            <a:off x="2133720" y="3581280"/>
            <a:ext cx="4876200" cy="685800"/>
            <a:chOff x="2133720" y="3581280"/>
            <a:chExt cx="4876200" cy="685800"/>
          </a:xfrm>
        </p:grpSpPr>
        <p:sp>
          <p:nvSpPr>
            <p:cNvPr id="136" name="AutoShape 15"/>
            <p:cNvSpPr/>
            <p:nvPr/>
          </p:nvSpPr>
          <p:spPr>
            <a:xfrm>
              <a:off x="2514240" y="3700440"/>
              <a:ext cx="43430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4daf0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6"/>
            <p:cNvSpPr/>
            <p:nvPr/>
          </p:nvSpPr>
          <p:spPr>
            <a:xfrm>
              <a:off x="2133720" y="3581280"/>
              <a:ext cx="68544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2742840" y="375588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三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际信用衍生产品的发展与风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8"/>
            <p:cNvSpPr/>
            <p:nvPr/>
          </p:nvSpPr>
          <p:spPr>
            <a:xfrm>
              <a:off x="228924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四、国际信用衍生品的风险与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信用衍生产品带来新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信用衍生产品交易中存在信息不对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信用衍生产品的监管比较困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67616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五、中国信用衍生品市场发展现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2286000"/>
          <a:ext cx="7620120" cy="4027320"/>
        </p:xfrm>
        <a:graphic>
          <a:graphicData uri="http://schemas.openxmlformats.org/drawingml/2006/table">
            <a:tbl>
              <a:tblPr/>
              <a:tblGrid>
                <a:gridCol w="1440000"/>
                <a:gridCol w="1014120"/>
                <a:gridCol w="4059360"/>
                <a:gridCol w="1106640"/>
              </a:tblGrid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产品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交易方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交易标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</a:tr>
              <a:tr h="73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信用风险缓释合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CRMA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合约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易双方签署交易合约，信用保护的买方向卖方支付费用，卖方向卖方提供信用保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债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</a:tr>
              <a:tr h="110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信用风险缓释凭证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CRMW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凭证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由创设机构（信用保护卖方）创设发行，向所有的凭证持有人（信用保护买方）提供基于某项债务的信用保护，该凭证可交易流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债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</a:tr>
              <a:tr h="728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信用违约互换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CDS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合约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易双方签署交易合约，信用保护的买方向卖方支付费用，卖方向买方提供信用保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一个或多个债务实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</a:tr>
              <a:tr h="110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信用联结票据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CL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凭证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由创设机构创设，向投资人发行，票据与债务实体的信用状况挂钩，投资人相当于信用保护的卖方，为创设机构提供信用保护，票据可交易流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一个或多个债务实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一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国际信贷决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国际信贷决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财务评估方法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品德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haract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力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apacit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资本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apit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担保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llater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条件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diti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财务评估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流动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营运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负债与偿债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盈利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贷款定价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本加成定价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基准利率加点修正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客户盈利性分析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收益定价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二节 国际信贷的风险及管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国际信贷风险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信用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率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汇率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胀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管理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国家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国际信贷风险管理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衡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信息反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三节 国际信用衍生产品的发展与风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信用衍生产品的概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redit Derivative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信用衍生产品是一系列从基础资产上剥离、转移信用风险的金融工程技术的总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国际信用衍生品的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信用违约互换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redit Default Swap-CD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担保债务凭证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lateralized Debt Obligation, CDO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信用联结票据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redit Linked Note-CL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总收益互换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otal Return Swap-TR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合资产的信用衍生品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asket Credit Derivative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：信用期权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信用价差期权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SO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D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国际信用衍生品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散信用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高资本回报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高基础市场流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高金融市场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Sung Ha, Park</dc:creator>
  <dc:description/>
  <dc:language>en-US</dc:language>
  <cp:lastModifiedBy>lll</cp:lastModifiedBy>
  <dcterms:modified xsi:type="dcterms:W3CDTF">2021-07-29T07:47:19Z</dcterms:modified>
  <cp:revision>17</cp:revision>
  <dc:subject/>
  <dc:title>PowerPoint Template</dc:title>
</cp:coreProperties>
</file>