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A4081-B286-4D74-A34D-99C83DDE3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25F49-CAC2-473A-9C29-32997EEF3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7B27-7633-43E4-A2A3-8E833762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5D29-18FC-4AC9-BA9C-C1DC341D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D698-21B9-4C87-B69C-D6BC4C70C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FCC3-0D5B-4F57-A644-D8CB4533D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6EDE-AFB7-44DC-8416-DFEB32587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31B3-774E-48BB-97DF-38317379A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C6B0-C196-457B-A84B-17CD9422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58E7B-5182-40CF-880F-FC636EC9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76DC2-46F0-4771-B496-9E3E04146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E51F8-EB14-45D9-8892-6E20B94FA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3E03-80D9-4DEB-A633-599384BA62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 descr=""/>
          <p:cNvPicPr/>
          <p:nvPr/>
        </p:nvPicPr>
        <p:blipFill>
          <a:blip r:embed="rId1"/>
          <a:stretch/>
        </p:blipFill>
        <p:spPr>
          <a:xfrm>
            <a:off x="776160" y="981000"/>
            <a:ext cx="759168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从投资者的投资效果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靠投资技巧获得收益的比重不大。个人投资者过度偏重于题材炒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金规模所限，难以实现合理的投资组合，应对非系统性风险的能力比较弱，偏重收益性而忽视分散风险的功能，忽略安全投资的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从投资者的交易行为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由于比较缺乏专业的证券投资知识和技能，投资交易比较依赖于各类证券投资咨询机构提供的咨询和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健全个人证券投资机制，</a:t>
            </a:r>
            <a:br>
              <a:rPr sz="4400"/>
            </a:br>
            <a:r>
              <a:rPr b="0" lang="zh-CN" sz="4400" spc="-1" strike="noStrike">
                <a:solidFill>
                  <a:srgbClr val="000000"/>
                </a:solidFill>
                <a:latin typeface="Arial"/>
              </a:rPr>
              <a:t>促进个人证券投资的发展</a:t>
            </a:r>
            <a:br>
              <a:rPr sz="4400"/>
            </a:br>
            <a:endParaRPr b="0" lang="en-US" sz="4400" spc="-1" strike="noStrike">
              <a:solidFill>
                <a:srgbClr val="000000"/>
              </a:solidFill>
              <a:latin typeface="Arial"/>
            </a:endParaRPr>
          </a:p>
        </p:txBody>
      </p:sp>
      <p:sp>
        <p:nvSpPr>
          <p:cNvPr id="102" name=""/>
          <p:cNvSpPr txBox="1"/>
          <p:nvPr/>
        </p:nvSpPr>
        <p:spPr>
          <a:xfrm>
            <a:off x="457200" y="242100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进一步完善社会保障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进一步扩大证券市场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进一步创新证券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a:t>
            </a:r>
            <a:r>
              <a:rPr b="0" lang="en-US" sz="4400" spc="-1" strike="noStrike">
                <a:solidFill>
                  <a:srgbClr val="000000"/>
                </a:solidFill>
                <a:latin typeface="Arial"/>
              </a:rPr>
              <a:t>  </a:t>
            </a:r>
            <a:r>
              <a:rPr b="0" lang="zh-CN" sz="4400" spc="-1" strike="noStrike">
                <a:solidFill>
                  <a:srgbClr val="000000"/>
                </a:solidFill>
                <a:latin typeface="Arial"/>
              </a:rPr>
              <a:t>机构投资者</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一般是指用自有资金或者从特定或者非特定投资人手中筹集资金进行有价证券投资活动的经合法注册登记或经有关政府部门批准设立的企业法人、事业法人、社会团体及其它组织或者集合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特征</a:t>
            </a: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投资的资金量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集和分析信息的能力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进行有效的资产组合，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证券投资注重资产的安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其投资活动对市场影响较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主要类型</a:t>
            </a:r>
            <a:endParaRPr b="0" lang="en-US" sz="4400" spc="-1" strike="noStrike">
              <a:solidFill>
                <a:srgbClr val="000000"/>
              </a:solidFill>
              <a:latin typeface="Arial"/>
            </a:endParaRPr>
          </a:p>
        </p:txBody>
      </p:sp>
      <p:sp>
        <p:nvSpPr>
          <p:cNvPr id="108" name=""/>
          <p:cNvSpPr txBox="1"/>
          <p:nvPr/>
        </p:nvSpPr>
        <p:spPr>
          <a:xfrm>
            <a:off x="457200" y="1413000"/>
            <a:ext cx="8229600" cy="4970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公司类机构投资者</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作为机构投资者，证券公司至少获得证券自营许可，此外证券公司作为机构投资者，还体现在证券资产管理等业务上。</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图片 3" descr=""/>
          <p:cNvPicPr/>
          <p:nvPr/>
        </p:nvPicPr>
        <p:blipFill>
          <a:blip r:embed="rId1"/>
          <a:stretch/>
        </p:blipFill>
        <p:spPr>
          <a:xfrm>
            <a:off x="819000" y="3357720"/>
            <a:ext cx="75060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类机构投资者</a:t>
            </a:r>
            <a:br>
              <a:rPr sz="4400"/>
            </a:br>
            <a:endParaRPr b="0" lang="en-US" sz="4400" spc="-1" strike="noStrike">
              <a:solidFill>
                <a:srgbClr val="000000"/>
              </a:solidFill>
              <a:latin typeface="Arial"/>
            </a:endParaRPr>
          </a:p>
        </p:txBody>
      </p:sp>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类机构投资者包括证券投资基金和证券投资基金管理公司的专户理财产品。证券投资基金类机构投资者是目前市场最主要的机构投资者，分为公开募集和非公开募集两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0" y="907560"/>
            <a:ext cx="91440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管理公司的专户理财产品是证券投资基金管理公司向特定客户募集资金或者接受特定客户财产委托担任资产管理人，由托管机构担任资产托管人，为资产委托人的利益，运用委托财产进行投资的活动形成的产品，专户理财产品的投资活动可以投资于股票、债券、证券投资基金、资产支持证券、金融衍生品等投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户理财产品可以设定为单一客户办理特定资产管理业务，也可以设定为特定的多个客户办理特定资产管理业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保险保障类机构投资者</a:t>
            </a:r>
            <a:br>
              <a:rPr sz="4400"/>
            </a:br>
            <a:endParaRPr b="0" lang="en-US" sz="4400" spc="-1" strike="noStrike">
              <a:solidFill>
                <a:srgbClr val="000000"/>
              </a:solidFill>
              <a:latin typeface="Arial"/>
            </a:endParaRPr>
          </a:p>
        </p:txBody>
      </p:sp>
      <p:sp>
        <p:nvSpPr>
          <p:cNvPr id="114"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保险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公司除了提供保险保障以外，还具有提供投资工具和进行投资管理的融资功能，既向客户出售长期投资工具——各种半投资型或纯投资型保单，又将出售保单获得的资金主要用于购买证券市场的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实践中，保险类机构投资者已经有不少以保险资产管理公司的名义开展投资运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章 证券投资主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主体是指通过证券市场而进行证券投资的各类投资者，包括自然人投资者和机构法人投资者，他们既是证券市场的资金供给者，也是证券市场的证券购买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然人投资者是指个人或者家庭投资者，简称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又分为专业机构投资者和一般机构投资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险公司的业务特点</a:t>
            </a:r>
            <a:br>
              <a:rPr sz="4400"/>
            </a:br>
            <a:endParaRPr b="0" lang="en-US" sz="4400" spc="-1" strike="noStrike">
              <a:solidFill>
                <a:srgbClr val="000000"/>
              </a:solidFill>
              <a:latin typeface="Arial"/>
            </a:endParaRPr>
          </a:p>
        </p:txBody>
      </p:sp>
      <p:sp>
        <p:nvSpPr>
          <p:cNvPr id="116" name=""/>
          <p:cNvSpPr txBox="1"/>
          <p:nvPr/>
        </p:nvSpPr>
        <p:spPr>
          <a:xfrm>
            <a:off x="108000" y="1599840"/>
            <a:ext cx="8826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保险公司的主要收入来源是保险费收入、投资收入、在有的国家或者地区，保险公司还有房地产抵押贷款本金回收和利息收入，主要支出是保险公司的经营费用、保险赔偿或者给付金、以及安排各项保险责任准备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保险公司尤其是人寿保险公司来自保险费的收入往往可以长期运用、寿险的综合平均负债期限通常在</a:t>
            </a:r>
            <a:r>
              <a:rPr b="0" lang="en-US" sz="3200" spc="-1" strike="noStrike">
                <a:solidFill>
                  <a:srgbClr val="000000"/>
                </a:solidFill>
                <a:latin typeface="Arial"/>
              </a:rPr>
              <a:t>10</a:t>
            </a:r>
            <a:r>
              <a:rPr b="0" lang="zh-CN" sz="3200" spc="-1" strike="noStrike">
                <a:solidFill>
                  <a:srgbClr val="000000"/>
                </a:solidFill>
                <a:latin typeface="Arial"/>
              </a:rPr>
              <a:t>年以上，出于资产负债管理要求，保险资金运用必须更加注重投资的长期性和稳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保险公司的具体投资方式</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保险公司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各保险公司通过拆借市场或将资产委托给其他投资主体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通过设立证券投资保险基金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方式各有所长，保险资金的入市方式应考虑到安全性、流动性、收益性以及对保险公司的影响等多方面的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4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二）社保基金</a:t>
            </a:r>
            <a:br>
              <a:rPr sz="2800"/>
            </a:br>
            <a:endParaRPr b="0" lang="en-US" sz="2800" spc="-1" strike="noStrike">
              <a:solidFill>
                <a:srgbClr val="000000"/>
              </a:solidFill>
              <a:latin typeface="Arial"/>
            </a:endParaRPr>
          </a:p>
        </p:txBody>
      </p:sp>
      <p:sp>
        <p:nvSpPr>
          <p:cNvPr id="120" name=""/>
          <p:cNvSpPr txBox="1"/>
          <p:nvPr/>
        </p:nvSpPr>
        <p:spPr>
          <a:xfrm>
            <a:off x="0" y="1267920"/>
            <a:ext cx="9144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社保基金的构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社保基金、做实个人账户中央补助资金、部分企业职工基本养老保险资金、基本养老保险基金、划转的部分国有资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社保基金投资运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社保基金投资运作，目前主要涉及全国社保基金，以下介绍以全国社保基金为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社保基金投资理念与方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理念有长期投资理念、价值投资理念和责任投资理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方针是审慎投资，安全至上，控制风险，提高收益。</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社保基金投资方式</a:t>
            </a:r>
            <a:br>
              <a:rPr sz="4400"/>
            </a:br>
            <a:endParaRPr b="0" lang="en-US" sz="4400" spc="-1" strike="noStrike">
              <a:solidFill>
                <a:srgbClr val="000000"/>
              </a:solidFill>
              <a:latin typeface="Arial"/>
            </a:endParaRPr>
          </a:p>
        </p:txBody>
      </p:sp>
      <p:sp>
        <p:nvSpPr>
          <p:cNvPr id="122" name=""/>
          <p:cNvSpPr txBox="1"/>
          <p:nvPr/>
        </p:nvSpPr>
        <p:spPr>
          <a:xfrm>
            <a:off x="457200" y="1599840"/>
            <a:ext cx="8362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保基金投资采取直接运作与社保基金会委托投资管理人运作相结合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投资即是投资者运用内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即是投资者运用外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管理人管理和运作的基金资产由社保基金选择的托管人托管，通过战略和战术性资产配置对资产结构实行比例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企业年金和职业年金</a:t>
            </a:r>
            <a:br>
              <a:rPr sz="4400"/>
            </a:br>
            <a:endParaRPr b="0" lang="en-US" sz="4400" spc="-1" strike="noStrike">
              <a:solidFill>
                <a:srgbClr val="000000"/>
              </a:solidFill>
              <a:latin typeface="Arial"/>
            </a:endParaRPr>
          </a:p>
        </p:txBody>
      </p:sp>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企业年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是指企业及其职工在依法参加基本养老保险的基础上，自愿建立的补充养老保险制度。它是指在政府强制实施的社保基金制度之外，企业在国家政策的指导下，根据自身经济实力和经济状况自愿建立的，为本企业职工提供一定程度退休收入保障的补充性养老金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企业年金的构成</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基金由下列各项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企业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职工个人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企业年金基金投资运营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企业年金的运作</a:t>
            </a:r>
            <a:br>
              <a:rPr sz="4400"/>
            </a:br>
            <a:endParaRPr b="0" lang="en-US" sz="4400" spc="-1" strike="noStrike">
              <a:solidFill>
                <a:srgbClr val="000000"/>
              </a:solidFill>
              <a:latin typeface="Arial"/>
            </a:endParaRPr>
          </a:p>
        </p:txBody>
      </p:sp>
      <p:sp>
        <p:nvSpPr>
          <p:cNvPr id="12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投资管理应当遵循谨慎、分散风险的原则，充分考虑企业年金财产的安全性、收益性和流动性，实行专业化管理。企业年金的运作限于境内投资，就证券投资而言，投资范围包括国债、债券回购、证券投资基金、股票，以及信用等级在投资级以上的金融债、企业（公司）债、可转换债（含分离交易可转换债）等金融产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职业年金</a:t>
            </a:r>
            <a:br>
              <a:rPr sz="4400"/>
            </a:br>
            <a:endParaRPr b="0" lang="en-US" sz="4400" spc="-1" strike="noStrike">
              <a:solidFill>
                <a:srgbClr val="000000"/>
              </a:solidFill>
              <a:latin typeface="Arial"/>
            </a:endParaRPr>
          </a:p>
        </p:txBody>
      </p:sp>
      <p:sp>
        <p:nvSpPr>
          <p:cNvPr id="13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业年金在我国是指机关事业单位及其工作人员在参加机关事业单位基本养老保险的基础上，建立的补充养老保险制度。职业年金所需费用由单位和工作人员个人共同承担。对非财政全额供款的单位，单位缴费实行实账积累。实账积累形成的职业年金基金，实行市场化投资运营，按实际收益计息。职业年金基金将委托具有资格的投资运营机构作为投资管理人，负责职业年金基金的投资运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信托类机构投资者</a:t>
            </a:r>
            <a:br>
              <a:rPr sz="4400"/>
            </a:br>
            <a:endParaRPr b="0" lang="en-US" sz="4400" spc="-1" strike="noStrike">
              <a:solidFill>
                <a:srgbClr val="000000"/>
              </a:solidFill>
              <a:latin typeface="Arial"/>
            </a:endParaRPr>
          </a:p>
        </p:txBody>
      </p:sp>
      <p:sp>
        <p:nvSpPr>
          <p:cNvPr id="132" name=""/>
          <p:cNvSpPr txBox="1"/>
          <p:nvPr/>
        </p:nvSpPr>
        <p:spPr>
          <a:xfrm>
            <a:off x="0" y="1600200"/>
            <a:ext cx="91440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托公司是依法设立主要经营信托业务的金融机构。信托业务是指信托公司以营业和收取报酬为目的，以受托人身份承诺信托和处理信托事务的经营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信托业务，是指信托公司作为机构投资者将集合信托计划或者单独管理的信托产品项下资金投资于依法公开发行并在符合法律规定的交易场所公开交易的证券的经营行为。证券投资是信托公司展业的主要领域之一，也是信托未来拓展的重要方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a:t>
            </a:r>
            <a:r>
              <a:rPr b="0" lang="en-US" sz="4400" spc="-1" strike="noStrike">
                <a:solidFill>
                  <a:srgbClr val="000000"/>
                </a:solidFill>
                <a:latin typeface="Arial"/>
              </a:rPr>
              <a:t>QFII</a:t>
            </a:r>
            <a:r>
              <a:rPr b="0" lang="zh-CN" sz="4400" spc="-1" strike="noStrike">
                <a:solidFill>
                  <a:srgbClr val="000000"/>
                </a:solidFill>
                <a:latin typeface="Arial"/>
              </a:rPr>
              <a:t>类机构投资者</a:t>
            </a:r>
            <a:br>
              <a:rPr sz="4400"/>
            </a:br>
            <a:endParaRPr b="0" lang="en-US" sz="4400" spc="-1" strike="noStrike">
              <a:solidFill>
                <a:srgbClr val="000000"/>
              </a:solidFill>
              <a:latin typeface="Arial"/>
            </a:endParaRPr>
          </a:p>
        </p:txBody>
      </p:sp>
      <p:sp>
        <p:nvSpPr>
          <p:cNvPr id="134" name=""/>
          <p:cNvSpPr txBox="1"/>
          <p:nvPr/>
        </p:nvSpPr>
        <p:spPr>
          <a:xfrm>
            <a:off x="179280" y="1419120"/>
            <a:ext cx="878544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QFII</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FII</a:t>
            </a:r>
            <a:r>
              <a:rPr b="0" lang="zh-CN" sz="2800" spc="-1" strike="noStrike">
                <a:solidFill>
                  <a:srgbClr val="000000"/>
                </a:solidFill>
                <a:latin typeface="Arial"/>
              </a:rPr>
              <a:t>是合格的境外机构投资者的英文</a:t>
            </a:r>
            <a:r>
              <a:rPr b="0" lang="en-US" sz="2800" spc="-1" strike="noStrike">
                <a:solidFill>
                  <a:srgbClr val="000000"/>
                </a:solidFill>
                <a:latin typeface="Arial"/>
              </a:rPr>
              <a:t>Qualified Foreign Institutional Investors</a:t>
            </a:r>
            <a:r>
              <a:rPr b="0" lang="zh-CN" sz="2800" spc="-1" strike="noStrike">
                <a:solidFill>
                  <a:srgbClr val="000000"/>
                </a:solidFill>
                <a:latin typeface="Arial"/>
              </a:rPr>
              <a:t>的简称，</a:t>
            </a:r>
            <a:r>
              <a:rPr b="0" lang="en-US" sz="2800" spc="-1" strike="noStrike">
                <a:solidFill>
                  <a:srgbClr val="000000"/>
                </a:solidFill>
                <a:latin typeface="Arial"/>
              </a:rPr>
              <a:t>QFII</a:t>
            </a:r>
            <a:r>
              <a:rPr b="0" lang="zh-CN" sz="2800" spc="-1" strike="noStrike">
                <a:solidFill>
                  <a:srgbClr val="000000"/>
                </a:solidFill>
                <a:latin typeface="Arial"/>
              </a:rPr>
              <a:t>制度是指外国专业投资机构到境内投资的资格认定制度。</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FII</a:t>
            </a:r>
            <a:r>
              <a:rPr b="0" lang="zh-CN" sz="3200" spc="-1" strike="noStrike">
                <a:solidFill>
                  <a:srgbClr val="000000"/>
                </a:solidFill>
                <a:latin typeface="Arial"/>
              </a:rPr>
              <a:t>制度是一国在货币没有实现完全可自由兑换、资本项目尚未开放的情况下，引进外资、开放资本市场的一项过渡性的制度。</a:t>
            </a:r>
            <a:r>
              <a:rPr b="0" lang="en-US" sz="3200" spc="-1" strike="noStrike">
                <a:solidFill>
                  <a:srgbClr val="000000"/>
                </a:solidFill>
                <a:latin typeface="Arial"/>
              </a:rPr>
              <a:t>QFII</a:t>
            </a:r>
            <a:r>
              <a:rPr b="0" lang="zh-CN" sz="3200" spc="-1" strike="noStrike">
                <a:solidFill>
                  <a:srgbClr val="000000"/>
                </a:solidFill>
                <a:latin typeface="Arial"/>
              </a:rPr>
              <a:t>被允许把外汇资金汇入并兑换为当地货币，通过专门账户投资当地证券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08000" y="691920"/>
            <a:ext cx="8856720" cy="60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业机构投资者一般拥有雄厚的资金和专业人员，信息搜集、投资运作能力更强，管理更为专业化，专业机构投资者包括经有关金融监管部门批准设立的金融机构，包括证券公司、期货公司、基金管理公司及其子公司、商业银行、保险公司、信托公司、财务公司等</a:t>
            </a:r>
            <a:r>
              <a:rPr b="0" lang="en-US" sz="3200" spc="-1" strike="noStrike">
                <a:solidFill>
                  <a:srgbClr val="000000"/>
                </a:solidFill>
                <a:latin typeface="Arial"/>
              </a:rPr>
              <a:t>;</a:t>
            </a:r>
            <a:r>
              <a:rPr b="0" lang="zh-CN" sz="3200" spc="-1" strike="noStrike">
                <a:solidFill>
                  <a:srgbClr val="000000"/>
                </a:solidFill>
                <a:latin typeface="Arial"/>
              </a:rPr>
              <a:t>经行业协会备案或者登记的证券公司子公司、期货公司子公司、私募基金管理人；也包括这些机构面向投资者发行的理财产品，还包括社会保障基金、企业年金等养老基金，慈善基金等社会公益基金，合格境外机构投资者</a:t>
            </a:r>
            <a:r>
              <a:rPr b="0" lang="en-US" sz="3200" spc="-1" strike="noStrike">
                <a:solidFill>
                  <a:srgbClr val="000000"/>
                </a:solidFill>
                <a:latin typeface="Arial"/>
              </a:rPr>
              <a:t>(QFII)</a:t>
            </a:r>
            <a:r>
              <a:rPr b="0" lang="zh-CN" sz="3200" spc="-1" strike="noStrike">
                <a:solidFill>
                  <a:srgbClr val="000000"/>
                </a:solidFill>
                <a:latin typeface="Arial"/>
              </a:rPr>
              <a:t>、人民币合格境外机构投资者</a:t>
            </a:r>
            <a:r>
              <a:rPr b="0" lang="en-US" sz="3200" spc="-1" strike="noStrike">
                <a:solidFill>
                  <a:srgbClr val="000000"/>
                </a:solidFill>
                <a:latin typeface="Arial"/>
              </a:rPr>
              <a:t>(RQFII)</a:t>
            </a:r>
            <a:r>
              <a:rPr b="0" lang="zh-CN"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RQFII</a:t>
            </a:r>
            <a:br>
              <a:rPr sz="4400"/>
            </a:br>
            <a:endParaRPr b="0" lang="en-US" sz="4400" spc="-1" strike="noStrike">
              <a:solidFill>
                <a:srgbClr val="000000"/>
              </a:solidFill>
              <a:latin typeface="Arial"/>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是人民币合格境外机构投资者的英文</a:t>
            </a:r>
            <a:r>
              <a:rPr b="0" lang="en-US" sz="3200" spc="-1" strike="noStrike">
                <a:solidFill>
                  <a:srgbClr val="000000"/>
                </a:solidFill>
                <a:latin typeface="Arial"/>
              </a:rPr>
              <a:t>RMB Qualified Foreign Institutional Investors</a:t>
            </a:r>
            <a:r>
              <a:rPr b="0" lang="zh-CN" sz="3200" spc="-1" strike="noStrike">
                <a:solidFill>
                  <a:srgbClr val="000000"/>
                </a:solidFill>
                <a:latin typeface="Arial"/>
              </a:rPr>
              <a:t>的简称， 是境外合格机构用人民币进行境内投资的制度。</a:t>
            </a:r>
            <a:r>
              <a:rPr b="0" lang="en-US" sz="3200" spc="-1" strike="noStrike">
                <a:solidFill>
                  <a:srgbClr val="000000"/>
                </a:solidFill>
                <a:latin typeface="Arial"/>
              </a:rPr>
              <a:t>RQFII</a:t>
            </a:r>
            <a:r>
              <a:rPr b="0" lang="zh-CN" sz="3200" spc="-1" strike="noStrike">
                <a:solidFill>
                  <a:srgbClr val="000000"/>
                </a:solidFill>
                <a:latin typeface="Arial"/>
              </a:rPr>
              <a:t>境外机构投资者可将资金投资于境内的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中国资本市场的进一步对外开放，境外投资者参与我国证券市场投资活动更加便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银行类机构投资者</a:t>
            </a:r>
            <a:br>
              <a:rPr sz="4400"/>
            </a:br>
            <a:endParaRPr b="0" lang="en-US" sz="4400" spc="-1" strike="noStrike">
              <a:solidFill>
                <a:srgbClr val="000000"/>
              </a:solidFill>
              <a:latin typeface="Arial"/>
            </a:endParaRPr>
          </a:p>
        </p:txBody>
      </p:sp>
      <p:sp>
        <p:nvSpPr>
          <p:cNvPr id="13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银行从事证券业务曾经是受到限制的。但是随着以养老基金和保险基金为代表的机构投资者的壮大，以资产证券化、衍生工具和网上交易为代表的金融创新的发展，银行业、证券业和保险业逐渐相互渗透，金融混业经营已经成为大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商业银行证券投资的目的</a:t>
            </a:r>
            <a:br>
              <a:rPr sz="4400"/>
            </a:br>
            <a:endParaRPr b="0" lang="en-US" sz="4400" spc="-1" strike="noStrike">
              <a:solidFill>
                <a:srgbClr val="000000"/>
              </a:solidFill>
              <a:latin typeface="Arial"/>
            </a:endParaRPr>
          </a:p>
        </p:txBody>
      </p:sp>
      <p:sp>
        <p:nvSpPr>
          <p:cNvPr id="140" name=""/>
          <p:cNvSpPr txBox="1"/>
          <p:nvPr/>
        </p:nvSpPr>
        <p:spPr>
          <a:xfrm>
            <a:off x="0" y="1599840"/>
            <a:ext cx="8686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获取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散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加银行资产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投资活动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提高质量优、期限短的投资比重来降低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商业银行的投资活动受到政府法令的制约，如一般都规定商业银行只能投资于政府债券、地方政府债券和投资级企业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商业银行需要缴纳所得税，一些免税的地方政府债券对其颇有吸引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商业银行按固定利率还本付息，一般无需注意通货膨胀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其他类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类机构投资者是指除了上述机构投资者以外的机构投资者，包括一般企业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应该成为企业投资的重要组成部分，其对企业具有现实的重要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证券投资有利于实现企业资金保值和增值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证券投资有利于实现企业控制和发展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证券投资有利于实现企业收益来源多元化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然，企业在投资时，应从各个方面对投资对象进行把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个人投资者</a:t>
            </a:r>
            <a:br>
              <a:rPr sz="4400"/>
            </a:br>
            <a:endParaRPr b="0" lang="en-US" sz="4400" spc="-1" strike="noStrike">
              <a:solidFill>
                <a:srgbClr val="000000"/>
              </a:solidFill>
              <a:latin typeface="Arial"/>
            </a:endParaRPr>
          </a:p>
        </p:txBody>
      </p:sp>
      <p:sp>
        <p:nvSpPr>
          <p:cNvPr id="89" name=""/>
          <p:cNvSpPr txBox="1"/>
          <p:nvPr/>
        </p:nvSpPr>
        <p:spPr>
          <a:xfrm>
            <a:off x="-360" y="1341360"/>
            <a:ext cx="910908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是指从事证券投资的社会自然人，在我国他们是证券市场最广泛的投资者。包括一般个人投资者和专业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人投资者的资金来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专业的自然人投资者（符合金融监管部门对于自然人专业投资者金融资产或者年收入要求，以及有相应投资经历或者职业资格要求的自然人）以外，个人投资者的资金来源是影响个人投资的最重要的因素。可支配的货币收入水平不仅决定个人有多大能力从事证券投资，而且影响其进行证券投资活动的动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们对货币的需求分为三个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易性需求：个人收入所得首先用来对生活必需的商品和劳务的购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防性需求：从收入中扣除一部分作为备用货币，以备不时之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性需求：如果个人收入超过了对交易性和预防性货币的需求，其超过部分就会转向对投资性、可获利性的金融产品特别是有价证券的需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可支配收入的水平直接很大程度上决定了个人证券投资的多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个人投资者购买证券的主要资金来源</a:t>
            </a:r>
            <a:endParaRPr b="0" lang="en-US" sz="3200" spc="-1" strike="noStrike">
              <a:solidFill>
                <a:srgbClr val="000000"/>
              </a:solidFill>
              <a:latin typeface="Arial"/>
            </a:endParaRPr>
          </a:p>
        </p:txBody>
      </p:sp>
      <p:sp>
        <p:nvSpPr>
          <p:cNvPr id="92" name=""/>
          <p:cNvSpPr txBox="1"/>
          <p:nvPr/>
        </p:nvSpPr>
        <p:spPr>
          <a:xfrm>
            <a:off x="0" y="1599840"/>
            <a:ext cx="8820000" cy="56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储蓄。个人既可以将储蓄直接购买证券，也可以将储蓄存在银行或购买保险、证券投资基金等，由银行、保险公司或基金管理公司等间接购买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符合条件的个人投资者可以参与融资融券等交易，个人投资者购买证券也不一定受自身储蓄规模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持现金。手持现金作为个人投资者的资金来源之一，与其他形式比较起来，在数量上是很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个人投资者的投资目的</a:t>
            </a:r>
            <a:br>
              <a:rPr sz="4400"/>
            </a:br>
            <a:endParaRPr b="0" lang="en-US" sz="4400" spc="-1" strike="noStrike">
              <a:solidFill>
                <a:srgbClr val="000000"/>
              </a:solidFill>
              <a:latin typeface="Arial"/>
            </a:endParaRPr>
          </a:p>
        </p:txBody>
      </p:sp>
      <p:sp>
        <p:nvSpPr>
          <p:cNvPr id="94"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目的是使证券投资的净效用（即收益带来的正效用减去风险带来的负效用）最大化。即在风险相同的条件「，追求最大可能的收益，或在收益既定的条件下，寻找最低风险的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投资的目的主要有以下几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本金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收入的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资本的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通货膨胀的抵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维持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实现投资多样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参与决策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取得有利的避税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个人证券投资的影响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参与证券投资的目的各不相同，主要是受其收入、负担、年龄、爱好、性格、教育程度等个人因素及证券的供应与流通等市场因素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个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市场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个人投资者的投资特点</a:t>
            </a:r>
            <a:br>
              <a:rPr sz="4400"/>
            </a:br>
            <a:endParaRPr b="0" lang="en-US" sz="4400" spc="-1" strike="noStrike">
              <a:solidFill>
                <a:srgbClr val="000000"/>
              </a:solidFill>
              <a:latin typeface="Arial"/>
            </a:endParaRPr>
          </a:p>
        </p:txBody>
      </p:sp>
      <p:sp>
        <p:nvSpPr>
          <p:cNvPr id="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从投资者的人员构成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证券投资在投资主体的年龄、职业、收入等方面呈现出一定的独特性。投资于国债或者股票主要基于人们对风险的偏好不同，一般来看，股票投资更适合中高收入阶层，而国债是中低收入者的不错选择。同时，投资者的年龄主要集中在</a:t>
            </a:r>
            <a:r>
              <a:rPr b="0" lang="en-US" sz="3200" spc="-1" strike="noStrike">
                <a:solidFill>
                  <a:srgbClr val="000000"/>
                </a:solidFill>
                <a:latin typeface="Arial"/>
              </a:rPr>
              <a:t>25--55</a:t>
            </a:r>
            <a:r>
              <a:rPr b="0" lang="zh-CN" sz="3200" spc="-1" strike="noStrike">
                <a:solidFill>
                  <a:srgbClr val="000000"/>
                </a:solidFill>
                <a:latin typeface="Arial"/>
              </a:rPr>
              <a:t>岁之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7:58:58Z</dcterms:modified>
  <cp:revision>1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